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A0D-083D-4B07-A434-4603F010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C02F-73F6-4418-BACF-D1970788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BE3-6207-4AC5-93A3-FEECB9F1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98E2-23B5-4F19-B970-FAABD2BB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FF2A-D5FD-4A27-A387-922D2F8B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749C-6451-4563-9276-37858CE1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2832-EC81-4D87-9CF7-FEDE6412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AB7A-E0CC-4A5D-ADCA-479FD732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81C3-A8F4-498F-B48D-04A95329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D4E6-EF3D-4A55-BCD2-F5A2DD64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F1AD-3587-44F3-B71B-74BD6364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AA0B-A8BE-47F1-8129-FBEC7D79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F9AA-8E6C-44D8-9941-CC0D2DE1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88B0-57D3-4020-8362-087621A6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10BB-CBD7-4D7B-AD36-A89AB7A2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9401-35D5-4A63-945D-9F9F4C84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84D4-38AC-406D-AEA7-1FC6D5901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B4739-8A8D-46E6-87CD-E63F261B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591B6-D704-4AEF-A0D8-70E7C162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F5977-646C-4621-907E-AFD7C91F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DE860-66C7-437F-9A32-636F0439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851EE-4C6A-4A15-AF24-5972C649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C31-BBB8-4575-B329-8019D6AF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F094C-D0FA-4F45-AFBD-F2F852DE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B2783-694C-44EB-B318-0AB14D1D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D9104-94F5-4275-94CE-52F1F273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2FBEB-4D0E-41B2-BCC5-B214835E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F1356-77E6-4E87-863B-91582679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8935B-57FC-4470-B4B6-3659C872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32270-22E5-4F2C-A88A-467E4B1B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C49-0BFF-4A77-B7F4-CBC99205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8072-5C49-4C34-B0E6-34002CCD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05D5-D49F-4649-B231-24F4C9BE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564-C584-46F2-ACC8-872FE772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646-CF4E-439C-BF77-EAD491D0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1473-90E3-4301-A4F9-E73E9629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d1282e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7E49-8322-43F8-851B-CFBC3E7DB6B2}" type="slidenum">
              <a:rPr b="1" lang="nl-NL" sz="2400" spc="-1" strike="noStrike">
                <a:solidFill>
                  <a:srgbClr val="d1282e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F18C-7E5E-4839-A7B4-5437AFFDEC4F}" type="slidenum">
              <a:rPr b="1" lang="nl-NL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C863-72D1-48BA-91E7-5384078569E3}" type="slidenum">
              <a:rPr b="1" lang="nl-NL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maken.wikiwijs.nl/189843/Occultisme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1282e"/>
                </a:solidFill>
                <a:latin typeface="Arial Black"/>
              </a:rPr>
              <a:t>GROEP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fbeelding 8" descr=""/>
          <p:cNvPicPr/>
          <p:nvPr/>
        </p:nvPicPr>
        <p:blipFill>
          <a:blip r:embed="rId1"/>
          <a:srcRect l="17713" t="16821" r="17713" b="5276"/>
          <a:stretch/>
        </p:blipFill>
        <p:spPr>
          <a:xfrm>
            <a:off x="324000" y="907920"/>
            <a:ext cx="8208720" cy="5407200"/>
          </a:xfrm>
          <a:prstGeom prst="rect">
            <a:avLst/>
          </a:prstGeom>
          <a:ln w="0">
            <a:noFill/>
          </a:ln>
        </p:spPr>
      </p:pic>
      <p:pic>
        <p:nvPicPr>
          <p:cNvPr id="131" name="Inkt 9" descr=""/>
          <p:cNvPicPr/>
          <p:nvPr/>
        </p:nvPicPr>
        <p:blipFill>
          <a:blip r:embed="rId2"/>
          <a:stretch/>
        </p:blipFill>
        <p:spPr>
          <a:xfrm>
            <a:off x="3186000" y="6294600"/>
            <a:ext cx="2935440" cy="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hthoek 3"/>
          <p:cNvSpPr/>
          <p:nvPr/>
        </p:nvSpPr>
        <p:spPr>
          <a:xfrm>
            <a:off x="468360" y="105264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eb8803"/>
                </a:solidFill>
                <a:uFillTx/>
                <a:latin typeface="Constantia"/>
                <a:ea typeface="Constantia"/>
              </a:rPr>
              <a:t>https://www.youtube.com/watch?v=57gQl9UMER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210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INLEIDING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760" y="177336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betekent transceden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verstijg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a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t wat buiten je waarneming plaatsvin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TWEE WERELDE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752480"/>
            <a:ext cx="76201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Zichtbare wer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Zichtbare werkelijk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Niet zichtbare wer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Niet zichtbare werkelijk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Aarde, hemelsferen, hem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nze strijd is niet gericht tegen mensen maar tegen hemelse vorsten, de heersers en de machthebbers van de duisternis, tegen de kwade geesten in de hemelsfer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UIT DE BIJBE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 Het geloof legt de grondslag voor alles waarop we hopen, het overtuigt ons van de waarheid van wat we niet zien.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 Om hun geloof werden de mensen uit vroeger tijden geprezen.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 Door geloof komen we tot het inzicht dat de wereld door het woord van God geordend is, dat dus het zichtbare is ontstaan uit het niet-zichtbar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br. 1:1-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2924280"/>
            <a:ext cx="727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WAT IS GELOVEN?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1282e"/>
                </a:solidFill>
                <a:latin typeface="Arial Black"/>
              </a:rPr>
              <a:t>GROEP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Afbeelding 4" descr=""/>
          <p:cNvPicPr/>
          <p:nvPr/>
        </p:nvPicPr>
        <p:blipFill>
          <a:blip r:embed="rId1"/>
          <a:srcRect l="17713" t="18260" r="16925" b="8161"/>
          <a:stretch/>
        </p:blipFill>
        <p:spPr>
          <a:xfrm>
            <a:off x="403200" y="814320"/>
            <a:ext cx="8358120" cy="5135760"/>
          </a:xfrm>
          <a:prstGeom prst="rect">
            <a:avLst/>
          </a:prstGeom>
          <a:ln w="0">
            <a:noFill/>
          </a:ln>
        </p:spPr>
      </p:pic>
      <p:pic>
        <p:nvPicPr>
          <p:cNvPr id="134" name="Inkt 6" descr=""/>
          <p:cNvPicPr/>
          <p:nvPr/>
        </p:nvPicPr>
        <p:blipFill>
          <a:blip r:embed="rId2"/>
          <a:stretch/>
        </p:blipFill>
        <p:spPr>
          <a:xfrm>
            <a:off x="3355920" y="6213600"/>
            <a:ext cx="2440080" cy="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ffffff"/>
                </a:solidFill>
                <a:latin typeface="Arial Black"/>
              </a:rPr>
              <a:t>LES 1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 Black"/>
              </a:rPr>
              <a:t>ER IS MEER TUSSEN HEMEL EN AAR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WERKWIJZE GD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ee lessen per week (di-d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3 thema’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eriode 1: Occultis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ortfolio (zie EL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nkt 3" descr=""/>
          <p:cNvPicPr/>
          <p:nvPr/>
        </p:nvPicPr>
        <p:blipFill>
          <a:blip r:embed="rId1"/>
          <a:stretch/>
        </p:blipFill>
        <p:spPr>
          <a:xfrm>
            <a:off x="3106800" y="2689200"/>
            <a:ext cx="17280" cy="17640"/>
          </a:xfrm>
          <a:prstGeom prst="rect">
            <a:avLst/>
          </a:prstGeom>
          <a:ln w="0">
            <a:noFill/>
          </a:ln>
        </p:spPr>
      </p:pic>
      <p:pic>
        <p:nvPicPr>
          <p:cNvPr id="140" name="Inkt 4" descr=""/>
          <p:cNvPicPr/>
          <p:nvPr/>
        </p:nvPicPr>
        <p:blipFill>
          <a:blip r:embed="rId2"/>
          <a:stretch/>
        </p:blipFill>
        <p:spPr>
          <a:xfrm>
            <a:off x="1685880" y="3160800"/>
            <a:ext cx="19080" cy="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ONLINE LESMATERIAA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752120"/>
            <a:ext cx="76201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s://maken.wikiwijs.nl/189843/Occultisme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STELLING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eageer op de stelling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FO’s bestaan niet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Afbeelding 3" descr=""/>
          <p:cNvPicPr/>
          <p:nvPr/>
        </p:nvPicPr>
        <p:blipFill>
          <a:blip r:embed="rId1"/>
          <a:stretch/>
        </p:blipFill>
        <p:spPr>
          <a:xfrm>
            <a:off x="3541680" y="3573360"/>
            <a:ext cx="453564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1282e"/>
                </a:solidFill>
                <a:latin typeface="Arial Black"/>
              </a:rPr>
              <a:t>IK ZIE, IK ZIE WAT JIJ NIET ZIET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7" name="Afbeelding 3" descr="http://1.bp.blogspot.com/-jO9WfTQErUk/TkTSlayhSYI/AAAAAAAAD4g/2pTMl1aNarU/s400/7_8+Veel+wind.jpg"/>
          <p:cNvPicPr/>
          <p:nvPr/>
        </p:nvPicPr>
        <p:blipFill>
          <a:blip r:embed="rId1"/>
          <a:stretch/>
        </p:blipFill>
        <p:spPr>
          <a:xfrm>
            <a:off x="1351080" y="2205000"/>
            <a:ext cx="58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LEERDOELE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weet het verschil tussen de zichtbare en niet zichtbare werkelijkheid (wereld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onder woorden brengen wat geloven i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weet wat transcendent betek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holyhome.nl/occult.gif"/>
          <p:cNvPicPr/>
          <p:nvPr/>
        </p:nvPicPr>
        <p:blipFill>
          <a:blip r:embed="rId1"/>
          <a:stretch/>
        </p:blipFill>
        <p:spPr>
          <a:xfrm>
            <a:off x="5364000" y="4221000"/>
            <a:ext cx="27054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Black"/>
              </a:rPr>
              <a:t>MAKEN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J.C. van der Hart</cp:lastModifiedBy>
  <dcterms:modified xsi:type="dcterms:W3CDTF">2022-08-30T10:57:35Z</dcterms:modified>
  <cp:revision>27</cp:revision>
  <dc:subject/>
  <dc:title>Inleiding Occultisme</dc:title>
</cp:coreProperties>
</file>