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A87-2067-46DF-AF46-349E26F9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2FB7-1FD9-4AD8-8846-0F894EE9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8389-2FCB-416C-821D-03BC71549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2EE-8C39-4528-AECA-74185F993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B424-07A6-4915-8789-3502E69D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0560-445A-4FB8-B267-54DA88B6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2920-B209-491F-A865-7782FF3A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2143-207D-4B29-BFA3-85637FA4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605C-7128-48DB-AB18-846B6673B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3777-422D-4F3D-AEF7-BFFB0DF4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00BF-387B-47D4-9342-C6F428BF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2A1A-1F02-40D5-BFDB-3A1C7200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4CAD-A37A-4042-960A-0E5BEE72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CE79-6A96-4C3E-AA36-3A4AB416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5BEB-ABE6-4367-9F02-B4167B8E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69A7-C474-472F-9BD3-1A4FFB7E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F506-A355-4065-8B50-092F5C49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790CD-9A20-43C4-8A42-E0B5F304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4FE85-2400-4BEB-935B-05DDA213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28EF-612D-4A37-8B0F-914728BB4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3DF6-DC1E-4D44-B3C0-0AB0137E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E9205-8BBC-4218-8DD5-10FC3A26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B51-F4EF-489E-9D6F-8C51BEC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88B4-A303-4703-99BF-FE84A8FC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4A81-A8B7-4FD6-B73D-AA1446F3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57B5-642A-4464-8B34-181D8360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70F3-0C55-49C6-BF4A-086E204F9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CE10-A4E7-4E98-8C0B-D209278B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8A537-1933-45B5-BFEC-559B2841A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7BC2-0F51-4EFC-A72E-0B2D1C801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D16-D0FE-4CF2-A097-2E43ACA6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5D5E-CC56-4997-88DB-A58DEA18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8F83-7E6C-4496-BF0A-2F720862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6D52-2F01-4A42-88F8-28860248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A94-F880-4861-8FDA-F97FB54F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895-D633-4F8D-AEBD-3D72973F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5CE5-0BE7-44F6-9FC3-54A09754A973}" type="slidenum">
              <a:rPr b="1" lang="nl-NL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7B99-5B30-48BD-B078-221EFE5753A2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D85B-48A7-419B-901D-55446D5CCB92}" type="slidenum"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LES 1C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BIJBELSTUDIE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752120"/>
            <a:ext cx="762012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wat de bijbel zegt over occultism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uitleggen hoe het leven van mensen verandert die met occultisme te maken krijgen of er juist van bevrijd word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vertellen wie er kan zorgen voor bevrijding uit de occulte werel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69231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WAS OOK AL WEER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27120" y="1700280"/>
            <a:ext cx="329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ccultis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Occultisme – Het enige Bijbelse Fundament"/>
          <p:cNvPicPr/>
          <p:nvPr/>
        </p:nvPicPr>
        <p:blipFill>
          <a:blip r:embed="rId1"/>
          <a:stretch/>
        </p:blipFill>
        <p:spPr>
          <a:xfrm>
            <a:off x="4788000" y="2133720"/>
            <a:ext cx="295272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836280"/>
            <a:ext cx="5791320" cy="68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Occultism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terlijk: verborgen of gehe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natuurlijk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zichtbare werkelijk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gaat dus over niet zien, maar er wel zij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kan het goede en het kwade aanwen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e beïnvloe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7592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feze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0 Ten slotte, zoek uw kracht in de Heer, in de kracht van zijn mach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1 Trek de wapenrusting van God aan om stand te kunnen houden tegen de listen van de duivel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2 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Zoek op: 1 Johannes 1: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 OCCULTISM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an alle tij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: Saul in E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ulus op verschillende plaat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iddeleeuwen: hekserij, weerw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n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an Kees van der Hart</cp:lastModifiedBy>
  <dcterms:modified xsi:type="dcterms:W3CDTF">2022-09-07T19:15:55Z</dcterms:modified>
  <cp:revision>11</cp:revision>
  <dc:subject/>
  <dc:title>Inleiding Occultisme</dc:title>
</cp:coreProperties>
</file>