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6A9-A69F-4701-8DDB-1812146D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E02-3A59-4068-AAAF-856134D6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084-A47D-430B-AD88-A492B828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9B85-6A6A-48AC-BDDF-947B7728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A865-FDFD-45DB-9D61-D48D070D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24043-1E07-4CCD-A148-17E889A0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99C9-8B1A-4F73-A479-D297FBD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D002-84E7-48AB-8B64-8E3426CB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1D29-3752-4FE5-8945-CDC0DC0C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A1DA-E065-44FF-B182-102A99B7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A812-E23F-4B13-89DA-81815259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97EB-C235-4A37-B13B-4426600B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7749-8F92-4335-8632-DD969140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A077-E0CA-43B7-8B4C-C5701975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6317-3394-4933-93ED-D68B30A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0982-8A35-4487-8166-61D0FE46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F5D2-A56F-4472-A8AA-417B6F75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4019-4995-4358-A40D-3CCF47B7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B7513-98AD-4719-8A01-45F59F0E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B737F-B32A-4052-8069-EE58564F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5E641-716F-47B4-9EB2-B5FD3848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28464-B7BC-491F-845C-01A24EF5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3A1-6905-4048-9789-DB9C1CF3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95D25-9C1D-41C8-890A-C138F9FB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2E60-0A4C-4305-BBD8-FFC6C51B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F2E02-A518-475C-80B5-0249C97D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C42A-7F6F-43D1-9EED-41BAD6A6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E502B-21F8-46D4-B2B7-CB1FF361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B633-0B99-4E99-B363-8B8B61A2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398BF-DA4C-493C-B1AA-782E32EF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22B8-D8BB-4C75-8CAB-2E5DF9C55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7AB-7A17-4ADD-A93C-63A033FB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0A47-D84A-4BB6-8628-03EA28E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A42-FA5F-46EE-8EA3-76743D52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E68-342C-43D7-9339-003B72C5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2761-C75B-42CA-A445-416AEDAE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d1282e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D0F3-A339-478E-9FCF-CC50707ACBB2}" type="slidenum">
              <a:rPr b="1" lang="nl-NL" sz="2400" spc="-1" strike="noStrike">
                <a:solidFill>
                  <a:srgbClr val="d1282e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0A06-442A-40B6-B89E-78A8209BAC30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3902-096F-4DB4-B486-7CCB1A8DECB7}" type="slidenum">
              <a:rPr b="1" lang="nl-NL" sz="2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ken.wikiwijs.nl/189843/Occultisme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Afbeelding 8" descr=""/>
          <p:cNvPicPr/>
          <p:nvPr/>
        </p:nvPicPr>
        <p:blipFill>
          <a:blip r:embed="rId1"/>
          <a:srcRect l="17713" t="16821" r="17713" b="5276"/>
          <a:stretch/>
        </p:blipFill>
        <p:spPr>
          <a:xfrm>
            <a:off x="324000" y="907920"/>
            <a:ext cx="8208720" cy="5407200"/>
          </a:xfrm>
          <a:prstGeom prst="rect">
            <a:avLst/>
          </a:prstGeom>
          <a:ln w="0">
            <a:noFill/>
          </a:ln>
        </p:spPr>
      </p:pic>
      <p:pic>
        <p:nvPicPr>
          <p:cNvPr id="131" name="Inkt 9" descr=""/>
          <p:cNvPicPr/>
          <p:nvPr/>
        </p:nvPicPr>
        <p:blipFill>
          <a:blip r:embed="rId2"/>
          <a:stretch/>
        </p:blipFill>
        <p:spPr>
          <a:xfrm>
            <a:off x="3186000" y="6294600"/>
            <a:ext cx="293544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hthoek 3"/>
          <p:cNvSpPr/>
          <p:nvPr/>
        </p:nvSpPr>
        <p:spPr>
          <a:xfrm>
            <a:off x="468360" y="10526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eb8803"/>
                </a:solidFill>
                <a:uFillTx/>
                <a:latin typeface="Constantia"/>
                <a:ea typeface="Constantia"/>
              </a:rPr>
              <a:t>https://www.youtube.com/watch?v=57gQl9UMER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2104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INLEID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64760" y="1773360"/>
            <a:ext cx="76201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betekent transceden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verstijg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a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t wat buiten je waarneming plaatsvin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TWEE WERELD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752480"/>
            <a:ext cx="762012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el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Niet zichtbare werkelijkhei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-Aarde, hemelsferen, hem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nze strijd is niet gericht tegen mensen maar tegen hemelse vorsten, de heersers en de machthebbers van de duisternis, tegen de kwade geesten in de hemelsfere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UIT DE BIJBE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 Het geloof legt de grondslag voor alles waarop we hopen, het overtuigt ons van de waarheid van wat we niet zi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 Om hun geloof werden de mensen uit vroeger tijden geprezen.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 Door geloof komen we tot het inzicht dat de wereld door het woord van God geordend is, dat dus het zichtbare is ontstaan uit het niet-zichtbare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r. 1:1-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2924280"/>
            <a:ext cx="7273800" cy="65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AT IS GELOVEN?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1282e"/>
                </a:solidFill>
                <a:latin typeface="Arial Black"/>
              </a:rPr>
              <a:t>GROEP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Afbeelding 4" descr=""/>
          <p:cNvPicPr/>
          <p:nvPr/>
        </p:nvPicPr>
        <p:blipFill>
          <a:blip r:embed="rId1"/>
          <a:srcRect l="17713" t="18260" r="16925" b="8161"/>
          <a:stretch/>
        </p:blipFill>
        <p:spPr>
          <a:xfrm>
            <a:off x="403200" y="814320"/>
            <a:ext cx="8358120" cy="5135760"/>
          </a:xfrm>
          <a:prstGeom prst="rect">
            <a:avLst/>
          </a:prstGeom>
          <a:ln w="0">
            <a:noFill/>
          </a:ln>
        </p:spPr>
      </p:pic>
      <p:pic>
        <p:nvPicPr>
          <p:cNvPr id="134" name="Inkt 6" descr=""/>
          <p:cNvPicPr/>
          <p:nvPr/>
        </p:nvPicPr>
        <p:blipFill>
          <a:blip r:embed="rId2"/>
          <a:stretch/>
        </p:blipFill>
        <p:spPr>
          <a:xfrm>
            <a:off x="3355920" y="6213600"/>
            <a:ext cx="2440080" cy="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ffffff"/>
                </a:solidFill>
                <a:latin typeface="Arial Black"/>
              </a:rPr>
              <a:t>LES 1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 Black"/>
              </a:rPr>
              <a:t>ER IS MEER TUSSEN HEMEL EN AA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WERKWIJZE GD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Twee lessen per week (di-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3 thema’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iode 1: Occultis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rtfolio (zie E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nkt 3" descr=""/>
          <p:cNvPicPr/>
          <p:nvPr/>
        </p:nvPicPr>
        <p:blipFill>
          <a:blip r:embed="rId1"/>
          <a:stretch/>
        </p:blipFill>
        <p:spPr>
          <a:xfrm>
            <a:off x="3106800" y="2689200"/>
            <a:ext cx="17280" cy="17640"/>
          </a:xfrm>
          <a:prstGeom prst="rect">
            <a:avLst/>
          </a:prstGeom>
          <a:ln w="0">
            <a:noFill/>
          </a:ln>
        </p:spPr>
      </p:pic>
      <p:pic>
        <p:nvPicPr>
          <p:cNvPr id="140" name="Inkt 4" descr=""/>
          <p:cNvPicPr/>
          <p:nvPr/>
        </p:nvPicPr>
        <p:blipFill>
          <a:blip r:embed="rId2"/>
          <a:stretch/>
        </p:blipFill>
        <p:spPr>
          <a:xfrm>
            <a:off x="1685880" y="3160800"/>
            <a:ext cx="19080" cy="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ONLINE LESMATERIAAL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752120"/>
            <a:ext cx="7620120" cy="6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s://maken.wikiwijs.nl/189843/Occultism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STELLING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Reageer op de stelling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FO’s bestaan niet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Afbeelding 3" descr=""/>
          <p:cNvPicPr/>
          <p:nvPr/>
        </p:nvPicPr>
        <p:blipFill>
          <a:blip r:embed="rId1"/>
          <a:stretch/>
        </p:blipFill>
        <p:spPr>
          <a:xfrm>
            <a:off x="3541680" y="3573360"/>
            <a:ext cx="4535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d1282e"/>
                </a:solidFill>
                <a:latin typeface="Arial Black"/>
              </a:rPr>
              <a:t>IK ZIE, IK ZIE WAT JIJ NIET ZIET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Afbeelding 3" descr="http://1.bp.blogspot.com/-jO9WfTQErUk/TkTSlayhSYI/AAAAAAAAD4g/2pTMl1aNarU/s400/7_8+Veel+wind.jpg"/>
          <p:cNvPicPr/>
          <p:nvPr/>
        </p:nvPicPr>
        <p:blipFill>
          <a:blip r:embed="rId1"/>
          <a:stretch/>
        </p:blipFill>
        <p:spPr>
          <a:xfrm>
            <a:off x="1351080" y="2205000"/>
            <a:ext cx="5832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d1282e"/>
                </a:solidFill>
                <a:latin typeface="Arial Black"/>
              </a:rPr>
              <a:t>LEERDOELEN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het verschil tussen de zichtbare en niet zichtbare werkelijkheid (wereld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kan onder woorden brengen wat geloven i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k weet wat transcendent beteke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://www.holyhome.nl/occult.gif"/>
          <p:cNvPicPr/>
          <p:nvPr/>
        </p:nvPicPr>
        <p:blipFill>
          <a:blip r:embed="rId1"/>
          <a:stretch/>
        </p:blipFill>
        <p:spPr>
          <a:xfrm>
            <a:off x="5364000" y="4221000"/>
            <a:ext cx="270540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800" spc="-1" strike="noStrike">
                <a:solidFill>
                  <a:srgbClr val="000000"/>
                </a:solidFill>
                <a:latin typeface="Arial Black"/>
              </a:rPr>
              <a:t>MAKEN</a:t>
            </a:r>
            <a:endParaRPr b="0" lang="en-US" sz="88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J.C. van der Hart</cp:lastModifiedBy>
  <dcterms:modified xsi:type="dcterms:W3CDTF">2022-08-30T10:57:35Z</dcterms:modified>
  <cp:revision>27</cp:revision>
  <dc:subject/>
  <dc:title>Inleiding Occultisme</dc:title>
</cp:coreProperties>
</file>