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1FA-FCEE-465D-A7CA-908F25CC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E71-E866-4BC1-91D9-387696BC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6BA-0613-4E55-A5E5-B97E34C6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517-0B96-4662-A096-A72EB864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B2B7-244C-49AB-B1D8-ACAAD8A1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5441-E72C-4C9A-9741-5D4D662F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227A-C883-4B38-AB37-EF876A47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9B8C-EE80-425B-AAA5-B4C8512F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9AD5-56D2-483D-8640-E4A61061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93A5-A5B7-4E59-927B-C1327F17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F4A7-F62C-41FA-BF6B-565A6B6A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2B8-CD70-4B15-97A2-C2958835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E88F-75D2-406B-A69A-66243131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385A-015B-4559-9F10-401AC00D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14F9-8CC4-462F-BB50-D2EAEF4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A660-05AA-4AAF-BC78-A1CE8338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6150-A79B-416E-91B7-4575B218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85B0-140B-4906-B59A-E884F14F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1CC9-3CDF-4B82-88FD-62A8FF3E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2789-C14E-46DD-A296-38F15471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0E20-CAE8-43C1-9B44-3F8A541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449B-7AFB-4970-BDB6-35AA92D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244-DC00-4797-937F-FA38319B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4440-B77C-463D-9F5B-5178268C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47AB-45C6-413E-8209-FD2331A4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6599-5DF2-4237-A9D8-99D42B69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4D5C-2261-4CD6-9FDC-FD4F6DEA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3A1C-9E8A-4014-9397-CA993C37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0D01-49B9-4B13-A99F-D3D2F957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BB2D-3873-4684-BCB7-2AF9F025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C1F-0D37-4636-B5A7-BF3827F9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D8F-2EE4-40CA-903D-21B99A5D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9FC-F03B-414C-AE1E-79FC9273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C1B-5CE2-494D-AFF5-F78F7A18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7ED-4AF1-4AB0-8CC8-AE00155B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99F-1280-4879-A66E-95C76EC4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FF1E-92A4-40AB-B2F3-03A2DDB62F05}" type="slidenum">
              <a:rPr b="1" lang="nl-NL" sz="2400" spc="-1" strike="noStrike">
                <a:solidFill>
                  <a:srgbClr val="d1282e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9C1C-C9B4-4FB2-B287-E27121DDC5AE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C347-6FDB-41A0-BF92-A8CF90C039C2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aken.wikiwijs.nl/189843/Occultisme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8" descr=""/>
          <p:cNvPicPr/>
          <p:nvPr/>
        </p:nvPicPr>
        <p:blipFill>
          <a:blip r:embed="rId1"/>
          <a:srcRect l="17713" t="16821" r="17713" b="5276"/>
          <a:stretch/>
        </p:blipFill>
        <p:spPr>
          <a:xfrm>
            <a:off x="324000" y="907920"/>
            <a:ext cx="8208720" cy="5407200"/>
          </a:xfrm>
          <a:prstGeom prst="rect">
            <a:avLst/>
          </a:prstGeom>
          <a:ln w="0">
            <a:noFill/>
          </a:ln>
        </p:spPr>
      </p:pic>
      <p:pic>
        <p:nvPicPr>
          <p:cNvPr id="131" name="Inkt 9" descr=""/>
          <p:cNvPicPr/>
          <p:nvPr/>
        </p:nvPicPr>
        <p:blipFill>
          <a:blip r:embed="rId2"/>
          <a:stretch/>
        </p:blipFill>
        <p:spPr>
          <a:xfrm>
            <a:off x="3186000" y="6294600"/>
            <a:ext cx="293544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hthoek 3"/>
          <p:cNvSpPr/>
          <p:nvPr/>
        </p:nvSpPr>
        <p:spPr>
          <a:xfrm>
            <a:off x="468360" y="10526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eb8803"/>
                </a:solidFill>
                <a:uFillTx/>
                <a:latin typeface="Constantia"/>
                <a:ea typeface="Constantia"/>
              </a:rPr>
              <a:t>https://www.youtube.com/watch?v=57gQl9UME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210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76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transcede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stijg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a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wat buiten je waarneming plaatsvin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TWEE WERELD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Aarde, hemelsferen, hem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 Het geloof legt de grondslag voor alles waarop we hopen, het overtuigt ons van de waarheid van wat we niet zi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 Om hun geloof werden de mensen uit vroeger tijden geprez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 Door geloof komen we tot het inzicht dat de wereld door het woord van God geordend is, dat dus het zichtbare is ontstaan uit het niet-zichtba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r. 1:1-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924280"/>
            <a:ext cx="727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IS GELOVEN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rcRect l="17713" t="18260" r="16925" b="8161"/>
          <a:stretch/>
        </p:blipFill>
        <p:spPr>
          <a:xfrm>
            <a:off x="403200" y="814320"/>
            <a:ext cx="8358120" cy="5135760"/>
          </a:xfrm>
          <a:prstGeom prst="rect">
            <a:avLst/>
          </a:prstGeom>
          <a:ln w="0">
            <a:noFill/>
          </a:ln>
        </p:spPr>
      </p:pic>
      <p:pic>
        <p:nvPicPr>
          <p:cNvPr id="134" name="Inkt 6" descr=""/>
          <p:cNvPicPr/>
          <p:nvPr/>
        </p:nvPicPr>
        <p:blipFill>
          <a:blip r:embed="rId2"/>
          <a:stretch/>
        </p:blipFill>
        <p:spPr>
          <a:xfrm>
            <a:off x="3355920" y="6213600"/>
            <a:ext cx="2440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ffffff"/>
                </a:solidFill>
                <a:latin typeface="Arial Black"/>
              </a:rPr>
              <a:t>LES 1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ER IS MEER TUSSEN HEMEL EN AAR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ERKWIJZE GD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ee lessen per week (di-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3 thema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iode 1: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rtfolio (zie EL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t 3" descr=""/>
          <p:cNvPicPr/>
          <p:nvPr/>
        </p:nvPicPr>
        <p:blipFill>
          <a:blip r:embed="rId1"/>
          <a:stretch/>
        </p:blipFill>
        <p:spPr>
          <a:xfrm>
            <a:off x="3106800" y="2689200"/>
            <a:ext cx="17280" cy="17640"/>
          </a:xfrm>
          <a:prstGeom prst="rect">
            <a:avLst/>
          </a:prstGeom>
          <a:ln w="0">
            <a:noFill/>
          </a:ln>
        </p:spPr>
      </p:pic>
      <p:pic>
        <p:nvPicPr>
          <p:cNvPr id="140" name="Inkt 4" descr=""/>
          <p:cNvPicPr/>
          <p:nvPr/>
        </p:nvPicPr>
        <p:blipFill>
          <a:blip r:embed="rId2"/>
          <a:stretch/>
        </p:blipFill>
        <p:spPr>
          <a:xfrm>
            <a:off x="1685880" y="3160800"/>
            <a:ext cx="1908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NLINE LESMATERIAA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s://maken.wikiwijs.nl/189843/Occultism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STELL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ageer op de stelling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FO’s bestaan niet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3" descr=""/>
          <p:cNvPicPr/>
          <p:nvPr/>
        </p:nvPicPr>
        <p:blipFill>
          <a:blip r:embed="rId1"/>
          <a:stretch/>
        </p:blipFill>
        <p:spPr>
          <a:xfrm>
            <a:off x="3541680" y="3573360"/>
            <a:ext cx="4535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1282e"/>
                </a:solidFill>
                <a:latin typeface="Arial Black"/>
              </a:rPr>
              <a:t>IK ZIE, IK ZIE WAT JIJ NIET ZIET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Afbeelding 3" descr="http://1.bp.blogspot.com/-jO9WfTQErUk/TkTSlayhSYI/AAAAAAAAD4g/2pTMl1aNarU/s400/7_8+Veel+wind.jpg"/>
          <p:cNvPicPr/>
          <p:nvPr/>
        </p:nvPicPr>
        <p:blipFill>
          <a:blip r:embed="rId1"/>
          <a:stretch/>
        </p:blipFill>
        <p:spPr>
          <a:xfrm>
            <a:off x="1351080" y="2205000"/>
            <a:ext cx="58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het verschil tussen de zichtbare en niet zichtbare werkelijkheid (werel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onder woorden brengen wat geloven 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wat transcendent betek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holyhome.nl/occult.gif"/>
          <p:cNvPicPr/>
          <p:nvPr/>
        </p:nvPicPr>
        <p:blipFill>
          <a:blip r:embed="rId1"/>
          <a:stretch/>
        </p:blipFill>
        <p:spPr>
          <a:xfrm>
            <a:off x="5364000" y="4221000"/>
            <a:ext cx="270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MAKEN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.C. van der Hart</cp:lastModifiedBy>
  <dcterms:modified xsi:type="dcterms:W3CDTF">2022-08-30T10:57:35Z</dcterms:modified>
  <cp:revision>27</cp:revision>
  <dc:subject/>
  <dc:title>Inleiding Occultisme</dc:title>
</cp:coreProperties>
</file>