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F84A-B0FB-4299-8002-CDA82524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4FA-BD34-4C6C-85B8-3CA9C809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871-539B-4555-ABEC-951CD0ED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80B-FEA1-4A2F-B314-9B1FEA14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2905-E49D-4CD3-ACFC-33C0A3A5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309B-CB10-4033-BE02-E36C09B2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1E1B-80CF-441C-8677-7C5DEB66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8445-7588-4FBE-B887-2267393C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A5E8-A4CA-4BF1-B56D-8084F538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2AE3-04A2-4FA5-8FD3-533BFEE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0180-F24B-4979-8D75-0302955D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BA6-37F1-4A24-8ED8-91E3FBE0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BB79-6DA9-4A8B-97B4-B658D9FA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0224-F961-4EEA-BF6D-4F5DB04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462-0982-4DC9-9519-4916E6D3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02AA-6DDD-4612-807A-78E9050E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EB85-2BDE-4E31-AECA-8859BCE1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49CF-5586-48EC-AC50-EBBC8E89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063D9-6403-41D2-A6D5-54B17088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C5EC-E657-49C6-8122-3920F4E0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9094-6C63-4C22-96E7-B9CC1EB4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ED12-21FC-4922-9340-FA054C21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5EF-278D-4F72-A5B1-A140B7B0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5952-F8E1-45A9-8BEA-3CB60EBA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2566-AC1F-4963-9A17-0DA6F28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3151-3D4E-4E6A-A259-67EFD881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4B24-0E7F-4073-BAC0-476BD21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21E4-3A33-4B79-A199-04A6E884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4868-0EA2-49E5-BD65-EA1E0152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B938-3478-4325-A149-8C3587BB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002-61B8-4115-AF33-77D0E361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83B-C2C8-40B3-92A1-DD70257B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74C-E668-4509-AD78-4C07B63E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908-1C90-4B1A-B806-A19CB84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EFA-73D7-466A-B513-C1150B4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1BA-9A18-407A-926C-3495755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BED7-1D05-44C6-99DA-A6E74E4EA570}" type="slidenum">
              <a:rPr b="1" lang="nl-NL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1EB0-C2A3-4F4A-A43B-C716EA293C46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B81C-25A0-4151-A080-9CE062830798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LES 1C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BIJBELSTUDIE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wat de bijbel zegt over occultis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hoe het leven van mensen verandert die met occultisme te maken krijgen of er juist van bevrijd wo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vertellen wie er kan zorgen voor bevrijding uit de occulte wer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23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WAS OOK AL WE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7120" y="1700280"/>
            <a:ext cx="329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ccultis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Occultisme – Het enige Bijbelse Fundament"/>
          <p:cNvPicPr/>
          <p:nvPr/>
        </p:nvPicPr>
        <p:blipFill>
          <a:blip r:embed="rId1"/>
          <a:stretch/>
        </p:blipFill>
        <p:spPr>
          <a:xfrm>
            <a:off x="4788000" y="2133720"/>
            <a:ext cx="29527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57913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Occultis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terlijk: verborgen of gehe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natuurlij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zichtbare werk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aat dus over niet zien, maar er wel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kan het goede en het kwade aanw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e beïnvloe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592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fez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 Ten slotte, zoek uw kracht in de Heer, in de kracht van zijn mach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1 Trek de wapenrusting van God aan om stand te kunnen houden tegen de listen van de duiv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 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oek op: 1 Johannes 1: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 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an alle tij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: Saul in 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ulus op verschillende plaat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ddeleeuwen: hekserij, weerw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an Kees van der Hart</cp:lastModifiedBy>
  <dcterms:modified xsi:type="dcterms:W3CDTF">2022-09-07T19:15:55Z</dcterms:modified>
  <cp:revision>11</cp:revision>
  <dc:subject/>
  <dc:title>Inleiding Occultisme</dc:title>
</cp:coreProperties>
</file>