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E88A-A427-4D41-B0DE-B6B0190E3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2C1E-DBAB-4627-BB13-7EF3A0B1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47A6-8874-47B1-B5C8-8E898E674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5FF6-2067-479C-B086-1A35FD88B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71C3-CDED-42B6-9E9D-96A9175E5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E03B-9B69-4654-BD17-23F8FA47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ACC18-0445-44AE-BC15-927CCDCF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BE515-C9CE-4140-8DB7-9BBABAAD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B5D2-3D56-4E2C-9A0A-0D88B020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CDF3-C661-45DB-949A-8C1B9EFA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13CDA-4CF4-4A97-98C3-0A7E2F66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E83E-6CB0-401D-9435-22B9B0C4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7AC6-E7A8-4EDE-AF14-A9EAC311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A547-5DDF-4CA8-BB20-AAA7F6E2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6D83-4E7A-495B-A44C-BC8BED3F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632B-87CF-4496-B405-BCE097CB3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88B3-BF09-4545-86F1-9AFFA3C2D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2620B-7A9F-419F-B1A8-210697BC8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F8F7B-EF18-4DF1-BEDD-4A7CDAD1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8B942-2B4A-4E1B-AF59-D0B86C18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36BF7-5497-4D47-A8F5-48A25C7E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00325-F5E0-4A56-9326-009BC51D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1AE2-8D12-48B6-ACAC-44617141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E3773-89F8-4CAE-B325-AE3FBCDA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B4F14-0D05-4137-9081-718CA6A2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76A22-6CF8-40D3-9C66-1F163E12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29AAF-C924-4C78-8A1F-ABC77DC2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E8748-FF0A-4A16-B575-0602C147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7D47F-43F7-4DD3-A0EA-CD12453DC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1857E-89B8-4E22-A846-2F99BFB4F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2A35-6B55-4336-A100-FBD6A438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6DB0-C34E-4CE3-B5FB-B6DD4EA6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B286-7B70-4086-86A9-85DBD427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9A9A-9E32-4D6C-9E97-894F2B0A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F8AE-5171-4EDC-9CAF-6CEE9B79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4218-D42A-4F51-A969-A4ABB69C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D742-7A96-4E1C-AA89-BB693CEE2D3D}" type="slidenum">
              <a:rPr b="1" lang="nl-NL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AE85-9088-4941-82E7-84F0CF9B2424}" type="slidenum"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88AA-456F-49E2-B166-4C36091F354B}" type="slidenum"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Black"/>
              </a:rPr>
              <a:t>LES 1C</a:t>
            </a:r>
            <a:endParaRPr b="0" lang="en-US" sz="8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d1282e"/>
                </a:solidFill>
                <a:latin typeface="Arial Black"/>
              </a:rPr>
              <a:t>BIJBELSTUDIE OCCULTIS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LEERDOELEN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1752120"/>
            <a:ext cx="7620120" cy="21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k kan uitleggen wat de bijbel zegt over occultis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k kan uitleggen hoe het leven van mensen verandert die met occultisme te maken krijgen of er juist van bevrijd word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k kan vertellen wie er kan zorgen voor bevrijding uit de occulte werel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9231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WAT WAS OOK AL WEER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27120" y="1700280"/>
            <a:ext cx="329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Occultis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Occultisme – Het enige Bijbelse Fundament"/>
          <p:cNvPicPr/>
          <p:nvPr/>
        </p:nvPicPr>
        <p:blipFill>
          <a:blip r:embed="rId1"/>
          <a:stretch/>
        </p:blipFill>
        <p:spPr>
          <a:xfrm>
            <a:off x="4788000" y="2133720"/>
            <a:ext cx="295272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836280"/>
            <a:ext cx="5791320" cy="68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OCCULTISME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1773360"/>
            <a:ext cx="762012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 betekent Occultism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tterlijk: verborgen of gehe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vennatuurlij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zichtbare werkelijk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gaat dus over niet zien, maar er wel zij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kan het goede en het kwade aanwen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wuste beïnvloe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UIT DE BIJBEL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75920" y="1773360"/>
            <a:ext cx="762012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Efeze 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0 Ten slotte, zoek uw kracht in de Heer, in de kracht van zijn macht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1 Trek de wapenrusting van God aan om stand te kunnen houden tegen de listen van de duivel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2 Onze strijd is niet gericht tegen mensen maar tegen hemelse vorsten, de heersers en de machthebbers van de duisternis, tegen de kwade geesten in de hemelsfere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Zoek op: 1 Johannes 1: 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INLEIDING OCCULTISME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an alle tijd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bel: Saul in En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ulus op verschillende plaat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ddeleeuwen: hekserij, weerwol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n n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12:17:47Z</dcterms:created>
  <dc:creator>Nuborgh College</dc:creator>
  <dc:description/>
  <dc:language>en-US</dc:language>
  <cp:lastModifiedBy>Jan Kees van der Hart</cp:lastModifiedBy>
  <dcterms:modified xsi:type="dcterms:W3CDTF">2022-09-07T19:15:55Z</dcterms:modified>
  <cp:revision>11</cp:revision>
  <dc:subject/>
  <dc:title>Inleiding Occultisme</dc:title>
</cp:coreProperties>
</file>