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D2E-522C-4972-82F3-4377B1FF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2EC-A47B-4679-9907-EBBE0DDE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82F-24D2-4337-ACFD-A35E249E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23D-98E9-49EF-981C-25C661B4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DEB8-5E60-4F67-9245-B561BCB2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29C5-A6CE-4369-8222-77496343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57F8-5BC7-435C-9CFD-167C7B09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2B49-44B0-4365-8476-34E79366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7C0F-2C17-40D1-909E-3497C6A9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D7F3-28F9-4277-BB1D-ED4CF6F5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AAA3-CD30-40CE-B597-8241FA73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7A9-3FCD-400F-9D9E-3CC4EBE5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37D-2D16-48B1-ACEF-2DEF76FF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3138-1914-4411-B068-9556833D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437A-CBAA-4CCD-AB42-FF4DEDC5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7D04-1E26-42B2-BE2B-157D9A5E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23A4-8346-42F1-8081-223220D0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477E-D9E6-4714-A473-A5DC8FDC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562FC-B145-4A83-A84D-5CEE6EA0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A46C-EB8C-4028-8397-189D7A96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94D0-374E-49CE-9434-326E3E07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3D7B6-A3FF-4436-916A-6B6E473A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76F-39B3-464B-9122-C5F9C5B8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1D58A-37AB-46BD-A01A-5E8396FB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CCECD-EB31-47EC-8792-8749ED00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EF4B-4537-42BA-A48D-5CFBA249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A62F-DE1B-4D7E-BDDB-C973E84E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6B905-0479-4907-926C-5D1BC5F5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41AAD-7561-45DB-8AA7-B20AB9EE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4868-139D-46EB-B7DB-B7F20B96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FCD-463D-42E5-BBBE-5992A855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5B9-BDC7-426E-96D1-81B7F7DE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CD1-F360-4AE4-ACBE-A3B3F7A5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7F3-B3A3-4E31-BD9C-E00861C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4DE-2605-4D07-B21A-DE1BDF6B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945-7E87-4249-92FC-34543CD4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CABA-463B-4C8E-951E-EDCBDEA96953}" type="slidenum">
              <a:rPr b="1" lang="nl-NL" sz="2400" spc="-1" strike="noStrike">
                <a:solidFill>
                  <a:srgbClr val="d1282e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20D7-9F85-4FAB-BB64-BFA89F6BA684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ECA4-5277-481F-BF0A-CD718ECC35F0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aken.wikiwijs.nl/189843/Occultisme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8" descr=""/>
          <p:cNvPicPr/>
          <p:nvPr/>
        </p:nvPicPr>
        <p:blipFill>
          <a:blip r:embed="rId1"/>
          <a:srcRect l="17713" t="16821" r="17713" b="5276"/>
          <a:stretch/>
        </p:blipFill>
        <p:spPr>
          <a:xfrm>
            <a:off x="324000" y="907920"/>
            <a:ext cx="8208720" cy="5407200"/>
          </a:xfrm>
          <a:prstGeom prst="rect">
            <a:avLst/>
          </a:prstGeom>
          <a:ln w="0">
            <a:noFill/>
          </a:ln>
        </p:spPr>
      </p:pic>
      <p:pic>
        <p:nvPicPr>
          <p:cNvPr id="131" name="Inkt 9" descr=""/>
          <p:cNvPicPr/>
          <p:nvPr/>
        </p:nvPicPr>
        <p:blipFill>
          <a:blip r:embed="rId2"/>
          <a:stretch/>
        </p:blipFill>
        <p:spPr>
          <a:xfrm>
            <a:off x="3186000" y="6294600"/>
            <a:ext cx="293544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hthoek 3"/>
          <p:cNvSpPr/>
          <p:nvPr/>
        </p:nvSpPr>
        <p:spPr>
          <a:xfrm>
            <a:off x="468360" y="105264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eb8803"/>
                </a:solidFill>
                <a:uFillTx/>
                <a:latin typeface="Constantia"/>
                <a:ea typeface="Constantia"/>
              </a:rPr>
              <a:t>https://www.youtube.com/watch?v=57gQl9UMER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210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76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transcede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stijg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a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wat buiten je waarneming plaatsvin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TWEE WERELD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Aarde, hemelsferen, hem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 Het geloof legt de grondslag voor alles waarop we hopen, het overtuigt ons van de waarheid van wat we niet zi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 Om hun geloof werden de mensen uit vroeger tijden geprez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 Door geloof komen we tot het inzicht dat de wereld door het woord van God geordend is, dat dus het zichtbare is ontstaan uit het niet-zichtba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r. 1:1-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2924280"/>
            <a:ext cx="727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IS GELOVEN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rcRect l="17713" t="18260" r="16925" b="8161"/>
          <a:stretch/>
        </p:blipFill>
        <p:spPr>
          <a:xfrm>
            <a:off x="403200" y="814320"/>
            <a:ext cx="8358120" cy="5135760"/>
          </a:xfrm>
          <a:prstGeom prst="rect">
            <a:avLst/>
          </a:prstGeom>
          <a:ln w="0">
            <a:noFill/>
          </a:ln>
        </p:spPr>
      </p:pic>
      <p:pic>
        <p:nvPicPr>
          <p:cNvPr id="134" name="Inkt 6" descr=""/>
          <p:cNvPicPr/>
          <p:nvPr/>
        </p:nvPicPr>
        <p:blipFill>
          <a:blip r:embed="rId2"/>
          <a:stretch/>
        </p:blipFill>
        <p:spPr>
          <a:xfrm>
            <a:off x="3355920" y="6213600"/>
            <a:ext cx="244008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ffffff"/>
                </a:solidFill>
                <a:latin typeface="Arial Black"/>
              </a:rPr>
              <a:t>LES 1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ER IS MEER TUSSEN HEMEL EN AAR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ERKWIJZE GD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ee lessen per week (di-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3 thema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eriode 1: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rtfolio (zie EL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t 3" descr=""/>
          <p:cNvPicPr/>
          <p:nvPr/>
        </p:nvPicPr>
        <p:blipFill>
          <a:blip r:embed="rId1"/>
          <a:stretch/>
        </p:blipFill>
        <p:spPr>
          <a:xfrm>
            <a:off x="3106800" y="2689200"/>
            <a:ext cx="17280" cy="17640"/>
          </a:xfrm>
          <a:prstGeom prst="rect">
            <a:avLst/>
          </a:prstGeom>
          <a:ln w="0">
            <a:noFill/>
          </a:ln>
        </p:spPr>
      </p:pic>
      <p:pic>
        <p:nvPicPr>
          <p:cNvPr id="140" name="Inkt 4" descr=""/>
          <p:cNvPicPr/>
          <p:nvPr/>
        </p:nvPicPr>
        <p:blipFill>
          <a:blip r:embed="rId2"/>
          <a:stretch/>
        </p:blipFill>
        <p:spPr>
          <a:xfrm>
            <a:off x="1685880" y="3160800"/>
            <a:ext cx="1908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NLINE LESMATERIAA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752120"/>
            <a:ext cx="76201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s://maken.wikiwijs.nl/189843/Occultism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STELL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ageer op de stelling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FO’s bestaan niet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3" descr=""/>
          <p:cNvPicPr/>
          <p:nvPr/>
        </p:nvPicPr>
        <p:blipFill>
          <a:blip r:embed="rId1"/>
          <a:stretch/>
        </p:blipFill>
        <p:spPr>
          <a:xfrm>
            <a:off x="3541680" y="3573360"/>
            <a:ext cx="45356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1282e"/>
                </a:solidFill>
                <a:latin typeface="Arial Black"/>
              </a:rPr>
              <a:t>IK ZIE, IK ZIE WAT JIJ NIET ZIET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7" name="Afbeelding 3" descr="http://1.bp.blogspot.com/-jO9WfTQErUk/TkTSlayhSYI/AAAAAAAAD4g/2pTMl1aNarU/s400/7_8+Veel+wind.jpg"/>
          <p:cNvPicPr/>
          <p:nvPr/>
        </p:nvPicPr>
        <p:blipFill>
          <a:blip r:embed="rId1"/>
          <a:stretch/>
        </p:blipFill>
        <p:spPr>
          <a:xfrm>
            <a:off x="1351080" y="2205000"/>
            <a:ext cx="58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het verschil tussen de zichtbare en niet zichtbare werkelijkheid (wereld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onder woorden brengen wat geloven 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wat transcendent betek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holyhome.nl/occult.gif"/>
          <p:cNvPicPr/>
          <p:nvPr/>
        </p:nvPicPr>
        <p:blipFill>
          <a:blip r:embed="rId1"/>
          <a:stretch/>
        </p:blipFill>
        <p:spPr>
          <a:xfrm>
            <a:off x="5364000" y="4221000"/>
            <a:ext cx="2705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MAKEN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.C. van der Hart</cp:lastModifiedBy>
  <dcterms:modified xsi:type="dcterms:W3CDTF">2022-08-30T10:57:35Z</dcterms:modified>
  <cp:revision>27</cp:revision>
  <dc:subject/>
  <dc:title>Inleiding Occultisme</dc:title>
</cp:coreProperties>
</file>