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3C06-84A8-4F4A-AAE9-529F0FF2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BAC6-332A-4019-8BE9-612598A3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ACE-8A9E-4A16-86D2-63DE0A14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038-D12D-45E2-BE6B-97D261AA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A3F0-486E-4698-A435-D99AD546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EEC2-3E4B-4703-A3A8-059D2806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F9BB-0333-41F0-A7CA-AE1B7201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CCBC-46A5-4E30-8C4F-47177DCB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F724-B1B8-41DD-A018-8325A55C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BD5F-2BE0-4B25-AEE6-999EF283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1D36-7196-4E40-8E6A-4CA7463D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7C5-6A89-4C50-83EA-39C9090C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75D2-4065-44E2-AACE-49DC9B39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F29D-71C3-446C-B54A-F03ED0D0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0C57-8A79-486B-95D1-3BD1784D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3F30-B9EA-4D95-9613-08A9A9E2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4F8D-9EA4-4C62-8CEB-1FFA487F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9076A-D9B4-4DF3-A7C4-B6B19E26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B51DC-77FA-4D89-BCCA-050CEA08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C6AF6-D6B7-4EC2-9EC3-44FD98BF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0D8CF-AF49-4535-AA6F-61136639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CE455-5DE3-43F0-98A1-F9600D85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7A3-3E4A-4CF2-B2D5-10DE339C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42E7B-4EFD-4D85-9621-3EE05EF2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3095C-6683-4E5A-A32A-5CED326A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DA91C-430D-44B8-A055-617CF58A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12E52-8B09-42E3-AA91-8477D09D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A7EFB-7915-45EA-8B73-280C174B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1E7F0-0165-4CCF-A54A-5678A571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922E2-731E-4062-AE7E-8E6A130D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6BD63-B6D1-4678-BF42-54B6A4E6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90C30-768D-4CC8-8053-D438713B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8747F-F3EF-481C-9109-463BD713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590-3732-4076-8C7C-2E96E1B4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9A83D-E624-428F-A686-D93CBC85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032BC-51E6-4149-982F-6AA7BE24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84ECF-6D98-4C21-836E-57958D89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FEFE1-B738-4380-AA91-8E041EEF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5FDA6-5850-4F7E-8DD9-85130121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10FB8-CCEA-4DAA-BBBF-FC827728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E2193-E39C-465F-BE91-796821C8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DC779-084E-4D47-85AE-BE22E45D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BF2C9-F36F-43C8-9912-50C67103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CBD5-6479-4134-8432-909CB255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4555-FAAD-4009-B976-30E1249A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A7A7-7108-45E6-9FE3-6A21A363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14C-C2EA-4C0E-9728-F5F29C4C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8F8C-6D78-41FD-83E3-AA7C9B49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A759-291C-4862-B473-2730D7C44BEF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373E-EA60-4654-BFA8-A2D92DEBC9BD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19CB-4E62-48E1-9072-20444D99CDCB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BED7-79C4-48BC-A4D3-8BECEFB278DF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F91C-082F-4321-89F4-A31448722919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D7BF-078A-42C6-88E3-AEFBE1F60035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D2DD-9A24-461D-A3E7-3B9633983EF1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1B4D-FB5A-4327-9503-A6F8E1D8D982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6600" y="1162080"/>
            <a:ext cx="69498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ff0000"/>
                </a:solidFill>
                <a:latin typeface="Constantia"/>
              </a:rPr>
              <a:t>Introductie</a:t>
            </a:r>
            <a:r>
              <a:rPr b="0" lang="nl-NL" sz="39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Kunst Beeldende Vorming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(KBV)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Essay – KuBv"/>
          <p:cNvPicPr/>
          <p:nvPr/>
        </p:nvPicPr>
        <p:blipFill>
          <a:blip r:embed="rId1"/>
          <a:srcRect l="0" t="6544" r="2319" b="0"/>
          <a:stretch/>
        </p:blipFill>
        <p:spPr>
          <a:xfrm>
            <a:off x="966960" y="3240000"/>
            <a:ext cx="2952720" cy="22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Did it myself :: Milouroelands"/>
          <p:cNvPicPr/>
          <p:nvPr/>
        </p:nvPicPr>
        <p:blipFill>
          <a:blip r:embed="rId2"/>
          <a:stretch/>
        </p:blipFill>
        <p:spPr>
          <a:xfrm>
            <a:off x="5580000" y="2325600"/>
            <a:ext cx="2468520" cy="318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op-Art – Gaudi Tekenen"/>
          <p:cNvPicPr/>
          <p:nvPr/>
        </p:nvPicPr>
        <p:blipFill>
          <a:blip r:embed="rId3"/>
          <a:stretch/>
        </p:blipFill>
        <p:spPr>
          <a:xfrm>
            <a:off x="3276720" y="4373640"/>
            <a:ext cx="370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Examenrichtlijn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8960"/>
            <a:ext cx="642132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blad.n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g41h1h4i9qd ALGEMEEN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ccenten ‘Gouden Eeuw’ en ‘Cultuur vd kerk’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j0ojfd7umn3/f=/bestand.pdf HAV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e/vhi1nc4phqz3?topparent=vg41h1h4i9qe VW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Invalshoeken (zie syllabus examenblad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schillende kunst disciplin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Verwachtin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72760" y="243684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(Actief aanwezig in de lessen/Blo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pdrachten uitvoeren en huiswerk maken. Passief leren werkt niet bij kuns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ragen stellen, nieuwsgierig zij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reativiteit(verder) ontwikk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rmgev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iploma hal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kstvak 1"/>
          <p:cNvSpPr/>
          <p:nvPr/>
        </p:nvSpPr>
        <p:spPr>
          <a:xfrm>
            <a:off x="1979640" y="2421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  <a:ea typeface="Arial"/>
              </a:rPr>
              <a:t>VEEL SUCCES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HAVO/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aarom kunstvakk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itleg en opbouw kunstva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examens en Centraal Schriftelijk Exam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richtlij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wacht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WAAROM KUNSTVAKK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828800" y="2819520"/>
            <a:ext cx="533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" Het gaat niet om die lagen verf. 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gaat om wat het doet vermoed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Arial"/>
              </a:rPr>
              <a:t>uit: Cloa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pagina1_waaromkunstvak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agina2_waaromkunstvak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Uitleg en opbouw kunstva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00000" y="1267920"/>
            <a:ext cx="757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* Kunst Beeldende Vorming (KBV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Praktijk, beschouwen, deels uitvoeren/ oefenen theor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2 lesuren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schoolexame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Kunst Algemeen (KU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heorie en opdrachten algemene kunstgeschiedeni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1 lesuur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AVO proefexamens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WO schoolexamen(s)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6210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HAV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3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urgerCultuur in de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 (Gouden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het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4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de kerk (1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t/m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ofcultuur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/h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 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57:57Z</dcterms:created>
  <dc:creator>Westrop, Marjet van</dc:creator>
  <dc:description/>
  <dc:language>en-US</dc:language>
  <cp:lastModifiedBy>Annemarie van Leeuwen</cp:lastModifiedBy>
  <dcterms:modified xsi:type="dcterms:W3CDTF">2022-03-28T08:55:56Z</dcterms:modified>
  <cp:revision>17</cp:revision>
  <dc:subject/>
  <dc:title>Introductie  kunst drama/kunst bkv</dc:title>
</cp:coreProperties>
</file>