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99CB-37E5-4FA2-A1EF-E35CF6BE3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B42A-B72B-4B25-A729-77E7C60E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B375-3085-45C1-B057-021C21AF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B36C-8A90-4D6C-AE45-A3419842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2B38-DA96-415B-BB78-E03BE9C4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B493-1560-4133-9D17-6E7A3532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3297-9444-4082-9541-783627B9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25E2-BB84-4867-9B7D-B1839F8F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0513-D258-40E8-B111-5718AF0B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31B1-BB4D-4256-93E0-3DEBCC62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1243-D8E1-40E7-8ED7-A7B71DED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FC55-AA60-44E7-970B-C5B178F8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8034-711E-46E8-9EA7-8F96B4DCD05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uinen_Tersch"/>
          <p:cNvPicPr/>
          <p:nvPr/>
        </p:nvPicPr>
        <p:blipFill>
          <a:blip r:embed="rId1"/>
          <a:stretch/>
        </p:blipFill>
        <p:spPr>
          <a:xfrm>
            <a:off x="0" y="404640"/>
            <a:ext cx="9180360" cy="6069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mbria"/>
              </a:rPr>
              <a:t>Aardrijkskunde</a:t>
            </a:r>
            <a:r>
              <a:rPr b="1" lang="nl-NL" sz="4400" spc="-1" strike="noStrike">
                <a:solidFill>
                  <a:srgbClr val="000000"/>
                </a:solidFill>
                <a:latin typeface="Cambria"/>
              </a:rPr>
              <a:t> Kustbel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Duinen_Tersch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404640"/>
            <a:ext cx="9144000" cy="6069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mbria"/>
              </a:rPr>
              <a:t>Kwetsbaarheid van de k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d2d8a"/>
                </a:solidFill>
                <a:latin typeface="Cambria"/>
              </a:rPr>
              <a:t>Druk op de kust door zee en la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d2d8a"/>
                </a:solidFill>
                <a:latin typeface="Cambria"/>
              </a:rPr>
              <a:t>Druk door z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d2d8a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2d2d8a"/>
                </a:solidFill>
                <a:latin typeface="Cambria"/>
              </a:rPr>
              <a:t>zeespiegelstijg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2d2d8a"/>
              </a:buClr>
              <a:buFont typeface="Cambr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2d2d8a"/>
                </a:solidFill>
                <a:latin typeface="Cambria"/>
              </a:rPr>
              <a:t>absoluut = waterpijl stijg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2d2d8a"/>
              </a:buClr>
              <a:buFont typeface="Cambr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2d2d8a"/>
                </a:solidFill>
                <a:latin typeface="Cambria"/>
              </a:rPr>
              <a:t>relatief    = toename zeespiegel + bodemdaling</a:t>
            </a:r>
            <a:r>
              <a:rPr b="1" lang="nl-NL" sz="1400" spc="-1" strike="noStrike">
                <a:solidFill>
                  <a:srgbClr val="2d2d8a"/>
                </a:solidFill>
                <a:latin typeface="Cambria"/>
              </a:rPr>
              <a:t> </a:t>
            </a:r>
            <a:r>
              <a:rPr b="1" lang="nl-NL" sz="1400" spc="-1" strike="noStrike">
                <a:solidFill>
                  <a:srgbClr val="2d2d8a"/>
                </a:solidFill>
                <a:latin typeface="Cambri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d2d8a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2d2d8a"/>
                </a:solidFill>
                <a:latin typeface="Cambria"/>
              </a:rPr>
              <a:t>bodemdaling do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2d2d8a"/>
              </a:buClr>
              <a:buFont typeface="Cambr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2d2d8a"/>
                </a:solidFill>
                <a:latin typeface="Cambria"/>
              </a:rPr>
              <a:t>platentektoniek</a:t>
            </a:r>
            <a:r>
              <a:rPr b="1" lang="nl-NL" sz="1800" spc="-1" strike="noStrike">
                <a:solidFill>
                  <a:srgbClr val="2d2d8a"/>
                </a:solidFill>
                <a:latin typeface="Wingdings"/>
                <a:ea typeface="Wingdings"/>
              </a:rPr>
              <a:t></a:t>
            </a:r>
            <a:r>
              <a:rPr b="1" lang="nl-NL" sz="1800" spc="-1" strike="noStrike">
                <a:solidFill>
                  <a:srgbClr val="2d2d8a"/>
                </a:solidFill>
                <a:latin typeface="Cambria"/>
              </a:rPr>
              <a:t> Noordzeebekken</a:t>
            </a:r>
            <a:r>
              <a:rPr b="1" lang="nl-NL" sz="1800" spc="-1" strike="noStrike">
                <a:solidFill>
                  <a:srgbClr val="2d2d8a"/>
                </a:solidFill>
                <a:latin typeface="Cambria"/>
              </a:rPr>
              <a:t>	</a:t>
            </a:r>
            <a:r>
              <a:rPr b="1" lang="nl-NL" sz="1800" spc="-1" strike="noStrike">
                <a:solidFill>
                  <a:srgbClr val="2d2d8a"/>
                </a:solidFill>
                <a:latin typeface="Cambria"/>
              </a:rPr>
              <a:t>	</a:t>
            </a:r>
            <a:r>
              <a:rPr b="1" lang="nl-NL" sz="1800" spc="-1" strike="noStrike">
                <a:solidFill>
                  <a:srgbClr val="2d2d8a"/>
                </a:solidFill>
                <a:latin typeface="Cambria"/>
              </a:rPr>
              <a:t>	</a:t>
            </a:r>
            <a:r>
              <a:rPr b="1" lang="nl-NL" sz="1800" spc="-1" strike="noStrike">
                <a:solidFill>
                  <a:srgbClr val="2d2d8a"/>
                </a:solidFill>
                <a:latin typeface="Cambria"/>
              </a:rPr>
              <a:t>	</a:t>
            </a:r>
            <a:r>
              <a:rPr b="1" lang="nl-NL" sz="1800" spc="-1" strike="noStrike">
                <a:solidFill>
                  <a:srgbClr val="2d2d8a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2d2d8a"/>
              </a:buClr>
              <a:buFont typeface="Cambr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2d2d8a"/>
                </a:solidFill>
                <a:latin typeface="Cambria"/>
              </a:rPr>
              <a:t>oxidatie (verbranding) van veen + inklinking 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2d2d8a"/>
              </a:buClr>
              <a:buFont typeface="Cambr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2d2d8a"/>
                </a:solidFill>
                <a:latin typeface="Cambria"/>
              </a:rPr>
              <a:t>winning aardg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2d2d8a"/>
              </a:buClr>
              <a:buFont typeface="Cambr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2d2d8a"/>
                </a:solidFill>
                <a:latin typeface="Cambria"/>
              </a:rPr>
              <a:t>Bodemdaling versterkt door de mens </a:t>
            </a:r>
            <a:r>
              <a:rPr b="1" lang="nl-NL" sz="1800" spc="-1" strike="noStrike">
                <a:solidFill>
                  <a:srgbClr val="2d2d8a"/>
                </a:solidFill>
                <a:latin typeface="Wingdings"/>
                <a:ea typeface="Wingdings"/>
              </a:rPr>
              <a:t></a:t>
            </a:r>
            <a:r>
              <a:rPr b="1" lang="nl-NL" sz="1800" spc="-1" strike="noStrike">
                <a:solidFill>
                  <a:srgbClr val="2d2d8a"/>
                </a:solidFill>
                <a:latin typeface="Cambria"/>
              </a:rPr>
              <a:t> onttrekking van grondwater </a:t>
            </a:r>
            <a:r>
              <a:rPr b="1" lang="nl-NL" sz="1800" spc="-1" strike="noStrike">
                <a:solidFill>
                  <a:srgbClr val="2d2d8a"/>
                </a:solidFill>
                <a:latin typeface="Wingdings"/>
                <a:ea typeface="Wingdings"/>
              </a:rPr>
              <a:t></a:t>
            </a:r>
            <a:r>
              <a:rPr b="1" lang="nl-NL" sz="1800" spc="-1" strike="noStrike">
                <a:solidFill>
                  <a:srgbClr val="2d2d8a"/>
                </a:solidFill>
                <a:latin typeface="Cambria"/>
              </a:rPr>
              <a:t> grondwaterspiegel komt lager te liggen </a:t>
            </a:r>
            <a:r>
              <a:rPr b="1" lang="nl-NL" sz="1800" spc="-1" strike="noStrike">
                <a:solidFill>
                  <a:srgbClr val="2d2d8a"/>
                </a:solidFill>
                <a:latin typeface="Wingdings"/>
                <a:ea typeface="Wingdings"/>
              </a:rPr>
              <a:t></a:t>
            </a:r>
            <a:r>
              <a:rPr b="1" lang="nl-NL" sz="1800" spc="-1" strike="noStrike">
                <a:solidFill>
                  <a:srgbClr val="2d2d8a"/>
                </a:solidFill>
                <a:latin typeface="Cambria"/>
              </a:rPr>
              <a:t> veen wordt dro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d2d8a"/>
                </a:solidFill>
                <a:latin typeface="Cambria"/>
              </a:rPr>
              <a:t>Effect bodemdaling is afhankelijk van regionale verschillen.</a:t>
            </a:r>
            <a:br>
              <a:rPr sz="2000"/>
            </a:br>
            <a:r>
              <a:rPr b="1" lang="nl-NL" sz="2000" spc="-1" strike="noStrike">
                <a:solidFill>
                  <a:srgbClr val="2d2d8a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Duinen_Tersch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404640"/>
            <a:ext cx="9144000" cy="6069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mbria"/>
              </a:rPr>
              <a:t>Druk door land</a:t>
            </a: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mbria"/>
              </a:rPr>
              <a:t>Do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mbr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Verstedelijkingsdru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mbri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Vanuit de Randstad en Deltaku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mbri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Waddenkust heeft te maken met recreatieve dr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gevolg: bebouwing op buitendijks gebied </a:t>
            </a:r>
            <a:r>
              <a:rPr b="1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 in de toekomst moeilijk  </a:t>
            </a:r>
            <a:r>
              <a:rPr b="1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 verbreding van zeewering niet meer mogel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mbria"/>
              </a:rPr>
              <a:t>Buitendijks gebied is het gebied op of zelfs zeewaarts van de zeewering</a:t>
            </a: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Er zijn afspraken over bebouwing langs de kust gemaakt </a:t>
            </a:r>
            <a:r>
              <a:rPr b="1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 achterland blijft in veilighe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mbria"/>
              </a:rPr>
              <a:t>Kwetsbaarhe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bepaald door kans op overstro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Gevolgen van een overstro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mbria"/>
              </a:rPr>
              <a:t>Overstroming in Nederland heeft grote economische gevolg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Duinen_Tersch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384120"/>
            <a:ext cx="9144000" cy="6069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mbria"/>
              </a:rPr>
              <a:t>Dynamisch hand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mbria"/>
              </a:rPr>
              <a:t>In Nederland constant kustaangroei en ero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mbria"/>
              </a:rPr>
              <a:t>Nederland nu:</a:t>
            </a:r>
            <a:r>
              <a:rPr b="1" lang="nl-N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mbr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erosieve peri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mbr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oplossing </a:t>
            </a:r>
            <a:r>
              <a:rPr b="1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dynamisch handhaven (d.m.v. nieuw </a:t>
            </a: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kustbeleid) </a:t>
            </a:r>
            <a:r>
              <a:rPr b="1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 terug naar de basiskustlijn in 199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42472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mbria"/>
              </a:rPr>
              <a:t>Zandsupple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mbria"/>
              </a:rPr>
              <a:t>Zandsuppleties:</a:t>
            </a:r>
            <a:r>
              <a:rPr b="1" lang="nl-N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mbria"/>
              </a:rPr>
              <a:t>- zand in kustzone wordt aangevuld </a:t>
            </a:r>
            <a:r>
              <a:rPr b="1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800" spc="-1" strike="noStrike">
                <a:solidFill>
                  <a:srgbClr val="000000"/>
                </a:solidFill>
                <a:latin typeface="Cambria"/>
              </a:rPr>
              <a:t> helpt duinen </a:t>
            </a:r>
            <a:r>
              <a:rPr b="1" lang="nl-N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nl-N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mbria"/>
              </a:rPr>
              <a:t>   herstellen van sch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mbria"/>
              </a:rPr>
              <a:t>- zand komt uit diepere delen van de Noordz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mbria"/>
              </a:rPr>
              <a:t>Zandsuppletie tegenwoordig onder water </a:t>
            </a:r>
            <a:r>
              <a:rPr b="1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96040" indent="-127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mbr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zee helpt mee met het verspreiden van het zand en </a:t>
            </a: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9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veroorzaakt minder overlast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Afbeelding 13" descr="http://www.zeeinzicht.nl/vleet/images/hq/zandsuppletie-ps.jpg"/>
          <p:cNvPicPr/>
          <p:nvPr/>
        </p:nvPicPr>
        <p:blipFill>
          <a:blip r:embed="rId1"/>
          <a:stretch/>
        </p:blipFill>
        <p:spPr>
          <a:xfrm>
            <a:off x="0" y="2924280"/>
            <a:ext cx="9144000" cy="3392280"/>
          </a:xfrm>
          <a:prstGeom prst="rect">
            <a:avLst/>
          </a:prstGeom>
          <a:ln w="0">
            <a:noFill/>
          </a:ln>
        </p:spPr>
      </p:pic>
      <p:pic>
        <p:nvPicPr>
          <p:cNvPr id="53" name="Afbeelding 16" descr="http://www.zeeinzicht.nl/vleet/images/hq/waterstanden-515-sup-ned.jpg"/>
          <p:cNvPicPr/>
          <p:nvPr/>
        </p:nvPicPr>
        <p:blipFill>
          <a:blip r:embed="rId2"/>
          <a:stretch/>
        </p:blipFill>
        <p:spPr>
          <a:xfrm>
            <a:off x="4356000" y="5083200"/>
            <a:ext cx="47880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fbeelding 10" descr="http://www.rijkswaterstaat.nl/images/Zandsuppletie%20in%20de%20avond_tcm174-209893.jpg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33336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mbria"/>
              </a:rPr>
              <a:t>Dynamisch kustbeheer</a:t>
            </a:r>
            <a:r>
              <a:rPr b="1" lang="nl-NL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mbria"/>
              </a:rPr>
              <a:t>Dynamisch kustbeh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Zorgen voor een veilige kust, maar wel dat de natuur zo veel mogelijk haar eigen gang kan gaan en het achterliggende gebied in veiligheid blijft.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mbria"/>
              </a:rPr>
              <a:t>Door suppletie slijt alleen het suppletiezand weg en niet de rest van het zand (de slijtlaag) </a:t>
            </a:r>
            <a:r>
              <a:rPr b="1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de kust erodeert dan niet ve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mbria"/>
              </a:rPr>
              <a:t>Harde kustverdediging: Kust verliest haar natuurlijke beweeglijkheid, kan niet meebewegen, vervormen en op natuurlijke wijze herstellen zoals duin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in het verleden zijn noodzakelijke ingrepen gedaan om de kust te verdedigen = bolwerkvorming</a:t>
            </a:r>
            <a:r>
              <a:rPr b="1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 Harde grens tussen land en zee die veel bescherming ver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Cambria"/>
              </a:rPr>
              <a:t>Toekomst Nederland:</a:t>
            </a:r>
            <a:r>
              <a:rPr b="1" lang="nl-NL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zeespiegelstijging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- zwaardere stor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- vaker stor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Duinen_Tersch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404640"/>
            <a:ext cx="9144000" cy="6069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mbria"/>
              </a:rPr>
              <a:t>De toekomst tegemo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mbria"/>
              </a:rPr>
              <a:t>Zwakke schak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Plekken langs de Nederlandse kunst die in de toekomst niet meer aan de veiligheidsnormen zullen voldoen </a:t>
            </a:r>
            <a:r>
              <a:rPr b="1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versterken tegen krachtige golven en zeespiegelstij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mbria"/>
              </a:rPr>
              <a:t>Versterking moet samen gaan met de natuur, het landschap en de recreatie in een gebi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mbria"/>
              </a:rPr>
              <a:t>Nieuwe normer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Combinatie van verkleinen van gevolgen en verkleinen van de kans op een overstrom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mbr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ambria"/>
              </a:rPr>
              <a:t>Er is goede is goede communicatie nodig, evacuatieplannen, en voorbereiding op een ram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Duinen_Tersch"/>
          <p:cNvPicPr/>
          <p:nvPr/>
        </p:nvPicPr>
        <p:blipFill>
          <a:blip r:embed="rId1"/>
          <a:stretch/>
        </p:blipFill>
        <p:spPr>
          <a:xfrm>
            <a:off x="0" y="404640"/>
            <a:ext cx="9180360" cy="6069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6:14:16Z</dcterms:created>
  <dc:creator>Annemiek Silvius</dc:creator>
  <dc:description/>
  <dc:language>en-US</dc:language>
  <cp:lastModifiedBy>geertkarel</cp:lastModifiedBy>
  <dcterms:modified xsi:type="dcterms:W3CDTF">2016-05-22T11:56:44Z</dcterms:modified>
  <cp:revision>6</cp:revision>
  <dc:subject/>
  <dc:title>Kustbeleid</dc:title>
</cp:coreProperties>
</file>