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000" spc="-1" strike="noStrike">
                <a:solidFill>
                  <a:srgbClr val="ffffff"/>
                </a:solidFill>
                <a:latin typeface="Arial"/>
              </a:rPr>
              <a:t>Mestboekhoud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12E5-AEA8-41BB-968D-768AC56F6FAA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Mestboekhouding op de weegscha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0" name="Picture 4" descr="balans"/>
          <p:cNvPicPr/>
          <p:nvPr/>
        </p:nvPicPr>
        <p:blipFill>
          <a:blip r:embed="rId1"/>
          <a:stretch/>
        </p:blipFill>
        <p:spPr>
          <a:xfrm>
            <a:off x="2268360" y="1628640"/>
            <a:ext cx="4602240" cy="29448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619280" y="4294080"/>
            <a:ext cx="2376360" cy="122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indba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076720" y="4292640"/>
            <a:ext cx="237492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bruiksn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kstofcorr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ba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anvoer, afvoer en begin- en eindba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anvo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vo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gin- en eindbalan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5567-E0FE-463F-9156-F7C7A579B94A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hteraccolade 4"/>
          <p:cNvSpPr/>
          <p:nvPr/>
        </p:nvSpPr>
        <p:spPr>
          <a:xfrm>
            <a:off x="2627280" y="2317680"/>
            <a:ext cx="504720" cy="89532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5320"/>
              <a:gd name="textAreaBottom" fmla="*/ 8823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kstvak 5"/>
          <p:cNvSpPr/>
          <p:nvPr/>
        </p:nvSpPr>
        <p:spPr>
          <a:xfrm>
            <a:off x="3348000" y="2581200"/>
            <a:ext cx="273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hteraccolade 6"/>
          <p:cNvSpPr/>
          <p:nvPr/>
        </p:nvSpPr>
        <p:spPr>
          <a:xfrm>
            <a:off x="2627280" y="3645000"/>
            <a:ext cx="504720" cy="89532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5320"/>
              <a:gd name="textAreaBottom" fmla="*/ 8823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kstvak 7"/>
          <p:cNvSpPr/>
          <p:nvPr/>
        </p:nvSpPr>
        <p:spPr>
          <a:xfrm>
            <a:off x="3470400" y="3908520"/>
            <a:ext cx="273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kstvak 8"/>
          <p:cNvSpPr/>
          <p:nvPr/>
        </p:nvSpPr>
        <p:spPr>
          <a:xfrm>
            <a:off x="3470400" y="5300640"/>
            <a:ext cx="28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hteraccolade 9"/>
          <p:cNvSpPr/>
          <p:nvPr/>
        </p:nvSpPr>
        <p:spPr>
          <a:xfrm>
            <a:off x="2627280" y="5060880"/>
            <a:ext cx="504720" cy="89388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3880"/>
              <a:gd name="textAreaBottom" fmla="*/ 880920 h 89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ebruiksnor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36b20"/>
                </a:solidFill>
                <a:latin typeface="Arial"/>
              </a:rPr>
              <a:t>Hoeveel N en P2O5 kan een veehouder op zijn land kwijt. Dit is afhankelijk van:</a:t>
            </a:r>
            <a:endParaRPr b="1" lang="en-US" sz="20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antal hectares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Soort grond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Bouw- of grasland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94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1E36-D2D8-43C0-8B48-90F05FF91F71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tikstofcorr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36b20"/>
                </a:solidFill>
                <a:latin typeface="Arial"/>
              </a:rPr>
              <a:t>Wat mag er via de ventilatiekoker verdwijnen aan N: emissiearme stallen t.o.v. niet emissiearme stallen</a:t>
            </a:r>
            <a:endParaRPr b="1" lang="en-US" sz="20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785D-88FD-4A9F-A531-FE45B177746C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916360" y="3573360"/>
            <a:ext cx="1942920" cy="2190960"/>
          </a:xfrm>
          <a:prstGeom prst="rect">
            <a:avLst/>
          </a:prstGeom>
          <a:ln w="0">
            <a:noFill/>
          </a:ln>
        </p:spPr>
      </p:pic>
      <p:sp>
        <p:nvSpPr>
          <p:cNvPr id="99" name="Wolkvormige toelichting 4"/>
          <p:cNvSpPr/>
          <p:nvPr/>
        </p:nvSpPr>
        <p:spPr>
          <a:xfrm>
            <a:off x="3348000" y="2781360"/>
            <a:ext cx="1511280" cy="64764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 berekening van de ba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anvoer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ginbalans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voer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bruiksruimte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Stikstofcorrectie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	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ndbalan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CFDF-173F-4F62-A88D-734EEBD39952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ffffff"/>
                </a:solidFill>
                <a:latin typeface="Arial"/>
              </a:rPr>
              <a:t>Bedankt voor uw aandacht</a:t>
            </a:r>
            <a:r>
              <a:rPr b="1" i="1" lang="nl-NL" sz="4200" spc="-1" strike="noStrike">
                <a:solidFill>
                  <a:srgbClr val="ffffff"/>
                </a:solidFill>
                <a:latin typeface="Arial"/>
              </a:rPr>
              <a:t> !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3:03:03Z</dcterms:created>
  <dc:creator>Astrid Damen</dc:creator>
  <dc:description/>
  <dc:language>en-US</dc:language>
  <cp:lastModifiedBy>Herman Peeters</cp:lastModifiedBy>
  <dcterms:modified xsi:type="dcterms:W3CDTF">2018-10-03T09:34:55Z</dcterms:modified>
  <cp:revision>14</cp:revision>
  <dc:subject/>
  <dc:title>‘ BELEEF JE EIGEN GROEI ’</dc:title>
</cp:coreProperties>
</file>