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estboekhou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8C23-3E2A-4635-B067-27D422F08F8C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Mestboekhouding op de weegscha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0" name="Picture 4" descr="balans"/>
          <p:cNvPicPr/>
          <p:nvPr/>
        </p:nvPicPr>
        <p:blipFill>
          <a:blip r:embed="rId1"/>
          <a:stretch/>
        </p:blipFill>
        <p:spPr>
          <a:xfrm>
            <a:off x="2268360" y="1628640"/>
            <a:ext cx="4602240" cy="294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619280" y="4294080"/>
            <a:ext cx="237636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nd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76720" y="4292640"/>
            <a:ext cx="23749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bruiks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kstofcor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voer, afvoer en begin- en eind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- en eindbalan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9DC2-FF66-41B6-A36D-361693ACC345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eraccolade 4"/>
          <p:cNvSpPr/>
          <p:nvPr/>
        </p:nvSpPr>
        <p:spPr>
          <a:xfrm>
            <a:off x="2627280" y="231768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kstvak 5"/>
          <p:cNvSpPr/>
          <p:nvPr/>
        </p:nvSpPr>
        <p:spPr>
          <a:xfrm>
            <a:off x="3348000" y="258120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raccolade 6"/>
          <p:cNvSpPr/>
          <p:nvPr/>
        </p:nvSpPr>
        <p:spPr>
          <a:xfrm>
            <a:off x="2627280" y="364500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kstvak 7"/>
          <p:cNvSpPr/>
          <p:nvPr/>
        </p:nvSpPr>
        <p:spPr>
          <a:xfrm>
            <a:off x="3470400" y="390852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3470400" y="5300640"/>
            <a:ext cx="28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hteraccolade 9"/>
          <p:cNvSpPr/>
          <p:nvPr/>
        </p:nvSpPr>
        <p:spPr>
          <a:xfrm>
            <a:off x="2627280" y="5060880"/>
            <a:ext cx="504720" cy="8938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3880"/>
              <a:gd name="textAreaBottom" fmla="*/ 8809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nor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Hoeveel N en P2O5 kan een veehouder op zijn land kwijt. Dit is afhankelijk van: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antal hectares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oort gro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ouw- of grasla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98F5-1561-4A25-AFE5-AE9EE65343A8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ikstofcorr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Wat mag er via de ventilatiekoker verdwijnen aan N: emissiearme stallen t.o.v. niet emissiearme stallen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8C21-7B7D-4157-AB03-78DD6E6D8FDC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194292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Wolkvormige toelichting 4"/>
          <p:cNvSpPr/>
          <p:nvPr/>
        </p:nvSpPr>
        <p:spPr>
          <a:xfrm>
            <a:off x="3348000" y="2781360"/>
            <a:ext cx="1511280" cy="647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erekening van de 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balans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bruiksruimt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Stikstofcorrectie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ndbala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C4FE-DA3F-40D0-A120-1F51FE39C2AC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Peeters</cp:lastModifiedBy>
  <dcterms:modified xsi:type="dcterms:W3CDTF">2018-10-03T09:34:55Z</dcterms:modified>
  <cp:revision>14</cp:revision>
  <dc:subject/>
  <dc:title>‘ BELEEF JE EIGEN GROEI ’</dc:title>
</cp:coreProperties>
</file>