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000" spc="-1" strike="noStrike">
                <a:solidFill>
                  <a:srgbClr val="ffffff"/>
                </a:solidFill>
                <a:latin typeface="Arial"/>
              </a:rPr>
              <a:t>Mestboekhoud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10A9-44CF-469A-893F-7577D072BDCA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Mestboekhouding op de weegscha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0" name="Picture 4" descr="balans"/>
          <p:cNvPicPr/>
          <p:nvPr/>
        </p:nvPicPr>
        <p:blipFill>
          <a:blip r:embed="rId1"/>
          <a:stretch/>
        </p:blipFill>
        <p:spPr>
          <a:xfrm>
            <a:off x="2268360" y="1628640"/>
            <a:ext cx="4602240" cy="29448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1619280" y="4294080"/>
            <a:ext cx="2376360" cy="122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anv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indba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076720" y="4292640"/>
            <a:ext cx="2374920" cy="12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v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bruiksn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kstofcorre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ginba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anvoer, afvoer en begin- en eindbala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anvoe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Dieren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oer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Meststoffen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voe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Dieren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oer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Meststoffen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gin- en eindbalan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Dieren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oer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Meststoffen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5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A59F-9569-453E-8C63-1DA0910A3AE1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hteraccolade 4"/>
          <p:cNvSpPr/>
          <p:nvPr/>
        </p:nvSpPr>
        <p:spPr>
          <a:xfrm>
            <a:off x="2627280" y="2317680"/>
            <a:ext cx="504720" cy="895320"/>
          </a:xfrm>
          <a:custGeom>
            <a:avLst/>
            <a:gdLst>
              <a:gd name="textAreaLeft" fmla="*/ 0 w 504720"/>
              <a:gd name="textAreaRight" fmla="*/ 182160 w 504720"/>
              <a:gd name="textAreaTop" fmla="*/ 12960 h 895320"/>
              <a:gd name="textAreaBottom" fmla="*/ 882360 h 89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7"/>
                  <a:pt x="10800" y="1014"/>
                </a:cubicBezTo>
                <a:lnTo>
                  <a:pt x="10800" y="9786"/>
                </a:lnTo>
                <a:cubicBezTo>
                  <a:pt x="10800" y="10293"/>
                  <a:pt x="16200" y="10800"/>
                  <a:pt x="21600" y="10800"/>
                </a:cubicBezTo>
                <a:cubicBezTo>
                  <a:pt x="16200" y="10800"/>
                  <a:pt x="10800" y="11307"/>
                  <a:pt x="10800" y="11814"/>
                </a:cubicBezTo>
                <a:lnTo>
                  <a:pt x="10800" y="20586"/>
                </a:lnTo>
                <a:cubicBezTo>
                  <a:pt x="10800" y="2109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kstvak 5"/>
          <p:cNvSpPr/>
          <p:nvPr/>
        </p:nvSpPr>
        <p:spPr>
          <a:xfrm>
            <a:off x="3348000" y="2581200"/>
            <a:ext cx="273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drukt in N &amp; P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hteraccolade 6"/>
          <p:cNvSpPr/>
          <p:nvPr/>
        </p:nvSpPr>
        <p:spPr>
          <a:xfrm>
            <a:off x="2627280" y="3645000"/>
            <a:ext cx="504720" cy="895320"/>
          </a:xfrm>
          <a:custGeom>
            <a:avLst/>
            <a:gdLst>
              <a:gd name="textAreaLeft" fmla="*/ 0 w 504720"/>
              <a:gd name="textAreaRight" fmla="*/ 182160 w 504720"/>
              <a:gd name="textAreaTop" fmla="*/ 12960 h 895320"/>
              <a:gd name="textAreaBottom" fmla="*/ 882360 h 89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7"/>
                  <a:pt x="10800" y="1014"/>
                </a:cubicBezTo>
                <a:lnTo>
                  <a:pt x="10800" y="9786"/>
                </a:lnTo>
                <a:cubicBezTo>
                  <a:pt x="10800" y="10293"/>
                  <a:pt x="16200" y="10800"/>
                  <a:pt x="21600" y="10800"/>
                </a:cubicBezTo>
                <a:cubicBezTo>
                  <a:pt x="16200" y="10800"/>
                  <a:pt x="10800" y="11307"/>
                  <a:pt x="10800" y="11814"/>
                </a:cubicBezTo>
                <a:lnTo>
                  <a:pt x="10800" y="20586"/>
                </a:lnTo>
                <a:cubicBezTo>
                  <a:pt x="10800" y="2109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kstvak 7"/>
          <p:cNvSpPr/>
          <p:nvPr/>
        </p:nvSpPr>
        <p:spPr>
          <a:xfrm>
            <a:off x="3470400" y="3908520"/>
            <a:ext cx="273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drukt in N &amp; P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kstvak 8"/>
          <p:cNvSpPr/>
          <p:nvPr/>
        </p:nvSpPr>
        <p:spPr>
          <a:xfrm>
            <a:off x="3470400" y="5300640"/>
            <a:ext cx="288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drukt in N &amp; P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hteraccolade 9"/>
          <p:cNvSpPr/>
          <p:nvPr/>
        </p:nvSpPr>
        <p:spPr>
          <a:xfrm>
            <a:off x="2627280" y="5060880"/>
            <a:ext cx="504720" cy="893880"/>
          </a:xfrm>
          <a:custGeom>
            <a:avLst/>
            <a:gdLst>
              <a:gd name="textAreaLeft" fmla="*/ 0 w 504720"/>
              <a:gd name="textAreaRight" fmla="*/ 182160 w 504720"/>
              <a:gd name="textAreaTop" fmla="*/ 12960 h 893880"/>
              <a:gd name="textAreaBottom" fmla="*/ 880920 h 89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7"/>
                  <a:pt x="10800" y="1014"/>
                </a:cubicBezTo>
                <a:lnTo>
                  <a:pt x="10800" y="9786"/>
                </a:lnTo>
                <a:cubicBezTo>
                  <a:pt x="10800" y="10293"/>
                  <a:pt x="16200" y="10800"/>
                  <a:pt x="21600" y="10800"/>
                </a:cubicBezTo>
                <a:cubicBezTo>
                  <a:pt x="16200" y="10800"/>
                  <a:pt x="10800" y="11307"/>
                  <a:pt x="10800" y="11814"/>
                </a:cubicBezTo>
                <a:lnTo>
                  <a:pt x="10800" y="20586"/>
                </a:lnTo>
                <a:cubicBezTo>
                  <a:pt x="10800" y="2109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ebruiksnor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136b20"/>
                </a:solidFill>
                <a:latin typeface="Arial"/>
              </a:rPr>
              <a:t>Hoeveel N en P2O5 kan een veehouder op zijn land kwijt. Dit is afhankelijk van:</a:t>
            </a:r>
            <a:endParaRPr b="1" lang="en-US" sz="20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Aantal hectares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Soort grond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Bouw- of grasland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94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8348-0A0C-4407-AA93-BD40E270C6B2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Stikstofcorre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136b20"/>
                </a:solidFill>
                <a:latin typeface="Arial"/>
              </a:rPr>
              <a:t>Wat mag er via de ventilatiekoker verdwijnen aan N: emissiearme stallen t.o.v. niet emissiearme stallen</a:t>
            </a:r>
            <a:endParaRPr b="1" lang="en-US" sz="20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97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5C25-0665-4282-9E2B-360F46F70ABD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916360" y="3573360"/>
            <a:ext cx="1942920" cy="2190960"/>
          </a:xfrm>
          <a:prstGeom prst="rect">
            <a:avLst/>
          </a:prstGeom>
          <a:ln w="0">
            <a:noFill/>
          </a:ln>
        </p:spPr>
      </p:pic>
      <p:sp>
        <p:nvSpPr>
          <p:cNvPr id="99" name="Wolkvormige toelichting 4"/>
          <p:cNvSpPr/>
          <p:nvPr/>
        </p:nvSpPr>
        <p:spPr>
          <a:xfrm>
            <a:off x="3348000" y="2781360"/>
            <a:ext cx="1511280" cy="64764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e berekening van de bala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anvoer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ginbalans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voer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/-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bruiksruimte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/-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Stikstofcorrectie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	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-/-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ndbalan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02" name="Tijdelijke aanduiding voor dianummer 3"/>
          <p:cNvSpPr/>
          <p:nvPr/>
        </p:nvSpPr>
        <p:spPr>
          <a:xfrm>
            <a:off x="6588000" y="7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B24F-0446-4299-A677-57463D61D4C2}" type="slidenum">
              <a:rPr b="0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400" spc="-1" strike="noStrike">
                <a:solidFill>
                  <a:srgbClr val="ffffff"/>
                </a:solidFill>
                <a:latin typeface="Arial"/>
              </a:rPr>
              <a:t>Bedankt voor uw aandacht</a:t>
            </a:r>
            <a:r>
              <a:rPr b="1" i="1" lang="nl-NL" sz="4200" spc="-1" strike="noStrike">
                <a:solidFill>
                  <a:srgbClr val="ffffff"/>
                </a:solidFill>
                <a:latin typeface="Arial"/>
              </a:rPr>
              <a:t> ! 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3:03:03Z</dcterms:created>
  <dc:creator>Astrid Damen</dc:creator>
  <dc:description/>
  <dc:language>en-US</dc:language>
  <cp:lastModifiedBy>Herman Peeters</cp:lastModifiedBy>
  <dcterms:modified xsi:type="dcterms:W3CDTF">2018-10-03T09:34:55Z</dcterms:modified>
  <cp:revision>14</cp:revision>
  <dc:subject/>
  <dc:title>‘ BELEEF JE EIGEN GROEI ’</dc:title>
</cp:coreProperties>
</file>