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5F5C1-78B3-4561-83E4-A56BCC04B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540A1-13BD-45F2-AEA9-97A609898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907E3-52ED-405E-8583-A0CF232E2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75DE6-E67F-4784-A15A-5541AC46B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2D49AD-FE84-4403-81A3-FC52C314F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4DECB-07FF-4514-A430-B52DA6656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221D4-DFA4-476D-BED2-3D085C2E3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ABDE7-3F5C-4D1B-A384-C5C16118F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E2ED2-4644-4037-83A6-1B7FDC935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DEAF9-F21E-4907-952F-D9BF928B6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099F2-AA09-4CE5-A451-A91629154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A75B1-3CBF-4E65-9E74-D819F8C79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E7BC3-4E80-433F-95A2-88415179B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5C4DD-9FF0-46A8-A92B-826A7A34D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55C31-36C4-4F12-9EBB-E532F747B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96535-ADD9-4D88-9A25-07D153393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1BB38-135D-4525-AF4D-F5359D34D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1CCB62-E56E-4770-86C8-062DCA1E7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BC49E-CA5E-4AC8-AB47-0054C4925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CEBBC-B3F9-409B-891F-7AE3C525B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BCF21-812F-4C20-9551-3437E01CA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2E518-0967-472C-AA2C-0EA4AB43A6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98C7E-669E-493A-AF0C-24B25DA90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76EA5-9FD5-4D08-9737-267D5C265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2D76DA-004E-4FEA-A6F2-3D3D2AA1C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9D492-9C24-4DEA-BFD6-03F5ED219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E027F-B821-49D4-B666-97EAF4D154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4CFDB8-145E-4BC3-9CBC-3F79D65D5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A471F3-7C53-4488-806F-18638CDE69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F81827-DBBA-4BD8-913B-DFCD2B67FB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516E92-00C0-4E08-8F15-A29A0AD7E4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DF5257-441C-4FBE-8E30-6CC36B2EB0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980B7-56E2-45F6-A16F-1FCD4C495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201F3-1D6F-428E-86C7-BE7BD7E53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931FD-788F-4C47-AA07-91FA1BAF3F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93871-692A-4ADA-A765-BD43B7D49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821C7-0C45-49C2-8E64-D8A4B3843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12863-0894-46FA-9F0E-F87B3E7B6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F11DF-4D0D-423E-8689-D5BC133C2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4AEA1-DECA-4A25-ADEA-03880001E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2A3F5C-B9F4-48E4-9CF1-92857E1B1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554AF9-7B45-4441-8F57-FA584DFFF5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B72811-31A8-4F7E-BDAD-6438345CDC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D06288-24D4-45A8-91EB-4F7159E5C8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DADD8-6A50-4098-94AA-4D7FF1B0A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7E3AE-000D-45F8-A5BB-2C368B6FA9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AD36D9-0B90-43FD-9375-9DC5DB76B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467FEB-CCDC-4DB0-99EB-12917F46FF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1235B-CA5D-4CB1-8D79-B91A1D892C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6735E1-600E-4A0B-8C18-E6FEFA8BE5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203D9-ABB7-45A2-A628-7F5259123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2A1CF0-BACB-4F60-BD1D-7E5C5C5CF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5D957-28E9-437A-B031-10EDEAC03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032DB-E9D6-4CAC-BF18-A84B1EF4C5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065CDF-7181-4AD2-B046-EB1DAFDC09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B7F3B-16B4-45B9-8F55-FD5940194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EE1EB2-6578-4BF3-81DA-CA7EBBB274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02222-9DDC-4347-95D2-44E32F433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7DDC-C20C-48D3-8740-E97846342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ECF09-253F-4ACE-8D6B-711DBF91C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136BC-A2A5-485C-B91B-F2986127C05F}"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3D5F5-8876-402F-B296-151C16B8655E}"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efede3"/>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F6BF3-4696-43BD-864C-BD36E1B6E7FF}" type="slidenum">
              <a:rPr b="0" lang="nl-NL"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864E9-FC76-4BE5-910A-7490370880F8}"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7AF18-67C8-480A-AA21-3D4246BABA8D}"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45800" y="4365360"/>
            <a:ext cx="7048440" cy="1150920"/>
          </a:xfrm>
          <a:prstGeom prst="rect">
            <a:avLst/>
          </a:prstGeom>
          <a:noFill/>
          <a:ln w="0">
            <a:noFill/>
          </a:ln>
        </p:spPr>
        <p:txBody>
          <a:bodyPr anchor="t">
            <a:noAutofit/>
          </a:bodyPr>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Franklin Gothic Book"/>
              </a:rPr>
              <a:t>Dementie is geen ziekte, maar een combinatie van een aantal verschijnselen (dementieel syndroom)</a:t>
            </a:r>
            <a:endParaRPr b="0" lang="en-US" sz="18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000" spc="-1" strike="noStrike">
                <a:solidFill>
                  <a:srgbClr val="191b0e"/>
                </a:solidFill>
                <a:latin typeface="Franklin Gothic Book"/>
              </a:rPr>
              <a:t>(Het verzorgen van ouderen thiememeulenhof, 2005)</a:t>
            </a:r>
            <a:endParaRPr b="0" lang="en-US" sz="10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p:txBody>
      </p:sp>
      <p:pic>
        <p:nvPicPr>
          <p:cNvPr id="219" name="Afbeelding 1" descr=""/>
          <p:cNvPicPr/>
          <p:nvPr/>
        </p:nvPicPr>
        <p:blipFill>
          <a:blip r:embed="rId1"/>
          <a:stretch/>
        </p:blipFill>
        <p:spPr>
          <a:xfrm>
            <a:off x="1743120" y="1447920"/>
            <a:ext cx="5654520" cy="29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Afbeelding 1" descr=""/>
          <p:cNvPicPr/>
          <p:nvPr/>
        </p:nvPicPr>
        <p:blipFill>
          <a:blip r:embed="rId1"/>
          <a:stretch/>
        </p:blipFill>
        <p:spPr>
          <a:xfrm>
            <a:off x="7164360" y="189000"/>
            <a:ext cx="1771560" cy="2590560"/>
          </a:xfrm>
          <a:prstGeom prst="rect">
            <a:avLst/>
          </a:prstGeom>
          <a:ln w="0">
            <a:noFill/>
          </a:ln>
        </p:spPr>
      </p:pic>
      <p:sp>
        <p:nvSpPr>
          <p:cNvPr id="241" name="Rechthoek 3"/>
          <p:cNvSpPr/>
          <p:nvPr/>
        </p:nvSpPr>
        <p:spPr>
          <a:xfrm>
            <a:off x="593640" y="1197000"/>
            <a:ext cx="7777080" cy="518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wordt passiever. Hij zit voorover gebogen in zijn stoel of loopt met schuifelende passen, de ogen ongericht, zonder doel, in zichzelf gekeer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ij heeft steeds minder het vermogen om initiatief te nemen en contact te maken. Emoties als schuldgevoelens, verliefdheid, wraak en jaloezie verdwijnen. Het wordt beperkt tot rust of onrust, boosheid of tevredenhei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oor de achteruitgang wordt het ook steeds moeilijker de gevoelens in woorden tot uiting te brengen. De zorgvrager kan dit alleen nog maar door middel van beweging en niet verstaanbare geluiden.</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In deze fase wordt vaak gedacht dat de zorgvrager  geen gevoelens meer heeft en er geen behoefte meer is aan contact. Maar niets is minder waar.</a:t>
            </a:r>
            <a:br>
              <a:rPr sz="1800"/>
            </a:br>
            <a:br>
              <a:rPr sz="1800"/>
            </a:br>
            <a:r>
              <a:rPr b="0" lang="nl-NL" sz="1800" spc="-1" strike="noStrike">
                <a:solidFill>
                  <a:srgbClr val="000000"/>
                </a:solidFill>
                <a:latin typeface="Arial"/>
              </a:rPr>
              <a:t>Neem de tijd en moeite, er gaat meer om in de zorgvrager om dan verwacht. Daarom heet deze fase ‘het verborgen ik’ .</a:t>
            </a:r>
            <a:endParaRPr b="0" lang="en-US" sz="1800" spc="-1" strike="noStrike">
              <a:solidFill>
                <a:srgbClr val="000000"/>
              </a:solidFill>
              <a:latin typeface="Franklin Gothic Book"/>
            </a:endParaRPr>
          </a:p>
        </p:txBody>
      </p:sp>
      <p:sp>
        <p:nvSpPr>
          <p:cNvPr id="242" name="PlaceHolder 1"/>
          <p:cNvSpPr>
            <a:spLocks noGrp="1"/>
          </p:cNvSpPr>
          <p:nvPr>
            <p:ph type="title"/>
          </p:nvPr>
        </p:nvSpPr>
        <p:spPr>
          <a:xfrm>
            <a:off x="1025640" y="188640"/>
            <a:ext cx="7200720" cy="1485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borg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44" name=""/>
          <p:cNvSpPr txBox="1"/>
          <p:nvPr/>
        </p:nvSpPr>
        <p:spPr>
          <a:xfrm>
            <a:off x="1028880" y="1628640"/>
            <a:ext cx="7200720" cy="472608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is zich alleen bewust van de zeer nabije omgeving. Kom rustig die omgeving in en praat, zing of neurie rustig terwijl je dit doet. Maak vervolgens contact door voorzichtig aanraken op de hand, arm of schouder.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om op ooghoogte en probeer oogcontact te m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ijk hoe de zorgvrager op je reageert en ga hier in mee door te praten, zingen, neuriën, aan te r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uit zich vaak door het herhalen van bewegingen en geluiden. Je kunt mee doen met het maken van dezelfde bewegingen en geluiden om contact te krijgen. Dit heet spiegel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Contactmomenten duren niet lang; liever regelmatig korte contacten dan één lang contactmoment.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Omdat de zorgvrager zelf geen initiatief meer kan nemen, maar nog wel de menselijke behoefte heeft aan contact is deze hierin volledig afhankelijk van ons. Voorkom eenzaamheid en isolatie door regelmatig even contact te maken. </a:t>
            </a:r>
            <a:r>
              <a:rPr b="0" lang="nl-NL" sz="1400" spc="-1" strike="noStrike">
                <a:solidFill>
                  <a:srgbClr val="191b0e"/>
                </a:solidFill>
                <a:latin typeface="Franklin Gothic Book"/>
              </a:rPr>
              <a:t>	</a:t>
            </a: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p:txBody>
      </p:sp>
      <p:pic>
        <p:nvPicPr>
          <p:cNvPr id="245" name="Afbeelding 3" descr=""/>
          <p:cNvPicPr/>
          <p:nvPr/>
        </p:nvPicPr>
        <p:blipFill>
          <a:blip r:embed="rId1"/>
          <a:stretch/>
        </p:blipFill>
        <p:spPr>
          <a:xfrm>
            <a:off x="6012000" y="333360"/>
            <a:ext cx="2800080" cy="16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Afbeelding 1" descr=""/>
          <p:cNvPicPr/>
          <p:nvPr/>
        </p:nvPicPr>
        <p:blipFill>
          <a:blip r:embed="rId1"/>
          <a:stretch/>
        </p:blipFill>
        <p:spPr>
          <a:xfrm>
            <a:off x="7348680" y="-320760"/>
            <a:ext cx="1771560" cy="2581200"/>
          </a:xfrm>
          <a:prstGeom prst="rect">
            <a:avLst/>
          </a:prstGeom>
          <a:ln w="0">
            <a:noFill/>
          </a:ln>
        </p:spPr>
      </p:pic>
      <p:sp>
        <p:nvSpPr>
          <p:cNvPr id="247" name="Rechthoek 3"/>
          <p:cNvSpPr/>
          <p:nvPr/>
        </p:nvSpPr>
        <p:spPr>
          <a:xfrm>
            <a:off x="611280" y="1557360"/>
            <a:ext cx="730404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is nog zo weinig in staat om zich te uiten, dat er geen wisselwerking meer kan zijn in het contact.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ligt in bed of in een aangepaste stoel en beweegt zich niet. De ogen gesloten of open ogen. De ogen drukken weinig meer uit. </a:t>
            </a:r>
            <a:br>
              <a:rPr sz="1800"/>
            </a:b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ervaart de wereld zintuiglijk, zonder dat gedachten of emoties daar een betekenis aan geven. Hij of zij ervaart de wereld  als koud, warm, lawaaierig, stil, rustig, vol licht, prettig of onprettig, etc.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ze zintuiglijke ervaringen roepen weliswaar geen gedachten meer op, maar kunnen wel leiden tot spanning of ontspanning.</a:t>
            </a:r>
            <a:endParaRPr b="0" lang="en-US" sz="1800" spc="-1" strike="noStrike">
              <a:solidFill>
                <a:srgbClr val="000000"/>
              </a:solidFill>
              <a:latin typeface="Franklin Gothic Book"/>
            </a:endParaRPr>
          </a:p>
        </p:txBody>
      </p:sp>
      <p:sp>
        <p:nvSpPr>
          <p:cNvPr id="248" name="PlaceHolder 1"/>
          <p:cNvSpPr>
            <a:spLocks noGrp="1"/>
          </p:cNvSpPr>
          <p:nvPr>
            <p:ph type="title"/>
          </p:nvPr>
        </p:nvSpPr>
        <p:spPr>
          <a:xfrm>
            <a:off x="929880" y="19836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zonk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50"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 zorgvrager ervaart alleen directe lichamelijke en zintuigelijke prikkels en zal hier niet of nauwelijks op reageren.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at weten dat je er bent door aanraken, praten, zingen of neuriën en het stimuleren van de zintuigen op andere manieren. Denk ook aan aromatherap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k al reageert de dementerende niet of nauwelijks, toch moeten we er vanuit gaan dat de basale menselijke behoefte aan contact en geborgenheid altijd blijft bestaan </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51" name="Afbeelding 3" descr=""/>
          <p:cNvPicPr/>
          <p:nvPr/>
        </p:nvPicPr>
        <p:blipFill>
          <a:blip r:embed="rId1"/>
          <a:stretch/>
        </p:blipFill>
        <p:spPr>
          <a:xfrm>
            <a:off x="6084720" y="506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Kenmerkende verschijnselen</a:t>
            </a:r>
            <a:endParaRPr b="0" lang="en-US" sz="4400" spc="-1" strike="noStrike">
              <a:solidFill>
                <a:srgbClr val="191b0e"/>
              </a:solidFill>
              <a:latin typeface="Franklin Gothic Book"/>
            </a:endParaRPr>
          </a:p>
        </p:txBody>
      </p:sp>
      <p:sp>
        <p:nvSpPr>
          <p:cNvPr id="221" name=""/>
          <p:cNvSpPr txBox="1"/>
          <p:nvPr/>
        </p:nvSpPr>
        <p:spPr>
          <a:xfrm>
            <a:off x="2700360" y="1699920"/>
            <a:ext cx="4262400" cy="3700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heugen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soriëntat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rdeels- en kritiek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fasie, apraxie en agnos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dra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Stemmin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Stadia van dementie</a:t>
            </a:r>
            <a:endParaRPr b="0" lang="en-US" sz="4400" spc="-1" strike="noStrike">
              <a:solidFill>
                <a:srgbClr val="191b0e"/>
              </a:solidFill>
              <a:latin typeface="Franklin Gothic Book"/>
            </a:endParaRPr>
          </a:p>
        </p:txBody>
      </p:sp>
      <p:sp>
        <p:nvSpPr>
          <p:cNvPr id="223" name=""/>
          <p:cNvSpPr txBox="1"/>
          <p:nvPr/>
        </p:nvSpPr>
        <p:spPr>
          <a:xfrm>
            <a:off x="1028880" y="1412640"/>
            <a:ext cx="7200720" cy="5111640"/>
          </a:xfrm>
          <a:prstGeom prst="rect">
            <a:avLst/>
          </a:prstGeom>
          <a:noFill/>
          <a:ln w="0">
            <a:noFill/>
          </a:ln>
        </p:spPr>
        <p:txBody>
          <a:bodyPr anchor="t">
            <a:normAutofit/>
          </a:bodyPr>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lzheimer Nederland benoemt er dr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roege fase (vergeetachtigheid)</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Midden fase (verwarring)</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te fase (ernstige dement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nl-NL" sz="4400" spc="-1" strike="noStrike">
              <a:solidFill>
                <a:srgbClr val="191b0e"/>
              </a:solidFill>
              <a:latin typeface="Franklin Gothic Book"/>
            </a:endParaRPr>
          </a:p>
        </p:txBody>
      </p:sp>
      <p:sp>
        <p:nvSpPr>
          <p:cNvPr id="225"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Bedreigde-ik (cognitiev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dwaalde-ik (emotionel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borgen-ik (psychomotorisch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zonken-ik (zintuigelijk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26" name="Afbeelding 2" descr=""/>
          <p:cNvPicPr/>
          <p:nvPr/>
        </p:nvPicPr>
        <p:blipFill>
          <a:blip r:embed="rId1"/>
          <a:stretch/>
        </p:blipFill>
        <p:spPr>
          <a:xfrm>
            <a:off x="1332000" y="4221000"/>
            <a:ext cx="6230880" cy="23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Over het algemeen geldt </a:t>
            </a:r>
            <a:endParaRPr b="0" lang="en-US" sz="4400" spc="-1" strike="noStrike">
              <a:solidFill>
                <a:srgbClr val="191b0e"/>
              </a:solidFill>
              <a:latin typeface="Franklin Gothic Book"/>
            </a:endParaRPr>
          </a:p>
        </p:txBody>
      </p:sp>
      <p:sp>
        <p:nvSpPr>
          <p:cNvPr id="228" name=""/>
          <p:cNvSpPr txBox="1"/>
          <p:nvPr/>
        </p:nvSpPr>
        <p:spPr>
          <a:xfrm>
            <a:off x="1028880" y="1915920"/>
            <a:ext cx="7200720" cy="4168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enader iedere dementerende als uniek persoon.</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lijf zien en waarderen wat de zorgvrager met dementie als mens voor jou kan betekenen. </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Dit gaat verder dan alleen het contact tussen zorgverlener en zorgvrager. </a:t>
            </a:r>
            <a:endParaRPr b="0"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Verdiep je in het levensverhaal en pas je benadering aan op de levensgeschiedenis en afkomst van de zorgvrager.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Observeer steeds de fase van ik-beleving en pas je benadering hierop aan.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Neem rustig de tijd om contact te maken, zeker bij dementie is haastige spoed nooit goed. </a:t>
            </a:r>
            <a:r>
              <a:rPr b="0" i="1" lang="nl-NL" sz="1900" spc="-1" strike="noStrike">
                <a:solidFill>
                  <a:srgbClr val="191b0e"/>
                </a:solidFill>
                <a:latin typeface="Arial"/>
                <a:ea typeface="Arial"/>
              </a:rPr>
              <a:t>	</a:t>
            </a:r>
            <a:endParaRPr b="0" i="1"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hthoek 3"/>
          <p:cNvSpPr/>
          <p:nvPr/>
        </p:nvSpPr>
        <p:spPr>
          <a:xfrm>
            <a:off x="1258920" y="2205000"/>
            <a:ext cx="718344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Arial"/>
              </a:rPr>
              <a:t>Bedreigde-ik</a:t>
            </a: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vergeetachtigheid neemt toe. Afspraken kunnen niet meer worden gemaakt, spullen raken kwijt en zelfs in de eigen omgeving weet de zorgvrager de weg niet meer goed.</a:t>
            </a: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zorgvrager weet nog wel het verschil tussen een vertrouwde omgeving of een vreemde omgeving. Ook familie en vrienden herkent de zorgvrager nog wel.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pic>
        <p:nvPicPr>
          <p:cNvPr id="230" name="Afbeelding 3" descr=""/>
          <p:cNvPicPr/>
          <p:nvPr/>
        </p:nvPicPr>
        <p:blipFill>
          <a:blip r:embed="rId1"/>
          <a:stretch/>
        </p:blipFill>
        <p:spPr>
          <a:xfrm>
            <a:off x="7093080" y="18900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32" name=""/>
          <p:cNvSpPr txBox="1"/>
          <p:nvPr/>
        </p:nvSpPr>
        <p:spPr>
          <a:xfrm>
            <a:off x="1028880" y="1928520"/>
            <a:ext cx="7200720" cy="4608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wanneer je de zorgvrager nog niet goed kent bewaar je wat  afstand. De zorgvrager geeft zelf aan hoe dichtbij je mag komen en hoe vertrouwelijk jullie met elkaar om kunnen gaan.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Maak altijd oogcontact.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Hou je aan de gewone omgangsvormen (niet kinderlijk of betuttelend).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Spreek aan met u en gebruik in eerste instantie de achternaam. </a:t>
            </a:r>
            <a:endParaRPr b="0" lang="en-US" sz="18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33" name="Afbeelding 3" descr=""/>
          <p:cNvPicPr/>
          <p:nvPr/>
        </p:nvPicPr>
        <p:blipFill>
          <a:blip r:embed="rId1"/>
          <a:stretch/>
        </p:blipFill>
        <p:spPr>
          <a:xfrm>
            <a:off x="6084720" y="290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hthoek 4"/>
          <p:cNvSpPr/>
          <p:nvPr/>
        </p:nvSpPr>
        <p:spPr>
          <a:xfrm>
            <a:off x="792000" y="1844640"/>
            <a:ext cx="7417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t denkvermogen gaat achteruit, de zorgvrager is niet langer in staat is om het verschil te zien tussen vroeger en nu, tussen bekende en onbekende situaties of personen.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Ervaringen met nieuwe situaties of personen roepen steeds vaker herinneringen op uit het verleden, die dan als de werkelijkheid ervaren worden. </a:t>
            </a:r>
            <a:endParaRPr b="0" lang="en-US" sz="1800" spc="-1" strike="noStrike">
              <a:solidFill>
                <a:srgbClr val="000000"/>
              </a:solidFill>
              <a:latin typeface="Franklin Gothic Book"/>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den en verleden gaan steeds meer door elkaar lopen. Zo worden kinderen soms verward met broers en zussen.</a:t>
            </a:r>
            <a:endParaRPr b="0" lang="en-US" sz="1800" spc="-1" strike="noStrike">
              <a:solidFill>
                <a:srgbClr val="000000"/>
              </a:solidFill>
              <a:latin typeface="Franklin Gothic Book"/>
            </a:endParaRPr>
          </a:p>
        </p:txBody>
      </p:sp>
      <p:pic>
        <p:nvPicPr>
          <p:cNvPr id="235" name="Afbeelding 1" descr=""/>
          <p:cNvPicPr/>
          <p:nvPr/>
        </p:nvPicPr>
        <p:blipFill>
          <a:blip r:embed="rId1"/>
          <a:stretch/>
        </p:blipFill>
        <p:spPr>
          <a:xfrm>
            <a:off x="7219800" y="95400"/>
            <a:ext cx="1762200" cy="2590560"/>
          </a:xfrm>
          <a:prstGeom prst="rect">
            <a:avLst/>
          </a:prstGeom>
          <a:ln w="0">
            <a:noFill/>
          </a:ln>
        </p:spPr>
      </p:pic>
      <p:sp>
        <p:nvSpPr>
          <p:cNvPr id="236" name="PlaceHolder 1"/>
          <p:cNvSpPr>
            <a:spLocks noGrp="1"/>
          </p:cNvSpPr>
          <p:nvPr>
            <p:ph type="title"/>
          </p:nvPr>
        </p:nvSpPr>
        <p:spPr>
          <a:xfrm>
            <a:off x="899640" y="14760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dwaalde-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38" name=""/>
          <p:cNvSpPr txBox="1"/>
          <p:nvPr/>
        </p:nvSpPr>
        <p:spPr>
          <a:xfrm>
            <a:off x="1023480" y="2043000"/>
            <a:ext cx="7201080" cy="457200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Kom rustig dichterbij in het gezichtsveld van de zorgvrager, maak dan oogcontact.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Toon een vriendelijk gezicht, een ontspannen houding en gebruik warme stemklank.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Spreek rustig met korte zinnen, ondersteun wat je zegt evt. met gebaren.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Lichamelijke nabijheid en fysiek contact door aanraken worden nu belangrijker. Aanraken doe je langzaam en rustig.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Er komt een moment waarop de zorgvrager zichzelf niet meer zal herkennen in de achternaam (of getrouwde naam), het is belangrijk dan de voornaam te gebruiken. Bespreek dit altijd eerst met de familie als team! </a:t>
            </a:r>
            <a:r>
              <a:rPr b="0" lang="nl-NL" sz="1900" spc="-1" strike="noStrike">
                <a:solidFill>
                  <a:srgbClr val="191b0e"/>
                </a:solidFill>
                <a:latin typeface="Franklin Gothic Book"/>
              </a:rPr>
              <a:t>	</a:t>
            </a: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pic>
        <p:nvPicPr>
          <p:cNvPr id="239" name="Afbeelding 3" descr=""/>
          <p:cNvPicPr/>
          <p:nvPr/>
        </p:nvPicPr>
        <p:blipFill>
          <a:blip r:embed="rId1"/>
          <a:stretch/>
        </p:blipFill>
        <p:spPr>
          <a:xfrm>
            <a:off x="6156360" y="404640"/>
            <a:ext cx="280044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21:12:08Z</dcterms:created>
  <dc:creator>matthies</dc:creator>
  <dc:description/>
  <dc:language>en-US</dc:language>
  <cp:lastModifiedBy>Dineke van der Ven</cp:lastModifiedBy>
  <dcterms:modified xsi:type="dcterms:W3CDTF">2020-06-19T12:28:49Z</dcterms:modified>
  <cp:revision>24</cp:revision>
  <dc:subject/>
  <dc:title>BP 3.3 Benaderingswijzen bij mensen met demen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6D71A905D156C4F9A8010B07B193A7A</vt:lpwstr>
  </property>
</Properties>
</file>