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B98-2BF6-4B93-B654-87A439CA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1189-54CD-4D7D-B653-88E044FB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774D-A6DE-4203-BA71-34306154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B6C5-920C-4A1D-AF2B-42428E1E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299-ACF2-46D8-92F7-9A186E02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6D34-F730-4674-8130-DB129B3A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D222-6AAC-4BDA-AE2A-0201D661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8DEF-C01A-43A8-80B0-2D944082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890F-603E-4E8A-A9C8-BD071363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24C-7120-4CB6-A18A-5F300B7E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29F2-1AFC-4F1E-A43A-BA45ABF7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B448-8D81-4F6E-BEC5-9A2034E2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C06F-4B47-4066-87AC-1BEFC03B889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Hoofdstuk 2 </a:t>
            </a:r>
            <a:br>
              <a:rPr sz="4400"/>
            </a:br>
            <a:r>
              <a:rPr b="1" lang="nl-NL" sz="4400" spc="-1" strike="noStrike">
                <a:solidFill>
                  <a:srgbClr val="33cc33"/>
                </a:solidFill>
                <a:latin typeface="Arial"/>
              </a:rPr>
              <a:t>Wetten en reg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iligheidssignalering</a:t>
            </a:r>
            <a:r>
              <a:rPr b="1" lang="nl-NL" sz="4800" spc="-1" strike="noStrike">
                <a:solidFill>
                  <a:srgbClr val="47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randbestrij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5181480" y="2670120"/>
            <a:ext cx="1590840" cy="1878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1603440" y="1749600"/>
            <a:ext cx="1620720" cy="1931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3"/>
          <a:stretch/>
        </p:blipFill>
        <p:spPr>
          <a:xfrm>
            <a:off x="3048120" y="3352680"/>
            <a:ext cx="987480" cy="866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4"/>
          <a:stretch/>
        </p:blipFill>
        <p:spPr>
          <a:xfrm>
            <a:off x="7467480" y="4343400"/>
            <a:ext cx="963720" cy="857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5"/>
          <a:stretch/>
        </p:blipFill>
        <p:spPr>
          <a:xfrm>
            <a:off x="3352680" y="52578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http://www.biname.be/images/produits/signalisation/signalweb.gif"/>
          <p:cNvPicPr/>
          <p:nvPr/>
        </p:nvPicPr>
        <p:blipFill>
          <a:blip r:embed="rId6"/>
          <a:stretch/>
        </p:blipFill>
        <p:spPr>
          <a:xfrm>
            <a:off x="7858080" y="14292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en aan dat er een gevaar is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lijk gebied aanduiden en/of af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bij hijswerkzaamhe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rkeringen komen voor in diverse vor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plakt of geschild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linten: wit-rood of geel-zw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od-witte hekken worden ook gebru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www.biname.be/images/produits/signalisation/barriere.gif"/>
          <p:cNvPicPr/>
          <p:nvPr/>
        </p:nvPicPr>
        <p:blipFill>
          <a:blip r:embed="rId1"/>
          <a:stretch/>
        </p:blipFill>
        <p:spPr>
          <a:xfrm>
            <a:off x="3581280" y="5334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www.biname.be/images/produits/signalisation/ballisage.gif"/>
          <p:cNvPicPr/>
          <p:nvPr/>
        </p:nvPicPr>
        <p:blipFill>
          <a:blip r:embed="rId2"/>
          <a:stretch/>
        </p:blipFill>
        <p:spPr>
          <a:xfrm>
            <a:off x="6477120" y="3962520"/>
            <a:ext cx="1137960" cy="1137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www.biname.be/images/produits/signalisation/conesweb.gif"/>
          <p:cNvPicPr/>
          <p:nvPr/>
        </p:nvPicPr>
        <p:blipFill>
          <a:blip r:embed="rId3"/>
          <a:stretch/>
        </p:blipFill>
        <p:spPr>
          <a:xfrm>
            <a:off x="7643880" y="214200"/>
            <a:ext cx="135720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l-zwarte mark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malle/lage doorga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 voor stoten (bijv. hijsblok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bieden met gevaarlijke stoff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tr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en streep in een afwijkende kleur geeft bovenste en/of de onderste trede 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le of witte stree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uikelgeva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inig onderscheid tussen vloer en traptr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Marker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e of witte strepen worden ook gebruikt om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te gev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doorgangen je moet vrijhoude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nnen welk gebied niet opgeslagen/gestapeld kan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B: voor het aangeven van een explosiegevaarlijke zone, wordt het waarschuwingsbord met de letters EX gebrui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934320" y="228600"/>
            <a:ext cx="1699920" cy="140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rbeidsplaatsen en projectloc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én werknemer moeten ongevallen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st voorkomende ongeval is onderuitgaan bij het lop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glijden, struikelen en verstap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-egale (niet vlakke) of losse ondergro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rwachte hoogteverschil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 hoge afst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osliggende teg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ladde vlo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geschikt schoeis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nnen in plaats van in normaal tempo lop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kom onveilige situaties </a:t>
            </a:r>
            <a:br>
              <a:rPr sz="2800"/>
            </a:br>
            <a:r>
              <a:rPr b="1" i="1" lang="nl-NL" sz="2800" spc="-1" strike="noStrike">
                <a:solidFill>
                  <a:srgbClr val="ff0000"/>
                </a:solidFill>
                <a:latin typeface="Arial"/>
              </a:rPr>
              <a:t>bronbestrij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besteden bij ontwerp en werkvoorber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iden van mens en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t behulp van een fysieke afschei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scheiden rij- en voetpa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sende verlich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Afbeelding 4" descr="Aquallure%201.jpg"/>
          <p:cNvPicPr/>
          <p:nvPr/>
        </p:nvPicPr>
        <p:blipFill>
          <a:blip r:embed="rId1"/>
          <a:stretch/>
        </p:blipFill>
        <p:spPr>
          <a:xfrm>
            <a:off x="5638680" y="346716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oorkom onveilige situaties</a:t>
            </a: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plichten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el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o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od housekeep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rdelijke en nett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nel verhelpen van onveilig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opletten tijdens het l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dingen dragen die het gezichtsveld hi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angegeven, voorziene wegen en paden    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past schoeisel 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an de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ing en k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eigen veiligheid en gezondheid en voor die van 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werken met werkgever en preventiedien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positieve bijdrage leveren aan he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ongewenst gedrag op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en van ongevallen, gevaren of bijna-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, voorlichting en instructies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Plichten van de werkne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werkwijz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goede manier gebruik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ines, toestellen, gereedschapp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arlijke stoffen, vervoermiddelen 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dere midd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brachte beveilig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t veranderen of wegh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 juiste wijze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beschermingsmidde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 de goede manier gebruik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vuldi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der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Rechten van de werkneme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eilige en gezonde werk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e over de veiligheid e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ei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breking van werk bij ernsti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oor me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fbeelding 7" descr="werkonderbreking_ns_personeel_425.jpg"/>
          <p:cNvPicPr/>
          <p:nvPr/>
        </p:nvPicPr>
        <p:blipFill>
          <a:blip r:embed="rId1"/>
          <a:stretch/>
        </p:blipFill>
        <p:spPr>
          <a:xfrm>
            <a:off x="6029280" y="3206880"/>
            <a:ext cx="31082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plichte risicobehee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 is verplicht de Europese Richtlijnen te vol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wetgeving gaat zelfs verd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Arbo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scherming veiligheid en gezondhe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en voor werkgevers én werknem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heid houdt toezicht op nal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diensten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nspectie SZ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ge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5 Deskundige bij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mo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interne preventiedienst opri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of meer deskundig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skundi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drijfsa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8840" indent="-3812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het bedrijf zelf niet over de nodige deskundigheid beschikt: externe bijstand inschake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Bedrijfsgezondheidsz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drijfsarts is belangr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beoorde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sbesche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is verantwoordelij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in de gelegenheid stellen om periodiek, onderzoek te ondergaan om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risico’s te signale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zondheidsrisico’s te voorkomen en te beper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6 Toezicht op V+G wetge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spectiediensten, waaronder de inspectie SZW, hebben de volgende taken en rech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controleren naleven van de wetge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isen naleving van de 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ngevallen onderzo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illeggen werk bij ernstig geva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ces-verbaal schrijven bij strafbaar f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ragen geldige legitimati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15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zoeken van alle werkplek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MPj04373830000[1]"/>
          <p:cNvPicPr/>
          <p:nvPr/>
        </p:nvPicPr>
        <p:blipFill>
          <a:blip r:embed="rId1"/>
          <a:srcRect l="0" t="0" r="35723" b="0"/>
          <a:stretch/>
        </p:blipFill>
        <p:spPr>
          <a:xfrm>
            <a:off x="6975360" y="2154240"/>
            <a:ext cx="2168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7 Milieuwetge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 en omgeving beschermen te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chadelijke gevolgen van activit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itstoot milieubelastende stoffen en afvalstromen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doelmatige en correcte verwijdering van afval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8 Arbeidstijdenw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dat de veiligheid en de gezondheid van werknemers in gevaar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maximale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rbeidstij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geven </a:t>
            </a:r>
            <a:r>
              <a:rPr b="1" lang="nl-NL" sz="2200" spc="-1" strike="noStrike">
                <a:solidFill>
                  <a:srgbClr val="33cc33"/>
                </a:solidFill>
                <a:latin typeface="Arial"/>
              </a:rPr>
              <a:t>minimale</a:t>
            </a:r>
            <a:r>
              <a:rPr b="1" lang="nl-NL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usttij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rderen dat werken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aken/gezin gecombineer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unnen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6400800" y="3749760"/>
            <a:ext cx="2736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Verplichte risicobehee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tionale wetgeving veiligheid en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ichten van de werkn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e bij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op V&amp;G-wet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wet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1 Invloed van Euro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 is lid van de Europese U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plicht de Europese richtlijnen te vol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wetten moeten zo nodig worden aangep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voorbeeld CE-marker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-markering op machines en PB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.b.t. veiligheid voldoen CE-producten aan de betreffende Europese richtl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CE-gemarkeerde arbeidsmiddelen mogen op de markt worden gebracht en worden gebruik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6559560" y="6480"/>
            <a:ext cx="27241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2 Nationale wetgeving </a:t>
            </a:r>
            <a:br>
              <a:rPr sz="2800"/>
            </a:b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over veilig en gezond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eidsomstandighedenwet i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langrijkste wet op het gebied va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en gezondheid bij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k wel </a:t>
            </a:r>
            <a:r>
              <a:rPr b="1" lang="nl-NL" sz="2200" spc="-1" strike="noStrike">
                <a:solidFill>
                  <a:srgbClr val="cc0000"/>
                </a:solidFill>
                <a:latin typeface="Arial"/>
              </a:rPr>
              <a:t>Arbowe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genoem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 werknemers bij het werk bescherm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verbeteren van de veilighei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borgen van de gezondheid en het welzij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 goed mogelijke arbeidsomstandigheden op alle plaatsen waar gewerkt word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Arbow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rbowet geeft plichten aan werkgevers én werknem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  <a:ea typeface="Arial"/>
              </a:rPr>
              <a:t>werkge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rkgever van het bedrijf waar je in dienst b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aar ook degene die jou aanwijzingen geeft, toezicht houdt en middelen verstre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werknem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s in vaste/tijdelijke dien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itzendkrach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agiai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280080">
              <a:lnSpc>
                <a:spcPct val="90000"/>
              </a:lnSpc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willig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3 Plichten van de werkg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werk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t dat de werknemer veilig werkt 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gezondheidsschade oploopt door het werk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ls de werkgever dat niet goed doet, kan hij gestraft worden en zal hij de schade aan de werknemer moeten vergoe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et alle gevaren in kaart bre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isico-inventarisatie en -evaluatie (RI&amp;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rgen dat de risico’s worden beheerst (plan van aanpak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33360" y="1500120"/>
            <a:ext cx="6948720" cy="4633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cc33"/>
                </a:solidFill>
                <a:latin typeface="Arial"/>
              </a:rPr>
              <a:t>2.3 Plichten van de werkg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43000" y="152388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160" y="1752120"/>
            <a:ext cx="6172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Arial"/>
                <a:ea typeface="Arial"/>
              </a:rPr>
              <a:t>staat de werkgever voor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33cc33"/>
                </a:solidFill>
                <a:latin typeface="Arial"/>
              </a:rPr>
              <a:t>Veiligheidssignalering</a:t>
            </a:r>
            <a:r>
              <a:rPr b="0" lang="nl-NL" sz="4800" spc="-1" strike="noStrike">
                <a:solidFill>
                  <a:srgbClr val="47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http://www.pictoshop.nl/pictogrammen2009.gif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2000160"/>
            <a:ext cx="91440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2:38:54Z</dcterms:created>
  <dc:creator>jrijdes</dc:creator>
  <dc:description/>
  <dc:language>en-US</dc:language>
  <cp:lastModifiedBy>Mechteld de Coo</cp:lastModifiedBy>
  <dcterms:modified xsi:type="dcterms:W3CDTF">2015-09-28T08:16:23Z</dcterms:modified>
  <cp:revision>74</cp:revision>
  <dc:subject/>
  <dc:title>PowerPoint-presentatie</dc:title>
</cp:coreProperties>
</file>