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jpeg" ContentType="image/jpeg"/>
  <Override PartName="/ppt/media/image3.wmf" ContentType="image/x-wmf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939-D86D-4E35-B7E7-B746BA03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6CD-C52A-43D4-A1C9-1202BB9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CBE-4457-43C8-A8CC-3588F569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270-CF26-4DDB-8A89-6602E39E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BF71-6FB9-4E2D-9C8C-93756A94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E6F5-C955-4D31-9092-0EABA452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251D-B61F-4B3C-BC0F-EA942F8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CC6D-00EC-4AD1-89DF-B9D6DDE8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EDBA-B9CC-4E14-84B4-71DBFA19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FC31-ACDE-407D-B7E9-8E68252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8A9A-EE5D-4F75-8B6F-09D2E0A4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CFA-CEFA-49CB-9E51-3BFA967A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E296-B73E-443E-A38B-34734BA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65CC-3CD7-45B4-BF5E-1E73485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1165-902E-41B7-945D-30D9EE9D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C120-A54D-40BD-807F-961F49F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99B-B395-4DBC-9ECA-6BD9D4FF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6C0EB-2EE5-4E70-AEE1-B2159AAF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FA07-0DB8-4456-A80D-DCF25149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9134-FC48-40F2-91B7-7AA1B244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ECE2-4D02-4B85-9DCF-00C5FFCE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015B-6F37-4A8D-8CAB-0D909233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1AE-CC79-446A-B004-1CD35685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4FF5-3877-434A-9DE4-AAEED711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DF34-1EDD-4792-BDED-D1649F0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BFB9-25EF-4495-8015-446CD6E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D36F5-7962-4550-A70E-9A20B77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35AFE-DF95-4B03-8799-4EDE8021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265D-E0A6-4EAD-A865-5492B924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EF31-4C8B-472E-94A4-3E0DCEAF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756-76A0-4E03-B0B4-EB76F22C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6A4-3338-4EF2-B5FF-62BBC207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99B-DDE2-4A06-B773-A8E425C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408-3B3C-4146-A7C3-3A788404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D4C-5331-4843-B9EE-8D1B69E4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CAE-F6CF-4CFC-8644-1C85E6B0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09D6-C898-401E-B90C-72448BE4EAB0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3934-A927-4BBB-B151-A2C2EA05BAE8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B944-090B-4982-BB29-A090E0F28A5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aned.nl/index.php?id=289&amp;L=10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71680" y="500040"/>
            <a:ext cx="8286480" cy="36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b844"/>
                </a:solidFill>
                <a:latin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Hoofdstuk 4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Gevaarlijke stoffen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ab844"/>
                </a:solidFill>
                <a:latin typeface="Arial"/>
              </a:rPr>
              <a:t>directe en sluipende gevar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D52-71A4-44FE-8E7C-9E49BB58E19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8335800" y="291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2D10-038A-4DB8-BFC8-CABCA6A4ACC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785960" y="2071800"/>
            <a:ext cx="5441760" cy="4057560"/>
          </a:xfrm>
          <a:prstGeom prst="rect">
            <a:avLst/>
          </a:prstGeom>
          <a:ln w="0">
            <a:noFill/>
          </a:ln>
        </p:spPr>
      </p:pic>
      <p:sp>
        <p:nvSpPr>
          <p:cNvPr id="217" name="Rechthoek 5"/>
          <p:cNvSpPr/>
          <p:nvPr/>
        </p:nvSpPr>
        <p:spPr>
          <a:xfrm>
            <a:off x="571680" y="11430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inhoud van de gascilinder is te zi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kleur op de bovenkant (schouder) van de cilind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smaatregelen bij opslag gascilinders: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6E04-87D0-4C78-9F29-4E07477A38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6ab844"/>
                </a:solidFill>
                <a:latin typeface="Arial"/>
              </a:rPr>
              <a:t>4.3 Gascilinder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4 Gassen en dampen herkenn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1680" y="135684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eel gassen en dampen, verdampte vloeistoffe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bben geen kleur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kenning door g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aar als je niets ruikt of ziet, kan er toch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as of damp aanwezig zijn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8C7-4C0F-489B-924A-5F3E72CC34F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8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Reukgren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71320" y="120456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f iets sterk ruikt of zwak, hangt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f van de concentratie in de lu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mmige gassen of dampen zijn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elemaal reuklo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em, zoals bij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olmonoxid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560" indent="-245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arlijks vele doden door bijvoorbeel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cht werkende gasgeis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C680-7697-4DAA-B554-5F601840A87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Afbeelding 4" descr="wlimageimage_253.jpg"/>
          <p:cNvPicPr/>
          <p:nvPr/>
        </p:nvPicPr>
        <p:blipFill>
          <a:blip r:embed="rId2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75006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5 Werken met 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320" y="1214280"/>
            <a:ext cx="8942040" cy="456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one stoffen in huis (bijv. schoonmaakmiddel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verven) kunnen meer schade aanrichten dan een gevaarlijke stof, waar je heel voorzichtig mee omg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FD03-F041-43D4-A467-171B7B7F20A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85960" y="357192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www.rivm.nl/jeugdgezondheid/images/veiligheid.jpg"/>
          <p:cNvPicPr/>
          <p:nvPr/>
        </p:nvPicPr>
        <p:blipFill>
          <a:blip r:embed="rId3"/>
          <a:stretch/>
        </p:blipFill>
        <p:spPr>
          <a:xfrm>
            <a:off x="5072040" y="3571920"/>
            <a:ext cx="2438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Aandachtspunt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voor veilig werken met gevaarlijke stoff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428480"/>
            <a:ext cx="7000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 alle werkzaamheden naga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de schadelijke effecten ontst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mogelijke schadelijke gevolgen zij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risico’s kunt verklei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oe je jezelf kunt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5960" indent="-267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t je moet doen in nood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F383-70E3-45EA-A22B-B69DF7E1DA5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1428480"/>
            <a:ext cx="757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uishou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6EAB-8D0F-45B6-BFD7-EE88FD2A5E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C:\Users\Eigenaar\AppData\Local\Microsoft\Windows\Temporary Internet Files\Content.IE5\X3JDBKQA\MCj03343160000[1].wmf"/>
          <p:cNvPicPr/>
          <p:nvPr/>
        </p:nvPicPr>
        <p:blipFill>
          <a:blip r:embed="rId2"/>
          <a:stretch/>
        </p:blipFill>
        <p:spPr>
          <a:xfrm>
            <a:off x="7321680" y="208080"/>
            <a:ext cx="16030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9450-3A98-4CA3-966D-88B6EFD6556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2"/>
          <a:stretch/>
        </p:blipFill>
        <p:spPr>
          <a:xfrm>
            <a:off x="752400" y="878040"/>
            <a:ext cx="72151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71320" y="128556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el verschillende stoffen ‘biologisch’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ak vervelende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68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5AC3-EB72-4107-81CA-19986147E49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Afbeelding 4" descr="biohazard.png"/>
          <p:cNvPicPr/>
          <p:nvPr/>
        </p:nvPicPr>
        <p:blipFill>
          <a:blip r:embed="rId2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6 Stoffen en hun gevaren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168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eel verwerkt in gebouwen en install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 thermische isola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 (af)bouwproduc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 onderdelen als remvoeringen en pakk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ziektebeelden, ook lang na blootst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o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ngkank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sothelioom (long-, buikvlieskank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ine vezels geven de probl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440" indent="-252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erdere behandeling in hoofdstuk 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DC8-92D7-4BD7-AB24-51C05F2C6A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500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vaarlijke stoff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71320" y="1285560"/>
            <a:ext cx="67863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CFAF-EEC9-4673-BB16-1B89FC441F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254720" y="0"/>
            <a:ext cx="1889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320" y="1071360"/>
            <a:ext cx="8429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chade van stoffen ontstaat als z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je lichaam raken en vooral als ze je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am binnendringen do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denk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, gassen en nevels gemakkelijk je hele lichaam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unnen bere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858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oeistoffen in kledingstukken kunnen trekken en d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ventueel na verdamping) langdurig in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8667-FC3A-46C8-92E1-24F69B6289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071360"/>
            <a:ext cx="84297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83A5-5810-41BC-B9C3-25D94E44E10D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714240" y="1714680"/>
            <a:ext cx="786636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http://www.spirxpert.com/brreactiviteit/bitmaps/airways.gif"/>
          <p:cNvPicPr/>
          <p:nvPr/>
        </p:nvPicPr>
        <p:blipFill>
          <a:blip r:embed="rId3"/>
          <a:stretch/>
        </p:blipFill>
        <p:spPr>
          <a:xfrm>
            <a:off x="4500720" y="3500280"/>
            <a:ext cx="2571480" cy="2775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http://www.beautycentre-renaissance.nl/images/huid.png"/>
          <p:cNvPicPr/>
          <p:nvPr/>
        </p:nvPicPr>
        <p:blipFill>
          <a:blip r:embed="rId4"/>
          <a:stretch/>
        </p:blipFill>
        <p:spPr>
          <a:xfrm>
            <a:off x="1857240" y="4500720"/>
            <a:ext cx="2433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320" y="1147320"/>
            <a:ext cx="8429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nst van de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e gevaarlijk is de stof en hoeveel komt in het licha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ur blootst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consumptie ( zwaar werk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fvorm (gas, damp, poeder, vloeistof, neve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tgesteld huidoppervlak en kenmerken van die h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is de belastbaarheid en weerstand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i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ftijd en gezondh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cc99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3190-4E10-4464-90FD-C4D1C7329A42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57880" cy="55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7 Gezondheidsschade (4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320" y="1066320"/>
            <a:ext cx="82580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oorten vergiftigingen en 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vergifti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u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direct, meestal flinke d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s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langdurige blootstelling aan lage concentr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24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en effec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stof en concentratie en persoon zijn veel effecten mogelij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fdpijn, duizeligheid, evenwichtstoornissen(!) maagkrampen, misselijkheid en braken, hartkloppingen, en benauwdheid, wazig of dubbel z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 kan ernstige schade optreden aan systemen en organen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D481-3746-4B76-8170-046B12D970ED}" type="slidenum"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8 Bronbenadering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m schade te voorkomen en te beperk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97AC-23F2-4C73-B476-129FFDDB155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869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9 Bedrijfsmatige 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320" y="128556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neer gevaarlijke stoffen in 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omgeving voorkomen, moeten d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8120" indent="-3524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D450-A3FA-4004-8167-4FEE11FAD62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1680" y="15714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persoonlijke hygiëne en kled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1C0-475E-4EA4-9510-BA5C030178C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15" descr="http://www.arbostore.eu/UserFiles/Image/x_06970273.jpg"/>
          <p:cNvPicPr/>
          <p:nvPr/>
        </p:nvPicPr>
        <p:blipFill>
          <a:blip r:embed="rId2"/>
          <a:stretch/>
        </p:blipFill>
        <p:spPr>
          <a:xfrm>
            <a:off x="7572240" y="214200"/>
            <a:ext cx="1443240" cy="1928880"/>
          </a:xfrm>
          <a:prstGeom prst="rect">
            <a:avLst/>
          </a:prstGeom>
          <a:ln w="0">
            <a:noFill/>
          </a:ln>
        </p:spPr>
      </p:pic>
      <p:sp>
        <p:nvSpPr>
          <p:cNvPr id="278" name="Titel 1"/>
          <p:cNvSpPr/>
          <p:nvPr/>
        </p:nvSpPr>
        <p:spPr>
          <a:xfrm>
            <a:off x="571680" y="142920"/>
            <a:ext cx="70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2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grenswaarde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676160"/>
            <a:ext cx="89424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veel stoffen is een veili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nswaarde vastgestel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A4A1-B396-4EBE-809D-6FDED39DEE6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11" descr="http://www.msaned.nl/uploads/tx_comacatalog/AUERPPMStatic1_09.jpg">
            <a:hlinkClick r:id="rId2"/>
          </p:cNvPr>
          <p:cNvPicPr/>
          <p:nvPr/>
        </p:nvPicPr>
        <p:blipFill>
          <a:blip r:embed="rId3">
            <a:lum bright="-20000"/>
          </a:blip>
          <a:srcRect l="35170" t="0" r="33203" b="0"/>
          <a:stretch/>
        </p:blipFill>
        <p:spPr>
          <a:xfrm>
            <a:off x="7743960" y="0"/>
            <a:ext cx="1400040" cy="2214720"/>
          </a:xfrm>
          <a:prstGeom prst="rect">
            <a:avLst/>
          </a:prstGeom>
          <a:ln w="0">
            <a:noFill/>
          </a:ln>
        </p:spPr>
      </p:pic>
      <p:sp>
        <p:nvSpPr>
          <p:cNvPr id="283" name="Tekstvak 6"/>
          <p:cNvSpPr/>
          <p:nvPr/>
        </p:nvSpPr>
        <p:spPr>
          <a:xfrm>
            <a:off x="571680" y="304488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voor beroepsmatige blootstelling geld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de grenswaarde is de maximale concentratie van een gevaarlijke stof  als tijdgewogen gemiddelde over een referentieperiode, waarboven geen enkele werknemer blootgesteld mag word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tel 1"/>
          <p:cNvSpPr/>
          <p:nvPr/>
        </p:nvSpPr>
        <p:spPr>
          <a:xfrm>
            <a:off x="571680" y="14292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4.9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Bedrijfsmatige</a:t>
            </a:r>
            <a:r>
              <a:rPr b="1" lang="en-US" sz="2400" spc="-1" strike="noStrike">
                <a:solidFill>
                  <a:srgbClr val="6ab844"/>
                </a:solidFill>
                <a:latin typeface="Arial"/>
                <a:ea typeface="Arial"/>
              </a:rPr>
              <a:t> beheersing  (3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429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elasting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320" y="157176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, condities voor grenswaa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6480" indent="-277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921-F53B-4991-AD7B-5E5B4481B7F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11" descr="http://www.msaned.nl/uploads/tx_comacatalog/AUERPPMStatic1_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36040" y="-6480"/>
            <a:ext cx="1414440" cy="2225880"/>
          </a:xfrm>
          <a:prstGeom prst="rect">
            <a:avLst/>
          </a:prstGeom>
          <a:ln w="0">
            <a:noFill/>
          </a:ln>
        </p:spPr>
      </p:pic>
      <p:sp>
        <p:nvSpPr>
          <p:cNvPr id="289" name="Titel 1"/>
          <p:cNvSpPr/>
          <p:nvPr/>
        </p:nvSpPr>
        <p:spPr>
          <a:xfrm>
            <a:off x="571680" y="0"/>
            <a:ext cx="666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ageren op lekkages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752480"/>
            <a:ext cx="82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jken naar de oorzaken en die aanpa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728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CA58-BF1E-4495-AE9C-1B83F9D2920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itel 1"/>
          <p:cNvSpPr/>
          <p:nvPr/>
        </p:nvSpPr>
        <p:spPr>
          <a:xfrm>
            <a:off x="571680" y="0"/>
            <a:ext cx="814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5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 1 Gevaarlijke stoffen</a:t>
            </a:r>
            <a:r>
              <a:rPr b="0" lang="en-US" sz="2800" spc="-1" strike="noStrike">
                <a:solidFill>
                  <a:srgbClr val="6ab844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irecte en sluipende gevar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680" y="1428480"/>
            <a:ext cx="837072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820F-2668-4059-8918-072EDFDD6B2F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65005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ekkages beheersen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1680" y="142848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elmatig controleren of de installati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orde i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e personeel voor bedieningswerkzaamheden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én reparatie goed opleide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ldoende grote lekbakken onder tan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ra aandacht voor belangrijke oorzake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92560" indent="-254520">
              <a:spcBef>
                <a:spcPts val="476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8CD7-AD40-4E71-84D0-5659B5D5C8D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10"/>
          <p:cNvPicPr/>
          <p:nvPr/>
        </p:nvPicPr>
        <p:blipFill>
          <a:blip r:embed="rId2"/>
          <a:stretch/>
        </p:blipFill>
        <p:spPr>
          <a:xfrm>
            <a:off x="7175520" y="-6480"/>
            <a:ext cx="1974960" cy="2011320"/>
          </a:xfrm>
          <a:prstGeom prst="rect">
            <a:avLst/>
          </a:prstGeom>
          <a:ln w="0">
            <a:noFill/>
          </a:ln>
        </p:spPr>
      </p:pic>
      <p:sp>
        <p:nvSpPr>
          <p:cNvPr id="298" name="Titel 1"/>
          <p:cNvSpPr/>
          <p:nvPr/>
        </p:nvSpPr>
        <p:spPr>
          <a:xfrm>
            <a:off x="571680" y="0"/>
            <a:ext cx="657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6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856800"/>
            <a:ext cx="78865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ologische besmett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642680"/>
            <a:ext cx="79135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reiging door bacteriën, virussen 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immels kan in sommige omstandighe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biologische besmettingdreiging extra preventieve maatregelen nem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52080" indent="-35208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naast gebruikelijke besche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17400" indent="-26532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F4D-17B5-4DA0-9022-AA728F497BC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Afbeelding 4" descr="genomicsBacterien.jpg"/>
          <p:cNvPicPr/>
          <p:nvPr/>
        </p:nvPicPr>
        <p:blipFill>
          <a:blip r:embed="rId2"/>
          <a:stretch/>
        </p:blipFill>
        <p:spPr>
          <a:xfrm>
            <a:off x="7186680" y="-6480"/>
            <a:ext cx="1963800" cy="2371680"/>
          </a:xfrm>
          <a:prstGeom prst="rect">
            <a:avLst/>
          </a:prstGeom>
          <a:ln w="0">
            <a:noFill/>
          </a:ln>
        </p:spPr>
      </p:pic>
      <p:sp>
        <p:nvSpPr>
          <p:cNvPr id="303" name="Titel 1"/>
          <p:cNvSpPr/>
          <p:nvPr/>
        </p:nvSpPr>
        <p:spPr>
          <a:xfrm>
            <a:off x="571680" y="0"/>
            <a:ext cx="63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  <a:ea typeface="Arial"/>
              </a:rPr>
              <a:t>4.9 Bedrijfsmatige beheersing  (7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1 Indeling gevaarlijke stoff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456920"/>
            <a:ext cx="84420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t ontvlamba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ontvlamba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1873-A5EB-4177-9A7B-350DF306AE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571680" y="11430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indeling in categorie met bijbehorend etike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4.2 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Herkennen van gevaarlijke stoffen </a:t>
            </a:r>
            <a:br>
              <a:rPr sz="2800"/>
            </a:b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en het gevaar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915920" y="1356840"/>
            <a:ext cx="7227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de gevaren van een stof zijn, kun je zien aan het gevareneti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geven de betekenis van de etiketten en voorbeelden van stoffen met dat geva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888-FFF2-4EA8-81A1-86C92D9D5C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1143000" cy="116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857160" y="3071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857160" y="4357800"/>
            <a:ext cx="1179720" cy="1216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5"/>
          <a:stretch/>
        </p:blipFill>
        <p:spPr>
          <a:xfrm>
            <a:off x="2286000" y="4357800"/>
            <a:ext cx="108756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6"/>
          <a:stretch/>
        </p:blipFill>
        <p:spPr>
          <a:xfrm>
            <a:off x="3571920" y="4357800"/>
            <a:ext cx="112536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7"/>
          <a:stretch/>
        </p:blipFill>
        <p:spPr>
          <a:xfrm>
            <a:off x="4932360" y="4357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8"/>
          <a:stretch/>
        </p:blipFill>
        <p:spPr>
          <a:xfrm>
            <a:off x="6286680" y="4357800"/>
            <a:ext cx="1137960" cy="1120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9"/>
          <a:stretch/>
        </p:blipFill>
        <p:spPr>
          <a:xfrm>
            <a:off x="7643880" y="4286160"/>
            <a:ext cx="1160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14320" y="107172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ev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maar bijvoorbeeld door een schok of verhitting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munitie, TNT, buskru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licht en licht ontvlambar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; bijvoorbeeld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benzine, acet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rende of brandbevord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; bijvoorbeeld </a:t>
            </a:r>
            <a:br>
              <a:rPr sz="2200"/>
            </a:b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waterstofperoxide (zuurstofwater), ozon, zuurst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4720" indent="-41472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5E61-6B95-42BA-B1F3-11BFC5F2E9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285840" y="835200"/>
            <a:ext cx="1768320" cy="1785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762120" y="297180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762120" y="4495680"/>
            <a:ext cx="9284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14320" y="1071360"/>
            <a:ext cx="78008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er giftige en giftig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jvoorbeel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CO (kolendamp), (H2S), </a:t>
            </a:r>
            <a:r>
              <a:rPr b="0" lang="en-US" sz="2200" spc="-1" strike="noStrike">
                <a:solidFill>
                  <a:srgbClr val="c0163a"/>
                </a:solidFill>
                <a:latin typeface="Arial"/>
              </a:rPr>
              <a:t>methanol, benz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de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gelijkbaar met giftige stoffe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rschijnselen minder ernstig dan giftige stoffen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ar: inademen, inslikken of huidcontact; bijvoorbeel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verf, lak, houtbescherm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2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t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ntasting huid, ogen, longen en kleding bij contac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 bijvoorbeeld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c0163a"/>
                </a:solidFill>
                <a:latin typeface="Arial"/>
              </a:rPr>
              <a:t>zuren, zoals salpeterzuur, zoutzuur en basen (loog), zoals natronloo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480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F47C-6C87-49DE-9F53-A28924FADF3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816120" cy="85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838080" y="2895480"/>
            <a:ext cx="857520" cy="870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838080" y="48006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4865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785600" y="1142640"/>
            <a:ext cx="78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ere werking dan bijtende producten, kunnen ontstekingen veroorzaken bij huidcontact en op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jmvliezen; bijvoorbeeld: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dikke bleek, ammon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1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gevaarlijk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voor het milieu en voor dieren; bijvoorbeeld</a:t>
            </a:r>
            <a:r>
              <a:rPr b="0" lang="nl-NL" sz="22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chloorfluorkoolwaterstoffen (cfk’s), pestic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ensibiliserende stoff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2080" indent="-2700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bepaalde harsen en kleurmiddelen, sommige verven, metaalbehandelingsmiddelen, </a:t>
            </a:r>
            <a:br>
              <a:rPr sz="2200"/>
            </a:b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haarkleur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656-5092-4D69-9A27-F1978AB3665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712800" y="1214280"/>
            <a:ext cx="942840" cy="928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942840" cy="9284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5578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Gevaa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71320" y="1285560"/>
            <a:ext cx="82674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de vervoeretiketten van gevaarlijke stoff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6ab8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75DA-B478-49D9-8AC3-A27DB7D908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214720" y="518148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000840" y="5181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072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28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b844"/>
                </a:solidFill>
                <a:latin typeface="Arial"/>
              </a:rPr>
              <a:t>Vervoeretikett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Tekstvak 8"/>
          <p:cNvSpPr/>
          <p:nvPr/>
        </p:nvSpPr>
        <p:spPr>
          <a:xfrm>
            <a:off x="1714680" y="4467240"/>
            <a:ext cx="28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brandbare vast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hthoek 10"/>
          <p:cNvSpPr/>
          <p:nvPr/>
        </p:nvSpPr>
        <p:spPr>
          <a:xfrm>
            <a:off x="5645880" y="4467240"/>
            <a:ext cx="210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ontplofbare stof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20:52Z</dcterms:modified>
  <cp:revision>135</cp:revision>
  <dc:subject/>
  <dc:title>Taak en positie VFP</dc:title>
</cp:coreProperties>
</file>