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87F-0F13-41C4-B291-47E409FF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B41-E256-42C7-A1CF-2BAF1198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445-DF1C-4D89-BE63-9B06DEF3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FC2-BA26-4715-BEF8-8FAEE2C8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C0F-0837-41EC-A4BD-FE124311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C48-56B7-455F-97B3-0C7CB161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926-B952-476F-9419-9B167857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20D-5A55-43F9-A047-08FCEDA5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345-28F5-48E9-B939-27B3F24A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848-4C51-4B17-BA15-6F0F35AD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5A2-51B1-4F13-9BC2-B1140CC8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23B-B6E8-4EB1-9A14-DA8CB950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6A07-958B-4FBF-BDF9-F7DAEC35E73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4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Brand en explosie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ene stof brandt gemakkelijker d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: vlampunt is maat voor brand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g vlampu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hoog brandgeva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ampu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of de ‘ontvlammingstemperatuur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laagste temperatuur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ij vloeistof zoveel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ontvlambare damp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wikkelt, dat deze in de aanwezige lucht onder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normale luchtomstandigheden</a:t>
            </a:r>
            <a:r>
              <a:rPr b="0" lang="nl-NL" sz="2200" spc="-1" strike="noStrike">
                <a:solidFill>
                  <a:srgbClr val="47ffff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een vlam of vonk </a:t>
            </a:r>
            <a:r>
              <a:rPr b="0" lang="nl-NL" sz="2200" spc="-1" strike="noStrike">
                <a:solidFill>
                  <a:srgbClr val="cc0000"/>
                </a:solidFill>
                <a:latin typeface="Arial"/>
              </a:rPr>
              <a:t>aangestok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n w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kan bij vorst aangestoken worden (vlampunt onder - 20 °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troleum kan niet bij kamertemperatuur aangestoken worden, vlampunt boven + 30 °C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nzine is dus veel brandgevaarlijker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rcRect l="20482" t="0" r="29468" b="0"/>
          <a:stretch/>
        </p:blipFill>
        <p:spPr>
          <a:xfrm>
            <a:off x="7786800" y="0"/>
            <a:ext cx="13572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4 Brandbaarheid van stoff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lfontbrandingstemperatuur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gste temperatuur waarbij een stof spontaan ontbra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enig hulpmiddel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normale lucht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stekingsenergie is hier geen vonk of vlam, maar de hoge temperatuur 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5 Blu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ncipes van blus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uitschakelen / verwij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rmte uitschakelen door afko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bron weg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 verdringen of de toegang t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stof ver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grijpen in de chemische reactie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rand (negatieve katal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6715080" y="82440"/>
            <a:ext cx="22129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Indeling brandklas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EB76BD7-4227-447F-B5C8-D5C14D2928CF" descr="5A8DB082-2839-484A-B0AB-DACCFFD08C53@profit"/>
          <p:cNvPicPr/>
          <p:nvPr/>
        </p:nvPicPr>
        <p:blipFill>
          <a:blip r:embed="rId1"/>
          <a:stretch/>
        </p:blipFill>
        <p:spPr>
          <a:xfrm>
            <a:off x="216000" y="3068640"/>
            <a:ext cx="86407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6 Blusmiddel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447920"/>
          <a:ext cx="7772400" cy="4616280"/>
        </p:xfrm>
        <a:graphic>
          <a:graphicData uri="http://schemas.openxmlformats.org/drawingml/2006/table">
            <a:tbl>
              <a:tblPr/>
              <a:tblGrid>
                <a:gridCol w="2062080"/>
                <a:gridCol w="2476440"/>
                <a:gridCol w="3233880"/>
              </a:tblGrid>
              <a:tr h="34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middel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king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ort br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om 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uim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uit zuurstoftoevoer a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 op de grond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deken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bij person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spoeder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t verbrandingsreactie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vaste 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(gass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metal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nl-BE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koelend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ringt zuurstof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vloeistoffen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elektriciteitsinstallaties)</a:t>
                      </a:r>
                      <a:endParaRPr b="1" lang="en-US" sz="16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-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7" name="Picture 6" descr="http://www.brandweer.borger-odoorn.info/images/146_1.jpg"/>
          <p:cNvPicPr/>
          <p:nvPr/>
        </p:nvPicPr>
        <p:blipFill>
          <a:blip r:embed="rId1"/>
          <a:stretch/>
        </p:blipFill>
        <p:spPr>
          <a:xfrm>
            <a:off x="2827440" y="1981080"/>
            <a:ext cx="3128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     - lees de aanwijzingen –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79" name="Picture 10" descr="http://www.manroy.nl/ontruimingsplan.gif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7 Handelend optreden bij brand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eige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de brand zo snel mog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uit deuren en ra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ensen in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us de brand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s je het kunt en dat verantwoord is….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ies het juiste blusmidd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cht op het brandende voorwerp, niet op de vlam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lijf opletten, het vuur kan weer aanwakk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515960" y="5867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bij brandwonden zo snel mogelijk koelen </a:t>
            </a:r>
            <a:r>
              <a:rPr b="0" i="1" lang="nl-NL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cc0000"/>
                </a:solidFill>
                <a:latin typeface="Arial"/>
                <a:ea typeface="Arial"/>
              </a:rPr>
              <a:t> 15 minut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i="1" lang="nl-NL" sz="2400" spc="-1" strike="noStrike">
                <a:solidFill>
                  <a:srgbClr val="cc0000"/>
                </a:solidFill>
                <a:latin typeface="Arial"/>
              </a:rPr>
              <a:t>brand is vuur waar het niet thuis hoort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voorkomen en schade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zijn ernstige bedre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ijv. raffinaderijen en chemische fabrieken is brand zeer erns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n en explosies voorkomen of beper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ze kunn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hoe je moet optr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et wat van belang is voor blu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1  Gevaren voor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2  Gevaren tijdens een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3  Ontstaan van brand en explo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4  Brandbaarheid van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5  Bl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6  Blu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7  Handelend optreden bij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1 Gevaren voor 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branden komen heel veel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abrieken en werkplaats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gvervoer (bijv. vrachtwagens met propaa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ansporten van licht ontvlambare produc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kreparat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inkelpanden, opslagloodsen, jachthav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embaden, hotels, disco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slachto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orm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http://www.morgenpost.de/multimedia/archive/00382/sei_Unfall_BM_Berli_382094b.jpg"/>
          <p:cNvPicPr/>
          <p:nvPr/>
        </p:nvPicPr>
        <p:blipFill>
          <a:blip r:embed="rId1"/>
          <a:stretch/>
        </p:blipFill>
        <p:spPr>
          <a:xfrm>
            <a:off x="5562720" y="4648320"/>
            <a:ext cx="2143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2 Gevaren tijdens een bran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vuurcontact, hitte en r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ttestraling belemmert blus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plosies mogelijk door ontsteking en opw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an roo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mmert vluch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ift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ijgt op (lichter dan luch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t zich in een gebou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4.3 Ontstaan van brand of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brand of explosie is tegelijk nod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brandbare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zuur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ontstekings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de branddrieho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van brand hangt af van aanwez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brandbare stof en aanwezighei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‘ontstekingsenergie’ (vlammetje of von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5108400" y="2498760"/>
            <a:ext cx="294984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ntstekingsenerg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ekingsenergie wordt geleverd door een ontstekingsb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mogelijke ontstekingsb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onk van handgereedschap of 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t oppervl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ge temperatu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 vuur en stralingswarm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rand en explosi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plosie is een “bliksemsnelle” 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brandingsgassen komen vrij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drukgolf is verwoest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upersnelle verbranding alleen bij ideale omstandig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bare stof en zuurstof heel goed gemeng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verhouding tussen brandbare stof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moet goed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propaan-luchtmengsel kan niet exploderen bij een concentratie onder 2,1% en niet boven 9,5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paan-luchtmengsels kunnen alleen exploderen bij een concentratie tussen 2,1% en 9,5% propaan in de 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Explosiegrenzen en explosiegebie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59" name="Picture 9" descr="http://www.arbobert.nl/images/290Expl1.jpg"/>
          <p:cNvPicPr/>
          <p:nvPr/>
        </p:nvPicPr>
        <p:blipFill>
          <a:blip r:embed="rId1"/>
          <a:stretch/>
        </p:blipFill>
        <p:spPr>
          <a:xfrm>
            <a:off x="685800" y="2476440"/>
            <a:ext cx="7772400" cy="3695760"/>
          </a:xfrm>
          <a:prstGeom prst="rect">
            <a:avLst/>
          </a:prstGeom>
          <a:ln w="0">
            <a:noFill/>
          </a:ln>
        </p:spPr>
      </p:pic>
      <p:sp>
        <p:nvSpPr>
          <p:cNvPr id="60" name="Tekstvak 9"/>
          <p:cNvSpPr/>
          <p:nvPr/>
        </p:nvSpPr>
        <p:spPr>
          <a:xfrm>
            <a:off x="685800" y="22096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‘arm’ mengs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te ‘rijk’ mengsel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IJL-OMHOOG 7"/>
          <p:cNvSpPr/>
          <p:nvPr/>
        </p:nvSpPr>
        <p:spPr>
          <a:xfrm rot="16200000">
            <a:off x="1159560" y="1278720"/>
            <a:ext cx="642960" cy="1285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IJL-OMHOOG 8"/>
          <p:cNvSpPr/>
          <p:nvPr/>
        </p:nvSpPr>
        <p:spPr>
          <a:xfrm rot="5400000">
            <a:off x="6564600" y="1283400"/>
            <a:ext cx="642960" cy="1428840"/>
          </a:xfrm>
          <a:prstGeom prst="upArrow">
            <a:avLst>
              <a:gd name="adj1" fmla="val 50000"/>
              <a:gd name="adj2" fmla="val 50001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5:03Z</dcterms:modified>
  <cp:revision>124</cp:revision>
  <dc:subject/>
  <dc:title>PowerPoint-presentatie</dc:title>
</cp:coreProperties>
</file>