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15.jpeg" ContentType="image/jpe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5E55-A9BB-4A8E-A6D6-E6D186874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6FFA-7D28-4608-B1B1-98B3311C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72B8F-C11B-42BD-BDE8-6DC0D6D1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7A8C55-ECD6-4963-A040-69AB49C7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B17FB-1066-4B9B-93AA-2D93C59D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C5701-78E4-49E7-A5DB-49CE8DE6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4F5A9-FE3C-40D7-BC60-4BB5A5F4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3ACE4-CC79-4FFA-9933-F0349DBE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5FBA4-6A72-435A-879A-121B14F7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BF786-5C8E-4590-AD07-027DA7FAA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F3D5F-CA1F-44CC-97D8-92CC0929D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75A6EE-5DA7-4B2D-BECA-1A730CE29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F2BF-3183-4453-986F-EA376CF63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0390A-11B1-4B81-B826-834B6B59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1A443-31B4-478D-8461-B507921E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B4E3D-DCBE-429C-AB05-DC805918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87592-4C8F-4C71-9CE0-8BC6BC26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1E2E4F-C641-4113-B9C3-EA683EE9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CF1642-4EFA-42DD-92D6-151D7124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9AE9DD-41A1-4D53-A8AA-0291036A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CB177C-0A55-4BF3-A180-55FB5EF6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5714AB-03FA-447B-97FB-1B095018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A10A1A-B935-4ECD-B2CB-C2C415709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2A1D-6824-4E1A-A2B4-03CB4AA0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DBE399-E9AD-4E02-97E9-D001C3F8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B1828-4D42-485A-932B-BD7F11B9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014BB-ECC7-40C6-8FB2-1BB18FBB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379E5-9036-45AC-855C-AC7EA518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24D66-42A7-4C5B-B6C7-ECC0B0EA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5FDF2-E657-4134-8C6D-F43C43B8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BAB84-4FEE-417F-B455-55B5D973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1F3BF-0D7B-48E1-A593-22A139FD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72AB7-9CE6-4D65-88BD-8F04C52F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E3EEF-126D-4541-8955-91E817D5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F767-E5A2-49C2-B179-810D2FFA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A5614-4913-4309-9CA6-F1DB3548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5F486-370B-4FB5-9E79-1EE4E4E99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875B1-E157-4F37-92A0-039C6F235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204128-8FD4-47CB-9928-7829A6F43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111668-7525-4A6A-83A4-5553A0D3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7A6987-3223-47F3-AA03-AC85BA95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FBA810-528E-49D0-ACA6-07950F79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568C3E-C984-4593-AC13-50FBF994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08EAB8-C52C-49ED-9D2B-6DAF1113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47FF59-0A19-4002-98D3-5A03B1E0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F2C9-75F5-4CDA-8D2D-C982E800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735EF9-5FC7-4814-80C7-E2EC57E4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34167D-6DC8-430D-BA18-A334BB31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7EB159-8415-45F5-9F6A-48BB3F54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63C515-48B3-46B2-BB89-D1C6F8245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31A68A-5E3F-4A5F-A6A1-BD74C9B08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6B7B-01EA-42A7-AE6D-FFED3060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6C28-B0D4-4769-B0F2-A3208EB0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5081-AE40-4CE0-9508-DD31297D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AC6F-2246-4726-A37A-14138A63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2ED5-F72C-48E5-9F94-9F13002B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54C1-7F7D-41C9-98B0-72D1DA0E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830D-0E3E-413C-B0DE-299BA277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E975-AAEE-4DFF-A322-F1B872E4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8958-1DA2-4FC6-855E-B5AEBF61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C05F-9A60-4B32-B3EF-CAB2B1F7E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3C5C-B570-43C1-B82D-75F51C98A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07590-8AA6-43A8-938F-AA2A3CFC5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06703-B23D-4818-94CF-A7627384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4AB50-9938-4EA4-9DBC-41644838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65DDE-E1E6-4BC9-8BF5-C43C3C6C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3218F-0B7E-4FB1-904C-D2AF77B3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924F-E527-4540-B136-1C631EC68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1A0B7-5B81-4E26-AAAF-5991E544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4751F-E78C-444F-9ED8-C6DB79DE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96F49-628B-4334-91CC-753FF870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2F83E-4AE7-4B60-8309-0C4016E0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67576-F517-4A00-88C7-C9B812ED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1E0A4-5058-4CEE-86A6-EFAAAC998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CFF04-8E30-4091-B20B-823D4320B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11BCF-50CB-4562-9845-358AC4AE8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316B3-F630-4F48-A510-AED91DE0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3124F-313C-4064-92E2-05DB124F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C995-9060-4330-9EB2-15E37E29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750B1-A936-4710-BD5E-599B91ED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51DED-3CB7-4395-97DE-34A6B540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E4CE7-8AA3-4093-8AB6-B918521F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BEDEC-D736-479F-935B-54FB230A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616D4-8794-492F-B847-950BE437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BAC28-A162-4000-B49C-1DBD633B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03AA5-B66D-4A0E-B343-31F37FDE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BAE98-02A3-4497-9B03-D7B2FF4F9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6E51E-D8BA-4091-9107-1744194D8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FB170-5E69-417D-9367-554BCF93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CC83-8DD9-43CD-B270-28AE2B91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3A500-21CB-46FC-A7D4-71329E48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358E1-1DDB-445A-8119-40F6F7B7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11978-0376-4B8F-96BC-B9D546B8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84BFD-0789-4BC1-8E6F-04CD3A92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75677-AB92-4CA0-9BA5-AADF00A5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53211-FCA1-4175-999F-6FB271FA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C84B6-5D8D-483A-8CB6-A4BDE5E3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DE6AF-7E9A-4389-92BB-4E9A67D9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DCC1D-8F70-4F39-B5E0-C57C2F31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E5F73-FBB7-431D-BD37-F60B3A1DD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3AE4-0C11-4778-A2F7-47198DE0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22D4B-71E2-43C1-BBCC-B795B998D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9A80A-3404-4F5A-9F07-0824F1B7F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EE03C-866F-40F4-B581-1A508B1D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344BD-9344-46CC-9241-B8B50C75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A45A8-B088-41C5-B7A5-10CF13F0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3C5C4-57F4-4671-AA59-BBDFB12C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47B33-D621-4AB5-94C4-9C54A5F2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8CB22-A278-40F4-9FFE-414DB181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A21A1-11E9-46D9-8330-555EB49F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EFB27-8C1F-4A0D-BC99-7DB488D3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777A-5345-4C12-95F7-87175807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5EFD2-A8E5-48C8-AE05-2D14843E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4796E-48FA-440C-920C-1CD9C9E07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51C90-D74B-4624-8008-8D3E12589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15FC9-C338-462E-B7A0-8ADE1C1CE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8DFDD-78F6-4A05-AE09-C49F05E9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EB352-A7C8-4C64-B0A3-1766A814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3FA01-91F9-47E0-A84D-1040D007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92BF0-769F-4B21-B28F-8C4C6040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DB8A1-8AEF-4DEE-9081-DAC975B8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0DA4C-25BC-4757-9269-D179A983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FA40-00A5-434C-89EF-96FA66DB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63B75-3C49-4F74-9EB4-E55880E5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36B77-FCE2-4D5B-9B68-FAD8BA43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C3D4C-0122-4222-AAB6-CBCEA57A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1E287-D46C-4212-A52A-4E1959369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8B797-F2FE-431A-AFE2-4B7031710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A2BE6-4335-4393-9EAC-BBF3FFB1A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BB2B4-8D07-4AAC-B7B3-CCB51EE7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82023-A903-492C-B8E9-BF198E01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C55E9-BC3C-48AC-BCF9-BA1809C9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68273-A952-4734-80E2-E481D670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AB8E-75F8-441E-AF7A-D633BB08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34C87-F545-492A-BE8B-107774B3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78421-8451-40A1-8D04-462401D8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37731-A41B-45B3-BB76-4077AC5E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5998A-C2F3-413F-B9ED-C013355B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191E2-7D0D-48F9-994C-CB9C92AB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30A03-2026-4D91-8F3B-80B6755F4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5D8C6-B4BA-412F-9BFB-8883728FF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828CBA-4382-4C81-9DE6-A6FFA3D03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78C0F-2443-41B5-A294-3CB0997D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9A7A23-FE80-4D33-B179-F42D618E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8CFD-0556-46F4-98D1-2AC472DDBEF7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39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1181-B2F6-423D-82E9-802974E71D17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F482-0704-490F-8315-E4C51C145DA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5235-7897-4970-ADCF-A7E66626FE4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3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4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42C6-A7FE-4808-BFF0-3AEA39FB1ADE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20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122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1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8A02-0C6E-42DE-B895-45B118AA785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CEAE-94C0-4120-8C3D-3794BFF0F71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05DE-A540-4E0E-A556-938F67608B8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EE55-AC4A-43DC-8475-49325C0CE96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9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971E-3DF7-48DE-A61C-9210DB01E58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02A2-BDC4-4BE2-8CFB-E46BB89D51FC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8DEE-8880-4881-8E33-574E8DF7C1DC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erckebosch.nl/html/home.php" TargetMode="External"/><Relationship Id="rId3" Type="http://schemas.openxmlformats.org/officeDocument/2006/relationships/hyperlink" Target="http://www.kerckebosch.nl/html/home.php" TargetMode="External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99680" y="571680"/>
            <a:ext cx="8358120" cy="400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a911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a911"/>
                </a:solidFill>
                <a:latin typeface="Arial"/>
              </a:rPr>
              <a:t>Hoofdstuk 7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a911"/>
                </a:solidFill>
                <a:latin typeface="Arial"/>
              </a:rPr>
              <a:t>Managementsysteem en certificatie:</a:t>
            </a:r>
            <a:br>
              <a:rPr sz="4400"/>
            </a:br>
            <a:r>
              <a:rPr b="1" lang="en-US" sz="4400" spc="-1" strike="noStrike">
                <a:solidFill>
                  <a:srgbClr val="2aa911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2aa911"/>
                </a:solidFill>
                <a:latin typeface="Arial"/>
                <a:ea typeface="Tahoma"/>
              </a:rPr>
              <a:t>het fundament van VC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AutoShape 5">
            <a:hlinkClick r:id="rId2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AutoShape 7">
            <a:hlinkClick r:id="rId3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Tijdelijke aanduiding voor dianumm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0724-6F57-4095-8BBC-96C2828DF73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4  V&amp;G-actiepla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92C1-5759-435E-81BC-F65F18D31B0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6" name="Groep 8"/>
          <p:cNvGrpSpPr/>
          <p:nvPr/>
        </p:nvGrpSpPr>
        <p:grpSpPr>
          <a:xfrm>
            <a:off x="1285920" y="1071360"/>
            <a:ext cx="2954160" cy="4818240"/>
            <a:chOff x="1285920" y="1071360"/>
            <a:chExt cx="2954160" cy="4818240"/>
          </a:xfrm>
        </p:grpSpPr>
        <p:sp>
          <p:nvSpPr>
            <p:cNvPr id="617" name="Parallellogram 6"/>
            <p:cNvSpPr/>
            <p:nvPr/>
          </p:nvSpPr>
          <p:spPr>
            <a:xfrm flipH="1" rot="5400000">
              <a:off x="1636200" y="997560"/>
              <a:ext cx="2122200" cy="2269080"/>
            </a:xfrm>
            <a:prstGeom prst="parallelogram">
              <a:avLst>
                <a:gd name="adj" fmla="val 25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18" name="Rechthoek 5" descr=""/>
            <p:cNvPicPr/>
            <p:nvPr/>
          </p:nvPicPr>
          <p:blipFill>
            <a:blip r:embed="rId2"/>
            <a:stretch/>
          </p:blipFill>
          <p:spPr>
            <a:xfrm>
              <a:off x="1285920" y="1611360"/>
              <a:ext cx="2954160" cy="427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9" name="Tekstvak 7"/>
          <p:cNvSpPr/>
          <p:nvPr/>
        </p:nvSpPr>
        <p:spPr>
          <a:xfrm>
            <a:off x="5143680" y="1428840"/>
            <a:ext cx="3000240" cy="3812040"/>
          </a:xfrm>
          <a:prstGeom prst="rect">
            <a:avLst/>
          </a:prstGeom>
          <a:noFill/>
          <a:ln w="28440">
            <a:solidFill>
              <a:srgbClr val="c016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lstell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e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akverdel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6E0D-C480-40C7-ABE4-9DB315DAAC1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4  V&amp;G-actiepla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2" name="Tekstvak 5"/>
          <p:cNvSpPr/>
          <p:nvPr/>
        </p:nvSpPr>
        <p:spPr>
          <a:xfrm>
            <a:off x="571680" y="128592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doel actieplan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zorgen dat vastgestelde risico’s bij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RIE en T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worden beheerst door doeltreffende maatreg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Tekstvak 6"/>
          <p:cNvSpPr/>
          <p:nvPr/>
        </p:nvSpPr>
        <p:spPr>
          <a:xfrm>
            <a:off x="571680" y="3357720"/>
            <a:ext cx="8286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V&amp;G-actieplan bevat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maatregelen/act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uitvoering (mensen, middelen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planning en eindtij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erantwoordelijk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evaluatie (ook t.a.v. doel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16F6-6F18-49FD-AB74-94619964F30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2aa911"/>
                </a:solidFill>
                <a:latin typeface="Arial"/>
              </a:rPr>
              <a:t>7.5 Taakrisicoanalyse (TRA)</a:t>
            </a:r>
            <a:br>
              <a:rPr sz="2800"/>
            </a:br>
            <a:r>
              <a:rPr b="1" lang="nl-NL" sz="2800" spc="-1" strike="noStrike">
                <a:solidFill>
                  <a:srgbClr val="2aa911"/>
                </a:solidFill>
                <a:latin typeface="Arial"/>
              </a:rPr>
              <a:t>en Laatste Minuut RisicoAnalyse (LMRA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6" name="Tekstvak 5"/>
          <p:cNvSpPr/>
          <p:nvPr/>
        </p:nvSpPr>
        <p:spPr>
          <a:xfrm>
            <a:off x="571680" y="1828800"/>
            <a:ext cx="807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oordat je goede maatregelen kunt treffen,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moet je eerst de risico’s analys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zeker als er geen goede veiligheidsprocedures zij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103B-5DCE-47CF-AE55-DDF70667F76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Tekstvak 4"/>
          <p:cNvSpPr/>
          <p:nvPr/>
        </p:nvSpPr>
        <p:spPr>
          <a:xfrm>
            <a:off x="571680" y="417600"/>
            <a:ext cx="8572320" cy="57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TR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ij nieuwe machines, projecten of voorafgaand aan werkvergunninge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ok bij nieuwbouw, verbouw of inzetten van stagiairs, uitzendkrachten en jong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TRA-karwei opsplitsen in taken en die weer in taakstapp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per taakstap de risico’s en de noodzakelijke (extra) beheersmaatregelen vaststel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zo nodig maatregelen aanpassen/nieuwe TRA uitvoeren al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285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condities zijn veranderd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285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het werkplan niet meer uitvoerbaar is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285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de installatie niet meer drukvrij of spanningsvrij is  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285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de  juiste middelen of gereedschappen niet beschikbaar zij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05A3-D470-489E-9DCE-6C05DA63F42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0" name="Picture 7" descr=""/>
          <p:cNvPicPr/>
          <p:nvPr/>
        </p:nvPicPr>
        <p:blipFill>
          <a:blip r:embed="rId2"/>
          <a:stretch/>
        </p:blipFill>
        <p:spPr>
          <a:xfrm>
            <a:off x="0" y="5929200"/>
            <a:ext cx="714240" cy="495360"/>
          </a:xfrm>
          <a:prstGeom prst="rect">
            <a:avLst/>
          </a:prstGeom>
          <a:ln w="0">
            <a:noFill/>
          </a:ln>
        </p:spPr>
      </p:pic>
      <p:sp>
        <p:nvSpPr>
          <p:cNvPr id="631" name="Tekstvak 4"/>
          <p:cNvSpPr/>
          <p:nvPr/>
        </p:nvSpPr>
        <p:spPr>
          <a:xfrm>
            <a:off x="571680" y="511200"/>
            <a:ext cx="857232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LMR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uit te voeren risicocheck door de uitvoerende direct voor aanvang van zijn werkzaamheden bij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nieuwe taa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verandering van wer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en ook bij routinematige werkzaamheden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doel is dat werk zo nodig wordt gestopt en eerst de beheersmaatregelen worden getroff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middelen die worden gebruik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aandachtspuntenkaar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werkcheckcar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stop-check-go card …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LMRA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3A2F-729D-4BC2-B0F1-2CD7902FD2E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Rechthoek 7"/>
          <p:cNvSpPr/>
          <p:nvPr/>
        </p:nvSpPr>
        <p:spPr>
          <a:xfrm>
            <a:off x="3571920" y="1000080"/>
            <a:ext cx="340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dachtspuntenkaartje of werkcheckcard gebruiken,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leinere kans dat je iets over het hoofd ziet…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5" name="Picture 7" descr="Scannen0001"/>
          <p:cNvPicPr/>
          <p:nvPr/>
        </p:nvPicPr>
        <p:blipFill>
          <a:blip r:embed="rId2"/>
          <a:srcRect l="3501" t="1212" r="19563" b="15335"/>
          <a:stretch/>
        </p:blipFill>
        <p:spPr>
          <a:xfrm>
            <a:off x="857160" y="1071720"/>
            <a:ext cx="2571840" cy="371952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10" descr="Scannen0002"/>
          <p:cNvPicPr/>
          <p:nvPr/>
        </p:nvPicPr>
        <p:blipFill>
          <a:blip r:embed="rId3"/>
          <a:srcRect l="0" t="15349" r="62584" b="6527"/>
          <a:stretch/>
        </p:blipFill>
        <p:spPr>
          <a:xfrm rot="983400">
            <a:off x="6754680" y="2332080"/>
            <a:ext cx="1600200" cy="246384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9" descr="Scannen0003"/>
          <p:cNvPicPr/>
          <p:nvPr/>
        </p:nvPicPr>
        <p:blipFill>
          <a:blip r:embed="rId4"/>
          <a:srcRect l="0" t="5832" r="0" b="21877"/>
          <a:stretch/>
        </p:blipFill>
        <p:spPr>
          <a:xfrm>
            <a:off x="3286080" y="2500200"/>
            <a:ext cx="2779920" cy="354348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2" descr="Scannen0005"/>
          <p:cNvPicPr/>
          <p:nvPr/>
        </p:nvPicPr>
        <p:blipFill>
          <a:blip r:embed="rId5"/>
          <a:srcRect l="0" t="0" r="4502" b="0"/>
          <a:stretch/>
        </p:blipFill>
        <p:spPr>
          <a:xfrm rot="17194200">
            <a:off x="6323760" y="2753280"/>
            <a:ext cx="250344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D7FA-463E-4C87-991A-ABE6007CFFF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6 Incidenten registrer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1" name="Tekstvak 6"/>
          <p:cNvSpPr/>
          <p:nvPr/>
        </p:nvSpPr>
        <p:spPr>
          <a:xfrm>
            <a:off x="609480" y="1371600"/>
            <a:ext cx="700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wat registreren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cident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ngeval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ijna-ongeval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nveilige situat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nveilige handelin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Tekstvak 7"/>
          <p:cNvSpPr/>
          <p:nvPr/>
        </p:nvSpPr>
        <p:spPr>
          <a:xfrm>
            <a:off x="571680" y="4000680"/>
            <a:ext cx="707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waarom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gegevens vastleggen voor de overheid en als basis voor bedrijfsbeleid om ervan te kunnen l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C172-A104-43B5-AED5-53730B4AE61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7 Ongevallenonderzoek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5" name="Tekstvak 7"/>
          <p:cNvSpPr/>
          <p:nvPr/>
        </p:nvSpPr>
        <p:spPr>
          <a:xfrm>
            <a:off x="571680" y="97488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aststellen en wegnemen van de oorzaken van een ongeval voorkomt herhal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Tekstvak 8"/>
          <p:cNvSpPr/>
          <p:nvPr/>
        </p:nvSpPr>
        <p:spPr>
          <a:xfrm>
            <a:off x="2786040" y="2049480"/>
            <a:ext cx="2624040" cy="2598840"/>
          </a:xfrm>
          <a:prstGeom prst="rect">
            <a:avLst/>
          </a:prstGeom>
          <a:solidFill>
            <a:srgbClr val="60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derzoek 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at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.s.m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to’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standighede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Tekstvak 10"/>
          <p:cNvSpPr/>
          <p:nvPr/>
        </p:nvSpPr>
        <p:spPr>
          <a:xfrm>
            <a:off x="1357200" y="5072040"/>
            <a:ext cx="235764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alyseren en combiner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Tekstvak 11"/>
          <p:cNvSpPr/>
          <p:nvPr/>
        </p:nvSpPr>
        <p:spPr>
          <a:xfrm>
            <a:off x="785880" y="3714840"/>
            <a:ext cx="1714320" cy="947160"/>
          </a:xfrm>
          <a:prstGeom prst="rect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uigen hor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49" name="Rechte verbindingslijn met pijl 13"/>
          <p:cNvCxnSpPr>
            <a:endCxn id="647" idx="0"/>
          </p:cNvCxnSpPr>
          <p:nvPr/>
        </p:nvCxnSpPr>
        <p:spPr>
          <a:xfrm>
            <a:off x="1787400" y="4714920"/>
            <a:ext cx="750240" cy="357840"/>
          </a:xfrm>
          <a:prstGeom prst="straightConnector1">
            <a:avLst/>
          </a:prstGeom>
          <a:ln w="57240">
            <a:solidFill>
              <a:srgbClr val="2aa911"/>
            </a:solidFill>
            <a:miter/>
            <a:tailEnd len="med" type="arrow" w="med"/>
          </a:ln>
        </p:spPr>
      </p:cxnSp>
      <p:cxnSp>
        <p:nvCxnSpPr>
          <p:cNvPr id="650" name="Rechte verbindingslijn met pijl 15"/>
          <p:cNvCxnSpPr/>
          <p:nvPr/>
        </p:nvCxnSpPr>
        <p:spPr>
          <a:xfrm flipH="1">
            <a:off x="2714400" y="4714920"/>
            <a:ext cx="1072080" cy="286560"/>
          </a:xfrm>
          <a:prstGeom prst="straightConnector1">
            <a:avLst/>
          </a:prstGeom>
          <a:ln w="57240">
            <a:solidFill>
              <a:srgbClr val="2aa911"/>
            </a:solidFill>
            <a:miter/>
            <a:tailEnd len="med" type="arrow" w="med"/>
          </a:ln>
        </p:spPr>
      </p:cxnSp>
      <p:cxnSp>
        <p:nvCxnSpPr>
          <p:cNvPr id="651" name="Rechte verbindingslijn met pijl 18"/>
          <p:cNvCxnSpPr>
            <a:stCxn id="647" idx="3"/>
            <a:endCxn id="652" idx="1"/>
          </p:cNvCxnSpPr>
          <p:nvPr/>
        </p:nvCxnSpPr>
        <p:spPr>
          <a:xfrm flipV="1">
            <a:off x="3714840" y="4990320"/>
            <a:ext cx="1838880" cy="55476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53" name="Tekstvak 21"/>
          <p:cNvSpPr/>
          <p:nvPr/>
        </p:nvSpPr>
        <p:spPr>
          <a:xfrm>
            <a:off x="609480" y="2362320"/>
            <a:ext cx="200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onderzoek-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pla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Tekstvak 22"/>
          <p:cNvSpPr/>
          <p:nvPr/>
        </p:nvSpPr>
        <p:spPr>
          <a:xfrm>
            <a:off x="5572080" y="4071960"/>
            <a:ext cx="3038400" cy="1800360"/>
          </a:xfrm>
          <a:prstGeom prst="rect">
            <a:avLst/>
          </a:prstGeom>
          <a:solidFill>
            <a:srgbClr val="c4c4c4"/>
          </a:solidFill>
          <a:ln w="38160">
            <a:solidFill>
              <a:srgbClr val="000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port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it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beveling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9A0A-E7C7-418C-80B9-1A2FD28297C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8 Voorbereiden op noodsituati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6" name="Tekstvak 4"/>
          <p:cNvSpPr/>
          <p:nvPr/>
        </p:nvSpPr>
        <p:spPr>
          <a:xfrm>
            <a:off x="642960" y="1643040"/>
            <a:ext cx="77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noodpla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noodprocedures bekend stell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organiseren van de noodhulp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9B38-CD65-4A98-A333-A937CE0A14C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8 Voorbereiden op noodsituaties (2)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59" name="Groep 5" descr=""/>
          <p:cNvPicPr/>
          <p:nvPr/>
        </p:nvPicPr>
        <p:blipFill>
          <a:blip r:embed="rId2"/>
          <a:stretch/>
        </p:blipFill>
        <p:spPr>
          <a:xfrm>
            <a:off x="963720" y="1352520"/>
            <a:ext cx="3705120" cy="4037040"/>
          </a:xfrm>
          <a:prstGeom prst="rect">
            <a:avLst/>
          </a:prstGeom>
          <a:ln w="0">
            <a:noFill/>
          </a:ln>
        </p:spPr>
      </p:pic>
      <p:sp>
        <p:nvSpPr>
          <p:cNvPr id="660" name="Tekstvak 8"/>
          <p:cNvSpPr/>
          <p:nvPr/>
        </p:nvSpPr>
        <p:spPr>
          <a:xfrm>
            <a:off x="5018040" y="2233440"/>
            <a:ext cx="357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chrijving van maatregelen en voorzieningen om in noodsituaties effectief te kunnen optred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Tekstvak 9"/>
          <p:cNvSpPr/>
          <p:nvPr/>
        </p:nvSpPr>
        <p:spPr>
          <a:xfrm>
            <a:off x="4929120" y="492912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het noodplan staan ook de noodprocedur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 Managementsysteem en certificati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99680" y="1356840"/>
            <a:ext cx="86439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n van veiligheid met een syste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CA, wat is het, hoe werkt h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systeem: risicobeheersing 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eidsvoer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VCA checklist: V&amp;G-actiepl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en VCA checklist: TRA en LMR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VCA checklist: incidenten registr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VCA checklist: ongevallenonderzo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VCA checklist: voorbereiding o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situa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4887-B717-481D-A2EA-8AD489D71B4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F18B-93D1-46D0-869A-2C05AAF79E0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00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8 Voorbereiden op noodsituaties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4" name="Tekstvak 4"/>
          <p:cNvSpPr/>
          <p:nvPr/>
        </p:nvSpPr>
        <p:spPr>
          <a:xfrm>
            <a:off x="928800" y="1285920"/>
            <a:ext cx="5214960" cy="70344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"/>
                <a:ea typeface="Tahoma"/>
              </a:rPr>
              <a:t> 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  <a:ea typeface="Tahoma"/>
              </a:rPr>
              <a:t>noodprocedure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Tekstvak 5"/>
          <p:cNvSpPr/>
          <p:nvPr/>
        </p:nvSpPr>
        <p:spPr>
          <a:xfrm>
            <a:off x="609480" y="2895480"/>
            <a:ext cx="2476800" cy="213552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meld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ongevall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noodsitua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alarmeren van hulpdienst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Tekstvak 6"/>
          <p:cNvSpPr/>
          <p:nvPr/>
        </p:nvSpPr>
        <p:spPr>
          <a:xfrm>
            <a:off x="3195720" y="2895480"/>
            <a:ext cx="2876400" cy="213552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hulpverlen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EHBO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middel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oorzaak /dreiging wegnem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Tekstvak 7"/>
          <p:cNvSpPr/>
          <p:nvPr/>
        </p:nvSpPr>
        <p:spPr>
          <a:xfrm>
            <a:off x="6215040" y="2895480"/>
            <a:ext cx="2548080" cy="314100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evacua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plattegrond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waarschuwin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middel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verzamel-</a:t>
            </a: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 plaats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oefeningen </a:t>
            </a:r>
            <a:br>
              <a:rPr sz="2200"/>
            </a:b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(min.1x per jaar, met derden)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Rechte verbindingslijn 9"/>
          <p:cNvSpPr/>
          <p:nvPr/>
        </p:nvSpPr>
        <p:spPr>
          <a:xfrm flipV="1">
            <a:off x="1828800" y="1981080"/>
            <a:ext cx="1108080" cy="857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Rechte verbindingslijn 12"/>
          <p:cNvSpPr/>
          <p:nvPr/>
        </p:nvSpPr>
        <p:spPr>
          <a:xfrm>
            <a:off x="3536280" y="1996920"/>
            <a:ext cx="19080" cy="1363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Rechte verbindingslijn 14"/>
          <p:cNvSpPr/>
          <p:nvPr/>
        </p:nvSpPr>
        <p:spPr>
          <a:xfrm>
            <a:off x="5429160" y="1928880"/>
            <a:ext cx="1608120" cy="950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Tekstvak 16"/>
          <p:cNvSpPr/>
          <p:nvPr/>
        </p:nvSpPr>
        <p:spPr>
          <a:xfrm>
            <a:off x="3286080" y="228600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uitreiken !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2" name="Picture 5" descr=""/>
          <p:cNvPicPr/>
          <p:nvPr/>
        </p:nvPicPr>
        <p:blipFill>
          <a:blip r:embed="rId2"/>
          <a:stretch/>
        </p:blipFill>
        <p:spPr>
          <a:xfrm>
            <a:off x="7358040" y="214200"/>
            <a:ext cx="16099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1CA9-4E23-4EB7-85BC-837393C0B9A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8 Voorbereiden op noodsituaties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5" name="Tekstvak 5"/>
          <p:cNvSpPr/>
          <p:nvPr/>
        </p:nvSpPr>
        <p:spPr>
          <a:xfrm>
            <a:off x="609480" y="928800"/>
            <a:ext cx="82486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in het noodplan staat ook verdere info m.b.t. de noodorganisatie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a9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chikbare hulpbronn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voorzieningen en menskracht in eig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atie en exter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HV (bedrijfshulpverlening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telijk verplichte organisa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EHBO, bestrijden beginnende brand 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evacua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leiden oefenen van optreden volgens het draaiboe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eel voorbereid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plan test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reiding personeel test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a911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6" name="Afbeelding 7" descr="back_bhv.jpg"/>
          <p:cNvPicPr/>
          <p:nvPr/>
        </p:nvPicPr>
        <p:blipFill>
          <a:blip r:embed="rId2"/>
          <a:srcRect l="25877" t="10844" r="6838" b="34966"/>
          <a:stretch/>
        </p:blipFill>
        <p:spPr>
          <a:xfrm>
            <a:off x="7072200" y="785880"/>
            <a:ext cx="1857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CA1E-70A8-4249-B35C-1A2CDF96F02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Tekstvak 3"/>
          <p:cNvSpPr/>
          <p:nvPr/>
        </p:nvSpPr>
        <p:spPr>
          <a:xfrm>
            <a:off x="571680" y="1373040"/>
            <a:ext cx="8286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als je zaken regelt, wil je graag dat wat je georganiseerd hebt, in stand blijft en dat je niet de volgende dag opnieuw met hetzelfde moet beginn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dan kom je niet vooruit!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een managementsysteem is een hulpmiddel om wel vooruit te kom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267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1 Managen van veiligheid met een systeem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1 Managen van veiligheid met een systeem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571680" y="1499760"/>
            <a:ext cx="85723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gever moet steeds voldoen aan wettelijke eisen, bijvoorbeeld Arbow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gever moet ook afspraken nakomen die zijn gemaakt, zoals certificeringen, ca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leidinggevende heeft een sleutelrol, maar dan moet er wel sprake zijn v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duidelijk bele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ite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voorwaarden als tijd, geld en bud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C84A-A23E-410D-876E-8C21735BEE5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2 VCA, wat is het, hoe werkt het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500040" y="1077480"/>
            <a:ext cx="850104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163a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M  </a:t>
            </a:r>
            <a:r>
              <a:rPr b="0" lang="en-US" sz="3200" spc="-1" strike="noStrike">
                <a:solidFill>
                  <a:srgbClr val="c0163a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ecklist  </a:t>
            </a:r>
            <a:r>
              <a:rPr b="0" lang="en-US" sz="3200" spc="-1" strike="noStrike">
                <a:solidFill>
                  <a:srgbClr val="c0163a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nnem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lijst met beheersingseisen  om risico’s te voorkomen als aannemers werk uitvoeren in situaties met verhoogd risico, zoals in de Petrochem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certificaat is een keurmerk dat aantoont dat het bedrijf de VCA-regels toepa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checklist VCA 2008/05 kent 3 niveaus van certificer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CA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CA*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CA Petrochem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1064-A973-4827-BDAF-31D99FFFA95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2 VCA, wat is het, hoe werkt het 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571320" y="1077480"/>
            <a:ext cx="8429400" cy="52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asis van de beheersing is voldoende kenn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CA vereist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kopleid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opleiding VCA basisveiligheid voor uitvoeren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A VOL voor operationeel leidinggeven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leidingen voor hoogrisicotaken volgens de SSVV opleidingengi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pleidingen en medische gegevens kunnen worden aangetoond met een veiligheidspaspoort of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personal safety logboek (PS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E8A8-D1E8-4F3F-98B0-F135CEA145D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71680" y="-7668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3 Risicobeheersing en beleidsvoer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761760" y="1066320"/>
            <a:ext cx="779940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 van beleid is te zorgen voor planning van de preventie-uitvoer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gaat om een goede voorbereiding en leren van je ervaring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it wordt weergegeven met de Deming-cirk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EAA2-2536-40B9-B60C-9C1F52BB3D6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5" name="Gebogen pijl 4"/>
          <p:cNvGrpSpPr/>
          <p:nvPr/>
        </p:nvGrpSpPr>
        <p:grpSpPr>
          <a:xfrm>
            <a:off x="2651040" y="3749760"/>
            <a:ext cx="1049400" cy="895320"/>
            <a:chOff x="2651040" y="3749760"/>
            <a:chExt cx="1049400" cy="895320"/>
          </a:xfrm>
        </p:grpSpPr>
        <p:pic>
          <p:nvPicPr>
            <p:cNvPr id="586" name="Gebogen pijl 4" descr=""/>
            <p:cNvPicPr/>
            <p:nvPr/>
          </p:nvPicPr>
          <p:blipFill>
            <a:blip r:embed="rId2"/>
            <a:stretch/>
          </p:blipFill>
          <p:spPr>
            <a:xfrm>
              <a:off x="2651040" y="3749760"/>
              <a:ext cx="104940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2714760" y="3786120"/>
              <a:ext cx="9284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8" name="Gebogen pijl 5"/>
          <p:cNvGrpSpPr/>
          <p:nvPr/>
        </p:nvGrpSpPr>
        <p:grpSpPr>
          <a:xfrm>
            <a:off x="2541600" y="5273640"/>
            <a:ext cx="903240" cy="1041480"/>
            <a:chOff x="2541600" y="5273640"/>
            <a:chExt cx="903240" cy="1041480"/>
          </a:xfrm>
        </p:grpSpPr>
        <p:pic>
          <p:nvPicPr>
            <p:cNvPr id="589" name="Gebogen pijl 5" descr=""/>
            <p:cNvPicPr/>
            <p:nvPr/>
          </p:nvPicPr>
          <p:blipFill>
            <a:blip r:embed="rId3"/>
            <a:stretch/>
          </p:blipFill>
          <p:spPr>
            <a:xfrm>
              <a:off x="2541600" y="5273640"/>
              <a:ext cx="90324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 rot="16200000">
              <a:off x="2530440" y="5383440"/>
              <a:ext cx="9288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1" name="Gebogen pijl 6"/>
          <p:cNvGrpSpPr/>
          <p:nvPr/>
        </p:nvGrpSpPr>
        <p:grpSpPr>
          <a:xfrm>
            <a:off x="4584600" y="5394240"/>
            <a:ext cx="1041480" cy="897120"/>
            <a:chOff x="4584600" y="5394240"/>
            <a:chExt cx="1041480" cy="897120"/>
          </a:xfrm>
        </p:grpSpPr>
        <p:pic>
          <p:nvPicPr>
            <p:cNvPr id="592" name="Gebogen pijl 6" descr=""/>
            <p:cNvPicPr/>
            <p:nvPr/>
          </p:nvPicPr>
          <p:blipFill>
            <a:blip r:embed="rId4"/>
            <a:stretch/>
          </p:blipFill>
          <p:spPr>
            <a:xfrm>
              <a:off x="4584600" y="5394240"/>
              <a:ext cx="104148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 rot="10800000">
              <a:off x="4643280" y="5428800"/>
              <a:ext cx="9288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Gebogen pijl 7"/>
          <p:cNvGrpSpPr/>
          <p:nvPr/>
        </p:nvGrpSpPr>
        <p:grpSpPr>
          <a:xfrm>
            <a:off x="4724280" y="3822840"/>
            <a:ext cx="901800" cy="1035000"/>
            <a:chOff x="4724280" y="3822840"/>
            <a:chExt cx="901800" cy="1035000"/>
          </a:xfrm>
        </p:grpSpPr>
        <p:pic>
          <p:nvPicPr>
            <p:cNvPr id="595" name="Gebogen pijl 7" descr=""/>
            <p:cNvPicPr/>
            <p:nvPr/>
          </p:nvPicPr>
          <p:blipFill>
            <a:blip r:embed="rId5"/>
            <a:stretch/>
          </p:blipFill>
          <p:spPr>
            <a:xfrm>
              <a:off x="4724280" y="3822840"/>
              <a:ext cx="90180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 rot="5400000">
              <a:off x="4714560" y="3929040"/>
              <a:ext cx="9284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7" name="Tekstvak 9"/>
          <p:cNvGrpSpPr/>
          <p:nvPr/>
        </p:nvGrpSpPr>
        <p:grpSpPr>
          <a:xfrm>
            <a:off x="3584520" y="3621240"/>
            <a:ext cx="1182600" cy="688680"/>
            <a:chOff x="3584520" y="3621240"/>
            <a:chExt cx="1182600" cy="688680"/>
          </a:xfrm>
        </p:grpSpPr>
        <p:pic>
          <p:nvPicPr>
            <p:cNvPr id="598" name="Tekstvak 9" descr=""/>
            <p:cNvPicPr/>
            <p:nvPr/>
          </p:nvPicPr>
          <p:blipFill>
            <a:blip r:embed="rId6"/>
            <a:stretch/>
          </p:blipFill>
          <p:spPr>
            <a:xfrm>
              <a:off x="3584520" y="3621240"/>
              <a:ext cx="11826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3643200" y="3714840"/>
              <a:ext cx="107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o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0" name="Tekstvak 10"/>
          <p:cNvGrpSpPr/>
          <p:nvPr/>
        </p:nvGrpSpPr>
        <p:grpSpPr>
          <a:xfrm>
            <a:off x="4511520" y="4694400"/>
            <a:ext cx="1670040" cy="688680"/>
            <a:chOff x="4511520" y="4694400"/>
            <a:chExt cx="1670040" cy="688680"/>
          </a:xfrm>
        </p:grpSpPr>
        <p:pic>
          <p:nvPicPr>
            <p:cNvPr id="601" name="Tekstvak 10" descr=""/>
            <p:cNvPicPr/>
            <p:nvPr/>
          </p:nvPicPr>
          <p:blipFill>
            <a:blip r:embed="rId7"/>
            <a:stretch/>
          </p:blipFill>
          <p:spPr>
            <a:xfrm>
              <a:off x="4511520" y="4694400"/>
              <a:ext cx="167004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4572000" y="4786200"/>
              <a:ext cx="15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check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3" name="Tekstvak 11"/>
          <p:cNvGrpSpPr/>
          <p:nvPr/>
        </p:nvGrpSpPr>
        <p:grpSpPr>
          <a:xfrm>
            <a:off x="1798560" y="4621320"/>
            <a:ext cx="1670040" cy="689040"/>
            <a:chOff x="1798560" y="4621320"/>
            <a:chExt cx="1670040" cy="689040"/>
          </a:xfrm>
        </p:grpSpPr>
        <p:pic>
          <p:nvPicPr>
            <p:cNvPr id="604" name="Tekstvak 11" descr=""/>
            <p:cNvPicPr/>
            <p:nvPr/>
          </p:nvPicPr>
          <p:blipFill>
            <a:blip r:embed="rId8"/>
            <a:stretch/>
          </p:blipFill>
          <p:spPr>
            <a:xfrm>
              <a:off x="1798560" y="4621320"/>
              <a:ext cx="16700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1857240" y="4714920"/>
              <a:ext cx="15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plan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6" name="Tekstvak 13"/>
          <p:cNvGrpSpPr/>
          <p:nvPr/>
        </p:nvGrpSpPr>
        <p:grpSpPr>
          <a:xfrm>
            <a:off x="3438360" y="5767560"/>
            <a:ext cx="1189080" cy="688680"/>
            <a:chOff x="3438360" y="5767560"/>
            <a:chExt cx="1189080" cy="688680"/>
          </a:xfrm>
        </p:grpSpPr>
        <p:pic>
          <p:nvPicPr>
            <p:cNvPr id="607" name="Tekstvak 13" descr=""/>
            <p:cNvPicPr/>
            <p:nvPr/>
          </p:nvPicPr>
          <p:blipFill>
            <a:blip r:embed="rId9"/>
            <a:stretch/>
          </p:blipFill>
          <p:spPr>
            <a:xfrm>
              <a:off x="3438360" y="5767560"/>
              <a:ext cx="118908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>
              <a:off x="3500280" y="5857920"/>
              <a:ext cx="107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act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3 Risicobeheersing en beleidsvoering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571680" y="990360"/>
            <a:ext cx="8572320" cy="54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systematische beheersing wordt veelal bedrijfsbreed aangepak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managementsysteem bevat de beschrijving van de uitgangspunten, regels, procedures en documenten die worden ingezet om de doelstellingen van het bedrijf te realis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kwijls is er een KAM-systeem (Kwaliteit Arbo Milieu)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wettelijk verplichte RIE is daarin opgenomen: </a:t>
            </a:r>
            <a:br>
              <a:rPr sz="2200"/>
            </a:br>
            <a:r>
              <a:rPr b="0" lang="en-US" sz="2200" spc="-1" strike="noStrike">
                <a:solidFill>
                  <a:srgbClr val="c0163a"/>
                </a:solidFill>
                <a:latin typeface="Arial"/>
              </a:rPr>
              <a:t>VCA eis 2.1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ze bestaat uit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228600">
              <a:spcBef>
                <a:spcPts val="524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dentificeren van de gevare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228600">
              <a:spcBef>
                <a:spcPts val="524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ventariseren van de risico’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228600">
              <a:spcBef>
                <a:spcPts val="524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alueren van de risico’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33F6-C411-49A0-B6EE-9EC9EE4718E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B5F0-6BF4-4DC7-96BB-2ABEA1DA1B2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Tekstvak 4"/>
          <p:cNvSpPr/>
          <p:nvPr/>
        </p:nvSpPr>
        <p:spPr>
          <a:xfrm>
            <a:off x="1357200" y="1246320"/>
            <a:ext cx="6643800" cy="329328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enkele van de 47 VCA checklist-eisen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a911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2aa911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V&amp;G-actiepla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T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LM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incidentregistrati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ongevallenonderzoek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voorbereiding op noodsituati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49:30Z</dcterms:modified>
  <cp:revision>244</cp:revision>
  <dc:subject/>
  <dc:title>Taak en positie VFP</dc:title>
</cp:coreProperties>
</file>