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808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1600" y="-1440"/>
            <a:ext cx="290844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12280" y="741240"/>
            <a:ext cx="5683320" cy="364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440" y="9284760"/>
            <a:ext cx="290808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1600" y="9284760"/>
            <a:ext cx="290844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041D-492D-4FE7-A538-35F7E5A637B6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01960" y="9285120"/>
            <a:ext cx="290844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E338-BE77-4B78-B91C-7C79DBF9A9CD}" type="slidenum">
              <a:rPr b="0" i="1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515880" y="741240"/>
            <a:ext cx="5676840" cy="3649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94960" y="4641480"/>
            <a:ext cx="491796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897-A9FA-41B0-BE8C-270015BC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6DF-07F3-4FFA-95CA-C9792C2F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48C-399F-4E33-9E24-4148B46A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198108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130640"/>
            <a:ext cx="291960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2000"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361-FB66-4F53-8A9C-02C87B0E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07E-FA68-4933-BF92-BC0E6680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317-F96F-4DC9-AC3D-2B04B225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9BD-E6DA-425B-8C30-68A78AC6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160-5D0E-4C9F-9769-0B897B05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09120"/>
            <a:ext cx="9067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50F-D358-48B8-A3E5-E289A988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73BD-B648-450F-8B7A-A5BFFD0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13064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36B-6F18-4232-A6DB-5ECF020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1981080"/>
            <a:ext cx="442476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130640"/>
            <a:ext cx="9067680" cy="1962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058-73A5-4F68-A8B9-7D1535D0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67000"/>
          </a:bodyPr>
          <a:p>
            <a:pPr marL="277560" indent="-27756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00480" indent="-23040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2" marL="925200" indent="-18468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3" marL="1295280" indent="-184680"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5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6" marL="1665720" indent="-18504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248520"/>
            <a:ext cx="222228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248520"/>
            <a:ext cx="33782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  <a:defRPr b="0" lang="nl-NL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D0795066-0737-4293-A8FC-14BFDFC48B52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4558FBD2-9FD6-4EF6-A885-990679F9C53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1720" y="314280"/>
            <a:ext cx="9122040" cy="11556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VEILIGHEID 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63760" y="1755360"/>
            <a:ext cx="7502400" cy="417204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438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196D96D-2C4F-44DA-81E0-9D1EFBEDEED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ichzelf en anderen niet in gevaar br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uist gebruik beveiligingen machines, materiaal en pbm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leven voorschriften en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lden van gevaarlijke situ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werken aan onderzoek Arbodeskund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AAE7F0CD-B391-4D32-9C34-6E4DAEFC4A38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nem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 op werkonderbre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voorwaarden verbonden en w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ar redelijk oordeel acuut, ernstig gevaar bestaat voor pers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middellijk melden aan bedrijfsleiding of werkg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bereiken overeenstemming A.I. niet no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F9FB456-07C8-46E5-B1F8-C1F98BD0C696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Deskundige insta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die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kundigheid aanwezig op het gebied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een adviserende functie r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FE834AD4-5C1E-4859-8CCA-0B56E7CAAD9F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0280" y="3808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ezicht &amp; 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0280" y="129492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8000"/>
          </a:bodyPr>
          <a:p>
            <a:pPr marL="40572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Arbeidsinspectie (A.I.) m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roevingen en metingen d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to’s en tekeningen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sters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werpen mee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 algn="ctr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Iedereen mo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odzakelijke gegevens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lichtingen verstre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ogelijk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aarschuwing g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etes opleg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s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72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 stilleggen of een combinatie hier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7617952-975F-42BA-AF76-3231FE8EB819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ijn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 geldt niet voor delfstoffenindustr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voor is de mijn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jnwet verschil t.o.v. Arbowet is da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antwoordelijkheid voor het veil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rgelegd is bij de eigenaar winningsloc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00829558-7933-43C4-B0F7-16ABEE3E0517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2860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iligheid en de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190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wet van Van Hout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inderarbeid verb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- en rustt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 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ygië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eidstij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, gezondheid 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4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jnwet (nu Mijnwet Continentaal Plat) 19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6383160" y="1363680"/>
            <a:ext cx="80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0" y="2057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95288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267080" y="457200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7891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78912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83664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760920" y="1523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376092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H="1">
            <a:off x="3656160" y="2971800"/>
            <a:ext cx="144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H="1">
            <a:off x="5333760" y="2133720"/>
            <a:ext cx="236196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21D7834C-E885-43ED-8024-F98F9B2EE9B1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- en regel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oinformatiebl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 (NEN, EN, I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2610000" y="1912680"/>
            <a:ext cx="2652480" cy="42591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H="1" flipV="1">
            <a:off x="6781680" y="1905120"/>
            <a:ext cx="2756160" cy="42638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5262480" y="1905120"/>
            <a:ext cx="1519200" cy="79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2590920" y="6172200"/>
            <a:ext cx="693396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268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7EDED812-3404-49B7-AA1C-73BC5B0640A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 is een RAAM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93000"/>
          </a:bodyPr>
          <a:p>
            <a:pPr marL="385200" indent="0" algn="ctr">
              <a:spcBef>
                <a:spcPts val="1176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7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4" marL="2311920" indent="0">
              <a:spcBef>
                <a:spcPts val="601"/>
              </a:spcBef>
              <a:buNone/>
              <a:tabLst>
                <a:tab algn="l" pos="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8 uitvoerings-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A.M.v.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40 Ministerië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uiten =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(minister)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Besluiten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bobeslui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1 Arboreg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beleids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o-Informatiebladen (vroeger P-Bla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 flipH="1">
            <a:off x="404280" y="1905120"/>
            <a:ext cx="82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412920" y="190512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12920" y="5089680"/>
            <a:ext cx="96012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73836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28140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369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598788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656424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9272520" y="3048120"/>
            <a:ext cx="0" cy="16002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738360" y="30481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738360" y="4648320"/>
            <a:ext cx="254304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3692520" y="30481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>
            <a:off x="3692520" y="4648320"/>
            <a:ext cx="2295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564240" y="30481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564240" y="4648320"/>
            <a:ext cx="27082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 flipH="1">
            <a:off x="9969120" y="1905120"/>
            <a:ext cx="4680" cy="31845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C58A3A60-3D2A-4C3A-9BF8-B5C2255AC5AB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028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9534600" cy="4114800"/>
          </a:xfrm>
          <a:prstGeom prst="rect">
            <a:avLst/>
          </a:prstGeom>
          <a:noFill/>
          <a:ln w="0">
            <a:noFill/>
          </a:ln>
        </p:spPr>
        <p:txBody>
          <a:bodyPr lIns="114480" rIns="114480" tIns="57240" bIns="57240" anchor="t">
            <a:normAutofit fontScale="86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rderen van veiligheid, gezondheid en welzij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lementen van de Arbowet zij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iligheid, gezondheid en welzij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tdurend verbet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gever eerst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ook verantwoordelij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rknemer actief betrok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55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0" lang="nl-NL" sz="3200" spc="-1" strike="noStrike">
                <a:solidFill>
                  <a:srgbClr val="ccccff"/>
                </a:solidFill>
                <a:latin typeface="Arial"/>
              </a:rPr>
              <a:t>medeverantwoor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 uw arbeidsomstandigheden </a:t>
            </a:r>
            <a:r>
              <a:rPr b="0" i="1" lang="nl-NL" sz="3200" spc="-1" strike="noStrike">
                <a:solidFill>
                  <a:srgbClr val="ff0033"/>
                </a:solidFill>
                <a:latin typeface="Arial"/>
              </a:rPr>
              <a:t>en dat is niet n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698400" y="50166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698400" y="6172200"/>
            <a:ext cx="912204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9840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9820440" y="5016600"/>
            <a:ext cx="0" cy="11556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18BB3D3A-86C2-4171-9B10-8E7B5FC7B6A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sico Inventarisatie &amp; Eval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9000"/>
          </a:bodyPr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rst weten welke risic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steuning door gecertificeerde Arbodie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04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arlijks controleren op 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041238D-8047-4091-B952-39F71B6A965D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werk zo inrichten dat geen gevaar voor veiligheid en gezondheid be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en voor goede arbeids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gevallen en beroepsziekten melden bij A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lichting en instructie geven over het soort werk en hun geva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BM’s te verstr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943600" y="4778280"/>
            <a:ext cx="2079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671504B1-5F55-4BB6-874A-15A947767530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/>
          </a:bodyPr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de juiste beschermingsmiddelen en toezicht houden op het 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heersmaatregelen om risico’s zo laag mogelijk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spcBef>
                <a:spcPts val="700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ilige machines en apparatuur aan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7645320" y="6248520"/>
            <a:ext cx="22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ctr">
            <a:noAutofit/>
          </a:bodyPr>
          <a:p>
            <a:pPr algn="r"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fld id="{59B4FF38-AEDE-4006-88F6-0111F89996CA}" type="slidenum">
              <a:rPr b="0" lang="nl-NL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028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ctr">
            <a:noAutofit/>
          </a:bodyPr>
          <a:p>
            <a:pPr indent="0" algn="ctr"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i="1" lang="nl-NL" sz="4400" spc="-1" strike="noStrike">
                <a:solidFill>
                  <a:srgbClr val="000000"/>
                </a:solidFill>
                <a:latin typeface="Arial"/>
              </a:rPr>
              <a:t>Rechten en plichten werkgev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028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440" bIns="55440" anchor="t">
            <a:normAutofit fontScale="93000"/>
          </a:bodyPr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ren bestrijden bij de b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passen van het werk op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helpen aan de persoonlijke ontwikk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ai en geestdodend werk verm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de persoonlijke eigen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verzorgen tussen de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aan goede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voor d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spcBef>
                <a:spcPts val="601"/>
              </a:spcBef>
              <a:buNone/>
              <a:tabLst>
                <a:tab algn="l" pos="0"/>
                <a:tab algn="l" pos="1335240"/>
                <a:tab algn="l" pos="2670120"/>
                <a:tab algn="l" pos="4005360"/>
                <a:tab algn="l" pos="5340240"/>
                <a:tab algn="l" pos="6675480"/>
                <a:tab algn="l" pos="8010360"/>
                <a:tab algn="l" pos="9345600"/>
                <a:tab algn="l" pos="106808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voor bedrijfshulpverleners bij ongevallen en calamiteiten bestrij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19:03:59Z</dcterms:created>
  <dc:creator>Hajo Kleijburg</dc:creator>
  <dc:description>Revisie 0</dc:description>
  <dc:language>en-US</dc:language>
  <cp:lastModifiedBy>Hans Mulder</cp:lastModifiedBy>
  <cp:lastPrinted>2000-05-31T15:24:46Z</cp:lastPrinted>
  <dcterms:modified xsi:type="dcterms:W3CDTF">2016-10-03T10:32:54Z</dcterms:modified>
  <cp:revision>21</cp:revision>
  <dc:subject>Les 1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