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15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8A8-2CCA-41D0-8FF3-EF17B127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11D-8C06-46A0-A6B0-4AB5564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D627C-F795-47DD-A4CD-699A635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8BD57-AE1A-4101-ABE6-58D3B464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2DD2-AC83-4AE7-BF09-012243AC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47576-2D18-44F0-8599-125424F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35229-ABDF-4551-AFE6-CCDC3AF8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07BE6-487B-49A0-9ABD-FE020B9C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22BB4-1B9B-48C1-B698-96DB8124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CF3C1-C1A1-42E4-BE9E-1E0C3A3B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595B-4267-4106-A590-8790C682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81232-FAE5-4A8B-894F-0ECB9F97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82D-7F2C-4BFF-8A50-97077B7D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82B1B-74A0-4781-B292-E308DBE8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68027-07BD-4B0F-902F-15F413A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3E98A-DE49-43FD-B84B-44114F0F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093CF-EBE6-43CB-9B9D-2583C383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7F94E-BB95-4CED-960C-327F6F5C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7BD2A-95C3-497D-BEC7-EB173CC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ED68F-848F-492B-B13C-D2996869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052DD-A7D0-469F-AC12-1F6BFC5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DFC81-B2EC-408D-9E69-EE8FFF04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80D1F-93BA-4E00-9619-343490EC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C5A-AAA3-447B-8658-5F85B64E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92B83-8BDF-444C-AF4F-69F08EAD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EECE7-9B5E-4BF1-8396-265A56C4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FBAD5-D8B4-486D-BC1E-BFDDFD3D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FF8A9-DA35-4375-B0F2-082A1F33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9C2CD-8C9C-4D1B-B156-83F8A49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33914-D192-4D3D-886D-E4C8A4A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32C7A-E1E2-49E8-8368-F9A4ADD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D78F0-A906-4699-A2A1-48572507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D61CE-AA8E-4758-B65B-FD367DC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7476-357A-4631-85B2-B98C7BE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7BB7-71C2-41B3-9041-5AF788D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1E18F-FD16-4585-9424-9EFE87CF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B0D6-5D17-42FA-A5EC-B755964E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B3EDD-36DB-488C-A00C-2EE03EAC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F79C5-0768-4584-B52A-09E4AAB7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7B011-3C1C-4664-9E67-96190D3A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35008-7942-4402-838F-094BACF6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22E61-B4B2-4C61-9CFC-970230A2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FE9E7-CD52-4B11-9FD1-EF8F94D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CB4E6-9382-496D-9402-EEAFC990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8DE4B-31F8-4398-9CE5-87B1D36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34ED-18E5-43A5-AFEE-1250397B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7175B-8687-440B-8067-539D98A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D5FA2-5243-4DD5-A715-59AD80B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CFDA4-E0B7-413E-A361-1C8D0D2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3424A-768F-40A0-8EF7-B7E14F84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54556-C9AF-4263-ACAD-2A0C5B5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D89-A416-4D61-9E82-ECC9D4B4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F704-23A3-4BFA-93C4-6548B521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74C3-A7E7-4AE8-A57F-77E559C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319-7989-4870-B78E-865E141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6D27-07E3-4268-A38A-574E4F7E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C67F-6B6F-431F-8F3D-31D488C2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FFB4-E25A-404D-9CFE-48EC1C5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4E5-A912-4D0E-8B10-DCFB01AC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7AC-57F0-42A8-B1F0-724121EB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7ED-4144-456E-A298-A6DD6E45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17C-6CB1-45D2-9390-54869A8B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B811-50FE-4B91-9391-911424D5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177F-975E-4803-853B-B78A002A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1466B-7299-460F-89BD-3B6F6A1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000D-F9AA-4A84-98BC-A5AA0039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C39DB-4722-4772-822B-D5C5C48B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F32-6EC0-4648-AA86-E1A8C5A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8352-94F2-4434-886F-504088C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AB971-5042-4242-9827-8769FD89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BDF97-BD05-4E02-A2BC-84FF8A0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92ED-1217-4DA0-B60A-C1F4E731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774C-2C99-4867-9C2B-73DF3D81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7BEE-5770-4B93-BF57-67BA5968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0B55-9601-4A7D-8319-7671CF13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BB72-26C5-4FED-B1AD-5DDDC7B0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EBBC-5508-48B3-A7D8-5287C7C4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5FFC-6FCA-4392-908E-536AFC6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4A9-05ED-4F2A-AD9E-4A662B07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3805-F5F2-4859-AE01-073C7736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9D67-23DA-4F65-8C93-42781B8E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1034-EFF2-46FE-B196-77DA6A0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0F16-2015-41B3-BD7B-23E7F1D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86F0C-16B9-4260-8A3B-5CE81B6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47C7C-00BB-4ADB-A2E1-EE60D87E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E937-07A9-4EA1-822A-B8AA72A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C510-B658-423A-A128-450EE26F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FC3B-CEF8-4BC9-ADF6-A790D954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FD598-FEB7-4CA7-BC17-5E1ADE98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B80-D5D0-46FF-B7A7-3937A18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38BE-A009-4CA2-8374-ADF0B8F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4F8C-A684-43FF-81A0-E8D8302A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8D27-79DF-459C-88C3-3FE62E34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DCC6E-56D5-405F-A637-FE2A6467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9547-AFF0-4FB4-98BA-F9E17EA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1C7D3-D67E-4062-88F3-21617D9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43935-DB06-42F3-9AE0-B7CA51B7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58CB-03D3-4F02-9E9E-DFA5F2F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1DD4-0C9F-4D4F-9210-56FB10BB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00A3-D4F1-465F-B136-5CFC2269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231-7C32-4F90-807A-52C2483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F27A4-F364-4165-81C9-C2ECB60B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24F3-5D7D-466F-B611-2393BEC6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89BB-D37E-43A0-965A-CF4E5985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83BA3-459C-407F-A020-1070D1E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2DECA-0AC3-4CD6-9D75-A7FB5F12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764E5-5CDB-4522-8CD4-2C7C01B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06A18-D712-422A-A17B-24D7CBE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685A-212C-45EF-8E80-0066C84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4EA68-36C2-4F62-BFC9-6524D614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A315A-0F9A-4E09-8D57-E3E5E08E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14E-EC90-4EB8-9932-38AD40D7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B0D6E-A3A8-4305-A242-F04D07E5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3677-0909-425E-8CC6-F5165079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2FE5-70CC-4D5A-BE50-952B8239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164D-1497-4767-B529-20E65539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1E62-51AF-46A5-8706-DF88A2C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65E2-936C-4112-BC5E-D1E8FA4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517FE-2DC9-4D28-8224-D9843ABC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53F6-D376-4EDF-84B0-697EAB07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69183-2755-4166-8C43-00F1EEC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13F8F-3772-48CD-902A-EEF7C44F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FF3-4DE2-420B-9968-8666A84A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A7C53-FAD1-4B29-A4C0-C075655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164DD-2CA0-4A01-AFFD-B3F9DD56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CCCB0-ECB1-4E6A-8C0F-959872A6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3C517-053D-4098-A19C-E7C1829E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AF26-54E2-461C-936A-D6126B40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552A0-AED3-4C92-83B3-1210135C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5C332-0724-4BD9-8BBE-DA6E6F3B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B873C-D9F8-46E9-BFB3-6282310F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F586-C7D4-4132-ACFC-60726C8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B15C3-0080-4601-87FD-BFF7CFF6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089-3A9B-434E-8CD5-FBFFBEB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43E6A-B39F-4219-9F34-AA1DA828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3927-31A5-417A-AC66-EC0E8F47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701CD-F4E8-45F1-AD06-9E791A38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CC4A-D646-4DE8-86EB-B9D03D84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3818-C07C-466C-9464-B563824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669CF-67F1-4E9E-AD9E-D55CC477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49CDA-A036-4B6C-91DD-BFEEFCA3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7866C-6678-4FCF-ABAD-DE0AA5BC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04EA9-7370-436C-A308-0303C8B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80996-C81A-495F-9418-450DA47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3C01-C74D-43BE-AD8D-05F4BFB8005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39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8AF-15AB-4B7E-9E52-AFAE925227D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164B-A2FC-4152-BFBC-94351794A7F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E19F-44B7-44B9-87B1-EF42797FF13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A80-B4DB-4285-89F5-7FA219FDA78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CA1-B4AC-4039-A63D-B0C0445571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57C-1B0A-4E8B-9CF8-CB0C91FF3DF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B48D-5CDF-4F19-A41C-E4FF28E1577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878-6F62-4956-9792-057BD3E0FE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698D-A5E4-4CA7-A235-18371F81BC0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2D31-6B31-4D5B-A633-480917000B5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55C2-1519-47D7-93E0-27F635F832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9680" y="571680"/>
            <a:ext cx="83581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aa911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Hoofdstuk 7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Managementsysteem en certificatie:</a:t>
            </a:r>
            <a:br>
              <a:rPr sz="4400"/>
            </a:br>
            <a:r>
              <a:rPr b="1" lang="en-US" sz="4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2aa911"/>
                </a:solidFill>
                <a:latin typeface="Arial"/>
                <a:ea typeface="Tahoma"/>
              </a:rPr>
              <a:t>het fundament van VC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C16-C2AA-4FCF-AB84-6B1FE6861F2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743E-0DD6-481E-8E6A-ED5D5BB882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6" name="Groep 8"/>
          <p:cNvGrpSpPr/>
          <p:nvPr/>
        </p:nvGrpSpPr>
        <p:grpSpPr>
          <a:xfrm>
            <a:off x="1285920" y="1071360"/>
            <a:ext cx="2954160" cy="4818240"/>
            <a:chOff x="1285920" y="1071360"/>
            <a:chExt cx="2954160" cy="4818240"/>
          </a:xfrm>
        </p:grpSpPr>
        <p:sp>
          <p:nvSpPr>
            <p:cNvPr id="617" name="Parallellogram 6"/>
            <p:cNvSpPr/>
            <p:nvPr/>
          </p:nvSpPr>
          <p:spPr>
            <a:xfrm flipH="1" rot="5400000">
              <a:off x="1636200" y="997560"/>
              <a:ext cx="2122200" cy="2269080"/>
            </a:xfrm>
            <a:prstGeom prst="parallelogram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8" name="Rechthoek 5" descr=""/>
            <p:cNvPicPr/>
            <p:nvPr/>
          </p:nvPicPr>
          <p:blipFill>
            <a:blip r:embed="rId2"/>
            <a:stretch/>
          </p:blipFill>
          <p:spPr>
            <a:xfrm>
              <a:off x="1285920" y="1611360"/>
              <a:ext cx="2954160" cy="42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Tekstvak 7"/>
          <p:cNvSpPr/>
          <p:nvPr/>
        </p:nvSpPr>
        <p:spPr>
          <a:xfrm>
            <a:off x="5143680" y="1428840"/>
            <a:ext cx="3000240" cy="3812040"/>
          </a:xfrm>
          <a:prstGeom prst="rect">
            <a:avLst/>
          </a:prstGeom>
          <a:noFill/>
          <a:ln w="28440">
            <a:solidFill>
              <a:srgbClr val="c016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lstel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e-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akverde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9F6-638D-4476-9C1D-1BE4B355DCF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4  V&amp;G-actiepla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2" name="Tekstvak 5"/>
          <p:cNvSpPr/>
          <p:nvPr/>
        </p:nvSpPr>
        <p:spPr>
          <a:xfrm>
            <a:off x="571680" y="1285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oel actiepla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rgen dat vastgestelde risico’s bi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IE en 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worden beheerst door doeltreffende maatrege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kstvak 6"/>
          <p:cNvSpPr/>
          <p:nvPr/>
        </p:nvSpPr>
        <p:spPr>
          <a:xfrm>
            <a:off x="571680" y="335772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V&amp;G-actieplan beva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tregelen/ac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uitvoering (mensen, middele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lanning en eindtij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antwoordelijk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aluatie (ook t.a.v. doel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5C69-7C11-4D54-AC5E-6DD5246C7AF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7.5 Taakrisicoanalyse (TRA)</a:t>
            </a:r>
            <a:br>
              <a:rPr sz="2800"/>
            </a:br>
            <a:r>
              <a:rPr b="1" lang="nl-NL" sz="2800" spc="-1" strike="noStrike">
                <a:solidFill>
                  <a:srgbClr val="2aa911"/>
                </a:solidFill>
                <a:latin typeface="Arial"/>
              </a:rPr>
              <a:t>en Laatste Minuut RisicoAnalyse (LMRA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26" name="Tekstvak 5"/>
          <p:cNvSpPr/>
          <p:nvPr/>
        </p:nvSpPr>
        <p:spPr>
          <a:xfrm>
            <a:off x="571680" y="182880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oordat je goede maatregelen kunt treffen,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oet je eerst de risico’s analys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eker als er geen goede veiligheidsprocedures zij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8D2A-8788-4ABF-8BBD-60951A373A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kstvak 4"/>
          <p:cNvSpPr/>
          <p:nvPr/>
        </p:nvSpPr>
        <p:spPr>
          <a:xfrm>
            <a:off x="571680" y="417600"/>
            <a:ext cx="857232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TR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 nieuwe machines, projecten of voorafgaand aan werkvergunninge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ok bij nieuwbouw, verbouw of inzetten van stagiairs, uitzendkrachten en jong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A-karwei opsplitsen in taken en die weer in taakstapp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er taakstap de risico’s en de noodzakelijke (extra) beheersmaatregelen vastste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 indent="-38124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zo nodig maatregelen aanpassen/nieuwe TRA uitvoeren al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ndities zijn veranderd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et werkplan niet meer uitvoerbaar is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installatie niet meer drukvrij of spanningsvrij is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2854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 juiste middelen of gereedschappen niet beschikbaar zij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C270-2BC7-4260-B83A-7FAAB67D5FF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7" descr=""/>
          <p:cNvPicPr/>
          <p:nvPr/>
        </p:nvPicPr>
        <p:blipFill>
          <a:blip r:embed="rId2"/>
          <a:stretch/>
        </p:blipFill>
        <p:spPr>
          <a:xfrm>
            <a:off x="0" y="5929200"/>
            <a:ext cx="714240" cy="495360"/>
          </a:xfrm>
          <a:prstGeom prst="rect">
            <a:avLst/>
          </a:prstGeom>
          <a:ln w="0">
            <a:noFill/>
          </a:ln>
        </p:spPr>
      </p:pic>
      <p:sp>
        <p:nvSpPr>
          <p:cNvPr id="631" name="Tekstvak 4"/>
          <p:cNvSpPr/>
          <p:nvPr/>
        </p:nvSpPr>
        <p:spPr>
          <a:xfrm>
            <a:off x="571680" y="511200"/>
            <a:ext cx="8572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LM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uit te voeren risicocheck door de uitvoerende direct voor aanvang van zijn werkzaamheden bij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nieuwe taa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erandering van we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en ook bij routinematige werkzaamhed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oel is dat werk zo nodig wordt gestopt en eerst de beheersmaatregelen worden getroff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middelen die worden gebruik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aandachtspuntenkaar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werkcheckcar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stop-check-go card …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LMR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407A-1ED0-4DA9-A900-252A1933B3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hthoek 7"/>
          <p:cNvSpPr/>
          <p:nvPr/>
        </p:nvSpPr>
        <p:spPr>
          <a:xfrm>
            <a:off x="3571920" y="100008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of werkcheckcard gebruiken,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5" name="Picture 7" descr="Scannen0001"/>
          <p:cNvPicPr/>
          <p:nvPr/>
        </p:nvPicPr>
        <p:blipFill>
          <a:blip r:embed="rId2"/>
          <a:srcRect l="3501" t="1212" r="19563" b="15335"/>
          <a:stretch/>
        </p:blipFill>
        <p:spPr>
          <a:xfrm>
            <a:off x="857160" y="107172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Scannen0002"/>
          <p:cNvPicPr/>
          <p:nvPr/>
        </p:nvPicPr>
        <p:blipFill>
          <a:blip r:embed="rId3"/>
          <a:srcRect l="0" t="15349" r="62584" b="6527"/>
          <a:stretch/>
        </p:blipFill>
        <p:spPr>
          <a:xfrm rot="983400">
            <a:off x="6754680" y="2332080"/>
            <a:ext cx="1600200" cy="2463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9" descr="Scannen0003"/>
          <p:cNvPicPr/>
          <p:nvPr/>
        </p:nvPicPr>
        <p:blipFill>
          <a:blip r:embed="rId4"/>
          <a:srcRect l="0" t="5832" r="0" b="21877"/>
          <a:stretch/>
        </p:blipFill>
        <p:spPr>
          <a:xfrm>
            <a:off x="3286080" y="2500200"/>
            <a:ext cx="2779920" cy="3543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2" descr="Scannen0005"/>
          <p:cNvPicPr/>
          <p:nvPr/>
        </p:nvPicPr>
        <p:blipFill>
          <a:blip r:embed="rId5"/>
          <a:srcRect l="0" t="0" r="4502" b="0"/>
          <a:stretch/>
        </p:blipFill>
        <p:spPr>
          <a:xfrm rot="17194200">
            <a:off x="6323760" y="2753280"/>
            <a:ext cx="250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89E8-8084-4F22-A7C6-BFE96B461C2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6 Incidenten registre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1" name="Tekstvak 6"/>
          <p:cNvSpPr/>
          <p:nvPr/>
        </p:nvSpPr>
        <p:spPr>
          <a:xfrm>
            <a:off x="609480" y="137160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t registreren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inciden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ijna-ongevall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situat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onveilige handeling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kstvak 7"/>
          <p:cNvSpPr/>
          <p:nvPr/>
        </p:nvSpPr>
        <p:spPr>
          <a:xfrm>
            <a:off x="571680" y="4000680"/>
            <a:ext cx="70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waarom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gevens vastleggen voor de overheid en als basis voor bedrijfsbeleid om ervan te kunnen l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672-45FB-468A-80EF-82908DC366E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7 Ongevallenonderzoe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5" name="Tekstvak 7"/>
          <p:cNvSpPr/>
          <p:nvPr/>
        </p:nvSpPr>
        <p:spPr>
          <a:xfrm>
            <a:off x="571680" y="9748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aststellen en wegnemen van de oorzaken van een ongeval voorkomt herhal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kstvak 8"/>
          <p:cNvSpPr/>
          <p:nvPr/>
        </p:nvSpPr>
        <p:spPr>
          <a:xfrm>
            <a:off x="2786040" y="2049480"/>
            <a:ext cx="2624040" cy="2598840"/>
          </a:xfrm>
          <a:prstGeom prst="rect">
            <a:avLst/>
          </a:prstGeom>
          <a:solidFill>
            <a:srgbClr val="60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derzoek 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at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.s.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to’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standighede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kstvak 10"/>
          <p:cNvSpPr/>
          <p:nvPr/>
        </p:nvSpPr>
        <p:spPr>
          <a:xfrm>
            <a:off x="1357200" y="5072040"/>
            <a:ext cx="23576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alyseren en combine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kstvak 11"/>
          <p:cNvSpPr/>
          <p:nvPr/>
        </p:nvSpPr>
        <p:spPr>
          <a:xfrm>
            <a:off x="785880" y="3714840"/>
            <a:ext cx="1714320" cy="94716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uigen hor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9" name="Rechte verbindingslijn met pijl 13"/>
          <p:cNvCxnSpPr>
            <a:endCxn id="647" idx="0"/>
          </p:cNvCxnSpPr>
          <p:nvPr/>
        </p:nvCxnSpPr>
        <p:spPr>
          <a:xfrm>
            <a:off x="1787400" y="4714920"/>
            <a:ext cx="750240" cy="35784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0" name="Rechte verbindingslijn met pijl 15"/>
          <p:cNvCxnSpPr/>
          <p:nvPr/>
        </p:nvCxnSpPr>
        <p:spPr>
          <a:xfrm flipH="1">
            <a:off x="2714400" y="4714920"/>
            <a:ext cx="1072080" cy="286560"/>
          </a:xfrm>
          <a:prstGeom prst="straightConnector1">
            <a:avLst/>
          </a:prstGeom>
          <a:ln w="57240">
            <a:solidFill>
              <a:srgbClr val="2aa911"/>
            </a:solidFill>
            <a:miter/>
            <a:tailEnd len="med" type="arrow" w="med"/>
          </a:ln>
        </p:spPr>
      </p:cxnSp>
      <p:cxnSp>
        <p:nvCxnSpPr>
          <p:cNvPr id="651" name="Rechte verbindingslijn met pijl 18"/>
          <p:cNvCxnSpPr>
            <a:stCxn id="647" idx="3"/>
            <a:endCxn id="652" idx="1"/>
          </p:cNvCxnSpPr>
          <p:nvPr/>
        </p:nvCxnSpPr>
        <p:spPr>
          <a:xfrm flipV="1">
            <a:off x="3714840" y="4990320"/>
            <a:ext cx="1838880" cy="5547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53" name="Tekstvak 21"/>
          <p:cNvSpPr/>
          <p:nvPr/>
        </p:nvSpPr>
        <p:spPr>
          <a:xfrm>
            <a:off x="609480" y="2362320"/>
            <a:ext cx="20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onderzoek-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pla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kstvak 22"/>
          <p:cNvSpPr/>
          <p:nvPr/>
        </p:nvSpPr>
        <p:spPr>
          <a:xfrm>
            <a:off x="5572080" y="4071960"/>
            <a:ext cx="3038400" cy="1800360"/>
          </a:xfrm>
          <a:prstGeom prst="rect">
            <a:avLst/>
          </a:prstGeom>
          <a:solidFill>
            <a:srgbClr val="c4c4c4"/>
          </a:solidFill>
          <a:ln w="38160">
            <a:solidFill>
              <a:srgbClr val="000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port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bevelin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F82-3A9E-4664-B7AE-05D8AD6A93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6" name="Tekstvak 4"/>
          <p:cNvSpPr/>
          <p:nvPr/>
        </p:nvSpPr>
        <p:spPr>
          <a:xfrm>
            <a:off x="642960" y="164304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noodprocedures bekend stel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rganiseren van de noodhulp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70AB-A222-43DD-9522-691B164C78D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2)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659" name="Groep 5" descr=""/>
          <p:cNvPicPr/>
          <p:nvPr/>
        </p:nvPicPr>
        <p:blipFill>
          <a:blip r:embed="rId2"/>
          <a:stretch/>
        </p:blipFill>
        <p:spPr>
          <a:xfrm>
            <a:off x="963720" y="1352520"/>
            <a:ext cx="3705120" cy="4037040"/>
          </a:xfrm>
          <a:prstGeom prst="rect">
            <a:avLst/>
          </a:prstGeom>
          <a:ln w="0">
            <a:noFill/>
          </a:ln>
        </p:spPr>
      </p:pic>
      <p:sp>
        <p:nvSpPr>
          <p:cNvPr id="660" name="Tekstvak 8"/>
          <p:cNvSpPr/>
          <p:nvPr/>
        </p:nvSpPr>
        <p:spPr>
          <a:xfrm>
            <a:off x="5018040" y="223344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rijving van maatregelen en voorzieningen om in noodsituaties effectief te kunnen optre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kstvak 9"/>
          <p:cNvSpPr/>
          <p:nvPr/>
        </p:nvSpPr>
        <p:spPr>
          <a:xfrm>
            <a:off x="4929120" y="4929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noodplan staan ook de noodprocedu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 Managementsysteem en certifica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99680" y="135684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n van veiligheid met een syste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CA, wat is het, hoe werkt h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systeem: risicobeheersing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eids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&amp;G-actiep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en VCA checklist: TRA en LMR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incidenten registr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ongevallenonderzo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VCA checklist: voorbereiding 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B568-530E-4FCD-8D55-E339DE33F21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C207-98BD-4C50-BF19-A29543601AC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00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64" name="Tekstvak 4"/>
          <p:cNvSpPr/>
          <p:nvPr/>
        </p:nvSpPr>
        <p:spPr>
          <a:xfrm>
            <a:off x="928800" y="1285920"/>
            <a:ext cx="5214960" cy="70344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Tahoma"/>
              </a:rPr>
              <a:t>noodprocedur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kstvak 5"/>
          <p:cNvSpPr/>
          <p:nvPr/>
        </p:nvSpPr>
        <p:spPr>
          <a:xfrm>
            <a:off x="609480" y="2895480"/>
            <a:ext cx="24768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meld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ngeval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noodsitua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alarmeren van hulpdiens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kstvak 6"/>
          <p:cNvSpPr/>
          <p:nvPr/>
        </p:nvSpPr>
        <p:spPr>
          <a:xfrm>
            <a:off x="3195720" y="2895480"/>
            <a:ext cx="2876400" cy="213552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ulpverlen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EHB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orzaak /dreiging wegnem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kstvak 7"/>
          <p:cNvSpPr/>
          <p:nvPr/>
        </p:nvSpPr>
        <p:spPr>
          <a:xfrm>
            <a:off x="6215040" y="2895480"/>
            <a:ext cx="2548080" cy="314100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plattegron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waarschuw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middel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verzamel-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 plaats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oefeningen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Tahoma"/>
              </a:rPr>
              <a:t>(min.1x per jaar, met derden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hte verbindingslijn 9"/>
          <p:cNvSpPr/>
          <p:nvPr/>
        </p:nvSpPr>
        <p:spPr>
          <a:xfrm flipV="1">
            <a:off x="1828800" y="1981080"/>
            <a:ext cx="1108080" cy="85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hte verbindingslijn 12"/>
          <p:cNvSpPr/>
          <p:nvPr/>
        </p:nvSpPr>
        <p:spPr>
          <a:xfrm>
            <a:off x="3536280" y="1996920"/>
            <a:ext cx="19080" cy="1363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hte verbindingslijn 14"/>
          <p:cNvSpPr/>
          <p:nvPr/>
        </p:nvSpPr>
        <p:spPr>
          <a:xfrm>
            <a:off x="5429160" y="1928880"/>
            <a:ext cx="1608120" cy="950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kstvak 16"/>
          <p:cNvSpPr/>
          <p:nvPr/>
        </p:nvSpPr>
        <p:spPr>
          <a:xfrm>
            <a:off x="3286080" y="2286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uitreiken 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E560-13A0-4DAF-9A19-E9B2AEED828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8 Voorbereiden op noodsituaties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5" name="Tekstvak 5"/>
          <p:cNvSpPr/>
          <p:nvPr/>
        </p:nvSpPr>
        <p:spPr>
          <a:xfrm>
            <a:off x="609480" y="928800"/>
            <a:ext cx="82486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in het noodplan staat ook verdere info m.b.t. de noodorganisati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ikbare hulpbro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voorzieningen en menskracht in ei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ie en exter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HV (bedrijfshulpverlenin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elijk verplichte organis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EHBO, bestrijden beginnende brand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evacuati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eiden oefenen van optreden volgens het draaiboe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eel voorberei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odplan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ing personeel test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a9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6" name="Afbeelding 7" descr="back_bhv.jpg"/>
          <p:cNvPicPr/>
          <p:nvPr/>
        </p:nvPicPr>
        <p:blipFill>
          <a:blip r:embed="rId2"/>
          <a:srcRect l="25877" t="10844" r="6838" b="34966"/>
          <a:stretch/>
        </p:blipFill>
        <p:spPr>
          <a:xfrm>
            <a:off x="7072200" y="78588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64B8-15C9-4473-A06D-A7C79B6782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kstvak 3"/>
          <p:cNvSpPr/>
          <p:nvPr/>
        </p:nvSpPr>
        <p:spPr>
          <a:xfrm>
            <a:off x="571680" y="1373040"/>
            <a:ext cx="8286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s je zaken regelt, wil je graag dat wat je georganiseerd hebt, in stand blijft en dat je niet de volgende dag opnieuw met hetzelfde moet beginn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dan kom je niet vooruit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en managementsysteem is een hulpmiddel om wel vooruit te kom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1 Managen van veiligheid met een systeem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71680" y="1499760"/>
            <a:ext cx="85723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steeds voldoen aan wettelijke eisen, bijvoorbeeld Arbow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gever moet ook afspraken nakomen die zijn gemaakt, zoals certificeringen, c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heeft een sleutelrol, maar dan moet er wel sprake zijn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duidelijk bele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76280" indent="-285840">
              <a:spcBef>
                <a:spcPts val="601"/>
              </a:spcBef>
              <a:buClr>
                <a:srgbClr val="2aa91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voorwaarden als tijd, geld e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FF6-72A7-45FC-9679-4DFAD1DECA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00040" y="1077480"/>
            <a:ext cx="850104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M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cklist  </a:t>
            </a:r>
            <a:r>
              <a:rPr b="0" lang="en-US" sz="3200" spc="-1" strike="noStrike">
                <a:solidFill>
                  <a:srgbClr val="c0163a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nnem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lijst met beheersingseisen  om risico’s te voorkomen als aannemers werk uitvoeren in situaties met verhoogd risico, zoals in de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certificaat is een keurmerk dat aantoont dat het bedrijf de VCA-regels toep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hecklist VCA 2008/05 kent 3 niveaus van certificer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**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CA Petroche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7FBA-EBF7-463B-939D-1A390018D5B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2 VCA, wat is het, hoe werkt het 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71320" y="1077480"/>
            <a:ext cx="84294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asis van de beheersing is voldoende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CA vereis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kopleid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opleiding VCA basisveiligheid voor uitvoere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VOL voor operationeel leidinggeven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 voor hoogrisicotaken volgens de SSVV opleidingengi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leidingen en medische gegevens kunnen worden aangetoond met een veiligheidspaspoort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nal safety logboek (PS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2784-30F9-4C08-8CE7-0DD08D7610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1680" y="-766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1760" y="1066320"/>
            <a:ext cx="7799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 van beleid is te zorgen voor planning van de preventie-uitvo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aat om een goede voorbereiding en leren van je ervaring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wordt weergegeven met de Deming-cirk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E8CA-F1D9-444C-A807-2D8879E5AD1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ebogen pijl 4"/>
          <p:cNvGrpSpPr/>
          <p:nvPr/>
        </p:nvGrpSpPr>
        <p:grpSpPr>
          <a:xfrm>
            <a:off x="2651040" y="3749760"/>
            <a:ext cx="1049400" cy="895320"/>
            <a:chOff x="2651040" y="3749760"/>
            <a:chExt cx="1049400" cy="895320"/>
          </a:xfrm>
        </p:grpSpPr>
        <p:pic>
          <p:nvPicPr>
            <p:cNvPr id="586" name="Gebogen pijl 4" descr=""/>
            <p:cNvPicPr/>
            <p:nvPr/>
          </p:nvPicPr>
          <p:blipFill>
            <a:blip r:embed="rId2"/>
            <a:stretch/>
          </p:blipFill>
          <p:spPr>
            <a:xfrm>
              <a:off x="2651040" y="3749760"/>
              <a:ext cx="10494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2714760" y="378612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ebogen pijl 5"/>
          <p:cNvGrpSpPr/>
          <p:nvPr/>
        </p:nvGrpSpPr>
        <p:grpSpPr>
          <a:xfrm>
            <a:off x="2541600" y="5273640"/>
            <a:ext cx="903240" cy="1041480"/>
            <a:chOff x="2541600" y="5273640"/>
            <a:chExt cx="903240" cy="1041480"/>
          </a:xfrm>
        </p:grpSpPr>
        <p:pic>
          <p:nvPicPr>
            <p:cNvPr id="589" name="Gebogen pijl 5" descr=""/>
            <p:cNvPicPr/>
            <p:nvPr/>
          </p:nvPicPr>
          <p:blipFill>
            <a:blip r:embed="rId3"/>
            <a:stretch/>
          </p:blipFill>
          <p:spPr>
            <a:xfrm>
              <a:off x="2541600" y="5273640"/>
              <a:ext cx="90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 rot="16200000">
              <a:off x="2530440" y="5383440"/>
              <a:ext cx="9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1" name="Gebogen pijl 6"/>
          <p:cNvGrpSpPr/>
          <p:nvPr/>
        </p:nvGrpSpPr>
        <p:grpSpPr>
          <a:xfrm>
            <a:off x="4584600" y="5394240"/>
            <a:ext cx="1041480" cy="897120"/>
            <a:chOff x="4584600" y="5394240"/>
            <a:chExt cx="1041480" cy="897120"/>
          </a:xfrm>
        </p:grpSpPr>
        <p:pic>
          <p:nvPicPr>
            <p:cNvPr id="592" name="Gebogen pijl 6" descr=""/>
            <p:cNvPicPr/>
            <p:nvPr/>
          </p:nvPicPr>
          <p:blipFill>
            <a:blip r:embed="rId4"/>
            <a:stretch/>
          </p:blipFill>
          <p:spPr>
            <a:xfrm>
              <a:off x="4584600" y="5394240"/>
              <a:ext cx="10414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 rot="10800000">
              <a:off x="4643280" y="5428800"/>
              <a:ext cx="928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Gebogen pijl 7"/>
          <p:cNvGrpSpPr/>
          <p:nvPr/>
        </p:nvGrpSpPr>
        <p:grpSpPr>
          <a:xfrm>
            <a:off x="4724280" y="3822840"/>
            <a:ext cx="901800" cy="1035000"/>
            <a:chOff x="4724280" y="3822840"/>
            <a:chExt cx="901800" cy="1035000"/>
          </a:xfrm>
        </p:grpSpPr>
        <p:pic>
          <p:nvPicPr>
            <p:cNvPr id="595" name="Gebogen pijl 7" descr=""/>
            <p:cNvPicPr/>
            <p:nvPr/>
          </p:nvPicPr>
          <p:blipFill>
            <a:blip r:embed="rId5"/>
            <a:stretch/>
          </p:blipFill>
          <p:spPr>
            <a:xfrm>
              <a:off x="4724280" y="3822840"/>
              <a:ext cx="9018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 rot="5400000">
              <a:off x="4714560" y="3929040"/>
              <a:ext cx="928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7" name="Tekstvak 9"/>
          <p:cNvGrpSpPr/>
          <p:nvPr/>
        </p:nvGrpSpPr>
        <p:grpSpPr>
          <a:xfrm>
            <a:off x="3584520" y="3621240"/>
            <a:ext cx="1182600" cy="688680"/>
            <a:chOff x="3584520" y="3621240"/>
            <a:chExt cx="1182600" cy="688680"/>
          </a:xfrm>
        </p:grpSpPr>
        <p:pic>
          <p:nvPicPr>
            <p:cNvPr id="598" name="Tekstvak 9" descr=""/>
            <p:cNvPicPr/>
            <p:nvPr/>
          </p:nvPicPr>
          <p:blipFill>
            <a:blip r:embed="rId6"/>
            <a:stretch/>
          </p:blipFill>
          <p:spPr>
            <a:xfrm>
              <a:off x="3584520" y="3621240"/>
              <a:ext cx="11826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3643200" y="371484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d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0" name="Tekstvak 10"/>
          <p:cNvGrpSpPr/>
          <p:nvPr/>
        </p:nvGrpSpPr>
        <p:grpSpPr>
          <a:xfrm>
            <a:off x="4511520" y="4694400"/>
            <a:ext cx="1670040" cy="688680"/>
            <a:chOff x="4511520" y="4694400"/>
            <a:chExt cx="1670040" cy="688680"/>
          </a:xfrm>
        </p:grpSpPr>
        <p:pic>
          <p:nvPicPr>
            <p:cNvPr id="601" name="Tekstvak 10" descr=""/>
            <p:cNvPicPr/>
            <p:nvPr/>
          </p:nvPicPr>
          <p:blipFill>
            <a:blip r:embed="rId7"/>
            <a:stretch/>
          </p:blipFill>
          <p:spPr>
            <a:xfrm>
              <a:off x="4511520" y="4694400"/>
              <a:ext cx="16700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4572000" y="478620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eck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Tekstvak 11"/>
          <p:cNvGrpSpPr/>
          <p:nvPr/>
        </p:nvGrpSpPr>
        <p:grpSpPr>
          <a:xfrm>
            <a:off x="1798560" y="4621320"/>
            <a:ext cx="1670040" cy="689040"/>
            <a:chOff x="1798560" y="4621320"/>
            <a:chExt cx="1670040" cy="689040"/>
          </a:xfrm>
        </p:grpSpPr>
        <p:pic>
          <p:nvPicPr>
            <p:cNvPr id="604" name="Tekstvak 11" descr=""/>
            <p:cNvPicPr/>
            <p:nvPr/>
          </p:nvPicPr>
          <p:blipFill>
            <a:blip r:embed="rId8"/>
            <a:stretch/>
          </p:blipFill>
          <p:spPr>
            <a:xfrm>
              <a:off x="1798560" y="4621320"/>
              <a:ext cx="1670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857240" y="4714920"/>
              <a:ext cx="15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pla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Tekstvak 13"/>
          <p:cNvGrpSpPr/>
          <p:nvPr/>
        </p:nvGrpSpPr>
        <p:grpSpPr>
          <a:xfrm>
            <a:off x="3438360" y="5767560"/>
            <a:ext cx="1189080" cy="688680"/>
            <a:chOff x="3438360" y="5767560"/>
            <a:chExt cx="1189080" cy="688680"/>
          </a:xfrm>
        </p:grpSpPr>
        <p:pic>
          <p:nvPicPr>
            <p:cNvPr id="607" name="Tekstvak 13" descr=""/>
            <p:cNvPicPr/>
            <p:nvPr/>
          </p:nvPicPr>
          <p:blipFill>
            <a:blip r:embed="rId9"/>
            <a:stretch/>
          </p:blipFill>
          <p:spPr>
            <a:xfrm>
              <a:off x="3438360" y="5767560"/>
              <a:ext cx="118908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500280" y="5857920"/>
              <a:ext cx="107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act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a911"/>
                </a:solidFill>
                <a:latin typeface="Arial"/>
              </a:rPr>
              <a:t>7.3 Risicobeheersing en beleidsvo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571680" y="990360"/>
            <a:ext cx="857232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systematische beheersing wordt veelal bedrijfsbreed aangepak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managementsysteem bevat de beschrijving van de uitgangspunten, regels, procedures en documenten die worden ingezet om de doelstellingen van het bedrijf te real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kwijls is er een KAM-systeem (Kwaliteit Arbo Milieu)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wettelijk verplichte RIE is daarin opgenomen: </a:t>
            </a:r>
            <a:br>
              <a:rPr sz="2200"/>
            </a:b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VCA eis 2.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ze bestaat u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iceren van de gevar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entaris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228600">
              <a:spcBef>
                <a:spcPts val="524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eren van de risico’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4932-6391-492F-8E82-6F55E163D6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DC18-5ADE-460A-BA66-7F31BA5AACF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kstvak 4"/>
          <p:cNvSpPr/>
          <p:nvPr/>
        </p:nvSpPr>
        <p:spPr>
          <a:xfrm>
            <a:off x="1357200" y="1246320"/>
            <a:ext cx="6643800" cy="3293280"/>
          </a:xfrm>
          <a:prstGeom prst="rect">
            <a:avLst/>
          </a:prstGeom>
          <a:noFill/>
          <a:ln w="9360">
            <a:solidFill>
              <a:srgbClr val="2aa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enkele van de 47 VCA checklist-eisen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2aa911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&amp;G-actiepl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T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LMR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incidentregistrati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ongevallenonderzoe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a911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voorbereiding op noodsitua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9:30Z</dcterms:modified>
  <cp:revision>244</cp:revision>
  <dc:subject/>
  <dc:title>Taak en positie VFP</dc:title>
</cp:coreProperties>
</file>