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F4E7-F4C1-4C67-A13A-71C3D612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B93-F3EB-4E2B-9E96-0867C8A0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414-77D3-4D33-880D-34CF6A76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963-6297-41F1-8C04-1AA91068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8F1F-3ECE-4FAA-81EC-F4EA112A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667-EEE8-4F8F-9764-20F84141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94CE-740D-4A61-B31C-A112423E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B7A-54B5-476C-ABDD-1C9C06C1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C5E-815B-4955-9ED0-AFC3D435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F03-0C44-486F-8D3C-C8983637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1E4-B981-4D4E-B4D8-F3B896B6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C6D3-4CD1-46C0-A9F5-8D69C3E4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C0871B-AC21-484E-8AE0-CD0A635E7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2880" y="58392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62080" y="2590560"/>
            <a:ext cx="5067360" cy="73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kvergun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7E0-161A-47BA-B3E3-AED3802B1D6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de toeganke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en en sleuven 2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tenzijde afzetting en waarschuwingsb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gangen altijd vrij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9400" y="6894360"/>
          <a:ext cx="1882800" cy="19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9400" y="6894360"/>
                    <a:ext cx="1882800" cy="19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15B9-1D2D-4ACE-AD91-35339BB572B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89880" y="685800"/>
            <a:ext cx="4659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ILIG WER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200" y="8381880"/>
            <a:ext cx="6648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BESLOTEN RUIM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puh" descr=""/>
          <p:cNvPicPr/>
          <p:nvPr/>
        </p:nvPicPr>
        <p:blipFill>
          <a:blip r:embed="rId1"/>
          <a:stretch/>
        </p:blipFill>
        <p:spPr>
          <a:xfrm>
            <a:off x="444600" y="2819520"/>
            <a:ext cx="6348240" cy="443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AC4F-6BAF-497D-92A3-F8E2419005EF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7640" y="480960"/>
            <a:ext cx="5992920" cy="887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13B-6E1C-45CE-A9E7-3311C4AF7BCE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9200" y="262080"/>
            <a:ext cx="61531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42880" y="1328760"/>
            <a:ext cx="6153120" cy="850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b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03720" y="5589720"/>
          <a:ext cx="190044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3720" y="5589720"/>
                    <a:ext cx="190044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032440" y="7799400"/>
          <a:ext cx="189216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2440" y="7799400"/>
                    <a:ext cx="189216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075280" y="1074600"/>
          <a:ext cx="1805040" cy="18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5280" y="1074600"/>
                    <a:ext cx="18050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033880" y="3241800"/>
          <a:ext cx="1887480" cy="18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33880" y="3241800"/>
                    <a:ext cx="18874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C3F-FC32-4FE7-904D-FF2AD5C0CD5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2880" y="337680"/>
            <a:ext cx="6153120" cy="11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42880" y="1709280"/>
            <a:ext cx="6153120" cy="796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schoei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he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afhankelijke adem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205240" y="5210280"/>
          <a:ext cx="200376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240" y="5210280"/>
                    <a:ext cx="200376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189400" y="3227400"/>
          <a:ext cx="188280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9400" y="3227400"/>
                    <a:ext cx="18828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110200" y="1251000"/>
          <a:ext cx="1887480" cy="190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10200" y="1251000"/>
                    <a:ext cx="188748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186520" y="7524720"/>
          <a:ext cx="2041200" cy="201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6520" y="7524720"/>
                    <a:ext cx="204120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472-7AF1-4C2B-AA13-F945235FF67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ren elektriciteit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hogere tempera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vo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lal metaal en dus goede gele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e ruimte, waardoor elektrakabels ongeord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B3A-ABFA-444F-B2EA-FF1A3B80E06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2135160"/>
            <a:ext cx="6832440" cy="632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77E-9B3C-4900-9F4B-FD90AFE30653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 te voorkomen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te verrichten met een veilige sp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0080" y="5416560"/>
            <a:ext cx="5550120" cy="14349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Volt wissel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4120" y="7854840"/>
            <a:ext cx="562608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 Volt gelijk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5697-46B0-45C0-9674-95EC3A0EFED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werkvergunning is bedo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 de volgende zaken goed 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eg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dende afspraken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vastleggen van de voorwaarden waaronder gewerkt dient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AA6-3406-4124-BF77-0F253244F6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te onderdelen op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verstrekkende af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de 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krachtiging door verschillende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7800" y="7778880"/>
            <a:ext cx="6235920" cy="1968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36720" y="7894800"/>
            <a:ext cx="6111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de betrokkenen 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mplaar va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heb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A859-0490-454B-AFEA-86BE0007E97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9200" y="5666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2880" y="1828440"/>
            <a:ext cx="6153120" cy="76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erg kleine werkplek, waardoor moeilijk te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slecht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kleine in- en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weinig 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dag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7EA-1DD1-4712-AD20-90ACEC4D96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2880" y="2319480"/>
            <a:ext cx="6153120" cy="74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gevaren in een besl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 en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toffen en zuurstofgeb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len en strui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1987560"/>
            <a:ext cx="5931000" cy="341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17600" y="2133720"/>
            <a:ext cx="46720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orbeelden besloten ruim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slag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B969-CC5F-451E-AC43-CF7817D1E93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 &amp; Explo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 voor brand en explos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nig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bare stoffen in 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zorgen voor brandbare 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er geen brandbare stoffen in de ruimte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voor ventilatie d.m.v. lucht in bla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8F4-2840-49F4-9A0E-692A390E63A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arlijke stoffen en zuurstoftek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komen giftige stoffen in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oten 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verdamping van resten van de inhoud van een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 de wanden door verhitting en schoon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het werk dat wordt uitgevo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 buiten de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A1D-DD9E-4466-8740-3EF8D866F85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 bij werken in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reidend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rganisatie, toezicht en verblijfsduur, metin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tijdens het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gemene maatregelen, ventileren, maatregelen bij lassen, slijpen, schilderen en bij overige werkzaamhe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D50A-229C-44F7-A3B0-741330D47D1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2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n is W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51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betreden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skundig personeel al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en 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zuurstof (21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L (&lt;10 % L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waa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6920" y="7245360"/>
            <a:ext cx="6692760" cy="2502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9520" y="7405560"/>
            <a:ext cx="53499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OIT FILTERBU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700520" y="7553160"/>
          <a:ext cx="1946520" cy="19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0520" y="7553160"/>
                    <a:ext cx="194652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762440" y="7620120"/>
            <a:ext cx="1905120" cy="1904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686120" y="7620120"/>
            <a:ext cx="1904760" cy="18288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D457-5CF9-40A9-9DC9-837398CC5EB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8:09:42Z</dcterms:created>
  <dc:creator>Hajo Kleijburg</dc:creator>
  <dc:description>Revisie 0</dc:description>
  <dc:language>en-US</dc:language>
  <cp:lastModifiedBy>inge</cp:lastModifiedBy>
  <cp:lastPrinted>2000-04-30T14:28:28Z</cp:lastPrinted>
  <dcterms:modified xsi:type="dcterms:W3CDTF">2003-11-25T19:44:47Z</dcterms:modified>
  <cp:revision>21</cp:revision>
  <dc:subject>Les 8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