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E529-478D-4A0C-A277-9736B10E1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BE51-CE7B-46BA-A9C1-80A547B9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E636-1056-4765-9295-149178BA9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C233-87EE-4AC1-8DEE-0217B317D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24FD-A649-4E56-9DC5-52455D8A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531B-09FE-4895-8160-AA2210CA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8671-1E36-49E7-A189-26F3FDA6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9B19-D14B-4CC5-A21E-0212A714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D588-45C4-4D46-8031-AAFD7D4E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E14B-8985-4CA7-8E11-7AD007F0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3E31-31FE-45C3-A44B-64DA07BD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750D-AE0D-49AA-B281-601F5DF8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A58D-4C49-4635-B92D-F81FD3AEC14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71320"/>
            <a:ext cx="784872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5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Elektriciteit en lawaai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3 Technische veiligheidsmaatregel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eke af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bbele iso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lekbeveil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zeer lage span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elektrische zeke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 gereed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8" descr="http://www.soer.nl/shop/images/9706278elektra.JPG"/>
          <p:cNvPicPr/>
          <p:nvPr/>
        </p:nvPicPr>
        <p:blipFill>
          <a:blip r:embed="rId1"/>
          <a:stretch/>
        </p:blipFill>
        <p:spPr>
          <a:xfrm>
            <a:off x="6815160" y="3886200"/>
            <a:ext cx="2309760" cy="2309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http://www.nl.bradyeurope.com/images/products/479484.jpg"/>
          <p:cNvPicPr/>
          <p:nvPr/>
        </p:nvPicPr>
        <p:blipFill>
          <a:blip r:embed="rId2"/>
          <a:stretch/>
        </p:blipFill>
        <p:spPr>
          <a:xfrm>
            <a:off x="4952880" y="1752480"/>
            <a:ext cx="291168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aarding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 is het verbinden van de uitwendige metalen delen van elektrische toestellen met aar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defect elektrisch toestel wordt voorkomen dat uitwendige delen onder spanning ko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rding aansluiten op bestaand aardnet</a:t>
            </a:r>
            <a:br>
              <a:rPr sz="22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ing van steigers (stellin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op en/of aan de steigers met een niet-veilige spanning wordt gewer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alen containers moeten ook geaard w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4 Elektriciteit in werksituatie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of op omkastingen moet je kunnen zi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de beveiligingen zijn aangebrac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bbele isol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ff0000"/>
                </a:solidFill>
                <a:latin typeface="Arial"/>
              </a:rPr>
              <a:t>let op: beveiligt niet tegen indringen van vocht en stof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eiliging tegen indringen van vocht (bijv. re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eiliging tegen indringen van 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eiliging tegen stoten en vallende voorwer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0" descr="http://www.gortzen.eu/vca/elektrisch%20gereedschap/dubbel%20geisoleerd.png"/>
          <p:cNvPicPr/>
          <p:nvPr/>
        </p:nvPicPr>
        <p:blipFill>
          <a:blip r:embed="rId1"/>
          <a:stretch/>
        </p:blipFill>
        <p:spPr>
          <a:xfrm>
            <a:off x="4048200" y="3133800"/>
            <a:ext cx="6397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4 Elektriciteit in werksituaties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267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isuele inspe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af nakijken op goede sta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heck voor gebruik altijd op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adigingen en afwijking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adigd materieel niet gebruik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n afwijkingen mel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tijdelijke stroominstal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bouw- en reparatiewer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de bouwstroomaansluitkas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aardlekbeveiliging van 300 mA en per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aande voeding een van 30 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Afbeelding 4" descr="insp.jpg"/>
          <p:cNvPicPr/>
          <p:nvPr/>
        </p:nvPicPr>
        <p:blipFill>
          <a:blip r:embed="rId1"/>
          <a:stretch/>
        </p:blipFill>
        <p:spPr>
          <a:xfrm>
            <a:off x="6500880" y="2000160"/>
            <a:ext cx="2281320" cy="1711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http://www.abird.nl/UserFiles/Image/Producten/VerdeelkastVS.jpg"/>
          <p:cNvPicPr/>
          <p:nvPr/>
        </p:nvPicPr>
        <p:blipFill>
          <a:blip r:embed="rId2"/>
          <a:stretch/>
        </p:blipFill>
        <p:spPr>
          <a:xfrm>
            <a:off x="6286680" y="3786120"/>
            <a:ext cx="21715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4 Elektriciteit in werksituaties (3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voeding- en verlengsnoeren en kabelhasp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noeren afgestemd op de stroomsterk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kom overbelasting (brandoorzaa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roleren of kabels en snoeren geschikt zijn voor het vermogen van de appara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belhasp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ximale belasting opgerold versus afgero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spel altijd volledig afro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 op struikelgev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Afbeelding 4" descr="kabelhaspel02.jpg"/>
          <p:cNvPicPr/>
          <p:nvPr/>
        </p:nvPicPr>
        <p:blipFill>
          <a:blip r:embed="rId1"/>
          <a:stretch/>
        </p:blipFill>
        <p:spPr>
          <a:xfrm>
            <a:off x="7412040" y="3968640"/>
            <a:ext cx="171936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5 Statische elektriciteit (1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sche elektriciteit is de opbouw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sche spanning bi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stijgende gas- of dampbellen die turbulen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wervelingen in vloeistoffen veroorz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fspuiten of andere soortgelijke activit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rijven over kunst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neumatisch transport van poeders en korr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rijving door kleding over de h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rijfriemen (drijfriem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mige vloeistoffen bij stroming door een kunststofleiding of bij het ro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pen over kunststof vloerbedek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7415280" y="0"/>
            <a:ext cx="1728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5 Statische elektriciteit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ontstaan van (zeer) hoge spanningen bij statische elektriciteit is mogelijk, dus gevaarlijk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lading kan leiden tot vonkoversla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nische apparatuur kan defect r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statische elektriciteit te beper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ijpleidingen, apparatuur en tanks aa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hoogte van het product beperken (valbu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oomsnelheid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aarding aansluiten op bestaande aardleiding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tistatisch schoeisel en kleding 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6 Lawaai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lawaai is schadelijk gelui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rd geluid heeft nadelige effec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s hinderlij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kan tijdelijk je geh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minde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e verstaat mensen slechter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effecten zijn afhankelijk v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terkte van het gel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soort geluid (hoge of lage ton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tijdsduur van de blootst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519200" y="11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85" name="Groep 14"/>
          <p:cNvGrpSpPr/>
          <p:nvPr/>
        </p:nvGrpSpPr>
        <p:grpSpPr>
          <a:xfrm>
            <a:off x="6715080" y="0"/>
            <a:ext cx="2428920" cy="6858000"/>
            <a:chOff x="6715080" y="0"/>
            <a:chExt cx="2428920" cy="6858000"/>
          </a:xfrm>
        </p:grpSpPr>
        <p:pic>
          <p:nvPicPr>
            <p:cNvPr id="86" name="Picture 7" descr=""/>
            <p:cNvPicPr/>
            <p:nvPr/>
          </p:nvPicPr>
          <p:blipFill>
            <a:blip r:embed="rId1"/>
            <a:stretch/>
          </p:blipFill>
          <p:spPr>
            <a:xfrm>
              <a:off x="6715080" y="0"/>
              <a:ext cx="24289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5" descr=""/>
            <p:cNvPicPr/>
            <p:nvPr/>
          </p:nvPicPr>
          <p:blipFill>
            <a:blip r:embed="rId2"/>
            <a:stretch/>
          </p:blipFill>
          <p:spPr>
            <a:xfrm>
              <a:off x="7639920" y="2004120"/>
              <a:ext cx="817920" cy="105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7" descr="http://www.energytech.at/kwk/fotos/portrait_10_en.jpg"/>
            <p:cNvPicPr/>
            <p:nvPr/>
          </p:nvPicPr>
          <p:blipFill>
            <a:blip r:embed="rId3"/>
            <a:stretch/>
          </p:blipFill>
          <p:spPr>
            <a:xfrm>
              <a:off x="7596720" y="347040"/>
              <a:ext cx="1121040" cy="89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3" descr=""/>
            <p:cNvPicPr/>
            <p:nvPr/>
          </p:nvPicPr>
          <p:blipFill>
            <a:blip r:embed="rId4"/>
            <a:stretch/>
          </p:blipFill>
          <p:spPr>
            <a:xfrm>
              <a:off x="7596720" y="1307520"/>
              <a:ext cx="943200" cy="738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6 Lawaai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gelijke gevolgen van lawaa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oring van de communicatie tijdens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horen van alarmsignalen of hulpgero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0000"/>
                </a:solidFill>
                <a:latin typeface="Arial"/>
              </a:rPr>
              <a:t>blijvende gehoor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rvos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minderde concentr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moeidheid en/of hoofdp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nelde ademh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g- en darmkla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hoogde bloeddruk, hartkla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60020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3" name="Picture 9" descr="http://www.docukit.nl/inhoud/ic74-2.jpg"/>
          <p:cNvPicPr/>
          <p:nvPr/>
        </p:nvPicPr>
        <p:blipFill>
          <a:blip r:embed="rId1"/>
          <a:stretch/>
        </p:blipFill>
        <p:spPr>
          <a:xfrm>
            <a:off x="5797440" y="6480"/>
            <a:ext cx="334008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6 Lawaai (3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ijvende gehoorscha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ite hebben met hoge tonen of zachte gelui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ite hebben met telefon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ite hebben met het volgen van een gespr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ren van voortdurende fluit-, piep- of bromton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e gezondheidsklach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pressivite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er is dus alle reden om lawaai serieus aan te pak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strij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hoorbesche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 Elektriciteit en lawaai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- risico’s van de techniek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onmisb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lichting, airco, geluidsinstallatie, tv, computers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meeste gereedschappen zijn elektrisch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oom k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rand en explosies veroorza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cc0000"/>
                </a:solidFill>
                <a:latin typeface="Arial"/>
              </a:rPr>
              <a:t>statische elektriciteit kan ook gevaarlijk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waaidoofheid is een belangrijke beroepsziek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 Elektriciteit en lawaai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1  Gevaren van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2  Veilig werken met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3  Technische veiligheidsmaatreg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4  Elektriciteit in werk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5  Statische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6  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1 Gevaren van elektriciteit en lawaai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ocu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dood worden door stroom door je licha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wondingen door vonken en vlamb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door een elektrische scho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door reflex op een elektrische sch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- en explosie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stekingsbron bij overslag van von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branding door overbelasting van kab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troom door het lichaam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49" name="Picture 2" descr="http://aivpc41.vub.ac.be/preventie/Images/VE_EL_electrocutie.gif"/>
          <p:cNvPicPr/>
          <p:nvPr/>
        </p:nvPicPr>
        <p:blipFill>
          <a:blip r:embed="rId1">
            <a:grayscl/>
          </a:blip>
          <a:stretch/>
        </p:blipFill>
        <p:spPr>
          <a:xfrm>
            <a:off x="4003560" y="1752480"/>
            <a:ext cx="1751040" cy="47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troom door het lichaam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evaren van stroom door het lichaam worden door meerdere invloeden bepaal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nning (50 Volt, 230 Volt of hoogspann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chtigheidsgraad van de huid (droog of 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ikte van de huid (een eeltlaag biedt bescherm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rakingsoppervlak (hoe groter hoe meer stro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olatieweerstand van schoeisel en standplaa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inoleum en een rubbermat hebben een hoge weerst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betonnen vloer heeft een lage weerst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0" descr="http://www.poolsevis.nl/wp-content/uploads/2009/05/manenschicht.jpg"/>
          <p:cNvPicPr/>
          <p:nvPr/>
        </p:nvPicPr>
        <p:blipFill>
          <a:blip r:embed="rId1"/>
          <a:stretch/>
        </p:blipFill>
        <p:spPr>
          <a:xfrm>
            <a:off x="6929280" y="76320"/>
            <a:ext cx="221472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Stroom door het lichaam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oom door het lichaam kan op een indirecte manier leiden tot een ongev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rikreactie bij stroomdoorgang,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door letsel ontst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kortsluiting geraakt worden d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ndvliegend materi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ggeslingerd worden door een drukgo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0" descr="http://www.poolsevis.nl/wp-content/uploads/2009/05/manenschicht.jpg"/>
          <p:cNvPicPr/>
          <p:nvPr/>
        </p:nvPicPr>
        <p:blipFill>
          <a:blip r:embed="rId1"/>
          <a:stretch/>
        </p:blipFill>
        <p:spPr>
          <a:xfrm>
            <a:off x="6929280" y="76320"/>
            <a:ext cx="221472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http://www.evin.nl/2008/images/accu%27s/laders/kortsluitbeveiligd.jp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5769000" y="0"/>
            <a:ext cx="3375000" cy="2508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Kortsluiting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rtsluit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amboog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ogte van de spa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roomsterk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schakelaars: schakelvon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kortsluiting en/of een vlamboog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won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stekingsbr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5.2 Onveilig werken met elektriciteit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oorz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fecte / ondeugdelijke machines, toestellen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id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echte of ontbrekende aard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oute aanleg of mont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recte of indirecte aanraking van onder spanning staande d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oordeelkundig gebruik van elektrisch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allaties en/of materi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gev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wetend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oplettend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achtzaamhe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2:38:54Z</dcterms:created>
  <dc:creator>jrijdes</dc:creator>
  <dc:description/>
  <dc:language>en-US</dc:language>
  <cp:lastModifiedBy>Mechteld de Coo</cp:lastModifiedBy>
  <dcterms:modified xsi:type="dcterms:W3CDTF">2015-09-29T09:50:07Z</dcterms:modified>
  <cp:revision>137</cp:revision>
  <dc:subject/>
  <dc:title>PowerPoint-presentatie</dc:title>
</cp:coreProperties>
</file>