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5916-B332-4A77-972C-F73626B404C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131C-901F-497B-8E33-EFF93B72EECC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5779-FD04-41D5-B885-FF0B9B4F328E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544D-688E-4C05-8356-900E9984F8B7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5F9C-BB3D-4D01-A4F6-FBC623F42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CB8E-7035-4297-84B3-C43F78C3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A04F-CC25-4913-B370-6B9095F4C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4574-D875-47B0-B166-4C3ABB664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904D-A48B-4D90-B86D-229F48D7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C141-D999-4A81-811E-6B4E91C6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7CD8-1616-4029-9657-D712C18C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4B20-35F4-458D-AD69-EEEECE85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84A2-6D6E-44FA-A521-7B492292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FEF4-EDB5-4AEE-9CED-368F9446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9AA7-60F6-4F3E-A398-3F0147A8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4CCC-6969-4797-8718-59934B0F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8A6F-AB6A-4BE9-9255-6513EDDE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D831-2D7C-4D40-B30D-80AE9087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2354-86ED-422A-9814-E572C66E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40E4-4DAB-496C-A372-D2BC2820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EE90-6521-487D-BEBC-B8FB9CF5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763F4-EDE2-4478-B17F-AE5A381B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6D8DD-625A-4BBC-8582-76D08D64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C9B6A-BA54-471B-AD9A-0797253F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6ADE1-EF08-4030-A5B4-8A564751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6D699-7D7B-44AD-9277-9D05E994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DCFC-8C2A-4E0E-BA0B-4D6D5B49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3A0FE-311D-4F83-B2F9-F6A04536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5AB9A-427D-4C55-8E1F-F61AD220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E5F31-05B6-4E6E-94D3-8F4CEB39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807C6-8B63-4F98-BE9D-31F3519F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CF894-F773-4658-BDF4-D09E27D7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DDF86-59CB-49DF-A324-93D511B7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FD494-55A3-4901-B7DD-44992E315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62C9-B633-40EB-BD35-28E7A9C3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2CA1-ADBC-4D59-B174-F93EB903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75E8-91BF-4411-8E9B-8E74BE77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8556-369F-489F-937F-E2B1BF20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0457-60B2-47B7-BD8A-1AE0B5B0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F830-6A49-4651-8735-E7A41624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702A-B681-4913-894A-969AB844980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60C0-9E4E-48E7-87F5-1237FD66B24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6F99-3A41-4549-9F3A-2EEA67A80F7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429760" cy="421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a60d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9a60d"/>
                </a:solidFill>
                <a:latin typeface="Arial"/>
              </a:rPr>
              <a:t>Hoofdstuk 9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9a60d"/>
                </a:solidFill>
                <a:latin typeface="Arial"/>
              </a:rPr>
              <a:t>Machines en gereedschappen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9a60d"/>
                </a:solidFill>
                <a:latin typeface="Arial"/>
              </a:rPr>
              <a:t>keuze, gebruik en onderhou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0263-3324-49BB-BC28-A2355750860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a911"/>
                </a:solidFill>
                <a:latin typeface="Arial"/>
              </a:rPr>
              <a:t>9.3 Algemene eisen en veiligheidsmaatregelen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71680" y="1142640"/>
            <a:ext cx="8432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voorzien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demanskno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dstopinrich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 bereikbaar, duidelijk zichtbaar en herkenba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 gebruik noodstop: alleen op te starten met normale opstartprocedu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ulspanningschakelaa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chine herstart niet automatisch na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anningsonderbre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oms: tweehandbediening en koppelscherm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0F09-20A2-4698-9F4A-0E264CF6862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71320" y="1066680"/>
            <a:ext cx="7429320" cy="50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kolomboormachines en boor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het boren zij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slaan van het werkstuk, als dit niet goed is ingeklem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sel door breken van de bo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 door wegvegen van boorsel met de h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 door spa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ademen van spatten of nevel van koel- of snij-ol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veilig werken is van bel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doorzichtig scherm tussen de boor en de gebruik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werkstuk goed vastgez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orsel wegvegen met krullenkwast of krullenhaa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546A-3CFC-431B-93B0-419D0977575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571680" y="1356840"/>
            <a:ext cx="8038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 er mis kan ga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ndvliegende deeltjes: oog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pot springen van de slijpst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lemmen van werkstuk tegen slijpste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 door het aanraken draaiende slijpst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ademen van schadelijk of giftig slijp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hoorschade bij langdurig slijp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89E7-36CC-4278-8449-A84ADB399DC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Afbeelding 5" descr="http://www.metabo.nl/uploads/tx_commerce/feinbilder/0300020003s_51_m.jpg"/>
          <p:cNvPicPr/>
          <p:nvPr/>
        </p:nvPicPr>
        <p:blipFill>
          <a:blip r:embed="rId2"/>
          <a:srcRect l="0" t="0" r="0" b="3860"/>
          <a:stretch/>
        </p:blipFill>
        <p:spPr>
          <a:xfrm>
            <a:off x="6715080" y="714240"/>
            <a:ext cx="2357640" cy="17859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571320" y="1285920"/>
            <a:ext cx="7786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ijpstenen voldoende rond, slijpkant vla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ee slijpstenen op één machine mogen niet te veel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ch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stand tussen leunspaan en werkstuk ≤ 3 m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kanten van de stenen afgescherm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ruitj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venmes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het wer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teren/vervangen slijpstenen door deskundig persone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unspaan alleen verstellen bij stilstaande mach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ruitje altijd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unspaan regelmatig bijste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82E2-824F-4890-9707-A323CFFD95F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571320" y="1447560"/>
            <a:ext cx="8142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cirkelz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vast opgestelde cirkelza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roffen of gegrepen worden door de zaa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andere bewegende 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roffen worden door afgezaagde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gvliegende delen van het produ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zondheidsklachten door inademen va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nderlijk of gevaarlijk 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3EED-65FF-4D20-89A1-6338ADA48F4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71320" y="142848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cirkelz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uwm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schikte hulpgelei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fafzuig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whout gebruiken bij smalle werkstu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blad juist inste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rote werkstukken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stentie van tweede persoon of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rollenb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CA6A-61FE-473F-B1B3-53EFE11E3FF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17" name="Afbeelding 5" descr="http://www.metabo.nl/uploads/tx_commerce/feinbilder/0104605000s_51_m.jpg"/>
          <p:cNvPicPr/>
          <p:nvPr/>
        </p:nvPicPr>
        <p:blipFill>
          <a:blip r:embed="rId2"/>
          <a:stretch/>
        </p:blipFill>
        <p:spPr>
          <a:xfrm>
            <a:off x="6500880" y="1714680"/>
            <a:ext cx="2405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71680" y="1428480"/>
            <a:ext cx="7286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 aangedreven hand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bel geïsoleer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iet gea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bbele isolatie biedt geen bescherming tegen water of vochtige 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pneumatisch aangedreven hand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(perslucht = pneumatis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pauzeren bij trillende 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uchttoevoer na gebruik afslui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B193-251A-4E24-97FC-0CA91B80DCF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05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71320" y="1428480"/>
            <a:ext cx="85388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spunten elektrische gereedschapp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handv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k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demansknop, bij slijpschijven groter dan 125 m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de slijpschijf moet sta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am van de fabrika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al toelaatbaar toerent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meting van de schijf, toepassing en jaart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DB62-814B-4A52-ABEC-85477701454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85360" y="213840"/>
            <a:ext cx="820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71320" y="1285560"/>
            <a:ext cx="77864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hand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stuk vastze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le toerental van de schijf nooit overschr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slijpmachine pas neerleggen als schijf stilsta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kant van de schijf niet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afbramen specifieke afbraamschijven gebrui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slijpschijven niet voor afbram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D657-6E67-4B7C-82AF-2466DA04AAC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1295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71320" y="928800"/>
            <a:ext cx="853884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handcirkelza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kap schermt de buitenrand zaa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ledig a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omatische beschermkap over de buitenr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uwmes aanpassen aan diameter en dikt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n de za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blad en geleider zo instellen dat het zaagblad zo weinig mogelijk uitsteekt onder het werkst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en nodig assistentie door tweede perso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 niet laten klem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noer weghouden van zaagbla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DEA4-4551-434F-A512-9EAA2F7971E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5723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 Machines en gereedschapp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71680" y="1214280"/>
            <a:ext cx="8501040" cy="45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1  Goed en veilig 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2  Veiligheidseisen: de achtergro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3  Algemene veiligheidseisen  en -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4  Vast opgestelde machines/gereedschapp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5  Aangedreven hand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6  Handgereedschap zonder aandrij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EA62-C7C9-4B5C-A0F5-F68B3B35A00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71680" y="1428840"/>
            <a:ext cx="857232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nagel/nietmach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en/nagels kiezen bij apparaat, materiaal 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rm van werkst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le werkdruk control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p stevig op het werkstuk dru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der plaatsen als de geleider leeg 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rije hand weghouden van de mach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BC69-FE94-4381-A2D5-8F23B64785B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2"/>
          <a:srcRect l="40227" t="0" r="8150" b="0"/>
          <a:stretch/>
        </p:blipFill>
        <p:spPr>
          <a:xfrm>
            <a:off x="7500960" y="0"/>
            <a:ext cx="1643040" cy="25588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92936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6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1680" y="114732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kettingza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wendige trillingsdemp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beugel, beschermk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bbele handbedie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vatten: trillingsvrij met antisl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hterste handvat beschermd tegen kettingbreu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ttingrem, ketting opvangmechanis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gepaste opleid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terugslag mag de ketting het lichaam niet r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bro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E0BE-C501-4CD1-A0A6-FC46C246FED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6 Handgereedschap zonder aandrijv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71320" y="1285560"/>
            <a:ext cx="85388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p moet gaaf zij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ed vastzitten op ste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el ongeschon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oersleutels en slagsleut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beschadig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k precies pass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steel van moersleutels en slagsleutels niet verlen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bruik bij voorkeur ringsleut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C442-5317-46BC-A418-00360C7F85F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6" descr=""/>
          <p:cNvPicPr/>
          <p:nvPr/>
        </p:nvPicPr>
        <p:blipFill>
          <a:blip r:embed="rId2"/>
          <a:stretch/>
        </p:blipFill>
        <p:spPr>
          <a:xfrm>
            <a:off x="6458040" y="857160"/>
            <a:ext cx="268596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85360" y="-360"/>
            <a:ext cx="8558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6 Handgereedschap zonder aandrijv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71680" y="149976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chroevendraai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cies op maat voor de schroefgleuf/krui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ad mag niet te scherp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leine werkstukken vastklemmen (steekwond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ij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vig hef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vig vast aan vij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3BA1-A38C-4630-A1BE-C11486F1461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6 Handgereedschap zonder aandrijving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71320" y="1356840"/>
            <a:ext cx="67863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ndz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at en (soort) zaag aangepas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 geslep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zet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ugelza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ad goed aanspann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 juiste richting mont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AD8D-D92B-4A37-95F8-6BA93E0E752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kstvak 4"/>
          <p:cNvSpPr/>
          <p:nvPr/>
        </p:nvSpPr>
        <p:spPr>
          <a:xfrm>
            <a:off x="914400" y="493704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163a"/>
                </a:solidFill>
                <a:latin typeface="Arial"/>
                <a:ea typeface="Arial"/>
              </a:rPr>
              <a:t>voor messen, zagen, beitels en boren geldt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163a"/>
                </a:solidFill>
                <a:latin typeface="Arial"/>
                <a:ea typeface="Arial"/>
              </a:rPr>
              <a:t>scherp is veiliger, als je er maar voorzichtig mee omgaat!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Afbeelding 6" descr="zagen.jpg"/>
          <p:cNvPicPr/>
          <p:nvPr/>
        </p:nvPicPr>
        <p:blipFill>
          <a:blip r:embed="rId2"/>
          <a:stretch/>
        </p:blipFill>
        <p:spPr>
          <a:xfrm>
            <a:off x="7531200" y="1071720"/>
            <a:ext cx="1612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89A6-DEB9-405C-A750-74E5AFD2788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itel 2"/>
          <p:cNvSpPr/>
          <p:nvPr/>
        </p:nvSpPr>
        <p:spPr>
          <a:xfrm>
            <a:off x="571680" y="0"/>
            <a:ext cx="831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  <a:ea typeface="Arial"/>
              </a:rPr>
              <a:t>9.6 Handgereedschap zonder aandrijving (4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ijdelijke aanduiding voor inhoud 3"/>
          <p:cNvSpPr/>
          <p:nvPr/>
        </p:nvSpPr>
        <p:spPr>
          <a:xfrm>
            <a:off x="571680" y="928800"/>
            <a:ext cx="614016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koudbeitel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en bramen op de beitelkop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andbeschermin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tan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k en het scharnier gaaf en schoo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mess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cherp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angepast aan aard van het werk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standig gebruik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855720" indent="-22716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nijd van het lichaam weg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55720" indent="-22716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oud uitschuifbaar lemmet kor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55720" indent="-22716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fbreekmessen afbreken met een tang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6985080" y="6176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Afbeelding 4" descr="images.jpg"/>
          <p:cNvPicPr/>
          <p:nvPr/>
        </p:nvPicPr>
        <p:blipFill>
          <a:blip r:embed="rId2"/>
          <a:stretch/>
        </p:blipFill>
        <p:spPr>
          <a:xfrm>
            <a:off x="6429240" y="928800"/>
            <a:ext cx="1714680" cy="1795320"/>
          </a:xfrm>
          <a:prstGeom prst="rect">
            <a:avLst/>
          </a:prstGeom>
          <a:ln w="0">
            <a:noFill/>
          </a:ln>
        </p:spPr>
      </p:pic>
      <p:pic>
        <p:nvPicPr>
          <p:cNvPr id="254" name="Afbeelding 7" descr="imagesCAPWV5WN.jpg"/>
          <p:cNvPicPr/>
          <p:nvPr/>
        </p:nvPicPr>
        <p:blipFill>
          <a:blip r:embed="rId3"/>
          <a:stretch/>
        </p:blipFill>
        <p:spPr>
          <a:xfrm>
            <a:off x="6858000" y="4000680"/>
            <a:ext cx="1725480" cy="1785600"/>
          </a:xfrm>
          <a:prstGeom prst="rect">
            <a:avLst/>
          </a:prstGeom>
          <a:ln w="0">
            <a:noFill/>
          </a:ln>
        </p:spPr>
      </p:pic>
      <p:pic>
        <p:nvPicPr>
          <p:cNvPr id="255" name="Afbeelding 8" descr="tangen.jpg"/>
          <p:cNvPicPr/>
          <p:nvPr/>
        </p:nvPicPr>
        <p:blipFill>
          <a:blip r:embed="rId4"/>
          <a:srcRect l="0" t="0" r="0" b="35266"/>
          <a:stretch/>
        </p:blipFill>
        <p:spPr>
          <a:xfrm>
            <a:off x="6324480" y="2881440"/>
            <a:ext cx="246564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1 Goed en veilig gereedschap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6912-C4DB-4EA2-9E15-04A3176DB82A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ol leidinggevend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ze bij aanscha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lichting en instructie ge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r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van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ezicht op juist gebrui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varingen evalueren met uitvoeren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31816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1 Goed en veilig gereedschap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1C58-0AF8-40FF-86AE-E9A024AAADC8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71680" y="149976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lgemene gevaren van gereedschappen zijn div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letsel gebruike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nijden, knellen enz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bij omstander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egschietend materiaal, straling enz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amelijke belastingseffecten ook op termij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rillingen, straling, vrijkomende stoffen, lawaai enz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oorzaken schade / letsel in de om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plosies door vonken, wegschietende dele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tasten constructiesterkte enz.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5723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9.2 Veiligheidseisen </a:t>
            </a:r>
            <a:br>
              <a:rPr sz="2800"/>
            </a:br>
            <a:r>
              <a:rPr b="0" lang="en-US" sz="2000" spc="-1" strike="noStrike">
                <a:solidFill>
                  <a:srgbClr val="c0163a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0163a"/>
                </a:solidFill>
                <a:latin typeface="Arial"/>
              </a:rPr>
              <a:t>voor arbeidsmiddelen en machines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71320" y="1500120"/>
            <a:ext cx="84294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j gebruik kunnen er ongevallen ontsta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asp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 ontwerp, goedgemaakt produc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bricage met veiligheidsvoorzien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 onderhoud en regelmatig (laten) keu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kennis en vaardigheid van de gebruiker door opleiding, instructie en trai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 werk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e werk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C361-2788-4853-9CFE-730A16CCF55D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3 Algemene eisen en veiligheidsmaat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71320" y="128556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achines en gereedschapp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oede staa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 afscherming van bewegende 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iodiek gekeur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ldigheid keuring is zichtbaar (kleur/stick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svoorschrif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houdsvoorschrif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al van de gebruiker is toegep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5B88-5458-4EA2-A146-22846E40119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3 Algemene eisen en veiligheidsmaatregel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71320" y="128556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e mogen met machines werken en ho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sen aan bedieners van 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der dan 18 j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loshangende kleding, sieraden of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en 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handschoenen dragen bij mogelijk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act met roterende (draaiende) onder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veiligingen niet overbruggen, onklaar mak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verwij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draaiende machine onbeheerd achterla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ats en functie noodstop ken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F2DE-CA21-4719-A3A0-B550F99E585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3 Algemene eisen en</a:t>
            </a: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veiligheidsmaatregel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71320" y="1357200"/>
            <a:ext cx="835812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wuste inzet van techni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ruimtes met explosiegev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eveilige machine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eveilig aangedreven gereedsch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 verhogen do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e span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stofafzui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rem om de machine te stop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noodsto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6DB2-2196-44D0-A6E7-9229A0F7DF6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53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3 Algemene eisen en veiligheidsmaatregel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71320" y="1428480"/>
            <a:ext cx="77864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gankelijkheid en werkbeheers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oer rond machines en vast opgesteld gereedschap opgeruimd, schoon, vlak, droog en stroe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loop- en bewegingsruimt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ordachte werkaanp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 de juiste manier bedienen (instructiekaar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lijke zones afgescherm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de machine laten draaien met open aandrij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onderhoud machines of gereedschappen U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BM op de juiste manier gebruiken en onder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BA0D-55E2-434A-9D63-1ED36DE6427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51:53Z</dcterms:modified>
  <cp:revision>122</cp:revision>
  <dc:subject/>
  <dc:title>Taak en positie VFP</dc:title>
</cp:coreProperties>
</file>