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15.png" ContentType="image/png"/>
  <Override PartName="/ppt/media/image2.wmf" ContentType="image/x-wmf"/>
  <Override PartName="/ppt/media/image3.wmf" ContentType="image/x-wmf"/>
  <Override PartName="/ppt/media/image7.png" ContentType="image/png"/>
  <Override PartName="/ppt/media/image1.jpeg" ContentType="image/jpeg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4829-6555-4B98-B16E-16C3CE441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6266-5DE9-4005-AB67-F6989C70D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BB2C-FF9A-4570-B521-E4B94213F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D72B-10C7-4D86-A2ED-6F83DE132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ABED-B171-4BAD-8CB4-2F9915D7D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AE30-BF89-42F6-889F-6012815FA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44FF-DE15-444D-A547-70E3979DE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5976-E85E-4D8F-92E5-F8B050CBD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C795-4367-4665-8837-DAA6C8D63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5A8C-DEC5-49B9-9C8A-BFAA2BCE2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4F4E-D135-403A-837C-26E972703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5F26-EA73-40F0-B0AE-64D0CC606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508A5-1A9F-4973-A3DC-0941FC6BB2A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571320"/>
            <a:ext cx="7772400" cy="217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VCA Basisveiligheid</a:t>
            </a:r>
            <a:br>
              <a:rPr sz="2000"/>
            </a:br>
            <a:br>
              <a:rPr sz="20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Hoofdstuk 1</a:t>
            </a:r>
            <a:br>
              <a:rPr sz="44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 Veilighe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Aandachtspunten voor veilig wer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drag dat veilig werken bevorder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zorgen voor de veiligheid en gezondhei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an jezelf en van anderen in je omge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7" descr="http://www.safetybillboards.nl/stuntwerk%20gekkewerk.JPG"/>
          <p:cNvPicPr/>
          <p:nvPr/>
        </p:nvPicPr>
        <p:blipFill>
          <a:blip r:embed="rId1"/>
          <a:stretch/>
        </p:blipFill>
        <p:spPr>
          <a:xfrm>
            <a:off x="3429000" y="3697200"/>
            <a:ext cx="2143080" cy="31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Aandachtspunten voor veilig wer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en positieve inste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ud je aan de veiligheidsvoorschriften,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wijzingen en instruct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ndere medewerkers aanspreken bij onveilige handelingen, onveilige situa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cidenten melden en zo nodig handelend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tr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 voor persoonlijke hygiëne 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rde en net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Waar het misga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alcohol en drug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het werkt langer en ingrijpender dan je zelf denk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lechter functioneren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cc0000"/>
                </a:solidFill>
                <a:latin typeface="Arial"/>
              </a:rPr>
              <a:t>minder waakzaam en oplett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ituaties niet goed inschat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schatten eigen mogelijkh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makkelijker grenzen overschrij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Afbeelding 7" descr="encare-pesten-posters-6.gif"/>
          <p:cNvPicPr/>
          <p:nvPr/>
        </p:nvPicPr>
        <p:blipFill>
          <a:blip r:embed="rId1"/>
          <a:stretch/>
        </p:blipFill>
        <p:spPr>
          <a:xfrm>
            <a:off x="7424640" y="6480"/>
            <a:ext cx="1712880" cy="23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Richtlijnen alcohol en drug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oit tijdens het wer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 wanneer de effecten je werk nog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ïnvloeden (bv. diep in de nacht nog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el gebrui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merkbare effecten op werkbeheersing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bij jezelf/collega’s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en werk (laten) doen met verhoogd risi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ld het aan je leidinggeven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1527840" y="5257800"/>
            <a:ext cx="646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cc00"/>
                </a:solidFill>
                <a:latin typeface="Arial Narrow"/>
              </a:rPr>
              <a:t>Als je zelf regelmatig te veel gebruikt, zoek dan hulp!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Orde en nethe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langrijk voor veilig 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komen van incidenten, vervuiling en milieuscha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lies van gereedschappen en material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genamere werkomgev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ositieve invloed op motivatie en gesteld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ijdwinst en een hogere efficiën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8" descr=""/>
          <p:cNvPicPr/>
          <p:nvPr/>
        </p:nvPicPr>
        <p:blipFill>
          <a:blip r:embed="rId1"/>
          <a:srcRect l="50030" t="0" r="0" b="0"/>
          <a:stretch/>
        </p:blipFill>
        <p:spPr>
          <a:xfrm>
            <a:off x="3510000" y="4114800"/>
            <a:ext cx="2347920" cy="26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Good housekee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omgeving opgeruimd hou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stmaterialen afvoeren of veilig opsla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slagsysteem voor gereedschappen en materia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abels ophangen (safety-hooks) of wegwer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ede inrichting van de werkplaats/wer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10" descr=""/>
          <p:cNvPicPr/>
          <p:nvPr/>
        </p:nvPicPr>
        <p:blipFill>
          <a:blip r:embed="rId1"/>
          <a:stretch/>
        </p:blipFill>
        <p:spPr>
          <a:xfrm>
            <a:off x="2514600" y="4343400"/>
            <a:ext cx="3386160" cy="2343240"/>
          </a:xfrm>
          <a:prstGeom prst="rect">
            <a:avLst/>
          </a:prstGeom>
          <a:ln w="0">
            <a:noFill/>
          </a:ln>
        </p:spPr>
      </p:pic>
      <p:sp>
        <p:nvSpPr>
          <p:cNvPr id="90" name="Tekstvak 7"/>
          <p:cNvSpPr/>
          <p:nvPr/>
        </p:nvSpPr>
        <p:spPr>
          <a:xfrm>
            <a:off x="6553080" y="4495680"/>
            <a:ext cx="1443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8800" spc="-1" strike="noStrike">
                <a:solidFill>
                  <a:srgbClr val="00b050"/>
                </a:solidFill>
                <a:latin typeface="Wingdings"/>
                <a:ea typeface="Wingdings"/>
              </a:rPr>
              <a:t></a:t>
            </a:r>
            <a:endParaRPr b="0" lang="en-US" sz="88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Vallen en struik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aandachtspunten voorkomen vallen en struik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125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overzichtelijke bedrijfsinricht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125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werkplekken opgeruim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125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looppaden schoon en vrij van obstak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125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onveilige situaties verhel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125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opletten waar je loo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125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oldoende zicht als je iets draag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125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wegen en paden vol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125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gepast schoeisel, zoals veiligheidsschoe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6" descr="http://www.safetybillboards.nl/goede%20afzetting.JPG"/>
          <p:cNvPicPr/>
          <p:nvPr/>
        </p:nvPicPr>
        <p:blipFill>
          <a:blip r:embed="rId1">
            <a:grayscl/>
            <a:lum bright="-10000"/>
          </a:blip>
          <a:stretch/>
        </p:blipFill>
        <p:spPr>
          <a:xfrm>
            <a:off x="7269120" y="3200400"/>
            <a:ext cx="18748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1.5 Preventieve aanpa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gevallen en gezondheidsschade voorkom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olgen bep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voorkomen van onveilige handelingen en situat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veilige han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t niet volgen van de veiligheidsvoorschriften ka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ot een ongeval lei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veilige situ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s de werksituatie niet voldoet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an voorwaarden voor veilig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en, kan ook een ongeval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tsta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1"/>
          <a:stretch/>
        </p:blipFill>
        <p:spPr>
          <a:xfrm>
            <a:off x="6572160" y="3786120"/>
            <a:ext cx="2363760" cy="23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Onveilige handeli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nder werkvergunningen werk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geschreven PBM niet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veiligingen buiten werking stell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reedschap onjuist gebruik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apot gereedschap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last verkeerd verplaat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rcRect l="0" t="16763" r="0" b="9092"/>
          <a:stretch/>
        </p:blipFill>
        <p:spPr>
          <a:xfrm>
            <a:off x="7429680" y="0"/>
            <a:ext cx="17143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Onveilige situa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 is geen of onvoldoende verlich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vloeren zijn niet opgeruim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pparatuur/machines zijn niet (voldoende) beveilig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luchtwegen ontbreken of zijn geblokkee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iemand onveilig werkt: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kom dat het misgaat 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ld het aan de leidinggeve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veilige handeling stopp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orzaak van het gevaar wegne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arschuw de mensen in de omgev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Van gevarenkennis tot veilighe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1.1 Gevaren bij het 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1.2 Begrip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1.3 Lessen uit eerdere ongeva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1.4 Veilig werkgedr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1.5 Preventieve aanp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1.6 Handelend optreden bij incidenten </a:t>
            </a:r>
            <a:br>
              <a:rPr sz="2400"/>
            </a:b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  en (bijna-)ongeva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Groep 6"/>
          <p:cNvGrpSpPr/>
          <p:nvPr/>
        </p:nvGrpSpPr>
        <p:grpSpPr>
          <a:xfrm>
            <a:off x="2786040" y="5072040"/>
            <a:ext cx="3571920" cy="1445040"/>
            <a:chOff x="2786040" y="5072040"/>
            <a:chExt cx="3571920" cy="1445040"/>
          </a:xfrm>
        </p:grpSpPr>
        <p:pic>
          <p:nvPicPr>
            <p:cNvPr id="46" name="Picture 5" descr="C:\Users\Eigenaar\AppData\Local\Microsoft\Windows\Temporary Internet Files\Content.IE5\RVMFCU9C\MCj01963200000[1].wmf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2786040" y="5072040"/>
              <a:ext cx="881640" cy="126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Tekstvak 4"/>
            <p:cNvSpPr/>
            <p:nvPr/>
          </p:nvSpPr>
          <p:spPr>
            <a:xfrm>
              <a:off x="3720960" y="5325840"/>
              <a:ext cx="1574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808080"/>
                  </a:solidFill>
                  <a:latin typeface="Arial"/>
                  <a:ea typeface="Arial"/>
                </a:rPr>
                <a:t>eerst denken,                    </a:t>
              </a:r>
              <a:r>
                <a:rPr b="0" lang="nl-NL" sz="1800" spc="-1" strike="noStrike">
                  <a:solidFill>
                    <a:srgbClr val="808080"/>
                  </a:solidFill>
                  <a:latin typeface="Arial"/>
                  <a:ea typeface="Arial"/>
                </a:rPr>
                <a:t>	</a:t>
              </a:r>
              <a:endParaRPr b="0" lang="en-US" sz="1800" spc="-1" strike="noStrike">
                <a:solidFill>
                  <a:srgbClr val="33cc33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808080"/>
                  </a:solidFill>
                  <a:latin typeface="Arial"/>
                  <a:ea typeface="Arial"/>
                </a:rPr>
                <a:t>dan doen</a:t>
              </a:r>
              <a:endParaRPr b="0" lang="en-US" sz="1800" spc="-1" strike="noStrike">
                <a:solidFill>
                  <a:srgbClr val="33cc33"/>
                </a:solidFill>
                <a:latin typeface="Arial"/>
              </a:endParaRPr>
            </a:p>
          </p:txBody>
        </p:sp>
        <p:pic>
          <p:nvPicPr>
            <p:cNvPr id="48" name="Picture 8" descr="C:\Users\Eigenaar\AppData\Local\Microsoft\Windows\Temporary Internet Files\Content.IE5\RVMFCU9C\MCj00978310000[1].wmf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5295600" y="5275080"/>
              <a:ext cx="1062360" cy="120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9" name="Picture 4" descr="C:\Users\Eigenaar\AppData\Local\Microsoft\Windows\Temporary Internet Files\Content.IE5\4EHAKWTX\MPj04227460000[1].jpg"/>
          <p:cNvPicPr/>
          <p:nvPr/>
        </p:nvPicPr>
        <p:blipFill>
          <a:blip r:embed="rId3">
            <a:grayscl/>
          </a:blip>
          <a:stretch/>
        </p:blipFill>
        <p:spPr>
          <a:xfrm>
            <a:off x="7399440" y="0"/>
            <a:ext cx="174456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Handelend optred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c0000"/>
                </a:solidFill>
                <a:latin typeface="Arial"/>
              </a:rPr>
              <a:t>bij incidenten en bijna-ongeval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irecte maatregel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(situaties markeren/handeling (laten) stoppe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lden bij de leidinggevende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c0000"/>
                </a:solidFill>
                <a:latin typeface="Arial"/>
              </a:rPr>
              <a:t>bij ongeval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lg de alarminstructies op (BHV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geleid het slachtoffer naar de medische dienst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(of alarmeer zo nodig de BHV’er of de art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eem direct maatregelen om herhaling te voorko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lden bij de leidinggeven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10" descr=""/>
          <p:cNvPicPr/>
          <p:nvPr/>
        </p:nvPicPr>
        <p:blipFill>
          <a:blip r:embed="rId1"/>
          <a:srcRect l="29373" t="0" r="9143" b="0"/>
          <a:stretch/>
        </p:blipFill>
        <p:spPr>
          <a:xfrm>
            <a:off x="7715160" y="0"/>
            <a:ext cx="142884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Wat is veilighei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cherming tegen geva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óók gevaren voor je gezond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oede arbeidsomstandigh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iligheid, Gezondheid en Welzijn (VGW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eventie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(voorkomen is beter dan genez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ren van incidenten, ongevallen en bijna-ongeva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Object 1"/>
          <p:cNvGraphicFramePr/>
          <p:nvPr/>
        </p:nvGraphicFramePr>
        <p:xfrm>
          <a:off x="7412040" y="0"/>
          <a:ext cx="1731960" cy="2714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12040" y="0"/>
                    <a:ext cx="1731960" cy="27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1.1 Gevaren bij het w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voorbe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, ontploffing (explosie) of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gifti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raakt worden door of bekneld raken tussen bewegende 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gereden worden door autoverkeer of werkvoertui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llen of getroffen worden door e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llend voorwer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ektriciteit, straling en lawa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Afbeelding 6" descr="405230_f520.jpg"/>
          <p:cNvPicPr/>
          <p:nvPr/>
        </p:nvPicPr>
        <p:blipFill>
          <a:blip r:embed="rId1"/>
          <a:stretch/>
        </p:blipFill>
        <p:spPr>
          <a:xfrm>
            <a:off x="6540480" y="6480"/>
            <a:ext cx="2610000" cy="2608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"/>
          <p:cNvPicPr/>
          <p:nvPr/>
        </p:nvPicPr>
        <p:blipFill>
          <a:blip r:embed="rId2"/>
          <a:stretch/>
        </p:blipFill>
        <p:spPr>
          <a:xfrm>
            <a:off x="6913440" y="3444840"/>
            <a:ext cx="2303640" cy="28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1.1 Gevaren bij het w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onnen van gevaar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soort 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werkplek of de omgeving van de werkpl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eidsmid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machines, gereedschappen en hulpmid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producten en de materialen waarmee gewerkt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wor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gedrag van de werkne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7" descr="el5"/>
          <p:cNvPicPr/>
          <p:nvPr/>
        </p:nvPicPr>
        <p:blipFill>
          <a:blip r:embed="rId1"/>
          <a:stretch/>
        </p:blipFill>
        <p:spPr>
          <a:xfrm>
            <a:off x="3060720" y="5108400"/>
            <a:ext cx="285264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1.1 Gevaren bij het w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gevaren zijn groter b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met gevaarlijke sto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met gevaarlijk gereedschap/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met hoge dr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met stralingsbron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raafwerkzaamh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met elektricit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in hitte of ko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in lawaaierige omge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op hoog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Groep 6"/>
          <p:cNvGrpSpPr/>
          <p:nvPr/>
        </p:nvGrpSpPr>
        <p:grpSpPr>
          <a:xfrm>
            <a:off x="7572240" y="142920"/>
            <a:ext cx="1571760" cy="2357280"/>
            <a:chOff x="7572240" y="142920"/>
            <a:chExt cx="1571760" cy="2357280"/>
          </a:xfrm>
        </p:grpSpPr>
        <p:pic>
          <p:nvPicPr>
            <p:cNvPr id="64" name="Picture 4" descr="C:\Users\Eigenaar\AppData\Local\Microsoft\Windows\Temporary Internet Files\Content.IE5\X3JDBKQA\MCj03039330000[1].wmf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572240" y="142920"/>
              <a:ext cx="1427400" cy="23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5" descr="C:\Users\Eigenaar\AppData\Local\Microsoft\Windows\Temporary Internet Files\Content.IE5\U0M1V2XN\MCj02790320000[1].wmf"/>
            <p:cNvPicPr/>
            <p:nvPr/>
          </p:nvPicPr>
          <p:blipFill>
            <a:blip r:embed="rId2"/>
            <a:stretch/>
          </p:blipFill>
          <p:spPr>
            <a:xfrm>
              <a:off x="8570880" y="1054440"/>
              <a:ext cx="573120" cy="816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1.2 Begrip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ci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gewenste gebeurtenis met of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nder schade of lets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na-onge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gewenste gebeurtenis zonder schade of lets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ge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gewenste gebeurtenis met schade en/of lets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eidsonge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gewenste gebeurtenis tijdens het werk met lets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odsitu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rnstige bedreiging door ongevallen,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randen, explosie, gevaarlijk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iekteverwekkers of een bommeld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1.3 Lessen uit eerdere ongeval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ardoor gaan zaken m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8840" indent="-28260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rvan leren om ze te voorko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8840" indent="-28260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atregelen nemen om erger te voorko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orzaken van ongeva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8840" indent="-28260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onveilig handelen en/of een onveilige situatie              (directe oorzake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veilig handelen: dé belangrijkste oorza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cc00"/>
                </a:solidFill>
                <a:latin typeface="Arial"/>
                <a:ea typeface="Arial"/>
              </a:rPr>
              <a:t>ongevallen zijn vooral te voorkom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cc00"/>
                </a:solidFill>
                <a:latin typeface="Arial"/>
                <a:ea typeface="Arial"/>
              </a:rPr>
              <a:t>door te zorgen voor veilig werkgedr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1.4 Veilig werkgedr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 voor jeze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 voor je omge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ositieve inste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lg veiligheidsvoorschrif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lg instruc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6" descr="http://www.safetybillboards.nl/stop%20werkt%20u%20wel%20veilig.JPG"/>
          <p:cNvPicPr/>
          <p:nvPr/>
        </p:nvPicPr>
        <p:blipFill>
          <a:blip r:embed="rId1"/>
          <a:stretch/>
        </p:blipFill>
        <p:spPr>
          <a:xfrm>
            <a:off x="7429680" y="0"/>
            <a:ext cx="171432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7T09:32:11Z</dcterms:created>
  <dc:creator>jrijdes</dc:creator>
  <dc:description/>
  <dc:language>en-US</dc:language>
  <cp:lastModifiedBy>Hans Mulder</cp:lastModifiedBy>
  <dcterms:modified xsi:type="dcterms:W3CDTF">2016-10-06T09:06:41Z</dcterms:modified>
  <cp:revision>79</cp:revision>
  <dc:subject/>
  <dc:title>PowerPoint-presentatie</dc:title>
</cp:coreProperties>
</file>