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31E-37BD-433E-B738-4CB50B30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0B2E-B1C1-44CD-B888-9D7C9A7F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5464-7449-474F-BEEB-46BB205A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25F-8430-48E7-AE2E-0AF90ED7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E8E2-D953-4C71-8CE5-B64A9D64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9C4-358D-41C8-917B-C98B815F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74AD-2169-492C-AC9D-A602902A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14A-CA3E-4911-BE35-D7EAF575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9DC-A974-4900-84C0-3A98E19E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8DC-ED3E-49B9-A3BC-ED98A330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CD8-A78B-4C2E-B8C2-58395915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357A-2130-4177-B1B0-630E69CB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5AB2-CE5D-4940-BD6E-A52BD0694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Toolboxmeeting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Versie 1, juni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7bbb"/>
                </a:solidFill>
                <a:latin typeface="Times New Roman"/>
              </a:rPr>
              <a:t>Tillen van zware las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4" name="logo%20CUMELA%20RGB" descr=""/>
          <p:cNvPicPr/>
          <p:nvPr/>
        </p:nvPicPr>
        <p:blipFill>
          <a:blip r:embed="rId2"/>
          <a:stretch/>
        </p:blipFill>
        <p:spPr>
          <a:xfrm>
            <a:off x="76320" y="5987880"/>
            <a:ext cx="1447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beer niet te ver te reiken, te strekken of te bu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alleen niet meer dan 25 k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%20nieuw" descr=""/>
          <p:cNvPicPr/>
          <p:nvPr/>
        </p:nvPicPr>
        <p:blipFill>
          <a:blip r:embed="rId1"/>
          <a:stretch/>
        </p:blipFill>
        <p:spPr>
          <a:xfrm>
            <a:off x="7238880" y="6248520"/>
            <a:ext cx="1828800" cy="603000"/>
          </a:xfrm>
          <a:prstGeom prst="rect">
            <a:avLst/>
          </a:prstGeom>
          <a:ln w="0">
            <a:noFill/>
          </a:ln>
        </p:spPr>
      </p:pic>
      <p:pic>
        <p:nvPicPr>
          <p:cNvPr id="9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353040" cy="266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73520" y="3657600"/>
            <a:ext cx="18352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Houd de last dicht bij je licha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Draai tijdens het tillen nooit met j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Maak een positieverandering alleen met de voe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0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1903320"/>
            <a:ext cx="3047760" cy="243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867280" y="1066680"/>
            <a:ext cx="21909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voldoende bewegingsruimte en een stabiele ondergr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at de noodzakelijke kracht goed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over een zo kort mogelijke afst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uif, kantel of rol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0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85800" y="314964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943600" y="3135240"/>
            <a:ext cx="2133720" cy="1665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038480" y="2971800"/>
            <a:ext cx="1490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oordelen van verantwoord til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et lichaam blijft gezond, ook op lange term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inder ziekteverzuim en WAO-inst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gere reïntegratiekosten en verzekeringsprem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ilig tillen kan ongevallen voork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Belangrijke 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k de te tillen last stevig v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em een goede tilhouding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bruik hulpmiddelen of til met meerdere person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es deskundig in het gebruik van tilhulp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2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vol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tge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rantwoordelijkh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nel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zonde uitvo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el lasten worden mechanisch get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ware lichamelijke belasting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wielen ver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estsla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aanbouwwerktu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frontgew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kunstmestz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het veld of in de werkpla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29200" y="281952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vol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verbelasting van d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chamelijke klach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iekteverzuim, (gedeeltelijk) arbeidsongeschik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ij onveilig tillen letsel door beknel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3600" y="1143000"/>
            <a:ext cx="2327400" cy="231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80880" y="4202280"/>
            <a:ext cx="30481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Wetge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w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De werkzaamheden mogen geen gezondheidsschade veroorz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regelingen en nor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Praktische voorschriften over bijv. het max. te tillen gewicht en de 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erantwoordelijk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ge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zorg dragen dat het tillen van (te) zware lasten verantwoord gebe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nem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de voorschriften en de voorlichting over de juiste wijze van tillen opvol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abrik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geeft de gebruiksmogelijkheden en de technische veiligheidseisen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last is moeilijk goed vast te pa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stand van het lichaam t.o.v.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48320" y="2911320"/>
            <a:ext cx="3429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terrein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oringen in het v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noodzakelijke spieren zijn in een slecht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1240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handschoenen, steunbalkjes, strop of ketting als een beter aangrijpingsp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bij te zware lasten tilhulpmiddelen (tilbok, steek-/kruiwagen, hijs- en hefwerktuigen, bandenka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1828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1865160"/>
            <a:ext cx="28191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7:56:57Z</dcterms:created>
  <dc:creator>jpolman</dc:creator>
  <dc:description/>
  <dc:language>en-US</dc:language>
  <cp:lastModifiedBy>Anne Soldaat</cp:lastModifiedBy>
  <dcterms:modified xsi:type="dcterms:W3CDTF">2005-06-08T13:16:58Z</dcterms:modified>
  <cp:revision>23</cp:revision>
  <dc:subject/>
  <dc:title>Toolboxmeeting NUMMER Maand en jaar</dc:title>
</cp:coreProperties>
</file>