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16.wmf" ContentType="image/x-wmf"/>
  <Override PartName="/ppt/media/image7.png" ContentType="image/png"/>
  <Override PartName="/ppt/media/image1.jpeg" ContentType="image/jpe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6.jpeg" ContentType="image/jpeg"/>
  <Override PartName="/ppt/media/image23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5.png" ContentType="image/png"/>
  <Override PartName="/ppt/media/image28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8057-D67E-4FF6-AB89-BACF98051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D01F-409C-40FD-BF24-32D541702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02EC-DF55-462E-AF81-296700879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410B-0821-4DFA-BDBA-E6F5B2BEA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1A83-C523-42F1-A711-F5792C7CC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B9EE-6469-45B0-987E-8206BA5C9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4D0D-7E38-4560-B621-F01F6A09D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5C9E-04CA-4F75-9214-86ED93460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3FE7-DD4A-472E-92BF-5F9D2FF17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B9F0-877C-4732-B943-DB097B727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367E-6373-4DD4-8D9E-8B6363FE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556C-13F7-48F5-BFF4-274AE0855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DE5A8-0549-4C4C-89A0-89F72A9C6FE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optieklammerant.be/Graphics/Veiligheidsbril1.jpg&amp;imgrefurl=http://www.optieklammerant.be/NL/Veiligheidsbrillen.php&amp;h=188&amp;w=242&amp;sz=56&amp;hl=nl&amp;start=55&amp;sig2=ZHSBzjhp1tgxrFk0n8Xgiw&amp;um=1&amp;usg=__CUKcKlhaujcnzqIWdiECb6GPUJc=&amp;tbnid=uPQHGKo37lH6iM:&amp;tbnh=85&amp;tbnw=110&amp;ei=yPEGSeywCJH-1QaUk4mKBw&amp;prev=/images?q=veiligheidsbril&amp;start=40&amp;ndsp=20&amp;um=1&amp;hl=nl&amp;rlz=1T4GGLL_nl&amp;sa=N" TargetMode="External"/><Relationship Id="rId2" Type="http://schemas.openxmlformats.org/officeDocument/2006/relationships/image" Target="../media/image4.png"/><Relationship Id="rId3" Type="http://schemas.openxmlformats.org/officeDocument/2006/relationships/hyperlink" Target="http://images.google.nl/imgres?imgurl=http://www.enormbrabander.nl/Html/Images/Veiligheidsbril.jpg&amp;imgrefurl=http://www.enormbrabander.nl/Html/assortiment/assortiment/nederlands/website_enorm_brabander/04Sale.html&amp;h=250&amp;w=250&amp;sz=8&amp;hl=nl&amp;start=9&amp;sig2=F92OidaQdtn4Emo0ID_lVA&amp;um=1&amp;usg=__VLvTLF5n8rszb-RxCsU4tFdw7tU=&amp;tbnid=V07os4M3iNu1EM:&amp;tbnh=111&amp;tbnw=111&amp;ei=CvAGSaDbBIOo1gaU8K2BBw&amp;prev=/images?q=veiligheidsbril&amp;um=1&amp;hl=nl&amp;rlz=1T4GGLL_nl&amp;sa=N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toolstation.nl/images/library/stock/webbig/56509.jpg&amp;imgrefurl=http://www.toolstation.nl/shop/Veiligheid/Hoofdengezicht/d70/sd520&amp;h=500&amp;w=500&amp;sz=27&amp;hl=nl&amp;start=7&amp;sig2=ejdeNPhmpSX36vuhQzL0ZA&amp;um=1&amp;usg=__Tlazlr_pSoVL_0HCIcBUFaIxnHQ=&amp;tbnid=Lbv8ckYmnagLRM:&amp;tbnh=130&amp;tbnw=130&amp;ei=6PUGSf-SMom-1wbLtfGHBw&amp;prev=/images?q=gehoorbescherming&amp;um=1&amp;hl=nl&amp;rlz=1T4GGLL_nl&amp;sa=G" TargetMode="External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28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 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33cc33"/>
                </a:solidFill>
                <a:latin typeface="Arial"/>
              </a:rPr>
              <a:t>Hoofdstuk 10 </a:t>
            </a:r>
            <a:br>
              <a:rPr sz="4400"/>
            </a:br>
            <a:r>
              <a:rPr b="1" lang="nl-NL" sz="4400" spc="-1" strike="noStrike">
                <a:solidFill>
                  <a:srgbClr val="33cc33"/>
                </a:solidFill>
                <a:latin typeface="Arial"/>
              </a:rPr>
              <a:t>Persoonlijke beschermingsmiddel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 Ademhaling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0920" y="907560"/>
            <a:ext cx="78454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assen, dampen of stof in de lucht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hinderlijk, ook gevaarl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dembeschermingsmiddelen zij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ltermaskers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(niet in besloten ruim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fhankelijk van de werksituatie: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e weinig zuurstof: geen filtermasker,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an verse lucht of zuurstof mask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assen en dampen andere filters dan st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se luchtmask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t een ventila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t een persluchtf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se luchtkap op een luchtlei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ttps://www.youtube.com/watch?v=GjvqgyLyy88&amp;feature=relmf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ttps://www.youtube.com/watch?v=ya-sxVfNm_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ttps://www.youtube.com/watch?v=cQGIMKORTUo&amp;feature=relmf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1" descr=""/>
          <p:cNvPicPr/>
          <p:nvPr/>
        </p:nvPicPr>
        <p:blipFill>
          <a:blip r:embed="rId1"/>
          <a:srcRect l="8696" t="0" r="21505" b="0"/>
          <a:stretch/>
        </p:blipFill>
        <p:spPr>
          <a:xfrm>
            <a:off x="7572240" y="0"/>
            <a:ext cx="1571760" cy="2265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3" descr="http://www.preventia.nl/images/Hamilton3"/>
          <p:cNvPicPr/>
          <p:nvPr/>
        </p:nvPicPr>
        <p:blipFill>
          <a:blip r:embed="rId2"/>
          <a:stretch/>
        </p:blipFill>
        <p:spPr>
          <a:xfrm>
            <a:off x="7461360" y="3054240"/>
            <a:ext cx="167616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 Ademhalingsbescherm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6" descr=""/>
          <p:cNvPicPr/>
          <p:nvPr/>
        </p:nvPicPr>
        <p:blipFill>
          <a:blip r:embed="rId1"/>
          <a:srcRect l="23803" t="5386" r="26782" b="33079"/>
          <a:stretch/>
        </p:blipFill>
        <p:spPr>
          <a:xfrm>
            <a:off x="7640640" y="0"/>
            <a:ext cx="1503360" cy="22147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7"/>
          <p:cNvSpPr/>
          <p:nvPr/>
        </p:nvSpPr>
        <p:spPr>
          <a:xfrm>
            <a:off x="1905120" y="4724280"/>
            <a:ext cx="142848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gas/damp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fil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3657600" y="4724280"/>
            <a:ext cx="142884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stoffilters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P1/P2/P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5410080" y="4724280"/>
            <a:ext cx="142884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aanzuigen verse luc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7010280" y="4724280"/>
            <a:ext cx="142884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luchtfles of luchtlei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785880" y="4714920"/>
            <a:ext cx="128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  <a:ea typeface="Arial"/>
              </a:rPr>
              <a:t>soort P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785880" y="3714840"/>
            <a:ext cx="192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  <a:ea typeface="Arial"/>
              </a:rPr>
              <a:t>hoofdin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3071880" y="3643200"/>
            <a:ext cx="178596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filtermask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5857920" y="2500200"/>
            <a:ext cx="2000160" cy="857520"/>
          </a:xfrm>
          <a:prstGeom prst="rect">
            <a:avLst/>
          </a:prstGeom>
          <a:solidFill>
            <a:srgbClr val="b2b2b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hinder/geva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besloten ruim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zuurstoftekor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3071880" y="2500200"/>
            <a:ext cx="1785960" cy="8575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hinder/geva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of vluch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2"/>
          <p:cNvSpPr/>
          <p:nvPr/>
        </p:nvSpPr>
        <p:spPr>
          <a:xfrm>
            <a:off x="4529160" y="1357200"/>
            <a:ext cx="1614600" cy="900360"/>
          </a:xfrm>
          <a:prstGeom prst="rect">
            <a:avLst/>
          </a:prstGeom>
          <a:solidFill>
            <a:srgbClr val="b2b2b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adem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bescher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785880" y="2900520"/>
            <a:ext cx="18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  <a:ea typeface="Arial"/>
              </a:rPr>
              <a:t>situat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5867280" y="3657600"/>
            <a:ext cx="178596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onafhankelijke adembescher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.1 Filtermas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sduur van het filterpatroon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ngt af van de concentratie van verontreinig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sterke verontreiniging vaker nieuw patroon nodi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k als je meer lucht verbruikt bij zwaar wer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ort filtermas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nuitje (geperst mondkapje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lfgelaatmaskermaske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uit om de mond en de ne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t filterpatroon/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lgelaatmask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sker waarmee tevens de ogen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schermd zij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ok met patroon of 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5" descr="http://www.arbostore.eu/UserFiles/Image/x_06970273.jpg"/>
          <p:cNvPicPr/>
          <p:nvPr/>
        </p:nvPicPr>
        <p:blipFill>
          <a:blip r:embed="rId1"/>
          <a:stretch/>
        </p:blipFill>
        <p:spPr>
          <a:xfrm>
            <a:off x="7016760" y="3584520"/>
            <a:ext cx="1712880" cy="25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.1 Filtermaskers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ebruik van filters, nadelen en risico’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ekkage langs het filter, bijvoorbeeld door baardgroe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bruik van een beschadigd of verouderd fil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stoppen of doorsla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bescherming tegen zuurstofteko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1"/>
          <a:stretch/>
        </p:blipFill>
        <p:spPr>
          <a:xfrm>
            <a:off x="838080" y="4114800"/>
            <a:ext cx="6858000" cy="1736640"/>
          </a:xfrm>
          <a:prstGeom prst="rect">
            <a:avLst/>
          </a:prstGeom>
          <a:ln w="0">
            <a:noFill/>
          </a:ln>
        </p:spPr>
      </p:pic>
      <p:pic>
        <p:nvPicPr>
          <p:cNvPr id="94" name="Afbeelding 9" descr="imagesCANAECO9.jpg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6994440" y="0"/>
            <a:ext cx="214956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.2  Onafhankelijke adem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minder dan 20% zuurstof in de luch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</a:t>
            </a:r>
            <a:r>
              <a:rPr b="0" lang="nl-NL" sz="2400" spc="-1" strike="noStrike">
                <a:solidFill>
                  <a:srgbClr val="cc0000"/>
                </a:solidFill>
                <a:latin typeface="Arial"/>
              </a:rPr>
              <a:t>hoge concentraties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lijke stoff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onbekende stoffen in de luch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orten onafhankelijke adembesche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e luchtkappen met toegevoerde lu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fless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ompress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ntila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.2  Onafhankelijke adembescherm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lgelaatmasker in combinatie met luchtfle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erslucht (ademlucht) wordt via een longautomaat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 de flessen in de ademruimte aangezo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ucht voor verse luchtkappen, ademluchtleidingen en ademluchtflessen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oet van goede kwaliteit en temperatuur zij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adembescherming zorgen vo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structie en oefening voor het gebrui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ontrole of het masker goed passend is (fit tes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 onderhoud en schoonhou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Afbeelding 4" descr="imagesCAPA3MR9.jpg"/>
          <p:cNvPicPr/>
          <p:nvPr/>
        </p:nvPicPr>
        <p:blipFill>
          <a:blip r:embed="rId1"/>
          <a:stretch/>
        </p:blipFill>
        <p:spPr>
          <a:xfrm>
            <a:off x="7467480" y="3809880"/>
            <a:ext cx="128592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4 Hoofd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helm of een stoothe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mlaag vallende voorwer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oofd sto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binnenwerk vangt de schok op en verdeelt de krachten over het hoo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lmen vervangen na een val of stoot of na het opvangen van een vallend voorwer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vangen na een bepaalde period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talen helmen zijn in de industri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bo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Afbeelding 7" descr="imagesCA740JAN.jpg"/>
          <p:cNvPicPr/>
          <p:nvPr/>
        </p:nvPicPr>
        <p:blipFill>
          <a:blip r:embed="rId1"/>
          <a:stretch/>
        </p:blipFill>
        <p:spPr>
          <a:xfrm>
            <a:off x="6553080" y="4419720"/>
            <a:ext cx="2062440" cy="1714320"/>
          </a:xfrm>
          <a:prstGeom prst="rect">
            <a:avLst/>
          </a:prstGeom>
          <a:ln w="0">
            <a:noFill/>
          </a:ln>
        </p:spPr>
      </p:pic>
      <p:pic>
        <p:nvPicPr>
          <p:cNvPr id="103" name="Afbeelding 6" descr="s_108.jpg"/>
          <p:cNvPicPr/>
          <p:nvPr/>
        </p:nvPicPr>
        <p:blipFill>
          <a:blip r:embed="rId2"/>
          <a:stretch/>
        </p:blipFill>
        <p:spPr>
          <a:xfrm>
            <a:off x="6991200" y="6480"/>
            <a:ext cx="2152800" cy="32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5 Hand- en arm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schoen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orte handschoenen o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ndschoenen met verlengde pols- of armbescherm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chillende gebruiksdo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nijbestendige handschoenen voor bij het snij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solerende handschoenen of wanten bij hitte of kou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ashandschoe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unststof of rubberen handschoenen bij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lijk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schoenen zijn gemaakt van material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relatie tot het gebruiksdo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Afbeelding 14" descr="imagesCAXRQ26V.jpg"/>
          <p:cNvPicPr/>
          <p:nvPr/>
        </p:nvPicPr>
        <p:blipFill>
          <a:blip r:embed="rId1"/>
          <a:stretch/>
        </p:blipFill>
        <p:spPr>
          <a:xfrm>
            <a:off x="7500960" y="0"/>
            <a:ext cx="1643040" cy="2635200"/>
          </a:xfrm>
          <a:prstGeom prst="rect">
            <a:avLst/>
          </a:prstGeom>
          <a:ln w="0">
            <a:noFill/>
          </a:ln>
        </p:spPr>
      </p:pic>
      <p:pic>
        <p:nvPicPr>
          <p:cNvPr id="107" name="Afbeelding 13" descr="imagesCAQL3HR7.jpg"/>
          <p:cNvPicPr/>
          <p:nvPr/>
        </p:nvPicPr>
        <p:blipFill>
          <a:blip r:embed="rId2"/>
          <a:stretch/>
        </p:blipFill>
        <p:spPr>
          <a:xfrm>
            <a:off x="7315200" y="434340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6 Voet- en been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chermen teg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cherpe voorwerpen, gevaarlijk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glijden op gladde vloeren en vallende voorwer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 een explosiegevaarlijk gebied: antistatis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k door extra beschermende delen, zoa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n versterkte neus die de tenen bescherm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sterkte tussenzool tegen trappen in scherpe voorwer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tislipzool tegen uitglij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schoenen veelal verplicht in de bou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sterkte neus en versterkte tussenzo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ter en/of gevaarlijk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7380360" y="0"/>
            <a:ext cx="176364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7 Lichaam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hankelijk van je werkplek, de omstandig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n het werk, is passende kleding verplich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ntistatische kleding bij explosiegevaar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gen bevuil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ijdens het lassen en slijpen et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eciale beschermende kleding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lijk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itte, koude, stral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ignaalkleding voor zichtbaar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werkkleding en isolerend ondergo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lage temperatur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Afbeelding 4" descr="imagesCAGNZWRX.jpg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7358040" y="0"/>
            <a:ext cx="178596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 Persoonlijke beschermingsmidd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PBM 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onbestrijding onvoldoend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scherming gevarenbron niet toereikend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afscherming van mensen kan falen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7 Lichaamsbescherm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990720" y="1828800"/>
            <a:ext cx="7543800" cy="41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andachtspunten bij het gebrui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>
              <a:lnSpc>
                <a:spcPct val="100000"/>
              </a:lnSpc>
              <a:spcBef>
                <a:spcPts val="5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kleding wisselen bij verandering van taak/omgev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leding niet schoonblazen met perslucht en zeker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iet met zuurstof (ernstig brandgeva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rvuilde kleding direct reinigen of omwiss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j bewegende, draaiende delen kleding geslot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r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apotte kleding onmiddellijk laten herstellen of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rva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wegwerpkleding na één keer dragen weggooi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8 Val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bescherming voorkomt vallen en/of beper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tsel en sch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sregels en 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iligheidsharnas moet goed passen en is afgestemd op drag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drager controleert vooraf op goede sta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nglijnen mogen niet vervuild zij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dempers en veiligheidsharnassen opslaan op een droge en schone plaa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bescherming die een val heeft opgevangen, laten keur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beschermingssystemen en veiligheidsharnassen minstens eenmaal per jaar laten keu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/>
          <a:stretch/>
        </p:blipFill>
        <p:spPr>
          <a:xfrm>
            <a:off x="7429680" y="0"/>
            <a:ext cx="1714320" cy="24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8 Valbescherm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is belangrijk lichamelijke schade te beperk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hoogte zo klein mogelij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schok maximaal dem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k bij een gedempte val is er geva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maal opgevangen in het harnas wordt de bloedsomloop naar het onderlichaam afgeknel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ans op bewustelooshe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 zo’n situatie altijd benen blijven bewegen en optrekken aan de vallijn om de druk op de benen te verla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t minimaal twee personen werken om zonodig hulp te kunnen inroe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Groep 7"/>
          <p:cNvGrpSpPr/>
          <p:nvPr/>
        </p:nvGrpSpPr>
        <p:grpSpPr>
          <a:xfrm>
            <a:off x="7620120" y="2057400"/>
            <a:ext cx="1523880" cy="2209680"/>
            <a:chOff x="7620120" y="2057400"/>
            <a:chExt cx="1523880" cy="2209680"/>
          </a:xfrm>
        </p:grpSpPr>
        <p:pic>
          <p:nvPicPr>
            <p:cNvPr id="123" name="Picture 5" descr="Ein Arbeiter hängt nach dem Unfall auf einer Baustelle in Grevenbroich an einem Gerüst. Bei dem schweren Unfall auf der Baustelle des neuen RWE-Kraftwerks sind vermutlich mehrere Menschen getötet worden."/>
            <p:cNvPicPr/>
            <p:nvPr/>
          </p:nvPicPr>
          <p:blipFill>
            <a:blip r:embed="rId1"/>
            <a:stretch/>
          </p:blipFill>
          <p:spPr>
            <a:xfrm>
              <a:off x="7620120" y="2057400"/>
              <a:ext cx="152388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Ovaal 6"/>
            <p:cNvSpPr/>
            <p:nvPr/>
          </p:nvSpPr>
          <p:spPr>
            <a:xfrm>
              <a:off x="8185320" y="2558160"/>
              <a:ext cx="463680" cy="10000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Afbeelding 4" descr="untitled.bmp"/>
          <p:cNvPicPr/>
          <p:nvPr/>
        </p:nvPicPr>
        <p:blipFill>
          <a:blip r:embed="rId1"/>
          <a:stretch/>
        </p:blipFill>
        <p:spPr>
          <a:xfrm>
            <a:off x="914400" y="0"/>
            <a:ext cx="8229600" cy="6172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cc33"/>
                </a:solidFill>
                <a:latin typeface="Arial"/>
                <a:ea typeface="Arial"/>
              </a:rPr>
              <a:t>PBM zijn er om je te bescherme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cc33"/>
                </a:solidFill>
                <a:latin typeface="Arial"/>
                <a:ea typeface="Arial"/>
              </a:rPr>
              <a:t>                 </a:t>
            </a:r>
            <a:r>
              <a:rPr b="1" lang="nl-NL" sz="3200" spc="-1" strike="noStrike">
                <a:solidFill>
                  <a:srgbClr val="33cc33"/>
                </a:solidFill>
                <a:latin typeface="Arial"/>
                <a:ea typeface="Arial"/>
              </a:rPr>
              <a:t>maak er goed gebruik va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 Persoonlijke beschermingsmidd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BM is de laatste verdediging tegen gevaren voor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 of gezond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BM worden gebruikt als het niet anders k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PBM moeten wel goed zij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trouwbaa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e bescherming bied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test en voorzien van een CE-merkte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structie voor het gebru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 controleert PBM kwaliteit en CE-merkte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 moet er op een goede manier mee omga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9" descr=""/>
          <p:cNvPicPr/>
          <p:nvPr/>
        </p:nvPicPr>
        <p:blipFill>
          <a:blip r:embed="rId1"/>
          <a:stretch/>
        </p:blipFill>
        <p:spPr>
          <a:xfrm>
            <a:off x="6711840" y="2597040"/>
            <a:ext cx="242568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 Persoonlijke beschermingsmidd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0.1  Oog- en gelaat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0.2  Gehoor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0.3  Ademhaling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0.4  Hoofd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0.5  Hand- en arm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0.6  Voet- en been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0.7  Lichaam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0.8  Val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1 Oog- en gelaat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gen zijn heel kwetsb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op het werk zij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ondvliegende deeltj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rde, scherpe of stofdeeltjes bij verspanen, slijpen, hakken of bo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loeiende deeltjes bij slijpen, lassen en bran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ra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rmte- en lichtstraling, waaronder ultraviolet (UV) en infrarood (I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atten van gevaarlijke vloeistoff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(corrosief, irriterend, schadelijk of giftig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7335720" y="0"/>
            <a:ext cx="1808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1.1 Beschermingsmiddelen en hun kenmer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heidsbri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estal uitgevoerd  met zijkapj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lazen van gehard glas of kunstst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uimzichtbri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uit op het gezicht a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pen of volledig stofdichte ventilatieopening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scherming tegen stof bij slijpen, hakken, bor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scherming tegen spatten gevaarlijke vloeistoff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laatsche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unststof of metaalgazen scherm rondom het gehele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zich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en bescherming tegen stoffen, gassen,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ampen, stofdeeltjes die van onder ko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21" descr="http://tbn0.google.com/images?q=tbn:uPQHGKo37lH6iM:http://www.optieklammerant.be/Graphics/Veiligheidsbril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38760" y="1530360"/>
            <a:ext cx="1571760" cy="1212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http://tbn0.google.com/images?q=tbn:V07os4M3iNu1EM:http://www.enormbrabander.nl/Html/Images/Veiligheidsbril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21680" y="3206880"/>
            <a:ext cx="1573200" cy="1060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C:\DOCUME~1\gerard\LOCALS~1\Temp\~DEST\0001iw\Scannen0017.bmp"/>
          <p:cNvPicPr/>
          <p:nvPr/>
        </p:nvPicPr>
        <p:blipFill>
          <a:blip r:embed="rId5"/>
          <a:stretch/>
        </p:blipFill>
        <p:spPr>
          <a:xfrm>
            <a:off x="7796160" y="4724280"/>
            <a:ext cx="1341360" cy="14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1.1 Beschermingsmiddelen en hun kenmerken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sbr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ldere ruit van gehard glas of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unststof en een donkere rui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 gebruik bij (autogeen) lass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gen rondvliegende deeltjes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afbikken en slij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laskappen/lasscherm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edekken het hele gezich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ebben een donkere ruit tegen 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ultraviolette en infrarode straling,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armte, metaaldeeltjes en von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Afbeelding 5" descr="images.jpg"/>
          <p:cNvPicPr/>
          <p:nvPr/>
        </p:nvPicPr>
        <p:blipFill>
          <a:blip r:embed="rId1"/>
          <a:stretch/>
        </p:blipFill>
        <p:spPr>
          <a:xfrm>
            <a:off x="6254640" y="2365200"/>
            <a:ext cx="1785960" cy="1609920"/>
          </a:xfrm>
          <a:prstGeom prst="rect">
            <a:avLst/>
          </a:prstGeom>
          <a:ln w="0">
            <a:noFill/>
          </a:ln>
        </p:spPr>
      </p:pic>
      <p:pic>
        <p:nvPicPr>
          <p:cNvPr id="60" name="Afbeelding 4" descr="images2.jpg"/>
          <p:cNvPicPr/>
          <p:nvPr/>
        </p:nvPicPr>
        <p:blipFill>
          <a:blip r:embed="rId2"/>
          <a:stretch/>
        </p:blipFill>
        <p:spPr>
          <a:xfrm>
            <a:off x="6254640" y="4505400"/>
            <a:ext cx="1762200" cy="151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2 Gehoor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 veel lawaai is gevaarlijk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mmunicatie moeil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waaidoofhe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plicht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hoorbescherming ter beschikking stellen bij een geluids(druk)niveau vanaf 80 dB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hoorbescherming verplicht dragen bij een geluids(druk)niveau vanaf 85 dB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Afbeelding 5" descr="gehoor.jpg"/>
          <p:cNvPicPr/>
          <p:nvPr/>
        </p:nvPicPr>
        <p:blipFill>
          <a:blip r:embed="rId1"/>
          <a:stretch/>
        </p:blipFill>
        <p:spPr>
          <a:xfrm>
            <a:off x="7162920" y="6480"/>
            <a:ext cx="1987560" cy="29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2 Gehoorbescherm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watten /prop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orpluggen / oordop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toplastie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ehoorkap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1" descr="http://tbn0.google.com/images?q=tbn:Lbv8ckYmnagLRM:http://www.toolstation.nl/images/library/stock/webbig/56509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4120" y="5105520"/>
            <a:ext cx="1428480" cy="1428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http://tbn0.google.com/images?q=tbn:sUedTQkv7_DL1M:http://boneschansker.com/images/otoplastieken.JPG"/>
          <p:cNvPicPr/>
          <p:nvPr/>
        </p:nvPicPr>
        <p:blipFill>
          <a:blip r:embed="rId3"/>
          <a:stretch/>
        </p:blipFill>
        <p:spPr>
          <a:xfrm>
            <a:off x="3124080" y="4114800"/>
            <a:ext cx="1414440" cy="1285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http://tbn0.google.com/images?q=tbn:eTsdTFVHnl2ubM:http://www.toolspecial.com/images/1984-1.jpg"/>
          <p:cNvPicPr/>
          <p:nvPr/>
        </p:nvPicPr>
        <p:blipFill>
          <a:blip r:embed="rId4">
            <a:lum bright="-20000"/>
          </a:blip>
          <a:stretch/>
        </p:blipFill>
        <p:spPr>
          <a:xfrm>
            <a:off x="6553080" y="2590920"/>
            <a:ext cx="1428840" cy="1189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"/>
          <p:cNvPicPr/>
          <p:nvPr/>
        </p:nvPicPr>
        <p:blipFill>
          <a:blip r:embed="rId5"/>
          <a:srcRect l="0" t="0" r="13370" b="0"/>
          <a:stretch/>
        </p:blipFill>
        <p:spPr>
          <a:xfrm>
            <a:off x="3200400" y="1828800"/>
            <a:ext cx="1428840" cy="10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4:56:51Z</dcterms:created>
  <dc:creator>jrijdes</dc:creator>
  <dc:description/>
  <dc:language>en-US</dc:language>
  <cp:lastModifiedBy>Gerrit Hoff</cp:lastModifiedBy>
  <cp:lastPrinted>2015-10-06T06:41:37Z</cp:lastPrinted>
  <dcterms:modified xsi:type="dcterms:W3CDTF">2015-10-06T14:13:37Z</dcterms:modified>
  <cp:revision>42</cp:revision>
  <dc:subject/>
  <dc:title>Test</dc:title>
</cp:coreProperties>
</file>