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25C-FA49-4998-93EB-6294E043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C33-477B-4E00-A7CB-9A5B95F6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712-AF97-436B-A2EF-4D1B2E51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DDE-F204-4A14-8D02-E4951F54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B52-443C-4B6B-8EA9-0A4DD1B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B12-B767-4478-AFB3-B2E2447B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A40-B7A9-4B84-B288-D26C8B7F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FC3-AE02-46BF-BA8B-179D241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9C0-8923-4842-977E-1F7720B2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F6D-3111-4EB9-A7EB-76B1119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692-F281-4AE0-894B-484D72D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1BC-0A5E-474C-AF2E-8B9AC5C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FD45-0935-40A1-B2D2-D5BC4F38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fbeelding 5" descr="tank.jpg"/>
          <p:cNvPicPr/>
          <p:nvPr/>
        </p:nvPicPr>
        <p:blipFill>
          <a:blip r:embed="rId2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Afbeelding 9" descr="vervuilde-grond.jpg"/>
          <p:cNvPicPr/>
          <p:nvPr/>
        </p:nvPicPr>
        <p:blipFill>
          <a:blip r:embed="rId3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6" descr="riool1.jpg"/>
          <p:cNvPicPr/>
          <p:nvPr/>
        </p:nvPicPr>
        <p:blipFill>
          <a:blip r:embed="rId4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,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,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,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binnentreden van de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3. Toegang tot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4.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5.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fbeelding 4" descr="mangatwacht_1.jpg"/>
          <p:cNvPicPr/>
          <p:nvPr/>
        </p:nvPicPr>
        <p:blipFill>
          <a:blip r:embed="rId2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Afbeelding 4" descr="hoofdpijn01.jpg"/>
          <p:cNvPicPr/>
          <p:nvPr/>
        </p:nvPicPr>
        <p:blipFill>
          <a:blip r:embed="rId2"/>
          <a:stretch/>
        </p:blipFill>
        <p:spPr>
          <a:xfrm>
            <a:off x="6632640" y="3346560"/>
            <a:ext cx="2511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a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fbeelding 5" descr="medisafe-pbm-medium.jpg"/>
          <p:cNvPicPr/>
          <p:nvPr/>
        </p:nvPicPr>
        <p:blipFill>
          <a:blip r:embed="rId2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3.6.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4" descr="imagesCANB9EWE.jpg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1.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gnetten of harnasgor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gnetten aanbrengen eventueel harnasgor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fbeelding 5" descr="imagesCAU1R4VZ.jpg"/>
          <p:cNvPicPr/>
          <p:nvPr/>
        </p:nvPicPr>
        <p:blipFill>
          <a:blip r:embed="rId2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dder opstellen onder ca. 75 gra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Afbeelding 5" descr="imagesCAXI9X3V.jpg"/>
          <p:cNvPicPr/>
          <p:nvPr/>
        </p:nvPicPr>
        <p:blipFill>
          <a:blip r:embed="rId2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Afbeelding 6" descr="2-verdiepingen-in-steigers-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4.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nasgordel dragen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Afbeelding 4" descr="imagesCAV5URG7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5.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en gereedschap naar boven hij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steiger niet verplaatsen met iemand op de rol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dat de steun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Afbeelding 7" descr="rol.jpg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Explosiegevaarlijk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7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8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6.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en in de werkbak moeten harnasgorde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Afbeelding 4" descr="imagesCAGWZ8M8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k gevaren zoals omvallen van de hoogwerker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4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5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Afbeelding 4" descr="imagesCAG0ZOPZ.jpg"/>
          <p:cNvPicPr/>
          <p:nvPr/>
        </p:nvPicPr>
        <p:blipFill>
          <a:blip r:embed="rId2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fbeelding 4" descr="stock-photo-demolution-2527839.jpg"/>
          <p:cNvPicPr/>
          <p:nvPr/>
        </p:nvPicPr>
        <p:blipFill>
          <a:blip r:embed="rId2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6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9.7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ijderen van asbest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fbeelding 4" descr="asbestos-remov.jpg"/>
          <p:cNvPicPr/>
          <p:nvPr/>
        </p:nvPicPr>
        <p:blipFill>
          <a:blip r:embed="rId2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2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2 Explosiegevaarlijk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centraties boven LEL zijn mogelij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r voorkoming van ontsteking, bijvoorbee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veilige verlichting en -schakela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aal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in plaats van elektrisch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9.3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7" descr="Besloten.jpg"/>
          <p:cNvPicPr/>
          <p:nvPr/>
        </p:nvPicPr>
        <p:blipFill>
          <a:blip r:embed="rId3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jrijdes</cp:lastModifiedBy>
  <dcterms:modified xsi:type="dcterms:W3CDTF">2010-02-16T11:23:06Z</dcterms:modified>
  <cp:revision>52</cp:revision>
  <dc:subject/>
  <dc:title>Test</dc:title>
</cp:coreProperties>
</file>