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6FD7-3790-4494-BAEC-BC4A40A25A0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36EA-EE64-43D9-BBD9-B4A626AD19F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F62-923D-4D6A-879D-03E9DD47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1D1-4650-4A16-8D6E-69AF2AAD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BA7-EE23-4798-B2BF-F8C4793B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23A-5B5C-469A-987F-6764460E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6CB-E52E-4361-B6D7-88C0956B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A68-E8BF-4236-8359-74C4FF26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3D0-615D-4DCF-83A4-C8D8C102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66A-8B02-4BEB-A7E2-FDF8297E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13F-3D68-4555-9963-20D4E61C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B40-1BA4-4937-AB38-DEB99A0D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47A2-A1EC-4AAC-A9EB-EABA665D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640-D38F-4FF9-ACF6-803C8946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C0BB-88F6-4213-8BD9-99A6940A13F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8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Lasten verplaat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gereedsc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standig, gecombineerd of in same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illende hijsmiddelen aan elkaar gekop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delen van het gebruik van een hijsju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last met gecompliceerde afmetingen kan hijsjuk kante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te grote spreidh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lijksoortige lasten sneller aanpi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s hangen recht = geen kans op schu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fbeelding 6" descr="hijsjuk_thumb1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500880" y="0"/>
            <a:ext cx="264312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kett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gerekte of stijf getrokken schalmen afkeu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verlengen met speciale koppelschalm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uten van de sluitingen helemaal aandr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in lengterichting belas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te zwaar 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erstel%20(2).jpg"/>
          <p:cNvPicPr/>
          <p:nvPr/>
        </p:nvPicPr>
        <p:blipFill>
          <a:blip r:embed="rId1"/>
          <a:srcRect l="0" t="26596" r="37962" b="8594"/>
          <a:stretch/>
        </p:blipFill>
        <p:spPr>
          <a:xfrm>
            <a:off x="6095880" y="3962520"/>
            <a:ext cx="2738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staalkabel bezwijkt: geva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lijk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lagen lichaams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war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teriël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fbeelding 4" descr="200px-Fraying_wire_rope.jpg"/>
          <p:cNvPicPr/>
          <p:nvPr/>
        </p:nvPicPr>
        <p:blipFill>
          <a:blip r:embed="rId1"/>
          <a:stretch/>
        </p:blipFill>
        <p:spPr>
          <a:xfrm>
            <a:off x="5319720" y="1905120"/>
            <a:ext cx="26272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staalkab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laan aan een rek in droge, geventileerde 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met vocht en corrosieve stoffen verm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inspecter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rrosie (roes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tage (vleesha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 tegen scherpe h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kno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gebruik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splitsen, bij een oog of kabelei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uknes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oken str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e roestvo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hijsbanden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2 Hijsb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worden veel gebrui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tte, geweven banden lusvorm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ststof met lederen bescherming binnenzij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bel met aanduid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teria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belas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dat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banden zijn praktisch, maar kwetsba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vuldig mee werken, 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keuren bij slijtage, beschadiging, vervuiling door olie of chemicaliën, ook afkeuren als het label onleesbaa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bediend hijstoest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onering in verticale en horizontale richting van lasten tijdens hijswerkzaamheden (dus om de last precies op de goede plek te krijg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 van een kraan onmogelijk of niet efficië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takel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uk van onderdeel ta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of bezwijken bevestigingsp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 aan constructie waaraan takel is vastgemaa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3 Takelen met een handtakel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gebruik tak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stevige aanslagpunt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gebruik inspect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fecten terugbrengen en gebreken 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over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ndel nooit met een pijp verl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haak niet op de pu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 met heftrucks met ernstige gevolgen, do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ntelen van heftr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 of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 vakkundig gebruik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ftru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l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heftruck op bijvoorbeeld dieselolie, die binnen wordt gebruikt, vervuilt de in te ademen lucht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900840" y="0"/>
            <a:ext cx="2243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4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extra contragew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optimaal zicht bestu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personen heffen zonder speciale werk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ijsen zonder speciaal hulpmid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meerijden zonder speciaal ingerichte zi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person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rijbewijs…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5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klachten bij verkeerde werkhou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nlijke schouder en armen te zware la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neld raken van vingers, enkels, voeten en 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ijden van personen, goederen, gebouw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adiging van goederen en uitru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en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biel laden, last gelijk over vorken ver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gale ondergr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noeg manoeuvreerrui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oede houding duwen of 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Tijdelijke aanduiding voor inhoud 4" descr="palletwagen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7286760" y="0"/>
            <a:ext cx="18572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bedrijf heeft te maken met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ic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illen, hijsen of he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anen, takels, heftrucks of palletwag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izontaal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rtuigen, transportbanden, rollenb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risico op soms ernstige, schade 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er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hijswerktu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buurt aanwezige mensen of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 Lasten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1 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2 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3  Takelen met een handtak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4  Gebruik van een vorkheftru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8.5  Werken met een palletw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 door onvoldoende gr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handvatten of goede uitspar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no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gblessures door verkeerd t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ook op lang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mijn mogelij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gblessures zijn een belangrijke red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werknemers af te keur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4" descr="imagesCAH6CN3G.jpg"/>
          <p:cNvPicPr/>
          <p:nvPr/>
        </p:nvPicPr>
        <p:blipFill>
          <a:blip r:embed="rId1"/>
          <a:stretch/>
        </p:blipFill>
        <p:spPr>
          <a:xfrm>
            <a:off x="6715080" y="3733920"/>
            <a:ext cx="22147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1 Tillen van la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bij handmatig tillen en verplaat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llen met een rechte rug en gebogen knie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ast zo dicht mogelijk tegen het lichaam aan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uiste werkkleding en PBM (schoenen) voorkomen/beperken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e gevaren bij het hij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vallen van de kr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van d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kraan, last of hij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kseminsla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omwaaien, bij slecht w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eisen hijswerktuigen en toebeh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de eisen van de Machinericht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eurd zijn (keuringsbewijs is aanwezi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ringsgegevens zijn herkenbaar aangeb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CE-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ximale belasting is zichtb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fbeelding 4" descr="imagesCAPB6G3T.jpg"/>
          <p:cNvPicPr/>
          <p:nvPr/>
        </p:nvPicPr>
        <p:blipFill>
          <a:blip r:embed="rId1"/>
          <a:stretch/>
        </p:blipFill>
        <p:spPr>
          <a:xfrm>
            <a:off x="6516720" y="0"/>
            <a:ext cx="25621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 Hij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pieren die aanwezig moeten zijn bij de kr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aanbo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keuringen en onderhoudswerkzaamheden worden opge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jstabellen en hijsgrafiek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 gewicht mag op welke afstand worden verplaat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rtific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uringsbewijzen van lieren, takels, hijsmasten, extra kettingen, hijsjuk en ander hijs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hijsen vere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 van za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ezen vaardig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ieners van hijswerktuigen moeten deskundigheid kunnen aantonen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renkran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biele kranen 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istellingen (met een lastmoment gelijk aan of groter dan 10 ton mt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heidsbewijs (hijsbewij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istratieboekje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(o.a. ervar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8.2.1 Hijswerk veilig uitvoer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gelaten werkbelasting niet overschr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p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aansl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isuele controle van het materie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beschadigingen en slij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idhoek van sprongen zo klein mogelijk (max 120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hijsen boven door fabrikant opgegeven windkra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communicatie kraandrijver en as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fstemming bij de inzet v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dere hijskranen (kranenpl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286760" y="1447920"/>
            <a:ext cx="185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1:05:05Z</dcterms:modified>
  <cp:revision>21</cp:revision>
  <dc:subject/>
  <dc:title>Test</dc:title>
</cp:coreProperties>
</file>