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4BA-AA29-4389-B6A5-B29C75CE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165-7056-4D82-AB05-89EA45FE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C47-45FE-427F-BF7D-A6B713B7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4D50-C340-41D4-9E9D-3CB12368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285-1CBA-4E9D-AA8C-F2426906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703-E342-422C-BA3A-F5CBB825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CF7-1CCD-4C15-82F3-7008B9A5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914-CED4-488E-8352-87042779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596-B3B7-4BFC-B726-93F3E9CD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30B-024D-4416-A1B6-6934632E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D90-1D4E-46B7-86B3-01DC26B1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64A-D097-4778-AB4A-EE5B3B02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E9C4-209A-4012-874B-A1CC8FA5618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innentreden van de besloten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route uitzetten en bhv 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3 Toegang tot een beslo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4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5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Afbeelding 4" descr="mangatwacht_1.jpg"/>
          <p:cNvPicPr/>
          <p:nvPr/>
        </p:nvPicPr>
        <p:blipFill>
          <a:blip r:embed="rId1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fbeelding 4" descr="hoofdpijn01.jpg"/>
          <p:cNvPicPr/>
          <p:nvPr/>
        </p:nvPicPr>
        <p:blipFill>
          <a:blip r:embed="rId1"/>
          <a:stretch/>
        </p:blipFill>
        <p:spPr>
          <a:xfrm>
            <a:off x="6638760" y="3352680"/>
            <a:ext cx="24987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bij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Afbeelding 5" descr="medisafe-pbm-medium.jpg"/>
          <p:cNvPicPr/>
          <p:nvPr/>
        </p:nvPicPr>
        <p:blipFill>
          <a:blip r:embed="rId1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ngen en branders controleren op zuurstof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fbeelding 4" descr="imagesCANB9EWE.jpg"/>
          <p:cNvPicPr/>
          <p:nvPr/>
        </p:nvPicPr>
        <p:blipFill>
          <a:blip r:embed="rId1"/>
          <a:stretch/>
        </p:blipFill>
        <p:spPr>
          <a:xfrm>
            <a:off x="7023240" y="6480"/>
            <a:ext cx="21142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1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 of veiligheidsharn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gnetten aanbrengen eventueel veiligheidsharnas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5" descr="imagesCAU1R4VZ.jpg"/>
          <p:cNvPicPr/>
          <p:nvPr/>
        </p:nvPicPr>
        <p:blipFill>
          <a:blip r:embed="rId1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opstellen onder hoek van ca. 75 gra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drie contactpunten met de ladder: 2 voeten/1 hand of 2 handen/1 vo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fbeelding 5" descr="imagesCAXI9X3V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fbeelding 6" descr="2-verdiepingen-in-steigers-.jp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4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dragen,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fbeelding 4" descr="imagesCAV5URG7.jpg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5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en gereedschap op een veilige manier naar boven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niet verplaatsen met iemand er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dat de stabilisator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fbeelding 7" descr="rol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6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nen in de werkbak moeten een veiligheidsharna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fbeelding 4" descr="imagesCAGWZ8M8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2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3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4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5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6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7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hoog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vallen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4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Afbeelding 4" descr="imagesCAG0ZOPZ.jpg"/>
          <p:cNvPicPr/>
          <p:nvPr/>
        </p:nvPicPr>
        <p:blipFill>
          <a:blip r:embed="rId1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Afbeelding 4" descr="stock-photo-demolution-2527839.jpg"/>
          <p:cNvPicPr/>
          <p:nvPr/>
        </p:nvPicPr>
        <p:blipFill>
          <a:blip r:embed="rId1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6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ijderen van asbest (door opgeleide deskundige asbestverwijderaar)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stortko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fbeelding 4" descr="asbestos-remov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door raken kabels onder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of explosie door raken van gas-/olie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overlast door raken water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demvervu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olven raken door 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i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zorgvuldig gra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graven wanneer bekend is waar leidingen lig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netbeheerd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leidinggevende of aannem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efsleuven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jking van ligging en schade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graafmachine: niet-getande graaf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raaf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kwerk rondom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stut- en taludvoorzi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graven aarde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uigen, materialen en materieel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 ladders plaatsen voor veilige vlucht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ascilinders in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uitgraving veiligheidsregels voor besloten ruimt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1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 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7" descr="Besloten.jpg"/>
          <p:cNvPicPr/>
          <p:nvPr/>
        </p:nvPicPr>
        <p:blipFill>
          <a:blip r:embed="rId2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fbeelding 5" descr="tank.jpg"/>
          <p:cNvPicPr/>
          <p:nvPr/>
        </p:nvPicPr>
        <p:blipFill>
          <a:blip r:embed="rId1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3" name="Afbeelding 9" descr="vervuilde-grond.jpg"/>
          <p:cNvPicPr/>
          <p:nvPr/>
        </p:nvPicPr>
        <p:blipFill>
          <a:blip r:embed="rId2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4" name="Afbeelding 6" descr="riool1.jpg"/>
          <p:cNvPicPr/>
          <p:nvPr/>
        </p:nvPicPr>
        <p:blipFill>
          <a:blip r:embed="rId3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2:49:32Z</dcterms:modified>
  <cp:revision>62</cp:revision>
  <dc:subject/>
  <dc:title>Test</dc:title>
</cp:coreProperties>
</file>