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3.jpeg" ContentType="image/jpeg"/>
  <Override PartName="/ppt/media/image10.png" ContentType="image/png"/>
  <Override PartName="/ppt/media/image27.jpeg" ContentType="image/jpeg"/>
  <Override PartName="/ppt/media/image25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EF4-C55D-42AA-B542-C1463606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2501-6FB9-4271-953C-B291431C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A9C-5CF6-4F5A-B994-5EDAD0DE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4FB-6DC4-423D-A1A4-7F1616C0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E0E5-D5C5-4370-BA8A-F3BB0BD0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A47E-F201-4070-93B5-393E7795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9751-935C-4DA2-9CFD-4FC848C4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D71F-70B1-4C5B-B12D-91477D74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225B-CF4A-45F0-995B-D18822EF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E755-8D9F-4D79-B45E-47B3BB16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9931-2C4B-4FA9-83E9-FF5379A6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B02-9899-4DF3-BFD3-419DA09C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1604-0442-4391-A96A-3ABE63A3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81A6-C2F3-4482-B614-1E630E9F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DB39-F1A6-4543-AEBE-081B8042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D4AA-BAF9-4790-A860-6FA51C6B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6E61-9F8F-4B22-91FD-8B68711F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0C061-2A06-446D-89B4-C1FCCDA8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6C23A-7093-4F23-B494-69C3988F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0F077-F2A1-46FB-A101-0FD788B3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1B020-2D4F-49BC-A88B-7ABF8493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A6E44-3AE7-4CB5-9E05-F976783E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981B-94AD-494B-91B0-B525902D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4A02F-ADBD-44EE-AA5C-E93CC304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58E5C-5BD6-4705-AD3C-E21ECF0D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BC6C7-D9FC-463C-9C14-60A9C9E6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4DDE3-64DA-4E54-B96B-153A997D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0D68-72BF-47DB-B816-1E450354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39C51-CAEF-4423-AD7E-6A93469E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29317-7916-4EB0-8231-C81BA035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3CC-0694-4829-8648-82FD5D5C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34DE-6F56-4B4D-9517-137B4A1A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A4D-78A9-4B97-8FE9-4045F931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8FD-B8DD-48A1-A60F-A0212365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7F9B-49BA-46D8-995C-E987721A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646A-389E-44C4-9D86-D6F35F3F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AFC7-3C8B-4807-8103-051BA9B0C4E6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47A7-4E3C-40A4-B45C-3B35FDF64098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E2A7-84EA-44E7-A17F-27F8099CA00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erckebosch.nl/html/home.php" TargetMode="External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1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072F-FBE1-4F76-A380-29483A7176A7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Hoofdstuk 2</a:t>
            </a:r>
            <a:br>
              <a:rPr sz="4400"/>
            </a:b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Wetten en reg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6B21-3B97-49E7-8B2A-DB332B0A806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71680" y="1604880"/>
            <a:ext cx="7868880" cy="28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werkgever moet oo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voorkom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zo veel mogelijk bij de bron verminder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werknemer goed voorlicht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veilige werkwijze laten zien en laten toepass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oede PBM’s beschikbaar stell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orgen dat er hulp is in geval van noo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499760"/>
            <a:ext cx="83707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ventariseert de risico’s (schriftelij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 preventiebeleid o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 risico’s (rekening houden met technie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rnstige risico’s voorkeur voor materiële maatregel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76280" indent="-343080"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B9F1-0B14-4265-8382-1C13B292C74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pak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ysteembenadering (bijv. KAM-systee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 met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(wijze) zo nodig aan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arbeidsmid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n (derden)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hulp organis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vallen, onderzoeken en melden aan Arbeidsinspec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BC06-85BC-4B9A-B3E1-087E94951C4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heersing betekent vooral dat beleid en procedures worden nageleef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zicht 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geven en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toler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EDEC-1C0D-479B-80C2-582C3DD3056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71320" y="1000080"/>
            <a:ext cx="83581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effectiviteit verbeteren door te reageren op incidenten en te leren van ongevallen en incide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BFF7-8474-41EA-A730-877E9759B6D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71680" y="149976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moe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kunn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will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 blijven van de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e 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geleg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ragen van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HBO- en brandbestrijd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vacuatiewe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A0C3-D5FC-4CBD-8F2A-4645E828AE3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520" y="1142640"/>
            <a:ext cx="45003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1"/>
          <a:stretch/>
        </p:blipFill>
        <p:spPr>
          <a:xfrm>
            <a:off x="5500800" y="52862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http://www.biname.be/images/produits/signalisation/signalweb.gif"/>
          <p:cNvPicPr/>
          <p:nvPr/>
        </p:nvPicPr>
        <p:blipFill>
          <a:blip r:embed="rId2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224" name="Tijdelijke aanduiding voor dianummer 10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5A8B-CD55-4C0B-8B5F-C6599DA85DA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5108400" y="1378080"/>
            <a:ext cx="1616400" cy="1931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4"/>
          <a:stretch/>
        </p:blipFill>
        <p:spPr>
          <a:xfrm>
            <a:off x="5181480" y="2444760"/>
            <a:ext cx="1590840" cy="187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5"/>
          <a:stretch/>
        </p:blipFill>
        <p:spPr>
          <a:xfrm>
            <a:off x="6143760" y="3286080"/>
            <a:ext cx="987120" cy="866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"/>
          <p:cNvPicPr/>
          <p:nvPr/>
        </p:nvPicPr>
        <p:blipFill>
          <a:blip r:embed="rId6"/>
          <a:stretch/>
        </p:blipFill>
        <p:spPr>
          <a:xfrm>
            <a:off x="5500800" y="4357800"/>
            <a:ext cx="96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680" y="1285920"/>
            <a:ext cx="7851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ven aan dat er een gevaar i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63680" indent="-2383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http://www.biname.be/images/produits/signalisation/ballisage.gif"/>
          <p:cNvPicPr/>
          <p:nvPr/>
        </p:nvPicPr>
        <p:blipFill>
          <a:blip r:embed="rId1"/>
          <a:stretch/>
        </p:blipFill>
        <p:spPr>
          <a:xfrm>
            <a:off x="6715080" y="3429000"/>
            <a:ext cx="1138320" cy="1138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http://www.biname.be/images/produits/signalisation/barriere.gif"/>
          <p:cNvPicPr/>
          <p:nvPr/>
        </p:nvPicPr>
        <p:blipFill>
          <a:blip r:embed="rId2"/>
          <a:stretch/>
        </p:blipFill>
        <p:spPr>
          <a:xfrm>
            <a:off x="5500800" y="4786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  <p:sp>
        <p:nvSpPr>
          <p:cNvPr id="234" name="Tijdelijke aanduiding voor dianummer 7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EAF4-2005-420A-8F42-DEF52712F69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kstvak 8"/>
          <p:cNvSpPr/>
          <p:nvPr/>
        </p:nvSpPr>
        <p:spPr>
          <a:xfrm>
            <a:off x="571680" y="4071960"/>
            <a:ext cx="607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3920" indent="-22392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s linten: wit - rood, of geel - zwar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kstvak 9"/>
          <p:cNvSpPr/>
          <p:nvPr/>
        </p:nvSpPr>
        <p:spPr>
          <a:xfrm>
            <a:off x="571680" y="4500720"/>
            <a:ext cx="61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5360" indent="-2253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rood - witte hekken worden ook gebruik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kstvak 11"/>
          <p:cNvSpPr/>
          <p:nvPr/>
        </p:nvSpPr>
        <p:spPr>
          <a:xfrm>
            <a:off x="571680" y="2720880"/>
            <a:ext cx="58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kstvak 12"/>
          <p:cNvSpPr/>
          <p:nvPr/>
        </p:nvSpPr>
        <p:spPr>
          <a:xfrm>
            <a:off x="571680" y="3643200"/>
            <a:ext cx="428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35080" indent="-2350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plakt of geschilderd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8" descr=""/>
          <p:cNvPicPr/>
          <p:nvPr/>
        </p:nvPicPr>
        <p:blipFill>
          <a:blip r:embed="rId1">
            <a:lum bright="-30000"/>
          </a:blip>
          <a:stretch/>
        </p:blipFill>
        <p:spPr>
          <a:xfrm rot="20067600">
            <a:off x="4846320" y="-43956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550044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71320" y="1219320"/>
            <a:ext cx="678636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el-zwarte mar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tr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ven bovenste en/of de onderste trede 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9445-A553-4D19-9991-B3A7A1F5522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2"/>
          <a:srcRect l="27321" t="40454" r="0" b="41551"/>
          <a:stretch/>
        </p:blipFill>
        <p:spPr>
          <a:xfrm>
            <a:off x="6711840" y="642960"/>
            <a:ext cx="2432160" cy="603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"/>
          <p:cNvPicPr/>
          <p:nvPr/>
        </p:nvPicPr>
        <p:blipFill>
          <a:blip r:embed="rId3">
            <a:lum bright="-30000"/>
          </a:blip>
          <a:stretch/>
        </p:blipFill>
        <p:spPr>
          <a:xfrm rot="20067600">
            <a:off x="6440040" y="-296640"/>
            <a:ext cx="2500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le of witte strepen worden ook gebruikt om aan te g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voor het aangeven van een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plosiegevaarlijke zone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, wordt het waarschuwingsbord met de letters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48DC-1000-4468-B201-53A7FB9626C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429160" y="4857840"/>
            <a:ext cx="170028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83581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500120"/>
            <a:ext cx="81435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verplicht de Europese Richtlijnen te vol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geving gaat verder </a:t>
            </a:r>
            <a:r>
              <a:rPr b="0" lang="nl-NL" sz="2400" spc="-1" strike="noStrike">
                <a:solidFill>
                  <a:srgbClr val="c0163a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Arbo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rbeidsinspec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B327-E92B-427A-8ECB-2C281C8AAED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5149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eidsplaatsen en projectloc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680" y="128556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én werknemer moeten ongevallen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kom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eest voorkomende ongeval is onderuitgaa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het lopen doo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normaal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CF07-5117-4A82-9DD0-AE7851962380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Afbeelding 7" descr="IMG_5781%20bouwplaats%20entree.jpg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</a:t>
            </a: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ronbestrijd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71680" y="1499760"/>
            <a:ext cx="85723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rg besteden aan ontwerp en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cheiden van mens en gevaa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30A7-D186-4ECC-9D84-98DB6CBD9C0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Afbeelding 4" descr="Aquallure%201.jpg"/>
          <p:cNvPicPr/>
          <p:nvPr/>
        </p:nvPicPr>
        <p:blipFill>
          <a:blip r:embed="rId1"/>
          <a:stretch/>
        </p:blipFill>
        <p:spPr>
          <a:xfrm>
            <a:off x="2738520" y="407196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 </a:t>
            </a:r>
            <a:br>
              <a:rPr sz="2800"/>
            </a:b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lichten werknemer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680" y="1500120"/>
            <a:ext cx="83707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elf do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aangegeven, voorziene wegen en paden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9139-0357-4783-AE57-F3075292B38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ouding en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eigen veiligheid en gezondheid en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ie van a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reventiebel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van ongevallen, gevaren of bijna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EE22-2294-4C01-B7C4-C689B59D70AA}" type="slidenum">
              <a:rPr b="1" lang="nl-NL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71320" y="164268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e werkwijze toe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 de goede manier gebruik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gevaarlijke stoffen, vervoermiddelen en andere 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gebrachte beveilig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onlijke 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5BAC-C917-4498-9714-A537739A73EE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71320" y="499680"/>
            <a:ext cx="815652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163a"/>
                </a:solidFill>
                <a:latin typeface="Arial"/>
              </a:rPr>
              <a:t>rechten van de werknem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breking van werk bij ernstig gevaar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en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19E4-12DF-4A5A-8D3F-D25E8E78FD67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4498920" y="3645000"/>
            <a:ext cx="310824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5 Deskundige bijstand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71680" y="1571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moe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een of meer deskundigen aanste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D7C2-78C8-4DC9-9766-DF24E819A280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6" descr=""/>
          <p:cNvPicPr/>
          <p:nvPr/>
        </p:nvPicPr>
        <p:blipFill>
          <a:blip r:embed="rId1"/>
          <a:srcRect l="41175" t="0" r="0" b="0"/>
          <a:stretch/>
        </p:blipFill>
        <p:spPr>
          <a:xfrm>
            <a:off x="7475400" y="0"/>
            <a:ext cx="1668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Bedrijfsgezondheidszor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71680" y="135684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e bedrijfsarts is belangr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is verantwoor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BA36-1F8D-4C2B-BD71-F84E0EA994B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7410600" y="0"/>
            <a:ext cx="1733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6 Toezicht op V+G 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71680" y="1142640"/>
            <a:ext cx="79819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inspectiediensten waaronder de Arbeidsinspec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en rechten van de inspectiediens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ren naleven van de wetgev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en naleving van de w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 onderzoe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illeggen werk bij ernstig 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-verbaal schrijven bij strafbaar f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agen geldige legitimatie werkne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zoeken van alle werkplek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E9BC-2170-45D9-82C4-5D242D0C5EF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7" descr="MPj04373830000[1]"/>
          <p:cNvPicPr/>
          <p:nvPr/>
        </p:nvPicPr>
        <p:blipFill>
          <a:blip r:embed="rId1"/>
          <a:srcRect l="0" t="0" r="35719" b="0"/>
          <a:stretch/>
        </p:blipFill>
        <p:spPr>
          <a:xfrm>
            <a:off x="6934320" y="4495680"/>
            <a:ext cx="17240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7 Milieu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218960"/>
            <a:ext cx="76435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e schadelijke gevolgen van activ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stoot milieubelastende stoff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afvalstromen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doelmatige en correc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erwijdering van afval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2807-35C2-4D3E-B204-D557775FC6E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5" descr="http://www.ivarem.be/images/ladder-van-lansink.GIF"/>
          <p:cNvPicPr/>
          <p:nvPr/>
        </p:nvPicPr>
        <p:blipFill>
          <a:blip r:embed="rId1">
            <a:grayscl/>
          </a:blip>
          <a:stretch/>
        </p:blipFill>
        <p:spPr>
          <a:xfrm>
            <a:off x="6000840" y="-108000"/>
            <a:ext cx="400032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2375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320" y="1499760"/>
            <a:ext cx="8267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bepaling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9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0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46F4-AC48-4706-9FF5-9B1D0759103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8 Asbestbepa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 inventar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iet verwerken of be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houdend afval gescheiden afvo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verdacht materiaa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ten onderzoeken door onafhankelijk lab (niet bij werk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houdende producten met gebonden vezels kan iedereen af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6B78-8D54-46D3-9D29-627A2C87044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9 Arbeidstijden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71680" y="12855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x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in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sttijd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orderen dat werken en zorgtaken/gezin gecombineerd kunne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4407-8D94-4F03-B2E1-C210572D853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3144960" y="4071960"/>
            <a:ext cx="3017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71680" y="1285560"/>
            <a:ext cx="8370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-gecertificeerde uitzendbureaus moeten vooraf goede voorlichting over risicobeheersing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lenende organisatie is verantwoordelijk voor bescherming en veilig laten werken van inleenkrach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3D39-4A86-41A3-ABF7-74B74D57C82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3520" y="12189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organisatie informeert  medewerker over eigen beleid, inlenende bedrijf, werk en werkpl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eidsverklaring uitzendorganis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regels inlenende bedrij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ne veiligheid- en gezondheids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onveiligheid en 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 en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unctie-eisen, gevaren, beheersmaatreg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-gebruik, vergunningen en specifieke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FCD9-37BD-4ED1-8295-49E40A75789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kstvak 6"/>
          <p:cNvSpPr/>
          <p:nvPr/>
        </p:nvSpPr>
        <p:spPr>
          <a:xfrm>
            <a:off x="1714680" y="548640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e inleenkracht krijgt documentatie mee</a:t>
            </a:r>
            <a:r>
              <a:rPr b="0" i="1" lang="nl-NL" sz="2000" spc="-1" strike="noStrike">
                <a:solidFill>
                  <a:srgbClr val="00ffff"/>
                </a:solidFill>
                <a:latin typeface="Arial"/>
                <a:ea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71400" y="1147680"/>
            <a:ext cx="7227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8EE4-F75C-4321-A4FC-FB12199A4C0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kstvak 6"/>
          <p:cNvSpPr/>
          <p:nvPr/>
        </p:nvSpPr>
        <p:spPr>
          <a:xfrm>
            <a:off x="571680" y="1285920"/>
            <a:ext cx="842940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lenende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bedrij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directe instructie over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lden geva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handelen bij noodsitua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edoen met oefeni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inschakelen hulpdien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zet inleenkracht op afgesproken wer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oor nieuwe taken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angeven wat de risico’s en preventiemaatregelen zij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fspraken met uitzendorganisatie over  taakverdeling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wie informeert, instrueert en verstrekt de PB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70722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 Invloed van Europ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828440"/>
            <a:ext cx="795168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lid van de Europese U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ten moeten zo nodig worden aangepa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CE-marke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CE-markering op machines en PB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.b.t. veiligheid voldoen CE-producten aan de betreffende Europese richtl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lleen CE-gemarkeerde arbeidsmiddelen mogen op de markt worden gebracht en worden gebrui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5BFC-A19F-4912-B5FB-524D47DC73C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181080" y="-509760"/>
            <a:ext cx="16192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1"/>
          <a:stretch/>
        </p:blipFill>
        <p:spPr>
          <a:xfrm>
            <a:off x="6242040" y="30240"/>
            <a:ext cx="27259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over veilig  en gezond werken</a:t>
            </a:r>
            <a:r>
              <a:rPr b="1" lang="nl-NL" sz="2800" spc="-1" strike="noStrike">
                <a:solidFill>
                  <a:srgbClr val="47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00120"/>
            <a:ext cx="815652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rbeidsomstandighedenwet  is 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angrijkste wet op het gebied v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 en gezondheid bij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werknemers bij het werk bescherm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eteren van de veilig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gezondheid en welzij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alle plaatsen waar 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F832-F5D4-4DE3-B831-DD2FDD0BE9F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71320" y="1428480"/>
            <a:ext cx="7143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s én werknemers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geve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an het bedrijf waar je in dienst bent, maar ook degene die jou aanwijzingen geeft, toezicht houdt en middelen verstrekt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nemer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vaste/tijdelijke dienst, uitzendkrachten, stagiairs, vrijwillig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36D4-E5EA-48F0-809E-3FD285E9528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65354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Welzijn in de 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71320" y="1428840"/>
            <a:ext cx="82674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richting werkplek aan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ten op persoonsfacto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eftijd en gesl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, vakmanschap en voer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D23A-AD22-437E-A7FA-C15958E25FB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2" name="Tijdelijke aanduiding voor inhoud 3"/>
          <p:cNvSpPr/>
          <p:nvPr/>
        </p:nvSpPr>
        <p:spPr>
          <a:xfrm>
            <a:off x="571680" y="3571920"/>
            <a:ext cx="82674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vloed op eigen werkzaamhe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eentonig werk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62308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Kennis als uitgangspun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320" y="1643040"/>
            <a:ext cx="7886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 aan werknemers  o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GW algem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plekgevaren en veiligheids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schriften en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toets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39C3-2C13-4EF7-AAB4-B583CA27A21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7" name="Tijdelijke aanduiding voor inhoud 3"/>
          <p:cNvSpPr/>
          <p:nvPr/>
        </p:nvSpPr>
        <p:spPr>
          <a:xfrm>
            <a:off x="609480" y="3733920"/>
            <a:ext cx="7013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gever laat zich bijstaan door deskundig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30456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BEE6-E134-4E05-87C5-11925266CD40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358040" y="0"/>
            <a:ext cx="1785960" cy="235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01" name=""/>
          <p:cNvSpPr txBox="1"/>
          <p:nvPr/>
        </p:nvSpPr>
        <p:spPr>
          <a:xfrm>
            <a:off x="571680" y="18396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dat de werknemer veilig werkt en geen gezondheidsschade oploopt door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als de werkgever dat niet goed doet, kan hij gestraft   worden en zal hij de schade aan de werknemer moeten vergoe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Hans Mulder</cp:lastModifiedBy>
  <dcterms:modified xsi:type="dcterms:W3CDTF">2016-10-06T09:07:09Z</dcterms:modified>
  <cp:revision>211</cp:revision>
  <dc:subject/>
  <dc:title>Taak en positie VFP</dc:title>
</cp:coreProperties>
</file>