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3.jpeg" ContentType="image/jpeg"/>
  <Override PartName="/ppt/media/image10.png" ContentType="image/png"/>
  <Override PartName="/ppt/media/image27.jpeg" ContentType="image/jpeg"/>
  <Override PartName="/ppt/media/image25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8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0B35-CEDD-43C5-BC86-DD3AD7D1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A262-BCFD-4DCC-B8A8-BC6E9FE8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D725-EBE9-4966-8CA7-D129144A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888-C1F4-4DCA-B8B2-F4CC05B1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34AC-997E-4B38-A87D-B509D9BE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9952-387A-4D56-8F8F-6A62FDA6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EFC1-898B-499D-AECB-42F7EC6A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363B-ED24-4A30-855D-375A4933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FDE5-4DB1-46A0-B309-C1A4BCFE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AAC2-9761-43A3-85A5-A1FF22D0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B7B5-7926-4C18-9364-81DC817B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0936-C0F0-4E1B-BB06-197D3C9A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4735-9BA1-4BE6-83AD-6C75F2E4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4589-6898-4C40-82AB-388AFAE5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B9B5-6A61-41D6-A47C-9901A2EC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ACC7-977C-4C9A-B9A3-26F61456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B5F3-9ADC-46F4-8150-BE8A00B1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1F8C9-8958-46C6-94BA-09617F9A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CBE42-0B38-4C37-A75F-1B314274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7F5FB-31CA-4627-B80A-4EF1FD22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68544-C5E2-44CD-9FC6-E0A0AC4D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D84E7-D4F4-408D-A634-76A6F50E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E26A-3224-4320-AE81-AF6F45F1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7B82C-F443-46E2-96D7-726E5099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399EB-A566-418A-96FC-D17DE718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DD9A5-C9EC-41F6-B354-2435C27B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DFD1C-2087-4A5E-9511-E3C34D89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19292-BC6C-4799-A838-846F7403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B6215-6D3C-463A-B5A8-368EE564B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5448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08920" y="194616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96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5448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08920" y="4095720"/>
            <a:ext cx="271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81E39-FF3F-486F-AB7D-83C99A76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CD4F-789E-4FC8-94C9-C26CEE9E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E3D3-97AE-41A9-8BF0-22C80449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0040" y="609120"/>
            <a:ext cx="841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8DD3-45D5-426C-A405-B84CD68E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97BA-1260-49A3-851E-CA86D73D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5800" y="409572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CC16-9904-4A19-96C9-272CC654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968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5800" y="1946160"/>
            <a:ext cx="4119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" y="4095720"/>
            <a:ext cx="844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BA29-EC0B-4817-B8BE-B1077F47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hyperlink" Target="http://www.kerckebosch.nl/html/home.php" TargetMode="External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62BD-57CD-458C-B1CB-8F5E15F07259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7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766764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714240" y="5929200"/>
            <a:ext cx="60012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2">
            <a:hlinkClick r:id="rId5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>
            <a:off x="7715160" y="6000840"/>
            <a:ext cx="762120" cy="50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7"/>
          <a:stretch/>
        </p:blipFill>
        <p:spPr>
          <a:xfrm>
            <a:off x="533520" y="5867280"/>
            <a:ext cx="838080" cy="54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D0C4-DA7A-4F81-A16F-748E1246EEF2}" type="slidenum"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47560" cy="96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1039680" cy="1092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41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99680" y="1946160"/>
            <a:ext cx="844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FD95-02EA-4C4E-943D-02B970D648DF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erckebosch.nl/html/home.php" TargetMode="External"/><Relationship Id="rId2" Type="http://schemas.openxmlformats.org/officeDocument/2006/relationships/hyperlink" Target="http://www.kerckebosch.nl/html/home.php" TargetMode="External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5">
            <a:hlinkClick r:id="rId1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7">
            <a:hlinkClick r:id="rId2"/>
          </p:cNvPr>
          <p:cNvSpPr/>
          <p:nvPr/>
        </p:nvSpPr>
        <p:spPr>
          <a:xfrm>
            <a:off x="181080" y="-2127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ijdelijke aanduiding voor dianummer 6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5640-BA14-4D66-8644-6130514641F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itel 4"/>
          <p:cNvSpPr/>
          <p:nvPr/>
        </p:nvSpPr>
        <p:spPr>
          <a:xfrm>
            <a:off x="642960" y="571680"/>
            <a:ext cx="8020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dbb2d"/>
                </a:solidFill>
                <a:latin typeface="Arial"/>
                <a:ea typeface="Arial"/>
              </a:rPr>
              <a:t>VCA V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2dbb2d"/>
                </a:solidFill>
                <a:latin typeface="Arial"/>
                <a:ea typeface="Arial"/>
              </a:rPr>
              <a:t>Hoofdstuk 2</a:t>
            </a:r>
            <a:br>
              <a:rPr sz="4400"/>
            </a:br>
            <a:r>
              <a:rPr b="1" lang="nl-NL" sz="4400" spc="-1" strike="noStrike">
                <a:solidFill>
                  <a:srgbClr val="2dbb2d"/>
                </a:solidFill>
                <a:latin typeface="Arial"/>
                <a:ea typeface="Arial"/>
              </a:rPr>
              <a:t>Wetten en reg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35812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81A4-2179-4293-B780-9E79576B26F6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71680" y="1604880"/>
            <a:ext cx="7868880" cy="28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werkgever moet oo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varen voorkom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varen zo veel mogelijk bij de bron verminder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werknemer goed voorlicht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e veilige werkwijze laten zien en laten toepasse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oede PBM’s beschikbaar stell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zorgen dat er hulp is in geval van noo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71680" y="1499760"/>
            <a:ext cx="837072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ventariseert de risico’s (schriftelij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lt  preventiebeleid o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perkt risico’s (rekening houden met technie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ernstige risico’s voorkeur voor materiële maatregelen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76280" indent="-343080">
              <a:spcBef>
                <a:spcPts val="601"/>
              </a:spcBef>
              <a:buClr>
                <a:srgbClr val="00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9325-BCE3-4B92-8131-4DD1E4344E5D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1320" y="9997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pak beheers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ysteembenadering (bijv. KAM-systeem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leggen met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(wijze) zo nodig aan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e arbeidsmidd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op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en (derden) be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oodhulp organis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vallen, onderzoeken en melden aan Arbeidsinspecti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E047-04BE-46DA-AC3B-22D757975970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1320" y="99972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heersing betekent vooral dat beleid en procedures worden nageleef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stru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elei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ezicht  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 geven en laten gebrui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ngewenst gedrag toler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7293-5049-487B-B410-4891025EB22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9866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71320" y="1000080"/>
            <a:ext cx="83581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c0163a"/>
                </a:solidFill>
                <a:latin typeface="Arial"/>
              </a:rPr>
              <a:t>effectiviteit verbeteren door te reageren op incidenten en te leren van ongevallen en inciden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8033-82B0-4548-9D9F-D9F0EFA5E9CD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iligheidssignalering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71680" y="1499760"/>
            <a:ext cx="7286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moe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ch veilig kunnen ge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ch veilig willen ge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ust blijven van de risico’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gelijke geva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gelegde 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ragen van PB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HBO- en brandbestrijdings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vacuatiewe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579E-0599-431F-8C51-A26D4691230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iligheidssignalering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5520" y="1142640"/>
            <a:ext cx="45003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bestrij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8" descr=""/>
          <p:cNvPicPr/>
          <p:nvPr/>
        </p:nvPicPr>
        <p:blipFill>
          <a:blip r:embed="rId1"/>
          <a:stretch/>
        </p:blipFill>
        <p:spPr>
          <a:xfrm>
            <a:off x="5500800" y="528624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http://www.biname.be/images/produits/signalisation/signalweb.gif"/>
          <p:cNvPicPr/>
          <p:nvPr/>
        </p:nvPicPr>
        <p:blipFill>
          <a:blip r:embed="rId2"/>
          <a:stretch/>
        </p:blipFill>
        <p:spPr>
          <a:xfrm>
            <a:off x="7858080" y="142920"/>
            <a:ext cx="1076400" cy="1076400"/>
          </a:xfrm>
          <a:prstGeom prst="rect">
            <a:avLst/>
          </a:prstGeom>
          <a:ln w="0">
            <a:noFill/>
          </a:ln>
        </p:spPr>
      </p:pic>
      <p:sp>
        <p:nvSpPr>
          <p:cNvPr id="224" name="Tijdelijke aanduiding voor dianummer 10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5354-36F0-404D-B823-4D64813E4356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5108400" y="1378080"/>
            <a:ext cx="1616400" cy="1931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4"/>
          <a:stretch/>
        </p:blipFill>
        <p:spPr>
          <a:xfrm>
            <a:off x="5181480" y="2444760"/>
            <a:ext cx="1590840" cy="1871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"/>
          <p:cNvPicPr/>
          <p:nvPr/>
        </p:nvPicPr>
        <p:blipFill>
          <a:blip r:embed="rId5"/>
          <a:stretch/>
        </p:blipFill>
        <p:spPr>
          <a:xfrm>
            <a:off x="6143760" y="3286080"/>
            <a:ext cx="987120" cy="866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"/>
          <p:cNvPicPr/>
          <p:nvPr/>
        </p:nvPicPr>
        <p:blipFill>
          <a:blip r:embed="rId6"/>
          <a:stretch/>
        </p:blipFill>
        <p:spPr>
          <a:xfrm>
            <a:off x="5500800" y="4357800"/>
            <a:ext cx="963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12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71680" y="1285920"/>
            <a:ext cx="7851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ven aan dat er een gevaar i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25360" indent="-22536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 gebied aanduiden en/of afscher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463680" indent="-2383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hijswerkzaam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225360" indent="-22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http://www.biname.be/images/produits/signalisation/ballisage.gif"/>
          <p:cNvPicPr/>
          <p:nvPr/>
        </p:nvPicPr>
        <p:blipFill>
          <a:blip r:embed="rId1"/>
          <a:stretch/>
        </p:blipFill>
        <p:spPr>
          <a:xfrm>
            <a:off x="6715080" y="3429000"/>
            <a:ext cx="1138320" cy="1138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http://www.biname.be/images/produits/signalisation/barriere.gif"/>
          <p:cNvPicPr/>
          <p:nvPr/>
        </p:nvPicPr>
        <p:blipFill>
          <a:blip r:embed="rId2"/>
          <a:stretch/>
        </p:blipFill>
        <p:spPr>
          <a:xfrm>
            <a:off x="5500800" y="4786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http://www.biname.be/images/produits/signalisation/conesweb.gif"/>
          <p:cNvPicPr/>
          <p:nvPr/>
        </p:nvPicPr>
        <p:blipFill>
          <a:blip r:embed="rId3"/>
          <a:stretch/>
        </p:blipFill>
        <p:spPr>
          <a:xfrm>
            <a:off x="7643880" y="214200"/>
            <a:ext cx="1357200" cy="1717920"/>
          </a:xfrm>
          <a:prstGeom prst="rect">
            <a:avLst/>
          </a:prstGeom>
          <a:ln w="0">
            <a:noFill/>
          </a:ln>
        </p:spPr>
      </p:pic>
      <p:sp>
        <p:nvSpPr>
          <p:cNvPr id="234" name="Tijdelijke aanduiding voor dianummer 7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72A6-6A3F-4EFD-AF80-87DD8472C77D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kstvak 8"/>
          <p:cNvSpPr/>
          <p:nvPr/>
        </p:nvSpPr>
        <p:spPr>
          <a:xfrm>
            <a:off x="571680" y="4071960"/>
            <a:ext cx="607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3920" indent="-22392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ls linten: wit - rood, of geel - zwart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kstvak 9"/>
          <p:cNvSpPr/>
          <p:nvPr/>
        </p:nvSpPr>
        <p:spPr>
          <a:xfrm>
            <a:off x="571680" y="4500720"/>
            <a:ext cx="61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5360" indent="-22536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rood - witte hekken worden ook gebruikt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kstvak 11"/>
          <p:cNvSpPr/>
          <p:nvPr/>
        </p:nvSpPr>
        <p:spPr>
          <a:xfrm>
            <a:off x="571680" y="2720880"/>
            <a:ext cx="585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Arial"/>
              </a:rPr>
              <a:t>markeringen komen voor in diverse vorm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kstvak 12"/>
          <p:cNvSpPr/>
          <p:nvPr/>
        </p:nvSpPr>
        <p:spPr>
          <a:xfrm>
            <a:off x="571680" y="3643200"/>
            <a:ext cx="4286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35080" indent="-23508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plakt of geschilderd</a:t>
            </a:r>
            <a:r>
              <a:rPr b="1" lang="nl-NL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8" descr=""/>
          <p:cNvPicPr/>
          <p:nvPr/>
        </p:nvPicPr>
        <p:blipFill>
          <a:blip r:embed="rId1">
            <a:lum bright="-30000"/>
          </a:blip>
          <a:stretch/>
        </p:blipFill>
        <p:spPr>
          <a:xfrm rot="20067600">
            <a:off x="4846320" y="-43956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428400"/>
            <a:ext cx="550044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71320" y="1219320"/>
            <a:ext cx="678636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el-zwarte marker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malle/lage doorga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stoten (bijv. hijsblo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ieden met gevaarlijke 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trapp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streep in een afwijkende kleur geven bovenste en/of de onderste trede a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-2206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 of witte stree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848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848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onderscheid tussen vloer en traptre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D7BD-7780-474C-82D9-873F6B5C7F8C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9" descr=""/>
          <p:cNvPicPr/>
          <p:nvPr/>
        </p:nvPicPr>
        <p:blipFill>
          <a:blip r:embed="rId2"/>
          <a:srcRect l="27321" t="40454" r="0" b="41551"/>
          <a:stretch/>
        </p:blipFill>
        <p:spPr>
          <a:xfrm>
            <a:off x="6711840" y="642960"/>
            <a:ext cx="2432160" cy="603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"/>
          <p:cNvPicPr/>
          <p:nvPr/>
        </p:nvPicPr>
        <p:blipFill>
          <a:blip r:embed="rId3">
            <a:lum bright="-30000"/>
          </a:blip>
          <a:stretch/>
        </p:blipFill>
        <p:spPr>
          <a:xfrm rot="20067600">
            <a:off x="6440040" y="-296640"/>
            <a:ext cx="25005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Markeringen (3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gele of witte strepen worden ook gebruikt om aan te gev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doorgangen je moet vrijhouden 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 welk gebied niet opgeslagen/gestapeld kan wor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voor het aangeven van een </a:t>
            </a:r>
            <a:r>
              <a:rPr b="1" i="1" lang="nl-NL" sz="2200" spc="-1" strike="noStrike">
                <a:solidFill>
                  <a:srgbClr val="c0163a"/>
                </a:solidFill>
                <a:latin typeface="Arial"/>
              </a:rPr>
              <a:t>explosiegevaarlijke zone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, wordt het waarschuwingsbord met de letters </a:t>
            </a:r>
            <a:r>
              <a:rPr b="1" i="1" lang="nl-NL" sz="2200" spc="-1" strike="noStrike">
                <a:solidFill>
                  <a:srgbClr val="c0163a"/>
                </a:solidFill>
                <a:latin typeface="Arial"/>
              </a:rPr>
              <a:t>EX</a:t>
            </a:r>
            <a:r>
              <a:rPr b="0" i="1" lang="nl-NL" sz="2200" spc="-1" strike="noStrike">
                <a:solidFill>
                  <a:srgbClr val="c0163a"/>
                </a:solidFill>
                <a:latin typeface="Arial"/>
              </a:rPr>
              <a:t> gebruik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0B0F-5090-460C-A6EF-34960BD93EB5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429160" y="4857840"/>
            <a:ext cx="1700280" cy="14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9680" y="571320"/>
            <a:ext cx="83581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rplichte risico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71320" y="1500120"/>
            <a:ext cx="81435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ederland is verplicht de Europese Richtlijnen te vol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ze wetgeving gaat verder </a:t>
            </a:r>
            <a:r>
              <a:rPr b="0" lang="nl-NL" sz="2400" spc="-1" strike="noStrike">
                <a:solidFill>
                  <a:srgbClr val="c0163a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 Arbow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veiligheid en gezondhei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en voor werkgevers én werknem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heid houdt toezicht op nal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dienst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Arbeidsinspec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21744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gevin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02EA-1B99-4EF7-9404-2C8C6070B1BB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651492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Arbeidsplaatsen en projectlocaties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71680" y="1285560"/>
            <a:ext cx="82864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én werknemer moeten ongevallen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oorkom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eest voorkomende ongeval is onderuitgaan </a:t>
            </a:r>
            <a:br>
              <a:rPr sz="24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ij het lopen doo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, struikelen en verstap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egale (niet vlakke) of losse ondergro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rwachte hoogteverschi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hoge afst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liggende t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adde vl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schikt schoeis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nnen in plaats van normaal lo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504720" indent="-168120"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E8D0-E94D-4BD1-8BCB-947DD281125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88920" y="-212760"/>
            <a:ext cx="4267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88920" y="-212760"/>
            <a:ext cx="4267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Afbeelding 7" descr="IMG_5781%20bouwplaats%20entree.jpg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6929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oorkom onveilige situaties</a:t>
            </a:r>
            <a:br>
              <a:rPr sz="28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ronbestrijding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71680" y="1499760"/>
            <a:ext cx="857232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org besteden aan ontwerp en werkvoorberei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scheiden van mens en gevaa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behulp van een fysieke afschei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eiden rij- en voetpa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verlich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30A3-892C-4A02-9000-F942EF581A6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Afbeelding 4" descr="Aquallure%201.jpg"/>
          <p:cNvPicPr/>
          <p:nvPr/>
        </p:nvPicPr>
        <p:blipFill>
          <a:blip r:embed="rId1"/>
          <a:stretch/>
        </p:blipFill>
        <p:spPr>
          <a:xfrm>
            <a:off x="2738520" y="4071960"/>
            <a:ext cx="3333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oorkom onveilige situaties </a:t>
            </a:r>
            <a:br>
              <a:rPr sz="2800"/>
            </a:br>
            <a:br>
              <a:rPr sz="2800"/>
            </a:b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lichten werknemer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71680" y="1500120"/>
            <a:ext cx="837072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zelf do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od housekeeping: 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ordelijke en nette werkpl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el verhelpen van onveilige situa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 opletten tijdens het lop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dingen dragen die het gezichtsveld hin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aangegeven, voorziene wegen en paden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past schoeisel dra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FFAA-7FC8-495E-B21A-FDBB1673D831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Plichten van de werknem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houding en kenn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eigen veiligheid en gezondheid en voor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ie van and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amenwerken met werkgever en preventiediens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positieve bijdrage leveren aan he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preventiebel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ongewenst gedrag op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van ongevallen, gevaren of bijna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ongeval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leiding, voorlichting en instructies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BD9F-C1C2-494D-B907-18C1DC3B6E3B}" type="slidenum">
              <a:rPr b="1" lang="nl-NL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657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Plichten van de werknemer (2)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71320" y="1642680"/>
            <a:ext cx="83581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e werkwijze toepa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p de goede manier gebruik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s, toestellen, gereedschappen, gevaarlijke stoffen, vervoermiddelen en andere midd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angebrachte beveiligin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veranderen of wegha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juiste wijze toepas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persoonlijke 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goede manier gebruik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vuldig onderhou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D918-DD0A-4F27-8E7F-D5A644F4D385}" type="slidenum"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71320" y="499680"/>
            <a:ext cx="815652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0163a"/>
                </a:solidFill>
                <a:latin typeface="Arial"/>
              </a:rPr>
              <a:t>rechten van de werknem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veilige en gezonde werkomgev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formatie over de veiligheid en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leidi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derbreking van werk bij ernstig gevaar voor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mens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C434-B4F6-4A26-8406-C23C92ECAB63}" type="slidenum"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Afbeelding 7" descr="werkonderbreking_ns_personeel_425.jpg"/>
          <p:cNvPicPr/>
          <p:nvPr/>
        </p:nvPicPr>
        <p:blipFill>
          <a:blip r:embed="rId1"/>
          <a:stretch/>
        </p:blipFill>
        <p:spPr>
          <a:xfrm>
            <a:off x="4498920" y="3645000"/>
            <a:ext cx="310824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6215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5 Deskundige bijstand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71680" y="1571400"/>
            <a:ext cx="82152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moet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interne preventiedienst oprich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een of meer deskundigen aanstel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kundig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drijfsar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het bedrijf zelf niet over de nodige deskundigheid beschikt: externe bijstand inschak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0025-D33F-4EC5-BC2A-4F37B3F7E911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6" descr=""/>
          <p:cNvPicPr/>
          <p:nvPr/>
        </p:nvPicPr>
        <p:blipFill>
          <a:blip r:embed="rId1"/>
          <a:srcRect l="41175" t="0" r="0" b="0"/>
          <a:stretch/>
        </p:blipFill>
        <p:spPr>
          <a:xfrm>
            <a:off x="7475400" y="0"/>
            <a:ext cx="1668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Bedrijfsgezondheidszor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71680" y="135684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e bedrijfsarts is belangrij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beoordel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bescherm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werkgever is verantwoord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854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in de gelegenheid stellen om periodiek, onderzoek te ondergaan o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risico’s te signale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srisico’s te voorkomen en te beper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E357-69D2-4791-B0A4-7AE24A28B541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"/>
          <a:stretch/>
        </p:blipFill>
        <p:spPr>
          <a:xfrm>
            <a:off x="7410600" y="0"/>
            <a:ext cx="1733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6 Toezicht op V+G wetge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71680" y="1142640"/>
            <a:ext cx="79819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inspectiediensten waaronder de Arbeidsinspec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en rechten van de inspectiedienste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roleren naleven van de wetgev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sen naleving van de w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gevallen onderzoe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illeggen werk bij ernstig geva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s-verbaal schrijven bij strafbaar fe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agen geldige legitimatie werkne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zoeken van alle werkplekk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179640"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7916-9389-4BB9-AB14-D703A17D04B1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7" descr="MPj04373830000[1]"/>
          <p:cNvPicPr/>
          <p:nvPr/>
        </p:nvPicPr>
        <p:blipFill>
          <a:blip r:embed="rId1"/>
          <a:srcRect l="0" t="0" r="35719" b="0"/>
          <a:stretch/>
        </p:blipFill>
        <p:spPr>
          <a:xfrm>
            <a:off x="6934320" y="4495680"/>
            <a:ext cx="17240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6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7 Milieuwetgev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680" y="1218960"/>
            <a:ext cx="76435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 en omgeving beschermen teg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e schadelijke gevolgen van activiteit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stoot milieubelastende stoffen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afvalstromen beperk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288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voor doelmatige en correct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erwijdering van afvalstoff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F663-6A91-4728-BD91-B457F2B0D1BC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5" descr="http://www.ivarem.be/images/ladder-van-lansink.GIF"/>
          <p:cNvPicPr/>
          <p:nvPr/>
        </p:nvPicPr>
        <p:blipFill>
          <a:blip r:embed="rId1">
            <a:grayscl/>
          </a:blip>
          <a:stretch/>
        </p:blipFill>
        <p:spPr>
          <a:xfrm>
            <a:off x="6000840" y="-108000"/>
            <a:ext cx="4000320" cy="69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237520" cy="57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Verplichte risicobeheersing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71320" y="1499760"/>
            <a:ext cx="8267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Europ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ionale wetgeving veiligheid en gezondhei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ne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e bijst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op V&amp;G-wet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bestbepaling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9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0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zend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A580-9358-48C0-91CC-C7D84D49259A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8 Asbestbepalingen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71680" y="14997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 inventaris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iet verwerken of be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houdend afval gescheiden afvo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sbestverdacht materiaa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ten onderzoeken door onafhankelijk lab (niet bij werk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sbesthoudende producten met gebonden vezels kan iedereen afvoer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0256-0E12-4501-A08C-54244E89FE3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9 Arbeidstijden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71680" y="12855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komen dat de veiligheid en de gezondheid van werknemers in gevaar k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499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ximal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-18108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inimal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sttijd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63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vorderen dat werken en zorgtaken/gezin gecombineerd kunnen wor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6B43-3734-46CA-9F7A-0D61AFA121E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3144960" y="4071960"/>
            <a:ext cx="3017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71680" y="1285560"/>
            <a:ext cx="83707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U-gecertificeerde uitzendbureaus moeten vooraf goede voorlichting over risicobeheersing ge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lenende organisatie is verantwoordelijk voor bescherming en veilig laten werken van inleenkrach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60BA-3702-4C39-BAB7-BB9E453E93B9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3520" y="121896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zendorganisatie informeert  medewerker over eigen beleid, inlenende bedrijf, werk en werkpl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leidsverklaring uitzendorganisa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gemene regels inlenende bedrijf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ne veiligheid- en gezondheids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onveiligheid en nood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3840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 en werkpl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44480" indent="-344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unctie-eisen, gevaren, beheersmaatregele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44480" indent="-3445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BM-gebruik, vergunningen en specifieke 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B761-C6D9-41C3-B6A5-1864899BB063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kstvak 6"/>
          <p:cNvSpPr/>
          <p:nvPr/>
        </p:nvSpPr>
        <p:spPr>
          <a:xfrm>
            <a:off x="1714680" y="5486400"/>
            <a:ext cx="48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c0163a"/>
                </a:solidFill>
                <a:latin typeface="Arial"/>
                <a:ea typeface="Tahoma"/>
              </a:rPr>
              <a:t>de inleenkracht krijgt documentatie mee</a:t>
            </a:r>
            <a:r>
              <a:rPr b="0" i="1" lang="nl-NL" sz="2000" spc="-1" strike="noStrike">
                <a:solidFill>
                  <a:srgbClr val="00ffff"/>
                </a:solidFill>
                <a:latin typeface="Arial"/>
                <a:ea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0 Uitzendwerk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571400" y="1147680"/>
            <a:ext cx="72277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74C8-1139-4384-BF67-4799000099A9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88920" y="-212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kstvak 6"/>
          <p:cNvSpPr/>
          <p:nvPr/>
        </p:nvSpPr>
        <p:spPr>
          <a:xfrm>
            <a:off x="571680" y="1285920"/>
            <a:ext cx="8429400" cy="40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inlenende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bedrijf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directe instructie over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melden geva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handelen bij noodsitua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meedoen met oefenin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inschakelen hulpdien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  <a:ea typeface="Tahoma"/>
              </a:rPr>
              <a:t>inzet inleenkracht op afgesproken wer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Tahoma"/>
              </a:rPr>
              <a:t>voor nieuwe taken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aangeven wat de risico’s en preventiemaatregelen zij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afspraken met uitzendorganisatie over  taakverdeling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228600">
              <a:lnSpc>
                <a:spcPct val="10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ahoma"/>
              </a:rPr>
              <a:t>(wie informeert, instrueert en verstrekt de PB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707220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1 Invloed van Europa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71680" y="1828440"/>
            <a:ext cx="795168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Nederland is lid van de Europese U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328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e Europese richtlijnen te vol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onze wetten moeten zo nodig worden aangepas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23328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: CE-marker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CE-markering op machines en PB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m.b.t. veiligheid voldoen CE-producten aan de betreffende Europese richtlij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lleen CE-gemarkeerde arbeidsmiddelen mogen op de markt worden gebracht en worden gebrui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ijdelijke aanduiding voor dianumm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C546-D1DA-4D59-B742-BACBDC824C5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181080" y="-509760"/>
            <a:ext cx="16192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1"/>
          <a:stretch/>
        </p:blipFill>
        <p:spPr>
          <a:xfrm>
            <a:off x="6242040" y="30240"/>
            <a:ext cx="272592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64292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2 Nationale wetgeving </a:t>
            </a:r>
            <a:br>
              <a:rPr sz="2800"/>
            </a:b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over veilig  en gezond werken</a:t>
            </a:r>
            <a:r>
              <a:rPr b="1" lang="nl-NL" sz="2800" spc="-1" strike="noStrike">
                <a:solidFill>
                  <a:srgbClr val="47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500120"/>
            <a:ext cx="815652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Arbeidsomstandighedenwet  is d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belangrijkste wet op het gebied va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veiligheid en gezondheid bij werk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wel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genoem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163a"/>
                </a:solidFill>
                <a:latin typeface="Arial"/>
              </a:rPr>
              <a:t>doel: werknemers bij het werk bescherm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beteren van de veilighei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orgen van gezondheid en welzij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 goed mogelijke arbeidsomstandighed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alle plaatsen waar gewerkt word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8901-9759-42CE-9D02-0710723D8159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657216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Arbo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71320" y="1428480"/>
            <a:ext cx="7143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owet geeft plichten a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s én werknemers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c0163a"/>
                </a:solidFill>
                <a:latin typeface="Arial"/>
              </a:rPr>
              <a:t>werkgeve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van het bedrijf waar je in dienst bent, maar ook degene die jou aanwijzingen geeft, toezicht houdt en middelen verstrekt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c0163a"/>
                </a:solidFill>
                <a:latin typeface="Arial"/>
              </a:rPr>
              <a:t>werknemers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in vaste/tijdelijke dienst, uitzendkrachten, stagiairs, vrijwillig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27160" indent="-22716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27160" indent="-22716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CEE7-0D3A-4F69-A941-717A181B8A1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65354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Welzijn in de Arbowe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71320" y="1428840"/>
            <a:ext cx="82674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richting werkplek aanpass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werkne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ten op persoonsfacto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eeftijd en geslac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, vakmanschap en voert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2AE2-6B4D-42DC-8849-FF7EA29DE576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7284960" y="0"/>
            <a:ext cx="1859040" cy="2359080"/>
          </a:xfrm>
          <a:prstGeom prst="rect">
            <a:avLst/>
          </a:prstGeom>
          <a:ln w="0">
            <a:noFill/>
          </a:ln>
        </p:spPr>
      </p:pic>
      <p:sp>
        <p:nvSpPr>
          <p:cNvPr id="192" name="Tijdelijke aanduiding voor inhoud 3"/>
          <p:cNvSpPr/>
          <p:nvPr/>
        </p:nvSpPr>
        <p:spPr>
          <a:xfrm>
            <a:off x="571680" y="3571920"/>
            <a:ext cx="82674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vloed op eigen werkzaamhe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en eentonig werk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623088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dbc09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Kennis als uitgangspunt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71320" y="1643040"/>
            <a:ext cx="78865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lichting aan werknemers  o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GW algeme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plekgevaren en veiligheidsmaatregel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schriften en reg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ennistoets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E72B-C935-400F-A4C9-2ED037479AB8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7284960" y="0"/>
            <a:ext cx="1859040" cy="2359080"/>
          </a:xfrm>
          <a:prstGeom prst="rect">
            <a:avLst/>
          </a:prstGeom>
          <a:ln w="0">
            <a:noFill/>
          </a:ln>
        </p:spPr>
      </p:pic>
      <p:sp>
        <p:nvSpPr>
          <p:cNvPr id="197" name="Tijdelijke aanduiding voor inhoud 3"/>
          <p:cNvSpPr/>
          <p:nvPr/>
        </p:nvSpPr>
        <p:spPr>
          <a:xfrm>
            <a:off x="609480" y="3733920"/>
            <a:ext cx="70135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rkgever laat zich bijstaan door deskundige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680" y="30456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dbc09"/>
                </a:solidFill>
                <a:latin typeface="Arial"/>
              </a:rPr>
              <a:t>2.3 Plichten van de werkgever</a:t>
            </a:r>
            <a:endParaRPr b="1" lang="en-US" sz="2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B945-8B05-4FF9-9579-3E58254F3462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7358040" y="0"/>
            <a:ext cx="1785960" cy="2357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01" name=""/>
          <p:cNvSpPr txBox="1"/>
          <p:nvPr/>
        </p:nvSpPr>
        <p:spPr>
          <a:xfrm>
            <a:off x="571680" y="1839600"/>
            <a:ext cx="837072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bc0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t dat de werknemer veilig werkt en geen gezondheidsschade oploopt door het we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als de werkgever dat niet goed doet, kan hij gestraft   worden en zal hij de schade aan de werknemer moeten vergoede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234720"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oet alle gevaren in kaart bren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14280" indent="-228600">
              <a:spcBef>
                <a:spcPts val="499"/>
              </a:spcBef>
              <a:buClr>
                <a:srgbClr val="c0163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-inventarisatie en -evaluatie (RI&amp;E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14280" indent="-228600">
              <a:spcBef>
                <a:spcPts val="499"/>
              </a:spcBef>
              <a:buClr>
                <a:srgbClr val="c0163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rgen dat de risico’s worden beheerst (plan van aanpak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5:19:44Z</dcterms:created>
  <dc:creator>de Groot</dc:creator>
  <dc:description/>
  <dc:language>en-US</dc:language>
  <cp:lastModifiedBy>Hans Mulder</cp:lastModifiedBy>
  <dcterms:modified xsi:type="dcterms:W3CDTF">2016-10-06T09:07:09Z</dcterms:modified>
  <cp:revision>211</cp:revision>
  <dc:subject/>
  <dc:title>Taak en positie VFP</dc:title>
</cp:coreProperties>
</file>