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26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wmf" ContentType="image/x-wmf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4.wmf" ContentType="image/x-wmf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42.png" ContentType="image/png"/>
  <Override PartName="/ppt/media/image31.png" ContentType="image/png"/>
  <Override PartName="/ppt/media/image2.wmf" ContentType="image/x-wmf"/>
  <Override PartName="/ppt/media/image29.png" ContentType="image/png"/>
  <Override PartName="/ppt/media/image43.png" ContentType="image/png"/>
  <Override PartName="/ppt/media/image3.wmf" ContentType="image/x-wmf"/>
  <Override PartName="/ppt/media/image32.png" ContentType="image/png"/>
  <Override PartName="/ppt/media/image44.png" ContentType="image/png"/>
  <Override PartName="/ppt/media/image33.png" ContentType="image/png"/>
  <Override PartName="/ppt/media/image45.png" ContentType="image/png"/>
  <Override PartName="/ppt/media/image46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8.png" ContentType="image/png"/>
  <Override PartName="/ppt/media/image38.png" ContentType="image/png"/>
  <Override PartName="/ppt/media/image12.png" ContentType="image/png"/>
  <Override PartName="/ppt/media/image10.png" ContentType="image/png"/>
  <Override PartName="/ppt/media/image1.jpeg" ContentType="image/jpeg"/>
  <Override PartName="/ppt/media/image47.png" ContentType="image/png"/>
  <Override PartName="/ppt/media/image7.png" ContentType="image/png"/>
  <Override PartName="/ppt/media/image40.wmf" ContentType="image/x-wmf"/>
  <Override PartName="/ppt/media/image37.png" ContentType="image/png"/>
  <Override PartName="/ppt/media/image6.png" ContentType="image/png"/>
  <Override PartName="/ppt/media/image36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BC4D4-BDB1-4DED-8C4D-EFE1D7100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844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680" y="4095720"/>
            <a:ext cx="844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EE6B5-1C29-43AF-8AF1-0C18EC90A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25800" y="194616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99680" y="409572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25800" y="409572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8EAF1-27EB-4B16-B1FB-27CF853F7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271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54480" y="1946160"/>
            <a:ext cx="271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208920" y="1946160"/>
            <a:ext cx="271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99680" y="4095720"/>
            <a:ext cx="271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54480" y="4095720"/>
            <a:ext cx="271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208920" y="4095720"/>
            <a:ext cx="271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958AC-B161-4F65-856E-15AB87371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26F2A-5105-484F-9443-2C71623E9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99680" y="1946160"/>
            <a:ext cx="84423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FA8AE-DFB6-4C14-9B54-B8E3C2FB7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8442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DBE34-22C7-43D6-B3D5-CC1C67841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411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25800" y="1946160"/>
            <a:ext cx="411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20AD4-42CE-4878-B7F6-E3D478439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BADBB-1380-495F-9756-08CB2B0EE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0040" y="609120"/>
            <a:ext cx="8415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F0A70-E2D9-4DC5-AEB3-47EEA739B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25800" y="1946160"/>
            <a:ext cx="411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9680" y="409572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09218-9529-4427-AAEF-BC80DCE1D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99680" y="1946160"/>
            <a:ext cx="84423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3C72C-F587-4FB9-8B81-E065A6BA4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411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25800" y="194616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825800" y="409572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40A0A-1BF0-4F4A-A591-91C021287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825800" y="194616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99680" y="4095720"/>
            <a:ext cx="844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0320C-FDEE-4B7A-AE35-154FE6F91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844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9680" y="4095720"/>
            <a:ext cx="844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943EE-32D2-45EA-84BB-CD6FA941E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25800" y="194616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99680" y="409572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825800" y="409572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7C553-C5C0-45F8-9034-517116B42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271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54480" y="1946160"/>
            <a:ext cx="271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08920" y="1946160"/>
            <a:ext cx="271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99680" y="4095720"/>
            <a:ext cx="271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54480" y="4095720"/>
            <a:ext cx="271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08920" y="4095720"/>
            <a:ext cx="271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9F1F0-3AC6-41FB-A453-6F261035D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5E9887-8B6E-4485-B6D9-125D0D7DD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99680" y="1946160"/>
            <a:ext cx="84423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EB44D3-E2C6-4768-920F-20D5C97FA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8442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C04463-6496-411E-B103-10DF45A3B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411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825800" y="1946160"/>
            <a:ext cx="411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A3E6F5-C302-4EC7-8EC5-8CD8515E4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7ABB3B-B48D-4E03-9832-0C81B8725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8442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EFD33-15BF-4C19-A452-1D17DE36A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500040" y="609120"/>
            <a:ext cx="8415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E7BA9D-7F08-4B39-A97A-D34869EA2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825800" y="1946160"/>
            <a:ext cx="411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99680" y="409572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0B1385-B7C6-4535-8204-6AA520EE0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411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825800" y="194616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825800" y="409572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0C8597-DF14-440E-8D7D-88F8A706A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825800" y="194616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99680" y="4095720"/>
            <a:ext cx="844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BEA333-B392-46F8-9EF7-AF7BA6FD7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844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99680" y="4095720"/>
            <a:ext cx="844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10F747-6317-4EAB-9D9A-216FAA2D3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825800" y="194616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99680" y="409572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825800" y="409572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AAD888-8116-4198-AB2B-5AEA730DB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271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354480" y="1946160"/>
            <a:ext cx="271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208920" y="1946160"/>
            <a:ext cx="271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99680" y="4095720"/>
            <a:ext cx="271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354480" y="4095720"/>
            <a:ext cx="271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208920" y="4095720"/>
            <a:ext cx="271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E54DCF-08D7-40FF-99A5-CE7E902F8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411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25800" y="1946160"/>
            <a:ext cx="411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8F73B-A75F-4F54-824F-4375F460D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0F5AD-4C15-47FA-9329-A4673CE48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500040" y="609120"/>
            <a:ext cx="8415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08AC1-36D7-41CF-9EF1-045CA054A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25800" y="1946160"/>
            <a:ext cx="411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9680" y="409572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488B0-6D8B-4996-AAFF-A1BA78725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411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25800" y="194616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25800" y="409572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A7805-ACBD-4392-A579-3E22CD846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25800" y="194616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9680" y="4095720"/>
            <a:ext cx="844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3F7A0-E13D-463E-8062-60CBD4DB0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hyperlink" Target="http://www.kerckebosch.nl/html/home.php" TargetMode="External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hyperlink" Target="http://www.kerckebosch.nl/html/home.php" TargetMode="External"/><Relationship Id="rId6" Type="http://schemas.openxmlformats.org/officeDocument/2006/relationships/image" Target="../media/image2.wmf"/><Relationship Id="rId7" Type="http://schemas.openxmlformats.org/officeDocument/2006/relationships/image" Target="../media/image4.wmf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69DCE-339B-46E1-9EDB-FE1FC86D8743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99680" y="1946160"/>
            <a:ext cx="8442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" name="Picture 2" descr=""/>
          <p:cNvPicPr/>
          <p:nvPr/>
        </p:nvPicPr>
        <p:blipFill>
          <a:blip r:embed="rId3"/>
          <a:stretch/>
        </p:blipFill>
        <p:spPr>
          <a:xfrm>
            <a:off x="7667640" y="6000840"/>
            <a:ext cx="762120" cy="507960"/>
          </a:xfrm>
          <a:prstGeom prst="rect">
            <a:avLst/>
          </a:prstGeom>
          <a:ln w="0">
            <a:noFill/>
          </a:ln>
        </p:spPr>
      </p:pic>
      <p:pic>
        <p:nvPicPr>
          <p:cNvPr id="6" name="Picture 14" descr=""/>
          <p:cNvPicPr/>
          <p:nvPr/>
        </p:nvPicPr>
        <p:blipFill>
          <a:blip r:embed="rId4"/>
          <a:stretch/>
        </p:blipFill>
        <p:spPr>
          <a:xfrm>
            <a:off x="714240" y="5929200"/>
            <a:ext cx="600120" cy="630360"/>
          </a:xfrm>
          <a:prstGeom prst="rect">
            <a:avLst/>
          </a:prstGeom>
          <a:ln w="0">
            <a:noFill/>
          </a:ln>
        </p:spPr>
      </p:pic>
      <p:sp>
        <p:nvSpPr>
          <p:cNvPr id="7" name="AutoShape 42">
            <a:hlinkClick r:id="rId5"/>
          </p:cNvPr>
          <p:cNvSpPr/>
          <p:nvPr/>
        </p:nvSpPr>
        <p:spPr>
          <a:xfrm>
            <a:off x="181080" y="-21276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3"/>
          <a:stretch/>
        </p:blipFill>
        <p:spPr>
          <a:xfrm>
            <a:off x="7667640" y="6000840"/>
            <a:ext cx="762120" cy="5079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4" descr=""/>
          <p:cNvPicPr/>
          <p:nvPr/>
        </p:nvPicPr>
        <p:blipFill>
          <a:blip r:embed="rId4"/>
          <a:stretch/>
        </p:blipFill>
        <p:spPr>
          <a:xfrm>
            <a:off x="714240" y="5929200"/>
            <a:ext cx="600120" cy="630360"/>
          </a:xfrm>
          <a:prstGeom prst="rect">
            <a:avLst/>
          </a:prstGeom>
          <a:ln w="0">
            <a:noFill/>
          </a:ln>
        </p:spPr>
      </p:pic>
      <p:sp>
        <p:nvSpPr>
          <p:cNvPr id="46" name="AutoShape 42">
            <a:hlinkClick r:id="rId5"/>
          </p:cNvPr>
          <p:cNvSpPr/>
          <p:nvPr/>
        </p:nvSpPr>
        <p:spPr>
          <a:xfrm>
            <a:off x="181080" y="-21276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7" name="Picture 2" descr=""/>
          <p:cNvPicPr/>
          <p:nvPr/>
        </p:nvPicPr>
        <p:blipFill>
          <a:blip r:embed="rId6"/>
          <a:stretch/>
        </p:blipFill>
        <p:spPr>
          <a:xfrm>
            <a:off x="7715160" y="6000840"/>
            <a:ext cx="762120" cy="5079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"/>
          <p:cNvPicPr/>
          <p:nvPr/>
        </p:nvPicPr>
        <p:blipFill>
          <a:blip r:embed="rId7"/>
          <a:stretch/>
        </p:blipFill>
        <p:spPr>
          <a:xfrm>
            <a:off x="533520" y="5867280"/>
            <a:ext cx="838080" cy="5428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99680" y="1946160"/>
            <a:ext cx="8442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E7612-30EC-4426-94A3-76F7D483E75C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2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91" name="Rectangle 3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2" name="Group 4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93" name="Rectangle 5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Rectangle 6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Rectangle 7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Rectangle 8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Rectangle 9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Rectangle 10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Rectangle 11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Rectangle 12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Rectangle 13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Rectangle 14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Rectangle 15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Rectangle 16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Rectangle 17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" name="Rectangle 18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" name="Rectangle 19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" name="Rectangle 20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Rectangle 21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Rectangle 22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Rectangle 23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Rectangle 24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Rectangle 25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Rectangle 26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Rectangle 27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Rectangle 28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Rectangle 29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Rectangle 30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Rectangle 31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Rectangle 32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Rectangle 33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22" name="Picture 4" descr=""/>
          <p:cNvPicPr/>
          <p:nvPr/>
        </p:nvPicPr>
        <p:blipFill>
          <a:blip r:embed="rId3"/>
          <a:stretch/>
        </p:blipFill>
        <p:spPr>
          <a:xfrm>
            <a:off x="5334120" y="5181480"/>
            <a:ext cx="1447560" cy="9651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4" descr=""/>
          <p:cNvPicPr/>
          <p:nvPr/>
        </p:nvPicPr>
        <p:blipFill>
          <a:blip r:embed="rId4"/>
          <a:stretch/>
        </p:blipFill>
        <p:spPr>
          <a:xfrm>
            <a:off x="2362320" y="5181480"/>
            <a:ext cx="1039680" cy="109224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99680" y="1946160"/>
            <a:ext cx="8442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7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8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9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1598C-DB44-4735-AE94-AB584770E62D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kerckebosch.nl/html/home.php" TargetMode="External"/><Relationship Id="rId3" Type="http://schemas.openxmlformats.org/officeDocument/2006/relationships/hyperlink" Target="http://www.kerckebosch.nl/html/home.php" TargetMode="External"/><Relationship Id="rId4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3.png"/><Relationship Id="rId3" Type="http://schemas.openxmlformats.org/officeDocument/2006/relationships/image" Target="../media/image44.png"/><Relationship Id="rId4" Type="http://schemas.openxmlformats.org/officeDocument/2006/relationships/image" Target="../media/image45.png"/><Relationship Id="rId5" Type="http://schemas.openxmlformats.org/officeDocument/2006/relationships/image" Target="../media/image46.png"/><Relationship Id="rId6" Type="http://schemas.openxmlformats.org/officeDocument/2006/relationships/image" Target="../media/image47.png"/><Relationship Id="rId7" Type="http://schemas.openxmlformats.org/officeDocument/2006/relationships/image" Target="../media/image48.png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image" Target="../media/image16.png"/><Relationship Id="rId1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7.png"/><Relationship Id="rId7" Type="http://schemas.openxmlformats.org/officeDocument/2006/relationships/image" Target="../media/image11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8.png"/><Relationship Id="rId11" Type="http://schemas.openxmlformats.org/officeDocument/2006/relationships/image" Target="../media/image10.png"/><Relationship Id="rId12" Type="http://schemas.openxmlformats.org/officeDocument/2006/relationships/image" Target="../media/image19.wmf"/><Relationship Id="rId13" Type="http://schemas.openxmlformats.org/officeDocument/2006/relationships/image" Target="../media/image19.wmf"/><Relationship Id="rId14" Type="http://schemas.openxmlformats.org/officeDocument/2006/relationships/image" Target="../media/image19.wmf"/><Relationship Id="rId15" Type="http://schemas.openxmlformats.org/officeDocument/2006/relationships/image" Target="../media/image19.wmf"/><Relationship Id="rId16" Type="http://schemas.openxmlformats.org/officeDocument/2006/relationships/image" Target="../media/image19.wmf"/><Relationship Id="rId17" Type="http://schemas.openxmlformats.org/officeDocument/2006/relationships/image" Target="../media/image19.wmf"/><Relationship Id="rId18" Type="http://schemas.openxmlformats.org/officeDocument/2006/relationships/image" Target="../media/image19.wmf"/><Relationship Id="rId19" Type="http://schemas.openxmlformats.org/officeDocument/2006/relationships/image" Target="../media/image19.wmf"/><Relationship Id="rId20" Type="http://schemas.openxmlformats.org/officeDocument/2006/relationships/image" Target="../media/image20.png"/><Relationship Id="rId2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image" Target="../media/image26.png"/><Relationship Id="rId8" Type="http://schemas.openxmlformats.org/officeDocument/2006/relationships/image" Target="../media/image27.png"/><Relationship Id="rId9" Type="http://schemas.openxmlformats.org/officeDocument/2006/relationships/image" Target="../media/image28.png"/><Relationship Id="rId10" Type="http://schemas.openxmlformats.org/officeDocument/2006/relationships/image" Target="../media/image29.png"/><Relationship Id="rId11" Type="http://schemas.openxmlformats.org/officeDocument/2006/relationships/image" Target="../media/image30.png"/><Relationship Id="rId12" Type="http://schemas.openxmlformats.org/officeDocument/2006/relationships/image" Target="../media/image31.png"/><Relationship Id="rId13" Type="http://schemas.openxmlformats.org/officeDocument/2006/relationships/image" Target="../media/image32.png"/><Relationship Id="rId14" Type="http://schemas.openxmlformats.org/officeDocument/2006/relationships/image" Target="../media/image33.png"/><Relationship Id="rId15" Type="http://schemas.openxmlformats.org/officeDocument/2006/relationships/image" Target="../media/image34.png"/><Relationship Id="rId16" Type="http://schemas.openxmlformats.org/officeDocument/2006/relationships/image" Target="../media/image35.png"/><Relationship Id="rId17" Type="http://schemas.openxmlformats.org/officeDocument/2006/relationships/image" Target="../media/image36.png"/><Relationship Id="rId18" Type="http://schemas.openxmlformats.org/officeDocument/2006/relationships/image" Target="../media/image37.png"/><Relationship Id="rId19" Type="http://schemas.openxmlformats.org/officeDocument/2006/relationships/image" Target="../media/image38.png"/><Relationship Id="rId20" Type="http://schemas.openxmlformats.org/officeDocument/2006/relationships/image" Target="../media/image39.png"/><Relationship Id="rId2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40.wmf"/><Relationship Id="rId4" Type="http://schemas.openxmlformats.org/officeDocument/2006/relationships/image" Target="../media/image10.png"/><Relationship Id="rId5" Type="http://schemas.openxmlformats.org/officeDocument/2006/relationships/image" Target="../media/image19.wmf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41.png"/><Relationship Id="rId4" Type="http://schemas.openxmlformats.org/officeDocument/2006/relationships/image" Target="../media/image7.png"/><Relationship Id="rId5" Type="http://schemas.openxmlformats.org/officeDocument/2006/relationships/image" Target="../media/image42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AutoShape 5">
            <a:hlinkClick r:id="rId2"/>
          </p:cNvPr>
          <p:cNvSpPr/>
          <p:nvPr/>
        </p:nvSpPr>
        <p:spPr>
          <a:xfrm>
            <a:off x="181080" y="-21276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AutoShape 7">
            <a:hlinkClick r:id="rId3"/>
          </p:cNvPr>
          <p:cNvSpPr/>
          <p:nvPr/>
        </p:nvSpPr>
        <p:spPr>
          <a:xfrm>
            <a:off x="181080" y="-21276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Tijdelijke aanduiding voor dianummer 6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8434D-51FD-4BD6-9FA1-FE82C726F68E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Titel 4"/>
          <p:cNvSpPr/>
          <p:nvPr/>
        </p:nvSpPr>
        <p:spPr>
          <a:xfrm>
            <a:off x="642960" y="571680"/>
            <a:ext cx="8020080" cy="36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dbb2d"/>
                </a:solidFill>
                <a:latin typeface="Arial"/>
                <a:ea typeface="Arial"/>
              </a:rPr>
              <a:t>VCA VOL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4b800"/>
                </a:solidFill>
                <a:latin typeface="Arial"/>
                <a:ea typeface="Arial"/>
              </a:rPr>
              <a:t>Hoofdstuk 3</a:t>
            </a:r>
            <a:br>
              <a:rPr sz="4400"/>
            </a:br>
            <a:r>
              <a:rPr b="1" lang="en-US" sz="4400" spc="-1" strike="noStrike">
                <a:solidFill>
                  <a:srgbClr val="44b800"/>
                </a:solidFill>
                <a:latin typeface="Arial"/>
                <a:ea typeface="Arial"/>
              </a:rPr>
              <a:t>Veiligheidsmotivatie,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4b800"/>
                </a:solidFill>
                <a:latin typeface="Arial"/>
                <a:ea typeface="Arial"/>
              </a:rPr>
              <a:t>leiderschap en veilig werkgedrag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EFF7A-F0FF-41E1-B1D6-5001D5328BCE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571680" y="1499760"/>
            <a:ext cx="837072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euwe medewerker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4032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algemene voorlichting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4032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ilighei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4032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odmaatregel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4032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ldingsprocedur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4032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t te doen bij een ongeva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4032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BM-gebruik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4032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rkplek info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4032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85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4b800"/>
                </a:solidFill>
                <a:latin typeface="Arial"/>
              </a:rPr>
              <a:t>3.5 VGM-instructie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C8C81-C209-441D-AA6D-F0FF0360C9DF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571680" y="1499760"/>
            <a:ext cx="8370720" cy="162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ste structuur en regelma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orbereid, agenda en versla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breng van iederee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71320" y="285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4b800"/>
                </a:solidFill>
                <a:latin typeface="Arial"/>
              </a:rPr>
              <a:t>3.5 VGM-overleg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94358-398D-461B-B8F1-1893C4459ADF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571680" y="1285560"/>
            <a:ext cx="833256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werken volgens veiligheidsvoorschrift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kaar aanspreken op onveilig gedra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grijpen bij onveilige situaties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ragen stellen bij onduidelijkhed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de leidinggevende stimuleert dit door voorbeeld gedrag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ezicht  te houden en te corriger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kening te houden met de inbreng van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kundigen en medewerk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tuigende en onderbouwde instructies te gev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71320" y="285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4b800"/>
                </a:solidFill>
                <a:latin typeface="Arial"/>
              </a:rPr>
              <a:t>3.6 Gewenst gedrag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E1740-B433-4093-9A56-7372D1C4D833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71320" y="-360"/>
            <a:ext cx="8057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4b800"/>
                </a:solidFill>
                <a:latin typeface="Arial"/>
              </a:rPr>
              <a:t>3.7 Gedrag beïnvloeden 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316" name="Tekstvak 6"/>
          <p:cNvGrpSpPr/>
          <p:nvPr/>
        </p:nvGrpSpPr>
        <p:grpSpPr>
          <a:xfrm>
            <a:off x="249120" y="1047600"/>
            <a:ext cx="1378080" cy="689040"/>
            <a:chOff x="249120" y="1047600"/>
            <a:chExt cx="1378080" cy="689040"/>
          </a:xfrm>
        </p:grpSpPr>
        <p:pic>
          <p:nvPicPr>
            <p:cNvPr id="317" name="Tekstvak 6" descr=""/>
            <p:cNvPicPr/>
            <p:nvPr/>
          </p:nvPicPr>
          <p:blipFill>
            <a:blip r:embed="rId2"/>
            <a:stretch/>
          </p:blipFill>
          <p:spPr>
            <a:xfrm>
              <a:off x="249120" y="1047600"/>
              <a:ext cx="1378080" cy="68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8" name=""/>
            <p:cNvSpPr/>
            <p:nvPr/>
          </p:nvSpPr>
          <p:spPr>
            <a:xfrm>
              <a:off x="428760" y="1143000"/>
              <a:ext cx="114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doel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19" name="Tekstvak 7"/>
          <p:cNvGrpSpPr/>
          <p:nvPr/>
        </p:nvGrpSpPr>
        <p:grpSpPr>
          <a:xfrm>
            <a:off x="249120" y="2120760"/>
            <a:ext cx="1463760" cy="689040"/>
            <a:chOff x="249120" y="2120760"/>
            <a:chExt cx="1463760" cy="689040"/>
          </a:xfrm>
        </p:grpSpPr>
        <p:pic>
          <p:nvPicPr>
            <p:cNvPr id="320" name="Tekstvak 7" descr=""/>
            <p:cNvPicPr/>
            <p:nvPr/>
          </p:nvPicPr>
          <p:blipFill>
            <a:blip r:embed="rId3"/>
            <a:stretch/>
          </p:blipFill>
          <p:spPr>
            <a:xfrm>
              <a:off x="249120" y="2120760"/>
              <a:ext cx="1463760" cy="68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1" name=""/>
            <p:cNvSpPr/>
            <p:nvPr/>
          </p:nvSpPr>
          <p:spPr>
            <a:xfrm>
              <a:off x="428760" y="2214720"/>
              <a:ext cx="1143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basis</a:t>
              </a: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22" name="Tekstvak 8"/>
          <p:cNvGrpSpPr/>
          <p:nvPr/>
        </p:nvGrpSpPr>
        <p:grpSpPr>
          <a:xfrm>
            <a:off x="228600" y="3352680"/>
            <a:ext cx="1784160" cy="1066680"/>
            <a:chOff x="228600" y="3352680"/>
            <a:chExt cx="1784160" cy="1066680"/>
          </a:xfrm>
        </p:grpSpPr>
        <p:pic>
          <p:nvPicPr>
            <p:cNvPr id="323" name="Tekstvak 8" descr=""/>
            <p:cNvPicPr/>
            <p:nvPr/>
          </p:nvPicPr>
          <p:blipFill>
            <a:blip r:embed="rId4"/>
            <a:stretch/>
          </p:blipFill>
          <p:spPr>
            <a:xfrm>
              <a:off x="228600" y="3352680"/>
              <a:ext cx="178416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4" name=""/>
            <p:cNvSpPr/>
            <p:nvPr/>
          </p:nvSpPr>
          <p:spPr>
            <a:xfrm>
              <a:off x="416160" y="3448080"/>
              <a:ext cx="1492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trategie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325" name="Groep 15" descr=""/>
          <p:cNvPicPr/>
          <p:nvPr/>
        </p:nvPicPr>
        <p:blipFill>
          <a:blip r:embed="rId5"/>
          <a:stretch/>
        </p:blipFill>
        <p:spPr>
          <a:xfrm>
            <a:off x="2798640" y="2151000"/>
            <a:ext cx="2565360" cy="590760"/>
          </a:xfrm>
          <a:prstGeom prst="rect">
            <a:avLst/>
          </a:prstGeom>
          <a:ln w="0">
            <a:noFill/>
          </a:ln>
        </p:spPr>
      </p:pic>
      <p:grpSp>
        <p:nvGrpSpPr>
          <p:cNvPr id="326" name="Tekstvak 9"/>
          <p:cNvGrpSpPr/>
          <p:nvPr/>
        </p:nvGrpSpPr>
        <p:grpSpPr>
          <a:xfrm>
            <a:off x="249120" y="4681440"/>
            <a:ext cx="1457280" cy="695520"/>
            <a:chOff x="249120" y="4681440"/>
            <a:chExt cx="1457280" cy="695520"/>
          </a:xfrm>
        </p:grpSpPr>
        <p:pic>
          <p:nvPicPr>
            <p:cNvPr id="327" name="Tekstvak 9" descr=""/>
            <p:cNvPicPr/>
            <p:nvPr/>
          </p:nvPicPr>
          <p:blipFill>
            <a:blip r:embed="rId6"/>
            <a:stretch/>
          </p:blipFill>
          <p:spPr>
            <a:xfrm>
              <a:off x="249120" y="4681440"/>
              <a:ext cx="1457280" cy="69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8" name=""/>
            <p:cNvSpPr/>
            <p:nvPr/>
          </p:nvSpPr>
          <p:spPr>
            <a:xfrm>
              <a:off x="428760" y="4776840"/>
              <a:ext cx="114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acties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29" name="Tekstvak 10"/>
          <p:cNvSpPr/>
          <p:nvPr/>
        </p:nvSpPr>
        <p:spPr>
          <a:xfrm>
            <a:off x="3146400" y="1071720"/>
            <a:ext cx="371484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dada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163a"/>
                </a:solidFill>
                <a:latin typeface="Arial"/>
              </a:rPr>
              <a:t>veiliger  werkgedrag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Tekstvak 12"/>
          <p:cNvSpPr/>
          <p:nvPr/>
        </p:nvSpPr>
        <p:spPr>
          <a:xfrm>
            <a:off x="1905120" y="3357720"/>
            <a:ext cx="1806480" cy="947160"/>
          </a:xfrm>
          <a:prstGeom prst="rect">
            <a:avLst/>
          </a:prstGeom>
          <a:solidFill>
            <a:srgbClr val="ee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163a"/>
                </a:solidFill>
                <a:latin typeface="Arial"/>
              </a:rPr>
              <a:t>benadruk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163a"/>
                </a:solidFill>
                <a:latin typeface="Arial"/>
              </a:rPr>
              <a:t>succes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31" name="Groep 19" descr=""/>
          <p:cNvPicPr/>
          <p:nvPr/>
        </p:nvPicPr>
        <p:blipFill>
          <a:blip r:embed="rId7"/>
          <a:stretch/>
        </p:blipFill>
        <p:spPr>
          <a:xfrm>
            <a:off x="5303880" y="2152800"/>
            <a:ext cx="2560680" cy="590400"/>
          </a:xfrm>
          <a:prstGeom prst="rect">
            <a:avLst/>
          </a:prstGeom>
          <a:ln w="0">
            <a:noFill/>
          </a:ln>
        </p:spPr>
      </p:pic>
      <p:sp>
        <p:nvSpPr>
          <p:cNvPr id="332" name="Tekstvak 27"/>
          <p:cNvSpPr/>
          <p:nvPr/>
        </p:nvSpPr>
        <p:spPr>
          <a:xfrm>
            <a:off x="2071800" y="4776840"/>
            <a:ext cx="1643040" cy="22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4b800"/>
                </a:solidFill>
                <a:latin typeface="Arial"/>
              </a:rPr>
              <a:t>acties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4b800"/>
                </a:solidFill>
                <a:latin typeface="Arial"/>
              </a:rPr>
              <a:t>strategie 1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4b800"/>
                </a:solidFill>
                <a:latin typeface="Arial"/>
              </a:rPr>
              <a:t>…………</a:t>
            </a:r>
            <a:r>
              <a:rPr b="0" lang="en-US" sz="2200" spc="-1" strike="noStrike">
                <a:solidFill>
                  <a:srgbClr val="44b800"/>
                </a:solidFill>
                <a:latin typeface="Arial"/>
              </a:rPr>
              <a:t>.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4b800"/>
                </a:solidFill>
                <a:latin typeface="Arial"/>
              </a:rPr>
              <a:t>…………</a:t>
            </a:r>
            <a:r>
              <a:rPr b="0" lang="en-US" sz="2200" spc="-1" strike="noStrike">
                <a:solidFill>
                  <a:srgbClr val="44b800"/>
                </a:solidFill>
                <a:latin typeface="Arial"/>
              </a:rPr>
              <a:t>.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0d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Tekstvak 29"/>
          <p:cNvSpPr/>
          <p:nvPr/>
        </p:nvSpPr>
        <p:spPr>
          <a:xfrm>
            <a:off x="3581280" y="3357720"/>
            <a:ext cx="1844640" cy="947160"/>
          </a:xfrm>
          <a:prstGeom prst="rect">
            <a:avLst/>
          </a:prstGeom>
          <a:solidFill>
            <a:srgbClr val="ee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163a"/>
                </a:solidFill>
                <a:latin typeface="Arial"/>
              </a:rPr>
              <a:t>verminder nadelen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34" name="Rechte verbindingslijn met pijl 30"/>
          <p:cNvCxnSpPr>
            <a:endCxn id="330" idx="0"/>
          </p:cNvCxnSpPr>
          <p:nvPr/>
        </p:nvCxnSpPr>
        <p:spPr>
          <a:xfrm flipH="1">
            <a:off x="2807640" y="2738520"/>
            <a:ext cx="1253160" cy="619920"/>
          </a:xfrm>
          <a:prstGeom prst="straightConnector1">
            <a:avLst/>
          </a:prstGeom>
          <a:ln w="76320">
            <a:solidFill>
              <a:srgbClr val="44b800"/>
            </a:solidFill>
            <a:miter/>
            <a:tailEnd len="med" type="arrow" w="med"/>
          </a:ln>
        </p:spPr>
      </p:cxnSp>
      <p:cxnSp>
        <p:nvCxnSpPr>
          <p:cNvPr id="335" name="Rechte verbindingslijn met pijl 31"/>
          <p:cNvCxnSpPr/>
          <p:nvPr/>
        </p:nvCxnSpPr>
        <p:spPr>
          <a:xfrm>
            <a:off x="4143240" y="2738520"/>
            <a:ext cx="535680" cy="619920"/>
          </a:xfrm>
          <a:prstGeom prst="straightConnector1">
            <a:avLst/>
          </a:prstGeom>
          <a:ln w="76320">
            <a:solidFill>
              <a:srgbClr val="44b800"/>
            </a:solidFill>
            <a:miter/>
            <a:tailEnd len="med" type="arrow" w="med"/>
          </a:ln>
        </p:spPr>
      </p:cxnSp>
      <p:cxnSp>
        <p:nvCxnSpPr>
          <p:cNvPr id="336" name="Rechte verbindingslijn met pijl 37"/>
          <p:cNvCxnSpPr>
            <a:endCxn id="337" idx="0"/>
          </p:cNvCxnSpPr>
          <p:nvPr/>
        </p:nvCxnSpPr>
        <p:spPr>
          <a:xfrm>
            <a:off x="6642720" y="2738520"/>
            <a:ext cx="1641960" cy="619920"/>
          </a:xfrm>
          <a:prstGeom prst="straightConnector1">
            <a:avLst/>
          </a:prstGeom>
          <a:ln w="76320">
            <a:solidFill>
              <a:srgbClr val="44b800"/>
            </a:solidFill>
            <a:miter/>
            <a:tailEnd len="med" type="arrow" w="med"/>
          </a:ln>
        </p:spPr>
      </p:cxnSp>
      <p:cxnSp>
        <p:nvCxnSpPr>
          <p:cNvPr id="338" name="Rechte verbindingslijn met pijl 38"/>
          <p:cNvCxnSpPr>
            <a:endCxn id="339" idx="0"/>
          </p:cNvCxnSpPr>
          <p:nvPr/>
        </p:nvCxnSpPr>
        <p:spPr>
          <a:xfrm flipH="1">
            <a:off x="6476400" y="2738520"/>
            <a:ext cx="143640" cy="619920"/>
          </a:xfrm>
          <a:prstGeom prst="straightConnector1">
            <a:avLst/>
          </a:prstGeom>
          <a:ln w="76320">
            <a:solidFill>
              <a:srgbClr val="44b800"/>
            </a:solidFill>
            <a:miter/>
            <a:tailEnd len="med" type="arrow" w="med"/>
          </a:ln>
        </p:spPr>
      </p:cxnSp>
      <p:sp>
        <p:nvSpPr>
          <p:cNvPr id="339" name="Tekstvak 40"/>
          <p:cNvSpPr/>
          <p:nvPr/>
        </p:nvSpPr>
        <p:spPr>
          <a:xfrm>
            <a:off x="5334120" y="3357720"/>
            <a:ext cx="2286000" cy="947160"/>
          </a:xfrm>
          <a:prstGeom prst="rect">
            <a:avLst/>
          </a:prstGeom>
          <a:solidFill>
            <a:srgbClr val="ee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163a"/>
                </a:solidFill>
                <a:latin typeface="Arial"/>
              </a:rPr>
              <a:t>gevolgen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163a"/>
                </a:solidFill>
                <a:latin typeface="Arial"/>
              </a:rPr>
              <a:t>benadrukken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Tekstvak 41"/>
          <p:cNvSpPr/>
          <p:nvPr/>
        </p:nvSpPr>
        <p:spPr>
          <a:xfrm>
            <a:off x="7572240" y="3357720"/>
            <a:ext cx="1425600" cy="947160"/>
          </a:xfrm>
          <a:prstGeom prst="rect">
            <a:avLst/>
          </a:prstGeom>
          <a:solidFill>
            <a:srgbClr val="ee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163a"/>
                </a:solidFill>
                <a:latin typeface="Arial"/>
              </a:rPr>
              <a:t>moeilijk maken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Tekstvak 47"/>
          <p:cNvSpPr/>
          <p:nvPr/>
        </p:nvSpPr>
        <p:spPr>
          <a:xfrm>
            <a:off x="3786120" y="4786200"/>
            <a:ext cx="16430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4b800"/>
                </a:solidFill>
                <a:latin typeface="Arial"/>
              </a:rPr>
              <a:t>acties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4b800"/>
                </a:solidFill>
                <a:latin typeface="Arial"/>
              </a:rPr>
              <a:t>strategie 2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4b800"/>
                </a:solidFill>
                <a:latin typeface="Arial"/>
              </a:rPr>
              <a:t>…………</a:t>
            </a:r>
            <a:r>
              <a:rPr b="0" lang="en-US" sz="2200" spc="-1" strike="noStrike">
                <a:solidFill>
                  <a:srgbClr val="44b800"/>
                </a:solidFill>
                <a:latin typeface="Arial"/>
              </a:rPr>
              <a:t>.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4b800"/>
                </a:solidFill>
                <a:latin typeface="Arial"/>
              </a:rPr>
              <a:t>…………</a:t>
            </a:r>
            <a:r>
              <a:rPr b="0" lang="en-US" sz="2200" spc="-1" strike="noStrike">
                <a:solidFill>
                  <a:srgbClr val="44b800"/>
                </a:solidFill>
                <a:latin typeface="Arial"/>
              </a:rPr>
              <a:t>.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4b800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Tekstvak 48"/>
          <p:cNvSpPr/>
          <p:nvPr/>
        </p:nvSpPr>
        <p:spPr>
          <a:xfrm>
            <a:off x="5572080" y="4786200"/>
            <a:ext cx="19288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4b800"/>
                </a:solidFill>
                <a:latin typeface="Arial"/>
              </a:rPr>
              <a:t>acties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4b800"/>
                </a:solidFill>
                <a:latin typeface="Arial"/>
              </a:rPr>
              <a:t>strategie 3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4b800"/>
                </a:solidFill>
                <a:latin typeface="Arial"/>
              </a:rPr>
              <a:t>…………</a:t>
            </a:r>
            <a:r>
              <a:rPr b="0" lang="en-US" sz="2200" spc="-1" strike="noStrike">
                <a:solidFill>
                  <a:srgbClr val="44b800"/>
                </a:solidFill>
                <a:latin typeface="Arial"/>
              </a:rPr>
              <a:t>.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4b800"/>
                </a:solidFill>
                <a:latin typeface="Arial"/>
              </a:rPr>
              <a:t>…………</a:t>
            </a:r>
            <a:r>
              <a:rPr b="0" lang="en-US" sz="2200" spc="-1" strike="noStrike">
                <a:solidFill>
                  <a:srgbClr val="44b800"/>
                </a:solidFill>
                <a:latin typeface="Arial"/>
              </a:rPr>
              <a:t>.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4b800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Tekstvak 49"/>
          <p:cNvSpPr/>
          <p:nvPr/>
        </p:nvSpPr>
        <p:spPr>
          <a:xfrm>
            <a:off x="7543800" y="4724280"/>
            <a:ext cx="16002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4b800"/>
                </a:solidFill>
                <a:latin typeface="Arial"/>
              </a:rPr>
              <a:t>acties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4b800"/>
                </a:solidFill>
                <a:latin typeface="Arial"/>
              </a:rPr>
              <a:t>strategie 4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4b800"/>
                </a:solidFill>
                <a:latin typeface="Arial"/>
              </a:rPr>
              <a:t>…………</a:t>
            </a:r>
            <a:r>
              <a:rPr b="0" lang="en-US" sz="2200" spc="-1" strike="noStrike">
                <a:solidFill>
                  <a:srgbClr val="44b800"/>
                </a:solidFill>
                <a:latin typeface="Arial"/>
              </a:rPr>
              <a:t>.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4b800"/>
                </a:solidFill>
                <a:latin typeface="Arial"/>
              </a:rPr>
              <a:t>…………</a:t>
            </a:r>
            <a:r>
              <a:rPr b="0" lang="en-US" sz="2200" spc="-1" strike="noStrike">
                <a:solidFill>
                  <a:srgbClr val="44b800"/>
                </a:solidFill>
                <a:latin typeface="Arial"/>
              </a:rPr>
              <a:t>.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4b800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C77D1-2918-48C0-9FE0-0CE331FC8B38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1143000" y="1828440"/>
            <a:ext cx="371808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succes benadrukk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oorbeeldgedra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kmanschap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arder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sitief besprek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uidelijke instructies gev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31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4b800"/>
                </a:solidFill>
                <a:latin typeface="Arial"/>
              </a:rPr>
              <a:t>Strategische acties bevorderen veilig gedrag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46" name="Tekstvak 6"/>
          <p:cNvSpPr/>
          <p:nvPr/>
        </p:nvSpPr>
        <p:spPr>
          <a:xfrm>
            <a:off x="1000080" y="1000080"/>
            <a:ext cx="785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stimuleer veiligheid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Tijdelijke aanduiding voor inhoud 4"/>
          <p:cNvSpPr/>
          <p:nvPr/>
        </p:nvSpPr>
        <p:spPr>
          <a:xfrm>
            <a:off x="5003640" y="1785960"/>
            <a:ext cx="3854520" cy="45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2. nadelen verminder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hanteerbare voorschriften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bereikbare veiligheids-    voorzieningen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comfortabele PBM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tijd voor veilig werken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480CD-E8A8-47B3-A3E7-F001DD8CF2FF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762120" y="1785960"/>
            <a:ext cx="409896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gevolgen benadrukk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formeer over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var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spreek gevolgen van ongevall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ef instructies over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nveilig handel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nveilige situati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31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4b800"/>
                </a:solidFill>
                <a:latin typeface="Arial"/>
              </a:rPr>
              <a:t>Strategische acties bevorderen veilig gedrag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51" name="Tekstvak 6"/>
          <p:cNvSpPr/>
          <p:nvPr/>
        </p:nvSpPr>
        <p:spPr>
          <a:xfrm>
            <a:off x="1000080" y="1000080"/>
            <a:ext cx="785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rem onveiligheid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Tijdelijke aanduiding voor inhoud 4"/>
          <p:cNvSpPr/>
          <p:nvPr/>
        </p:nvSpPr>
        <p:spPr>
          <a:xfrm>
            <a:off x="4800600" y="1785960"/>
            <a:ext cx="4140360" cy="32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4. maak het moeilijk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omheiningen/afzettingen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maak afzetten beveiliging onmogelijk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verwijder slecht   gereedschap en materiaal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sancties bij onveilig gedrag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1633F-FBD9-4A11-94E9-5246E3AC8FFA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785880" y="1143000"/>
            <a:ext cx="4857840" cy="44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er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raag toestemm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m de tij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at om GEDRA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één perso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lke risico’s genomen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orschriften nageleefd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spreek  + en  -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ak afsprak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es correc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286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4b800"/>
                </a:solidFill>
                <a:latin typeface="Arial"/>
              </a:rPr>
              <a:t>3.8 OOG-rondes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56" name="Tekstvak 6"/>
          <p:cNvSpPr/>
          <p:nvPr/>
        </p:nvSpPr>
        <p:spPr>
          <a:xfrm>
            <a:off x="5003640" y="1143000"/>
            <a:ext cx="3835440" cy="39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0163a"/>
                </a:solidFill>
                <a:latin typeface="Arial"/>
                <a:ea typeface="Arial"/>
              </a:rPr>
              <a:t>letten op: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5724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orde/netheid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5724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gebruik gereedschap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5724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houding, plek 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5724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werkuitvoering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5724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tempo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5724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5724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C84FF-9678-4F68-B397-61FBA02B8593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571680" y="999720"/>
            <a:ext cx="833256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óór het werk, liefst op de werkple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t opdrachtgevers en aannem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 een werktea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ijdens een toolbo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wisseling van ploeg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orlichtingen afstemmen op niveau werknem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fgestemd op de werkzaamhed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raktisch en begrijpelijk (J&amp;J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31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4b800"/>
                </a:solidFill>
                <a:latin typeface="Arial"/>
              </a:rPr>
              <a:t>3.9 Veiligheid bespreken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26AB8-189B-4AD3-A422-BB437AC51439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499680" y="1071360"/>
            <a:ext cx="864396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risicovol werk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rken en veiligheidsmaatregelen volgens afspraak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gelmatig checken, zo nodig ingrijp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werkplekinspecti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gelmatig met 2 (of 3) person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etten op middelen, opstellingen beschermingsmiddel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ook handelingen, procedures volgen, zie OOG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pporteer tekorten, verbeteracties en de verantwoordelijk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aandacht voor belasting van medewerk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oorkom schade, verzuim en arbeidsongeschikthei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et op lichamelijke en mentale belast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31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4b800"/>
                </a:solidFill>
                <a:latin typeface="Arial"/>
              </a:rPr>
              <a:t>3.10 Controle en toezich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45F3B-4723-4E9F-8353-5D1EAC78CB3E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571680" y="1571760"/>
            <a:ext cx="7968960" cy="26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chamelijke of fysieke belast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atische belasting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ynamische belast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tale belast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gonomi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71320" y="285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4b800"/>
                </a:solidFill>
                <a:latin typeface="Arial"/>
              </a:rPr>
              <a:t>3.11 Overbelasting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71320" y="571320"/>
            <a:ext cx="8343720" cy="57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4b800"/>
                </a:solidFill>
                <a:latin typeface="Arial"/>
              </a:rPr>
              <a:t>3. Leiderschap en werkgedrag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571320" y="1071720"/>
            <a:ext cx="835812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59880" indent="-659880">
              <a:spcBef>
                <a:spcPts val="601"/>
              </a:spcBef>
              <a:tabLst>
                <a:tab algn="l" pos="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iligheid en gedra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59880" indent="-659880">
              <a:spcBef>
                <a:spcPts val="601"/>
              </a:spcBef>
              <a:tabLst>
                <a:tab algn="l" pos="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GM-beleid en gedra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59880" indent="-659880">
              <a:spcBef>
                <a:spcPts val="601"/>
              </a:spcBef>
              <a:tabLst>
                <a:tab algn="l" pos="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eutelrol van de leidinggevend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59880" indent="-659880">
              <a:spcBef>
                <a:spcPts val="601"/>
              </a:spcBef>
              <a:tabLst>
                <a:tab algn="l" pos="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ganisatorische inspanningen om veilig gedrag te bevorder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59880" indent="-659880">
              <a:spcBef>
                <a:spcPts val="601"/>
              </a:spcBef>
              <a:tabLst>
                <a:tab algn="l" pos="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GM-overleg en instructi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59880" indent="-659880">
              <a:spcBef>
                <a:spcPts val="601"/>
              </a:spcBef>
              <a:tabLst>
                <a:tab algn="l" pos="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nmerken van gewenst gedra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59880" indent="-659880">
              <a:spcBef>
                <a:spcPts val="601"/>
              </a:spcBef>
              <a:tabLst>
                <a:tab algn="l" pos="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7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drag beïnvloed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59880" indent="-659880">
              <a:spcBef>
                <a:spcPts val="601"/>
              </a:spcBef>
              <a:tabLst>
                <a:tab algn="l" pos="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8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OG-ron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59880" indent="-659880">
              <a:spcBef>
                <a:spcPts val="601"/>
              </a:spcBef>
              <a:tabLst>
                <a:tab algn="l" pos="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9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orlichting en opleid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59880" indent="-659880">
              <a:spcBef>
                <a:spcPts val="601"/>
              </a:spcBef>
              <a:tabLst>
                <a:tab algn="l" pos="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10 Controle en toezich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59880" indent="-659880">
              <a:spcBef>
                <a:spcPts val="601"/>
              </a:spcBef>
              <a:tabLst>
                <a:tab algn="l" pos="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11 Aandacht voor lichamelijke en mentale belast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D5F06-6094-44ED-921C-87EED2E7C4C6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C5B03-CAD6-488B-9314-7A02BC4C599C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571680" y="1066320"/>
            <a:ext cx="787392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lichamelijke of fysieke belast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langrijke factore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uding, beweg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panning / werk- en rusttijd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ongunstig zij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ang zitten of staan in dezelfde houding (statische belasting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el kracht leveren, zoals bij traplopen en zwaar tillen, trillingen en terugkerende bewegingen (dynamische belasting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mogelijke gevolgen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rmoeidheid, spierpijn, kramp, schade aan gewrichten bij dynamische belast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71680" y="285840"/>
            <a:ext cx="8572320" cy="71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4b800"/>
                </a:solidFill>
                <a:latin typeface="Arial"/>
              </a:rPr>
              <a:t>3.11 Overbelasting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41E68-98F8-4559-A45C-90A40A94FF9E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571680" y="766800"/>
            <a:ext cx="833256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zittend en staand we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zo mogelijk afwissel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aan bij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rachtuitoefening, onvoldoende beenruim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elmatig opstaan en laag, ver of hoog reik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bij zittend we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eun bovenbenen (zitvlak) en schouders (leuningen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zorg voor goede rugstan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handmatig till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fhankelijk van krachten en duur, vooral ook rugbelast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bruik liever hulpmiddelen of beperk belasting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oor samenwerken of extra pauz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zorg voor goede til-instructie en gezondheidskundige beoordel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55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55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71680" y="142920"/>
            <a:ext cx="8462880" cy="64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4b800"/>
                </a:solidFill>
                <a:latin typeface="Arial"/>
              </a:rPr>
              <a:t>Praktijkvoorbeelden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31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4b800"/>
                </a:solidFill>
                <a:latin typeface="Arial"/>
              </a:rPr>
              <a:t>Mentale belasting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571680" y="928440"/>
            <a:ext cx="833256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druk (regelmogelijkheden / regelvereisten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ompetenties (taak / capaciteiten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sfeer (relaties collega’s en leidinggevende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fysische omstandighed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(on)zekerhei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achterliggend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0163a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infrastructuur en uitrusting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0163a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persoonlijkheidskenmerken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ED3CE-9C92-4590-BF91-2C15F6CB5525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71320" y="285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4b800"/>
                </a:solidFill>
                <a:latin typeface="Arial"/>
              </a:rPr>
              <a:t>Ergonomische benadering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571680" y="1500120"/>
            <a:ext cx="8370720" cy="33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m ook op langere termijn goed te kunnen werken, is een goede werkomgeving met comfort wenselij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t op signalen, klachten en nieuwe ontwikkeling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gonomen zorgen voor een mensgericht (her)ontwerp van werkplekken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ze houden naast lichamelijke en mentale belasting rekening met licht, geluid, klimaat en trilling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19ADF-BB45-42C1-AEAA-A0277E30EB4F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65D43-9B17-45A7-B312-AA7A3555D8A1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Wolk 9"/>
          <p:cNvSpPr/>
          <p:nvPr/>
        </p:nvSpPr>
        <p:spPr>
          <a:xfrm>
            <a:off x="857160" y="762120"/>
            <a:ext cx="7429680" cy="4857480"/>
          </a:xfrm>
          <a:custGeom>
            <a:avLst/>
            <a:gdLst>
              <a:gd name="textAreaLeft" fmla="*/ 1023840 w 7429680"/>
              <a:gd name="textAreaRight" fmla="*/ 5877360 w 7429680"/>
              <a:gd name="textAreaTop" fmla="*/ 733320 h 4857480"/>
              <a:gd name="textAreaBottom" fmla="*/ 3898800 h 4857480"/>
            </a:gdLst>
            <a:ahLst/>
            <a:rect l="textAreaLeft" t="textAreaTop" r="textAreaRight" b="textAreaBottom"/>
            <a:pathLst>
              <a:path w="43200" h="43200">
                <a:moveTo>
                  <a:pt x="3900" y="14370"/>
                </a:moveTo>
                <a:lnTo>
                  <a:pt x="3900" y="14370"/>
                </a:lnTo>
                <a:arcTo wR="6753" hR="9190" stAng="10170548" swAng="7427171"/>
                <a:lnTo>
                  <a:pt x="14005" y="5202"/>
                </a:lnTo>
                <a:arcTo wR="5333" hR="7267" stAng="-8646226" swAng="5396752"/>
                <a:lnTo>
                  <a:pt x="22456" y="3432"/>
                </a:lnTo>
                <a:arcTo wR="4365" hR="5945" stAng="-8748310" swAng="5983216"/>
                <a:lnTo>
                  <a:pt x="29833" y="2481"/>
                </a:lnTo>
                <a:arcTo wR="4857" hR="6595" stAng="-7859247" swAng="7034694"/>
                <a:lnTo>
                  <a:pt x="38318" y="5576"/>
                </a:lnTo>
                <a:arcTo wR="5333" hR="7273" stAng="-4722629" swAng="6541720"/>
                <a:lnTo>
                  <a:pt x="41818" y="15460"/>
                </a:lnTo>
                <a:arcTo wR="6775" hR="9220" stAng="-2776007" swAng="7816113"/>
                <a:lnTo>
                  <a:pt x="37404" y="30203"/>
                </a:lnTo>
                <a:arcTo wR="5785" hR="7867" stAng="37436" swAng="6841911"/>
                <a:lnTo>
                  <a:pt x="28556" y="36813"/>
                </a:lnTo>
                <a:arcTo wR="6752" hR="9215" stAng="1346980" swAng="6910786"/>
                <a:lnTo>
                  <a:pt x="16480" y="39264"/>
                </a:lnTo>
                <a:arcTo wR="7720" hR="10543" stAng="3974661" swAng="4542738"/>
                <a:lnTo>
                  <a:pt x="5804" y="35470"/>
                </a:lnTo>
                <a:arcTo wR="4360" hR="5918" stAng="5103633" swAng="8804007"/>
                <a:lnTo>
                  <a:pt x="2113" y="25548"/>
                </a:lnTo>
                <a:arcTo wR="4345" hR="5945" stAng="6790459" swAng="9150775"/>
                <a:close/>
              </a:path>
              <a:path fill="none" w="43200" h="43200">
                <a:moveTo>
                  <a:pt x="4693" y="26177"/>
                </a:moveTo>
                <a:lnTo>
                  <a:pt x="4693" y="26177"/>
                </a:lnTo>
                <a:arcTo wR="4345" hR="5945" stAng="5204745" swAng="1585714"/>
                <a:moveTo>
                  <a:pt x="6928" y="34899"/>
                </a:moveTo>
                <a:lnTo>
                  <a:pt x="6928" y="34899"/>
                </a:lnTo>
                <a:arcTo wR="4360" hR="5918" stAng="4416323" swAng="686679"/>
                <a:moveTo>
                  <a:pt x="16478" y="39090"/>
                </a:moveTo>
                <a:lnTo>
                  <a:pt x="16478" y="39090"/>
                </a:lnTo>
                <a:arcTo wR="6752" hR="9215" stAng="8257461" swAng="844950"/>
                <a:moveTo>
                  <a:pt x="28827" y="34751"/>
                </a:moveTo>
                <a:lnTo>
                  <a:pt x="28827" y="34751"/>
                </a:lnTo>
                <a:arcTo wR="6752" hR="9215" stAng="387139" swAng="959841"/>
                <a:moveTo>
                  <a:pt x="34129" y="22954"/>
                </a:moveTo>
                <a:lnTo>
                  <a:pt x="34129" y="22954"/>
                </a:lnTo>
                <a:arcTo wR="5785" hR="7867" stAng="-4217785" swAng="4255228"/>
                <a:moveTo>
                  <a:pt x="41798" y="15354"/>
                </a:moveTo>
                <a:lnTo>
                  <a:pt x="41798" y="15354"/>
                </a:lnTo>
                <a:arcTo wR="5333" hR="7273" stAng="1819091" swAng="1665385"/>
                <a:moveTo>
                  <a:pt x="38324" y="5426"/>
                </a:moveTo>
                <a:lnTo>
                  <a:pt x="38324" y="5426"/>
                </a:lnTo>
                <a:arcTo wR="4857" hR="6595" stAng="-824553" swAng="891799"/>
                <a:moveTo>
                  <a:pt x="29078" y="3952"/>
                </a:moveTo>
                <a:lnTo>
                  <a:pt x="29078" y="3952"/>
                </a:lnTo>
                <a:arcTo wR="4857" hR="6595" stAng="-8950828" swAng="1091979"/>
                <a:moveTo>
                  <a:pt x="22141" y="4720"/>
                </a:moveTo>
                <a:lnTo>
                  <a:pt x="22141" y="4720"/>
                </a:lnTo>
                <a:arcTo wR="4365" hR="5945" stAng="-9809519" swAng="1061209"/>
                <a:moveTo>
                  <a:pt x="14000" y="5192"/>
                </a:moveTo>
                <a:lnTo>
                  <a:pt x="14000" y="5192"/>
                </a:lnTo>
                <a:arcTo wR="6753" hR="9190" stAng="-4002280" swAng="739132"/>
                <a:moveTo>
                  <a:pt x="4127" y="15789"/>
                </a:moveTo>
                <a:lnTo>
                  <a:pt x="4127" y="15789"/>
                </a:lnTo>
                <a:arcTo wR="6753" hR="9190" stAng="9459493" swAng="711644"/>
              </a:path>
            </a:pathLst>
          </a:custGeom>
          <a:solidFill>
            <a:srgbClr val="00bfbf"/>
          </a:solidFill>
          <a:ln w="403200">
            <a:solidFill>
              <a:srgbClr val="00cc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4" name="Tekstvak 6"/>
          <p:cNvGrpSpPr/>
          <p:nvPr/>
        </p:nvGrpSpPr>
        <p:grpSpPr>
          <a:xfrm>
            <a:off x="3133800" y="853920"/>
            <a:ext cx="1633320" cy="609840"/>
            <a:chOff x="3133800" y="853920"/>
            <a:chExt cx="1633320" cy="609840"/>
          </a:xfrm>
        </p:grpSpPr>
        <p:pic>
          <p:nvPicPr>
            <p:cNvPr id="175" name="Tekstvak 6" descr=""/>
            <p:cNvPicPr/>
            <p:nvPr/>
          </p:nvPicPr>
          <p:blipFill>
            <a:blip r:embed="rId2"/>
            <a:stretch/>
          </p:blipFill>
          <p:spPr>
            <a:xfrm>
              <a:off x="3133800" y="853920"/>
              <a:ext cx="1633320" cy="60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"/>
            <p:cNvSpPr/>
            <p:nvPr/>
          </p:nvSpPr>
          <p:spPr>
            <a:xfrm>
              <a:off x="3286080" y="928800"/>
              <a:ext cx="142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Tahoma"/>
                </a:rPr>
                <a:t>bedrijf: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7" name="Tekstvak 10"/>
          <p:cNvGrpSpPr/>
          <p:nvPr/>
        </p:nvGrpSpPr>
        <p:grpSpPr>
          <a:xfrm>
            <a:off x="2206800" y="2193840"/>
            <a:ext cx="2877840" cy="689040"/>
            <a:chOff x="2206800" y="2193840"/>
            <a:chExt cx="2877840" cy="689040"/>
          </a:xfrm>
        </p:grpSpPr>
        <p:pic>
          <p:nvPicPr>
            <p:cNvPr id="178" name="Tekstvak 10" descr=""/>
            <p:cNvPicPr/>
            <p:nvPr/>
          </p:nvPicPr>
          <p:blipFill>
            <a:blip r:embed="rId3"/>
            <a:stretch/>
          </p:blipFill>
          <p:spPr>
            <a:xfrm>
              <a:off x="2206800" y="2193840"/>
              <a:ext cx="2877840" cy="68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"/>
            <p:cNvSpPr/>
            <p:nvPr/>
          </p:nvSpPr>
          <p:spPr>
            <a:xfrm>
              <a:off x="2386080" y="2286000"/>
              <a:ext cx="2643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  <a:ea typeface="Tahoma"/>
                </a:rPr>
                <a:t>inspanningen</a:t>
              </a: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0" name="Tekstvak 8"/>
          <p:cNvGrpSpPr/>
          <p:nvPr/>
        </p:nvGrpSpPr>
        <p:grpSpPr>
          <a:xfrm>
            <a:off x="2962440" y="1620720"/>
            <a:ext cx="1665000" cy="689040"/>
            <a:chOff x="2962440" y="1620720"/>
            <a:chExt cx="1665000" cy="689040"/>
          </a:xfrm>
        </p:grpSpPr>
        <p:pic>
          <p:nvPicPr>
            <p:cNvPr id="181" name="Tekstvak 8" descr=""/>
            <p:cNvPicPr/>
            <p:nvPr/>
          </p:nvPicPr>
          <p:blipFill>
            <a:blip r:embed="rId4"/>
            <a:stretch/>
          </p:blipFill>
          <p:spPr>
            <a:xfrm>
              <a:off x="2962440" y="1620720"/>
              <a:ext cx="1665000" cy="68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"/>
            <p:cNvSpPr/>
            <p:nvPr/>
          </p:nvSpPr>
          <p:spPr>
            <a:xfrm>
              <a:off x="3143160" y="1714680"/>
              <a:ext cx="1428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  <a:ea typeface="Tahoma"/>
                </a:rPr>
                <a:t>beleid</a:t>
              </a: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Wolk 16"/>
          <p:cNvSpPr/>
          <p:nvPr/>
        </p:nvSpPr>
        <p:spPr>
          <a:xfrm>
            <a:off x="5029200" y="3000240"/>
            <a:ext cx="1471680" cy="1428840"/>
          </a:xfrm>
          <a:custGeom>
            <a:avLst/>
            <a:gdLst>
              <a:gd name="textAreaLeft" fmla="*/ 202680 w 1471680"/>
              <a:gd name="textAreaRight" fmla="*/ 1164240 w 1471680"/>
              <a:gd name="textAreaTop" fmla="*/ 215640 h 1428840"/>
              <a:gd name="textAreaBottom" fmla="*/ 1146960 h 1428840"/>
            </a:gdLst>
            <a:ahLst/>
            <a:rect l="textAreaLeft" t="textAreaTop" r="textAreaRight" b="textAreaBottom"/>
            <a:pathLst>
              <a:path w="43200" h="43200">
                <a:moveTo>
                  <a:pt x="3900" y="14370"/>
                </a:moveTo>
                <a:lnTo>
                  <a:pt x="3900" y="14370"/>
                </a:lnTo>
                <a:arcTo wR="6753" hR="9190" stAng="10170548" swAng="7427171"/>
                <a:lnTo>
                  <a:pt x="14005" y="5202"/>
                </a:lnTo>
                <a:arcTo wR="5333" hR="7267" stAng="-8646226" swAng="5396752"/>
                <a:lnTo>
                  <a:pt x="22456" y="3432"/>
                </a:lnTo>
                <a:arcTo wR="4365" hR="5945" stAng="-8748310" swAng="5983216"/>
                <a:lnTo>
                  <a:pt x="29833" y="2481"/>
                </a:lnTo>
                <a:arcTo wR="4857" hR="6595" stAng="-7859247" swAng="7034694"/>
                <a:lnTo>
                  <a:pt x="38318" y="5576"/>
                </a:lnTo>
                <a:arcTo wR="5333" hR="7273" stAng="-4722629" swAng="6541720"/>
                <a:lnTo>
                  <a:pt x="41818" y="15460"/>
                </a:lnTo>
                <a:arcTo wR="6775" hR="9220" stAng="-2776007" swAng="7816113"/>
                <a:lnTo>
                  <a:pt x="37404" y="30203"/>
                </a:lnTo>
                <a:arcTo wR="5785" hR="7867" stAng="37436" swAng="6841911"/>
                <a:lnTo>
                  <a:pt x="28556" y="36813"/>
                </a:lnTo>
                <a:arcTo wR="6752" hR="9215" stAng="1346980" swAng="6910786"/>
                <a:lnTo>
                  <a:pt x="16480" y="39264"/>
                </a:lnTo>
                <a:arcTo wR="7720" hR="10543" stAng="3974661" swAng="4542738"/>
                <a:lnTo>
                  <a:pt x="5804" y="35470"/>
                </a:lnTo>
                <a:arcTo wR="4360" hR="5918" stAng="5103633" swAng="8804007"/>
                <a:lnTo>
                  <a:pt x="2113" y="25548"/>
                </a:lnTo>
                <a:arcTo wR="4345" hR="5945" stAng="6790459" swAng="9150775"/>
                <a:close/>
              </a:path>
              <a:path fill="none" w="43200" h="43200">
                <a:moveTo>
                  <a:pt x="4693" y="26177"/>
                </a:moveTo>
                <a:lnTo>
                  <a:pt x="4693" y="26177"/>
                </a:lnTo>
                <a:arcTo wR="4345" hR="5945" stAng="5204745" swAng="1585714"/>
                <a:moveTo>
                  <a:pt x="6928" y="34899"/>
                </a:moveTo>
                <a:lnTo>
                  <a:pt x="6928" y="34899"/>
                </a:lnTo>
                <a:arcTo wR="4360" hR="5918" stAng="4416323" swAng="686679"/>
                <a:moveTo>
                  <a:pt x="16478" y="39090"/>
                </a:moveTo>
                <a:lnTo>
                  <a:pt x="16478" y="39090"/>
                </a:lnTo>
                <a:arcTo wR="6752" hR="9215" stAng="8257461" swAng="844950"/>
                <a:moveTo>
                  <a:pt x="28827" y="34751"/>
                </a:moveTo>
                <a:lnTo>
                  <a:pt x="28827" y="34751"/>
                </a:lnTo>
                <a:arcTo wR="6752" hR="9215" stAng="387139" swAng="959841"/>
                <a:moveTo>
                  <a:pt x="34129" y="22954"/>
                </a:moveTo>
                <a:lnTo>
                  <a:pt x="34129" y="22954"/>
                </a:lnTo>
                <a:arcTo wR="5785" hR="7867" stAng="-4217785" swAng="4255228"/>
                <a:moveTo>
                  <a:pt x="41798" y="15354"/>
                </a:moveTo>
                <a:lnTo>
                  <a:pt x="41798" y="15354"/>
                </a:lnTo>
                <a:arcTo wR="5333" hR="7273" stAng="1819091" swAng="1665385"/>
                <a:moveTo>
                  <a:pt x="38324" y="5426"/>
                </a:moveTo>
                <a:lnTo>
                  <a:pt x="38324" y="5426"/>
                </a:lnTo>
                <a:arcTo wR="4857" hR="6595" stAng="-824553" swAng="891799"/>
                <a:moveTo>
                  <a:pt x="29078" y="3952"/>
                </a:moveTo>
                <a:lnTo>
                  <a:pt x="29078" y="3952"/>
                </a:lnTo>
                <a:arcTo wR="4857" hR="6595" stAng="-8950828" swAng="1091979"/>
                <a:moveTo>
                  <a:pt x="22141" y="4720"/>
                </a:moveTo>
                <a:lnTo>
                  <a:pt x="22141" y="4720"/>
                </a:lnTo>
                <a:arcTo wR="4365" hR="5945" stAng="-9809519" swAng="1061209"/>
                <a:moveTo>
                  <a:pt x="14000" y="5192"/>
                </a:moveTo>
                <a:lnTo>
                  <a:pt x="14000" y="5192"/>
                </a:lnTo>
                <a:arcTo wR="6753" hR="9190" stAng="-4002280" swAng="739132"/>
                <a:moveTo>
                  <a:pt x="4127" y="15789"/>
                </a:moveTo>
                <a:lnTo>
                  <a:pt x="4127" y="15789"/>
                </a:lnTo>
                <a:arcTo wR="6753" hR="9190" stAng="9459493" swAng="711644"/>
              </a:path>
            </a:pathLst>
          </a:custGeom>
          <a:solidFill>
            <a:srgbClr val="00b0f0"/>
          </a:solidFill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Wolk 15"/>
          <p:cNvSpPr/>
          <p:nvPr/>
        </p:nvSpPr>
        <p:spPr>
          <a:xfrm>
            <a:off x="3992400" y="2928960"/>
            <a:ext cx="2073600" cy="1928880"/>
          </a:xfrm>
          <a:custGeom>
            <a:avLst/>
            <a:gdLst>
              <a:gd name="textAreaLeft" fmla="*/ 285840 w 2073600"/>
              <a:gd name="textAreaRight" fmla="*/ 1640520 w 2073600"/>
              <a:gd name="textAreaTop" fmla="*/ 291240 h 1928880"/>
              <a:gd name="textAreaBottom" fmla="*/ 1548360 h 1928880"/>
            </a:gdLst>
            <a:ahLst/>
            <a:rect l="textAreaLeft" t="textAreaTop" r="textAreaRight" b="textAreaBottom"/>
            <a:pathLst>
              <a:path w="43200" h="43200">
                <a:moveTo>
                  <a:pt x="3900" y="14370"/>
                </a:moveTo>
                <a:lnTo>
                  <a:pt x="3900" y="14370"/>
                </a:lnTo>
                <a:arcTo wR="6753" hR="9190" stAng="10170548" swAng="7427171"/>
                <a:lnTo>
                  <a:pt x="14005" y="5202"/>
                </a:lnTo>
                <a:arcTo wR="5333" hR="7267" stAng="-8646226" swAng="5396752"/>
                <a:lnTo>
                  <a:pt x="22456" y="3432"/>
                </a:lnTo>
                <a:arcTo wR="4365" hR="5945" stAng="-8748310" swAng="5983216"/>
                <a:lnTo>
                  <a:pt x="29833" y="2481"/>
                </a:lnTo>
                <a:arcTo wR="4857" hR="6595" stAng="-7859247" swAng="7034694"/>
                <a:lnTo>
                  <a:pt x="38318" y="5576"/>
                </a:lnTo>
                <a:arcTo wR="5333" hR="7273" stAng="-4722629" swAng="6541720"/>
                <a:lnTo>
                  <a:pt x="41818" y="15460"/>
                </a:lnTo>
                <a:arcTo wR="6775" hR="9220" stAng="-2776007" swAng="7816113"/>
                <a:lnTo>
                  <a:pt x="37404" y="30203"/>
                </a:lnTo>
                <a:arcTo wR="5785" hR="7867" stAng="37436" swAng="6841911"/>
                <a:lnTo>
                  <a:pt x="28556" y="36813"/>
                </a:lnTo>
                <a:arcTo wR="6752" hR="9215" stAng="1346980" swAng="6910786"/>
                <a:lnTo>
                  <a:pt x="16480" y="39264"/>
                </a:lnTo>
                <a:arcTo wR="7720" hR="10543" stAng="3974661" swAng="4542738"/>
                <a:lnTo>
                  <a:pt x="5804" y="35470"/>
                </a:lnTo>
                <a:arcTo wR="4360" hR="5918" stAng="5103633" swAng="8804007"/>
                <a:lnTo>
                  <a:pt x="2113" y="25548"/>
                </a:lnTo>
                <a:arcTo wR="4345" hR="5945" stAng="6790459" swAng="9150775"/>
                <a:close/>
              </a:path>
              <a:path fill="none" w="43200" h="43200">
                <a:moveTo>
                  <a:pt x="4693" y="26177"/>
                </a:moveTo>
                <a:lnTo>
                  <a:pt x="4693" y="26177"/>
                </a:lnTo>
                <a:arcTo wR="4345" hR="5945" stAng="5204745" swAng="1585714"/>
                <a:moveTo>
                  <a:pt x="6928" y="34899"/>
                </a:moveTo>
                <a:lnTo>
                  <a:pt x="6928" y="34899"/>
                </a:lnTo>
                <a:arcTo wR="4360" hR="5918" stAng="4416323" swAng="686679"/>
                <a:moveTo>
                  <a:pt x="16478" y="39090"/>
                </a:moveTo>
                <a:lnTo>
                  <a:pt x="16478" y="39090"/>
                </a:lnTo>
                <a:arcTo wR="6752" hR="9215" stAng="8257461" swAng="844950"/>
                <a:moveTo>
                  <a:pt x="28827" y="34751"/>
                </a:moveTo>
                <a:lnTo>
                  <a:pt x="28827" y="34751"/>
                </a:lnTo>
                <a:arcTo wR="6752" hR="9215" stAng="387139" swAng="959841"/>
                <a:moveTo>
                  <a:pt x="34129" y="22954"/>
                </a:moveTo>
                <a:lnTo>
                  <a:pt x="34129" y="22954"/>
                </a:lnTo>
                <a:arcTo wR="5785" hR="7867" stAng="-4217785" swAng="4255228"/>
                <a:moveTo>
                  <a:pt x="41798" y="15354"/>
                </a:moveTo>
                <a:lnTo>
                  <a:pt x="41798" y="15354"/>
                </a:lnTo>
                <a:arcTo wR="5333" hR="7273" stAng="1819091" swAng="1665385"/>
                <a:moveTo>
                  <a:pt x="38324" y="5426"/>
                </a:moveTo>
                <a:lnTo>
                  <a:pt x="38324" y="5426"/>
                </a:lnTo>
                <a:arcTo wR="4857" hR="6595" stAng="-824553" swAng="891799"/>
                <a:moveTo>
                  <a:pt x="29078" y="3952"/>
                </a:moveTo>
                <a:lnTo>
                  <a:pt x="29078" y="3952"/>
                </a:lnTo>
                <a:arcTo wR="4857" hR="6595" stAng="-8950828" swAng="1091979"/>
                <a:moveTo>
                  <a:pt x="22141" y="4720"/>
                </a:moveTo>
                <a:lnTo>
                  <a:pt x="22141" y="4720"/>
                </a:lnTo>
                <a:arcTo wR="4365" hR="5945" stAng="-9809519" swAng="1061209"/>
                <a:moveTo>
                  <a:pt x="14000" y="5192"/>
                </a:moveTo>
                <a:lnTo>
                  <a:pt x="14000" y="5192"/>
                </a:lnTo>
                <a:arcTo wR="6753" hR="9190" stAng="-4002280" swAng="739132"/>
                <a:moveTo>
                  <a:pt x="4127" y="15789"/>
                </a:moveTo>
                <a:lnTo>
                  <a:pt x="4127" y="15789"/>
                </a:lnTo>
                <a:arcTo wR="6753" hR="9190" stAng="9459493" swAng="711644"/>
              </a:path>
            </a:pathLst>
          </a:custGeom>
          <a:solidFill>
            <a:srgbClr val="00b0f0"/>
          </a:solidFill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Wolk 17"/>
          <p:cNvSpPr/>
          <p:nvPr/>
        </p:nvSpPr>
        <p:spPr>
          <a:xfrm rot="2026200">
            <a:off x="1433520" y="3270240"/>
            <a:ext cx="2071800" cy="1928880"/>
          </a:xfrm>
          <a:custGeom>
            <a:avLst/>
            <a:gdLst>
              <a:gd name="textAreaLeft" fmla="*/ 285480 w 2071800"/>
              <a:gd name="textAreaRight" fmla="*/ 1639080 w 2071800"/>
              <a:gd name="textAreaTop" fmla="*/ 291240 h 1928880"/>
              <a:gd name="textAreaBottom" fmla="*/ 1548360 h 1928880"/>
            </a:gdLst>
            <a:ahLst/>
            <a:rect l="textAreaLeft" t="textAreaTop" r="textAreaRight" b="textAreaBottom"/>
            <a:pathLst>
              <a:path w="43200" h="43200">
                <a:moveTo>
                  <a:pt x="3900" y="14370"/>
                </a:moveTo>
                <a:lnTo>
                  <a:pt x="3900" y="14370"/>
                </a:lnTo>
                <a:arcTo wR="6753" hR="9190" stAng="10170548" swAng="7427171"/>
                <a:lnTo>
                  <a:pt x="14005" y="5202"/>
                </a:lnTo>
                <a:arcTo wR="5333" hR="7267" stAng="-8646226" swAng="5396752"/>
                <a:lnTo>
                  <a:pt x="22456" y="3432"/>
                </a:lnTo>
                <a:arcTo wR="4365" hR="5945" stAng="-8748310" swAng="5983216"/>
                <a:lnTo>
                  <a:pt x="29833" y="2481"/>
                </a:lnTo>
                <a:arcTo wR="4857" hR="6595" stAng="-7859247" swAng="7034694"/>
                <a:lnTo>
                  <a:pt x="38318" y="5576"/>
                </a:lnTo>
                <a:arcTo wR="5333" hR="7273" stAng="-4722629" swAng="6541720"/>
                <a:lnTo>
                  <a:pt x="41818" y="15460"/>
                </a:lnTo>
                <a:arcTo wR="6775" hR="9220" stAng="-2776007" swAng="7816113"/>
                <a:lnTo>
                  <a:pt x="37404" y="30203"/>
                </a:lnTo>
                <a:arcTo wR="5785" hR="7867" stAng="37436" swAng="6841911"/>
                <a:lnTo>
                  <a:pt x="28556" y="36813"/>
                </a:lnTo>
                <a:arcTo wR="6752" hR="9215" stAng="1346980" swAng="6910786"/>
                <a:lnTo>
                  <a:pt x="16480" y="39264"/>
                </a:lnTo>
                <a:arcTo wR="7720" hR="10543" stAng="3974661" swAng="4542738"/>
                <a:lnTo>
                  <a:pt x="5804" y="35470"/>
                </a:lnTo>
                <a:arcTo wR="4360" hR="5918" stAng="5103633" swAng="8804007"/>
                <a:lnTo>
                  <a:pt x="2113" y="25548"/>
                </a:lnTo>
                <a:arcTo wR="4345" hR="5945" stAng="6790459" swAng="9150775"/>
                <a:close/>
              </a:path>
              <a:path fill="none" w="43200" h="43200">
                <a:moveTo>
                  <a:pt x="4693" y="26177"/>
                </a:moveTo>
                <a:lnTo>
                  <a:pt x="4693" y="26177"/>
                </a:lnTo>
                <a:arcTo wR="4345" hR="5945" stAng="5204745" swAng="1585714"/>
                <a:moveTo>
                  <a:pt x="6928" y="34899"/>
                </a:moveTo>
                <a:lnTo>
                  <a:pt x="6928" y="34899"/>
                </a:lnTo>
                <a:arcTo wR="4360" hR="5918" stAng="4416323" swAng="686679"/>
                <a:moveTo>
                  <a:pt x="16478" y="39090"/>
                </a:moveTo>
                <a:lnTo>
                  <a:pt x="16478" y="39090"/>
                </a:lnTo>
                <a:arcTo wR="6752" hR="9215" stAng="8257461" swAng="844950"/>
                <a:moveTo>
                  <a:pt x="28827" y="34751"/>
                </a:moveTo>
                <a:lnTo>
                  <a:pt x="28827" y="34751"/>
                </a:lnTo>
                <a:arcTo wR="6752" hR="9215" stAng="387139" swAng="959841"/>
                <a:moveTo>
                  <a:pt x="34129" y="22954"/>
                </a:moveTo>
                <a:lnTo>
                  <a:pt x="34129" y="22954"/>
                </a:lnTo>
                <a:arcTo wR="5785" hR="7867" stAng="-4217785" swAng="4255228"/>
                <a:moveTo>
                  <a:pt x="41798" y="15354"/>
                </a:moveTo>
                <a:lnTo>
                  <a:pt x="41798" y="15354"/>
                </a:lnTo>
                <a:arcTo wR="5333" hR="7273" stAng="1819091" swAng="1665385"/>
                <a:moveTo>
                  <a:pt x="38324" y="5426"/>
                </a:moveTo>
                <a:lnTo>
                  <a:pt x="38324" y="5426"/>
                </a:lnTo>
                <a:arcTo wR="4857" hR="6595" stAng="-824553" swAng="891799"/>
                <a:moveTo>
                  <a:pt x="29078" y="3952"/>
                </a:moveTo>
                <a:lnTo>
                  <a:pt x="29078" y="3952"/>
                </a:lnTo>
                <a:arcTo wR="4857" hR="6595" stAng="-8950828" swAng="1091979"/>
                <a:moveTo>
                  <a:pt x="22141" y="4720"/>
                </a:moveTo>
                <a:lnTo>
                  <a:pt x="22141" y="4720"/>
                </a:lnTo>
                <a:arcTo wR="4365" hR="5945" stAng="-9809519" swAng="1061209"/>
                <a:moveTo>
                  <a:pt x="14000" y="5192"/>
                </a:moveTo>
                <a:lnTo>
                  <a:pt x="14000" y="5192"/>
                </a:lnTo>
                <a:arcTo wR="6753" hR="9190" stAng="-4002280" swAng="739132"/>
                <a:moveTo>
                  <a:pt x="4127" y="15789"/>
                </a:moveTo>
                <a:lnTo>
                  <a:pt x="4127" y="15789"/>
                </a:lnTo>
                <a:arcTo wR="6753" hR="9190" stAng="9459493" swAng="711644"/>
              </a:path>
            </a:pathLst>
          </a:custGeom>
          <a:solidFill>
            <a:srgbClr val="00b0f0"/>
          </a:solidFill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Wolk 12"/>
          <p:cNvSpPr/>
          <p:nvPr/>
        </p:nvSpPr>
        <p:spPr>
          <a:xfrm>
            <a:off x="2000160" y="3000240"/>
            <a:ext cx="3429000" cy="2357640"/>
          </a:xfrm>
          <a:custGeom>
            <a:avLst/>
            <a:gdLst>
              <a:gd name="textAreaLeft" fmla="*/ 472320 w 3429000"/>
              <a:gd name="textAreaRight" fmla="*/ 2712600 w 3429000"/>
              <a:gd name="textAreaTop" fmla="*/ 356040 h 2357640"/>
              <a:gd name="textAreaBottom" fmla="*/ 1892520 h 2357640"/>
            </a:gdLst>
            <a:ahLst/>
            <a:rect l="textAreaLeft" t="textAreaTop" r="textAreaRight" b="textAreaBottom"/>
            <a:pathLst>
              <a:path w="43200" h="43200">
                <a:moveTo>
                  <a:pt x="3900" y="14370"/>
                </a:moveTo>
                <a:lnTo>
                  <a:pt x="3900" y="14370"/>
                </a:lnTo>
                <a:arcTo wR="6753" hR="9190" stAng="10170548" swAng="7427171"/>
                <a:lnTo>
                  <a:pt x="14005" y="5202"/>
                </a:lnTo>
                <a:arcTo wR="5333" hR="7267" stAng="-8646226" swAng="5396752"/>
                <a:lnTo>
                  <a:pt x="22456" y="3432"/>
                </a:lnTo>
                <a:arcTo wR="4365" hR="5945" stAng="-8748310" swAng="5983216"/>
                <a:lnTo>
                  <a:pt x="29833" y="2481"/>
                </a:lnTo>
                <a:arcTo wR="4857" hR="6595" stAng="-7859247" swAng="7034694"/>
                <a:lnTo>
                  <a:pt x="38318" y="5576"/>
                </a:lnTo>
                <a:arcTo wR="5333" hR="7273" stAng="-4722629" swAng="6541720"/>
                <a:lnTo>
                  <a:pt x="41818" y="15460"/>
                </a:lnTo>
                <a:arcTo wR="6775" hR="9220" stAng="-2776007" swAng="7816113"/>
                <a:lnTo>
                  <a:pt x="37404" y="30203"/>
                </a:lnTo>
                <a:arcTo wR="5785" hR="7867" stAng="37436" swAng="6841911"/>
                <a:lnTo>
                  <a:pt x="28556" y="36813"/>
                </a:lnTo>
                <a:arcTo wR="6752" hR="9215" stAng="1346980" swAng="6910786"/>
                <a:lnTo>
                  <a:pt x="16480" y="39264"/>
                </a:lnTo>
                <a:arcTo wR="7720" hR="10543" stAng="3974661" swAng="4542738"/>
                <a:lnTo>
                  <a:pt x="5804" y="35470"/>
                </a:lnTo>
                <a:arcTo wR="4360" hR="5918" stAng="5103633" swAng="8804007"/>
                <a:lnTo>
                  <a:pt x="2113" y="25548"/>
                </a:lnTo>
                <a:arcTo wR="4345" hR="5945" stAng="6790459" swAng="9150775"/>
                <a:close/>
              </a:path>
              <a:path fill="none" w="43200" h="43200">
                <a:moveTo>
                  <a:pt x="4693" y="26177"/>
                </a:moveTo>
                <a:lnTo>
                  <a:pt x="4693" y="26177"/>
                </a:lnTo>
                <a:arcTo wR="4345" hR="5945" stAng="5204745" swAng="1585714"/>
                <a:moveTo>
                  <a:pt x="6928" y="34899"/>
                </a:moveTo>
                <a:lnTo>
                  <a:pt x="6928" y="34899"/>
                </a:lnTo>
                <a:arcTo wR="4360" hR="5918" stAng="4416323" swAng="686679"/>
                <a:moveTo>
                  <a:pt x="16478" y="39090"/>
                </a:moveTo>
                <a:lnTo>
                  <a:pt x="16478" y="39090"/>
                </a:lnTo>
                <a:arcTo wR="6752" hR="9215" stAng="8257461" swAng="844950"/>
                <a:moveTo>
                  <a:pt x="28827" y="34751"/>
                </a:moveTo>
                <a:lnTo>
                  <a:pt x="28827" y="34751"/>
                </a:lnTo>
                <a:arcTo wR="6752" hR="9215" stAng="387139" swAng="959841"/>
                <a:moveTo>
                  <a:pt x="34129" y="22954"/>
                </a:moveTo>
                <a:lnTo>
                  <a:pt x="34129" y="22954"/>
                </a:lnTo>
                <a:arcTo wR="5785" hR="7867" stAng="-4217785" swAng="4255228"/>
                <a:moveTo>
                  <a:pt x="41798" y="15354"/>
                </a:moveTo>
                <a:lnTo>
                  <a:pt x="41798" y="15354"/>
                </a:lnTo>
                <a:arcTo wR="5333" hR="7273" stAng="1819091" swAng="1665385"/>
                <a:moveTo>
                  <a:pt x="38324" y="5426"/>
                </a:moveTo>
                <a:lnTo>
                  <a:pt x="38324" y="5426"/>
                </a:lnTo>
                <a:arcTo wR="4857" hR="6595" stAng="-824553" swAng="891799"/>
                <a:moveTo>
                  <a:pt x="29078" y="3952"/>
                </a:moveTo>
                <a:lnTo>
                  <a:pt x="29078" y="3952"/>
                </a:lnTo>
                <a:arcTo wR="4857" hR="6595" stAng="-8950828" swAng="1091979"/>
                <a:moveTo>
                  <a:pt x="22141" y="4720"/>
                </a:moveTo>
                <a:lnTo>
                  <a:pt x="22141" y="4720"/>
                </a:lnTo>
                <a:arcTo wR="4365" hR="5945" stAng="-9809519" swAng="1061209"/>
                <a:moveTo>
                  <a:pt x="14000" y="5192"/>
                </a:moveTo>
                <a:lnTo>
                  <a:pt x="14000" y="5192"/>
                </a:lnTo>
                <a:arcTo wR="6753" hR="9190" stAng="-4002280" swAng="739132"/>
                <a:moveTo>
                  <a:pt x="4127" y="15789"/>
                </a:moveTo>
                <a:lnTo>
                  <a:pt x="4127" y="15789"/>
                </a:lnTo>
                <a:arcTo wR="6753" hR="9190" stAng="9459493" swAng="711644"/>
              </a:path>
            </a:pathLst>
          </a:custGeom>
          <a:solidFill>
            <a:srgbClr val="00b0f0"/>
          </a:solidFill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7" name="Tekstvak 13"/>
          <p:cNvGrpSpPr/>
          <p:nvPr/>
        </p:nvGrpSpPr>
        <p:grpSpPr>
          <a:xfrm>
            <a:off x="2481120" y="3371760"/>
            <a:ext cx="2603520" cy="498600"/>
            <a:chOff x="2481120" y="3371760"/>
            <a:chExt cx="2603520" cy="498600"/>
          </a:xfrm>
        </p:grpSpPr>
        <p:pic>
          <p:nvPicPr>
            <p:cNvPr id="188" name="Tekstvak 13" descr=""/>
            <p:cNvPicPr/>
            <p:nvPr/>
          </p:nvPicPr>
          <p:blipFill>
            <a:blip r:embed="rId5"/>
            <a:stretch/>
          </p:blipFill>
          <p:spPr>
            <a:xfrm>
              <a:off x="2481120" y="3371760"/>
              <a:ext cx="2603520" cy="49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"/>
            <p:cNvSpPr/>
            <p:nvPr/>
          </p:nvSpPr>
          <p:spPr>
            <a:xfrm>
              <a:off x="2600280" y="3429000"/>
              <a:ext cx="2428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d6"/>
                  </a:solidFill>
                  <a:latin typeface="Arial"/>
                  <a:ea typeface="Tahoma"/>
                </a:rPr>
                <a:t>uitvoeringsteam</a:t>
              </a:r>
              <a:endParaRPr b="1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0" name=""/>
          <p:cNvSpPr txBox="1"/>
          <p:nvPr/>
        </p:nvSpPr>
        <p:spPr>
          <a:xfrm>
            <a:off x="2314080" y="3785760"/>
            <a:ext cx="2714760" cy="85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ilig gedra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1" name="PIJL-RECHTS 7"/>
          <p:cNvGrpSpPr/>
          <p:nvPr/>
        </p:nvGrpSpPr>
        <p:grpSpPr>
          <a:xfrm>
            <a:off x="3475080" y="1298520"/>
            <a:ext cx="291960" cy="457200"/>
            <a:chOff x="3475080" y="1298520"/>
            <a:chExt cx="291960" cy="457200"/>
          </a:xfrm>
        </p:grpSpPr>
        <p:pic>
          <p:nvPicPr>
            <p:cNvPr id="192" name="PIJL-RECHTS 7" descr=""/>
            <p:cNvPicPr/>
            <p:nvPr/>
          </p:nvPicPr>
          <p:blipFill>
            <a:blip r:embed="rId6"/>
            <a:stretch/>
          </p:blipFill>
          <p:spPr>
            <a:xfrm>
              <a:off x="3475080" y="1298520"/>
              <a:ext cx="29196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3" name=""/>
            <p:cNvSpPr/>
            <p:nvPr/>
          </p:nvSpPr>
          <p:spPr>
            <a:xfrm rot="6108000">
              <a:off x="3461400" y="1437120"/>
              <a:ext cx="362160" cy="13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286B0-3A37-4243-A53B-9BCF99704391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5" name="Picture 2" descr="C:\Documents and Settings\gerard\Local Settings\Temporary Internet Files\Content.IE5\4W83JHJS\MCj04339320000[1].png"/>
          <p:cNvPicPr/>
          <p:nvPr/>
        </p:nvPicPr>
        <p:blipFill>
          <a:blip r:embed="rId2"/>
          <a:stretch/>
        </p:blipFill>
        <p:spPr>
          <a:xfrm>
            <a:off x="5003640" y="642960"/>
            <a:ext cx="1714680" cy="171432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2" descr="C:\Documents and Settings\gerard\Local Settings\Temporary Internet Files\Content.IE5\4W83JHJS\MCj04339320000[1].png"/>
          <p:cNvPicPr/>
          <p:nvPr/>
        </p:nvPicPr>
        <p:blipFill>
          <a:blip r:embed="rId3"/>
          <a:stretch/>
        </p:blipFill>
        <p:spPr>
          <a:xfrm>
            <a:off x="1643040" y="1643040"/>
            <a:ext cx="1000080" cy="1428840"/>
          </a:xfrm>
          <a:prstGeom prst="rect">
            <a:avLst/>
          </a:prstGeom>
          <a:ln w="0">
            <a:noFill/>
          </a:ln>
        </p:spPr>
      </p:pic>
      <p:sp>
        <p:nvSpPr>
          <p:cNvPr id="197" name="Tekstvak 9"/>
          <p:cNvSpPr/>
          <p:nvPr/>
        </p:nvSpPr>
        <p:spPr>
          <a:xfrm>
            <a:off x="500040" y="285840"/>
            <a:ext cx="392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b800"/>
                </a:solidFill>
                <a:latin typeface="Arial"/>
              </a:rPr>
              <a:t>veilig gedrag…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8" name="Picture 2" descr="C:\Documents and Settings\gerard\Local Settings\Temporary Internet Files\Content.IE5\4W83JHJS\MCj04339320000[1].png"/>
          <p:cNvPicPr/>
          <p:nvPr/>
        </p:nvPicPr>
        <p:blipFill>
          <a:blip r:embed="rId4"/>
          <a:stretch/>
        </p:blipFill>
        <p:spPr>
          <a:xfrm rot="1263600">
            <a:off x="6075360" y="4231800"/>
            <a:ext cx="898560" cy="200052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2" descr="C:\Documents and Settings\gerard\Local Settings\Temporary Internet Files\Content.IE5\4W83JHJS\MCj04339320000[1].png"/>
          <p:cNvPicPr/>
          <p:nvPr/>
        </p:nvPicPr>
        <p:blipFill>
          <a:blip r:embed="rId5">
            <a:lum bright="-32000"/>
          </a:blip>
          <a:stretch/>
        </p:blipFill>
        <p:spPr>
          <a:xfrm>
            <a:off x="7429680" y="2500200"/>
            <a:ext cx="1099800" cy="142884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2" descr="C:\Documents and Settings\gerard\Local Settings\Temporary Internet Files\Content.IE5\4W83JHJS\MCj04339320000[1].png"/>
          <p:cNvPicPr/>
          <p:nvPr/>
        </p:nvPicPr>
        <p:blipFill>
          <a:blip r:embed="rId6"/>
          <a:stretch/>
        </p:blipFill>
        <p:spPr>
          <a:xfrm flipH="1" rot="20294400">
            <a:off x="1864800" y="4317840"/>
            <a:ext cx="1214640" cy="1428840"/>
          </a:xfrm>
          <a:prstGeom prst="rect">
            <a:avLst/>
          </a:prstGeom>
          <a:ln w="0">
            <a:noFill/>
          </a:ln>
        </p:spPr>
      </p:pic>
      <p:grpSp>
        <p:nvGrpSpPr>
          <p:cNvPr id="201" name="Ovale toelichting 13"/>
          <p:cNvGrpSpPr/>
          <p:nvPr/>
        </p:nvGrpSpPr>
        <p:grpSpPr>
          <a:xfrm>
            <a:off x="2998800" y="3608280"/>
            <a:ext cx="2060640" cy="1324080"/>
            <a:chOff x="2998800" y="3608280"/>
            <a:chExt cx="2060640" cy="1324080"/>
          </a:xfrm>
        </p:grpSpPr>
        <p:pic>
          <p:nvPicPr>
            <p:cNvPr id="202" name="Ovale toelichting 13" descr=""/>
            <p:cNvPicPr/>
            <p:nvPr/>
          </p:nvPicPr>
          <p:blipFill>
            <a:blip r:embed="rId7"/>
            <a:stretch/>
          </p:blipFill>
          <p:spPr>
            <a:xfrm>
              <a:off x="2998800" y="3608280"/>
              <a:ext cx="2060640" cy="132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"/>
            <p:cNvSpPr/>
            <p:nvPr/>
          </p:nvSpPr>
          <p:spPr>
            <a:xfrm>
              <a:off x="3659040" y="3821040"/>
              <a:ext cx="1114560" cy="85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4" name="Ovale toelichting 14"/>
          <p:cNvGrpSpPr/>
          <p:nvPr/>
        </p:nvGrpSpPr>
        <p:grpSpPr>
          <a:xfrm>
            <a:off x="2335320" y="2109960"/>
            <a:ext cx="2077920" cy="1176120"/>
            <a:chOff x="2335320" y="2109960"/>
            <a:chExt cx="2077920" cy="1176120"/>
          </a:xfrm>
        </p:grpSpPr>
        <p:pic>
          <p:nvPicPr>
            <p:cNvPr id="205" name="Ovale toelichting 14" descr=""/>
            <p:cNvPicPr/>
            <p:nvPr/>
          </p:nvPicPr>
          <p:blipFill>
            <a:blip r:embed="rId8"/>
            <a:stretch/>
          </p:blipFill>
          <p:spPr>
            <a:xfrm>
              <a:off x="2335320" y="2109960"/>
              <a:ext cx="2077920" cy="117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"/>
            <p:cNvSpPr/>
            <p:nvPr/>
          </p:nvSpPr>
          <p:spPr>
            <a:xfrm>
              <a:off x="3260880" y="2300400"/>
              <a:ext cx="911160" cy="75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7" name="Ovale toelichting 15"/>
          <p:cNvGrpSpPr/>
          <p:nvPr/>
        </p:nvGrpSpPr>
        <p:grpSpPr>
          <a:xfrm>
            <a:off x="5151600" y="3078000"/>
            <a:ext cx="2535120" cy="1208160"/>
            <a:chOff x="5151600" y="3078000"/>
            <a:chExt cx="2535120" cy="1208160"/>
          </a:xfrm>
        </p:grpSpPr>
        <p:pic>
          <p:nvPicPr>
            <p:cNvPr id="208" name="Ovale toelichting 15" descr=""/>
            <p:cNvPicPr/>
            <p:nvPr/>
          </p:nvPicPr>
          <p:blipFill>
            <a:blip r:embed="rId9"/>
            <a:stretch/>
          </p:blipFill>
          <p:spPr>
            <a:xfrm>
              <a:off x="5151600" y="3078000"/>
              <a:ext cx="2535120" cy="120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5403960" y="3422520"/>
              <a:ext cx="911160" cy="65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0" name="Ovale toelichting 16"/>
          <p:cNvGrpSpPr/>
          <p:nvPr/>
        </p:nvGrpSpPr>
        <p:grpSpPr>
          <a:xfrm>
            <a:off x="4943520" y="4322880"/>
            <a:ext cx="1469880" cy="725400"/>
            <a:chOff x="4943520" y="4322880"/>
            <a:chExt cx="1469880" cy="725400"/>
          </a:xfrm>
        </p:grpSpPr>
        <p:pic>
          <p:nvPicPr>
            <p:cNvPr id="211" name="Ovale toelichting 16" descr=""/>
            <p:cNvPicPr/>
            <p:nvPr/>
          </p:nvPicPr>
          <p:blipFill>
            <a:blip r:embed="rId10"/>
            <a:stretch/>
          </p:blipFill>
          <p:spPr>
            <a:xfrm>
              <a:off x="4943520" y="4322880"/>
              <a:ext cx="1469880" cy="72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2" name=""/>
            <p:cNvSpPr/>
            <p:nvPr/>
          </p:nvSpPr>
          <p:spPr>
            <a:xfrm>
              <a:off x="5129280" y="4441680"/>
              <a:ext cx="603360" cy="40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3" name="Ovale toelichting 17"/>
          <p:cNvGrpSpPr/>
          <p:nvPr/>
        </p:nvGrpSpPr>
        <p:grpSpPr>
          <a:xfrm>
            <a:off x="4511520" y="1401840"/>
            <a:ext cx="1401840" cy="1743120"/>
            <a:chOff x="4511520" y="1401840"/>
            <a:chExt cx="1401840" cy="1743120"/>
          </a:xfrm>
        </p:grpSpPr>
        <p:pic>
          <p:nvPicPr>
            <p:cNvPr id="214" name="Ovale toelichting 17" descr=""/>
            <p:cNvPicPr/>
            <p:nvPr/>
          </p:nvPicPr>
          <p:blipFill>
            <a:blip r:embed="rId11"/>
            <a:stretch/>
          </p:blipFill>
          <p:spPr>
            <a:xfrm>
              <a:off x="4511520" y="1401840"/>
              <a:ext cx="1401840" cy="174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5" name=""/>
            <p:cNvSpPr/>
            <p:nvPr/>
          </p:nvSpPr>
          <p:spPr>
            <a:xfrm>
              <a:off x="4761000" y="2279520"/>
              <a:ext cx="911160" cy="65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6" name="Tekstvak 18"/>
          <p:cNvSpPr/>
          <p:nvPr/>
        </p:nvSpPr>
        <p:spPr>
          <a:xfrm>
            <a:off x="5003640" y="4357800"/>
            <a:ext cx="107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ff"/>
                </a:solidFill>
                <a:latin typeface="Arial Narrow"/>
              </a:rPr>
              <a:t>oh!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Tekstvak 19"/>
          <p:cNvSpPr/>
          <p:nvPr/>
        </p:nvSpPr>
        <p:spPr>
          <a:xfrm>
            <a:off x="3214800" y="2286000"/>
            <a:ext cx="1071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k volg precies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e regels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Tekstvak 21"/>
          <p:cNvSpPr/>
          <p:nvPr/>
        </p:nvSpPr>
        <p:spPr>
          <a:xfrm>
            <a:off x="3571920" y="3786120"/>
            <a:ext cx="160956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d0dff"/>
                </a:solidFill>
                <a:latin typeface="Arial"/>
              </a:rPr>
              <a:t>stumperds!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d0dff"/>
                </a:solidFill>
                <a:latin typeface="Arial"/>
              </a:rPr>
              <a:t>gewoon 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d0dff"/>
                </a:solidFill>
                <a:latin typeface="Arial"/>
              </a:rPr>
              <a:t>doorpakken !!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Tekstvak 22"/>
          <p:cNvSpPr/>
          <p:nvPr/>
        </p:nvSpPr>
        <p:spPr>
          <a:xfrm>
            <a:off x="4714920" y="2214720"/>
            <a:ext cx="1071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je moet hier goed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pletten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Tekstvak 23"/>
          <p:cNvSpPr/>
          <p:nvPr/>
        </p:nvSpPr>
        <p:spPr>
          <a:xfrm>
            <a:off x="5286240" y="3357720"/>
            <a:ext cx="1343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d0dff"/>
                </a:solidFill>
                <a:latin typeface="Arial"/>
              </a:rPr>
              <a:t>  </a:t>
            </a:r>
            <a:r>
              <a:rPr b="0" lang="nl-NL" sz="1600" spc="-1" strike="noStrike">
                <a:solidFill>
                  <a:srgbClr val="0d0dff"/>
                </a:solidFill>
                <a:latin typeface="Arial"/>
              </a:rPr>
              <a:t>ik heb m’n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d0dff"/>
                </a:solidFill>
                <a:latin typeface="Arial"/>
              </a:rPr>
              <a:t>eigen regels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12441-C4BF-4616-843D-16CDBBEEABE0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Wolk 7"/>
          <p:cNvSpPr/>
          <p:nvPr/>
        </p:nvSpPr>
        <p:spPr>
          <a:xfrm>
            <a:off x="1214280" y="749160"/>
            <a:ext cx="6715440" cy="5359680"/>
          </a:xfrm>
          <a:custGeom>
            <a:avLst/>
            <a:gdLst>
              <a:gd name="textAreaLeft" fmla="*/ 925560 w 6715440"/>
              <a:gd name="textAreaRight" fmla="*/ 5312520 w 6715440"/>
              <a:gd name="textAreaTop" fmla="*/ 809280 h 5359680"/>
              <a:gd name="textAreaBottom" fmla="*/ 4302000 h 5359680"/>
            </a:gdLst>
            <a:ahLst/>
            <a:rect l="textAreaLeft" t="textAreaTop" r="textAreaRight" b="textAreaBottom"/>
            <a:pathLst>
              <a:path w="43200" h="43200">
                <a:moveTo>
                  <a:pt x="3900" y="14370"/>
                </a:moveTo>
                <a:lnTo>
                  <a:pt x="3900" y="14370"/>
                </a:lnTo>
                <a:arcTo wR="6753" hR="9190" stAng="10170548" swAng="7427171"/>
                <a:lnTo>
                  <a:pt x="14005" y="5202"/>
                </a:lnTo>
                <a:arcTo wR="5333" hR="7267" stAng="-8646226" swAng="5396752"/>
                <a:lnTo>
                  <a:pt x="22456" y="3432"/>
                </a:lnTo>
                <a:arcTo wR="4365" hR="5945" stAng="-8748310" swAng="5983216"/>
                <a:lnTo>
                  <a:pt x="29833" y="2481"/>
                </a:lnTo>
                <a:arcTo wR="4857" hR="6595" stAng="-7859247" swAng="7034694"/>
                <a:lnTo>
                  <a:pt x="38318" y="5576"/>
                </a:lnTo>
                <a:arcTo wR="5333" hR="7273" stAng="-4722629" swAng="6541720"/>
                <a:lnTo>
                  <a:pt x="41818" y="15460"/>
                </a:lnTo>
                <a:arcTo wR="6775" hR="9220" stAng="-2776007" swAng="7816113"/>
                <a:lnTo>
                  <a:pt x="37404" y="30203"/>
                </a:lnTo>
                <a:arcTo wR="5785" hR="7867" stAng="37436" swAng="6841911"/>
                <a:lnTo>
                  <a:pt x="28556" y="36813"/>
                </a:lnTo>
                <a:arcTo wR="6752" hR="9215" stAng="1346980" swAng="6910786"/>
                <a:lnTo>
                  <a:pt x="16480" y="39264"/>
                </a:lnTo>
                <a:arcTo wR="7720" hR="10543" stAng="3974661" swAng="4542738"/>
                <a:lnTo>
                  <a:pt x="5804" y="35470"/>
                </a:lnTo>
                <a:arcTo wR="4360" hR="5918" stAng="5103633" swAng="8804007"/>
                <a:lnTo>
                  <a:pt x="2113" y="25548"/>
                </a:lnTo>
                <a:arcTo wR="4345" hR="5945" stAng="6790459" swAng="9150775"/>
                <a:close/>
              </a:path>
              <a:path fill="none" w="43200" h="43200">
                <a:moveTo>
                  <a:pt x="4693" y="26177"/>
                </a:moveTo>
                <a:lnTo>
                  <a:pt x="4693" y="26177"/>
                </a:lnTo>
                <a:arcTo wR="4345" hR="5945" stAng="5204745" swAng="1585714"/>
                <a:moveTo>
                  <a:pt x="6928" y="34899"/>
                </a:moveTo>
                <a:lnTo>
                  <a:pt x="6928" y="34899"/>
                </a:lnTo>
                <a:arcTo wR="4360" hR="5918" stAng="4416323" swAng="686679"/>
                <a:moveTo>
                  <a:pt x="16478" y="39090"/>
                </a:moveTo>
                <a:lnTo>
                  <a:pt x="16478" y="39090"/>
                </a:lnTo>
                <a:arcTo wR="6752" hR="9215" stAng="8257461" swAng="844950"/>
                <a:moveTo>
                  <a:pt x="28827" y="34751"/>
                </a:moveTo>
                <a:lnTo>
                  <a:pt x="28827" y="34751"/>
                </a:lnTo>
                <a:arcTo wR="6752" hR="9215" stAng="387139" swAng="959841"/>
                <a:moveTo>
                  <a:pt x="34129" y="22954"/>
                </a:moveTo>
                <a:lnTo>
                  <a:pt x="34129" y="22954"/>
                </a:lnTo>
                <a:arcTo wR="5785" hR="7867" stAng="-4217785" swAng="4255228"/>
                <a:moveTo>
                  <a:pt x="41798" y="15354"/>
                </a:moveTo>
                <a:lnTo>
                  <a:pt x="41798" y="15354"/>
                </a:lnTo>
                <a:arcTo wR="5333" hR="7273" stAng="1819091" swAng="1665385"/>
                <a:moveTo>
                  <a:pt x="38324" y="5426"/>
                </a:moveTo>
                <a:lnTo>
                  <a:pt x="38324" y="5426"/>
                </a:lnTo>
                <a:arcTo wR="4857" hR="6595" stAng="-824553" swAng="891799"/>
                <a:moveTo>
                  <a:pt x="29078" y="3952"/>
                </a:moveTo>
                <a:lnTo>
                  <a:pt x="29078" y="3952"/>
                </a:lnTo>
                <a:arcTo wR="4857" hR="6595" stAng="-8950828" swAng="1091979"/>
                <a:moveTo>
                  <a:pt x="22141" y="4720"/>
                </a:moveTo>
                <a:lnTo>
                  <a:pt x="22141" y="4720"/>
                </a:lnTo>
                <a:arcTo wR="4365" hR="5945" stAng="-9809519" swAng="1061209"/>
                <a:moveTo>
                  <a:pt x="14000" y="5192"/>
                </a:moveTo>
                <a:lnTo>
                  <a:pt x="14000" y="5192"/>
                </a:lnTo>
                <a:arcTo wR="6753" hR="9190" stAng="-4002280" swAng="739132"/>
                <a:moveTo>
                  <a:pt x="4127" y="15789"/>
                </a:moveTo>
                <a:lnTo>
                  <a:pt x="4127" y="15789"/>
                </a:lnTo>
                <a:arcTo wR="6753" hR="9190" stAng="9459493" swAng="711644"/>
              </a:path>
            </a:pathLst>
          </a:custGeom>
          <a:solidFill>
            <a:srgbClr val="00b0f0"/>
          </a:solidFill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3" name="Picture 2" descr="C:\Documents and Settings\gerard\Local Settings\Temporary Internet Files\Content.IE5\4W83JHJS\MCj04339320000[1].png"/>
          <p:cNvPicPr/>
          <p:nvPr/>
        </p:nvPicPr>
        <p:blipFill>
          <a:blip r:embed="rId2"/>
          <a:stretch/>
        </p:blipFill>
        <p:spPr>
          <a:xfrm flipH="1" rot="587400">
            <a:off x="3842640" y="4295880"/>
            <a:ext cx="1071720" cy="142848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2" descr="C:\Documents and Settings\gerard\Local Settings\Temporary Internet Files\Content.IE5\4W83JHJS\MCj04339320000[1].png"/>
          <p:cNvPicPr/>
          <p:nvPr/>
        </p:nvPicPr>
        <p:blipFill>
          <a:blip r:embed="rId3"/>
          <a:stretch/>
        </p:blipFill>
        <p:spPr>
          <a:xfrm>
            <a:off x="2428920" y="4286160"/>
            <a:ext cx="1214280" cy="142884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2" descr="C:\Documents and Settings\gerard\Local Settings\Temporary Internet Files\Content.IE5\4W83JHJS\MCj04339320000[1].png"/>
          <p:cNvPicPr/>
          <p:nvPr/>
        </p:nvPicPr>
        <p:blipFill>
          <a:blip r:embed="rId4">
            <a:lum bright="12000"/>
          </a:blip>
          <a:stretch/>
        </p:blipFill>
        <p:spPr>
          <a:xfrm>
            <a:off x="5029200" y="4000680"/>
            <a:ext cx="78588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2" descr="C:\Documents and Settings\gerard\Local Settings\Temporary Internet Files\Content.IE5\4W83JHJS\MCj04339320000[1].png"/>
          <p:cNvPicPr/>
          <p:nvPr/>
        </p:nvPicPr>
        <p:blipFill>
          <a:blip r:embed="rId5"/>
          <a:stretch/>
        </p:blipFill>
        <p:spPr>
          <a:xfrm rot="382800">
            <a:off x="6071760" y="3429000"/>
            <a:ext cx="642960" cy="200016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2" descr="C:\Documents and Settings\gerard\Local Settings\Temporary Internet Files\Content.IE5\4W83JHJS\MCj04339320000[1].png"/>
          <p:cNvPicPr/>
          <p:nvPr/>
        </p:nvPicPr>
        <p:blipFill>
          <a:blip r:embed="rId6"/>
          <a:stretch/>
        </p:blipFill>
        <p:spPr>
          <a:xfrm rot="21005400">
            <a:off x="3286080" y="3214440"/>
            <a:ext cx="785880" cy="142848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2" descr="C:\Documents and Settings\gerard\Local Settings\Temporary Internet Files\Content.IE5\4W83JHJS\MCj04339320000[1].png"/>
          <p:cNvPicPr/>
          <p:nvPr/>
        </p:nvPicPr>
        <p:blipFill>
          <a:blip r:embed="rId7"/>
          <a:stretch/>
        </p:blipFill>
        <p:spPr>
          <a:xfrm>
            <a:off x="1643040" y="3643200"/>
            <a:ext cx="1000080" cy="142884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2" descr="C:\Documents and Settings\gerard\Local Settings\Temporary Internet Files\Content.IE5\4W83JHJS\MCj04339320000[1].png"/>
          <p:cNvPicPr/>
          <p:nvPr/>
        </p:nvPicPr>
        <p:blipFill>
          <a:blip r:embed="rId8">
            <a:lum bright="-32000"/>
          </a:blip>
          <a:stretch/>
        </p:blipFill>
        <p:spPr>
          <a:xfrm>
            <a:off x="5357880" y="2714760"/>
            <a:ext cx="1100160" cy="142848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2" descr="C:\Documents and Settings\gerard\Local Settings\Temporary Internet Files\Content.IE5\4W83JHJS\MCj04339320000[1].png"/>
          <p:cNvPicPr/>
          <p:nvPr/>
        </p:nvPicPr>
        <p:blipFill>
          <a:blip r:embed="rId9"/>
          <a:stretch/>
        </p:blipFill>
        <p:spPr>
          <a:xfrm>
            <a:off x="6572160" y="2714760"/>
            <a:ext cx="1071720" cy="142848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2" descr="C:\Documents and Settings\gerard\Local Settings\Temporary Internet Files\Content.IE5\SH0PLZ11\MPj02160520000[1].jpg"/>
          <p:cNvPicPr/>
          <p:nvPr/>
        </p:nvPicPr>
        <p:blipFill>
          <a:blip r:embed="rId10"/>
          <a:stretch/>
        </p:blipFill>
        <p:spPr>
          <a:xfrm>
            <a:off x="3852720" y="1494000"/>
            <a:ext cx="1621080" cy="215712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2" descr="C:\Documents and Settings\gerard\Local Settings\Temporary Internet Files\Content.IE5\4W83JHJS\MCj04339320000[1].png"/>
          <p:cNvPicPr/>
          <p:nvPr/>
        </p:nvPicPr>
        <p:blipFill>
          <a:blip r:embed="rId11"/>
          <a:stretch/>
        </p:blipFill>
        <p:spPr>
          <a:xfrm>
            <a:off x="4286160" y="3000240"/>
            <a:ext cx="1042920" cy="1897200"/>
          </a:xfrm>
          <a:prstGeom prst="rect">
            <a:avLst/>
          </a:prstGeom>
          <a:ln w="0">
            <a:noFill/>
          </a:ln>
        </p:spPr>
      </p:pic>
      <p:sp>
        <p:nvSpPr>
          <p:cNvPr id="233" name="Ovale toelichting 18"/>
          <p:cNvSpPr/>
          <p:nvPr/>
        </p:nvSpPr>
        <p:spPr>
          <a:xfrm>
            <a:off x="5029200" y="1071720"/>
            <a:ext cx="1971720" cy="1214280"/>
          </a:xfrm>
          <a:prstGeom prst="wedgeEllipseCallout">
            <a:avLst>
              <a:gd name="adj1" fmla="val -72171"/>
              <a:gd name="adj2" fmla="val 64851"/>
            </a:avLst>
          </a:prstGeom>
          <a:solidFill>
            <a:srgbClr val="00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Ovale toelichting 19"/>
          <p:cNvSpPr/>
          <p:nvPr/>
        </p:nvSpPr>
        <p:spPr>
          <a:xfrm flipH="1">
            <a:off x="2642400" y="1428840"/>
            <a:ext cx="1538280" cy="642960"/>
          </a:xfrm>
          <a:prstGeom prst="wedgeEllipseCallout">
            <a:avLst>
              <a:gd name="adj1" fmla="val -72171"/>
              <a:gd name="adj2" fmla="val 64851"/>
            </a:avLst>
          </a:prstGeom>
          <a:solidFill>
            <a:srgbClr val="00b0f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ahoma"/>
              </a:rPr>
              <a:t>wij…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5" name="Picture 2" descr=""/>
          <p:cNvPicPr/>
          <p:nvPr/>
        </p:nvPicPr>
        <p:blipFill>
          <a:blip r:embed="rId12"/>
          <a:stretch/>
        </p:blipFill>
        <p:spPr>
          <a:xfrm rot="3629400">
            <a:off x="3199320" y="4186800"/>
            <a:ext cx="970200" cy="29232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2" descr=""/>
          <p:cNvPicPr/>
          <p:nvPr/>
        </p:nvPicPr>
        <p:blipFill>
          <a:blip r:embed="rId13"/>
          <a:stretch/>
        </p:blipFill>
        <p:spPr>
          <a:xfrm flipH="1" rot="14430600">
            <a:off x="2144520" y="4358880"/>
            <a:ext cx="650880" cy="54648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2" descr=""/>
          <p:cNvPicPr/>
          <p:nvPr/>
        </p:nvPicPr>
        <p:blipFill>
          <a:blip r:embed="rId14"/>
          <a:stretch/>
        </p:blipFill>
        <p:spPr>
          <a:xfrm flipH="1" rot="17535600">
            <a:off x="2980440" y="5059440"/>
            <a:ext cx="649080" cy="54612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2" descr=""/>
          <p:cNvPicPr/>
          <p:nvPr/>
        </p:nvPicPr>
        <p:blipFill>
          <a:blip r:embed="rId15"/>
          <a:stretch/>
        </p:blipFill>
        <p:spPr>
          <a:xfrm flipH="1" rot="15644400">
            <a:off x="4430520" y="4859280"/>
            <a:ext cx="650880" cy="54612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2" descr=""/>
          <p:cNvPicPr/>
          <p:nvPr/>
        </p:nvPicPr>
        <p:blipFill>
          <a:blip r:embed="rId16">
            <a:lum bright="-4000"/>
          </a:blip>
          <a:stretch/>
        </p:blipFill>
        <p:spPr>
          <a:xfrm flipH="1" rot="15643800">
            <a:off x="4529880" y="3783600"/>
            <a:ext cx="1036800" cy="86976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2" descr=""/>
          <p:cNvPicPr/>
          <p:nvPr/>
        </p:nvPicPr>
        <p:blipFill>
          <a:blip r:embed="rId17">
            <a:lum contrast="78000"/>
          </a:blip>
          <a:stretch/>
        </p:blipFill>
        <p:spPr>
          <a:xfrm flipH="1" rot="7727400">
            <a:off x="5073120" y="4789080"/>
            <a:ext cx="419040" cy="41292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2" descr=""/>
          <p:cNvPicPr/>
          <p:nvPr/>
        </p:nvPicPr>
        <p:blipFill>
          <a:blip r:embed="rId18"/>
          <a:stretch/>
        </p:blipFill>
        <p:spPr>
          <a:xfrm flipH="1" rot="11916000">
            <a:off x="6716880" y="3573000"/>
            <a:ext cx="649080" cy="54612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2" descr=""/>
          <p:cNvPicPr/>
          <p:nvPr/>
        </p:nvPicPr>
        <p:blipFill>
          <a:blip r:embed="rId19">
            <a:lum contrast="74000"/>
          </a:blip>
          <a:stretch/>
        </p:blipFill>
        <p:spPr>
          <a:xfrm flipH="1" rot="11916600">
            <a:off x="5927400" y="4446360"/>
            <a:ext cx="651240" cy="54612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2" descr=""/>
          <p:cNvPicPr/>
          <p:nvPr/>
        </p:nvPicPr>
        <p:blipFill>
          <a:blip r:embed="rId20"/>
          <a:stretch/>
        </p:blipFill>
        <p:spPr>
          <a:xfrm>
            <a:off x="5492880" y="3419640"/>
            <a:ext cx="768240" cy="628560"/>
          </a:xfrm>
          <a:prstGeom prst="rect">
            <a:avLst/>
          </a:prstGeom>
          <a:ln w="0">
            <a:noFill/>
          </a:ln>
        </p:spPr>
      </p:pic>
      <p:sp>
        <p:nvSpPr>
          <p:cNvPr id="244" name="Tekstvak 28"/>
          <p:cNvSpPr/>
          <p:nvPr/>
        </p:nvSpPr>
        <p:spPr>
          <a:xfrm>
            <a:off x="5562720" y="1355760"/>
            <a:ext cx="1500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d6"/>
                </a:solidFill>
                <a:latin typeface="Arial"/>
              </a:rPr>
              <a:t>ons bedrijf…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Tekstvak 29"/>
          <p:cNvSpPr/>
          <p:nvPr/>
        </p:nvSpPr>
        <p:spPr>
          <a:xfrm>
            <a:off x="571680" y="214200"/>
            <a:ext cx="621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b800"/>
                </a:solidFill>
                <a:latin typeface="Arial"/>
                <a:ea typeface="Tahoma"/>
              </a:rPr>
              <a:t>sleutelrol leidinggevende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BF9FB-DF54-409E-BE25-3371FAD44665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Wolk 7"/>
          <p:cNvSpPr/>
          <p:nvPr/>
        </p:nvSpPr>
        <p:spPr>
          <a:xfrm>
            <a:off x="1214280" y="749160"/>
            <a:ext cx="6715440" cy="5359680"/>
          </a:xfrm>
          <a:custGeom>
            <a:avLst/>
            <a:gdLst>
              <a:gd name="textAreaLeft" fmla="*/ 925560 w 6715440"/>
              <a:gd name="textAreaRight" fmla="*/ 5312520 w 6715440"/>
              <a:gd name="textAreaTop" fmla="*/ 809280 h 5359680"/>
              <a:gd name="textAreaBottom" fmla="*/ 4302000 h 5359680"/>
            </a:gdLst>
            <a:ahLst/>
            <a:rect l="textAreaLeft" t="textAreaTop" r="textAreaRight" b="textAreaBottom"/>
            <a:pathLst>
              <a:path w="43200" h="43200">
                <a:moveTo>
                  <a:pt x="3900" y="14370"/>
                </a:moveTo>
                <a:lnTo>
                  <a:pt x="3900" y="14370"/>
                </a:lnTo>
                <a:arcTo wR="6753" hR="9190" stAng="10170548" swAng="7427171"/>
                <a:lnTo>
                  <a:pt x="14005" y="5202"/>
                </a:lnTo>
                <a:arcTo wR="5333" hR="7267" stAng="-8646226" swAng="5396752"/>
                <a:lnTo>
                  <a:pt x="22456" y="3432"/>
                </a:lnTo>
                <a:arcTo wR="4365" hR="5945" stAng="-8748310" swAng="5983216"/>
                <a:lnTo>
                  <a:pt x="29833" y="2481"/>
                </a:lnTo>
                <a:arcTo wR="4857" hR="6595" stAng="-7859247" swAng="7034694"/>
                <a:lnTo>
                  <a:pt x="38318" y="5576"/>
                </a:lnTo>
                <a:arcTo wR="5333" hR="7273" stAng="-4722629" swAng="6541720"/>
                <a:lnTo>
                  <a:pt x="41818" y="15460"/>
                </a:lnTo>
                <a:arcTo wR="6775" hR="9220" stAng="-2776007" swAng="7816113"/>
                <a:lnTo>
                  <a:pt x="37404" y="30203"/>
                </a:lnTo>
                <a:arcTo wR="5785" hR="7867" stAng="37436" swAng="6841911"/>
                <a:lnTo>
                  <a:pt x="28556" y="36813"/>
                </a:lnTo>
                <a:arcTo wR="6752" hR="9215" stAng="1346980" swAng="6910786"/>
                <a:lnTo>
                  <a:pt x="16480" y="39264"/>
                </a:lnTo>
                <a:arcTo wR="7720" hR="10543" stAng="3974661" swAng="4542738"/>
                <a:lnTo>
                  <a:pt x="5804" y="35470"/>
                </a:lnTo>
                <a:arcTo wR="4360" hR="5918" stAng="5103633" swAng="8804007"/>
                <a:lnTo>
                  <a:pt x="2113" y="25548"/>
                </a:lnTo>
                <a:arcTo wR="4345" hR="5945" stAng="6790459" swAng="9150775"/>
                <a:close/>
              </a:path>
              <a:path fill="none" w="43200" h="43200">
                <a:moveTo>
                  <a:pt x="4693" y="26177"/>
                </a:moveTo>
                <a:lnTo>
                  <a:pt x="4693" y="26177"/>
                </a:lnTo>
                <a:arcTo wR="4345" hR="5945" stAng="5204745" swAng="1585714"/>
                <a:moveTo>
                  <a:pt x="6928" y="34899"/>
                </a:moveTo>
                <a:lnTo>
                  <a:pt x="6928" y="34899"/>
                </a:lnTo>
                <a:arcTo wR="4360" hR="5918" stAng="4416323" swAng="686679"/>
                <a:moveTo>
                  <a:pt x="16478" y="39090"/>
                </a:moveTo>
                <a:lnTo>
                  <a:pt x="16478" y="39090"/>
                </a:lnTo>
                <a:arcTo wR="6752" hR="9215" stAng="8257461" swAng="844950"/>
                <a:moveTo>
                  <a:pt x="28827" y="34751"/>
                </a:moveTo>
                <a:lnTo>
                  <a:pt x="28827" y="34751"/>
                </a:lnTo>
                <a:arcTo wR="6752" hR="9215" stAng="387139" swAng="959841"/>
                <a:moveTo>
                  <a:pt x="34129" y="22954"/>
                </a:moveTo>
                <a:lnTo>
                  <a:pt x="34129" y="22954"/>
                </a:lnTo>
                <a:arcTo wR="5785" hR="7867" stAng="-4217785" swAng="4255228"/>
                <a:moveTo>
                  <a:pt x="41798" y="15354"/>
                </a:moveTo>
                <a:lnTo>
                  <a:pt x="41798" y="15354"/>
                </a:lnTo>
                <a:arcTo wR="5333" hR="7273" stAng="1819091" swAng="1665385"/>
                <a:moveTo>
                  <a:pt x="38324" y="5426"/>
                </a:moveTo>
                <a:lnTo>
                  <a:pt x="38324" y="5426"/>
                </a:lnTo>
                <a:arcTo wR="4857" hR="6595" stAng="-824553" swAng="891799"/>
                <a:moveTo>
                  <a:pt x="29078" y="3952"/>
                </a:moveTo>
                <a:lnTo>
                  <a:pt x="29078" y="3952"/>
                </a:lnTo>
                <a:arcTo wR="4857" hR="6595" stAng="-8950828" swAng="1091979"/>
                <a:moveTo>
                  <a:pt x="22141" y="4720"/>
                </a:moveTo>
                <a:lnTo>
                  <a:pt x="22141" y="4720"/>
                </a:lnTo>
                <a:arcTo wR="4365" hR="5945" stAng="-9809519" swAng="1061209"/>
                <a:moveTo>
                  <a:pt x="14000" y="5192"/>
                </a:moveTo>
                <a:lnTo>
                  <a:pt x="14000" y="5192"/>
                </a:lnTo>
                <a:arcTo wR="6753" hR="9190" stAng="-4002280" swAng="739132"/>
                <a:moveTo>
                  <a:pt x="4127" y="15789"/>
                </a:moveTo>
                <a:lnTo>
                  <a:pt x="4127" y="15789"/>
                </a:lnTo>
                <a:arcTo wR="6753" hR="9190" stAng="9459493" swAng="711644"/>
              </a:path>
            </a:pathLst>
          </a:custGeom>
          <a:solidFill>
            <a:srgbClr val="00b0f0"/>
          </a:solidFill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8" name="Picture 2" descr="C:\Documents and Settings\gerard\Local Settings\Temporary Internet Files\Content.IE5\4W83JHJS\MCj04339320000[1].png"/>
          <p:cNvPicPr/>
          <p:nvPr/>
        </p:nvPicPr>
        <p:blipFill>
          <a:blip r:embed="rId2"/>
          <a:stretch/>
        </p:blipFill>
        <p:spPr>
          <a:xfrm>
            <a:off x="3724200" y="4206960"/>
            <a:ext cx="1311480" cy="160344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2" descr="C:\Documents and Settings\gerard\Local Settings\Temporary Internet Files\Content.IE5\4W83JHJS\MCj04339320000[1].png"/>
          <p:cNvPicPr/>
          <p:nvPr/>
        </p:nvPicPr>
        <p:blipFill>
          <a:blip r:embed="rId3"/>
          <a:stretch/>
        </p:blipFill>
        <p:spPr>
          <a:xfrm>
            <a:off x="2419200" y="4280040"/>
            <a:ext cx="1231920" cy="144432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2" descr="C:\Documents and Settings\gerard\Local Settings\Temporary Internet Files\Content.IE5\4W83JHJS\MCj04339320000[1].png"/>
          <p:cNvPicPr/>
          <p:nvPr/>
        </p:nvPicPr>
        <p:blipFill>
          <a:blip r:embed="rId4"/>
          <a:stretch/>
        </p:blipFill>
        <p:spPr>
          <a:xfrm>
            <a:off x="5022720" y="3992400"/>
            <a:ext cx="798480" cy="115920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2" descr="C:\Documents and Settings\gerard\Local Settings\Temporary Internet Files\Content.IE5\4W83JHJS\MCj04339320000[1].png"/>
          <p:cNvPicPr/>
          <p:nvPr/>
        </p:nvPicPr>
        <p:blipFill>
          <a:blip r:embed="rId5"/>
          <a:stretch/>
        </p:blipFill>
        <p:spPr>
          <a:xfrm>
            <a:off x="5956200" y="3395520"/>
            <a:ext cx="871560" cy="206712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2" descr="C:\Documents and Settings\gerard\Local Settings\Temporary Internet Files\Content.IE5\4W83JHJS\MCj04339320000[1].png"/>
          <p:cNvPicPr/>
          <p:nvPr/>
        </p:nvPicPr>
        <p:blipFill>
          <a:blip r:embed="rId6"/>
          <a:stretch/>
        </p:blipFill>
        <p:spPr>
          <a:xfrm>
            <a:off x="3164040" y="3151080"/>
            <a:ext cx="1029960" cy="155412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2" descr="C:\Documents and Settings\gerard\Local Settings\Temporary Internet Files\Content.IE5\4W83JHJS\MCj04339320000[1].png"/>
          <p:cNvPicPr/>
          <p:nvPr/>
        </p:nvPicPr>
        <p:blipFill>
          <a:blip r:embed="rId7"/>
          <a:stretch/>
        </p:blipFill>
        <p:spPr>
          <a:xfrm>
            <a:off x="1639800" y="3638520"/>
            <a:ext cx="1011240" cy="144000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2" descr="C:\Documents and Settings\gerard\Local Settings\Temporary Internet Files\Content.IE5\4W83JHJS\MCj04339320000[1].png"/>
          <p:cNvPicPr/>
          <p:nvPr/>
        </p:nvPicPr>
        <p:blipFill>
          <a:blip r:embed="rId8"/>
          <a:stretch/>
        </p:blipFill>
        <p:spPr>
          <a:xfrm>
            <a:off x="5353200" y="2706840"/>
            <a:ext cx="1108080" cy="144432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2" descr="C:\Documents and Settings\gerard\Local Settings\Temporary Internet Files\Content.IE5\4W83JHJS\MCj04339320000[1].png"/>
          <p:cNvPicPr/>
          <p:nvPr/>
        </p:nvPicPr>
        <p:blipFill>
          <a:blip r:embed="rId9"/>
          <a:stretch/>
        </p:blipFill>
        <p:spPr>
          <a:xfrm>
            <a:off x="6566040" y="2706840"/>
            <a:ext cx="1083960" cy="144432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2" descr="C:\Documents and Settings\gerard\Local Settings\Temporary Internet Files\Content.IE5\SH0PLZ11\MPj02160520000[1].jpg"/>
          <p:cNvPicPr/>
          <p:nvPr/>
        </p:nvPicPr>
        <p:blipFill>
          <a:blip r:embed="rId10"/>
          <a:stretch/>
        </p:blipFill>
        <p:spPr>
          <a:xfrm>
            <a:off x="3852720" y="1494000"/>
            <a:ext cx="1621080" cy="215712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2" descr="C:\Documents and Settings\gerard\Local Settings\Temporary Internet Files\Content.IE5\4W83JHJS\MCj04339320000[1].png"/>
          <p:cNvPicPr/>
          <p:nvPr/>
        </p:nvPicPr>
        <p:blipFill>
          <a:blip r:embed="rId11"/>
          <a:stretch/>
        </p:blipFill>
        <p:spPr>
          <a:xfrm>
            <a:off x="4280040" y="2992320"/>
            <a:ext cx="1054080" cy="1908360"/>
          </a:xfrm>
          <a:prstGeom prst="rect">
            <a:avLst/>
          </a:prstGeom>
          <a:ln w="0">
            <a:noFill/>
          </a:ln>
        </p:spPr>
      </p:pic>
      <p:sp>
        <p:nvSpPr>
          <p:cNvPr id="258" name="Ovale toelichting 18"/>
          <p:cNvSpPr/>
          <p:nvPr/>
        </p:nvSpPr>
        <p:spPr>
          <a:xfrm>
            <a:off x="5029200" y="1071720"/>
            <a:ext cx="1971720" cy="1214280"/>
          </a:xfrm>
          <a:prstGeom prst="wedgeEllipseCallout">
            <a:avLst>
              <a:gd name="adj1" fmla="val -72171"/>
              <a:gd name="adj2" fmla="val 64851"/>
            </a:avLst>
          </a:prstGeom>
          <a:solidFill>
            <a:srgbClr val="00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Ovale toelichting 19"/>
          <p:cNvSpPr/>
          <p:nvPr/>
        </p:nvSpPr>
        <p:spPr>
          <a:xfrm flipH="1">
            <a:off x="2642400" y="1428840"/>
            <a:ext cx="1538280" cy="642960"/>
          </a:xfrm>
          <a:prstGeom prst="wedgeEllipseCallout">
            <a:avLst>
              <a:gd name="adj1" fmla="val -72171"/>
              <a:gd name="adj2" fmla="val 64851"/>
            </a:avLst>
          </a:prstGeom>
          <a:solidFill>
            <a:srgbClr val="00b0f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ij..,,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0" name="Picture 2" descr=""/>
          <p:cNvPicPr/>
          <p:nvPr/>
        </p:nvPicPr>
        <p:blipFill>
          <a:blip r:embed="rId12"/>
          <a:stretch/>
        </p:blipFill>
        <p:spPr>
          <a:xfrm>
            <a:off x="3309840" y="3833640"/>
            <a:ext cx="749520" cy="100044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2" descr=""/>
          <p:cNvPicPr/>
          <p:nvPr/>
        </p:nvPicPr>
        <p:blipFill>
          <a:blip r:embed="rId13"/>
          <a:stretch/>
        </p:blipFill>
        <p:spPr>
          <a:xfrm>
            <a:off x="2066760" y="4206960"/>
            <a:ext cx="804960" cy="84600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2" descr=""/>
          <p:cNvPicPr/>
          <p:nvPr/>
        </p:nvPicPr>
        <p:blipFill>
          <a:blip r:embed="rId14"/>
          <a:stretch/>
        </p:blipFill>
        <p:spPr>
          <a:xfrm>
            <a:off x="2919240" y="4925880"/>
            <a:ext cx="768600" cy="81612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2" descr=""/>
          <p:cNvPicPr/>
          <p:nvPr/>
        </p:nvPicPr>
        <p:blipFill>
          <a:blip r:embed="rId15"/>
          <a:stretch/>
        </p:blipFill>
        <p:spPr>
          <a:xfrm>
            <a:off x="4425840" y="4761000"/>
            <a:ext cx="658800" cy="74448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2" descr=""/>
          <p:cNvPicPr/>
          <p:nvPr/>
        </p:nvPicPr>
        <p:blipFill>
          <a:blip r:embed="rId16"/>
          <a:stretch/>
        </p:blipFill>
        <p:spPr>
          <a:xfrm>
            <a:off x="4529160" y="3633840"/>
            <a:ext cx="1036440" cy="117000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2" descr=""/>
          <p:cNvPicPr/>
          <p:nvPr/>
        </p:nvPicPr>
        <p:blipFill>
          <a:blip r:embed="rId17"/>
          <a:stretch/>
        </p:blipFill>
        <p:spPr>
          <a:xfrm>
            <a:off x="4986360" y="4694400"/>
            <a:ext cx="596880" cy="59688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2" descr=""/>
          <p:cNvPicPr/>
          <p:nvPr/>
        </p:nvPicPr>
        <p:blipFill>
          <a:blip r:embed="rId18"/>
          <a:stretch/>
        </p:blipFill>
        <p:spPr>
          <a:xfrm>
            <a:off x="6638760" y="3481560"/>
            <a:ext cx="804960" cy="73008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2" descr=""/>
          <p:cNvPicPr/>
          <p:nvPr/>
        </p:nvPicPr>
        <p:blipFill>
          <a:blip r:embed="rId19"/>
          <a:stretch/>
        </p:blipFill>
        <p:spPr>
          <a:xfrm>
            <a:off x="5851440" y="4352760"/>
            <a:ext cx="804960" cy="73692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2" descr=""/>
          <p:cNvPicPr/>
          <p:nvPr/>
        </p:nvPicPr>
        <p:blipFill>
          <a:blip r:embed="rId20"/>
          <a:stretch/>
        </p:blipFill>
        <p:spPr>
          <a:xfrm>
            <a:off x="5492880" y="3419640"/>
            <a:ext cx="768240" cy="628560"/>
          </a:xfrm>
          <a:prstGeom prst="rect">
            <a:avLst/>
          </a:prstGeom>
          <a:ln w="0">
            <a:noFill/>
          </a:ln>
        </p:spPr>
      </p:pic>
      <p:sp>
        <p:nvSpPr>
          <p:cNvPr id="269" name="Tekstvak 28"/>
          <p:cNvSpPr/>
          <p:nvPr/>
        </p:nvSpPr>
        <p:spPr>
          <a:xfrm>
            <a:off x="5586480" y="1355760"/>
            <a:ext cx="1500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7ffff"/>
                </a:solidFill>
                <a:latin typeface="Arial"/>
              </a:rPr>
              <a:t>ons bedrijf...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Tekstvak 29"/>
          <p:cNvSpPr/>
          <p:nvPr/>
        </p:nvSpPr>
        <p:spPr>
          <a:xfrm>
            <a:off x="609480" y="214200"/>
            <a:ext cx="4672080" cy="3750480"/>
          </a:xfrm>
          <a:prstGeom prst="rect">
            <a:avLst/>
          </a:prstGeom>
          <a:solidFill>
            <a:srgbClr val="ffffff"/>
          </a:solidFill>
          <a:ln cap="rnd" w="57240">
            <a:solidFill>
              <a:srgbClr val="44b8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b800"/>
                </a:solidFill>
                <a:latin typeface="Arial"/>
                <a:ea typeface="Tahoma"/>
              </a:rPr>
              <a:t>sleutelrol leidinggevende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  <a:ea typeface="Tahoma"/>
              </a:rPr>
              <a:t>heeft info over: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27120" indent="-284040">
              <a:lnSpc>
                <a:spcPct val="100000"/>
              </a:lnSpc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ahoma"/>
              </a:rPr>
              <a:t>de medewerker, zijn werk en werkomstandigheden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627120" indent="-284040">
              <a:lnSpc>
                <a:spcPct val="100000"/>
              </a:lnSpc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ahoma"/>
              </a:rPr>
              <a:t>bepaalt de werkwijze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627120" indent="-284040">
              <a:lnSpc>
                <a:spcPct val="100000"/>
              </a:lnSpc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ahoma"/>
              </a:rPr>
              <a:t>houdt toezicht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627120" indent="-284040">
              <a:lnSpc>
                <a:spcPct val="100000"/>
              </a:lnSpc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ahoma"/>
              </a:rPr>
              <a:t>corrigeert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indent="34308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79031-5008-41F1-B247-F604DAB0410C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2" name="Picture 2" descr="C:\Documents and Settings\gerard\Local Settings\Temporary Internet Files\Content.IE5\SH0PLZ11\MPj02160520000[1].jpg"/>
          <p:cNvPicPr/>
          <p:nvPr/>
        </p:nvPicPr>
        <p:blipFill>
          <a:blip r:embed="rId2"/>
          <a:stretch/>
        </p:blipFill>
        <p:spPr>
          <a:xfrm>
            <a:off x="3925800" y="353880"/>
            <a:ext cx="1621080" cy="215748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2" descr=""/>
          <p:cNvPicPr/>
          <p:nvPr/>
        </p:nvPicPr>
        <p:blipFill>
          <a:blip r:embed="rId3"/>
          <a:stretch/>
        </p:blipFill>
        <p:spPr>
          <a:xfrm>
            <a:off x="3857760" y="1643040"/>
            <a:ext cx="1822320" cy="2149560"/>
          </a:xfrm>
          <a:prstGeom prst="rect">
            <a:avLst/>
          </a:prstGeom>
          <a:ln w="0">
            <a:noFill/>
          </a:ln>
        </p:spPr>
      </p:pic>
      <p:sp>
        <p:nvSpPr>
          <p:cNvPr id="274" name="Gekromde PIJL-RECHTS 8"/>
          <p:cNvSpPr/>
          <p:nvPr/>
        </p:nvSpPr>
        <p:spPr>
          <a:xfrm>
            <a:off x="2286000" y="857160"/>
            <a:ext cx="1571760" cy="3714840"/>
          </a:xfrm>
          <a:custGeom>
            <a:avLst/>
            <a:gdLst>
              <a:gd name="textAreaLeft" fmla="*/ 210600 w 1571760"/>
              <a:gd name="textAreaRight" fmla="*/ 1361160 w 1571760"/>
              <a:gd name="textAreaTop" fmla="*/ 781200 h 3714840"/>
              <a:gd name="textAreaBottom" fmla="*/ 2737080 h 3714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087" stAng="-5400000" swAng="-5400000"/>
                <a:lnTo>
                  <a:pt x="0" y="11372"/>
                </a:lnTo>
                <a:arcTo wR="21600" hR="9087" stAng="10800000" swAng="-3507558"/>
                <a:lnTo>
                  <a:pt x="16200" y="21311"/>
                </a:lnTo>
                <a:lnTo>
                  <a:pt x="21600" y="19316"/>
                </a:lnTo>
                <a:lnTo>
                  <a:pt x="16200" y="16742"/>
                </a:lnTo>
                <a:lnTo>
                  <a:pt x="16200" y="17884"/>
                </a:lnTo>
                <a:arcTo wR="21600" hR="9087" stAng="7292442" swAng="3324442"/>
                <a:lnTo>
                  <a:pt x="171" y="10229"/>
                </a:lnTo>
                <a:arcTo wR="21600" hR="9087" stAng="-10616884" swAng="5216884"/>
                <a:close/>
              </a:path>
              <a:path fill="darkenLess" w="21600" h="21600">
                <a:moveTo>
                  <a:pt x="21600" y="0"/>
                </a:moveTo>
                <a:arcTo wR="21600" hR="9087" stAng="-5400000" swAng="-5400000"/>
                <a:lnTo>
                  <a:pt x="0" y="9087"/>
                </a:lnTo>
                <a:arcTo wR="21600" hR="9087" stAng="10800000" swAng="-183116"/>
                <a:lnTo>
                  <a:pt x="171" y="10229"/>
                </a:lnTo>
                <a:arcTo wR="21600" hR="9087" stAng="-10616884" swAng="5216884"/>
                <a:close/>
              </a:path>
            </a:pathLst>
          </a:custGeom>
          <a:solidFill>
            <a:srgbClr val="00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5" name="Picture 2" descr="C:\Documents and Settings\gerard\Local Settings\Temporary Internet Files\Content.IE5\4W83JHJS\MCj04339320000[1].png"/>
          <p:cNvPicPr/>
          <p:nvPr/>
        </p:nvPicPr>
        <p:blipFill>
          <a:blip r:embed="rId4"/>
          <a:stretch/>
        </p:blipFill>
        <p:spPr>
          <a:xfrm>
            <a:off x="3786120" y="3214800"/>
            <a:ext cx="1932120" cy="257652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2" descr=""/>
          <p:cNvPicPr/>
          <p:nvPr/>
        </p:nvPicPr>
        <p:blipFill>
          <a:blip r:embed="rId5"/>
          <a:stretch/>
        </p:blipFill>
        <p:spPr>
          <a:xfrm flipH="1" rot="11916600">
            <a:off x="4282560" y="4731840"/>
            <a:ext cx="651240" cy="546120"/>
          </a:xfrm>
          <a:prstGeom prst="rect">
            <a:avLst/>
          </a:prstGeom>
          <a:ln w="0">
            <a:noFill/>
          </a:ln>
        </p:spPr>
      </p:pic>
      <p:sp>
        <p:nvSpPr>
          <p:cNvPr id="277" name="Gekromde PIJL-RECHTS 13"/>
          <p:cNvSpPr/>
          <p:nvPr/>
        </p:nvSpPr>
        <p:spPr>
          <a:xfrm flipH="1">
            <a:off x="5643000" y="928800"/>
            <a:ext cx="1285560" cy="3714480"/>
          </a:xfrm>
          <a:custGeom>
            <a:avLst/>
            <a:gdLst>
              <a:gd name="textAreaLeft" fmla="*/ 172080 w 1285560"/>
              <a:gd name="textAreaRight" fmla="*/ 1113480 w 1285560"/>
              <a:gd name="textAreaTop" fmla="*/ 807840 h 3714480"/>
              <a:gd name="textAreaBottom" fmla="*/ 2745720 h 3714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398" stAng="-5400000" swAng="-5400000"/>
                <a:lnTo>
                  <a:pt x="0" y="11268"/>
                </a:lnTo>
                <a:arcTo wR="21600" hR="9398" stAng="10800000" swAng="-3558819"/>
                <a:lnTo>
                  <a:pt x="16200" y="21302"/>
                </a:lnTo>
                <a:lnTo>
                  <a:pt x="21600" y="19731"/>
                </a:lnTo>
                <a:lnTo>
                  <a:pt x="16200" y="17564"/>
                </a:lnTo>
                <a:lnTo>
                  <a:pt x="16200" y="18498"/>
                </a:lnTo>
                <a:arcTo wR="21600" hR="9398" stAng="7241181" swAng="3409361"/>
                <a:lnTo>
                  <a:pt x="107" y="10333"/>
                </a:lnTo>
                <a:arcTo wR="21600" hR="9398" stAng="-10650542" swAng="5250542"/>
                <a:close/>
              </a:path>
              <a:path fill="darkenLess" w="21600" h="21600">
                <a:moveTo>
                  <a:pt x="21600" y="0"/>
                </a:moveTo>
                <a:arcTo wR="21600" hR="9398" stAng="-5400000" swAng="-5400000"/>
                <a:lnTo>
                  <a:pt x="0" y="9398"/>
                </a:lnTo>
                <a:arcTo wR="21600" hR="9398" stAng="10800000" swAng="-149458"/>
                <a:lnTo>
                  <a:pt x="107" y="10333"/>
                </a:lnTo>
                <a:arcTo wR="21600" hR="9398" stAng="-10650542" swAng="5250542"/>
                <a:close/>
              </a:path>
            </a:pathLst>
          </a:custGeom>
          <a:solidFill>
            <a:srgbClr val="00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Tekstvak 14"/>
          <p:cNvSpPr/>
          <p:nvPr/>
        </p:nvSpPr>
        <p:spPr>
          <a:xfrm>
            <a:off x="609480" y="857160"/>
            <a:ext cx="2033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wat wil je? kijk zelf.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dat moet,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want…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wel veilig,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dat doe ik zelf ook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Tekstvak 15"/>
          <p:cNvSpPr/>
          <p:nvPr/>
        </p:nvSpPr>
        <p:spPr>
          <a:xfrm>
            <a:off x="6929280" y="285840"/>
            <a:ext cx="221472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k vind dat jij…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t veiligheid betreft …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grijp ik wel…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n ook niet perfect …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ar……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9F4EE-40D5-4523-A1FE-DDA137D56CA6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Wolk 9"/>
          <p:cNvSpPr/>
          <p:nvPr/>
        </p:nvSpPr>
        <p:spPr>
          <a:xfrm>
            <a:off x="714240" y="785880"/>
            <a:ext cx="7429680" cy="4857840"/>
          </a:xfrm>
          <a:custGeom>
            <a:avLst/>
            <a:gdLst>
              <a:gd name="textAreaLeft" fmla="*/ 1023840 w 7429680"/>
              <a:gd name="textAreaRight" fmla="*/ 5877360 w 7429680"/>
              <a:gd name="textAreaTop" fmla="*/ 733320 h 4857840"/>
              <a:gd name="textAreaBottom" fmla="*/ 3899160 h 4857840"/>
            </a:gdLst>
            <a:ahLst/>
            <a:rect l="textAreaLeft" t="textAreaTop" r="textAreaRight" b="textAreaBottom"/>
            <a:pathLst>
              <a:path w="43200" h="43200">
                <a:moveTo>
                  <a:pt x="3900" y="14370"/>
                </a:moveTo>
                <a:lnTo>
                  <a:pt x="3900" y="14370"/>
                </a:lnTo>
                <a:arcTo wR="6753" hR="9190" stAng="10170548" swAng="7427171"/>
                <a:lnTo>
                  <a:pt x="14005" y="5202"/>
                </a:lnTo>
                <a:arcTo wR="5333" hR="7267" stAng="-8646226" swAng="5396752"/>
                <a:lnTo>
                  <a:pt x="22456" y="3432"/>
                </a:lnTo>
                <a:arcTo wR="4365" hR="5945" stAng="-8748310" swAng="5983216"/>
                <a:lnTo>
                  <a:pt x="29833" y="2481"/>
                </a:lnTo>
                <a:arcTo wR="4857" hR="6595" stAng="-7859247" swAng="7034694"/>
                <a:lnTo>
                  <a:pt x="38318" y="5576"/>
                </a:lnTo>
                <a:arcTo wR="5333" hR="7273" stAng="-4722629" swAng="6541720"/>
                <a:lnTo>
                  <a:pt x="41818" y="15460"/>
                </a:lnTo>
                <a:arcTo wR="6775" hR="9220" stAng="-2776007" swAng="7816113"/>
                <a:lnTo>
                  <a:pt x="37404" y="30203"/>
                </a:lnTo>
                <a:arcTo wR="5785" hR="7867" stAng="37436" swAng="6841911"/>
                <a:lnTo>
                  <a:pt x="28556" y="36813"/>
                </a:lnTo>
                <a:arcTo wR="6752" hR="9215" stAng="1346980" swAng="6910786"/>
                <a:lnTo>
                  <a:pt x="16480" y="39264"/>
                </a:lnTo>
                <a:arcTo wR="7720" hR="10543" stAng="3974661" swAng="4542738"/>
                <a:lnTo>
                  <a:pt x="5804" y="35470"/>
                </a:lnTo>
                <a:arcTo wR="4360" hR="5918" stAng="5103633" swAng="8804007"/>
                <a:lnTo>
                  <a:pt x="2113" y="25548"/>
                </a:lnTo>
                <a:arcTo wR="4345" hR="5945" stAng="6790459" swAng="9150775"/>
                <a:close/>
              </a:path>
              <a:path fill="none" w="43200" h="43200">
                <a:moveTo>
                  <a:pt x="4693" y="26177"/>
                </a:moveTo>
                <a:lnTo>
                  <a:pt x="4693" y="26177"/>
                </a:lnTo>
                <a:arcTo wR="4345" hR="5945" stAng="5204745" swAng="1585714"/>
                <a:moveTo>
                  <a:pt x="6928" y="34899"/>
                </a:moveTo>
                <a:lnTo>
                  <a:pt x="6928" y="34899"/>
                </a:lnTo>
                <a:arcTo wR="4360" hR="5918" stAng="4416323" swAng="686679"/>
                <a:moveTo>
                  <a:pt x="16478" y="39090"/>
                </a:moveTo>
                <a:lnTo>
                  <a:pt x="16478" y="39090"/>
                </a:lnTo>
                <a:arcTo wR="6752" hR="9215" stAng="8257461" swAng="844950"/>
                <a:moveTo>
                  <a:pt x="28827" y="34751"/>
                </a:moveTo>
                <a:lnTo>
                  <a:pt x="28827" y="34751"/>
                </a:lnTo>
                <a:arcTo wR="6752" hR="9215" stAng="387139" swAng="959841"/>
                <a:moveTo>
                  <a:pt x="34129" y="22954"/>
                </a:moveTo>
                <a:lnTo>
                  <a:pt x="34129" y="22954"/>
                </a:lnTo>
                <a:arcTo wR="5785" hR="7867" stAng="-4217785" swAng="4255228"/>
                <a:moveTo>
                  <a:pt x="41798" y="15354"/>
                </a:moveTo>
                <a:lnTo>
                  <a:pt x="41798" y="15354"/>
                </a:lnTo>
                <a:arcTo wR="5333" hR="7273" stAng="1819091" swAng="1665385"/>
                <a:moveTo>
                  <a:pt x="38324" y="5426"/>
                </a:moveTo>
                <a:lnTo>
                  <a:pt x="38324" y="5426"/>
                </a:lnTo>
                <a:arcTo wR="4857" hR="6595" stAng="-824553" swAng="891799"/>
                <a:moveTo>
                  <a:pt x="29078" y="3952"/>
                </a:moveTo>
                <a:lnTo>
                  <a:pt x="29078" y="3952"/>
                </a:lnTo>
                <a:arcTo wR="4857" hR="6595" stAng="-8950828" swAng="1091979"/>
                <a:moveTo>
                  <a:pt x="22141" y="4720"/>
                </a:moveTo>
                <a:lnTo>
                  <a:pt x="22141" y="4720"/>
                </a:lnTo>
                <a:arcTo wR="4365" hR="5945" stAng="-9809519" swAng="1061209"/>
                <a:moveTo>
                  <a:pt x="14000" y="5192"/>
                </a:moveTo>
                <a:lnTo>
                  <a:pt x="14000" y="5192"/>
                </a:lnTo>
                <a:arcTo wR="6753" hR="9190" stAng="-4002280" swAng="739132"/>
                <a:moveTo>
                  <a:pt x="4127" y="15789"/>
                </a:moveTo>
                <a:lnTo>
                  <a:pt x="4127" y="15789"/>
                </a:lnTo>
                <a:arcTo wR="6753" hR="9190" stAng="9459493" swAng="711644"/>
              </a:path>
            </a:pathLst>
          </a:custGeom>
          <a:solidFill>
            <a:srgbClr val="00bfbf"/>
          </a:solidFill>
          <a:ln w="403200">
            <a:solidFill>
              <a:srgbClr val="00cc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2" name="Tekstvak 6"/>
          <p:cNvGrpSpPr/>
          <p:nvPr/>
        </p:nvGrpSpPr>
        <p:grpSpPr>
          <a:xfrm>
            <a:off x="3133800" y="853920"/>
            <a:ext cx="1633320" cy="609840"/>
            <a:chOff x="3133800" y="853920"/>
            <a:chExt cx="1633320" cy="609840"/>
          </a:xfrm>
        </p:grpSpPr>
        <p:pic>
          <p:nvPicPr>
            <p:cNvPr id="283" name="Tekstvak 6" descr=""/>
            <p:cNvPicPr/>
            <p:nvPr/>
          </p:nvPicPr>
          <p:blipFill>
            <a:blip r:embed="rId2"/>
            <a:stretch/>
          </p:blipFill>
          <p:spPr>
            <a:xfrm>
              <a:off x="3133800" y="853920"/>
              <a:ext cx="1633320" cy="60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"/>
            <p:cNvSpPr/>
            <p:nvPr/>
          </p:nvSpPr>
          <p:spPr>
            <a:xfrm>
              <a:off x="3286080" y="928800"/>
              <a:ext cx="142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6ffff"/>
                  </a:solidFill>
                  <a:latin typeface="Arial"/>
                  <a:ea typeface="Tahoma"/>
                </a:rPr>
                <a:t>bedrijf: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5" name="Tekstvak 10"/>
          <p:cNvGrpSpPr/>
          <p:nvPr/>
        </p:nvGrpSpPr>
        <p:grpSpPr>
          <a:xfrm>
            <a:off x="1127160" y="2120760"/>
            <a:ext cx="6284880" cy="871560"/>
            <a:chOff x="1127160" y="2120760"/>
            <a:chExt cx="6284880" cy="871560"/>
          </a:xfrm>
        </p:grpSpPr>
        <p:pic>
          <p:nvPicPr>
            <p:cNvPr id="286" name="Tekstvak 10" descr=""/>
            <p:cNvPicPr/>
            <p:nvPr/>
          </p:nvPicPr>
          <p:blipFill>
            <a:blip r:embed="rId3"/>
            <a:stretch/>
          </p:blipFill>
          <p:spPr>
            <a:xfrm>
              <a:off x="1127160" y="2120760"/>
              <a:ext cx="628488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"/>
            <p:cNvSpPr/>
            <p:nvPr/>
          </p:nvSpPr>
          <p:spPr>
            <a:xfrm>
              <a:off x="1214280" y="2214720"/>
              <a:ext cx="6143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  <a:ea typeface="Tahoma"/>
                </a:rPr>
                <a:t> </a:t>
              </a:r>
              <a:r>
                <a:rPr b="0" lang="en-US" sz="2800" spc="-1" strike="noStrike">
                  <a:solidFill>
                    <a:srgbClr val="0000b3"/>
                  </a:solidFill>
                  <a:latin typeface="Arial"/>
                  <a:ea typeface="Tahoma"/>
                </a:rPr>
                <a:t>organisatorische inspanningen</a:t>
              </a: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8" name="Tekstvak 8"/>
          <p:cNvGrpSpPr/>
          <p:nvPr/>
        </p:nvGrpSpPr>
        <p:grpSpPr>
          <a:xfrm>
            <a:off x="2962440" y="1620720"/>
            <a:ext cx="1665000" cy="689040"/>
            <a:chOff x="2962440" y="1620720"/>
            <a:chExt cx="1665000" cy="689040"/>
          </a:xfrm>
        </p:grpSpPr>
        <p:pic>
          <p:nvPicPr>
            <p:cNvPr id="289" name="Tekstvak 8" descr=""/>
            <p:cNvPicPr/>
            <p:nvPr/>
          </p:nvPicPr>
          <p:blipFill>
            <a:blip r:embed="rId4"/>
            <a:stretch/>
          </p:blipFill>
          <p:spPr>
            <a:xfrm>
              <a:off x="2962440" y="1620720"/>
              <a:ext cx="1665000" cy="68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0" name=""/>
            <p:cNvSpPr/>
            <p:nvPr/>
          </p:nvSpPr>
          <p:spPr>
            <a:xfrm>
              <a:off x="3143160" y="1714680"/>
              <a:ext cx="1428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ffff"/>
                  </a:solidFill>
                  <a:latin typeface="Arial"/>
                  <a:ea typeface="Tahoma"/>
                </a:rPr>
                <a:t>beleid</a:t>
              </a: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1" name="Wolk 16"/>
          <p:cNvSpPr/>
          <p:nvPr/>
        </p:nvSpPr>
        <p:spPr>
          <a:xfrm>
            <a:off x="5029200" y="3000240"/>
            <a:ext cx="1471680" cy="1428840"/>
          </a:xfrm>
          <a:custGeom>
            <a:avLst/>
            <a:gdLst>
              <a:gd name="textAreaLeft" fmla="*/ 202680 w 1471680"/>
              <a:gd name="textAreaRight" fmla="*/ 1164240 w 1471680"/>
              <a:gd name="textAreaTop" fmla="*/ 215640 h 1428840"/>
              <a:gd name="textAreaBottom" fmla="*/ 1146960 h 1428840"/>
            </a:gdLst>
            <a:ahLst/>
            <a:rect l="textAreaLeft" t="textAreaTop" r="textAreaRight" b="textAreaBottom"/>
            <a:pathLst>
              <a:path w="43200" h="43200">
                <a:moveTo>
                  <a:pt x="3900" y="14370"/>
                </a:moveTo>
                <a:lnTo>
                  <a:pt x="3900" y="14370"/>
                </a:lnTo>
                <a:arcTo wR="6753" hR="9190" stAng="10170548" swAng="7427171"/>
                <a:lnTo>
                  <a:pt x="14005" y="5202"/>
                </a:lnTo>
                <a:arcTo wR="5333" hR="7267" stAng="-8646226" swAng="5396752"/>
                <a:lnTo>
                  <a:pt x="22456" y="3432"/>
                </a:lnTo>
                <a:arcTo wR="4365" hR="5945" stAng="-8748310" swAng="5983216"/>
                <a:lnTo>
                  <a:pt x="29833" y="2481"/>
                </a:lnTo>
                <a:arcTo wR="4857" hR="6595" stAng="-7859247" swAng="7034694"/>
                <a:lnTo>
                  <a:pt x="38318" y="5576"/>
                </a:lnTo>
                <a:arcTo wR="5333" hR="7273" stAng="-4722629" swAng="6541720"/>
                <a:lnTo>
                  <a:pt x="41818" y="15460"/>
                </a:lnTo>
                <a:arcTo wR="6775" hR="9220" stAng="-2776007" swAng="7816113"/>
                <a:lnTo>
                  <a:pt x="37404" y="30203"/>
                </a:lnTo>
                <a:arcTo wR="5785" hR="7867" stAng="37436" swAng="6841911"/>
                <a:lnTo>
                  <a:pt x="28556" y="36813"/>
                </a:lnTo>
                <a:arcTo wR="6752" hR="9215" stAng="1346980" swAng="6910786"/>
                <a:lnTo>
                  <a:pt x="16480" y="39264"/>
                </a:lnTo>
                <a:arcTo wR="7720" hR="10543" stAng="3974661" swAng="4542738"/>
                <a:lnTo>
                  <a:pt x="5804" y="35470"/>
                </a:lnTo>
                <a:arcTo wR="4360" hR="5918" stAng="5103633" swAng="8804007"/>
                <a:lnTo>
                  <a:pt x="2113" y="25548"/>
                </a:lnTo>
                <a:arcTo wR="4345" hR="5945" stAng="6790459" swAng="9150775"/>
                <a:close/>
              </a:path>
              <a:path fill="none" w="43200" h="43200">
                <a:moveTo>
                  <a:pt x="4693" y="26177"/>
                </a:moveTo>
                <a:lnTo>
                  <a:pt x="4693" y="26177"/>
                </a:lnTo>
                <a:arcTo wR="4345" hR="5945" stAng="5204745" swAng="1585714"/>
                <a:moveTo>
                  <a:pt x="6928" y="34899"/>
                </a:moveTo>
                <a:lnTo>
                  <a:pt x="6928" y="34899"/>
                </a:lnTo>
                <a:arcTo wR="4360" hR="5918" stAng="4416323" swAng="686679"/>
                <a:moveTo>
                  <a:pt x="16478" y="39090"/>
                </a:moveTo>
                <a:lnTo>
                  <a:pt x="16478" y="39090"/>
                </a:lnTo>
                <a:arcTo wR="6752" hR="9215" stAng="8257461" swAng="844950"/>
                <a:moveTo>
                  <a:pt x="28827" y="34751"/>
                </a:moveTo>
                <a:lnTo>
                  <a:pt x="28827" y="34751"/>
                </a:lnTo>
                <a:arcTo wR="6752" hR="9215" stAng="387139" swAng="959841"/>
                <a:moveTo>
                  <a:pt x="34129" y="22954"/>
                </a:moveTo>
                <a:lnTo>
                  <a:pt x="34129" y="22954"/>
                </a:lnTo>
                <a:arcTo wR="5785" hR="7867" stAng="-4217785" swAng="4255228"/>
                <a:moveTo>
                  <a:pt x="41798" y="15354"/>
                </a:moveTo>
                <a:lnTo>
                  <a:pt x="41798" y="15354"/>
                </a:lnTo>
                <a:arcTo wR="5333" hR="7273" stAng="1819091" swAng="1665385"/>
                <a:moveTo>
                  <a:pt x="38324" y="5426"/>
                </a:moveTo>
                <a:lnTo>
                  <a:pt x="38324" y="5426"/>
                </a:lnTo>
                <a:arcTo wR="4857" hR="6595" stAng="-824553" swAng="891799"/>
                <a:moveTo>
                  <a:pt x="29078" y="3952"/>
                </a:moveTo>
                <a:lnTo>
                  <a:pt x="29078" y="3952"/>
                </a:lnTo>
                <a:arcTo wR="4857" hR="6595" stAng="-8950828" swAng="1091979"/>
                <a:moveTo>
                  <a:pt x="22141" y="4720"/>
                </a:moveTo>
                <a:lnTo>
                  <a:pt x="22141" y="4720"/>
                </a:lnTo>
                <a:arcTo wR="4365" hR="5945" stAng="-9809519" swAng="1061209"/>
                <a:moveTo>
                  <a:pt x="14000" y="5192"/>
                </a:moveTo>
                <a:lnTo>
                  <a:pt x="14000" y="5192"/>
                </a:lnTo>
                <a:arcTo wR="6753" hR="9190" stAng="-4002280" swAng="739132"/>
                <a:moveTo>
                  <a:pt x="4127" y="15789"/>
                </a:moveTo>
                <a:lnTo>
                  <a:pt x="4127" y="15789"/>
                </a:lnTo>
                <a:arcTo wR="6753" hR="9190" stAng="9459493" swAng="711644"/>
              </a:path>
            </a:pathLst>
          </a:custGeom>
          <a:solidFill>
            <a:srgbClr val="00b0f0"/>
          </a:solidFill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Wolk 15"/>
          <p:cNvSpPr/>
          <p:nvPr/>
        </p:nvSpPr>
        <p:spPr>
          <a:xfrm>
            <a:off x="3992400" y="2928960"/>
            <a:ext cx="2073600" cy="1928880"/>
          </a:xfrm>
          <a:custGeom>
            <a:avLst/>
            <a:gdLst>
              <a:gd name="textAreaLeft" fmla="*/ 285840 w 2073600"/>
              <a:gd name="textAreaRight" fmla="*/ 1640520 w 2073600"/>
              <a:gd name="textAreaTop" fmla="*/ 291240 h 1928880"/>
              <a:gd name="textAreaBottom" fmla="*/ 1548360 h 1928880"/>
            </a:gdLst>
            <a:ahLst/>
            <a:rect l="textAreaLeft" t="textAreaTop" r="textAreaRight" b="textAreaBottom"/>
            <a:pathLst>
              <a:path w="43200" h="43200">
                <a:moveTo>
                  <a:pt x="3900" y="14370"/>
                </a:moveTo>
                <a:lnTo>
                  <a:pt x="3900" y="14370"/>
                </a:lnTo>
                <a:arcTo wR="6753" hR="9190" stAng="10170548" swAng="7427171"/>
                <a:lnTo>
                  <a:pt x="14005" y="5202"/>
                </a:lnTo>
                <a:arcTo wR="5333" hR="7267" stAng="-8646226" swAng="5396752"/>
                <a:lnTo>
                  <a:pt x="22456" y="3432"/>
                </a:lnTo>
                <a:arcTo wR="4365" hR="5945" stAng="-8748310" swAng="5983216"/>
                <a:lnTo>
                  <a:pt x="29833" y="2481"/>
                </a:lnTo>
                <a:arcTo wR="4857" hR="6595" stAng="-7859247" swAng="7034694"/>
                <a:lnTo>
                  <a:pt x="38318" y="5576"/>
                </a:lnTo>
                <a:arcTo wR="5333" hR="7273" stAng="-4722629" swAng="6541720"/>
                <a:lnTo>
                  <a:pt x="41818" y="15460"/>
                </a:lnTo>
                <a:arcTo wR="6775" hR="9220" stAng="-2776007" swAng="7816113"/>
                <a:lnTo>
                  <a:pt x="37404" y="30203"/>
                </a:lnTo>
                <a:arcTo wR="5785" hR="7867" stAng="37436" swAng="6841911"/>
                <a:lnTo>
                  <a:pt x="28556" y="36813"/>
                </a:lnTo>
                <a:arcTo wR="6752" hR="9215" stAng="1346980" swAng="6910786"/>
                <a:lnTo>
                  <a:pt x="16480" y="39264"/>
                </a:lnTo>
                <a:arcTo wR="7720" hR="10543" stAng="3974661" swAng="4542738"/>
                <a:lnTo>
                  <a:pt x="5804" y="35470"/>
                </a:lnTo>
                <a:arcTo wR="4360" hR="5918" stAng="5103633" swAng="8804007"/>
                <a:lnTo>
                  <a:pt x="2113" y="25548"/>
                </a:lnTo>
                <a:arcTo wR="4345" hR="5945" stAng="6790459" swAng="9150775"/>
                <a:close/>
              </a:path>
              <a:path fill="none" w="43200" h="43200">
                <a:moveTo>
                  <a:pt x="4693" y="26177"/>
                </a:moveTo>
                <a:lnTo>
                  <a:pt x="4693" y="26177"/>
                </a:lnTo>
                <a:arcTo wR="4345" hR="5945" stAng="5204745" swAng="1585714"/>
                <a:moveTo>
                  <a:pt x="6928" y="34899"/>
                </a:moveTo>
                <a:lnTo>
                  <a:pt x="6928" y="34899"/>
                </a:lnTo>
                <a:arcTo wR="4360" hR="5918" stAng="4416323" swAng="686679"/>
                <a:moveTo>
                  <a:pt x="16478" y="39090"/>
                </a:moveTo>
                <a:lnTo>
                  <a:pt x="16478" y="39090"/>
                </a:lnTo>
                <a:arcTo wR="6752" hR="9215" stAng="8257461" swAng="844950"/>
                <a:moveTo>
                  <a:pt x="28827" y="34751"/>
                </a:moveTo>
                <a:lnTo>
                  <a:pt x="28827" y="34751"/>
                </a:lnTo>
                <a:arcTo wR="6752" hR="9215" stAng="387139" swAng="959841"/>
                <a:moveTo>
                  <a:pt x="34129" y="22954"/>
                </a:moveTo>
                <a:lnTo>
                  <a:pt x="34129" y="22954"/>
                </a:lnTo>
                <a:arcTo wR="5785" hR="7867" stAng="-4217785" swAng="4255228"/>
                <a:moveTo>
                  <a:pt x="41798" y="15354"/>
                </a:moveTo>
                <a:lnTo>
                  <a:pt x="41798" y="15354"/>
                </a:lnTo>
                <a:arcTo wR="5333" hR="7273" stAng="1819091" swAng="1665385"/>
                <a:moveTo>
                  <a:pt x="38324" y="5426"/>
                </a:moveTo>
                <a:lnTo>
                  <a:pt x="38324" y="5426"/>
                </a:lnTo>
                <a:arcTo wR="4857" hR="6595" stAng="-824553" swAng="891799"/>
                <a:moveTo>
                  <a:pt x="29078" y="3952"/>
                </a:moveTo>
                <a:lnTo>
                  <a:pt x="29078" y="3952"/>
                </a:lnTo>
                <a:arcTo wR="4857" hR="6595" stAng="-8950828" swAng="1091979"/>
                <a:moveTo>
                  <a:pt x="22141" y="4720"/>
                </a:moveTo>
                <a:lnTo>
                  <a:pt x="22141" y="4720"/>
                </a:lnTo>
                <a:arcTo wR="4365" hR="5945" stAng="-9809519" swAng="1061209"/>
                <a:moveTo>
                  <a:pt x="14000" y="5192"/>
                </a:moveTo>
                <a:lnTo>
                  <a:pt x="14000" y="5192"/>
                </a:lnTo>
                <a:arcTo wR="6753" hR="9190" stAng="-4002280" swAng="739132"/>
                <a:moveTo>
                  <a:pt x="4127" y="15789"/>
                </a:moveTo>
                <a:lnTo>
                  <a:pt x="4127" y="15789"/>
                </a:lnTo>
                <a:arcTo wR="6753" hR="9190" stAng="9459493" swAng="711644"/>
              </a:path>
            </a:pathLst>
          </a:custGeom>
          <a:solidFill>
            <a:srgbClr val="00b0f0"/>
          </a:solidFill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Wolk 17"/>
          <p:cNvSpPr/>
          <p:nvPr/>
        </p:nvSpPr>
        <p:spPr>
          <a:xfrm rot="2026200">
            <a:off x="1433520" y="3270240"/>
            <a:ext cx="2071800" cy="1928880"/>
          </a:xfrm>
          <a:custGeom>
            <a:avLst/>
            <a:gdLst>
              <a:gd name="textAreaLeft" fmla="*/ 285480 w 2071800"/>
              <a:gd name="textAreaRight" fmla="*/ 1639080 w 2071800"/>
              <a:gd name="textAreaTop" fmla="*/ 291240 h 1928880"/>
              <a:gd name="textAreaBottom" fmla="*/ 1548360 h 1928880"/>
            </a:gdLst>
            <a:ahLst/>
            <a:rect l="textAreaLeft" t="textAreaTop" r="textAreaRight" b="textAreaBottom"/>
            <a:pathLst>
              <a:path w="43200" h="43200">
                <a:moveTo>
                  <a:pt x="3900" y="14370"/>
                </a:moveTo>
                <a:lnTo>
                  <a:pt x="3900" y="14370"/>
                </a:lnTo>
                <a:arcTo wR="6753" hR="9190" stAng="10170548" swAng="7427171"/>
                <a:lnTo>
                  <a:pt x="14005" y="5202"/>
                </a:lnTo>
                <a:arcTo wR="5333" hR="7267" stAng="-8646226" swAng="5396752"/>
                <a:lnTo>
                  <a:pt x="22456" y="3432"/>
                </a:lnTo>
                <a:arcTo wR="4365" hR="5945" stAng="-8748310" swAng="5983216"/>
                <a:lnTo>
                  <a:pt x="29833" y="2481"/>
                </a:lnTo>
                <a:arcTo wR="4857" hR="6595" stAng="-7859247" swAng="7034694"/>
                <a:lnTo>
                  <a:pt x="38318" y="5576"/>
                </a:lnTo>
                <a:arcTo wR="5333" hR="7273" stAng="-4722629" swAng="6541720"/>
                <a:lnTo>
                  <a:pt x="41818" y="15460"/>
                </a:lnTo>
                <a:arcTo wR="6775" hR="9220" stAng="-2776007" swAng="7816113"/>
                <a:lnTo>
                  <a:pt x="37404" y="30203"/>
                </a:lnTo>
                <a:arcTo wR="5785" hR="7867" stAng="37436" swAng="6841911"/>
                <a:lnTo>
                  <a:pt x="28556" y="36813"/>
                </a:lnTo>
                <a:arcTo wR="6752" hR="9215" stAng="1346980" swAng="6910786"/>
                <a:lnTo>
                  <a:pt x="16480" y="39264"/>
                </a:lnTo>
                <a:arcTo wR="7720" hR="10543" stAng="3974661" swAng="4542738"/>
                <a:lnTo>
                  <a:pt x="5804" y="35470"/>
                </a:lnTo>
                <a:arcTo wR="4360" hR="5918" stAng="5103633" swAng="8804007"/>
                <a:lnTo>
                  <a:pt x="2113" y="25548"/>
                </a:lnTo>
                <a:arcTo wR="4345" hR="5945" stAng="6790459" swAng="9150775"/>
                <a:close/>
              </a:path>
              <a:path fill="none" w="43200" h="43200">
                <a:moveTo>
                  <a:pt x="4693" y="26177"/>
                </a:moveTo>
                <a:lnTo>
                  <a:pt x="4693" y="26177"/>
                </a:lnTo>
                <a:arcTo wR="4345" hR="5945" stAng="5204745" swAng="1585714"/>
                <a:moveTo>
                  <a:pt x="6928" y="34899"/>
                </a:moveTo>
                <a:lnTo>
                  <a:pt x="6928" y="34899"/>
                </a:lnTo>
                <a:arcTo wR="4360" hR="5918" stAng="4416323" swAng="686679"/>
                <a:moveTo>
                  <a:pt x="16478" y="39090"/>
                </a:moveTo>
                <a:lnTo>
                  <a:pt x="16478" y="39090"/>
                </a:lnTo>
                <a:arcTo wR="6752" hR="9215" stAng="8257461" swAng="844950"/>
                <a:moveTo>
                  <a:pt x="28827" y="34751"/>
                </a:moveTo>
                <a:lnTo>
                  <a:pt x="28827" y="34751"/>
                </a:lnTo>
                <a:arcTo wR="6752" hR="9215" stAng="387139" swAng="959841"/>
                <a:moveTo>
                  <a:pt x="34129" y="22954"/>
                </a:moveTo>
                <a:lnTo>
                  <a:pt x="34129" y="22954"/>
                </a:lnTo>
                <a:arcTo wR="5785" hR="7867" stAng="-4217785" swAng="4255228"/>
                <a:moveTo>
                  <a:pt x="41798" y="15354"/>
                </a:moveTo>
                <a:lnTo>
                  <a:pt x="41798" y="15354"/>
                </a:lnTo>
                <a:arcTo wR="5333" hR="7273" stAng="1819091" swAng="1665385"/>
                <a:moveTo>
                  <a:pt x="38324" y="5426"/>
                </a:moveTo>
                <a:lnTo>
                  <a:pt x="38324" y="5426"/>
                </a:lnTo>
                <a:arcTo wR="4857" hR="6595" stAng="-824553" swAng="891799"/>
                <a:moveTo>
                  <a:pt x="29078" y="3952"/>
                </a:moveTo>
                <a:lnTo>
                  <a:pt x="29078" y="3952"/>
                </a:lnTo>
                <a:arcTo wR="4857" hR="6595" stAng="-8950828" swAng="1091979"/>
                <a:moveTo>
                  <a:pt x="22141" y="4720"/>
                </a:moveTo>
                <a:lnTo>
                  <a:pt x="22141" y="4720"/>
                </a:lnTo>
                <a:arcTo wR="4365" hR="5945" stAng="-9809519" swAng="1061209"/>
                <a:moveTo>
                  <a:pt x="14000" y="5192"/>
                </a:moveTo>
                <a:lnTo>
                  <a:pt x="14000" y="5192"/>
                </a:lnTo>
                <a:arcTo wR="6753" hR="9190" stAng="-4002280" swAng="739132"/>
                <a:moveTo>
                  <a:pt x="4127" y="15789"/>
                </a:moveTo>
                <a:lnTo>
                  <a:pt x="4127" y="15789"/>
                </a:lnTo>
                <a:arcTo wR="6753" hR="9190" stAng="9459493" swAng="711644"/>
              </a:path>
            </a:pathLst>
          </a:custGeom>
          <a:solidFill>
            <a:srgbClr val="00b0f0"/>
          </a:solidFill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Wolk 12"/>
          <p:cNvSpPr/>
          <p:nvPr/>
        </p:nvSpPr>
        <p:spPr>
          <a:xfrm>
            <a:off x="2000160" y="3000240"/>
            <a:ext cx="3429000" cy="2357640"/>
          </a:xfrm>
          <a:custGeom>
            <a:avLst/>
            <a:gdLst>
              <a:gd name="textAreaLeft" fmla="*/ 472320 w 3429000"/>
              <a:gd name="textAreaRight" fmla="*/ 2712600 w 3429000"/>
              <a:gd name="textAreaTop" fmla="*/ 356040 h 2357640"/>
              <a:gd name="textAreaBottom" fmla="*/ 1892520 h 2357640"/>
            </a:gdLst>
            <a:ahLst/>
            <a:rect l="textAreaLeft" t="textAreaTop" r="textAreaRight" b="textAreaBottom"/>
            <a:pathLst>
              <a:path w="43200" h="43200">
                <a:moveTo>
                  <a:pt x="3900" y="14370"/>
                </a:moveTo>
                <a:lnTo>
                  <a:pt x="3900" y="14370"/>
                </a:lnTo>
                <a:arcTo wR="6753" hR="9190" stAng="10170548" swAng="7427171"/>
                <a:lnTo>
                  <a:pt x="14005" y="5202"/>
                </a:lnTo>
                <a:arcTo wR="5333" hR="7267" stAng="-8646226" swAng="5396752"/>
                <a:lnTo>
                  <a:pt x="22456" y="3432"/>
                </a:lnTo>
                <a:arcTo wR="4365" hR="5945" stAng="-8748310" swAng="5983216"/>
                <a:lnTo>
                  <a:pt x="29833" y="2481"/>
                </a:lnTo>
                <a:arcTo wR="4857" hR="6595" stAng="-7859247" swAng="7034694"/>
                <a:lnTo>
                  <a:pt x="38318" y="5576"/>
                </a:lnTo>
                <a:arcTo wR="5333" hR="7273" stAng="-4722629" swAng="6541720"/>
                <a:lnTo>
                  <a:pt x="41818" y="15460"/>
                </a:lnTo>
                <a:arcTo wR="6775" hR="9220" stAng="-2776007" swAng="7816113"/>
                <a:lnTo>
                  <a:pt x="37404" y="30203"/>
                </a:lnTo>
                <a:arcTo wR="5785" hR="7867" stAng="37436" swAng="6841911"/>
                <a:lnTo>
                  <a:pt x="28556" y="36813"/>
                </a:lnTo>
                <a:arcTo wR="6752" hR="9215" stAng="1346980" swAng="6910786"/>
                <a:lnTo>
                  <a:pt x="16480" y="39264"/>
                </a:lnTo>
                <a:arcTo wR="7720" hR="10543" stAng="3974661" swAng="4542738"/>
                <a:lnTo>
                  <a:pt x="5804" y="35470"/>
                </a:lnTo>
                <a:arcTo wR="4360" hR="5918" stAng="5103633" swAng="8804007"/>
                <a:lnTo>
                  <a:pt x="2113" y="25548"/>
                </a:lnTo>
                <a:arcTo wR="4345" hR="5945" stAng="6790459" swAng="9150775"/>
                <a:close/>
              </a:path>
              <a:path fill="none" w="43200" h="43200">
                <a:moveTo>
                  <a:pt x="4693" y="26177"/>
                </a:moveTo>
                <a:lnTo>
                  <a:pt x="4693" y="26177"/>
                </a:lnTo>
                <a:arcTo wR="4345" hR="5945" stAng="5204745" swAng="1585714"/>
                <a:moveTo>
                  <a:pt x="6928" y="34899"/>
                </a:moveTo>
                <a:lnTo>
                  <a:pt x="6928" y="34899"/>
                </a:lnTo>
                <a:arcTo wR="4360" hR="5918" stAng="4416323" swAng="686679"/>
                <a:moveTo>
                  <a:pt x="16478" y="39090"/>
                </a:moveTo>
                <a:lnTo>
                  <a:pt x="16478" y="39090"/>
                </a:lnTo>
                <a:arcTo wR="6752" hR="9215" stAng="8257461" swAng="844950"/>
                <a:moveTo>
                  <a:pt x="28827" y="34751"/>
                </a:moveTo>
                <a:lnTo>
                  <a:pt x="28827" y="34751"/>
                </a:lnTo>
                <a:arcTo wR="6752" hR="9215" stAng="387139" swAng="959841"/>
                <a:moveTo>
                  <a:pt x="34129" y="22954"/>
                </a:moveTo>
                <a:lnTo>
                  <a:pt x="34129" y="22954"/>
                </a:lnTo>
                <a:arcTo wR="5785" hR="7867" stAng="-4217785" swAng="4255228"/>
                <a:moveTo>
                  <a:pt x="41798" y="15354"/>
                </a:moveTo>
                <a:lnTo>
                  <a:pt x="41798" y="15354"/>
                </a:lnTo>
                <a:arcTo wR="5333" hR="7273" stAng="1819091" swAng="1665385"/>
                <a:moveTo>
                  <a:pt x="38324" y="5426"/>
                </a:moveTo>
                <a:lnTo>
                  <a:pt x="38324" y="5426"/>
                </a:lnTo>
                <a:arcTo wR="4857" hR="6595" stAng="-824553" swAng="891799"/>
                <a:moveTo>
                  <a:pt x="29078" y="3952"/>
                </a:moveTo>
                <a:lnTo>
                  <a:pt x="29078" y="3952"/>
                </a:lnTo>
                <a:arcTo wR="4857" hR="6595" stAng="-8950828" swAng="1091979"/>
                <a:moveTo>
                  <a:pt x="22141" y="4720"/>
                </a:moveTo>
                <a:lnTo>
                  <a:pt x="22141" y="4720"/>
                </a:lnTo>
                <a:arcTo wR="4365" hR="5945" stAng="-9809519" swAng="1061209"/>
                <a:moveTo>
                  <a:pt x="14000" y="5192"/>
                </a:moveTo>
                <a:lnTo>
                  <a:pt x="14000" y="5192"/>
                </a:lnTo>
                <a:arcTo wR="6753" hR="9190" stAng="-4002280" swAng="739132"/>
                <a:moveTo>
                  <a:pt x="4127" y="15789"/>
                </a:moveTo>
                <a:lnTo>
                  <a:pt x="4127" y="15789"/>
                </a:lnTo>
                <a:arcTo wR="6753" hR="9190" stAng="9459493" swAng="711644"/>
              </a:path>
            </a:pathLst>
          </a:custGeom>
          <a:solidFill>
            <a:srgbClr val="00b0f0"/>
          </a:solidFill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5" name="Tekstvak 13"/>
          <p:cNvGrpSpPr/>
          <p:nvPr/>
        </p:nvGrpSpPr>
        <p:grpSpPr>
          <a:xfrm>
            <a:off x="2494080" y="3365640"/>
            <a:ext cx="2590560" cy="504720"/>
            <a:chOff x="2494080" y="3365640"/>
            <a:chExt cx="2590560" cy="504720"/>
          </a:xfrm>
        </p:grpSpPr>
        <p:pic>
          <p:nvPicPr>
            <p:cNvPr id="296" name="Tekstvak 13" descr=""/>
            <p:cNvPicPr/>
            <p:nvPr/>
          </p:nvPicPr>
          <p:blipFill>
            <a:blip r:embed="rId5"/>
            <a:stretch/>
          </p:blipFill>
          <p:spPr>
            <a:xfrm>
              <a:off x="2494080" y="3365640"/>
              <a:ext cx="25905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7" name=""/>
            <p:cNvSpPr/>
            <p:nvPr/>
          </p:nvSpPr>
          <p:spPr>
            <a:xfrm>
              <a:off x="2600280" y="3429000"/>
              <a:ext cx="242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7ffff"/>
                  </a:solidFill>
                  <a:latin typeface="Arial"/>
                  <a:ea typeface="Tahoma"/>
                </a:rPr>
                <a:t>uitvoeringsteam</a:t>
              </a:r>
              <a:endParaRPr b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8" name=""/>
          <p:cNvSpPr txBox="1"/>
          <p:nvPr/>
        </p:nvSpPr>
        <p:spPr>
          <a:xfrm>
            <a:off x="2590920" y="4038480"/>
            <a:ext cx="2714400" cy="8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ff"/>
                </a:solidFill>
                <a:latin typeface="Arial"/>
              </a:rPr>
              <a:t>veilig gedra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9" name="PIJL-RECHTS 7"/>
          <p:cNvGrpSpPr/>
          <p:nvPr/>
        </p:nvGrpSpPr>
        <p:grpSpPr>
          <a:xfrm>
            <a:off x="3475080" y="1298520"/>
            <a:ext cx="291960" cy="457200"/>
            <a:chOff x="3475080" y="1298520"/>
            <a:chExt cx="291960" cy="457200"/>
          </a:xfrm>
        </p:grpSpPr>
        <p:pic>
          <p:nvPicPr>
            <p:cNvPr id="300" name="PIJL-RECHTS 7" descr=""/>
            <p:cNvPicPr/>
            <p:nvPr/>
          </p:nvPicPr>
          <p:blipFill>
            <a:blip r:embed="rId6"/>
            <a:stretch/>
          </p:blipFill>
          <p:spPr>
            <a:xfrm>
              <a:off x="3475080" y="1298520"/>
              <a:ext cx="29196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1" name=""/>
            <p:cNvSpPr/>
            <p:nvPr/>
          </p:nvSpPr>
          <p:spPr>
            <a:xfrm rot="6108000">
              <a:off x="3461400" y="1437120"/>
              <a:ext cx="362160" cy="13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FFBB4-9BC1-4F7C-B752-1F117AC096DF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571680" y="1499760"/>
            <a:ext cx="8370720" cy="43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basisvoorwaarde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ersoneelsselectie en begeleiding: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uiste man op de juiste plaat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troductie: werk, team en risico’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continue inspanning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servaties veiligheidsgedra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structureerd overle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fhandelen klachten en vrag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71320" y="285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4b800"/>
                </a:solidFill>
                <a:latin typeface="Arial"/>
              </a:rPr>
              <a:t>3.4 Organisatorische inspanningen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3T15:19:44Z</dcterms:created>
  <dc:creator>de Groot</dc:creator>
  <dc:description/>
  <dc:language>en-US</dc:language>
  <cp:lastModifiedBy>jrijdes</cp:lastModifiedBy>
  <dcterms:modified xsi:type="dcterms:W3CDTF">2010-02-16T12:17:14Z</dcterms:modified>
  <cp:revision>271</cp:revision>
  <dc:subject/>
  <dc:title>Taak en positie VFP</dc:title>
</cp:coreProperties>
</file>