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3.jpeg" ContentType="image/jpeg"/>
  <Override PartName="/ppt/media/image10.png" ContentType="image/png"/>
  <Override PartName="/ppt/media/image27.jpeg" ContentType="image/jpeg"/>
  <Override PartName="/ppt/media/image25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D4E-08DC-4E49-8E98-FF96471A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8FD-D7D2-468D-8859-FFED7375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4FD9-9ACE-4282-AF94-3C2B67ED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C7A-FEC8-4944-8C2E-591BB88D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0CC0-657D-46A8-804B-1D43D14E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A355-0851-4C4A-A75A-A4B970CC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C1A2-3D66-40EF-B469-BCB425FD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43A9-3635-4B82-BA53-A06D1CDF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3CFD-530E-4039-ADD6-A6684006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F30B-484C-4796-AA45-BB6343C7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8DD3-6273-4266-BC74-6151D3B1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6E4-792C-49A3-B1A4-B9271EC3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6CA4-60D5-45DB-B260-5214CFDB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E01D-2EE6-42B7-A2C9-CF7B5D0E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0BCE-1D91-45EC-860C-8DD4698D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1726-4CF8-416C-915C-DF55FC5F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7153-5ACC-42D9-A1C1-9124BFB3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EBA3F-9E74-4FB4-8BF2-5CEE7AD1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55DE7-29D7-416F-AF44-2732A6FF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9A038-C66D-4688-908B-CB313531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3DD99-DB9B-41EB-A8E0-F8CA282A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8D080-08FC-4092-8C04-89030663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F17-58F1-47D6-AAF0-6F6BA7B1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88495-5F85-4804-AC1F-92686381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C0BB4-36D8-4A85-9531-89505D3D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76CA1-E6F4-4574-8E49-2D019634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74822-9C8A-4368-89D0-FD18918A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F09DB-D98B-4074-89B7-D21A349F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1B3F3-03F1-4A37-859D-F90B9F83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8E7E5-525C-47F9-83E5-8C26C03F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507-B6DE-4A69-BF0F-58D6B712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54F4-08D1-47B6-9870-EA74C920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385B-821F-46CF-9E30-AE06CB78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C7CA-E7F5-42C9-903A-DC8BEB70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059-ABB1-4EBB-AE72-A2DBA4D8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A01-336E-4E34-85CD-39833870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9D1A-A816-43AD-A82C-53DA614DD6F3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2E66-DD15-48FB-A077-4EB481F0FDCA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CBED-04DF-4CFE-962E-EF4EB7D9C00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erckebosch.nl/html/home.php" TargetMode="External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1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EA15-4179-4681-8F48-018A56E662D7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Hoofdstuk 2</a:t>
            </a:r>
            <a:br>
              <a:rPr sz="4400"/>
            </a:b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Wetten en reg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4BBF-976E-4ACF-9BB2-C2BBA0E189E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71680" y="1604880"/>
            <a:ext cx="7868880" cy="28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werkgever moet oo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voorkom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zo veel mogelijk bij de bron verminder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werknemer goed voorlicht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veilige werkwijze laten zien en laten toepass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oede PBM’s beschikbaar stell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orgen dat er hulp is in geval van noo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499760"/>
            <a:ext cx="83707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ventariseert de risico’s (schriftelij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 preventiebeleid o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 risico’s (rekening houden met technie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rnstige risico’s voorkeur voor materiële maatregel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76280" indent="-343080"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934C-21AE-48C8-B5B6-128A23B178F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pak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ysteembenadering (bijv. KAM-systee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 met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(wijze) zo nodig aan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arbeidsmid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n (derden)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hulp organis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vallen, onderzoeken en melden aan Arbeidsinspec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42AA-4A75-41B6-9993-C64C102DF90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heersing betekent vooral dat beleid en procedures worden nageleef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zicht 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geven en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toler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0BEC-B6BF-4CCE-AC83-FED1383FBAE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71320" y="1000080"/>
            <a:ext cx="83581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effectiviteit verbeteren door te reageren op incidenten en te leren van ongevallen en incide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5643-86E8-4C2B-AD63-8CE806ED267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71680" y="149976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moe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kunn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will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 blijven van de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e 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geleg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ragen van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HBO- en brandbestrijd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vacuatiewe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D8C9-6077-41A4-BA1C-1D948FA0175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520" y="1142640"/>
            <a:ext cx="45003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1"/>
          <a:stretch/>
        </p:blipFill>
        <p:spPr>
          <a:xfrm>
            <a:off x="5500800" y="52862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http://www.biname.be/images/produits/signalisation/signalweb.gif"/>
          <p:cNvPicPr/>
          <p:nvPr/>
        </p:nvPicPr>
        <p:blipFill>
          <a:blip r:embed="rId2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224" name="Tijdelijke aanduiding voor dianummer 10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5F0E-F783-4BF1-964B-E4A263A0E38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5108400" y="1378080"/>
            <a:ext cx="1616400" cy="1931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4"/>
          <a:stretch/>
        </p:blipFill>
        <p:spPr>
          <a:xfrm>
            <a:off x="5181480" y="2444760"/>
            <a:ext cx="1590840" cy="187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5"/>
          <a:stretch/>
        </p:blipFill>
        <p:spPr>
          <a:xfrm>
            <a:off x="6143760" y="3286080"/>
            <a:ext cx="987120" cy="866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"/>
          <p:cNvPicPr/>
          <p:nvPr/>
        </p:nvPicPr>
        <p:blipFill>
          <a:blip r:embed="rId6"/>
          <a:stretch/>
        </p:blipFill>
        <p:spPr>
          <a:xfrm>
            <a:off x="5500800" y="4357800"/>
            <a:ext cx="96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680" y="1285920"/>
            <a:ext cx="7851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ven aan dat er een gevaar i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63680" indent="-2383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http://www.biname.be/images/produits/signalisation/ballisage.gif"/>
          <p:cNvPicPr/>
          <p:nvPr/>
        </p:nvPicPr>
        <p:blipFill>
          <a:blip r:embed="rId1"/>
          <a:stretch/>
        </p:blipFill>
        <p:spPr>
          <a:xfrm>
            <a:off x="6715080" y="3429000"/>
            <a:ext cx="1138320" cy="1138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http://www.biname.be/images/produits/signalisation/barriere.gif"/>
          <p:cNvPicPr/>
          <p:nvPr/>
        </p:nvPicPr>
        <p:blipFill>
          <a:blip r:embed="rId2"/>
          <a:stretch/>
        </p:blipFill>
        <p:spPr>
          <a:xfrm>
            <a:off x="5500800" y="4786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  <p:sp>
        <p:nvSpPr>
          <p:cNvPr id="234" name="Tijdelijke aanduiding voor dianummer 7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281A-22D1-4A88-A3C1-1DC529839BA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kstvak 8"/>
          <p:cNvSpPr/>
          <p:nvPr/>
        </p:nvSpPr>
        <p:spPr>
          <a:xfrm>
            <a:off x="571680" y="4071960"/>
            <a:ext cx="607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3920" indent="-22392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s linten: wit - rood, of geel - zwar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kstvak 9"/>
          <p:cNvSpPr/>
          <p:nvPr/>
        </p:nvSpPr>
        <p:spPr>
          <a:xfrm>
            <a:off x="571680" y="4500720"/>
            <a:ext cx="61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5360" indent="-2253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rood - witte hekken worden ook gebruik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kstvak 11"/>
          <p:cNvSpPr/>
          <p:nvPr/>
        </p:nvSpPr>
        <p:spPr>
          <a:xfrm>
            <a:off x="571680" y="2720880"/>
            <a:ext cx="58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kstvak 12"/>
          <p:cNvSpPr/>
          <p:nvPr/>
        </p:nvSpPr>
        <p:spPr>
          <a:xfrm>
            <a:off x="571680" y="3643200"/>
            <a:ext cx="428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35080" indent="-2350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plakt of geschilderd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8" descr=""/>
          <p:cNvPicPr/>
          <p:nvPr/>
        </p:nvPicPr>
        <p:blipFill>
          <a:blip r:embed="rId1">
            <a:lum bright="-30000"/>
          </a:blip>
          <a:stretch/>
        </p:blipFill>
        <p:spPr>
          <a:xfrm rot="20067600">
            <a:off x="4846320" y="-43956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550044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71320" y="1219320"/>
            <a:ext cx="678636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el-zwarte mar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tr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ven bovenste en/of de onderste trede 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5F0C-AC88-41EC-8ADF-CBA696198B8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2"/>
          <a:srcRect l="27321" t="40454" r="0" b="41551"/>
          <a:stretch/>
        </p:blipFill>
        <p:spPr>
          <a:xfrm>
            <a:off x="6711840" y="642960"/>
            <a:ext cx="2432160" cy="603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"/>
          <p:cNvPicPr/>
          <p:nvPr/>
        </p:nvPicPr>
        <p:blipFill>
          <a:blip r:embed="rId3">
            <a:lum bright="-30000"/>
          </a:blip>
          <a:stretch/>
        </p:blipFill>
        <p:spPr>
          <a:xfrm rot="20067600">
            <a:off x="6440040" y="-296640"/>
            <a:ext cx="2500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le of witte strepen worden ook gebruikt om aan te g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voor het aangeven van een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plosiegevaarlijke zone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, wordt het waarschuwingsbord met de letters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9B53-0A84-403E-8CBF-C0768688EFB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429160" y="4857840"/>
            <a:ext cx="170028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83581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500120"/>
            <a:ext cx="81435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verplicht de Europese Richtlijnen te vol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geving gaat verder </a:t>
            </a:r>
            <a:r>
              <a:rPr b="0" lang="nl-NL" sz="2400" spc="-1" strike="noStrike">
                <a:solidFill>
                  <a:srgbClr val="c0163a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Arbo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rbeidsinspec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A2CF-69C1-41CE-B1B7-540713272AE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5149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eidsplaatsen en projectloc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680" y="128556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én werknemer moeten ongevallen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kom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eest voorkomende ongeval is onderuitgaa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het lopen doo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normaal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E623-5F39-4B06-8D1E-87270FDCFD6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Afbeelding 7" descr="IMG_5781%20bouwplaats%20entree.jpg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</a:t>
            </a: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ronbestrijd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71680" y="1499760"/>
            <a:ext cx="85723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rg besteden aan ontwerp en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cheiden van mens en gevaa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D32F-5064-48C3-8740-62C7499BF4E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Afbeelding 4" descr="Aquallure%201.jpg"/>
          <p:cNvPicPr/>
          <p:nvPr/>
        </p:nvPicPr>
        <p:blipFill>
          <a:blip r:embed="rId1"/>
          <a:stretch/>
        </p:blipFill>
        <p:spPr>
          <a:xfrm>
            <a:off x="2738520" y="407196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 </a:t>
            </a:r>
            <a:br>
              <a:rPr sz="2800"/>
            </a:b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lichten werknemer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680" y="1500120"/>
            <a:ext cx="83707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elf do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aangegeven, voorziene wegen en paden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34AB-32A7-4D3C-ABB5-AEB1689717A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ouding en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eigen veiligheid en gezondheid en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ie van a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reventiebel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van ongevallen, gevaren of bijna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8B29-B35E-46C0-94F3-27FE3E4BA9AA}" type="slidenum">
              <a:rPr b="1" lang="nl-NL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71320" y="164268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e werkwijze toe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 de goede manier gebruik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gevaarlijke stoffen, vervoermiddelen en andere 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gebrachte beveilig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onlijke 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BBCC-A0EC-4D52-B5CD-B5BD34F54D5A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71320" y="499680"/>
            <a:ext cx="815652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163a"/>
                </a:solidFill>
                <a:latin typeface="Arial"/>
              </a:rPr>
              <a:t>rechten van de werknem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breking van werk bij ernstig gevaar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en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EC46-1687-41A2-936E-44385D8894D7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4498920" y="3645000"/>
            <a:ext cx="310824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5 Deskundige bijstand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71680" y="1571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moe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een of meer deskundigen aanste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8711-16FD-4C88-87E2-49D88FAE981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6" descr=""/>
          <p:cNvPicPr/>
          <p:nvPr/>
        </p:nvPicPr>
        <p:blipFill>
          <a:blip r:embed="rId1"/>
          <a:srcRect l="41175" t="0" r="0" b="0"/>
          <a:stretch/>
        </p:blipFill>
        <p:spPr>
          <a:xfrm>
            <a:off x="7475400" y="0"/>
            <a:ext cx="1668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Bedrijfsgezondheidszor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71680" y="135684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e bedrijfsarts is belangr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is verantwoor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E6EC-8CB9-4CF9-AA44-8A678B9B1A1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7410600" y="0"/>
            <a:ext cx="1733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6 Toezicht op V+G 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71680" y="1142640"/>
            <a:ext cx="79819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inspectiediensten waaronder de Arbeidsinspec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en rechten van de inspectiediens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ren naleven van de wetgev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en naleving van de w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 onderzoe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illeggen werk bij ernstig 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-verbaal schrijven bij strafbaar f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agen geldige legitimatie werkne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zoeken van alle werkplek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89B9-9F8D-4B60-811A-28D9C9F8736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7" descr="MPj04373830000[1]"/>
          <p:cNvPicPr/>
          <p:nvPr/>
        </p:nvPicPr>
        <p:blipFill>
          <a:blip r:embed="rId1"/>
          <a:srcRect l="0" t="0" r="35719" b="0"/>
          <a:stretch/>
        </p:blipFill>
        <p:spPr>
          <a:xfrm>
            <a:off x="6934320" y="4495680"/>
            <a:ext cx="17240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7 Milieu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218960"/>
            <a:ext cx="76435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e schadelijke gevolgen van activ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stoot milieubelastende stoff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afvalstromen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doelmatige en correc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erwijdering van afval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9FED-D528-4C08-A1C8-1FF019FC227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5" descr="http://www.ivarem.be/images/ladder-van-lansink.GIF"/>
          <p:cNvPicPr/>
          <p:nvPr/>
        </p:nvPicPr>
        <p:blipFill>
          <a:blip r:embed="rId1">
            <a:grayscl/>
          </a:blip>
          <a:stretch/>
        </p:blipFill>
        <p:spPr>
          <a:xfrm>
            <a:off x="6000840" y="-108000"/>
            <a:ext cx="400032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2375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320" y="1499760"/>
            <a:ext cx="8267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bepaling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9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0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B423-36F4-4425-92C5-B74BE038786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8 Asbestbepa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 inventar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iet verwerken of be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houdend afval gescheiden afvo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verdacht materiaa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ten onderzoeken door onafhankelijk lab (niet bij werk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houdende producten met gebonden vezels kan iedereen af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257C-763A-4F7B-BE0E-66C00529FC57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9 Arbeidstijden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71680" y="12855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x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in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sttijd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orderen dat werken en zorgtaken/gezin gecombineerd kunne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60B4-FEC8-4010-A41C-F41E65FBC6A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3144960" y="4071960"/>
            <a:ext cx="3017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71680" y="1285560"/>
            <a:ext cx="8370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-gecertificeerde uitzendbureaus moeten vooraf goede voorlichting over risicobeheersing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lenende organisatie is verantwoordelijk voor bescherming en veilig laten werken van inleenkrach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83D5-13F0-4CEA-8F52-60E6BC9365A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3520" y="12189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organisatie informeert  medewerker over eigen beleid, inlenende bedrijf, werk en werkpl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eidsverklaring uitzendorganis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regels inlenende bedrij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ne veiligheid- en gezondheids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onveiligheid en 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 en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unctie-eisen, gevaren, beheersmaatreg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-gebruik, vergunningen en specifieke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DECD-3B4E-438E-8EE8-AA711DC536E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kstvak 6"/>
          <p:cNvSpPr/>
          <p:nvPr/>
        </p:nvSpPr>
        <p:spPr>
          <a:xfrm>
            <a:off x="1714680" y="548640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e inleenkracht krijgt documentatie mee</a:t>
            </a:r>
            <a:r>
              <a:rPr b="0" i="1" lang="nl-NL" sz="2000" spc="-1" strike="noStrike">
                <a:solidFill>
                  <a:srgbClr val="00ffff"/>
                </a:solidFill>
                <a:latin typeface="Arial"/>
                <a:ea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71400" y="1147680"/>
            <a:ext cx="7227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865D-134C-4FF8-8403-BCECC9EF09E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kstvak 6"/>
          <p:cNvSpPr/>
          <p:nvPr/>
        </p:nvSpPr>
        <p:spPr>
          <a:xfrm>
            <a:off x="571680" y="1285920"/>
            <a:ext cx="842940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lenende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bedrij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directe instructie over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lden geva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handelen bij noodsitua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edoen met oefeni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inschakelen hulpdien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zet inleenkracht op afgesproken wer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oor nieuwe taken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angeven wat de risico’s en preventiemaatregelen zij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fspraken met uitzendorganisatie over  taakverdeling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wie informeert, instrueert en verstrekt de PB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70722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 Invloed van Europ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828440"/>
            <a:ext cx="795168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lid van de Europese U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ten moeten zo nodig worden aangepa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CE-marke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CE-markering op machines en PB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.b.t. veiligheid voldoen CE-producten aan de betreffende Europese richtl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lleen CE-gemarkeerde arbeidsmiddelen mogen op de markt worden gebracht en worden gebrui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E301-B0E9-441C-BFEF-0ACD8F2858F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181080" y="-509760"/>
            <a:ext cx="16192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1"/>
          <a:stretch/>
        </p:blipFill>
        <p:spPr>
          <a:xfrm>
            <a:off x="6242040" y="30240"/>
            <a:ext cx="27259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over veilig  en gezond werken</a:t>
            </a:r>
            <a:r>
              <a:rPr b="1" lang="nl-NL" sz="2800" spc="-1" strike="noStrike">
                <a:solidFill>
                  <a:srgbClr val="47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00120"/>
            <a:ext cx="815652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rbeidsomstandighedenwet  is 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angrijkste wet op het gebied v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 en gezondheid bij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werknemers bij het werk bescherm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eteren van de veilig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gezondheid en welzij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alle plaatsen waar 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F50C-7A38-4C22-84FE-F4CED22CCA87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71320" y="1428480"/>
            <a:ext cx="7143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s én werknemers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geve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an het bedrijf waar je in dienst bent, maar ook degene die jou aanwijzingen geeft, toezicht houdt en middelen verstrekt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nemer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vaste/tijdelijke dienst, uitzendkrachten, stagiairs, vrijwillig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67B8-7FB6-41C2-B671-576AAC6A3DB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65354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Welzijn in de 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71320" y="1428840"/>
            <a:ext cx="82674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richting werkplek aan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ten op persoonsfacto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eftijd en gesl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, vakmanschap en voer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1FFB-CA15-41F3-AD1B-A3F096210F7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2" name="Tijdelijke aanduiding voor inhoud 3"/>
          <p:cNvSpPr/>
          <p:nvPr/>
        </p:nvSpPr>
        <p:spPr>
          <a:xfrm>
            <a:off x="571680" y="3571920"/>
            <a:ext cx="82674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vloed op eigen werkzaamhe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eentonig werk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62308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Kennis als uitgangspun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320" y="1643040"/>
            <a:ext cx="7886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 aan werknemers  o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GW algem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plekgevaren en veiligheids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schriften en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toets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E051-F03D-4D74-B9BB-2C2CC1E43B2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7" name="Tijdelijke aanduiding voor inhoud 3"/>
          <p:cNvSpPr/>
          <p:nvPr/>
        </p:nvSpPr>
        <p:spPr>
          <a:xfrm>
            <a:off x="609480" y="3733920"/>
            <a:ext cx="7013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gever laat zich bijstaan door deskundig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30456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DD57-6495-424F-8F43-9805FD706E60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358040" y="0"/>
            <a:ext cx="1785960" cy="235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01" name=""/>
          <p:cNvSpPr txBox="1"/>
          <p:nvPr/>
        </p:nvSpPr>
        <p:spPr>
          <a:xfrm>
            <a:off x="571680" y="18396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dat de werknemer veilig werkt en geen gezondheidsschade oploopt door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als de werkgever dat niet goed doet, kan hij gestraft   worden en zal hij de schade aan de werknemer moeten vergoe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Hans Mulder</cp:lastModifiedBy>
  <dcterms:modified xsi:type="dcterms:W3CDTF">2016-10-06T09:07:09Z</dcterms:modified>
  <cp:revision>211</cp:revision>
  <dc:subject/>
  <dc:title>Taak en positie VFP</dc:title>
</cp:coreProperties>
</file>