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0F1-BA0F-4E59-9921-06D39671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2B2-1215-4C4C-8C22-BFD48228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A70-5DE9-46E3-8EF3-63D1EC9C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2F5-5186-487D-B356-5A1A74C2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77E-17D2-460C-A491-563BDA04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D1C-F48C-4B13-BE71-4A4B42DD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E14-7AA1-4AD6-BA0F-E9700A1B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E2F-DED6-4A94-BB40-4D406B2E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6B5-E352-4031-9B03-A5405C7D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FCE-CD85-4489-9A06-6A16814C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E49-97D3-4E52-B051-9C1DAF86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446-E578-4738-B958-768B4270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EC84-902F-4FC4-9D8A-ED4D50C4DD0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2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Wetten en reg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1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181480" y="2670120"/>
            <a:ext cx="1590840" cy="187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1603440" y="1749600"/>
            <a:ext cx="1620720" cy="193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98748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7467480" y="4343400"/>
            <a:ext cx="96372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www.biname.be/images/produits/signalisation/signalweb.gif"/>
          <p:cNvPicPr/>
          <p:nvPr/>
        </p:nvPicPr>
        <p:blipFill>
          <a:blip r:embed="rId6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aan dat er een gevaar i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lakt of geschild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linten: wit-rood of geel-z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od-witte hekken worden ook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biname.be/images/produits/signalisation/barriere.gif"/>
          <p:cNvPicPr/>
          <p:nvPr/>
        </p:nvPicPr>
        <p:blipFill>
          <a:blip r:embed="rId1"/>
          <a:stretch/>
        </p:blipFill>
        <p:spPr>
          <a:xfrm>
            <a:off x="3581280" y="5334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biname.be/images/produits/signalisation/ballisage.gif"/>
          <p:cNvPicPr/>
          <p:nvPr/>
        </p:nvPicPr>
        <p:blipFill>
          <a:blip r:embed="rId2"/>
          <a:stretch/>
        </p:blipFill>
        <p:spPr>
          <a:xfrm>
            <a:off x="6477120" y="396252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l-zwarte mar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tr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eft bovenste en/of de onderste trede 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 of witte strepen worden ook gebruikt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te g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voor het aangeven van een explosiegevaarlijke zone, wordt het waarschuwingsbord met de letters EX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934320" y="228600"/>
            <a:ext cx="169992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eidsplaatsen en projectloc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én werknemer moeten ongeval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 voorkomende ongeval is onderuitgaan bij het lop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in normaal tempo l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 </a:t>
            </a:r>
            <a:br>
              <a:rPr sz="2800"/>
            </a:b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bronbestrij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besteden bij ontwerp en werk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mens en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Aquallure%201.jpg"/>
          <p:cNvPicPr/>
          <p:nvPr/>
        </p:nvPicPr>
        <p:blipFill>
          <a:blip r:embed="rId1"/>
          <a:stretch/>
        </p:blipFill>
        <p:spPr>
          <a:xfrm>
            <a:off x="5638680" y="346716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</a:t>
            </a: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lichten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el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o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angegeven, voorziene wegen en paden    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en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eigen veiligheid en gezondheid en voor die van 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gevaren of bijna-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werk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goede manier gebrui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, vervoermiddel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 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brachte beveil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juiste 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chten van de werknem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breking van werk bij ernsti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or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6029280" y="3206880"/>
            <a:ext cx="310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verplicht de Europese Richtlijnen te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geving gaat zelfs verd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rbo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spectie SZ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5 Deskundige bij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f meer deskundi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edrijfsgezondheids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rijfsarts is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is verantwoorde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6 Toezicht op V+G 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iediensten, waaronder de inspectie SZW, hebben de volgende taken en re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ren naleven van de wet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sen naleving van de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gevallen onder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illeggen werk bij ernstig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ces-verbaal schrijven bij strafbaar f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ragen geldige legitimati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zoeken van alle werkp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MPj04373830000[1]"/>
          <p:cNvPicPr/>
          <p:nvPr/>
        </p:nvPicPr>
        <p:blipFill>
          <a:blip r:embed="rId1"/>
          <a:srcRect l="0" t="0" r="35723" b="0"/>
          <a:stretch/>
        </p:blipFill>
        <p:spPr>
          <a:xfrm>
            <a:off x="6975360" y="2154240"/>
            <a:ext cx="216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7 Milieu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chadelijke gevolgen van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oot milieubelastende stoffen en afvalstrom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doelmatige en correcte verwijdering van afval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8 Arbeidstijden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aximale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inimale</a:t>
            </a: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sttij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dat werk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aken/gezin gecombineer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ne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6400800" y="3749760"/>
            <a:ext cx="273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1 Invloed van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lid van de Europese 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ten moeten zo nodig worden aangep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CE-marker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-markering op machines en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.b.t. veiligheid voldoen CE-producten aan de betreffende Europese richtl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CE-gemarkeerde arbeidsmiddelen mogen op de markt worden gebracht en worden gebru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6559560" y="6480"/>
            <a:ext cx="27241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ver veilig en gezond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eidsomstandighedenwet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 op het gebie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en gezondheid bij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werknemers bij het werk bescherm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verbeteren van de veilig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de gezondheid en het wel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 op alle plaatsen waar gewerkt wo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o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werkgevers én werkne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  <a:ea typeface="Arial"/>
              </a:rPr>
              <a:t>werkge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gever van het bedrijf waar je in dienst b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aar ook degene die jou aanwijzingen geeft, toezicht houdt en middelen verstr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werkne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vaste/tijdelijke dien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gi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willi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at de werknemer veilig werkt 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ezondheidsschade oploopt door het wer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de werkgever dat niet goed doet, kan hij gestraft worden en zal hij de schade aan de werknemer moeten vergoe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33360" y="1500120"/>
            <a:ext cx="6948720" cy="46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43000" y="15238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  <a:ea typeface="Arial"/>
              </a:rPr>
              <a:t>staat de werkgever voor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0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pictoshop.nl/pictogrammen2009.gif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200016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8T08:16:23Z</dcterms:modified>
  <cp:revision>74</cp:revision>
  <dc:subject/>
  <dc:title>PowerPoint-presentatie</dc:title>
</cp:coreProperties>
</file>