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43.png" ContentType="image/png"/>
  <Override PartName="/ppt/media/image3.wmf" ContentType="image/x-wmf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1D65-A6D0-427C-A7F4-4ADD1E63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E94-B70E-47D3-9EA9-057C9F89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6FC-6BF3-474B-83DC-8827E6FA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A56-283C-4DC1-A56A-1DAA56A8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73FD-9DBC-45B6-AAF5-7743D39A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E7C0-0969-4105-A832-DD0F6CA2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A395-354C-45BB-AA1D-71A046E7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D0C2-1D14-48EE-96C4-086C33A1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453B-D88B-4D5F-98F9-4574DEB2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1910-01D6-4448-A24B-ABEC9623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740B-F23D-45B2-BB40-FF876A8F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A386-B2CF-4DA1-8CA1-0E2D04E2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63A1-0610-440C-9D54-8C351FAF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9400-30E0-4616-BE86-C7E0E245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B8AE-670D-4661-8C1F-A3108A6D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CD44-DC3A-4DF8-9CE6-CFCC48C3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D476-C551-441F-8DB9-4A81A73D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80363-DD16-4A45-A674-BE958FF5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583B2-2E1D-453E-AC29-6B20207F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FD5B-646F-4D56-8732-06CAA556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608A4-AA5D-44CB-9EA0-02EEABCF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6E05-5205-4943-B09F-41282788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6A5C-AB45-4551-9C35-633AF34C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B740E-3084-403A-BA08-D5930F00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1C183-7CB2-4267-B8C4-59FD1DC7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320B8-F12F-4C54-8257-8A63CD33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8549-BAC4-4305-BF87-CE4DA340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6F48F-4292-4967-9B3A-A17F6095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ED286-3D38-4D89-98DA-AFFF8753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06E34-63B0-48CB-91EA-58142786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CED-EDB3-4175-BE34-7F1E85DC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288B-CBA7-4EEB-9A39-ABD655C7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7EA-5707-4689-8768-50DB4339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2B8-A69A-4110-BA86-3147D5DC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95E-C98B-46BE-AFC8-4244F979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AD7-AB24-428D-822F-846BED0D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4469-95EF-42D0-8AF1-5823F89E87E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6532-9D06-4765-9E91-957E6C03674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FA58-40C6-4A86-91C1-4BF0E49C950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7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0.png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image" Target="../media/image19.wmf"/><Relationship Id="rId16" Type="http://schemas.openxmlformats.org/officeDocument/2006/relationships/image" Target="../media/image19.wmf"/><Relationship Id="rId17" Type="http://schemas.openxmlformats.org/officeDocument/2006/relationships/image" Target="../media/image19.wmf"/><Relationship Id="rId18" Type="http://schemas.openxmlformats.org/officeDocument/2006/relationships/image" Target="../media/image19.wmf"/><Relationship Id="rId19" Type="http://schemas.openxmlformats.org/officeDocument/2006/relationships/image" Target="../media/image19.wmf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0.wmf"/><Relationship Id="rId4" Type="http://schemas.openxmlformats.org/officeDocument/2006/relationships/image" Target="../media/image10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7.png"/><Relationship Id="rId5" Type="http://schemas.openxmlformats.org/officeDocument/2006/relationships/image" Target="../media/image4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3AEE-2C88-4730-970D-0409FDC8DCF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Hoofdstuk 3</a:t>
            </a:r>
            <a:br>
              <a:rPr sz="4400"/>
            </a:b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Veiligheidsmotivatie,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leiderschap en veilig werkgedrag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E2EA-D244-4F2E-9213-37ABDB5AEC5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uw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oorlich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ingsproced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te doen bij een onge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-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plek inf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instruc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7570-4229-44BB-B619-1037BC8145D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71680" y="1499760"/>
            <a:ext cx="837072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e structuur en regelm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, agenda en versl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breng van ieder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overle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A098-6C93-43D8-86E0-73B5D1F8905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71680" y="128556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en volgens veiligheids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aar aanspreken op on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ijpen bij onveilige situ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 stellen bij onduidelijk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stimuleert dit door voorbeeld gedr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 te houden en te corrig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te houden met de inbreng v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n e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tuigende en onderbouwde instructies te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6 Gewenst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ADDF-C340-4A1F-B507-0019FFE787B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7 Gedrag beïnvloeden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16" name="Tekstvak 6"/>
          <p:cNvGrpSpPr/>
          <p:nvPr/>
        </p:nvGrpSpPr>
        <p:grpSpPr>
          <a:xfrm>
            <a:off x="249120" y="1047600"/>
            <a:ext cx="1378080" cy="689040"/>
            <a:chOff x="249120" y="1047600"/>
            <a:chExt cx="1378080" cy="689040"/>
          </a:xfrm>
        </p:grpSpPr>
        <p:pic>
          <p:nvPicPr>
            <p:cNvPr id="317" name="Tekstvak 6" descr=""/>
            <p:cNvPicPr/>
            <p:nvPr/>
          </p:nvPicPr>
          <p:blipFill>
            <a:blip r:embed="rId2"/>
            <a:stretch/>
          </p:blipFill>
          <p:spPr>
            <a:xfrm>
              <a:off x="249120" y="1047600"/>
              <a:ext cx="13780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28760" y="1143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oel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Tekstvak 7"/>
          <p:cNvGrpSpPr/>
          <p:nvPr/>
        </p:nvGrpSpPr>
        <p:grpSpPr>
          <a:xfrm>
            <a:off x="249120" y="2120760"/>
            <a:ext cx="1463760" cy="689040"/>
            <a:chOff x="249120" y="2120760"/>
            <a:chExt cx="1463760" cy="689040"/>
          </a:xfrm>
        </p:grpSpPr>
        <p:pic>
          <p:nvPicPr>
            <p:cNvPr id="320" name="Tekstvak 7" descr=""/>
            <p:cNvPicPr/>
            <p:nvPr/>
          </p:nvPicPr>
          <p:blipFill>
            <a:blip r:embed="rId3"/>
            <a:stretch/>
          </p:blipFill>
          <p:spPr>
            <a:xfrm>
              <a:off x="249120" y="2120760"/>
              <a:ext cx="14637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28760" y="22147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si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Tekstvak 8"/>
          <p:cNvGrpSpPr/>
          <p:nvPr/>
        </p:nvGrpSpPr>
        <p:grpSpPr>
          <a:xfrm>
            <a:off x="228600" y="3352680"/>
            <a:ext cx="1784160" cy="1066680"/>
            <a:chOff x="228600" y="3352680"/>
            <a:chExt cx="1784160" cy="1066680"/>
          </a:xfrm>
        </p:grpSpPr>
        <p:pic>
          <p:nvPicPr>
            <p:cNvPr id="323" name="Tekstvak 8" descr=""/>
            <p:cNvPicPr/>
            <p:nvPr/>
          </p:nvPicPr>
          <p:blipFill>
            <a:blip r:embed="rId4"/>
            <a:stretch/>
          </p:blipFill>
          <p:spPr>
            <a:xfrm>
              <a:off x="228600" y="3352680"/>
              <a:ext cx="17841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16160" y="3448080"/>
              <a:ext cx="14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e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5" name="Groep 15" descr=""/>
          <p:cNvPicPr/>
          <p:nvPr/>
        </p:nvPicPr>
        <p:blipFill>
          <a:blip r:embed="rId5"/>
          <a:stretch/>
        </p:blipFill>
        <p:spPr>
          <a:xfrm>
            <a:off x="2798640" y="2151000"/>
            <a:ext cx="2565360" cy="590760"/>
          </a:xfrm>
          <a:prstGeom prst="rect">
            <a:avLst/>
          </a:prstGeom>
          <a:ln w="0">
            <a:noFill/>
          </a:ln>
        </p:spPr>
      </p:pic>
      <p:grpSp>
        <p:nvGrpSpPr>
          <p:cNvPr id="326" name="Tekstvak 9"/>
          <p:cNvGrpSpPr/>
          <p:nvPr/>
        </p:nvGrpSpPr>
        <p:grpSpPr>
          <a:xfrm>
            <a:off x="249120" y="4681440"/>
            <a:ext cx="1457280" cy="695520"/>
            <a:chOff x="249120" y="4681440"/>
            <a:chExt cx="1457280" cy="695520"/>
          </a:xfrm>
        </p:grpSpPr>
        <p:pic>
          <p:nvPicPr>
            <p:cNvPr id="327" name="Tekstvak 9" descr=""/>
            <p:cNvPicPr/>
            <p:nvPr/>
          </p:nvPicPr>
          <p:blipFill>
            <a:blip r:embed="rId6"/>
            <a:stretch/>
          </p:blipFill>
          <p:spPr>
            <a:xfrm>
              <a:off x="249120" y="4681440"/>
              <a:ext cx="14572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428760" y="47768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cties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Tekstvak 10"/>
          <p:cNvSpPr/>
          <p:nvPr/>
        </p:nvSpPr>
        <p:spPr>
          <a:xfrm>
            <a:off x="3146400" y="1071720"/>
            <a:ext cx="37148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iliger  werkgedra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kstvak 12"/>
          <p:cNvSpPr/>
          <p:nvPr/>
        </p:nvSpPr>
        <p:spPr>
          <a:xfrm>
            <a:off x="1905120" y="3357720"/>
            <a:ext cx="180648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ucc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Groep 19" descr=""/>
          <p:cNvPicPr/>
          <p:nvPr/>
        </p:nvPicPr>
        <p:blipFill>
          <a:blip r:embed="rId7"/>
          <a:stretch/>
        </p:blipFill>
        <p:spPr>
          <a:xfrm>
            <a:off x="5303880" y="2152800"/>
            <a:ext cx="2560680" cy="590400"/>
          </a:xfrm>
          <a:prstGeom prst="rect">
            <a:avLst/>
          </a:prstGeom>
          <a:ln w="0">
            <a:noFill/>
          </a:ln>
        </p:spPr>
      </p:pic>
      <p:sp>
        <p:nvSpPr>
          <p:cNvPr id="332" name="Tekstvak 27"/>
          <p:cNvSpPr/>
          <p:nvPr/>
        </p:nvSpPr>
        <p:spPr>
          <a:xfrm>
            <a:off x="2071800" y="4776840"/>
            <a:ext cx="16430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1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kstvak 29"/>
          <p:cNvSpPr/>
          <p:nvPr/>
        </p:nvSpPr>
        <p:spPr>
          <a:xfrm>
            <a:off x="3581280" y="3357720"/>
            <a:ext cx="184464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rminder nade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" name="Rechte verbindingslijn met pijl 30"/>
          <p:cNvCxnSpPr>
            <a:endCxn id="330" idx="0"/>
          </p:cNvCxnSpPr>
          <p:nvPr/>
        </p:nvCxnSpPr>
        <p:spPr>
          <a:xfrm flipH="1">
            <a:off x="2807640" y="2738520"/>
            <a:ext cx="12531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5" name="Rechte verbindingslijn met pijl 31"/>
          <p:cNvCxnSpPr/>
          <p:nvPr/>
        </p:nvCxnSpPr>
        <p:spPr>
          <a:xfrm>
            <a:off x="4143240" y="2738520"/>
            <a:ext cx="53568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6" name="Rechte verbindingslijn met pijl 37"/>
          <p:cNvCxnSpPr>
            <a:endCxn id="337" idx="0"/>
          </p:cNvCxnSpPr>
          <p:nvPr/>
        </p:nvCxnSpPr>
        <p:spPr>
          <a:xfrm>
            <a:off x="6642720" y="2738520"/>
            <a:ext cx="16419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8" name="Rechte verbindingslijn met pijl 38"/>
          <p:cNvCxnSpPr>
            <a:endCxn id="339" idx="0"/>
          </p:cNvCxnSpPr>
          <p:nvPr/>
        </p:nvCxnSpPr>
        <p:spPr>
          <a:xfrm flipH="1">
            <a:off x="6476400" y="2738520"/>
            <a:ext cx="14364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sp>
        <p:nvSpPr>
          <p:cNvPr id="339" name="Tekstvak 40"/>
          <p:cNvSpPr/>
          <p:nvPr/>
        </p:nvSpPr>
        <p:spPr>
          <a:xfrm>
            <a:off x="5334120" y="3357720"/>
            <a:ext cx="22860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gevol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kstvak 41"/>
          <p:cNvSpPr/>
          <p:nvPr/>
        </p:nvSpPr>
        <p:spPr>
          <a:xfrm>
            <a:off x="7572240" y="3357720"/>
            <a:ext cx="14256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moeilijk ma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kstvak 47"/>
          <p:cNvSpPr/>
          <p:nvPr/>
        </p:nvSpPr>
        <p:spPr>
          <a:xfrm>
            <a:off x="3786120" y="4786200"/>
            <a:ext cx="1643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2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kstvak 48"/>
          <p:cNvSpPr/>
          <p:nvPr/>
        </p:nvSpPr>
        <p:spPr>
          <a:xfrm>
            <a:off x="5572080" y="4786200"/>
            <a:ext cx="192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3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kstvak 49"/>
          <p:cNvSpPr/>
          <p:nvPr/>
        </p:nvSpPr>
        <p:spPr>
          <a:xfrm>
            <a:off x="7543800" y="4724280"/>
            <a:ext cx="1600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4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53E9-F500-480B-AE87-7AEB0E32D5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43000" y="1828440"/>
            <a:ext cx="37180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cces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beeld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man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ar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ef besp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e instructies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imuleer 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ijdelijke aanduiding voor inhoud 4"/>
          <p:cNvSpPr/>
          <p:nvPr/>
        </p:nvSpPr>
        <p:spPr>
          <a:xfrm>
            <a:off x="5003640" y="1785960"/>
            <a:ext cx="385452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. nadelen vermind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teerbare voorschrif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reikbare veiligheids-    voorzien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mfortabele PBM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ijd voor veilig wer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DE35-A366-4714-BDD2-464239E43FE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2120" y="1785960"/>
            <a:ext cx="40989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volgen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eer ov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preek gevolgen van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f instructies ov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 han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1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m on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ijdelijke aanduiding voor inhoud 4"/>
          <p:cNvSpPr/>
          <p:nvPr/>
        </p:nvSpPr>
        <p:spPr>
          <a:xfrm>
            <a:off x="4800600" y="1785960"/>
            <a:ext cx="4140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maak het moeilij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mheiningen/afzett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ak afzetten beveiliging onmogelij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wijder slecht   gereedschap en materiaal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ancties bij onveilig gedra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A1F1-E2DA-4263-B479-EA2360E5989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5880" y="1143000"/>
            <a:ext cx="485784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ag toestem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m de tij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om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én perso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risico’s genom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schriften nageleef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preek  + en  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afspr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s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8 OOG-rond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6" name="Tekstvak 6"/>
          <p:cNvSpPr/>
          <p:nvPr/>
        </p:nvSpPr>
        <p:spPr>
          <a:xfrm>
            <a:off x="5003640" y="1143000"/>
            <a:ext cx="38354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letten op: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de/nethei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bruik gereedschap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uding, ple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uitvoer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mp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DF7D-A91C-452C-8A07-0E97E942943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99972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het werk, liefst op de werkpl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opdrachtgevers en aan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en werkt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een toolbo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wisseling van ploe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en afstemmen op niveau werk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de werkzaam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aktisch en begrijpelijk (J&amp;J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9 Veiligheid bespre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7A64-F011-4485-BC1E-FF53252E90F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9680" y="107136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isicovol wer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en veiligheidsmaatregelen volgens afspraak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checken, zo nodig ingr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plekinspec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met 2 (of 3) perso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ten op middelen, opstellingen bescherm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ok handelingen, procedures volgen, zie OO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orteer tekorten, verbeteracties en de verantwoordelij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belasting va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 schade, verzuim en arbeidsongeschikt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lichamelijke en mental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0 Controle en toezich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3CBE-6039-4BD4-A053-B7FCB67A803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71680" y="1571760"/>
            <a:ext cx="796896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che belasting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83437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 Leiderschap en werk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07172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bel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utelrol van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orische inspanningen om veilig gedrag te bevord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overleg en instr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merken van gewenst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drag beïnvlo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G-ron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lichting en opl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0 Controle en toezic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1 Aandacht voor lichamelijke en 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3643-C63F-4675-A073-630A9556B9F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9FE4-D8F8-45D4-BDA0-340CB11E7FA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71680" y="1066320"/>
            <a:ext cx="78739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factor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ding, bewe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anning / werk- en rust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ngunstig zij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 zitten of staan in dezelfde houding (stat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kracht leveren, zoals bij traplopen en zwaar tillen, trillingen en terugkerende bewegingen (dynam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, spierpijn, kramp, schade aan gewrichten bij 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5723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0303-E292-40E2-B45D-2BEB871CC01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71680" y="766800"/>
            <a:ext cx="83325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ttend en staa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 mogelijk afwiss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an bij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chtuitoefening, onvoldoende beenruim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lmatig opstaan en laag, ver of hoog rei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zitte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un bovenbenen (zitvlak) en schouders (leunin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rugst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matig ti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krachten en duur, vooral ook rug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liever hulpmiddelen of beperk belas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samenwerken of extra pauz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til-instructie en gezondheidskundige beoorde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4628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Praktijkvoorbeeld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Mentale 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71680" y="92844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druk (regelmogelijkheden / regelvereis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petenties (taak / capacitei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feer (relaties collega’s en leidinggeven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sche omstandig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(on)zeker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chterliggen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rastructuur en uitrus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oonlijkheidskenmerk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7566-4CFB-48E7-934C-308C8C2A9C5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Ergonomische benad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71680" y="1500120"/>
            <a:ext cx="8370720" cy="33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 ook op langere termijn goed te kunnen werken, is een goede werkomgeving met comfort wens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op signalen, klachten en nieuwe ontwikke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en zorgen voor een mensgericht (her)ontwerp van werkplekk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houden naast lichamelijke en mentale belasting rekening met licht, geluid, klimaat en trill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FEC6-0037-491B-9D85-76963870B65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8580-9BDC-47FA-AFED-8C0BC823ACC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Wolk 9"/>
          <p:cNvSpPr/>
          <p:nvPr/>
        </p:nvSpPr>
        <p:spPr>
          <a:xfrm>
            <a:off x="857160" y="762120"/>
            <a:ext cx="7429680" cy="485748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480"/>
              <a:gd name="textAreaBottom" fmla="*/ 3898800 h 48574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175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Tekstvak 10"/>
          <p:cNvGrpSpPr/>
          <p:nvPr/>
        </p:nvGrpSpPr>
        <p:grpSpPr>
          <a:xfrm>
            <a:off x="2206800" y="2193840"/>
            <a:ext cx="2877840" cy="689040"/>
            <a:chOff x="2206800" y="2193840"/>
            <a:chExt cx="2877840" cy="689040"/>
          </a:xfrm>
        </p:grpSpPr>
        <p:pic>
          <p:nvPicPr>
            <p:cNvPr id="178" name="Tekstvak 10" descr=""/>
            <p:cNvPicPr/>
            <p:nvPr/>
          </p:nvPicPr>
          <p:blipFill>
            <a:blip r:embed="rId3"/>
            <a:stretch/>
          </p:blipFill>
          <p:spPr>
            <a:xfrm>
              <a:off x="2206800" y="2193840"/>
              <a:ext cx="28778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386080" y="2286000"/>
              <a:ext cx="264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181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Tekstvak 13"/>
          <p:cNvGrpSpPr/>
          <p:nvPr/>
        </p:nvGrpSpPr>
        <p:grpSpPr>
          <a:xfrm>
            <a:off x="2481120" y="3371760"/>
            <a:ext cx="2603520" cy="498600"/>
            <a:chOff x="2481120" y="3371760"/>
            <a:chExt cx="2603520" cy="498600"/>
          </a:xfrm>
        </p:grpSpPr>
        <p:pic>
          <p:nvPicPr>
            <p:cNvPr id="188" name="Tekstvak 13" descr=""/>
            <p:cNvPicPr/>
            <p:nvPr/>
          </p:nvPicPr>
          <p:blipFill>
            <a:blip r:embed="rId5"/>
            <a:stretch/>
          </p:blipFill>
          <p:spPr>
            <a:xfrm>
              <a:off x="2481120" y="3371760"/>
              <a:ext cx="260352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600280" y="3429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d6"/>
                  </a:solidFill>
                  <a:latin typeface="Arial"/>
                  <a:ea typeface="Tahoma"/>
                </a:rPr>
                <a:t>uitvoeringsteam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2314080" y="3785760"/>
            <a:ext cx="27147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192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9284-B304-47D6-AA9F-B13454697C5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5003640" y="6429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1643040" y="1643040"/>
            <a:ext cx="1000080" cy="1428840"/>
          </a:xfrm>
          <a:prstGeom prst="rect">
            <a:avLst/>
          </a:prstGeom>
          <a:ln w="0">
            <a:noFill/>
          </a:ln>
        </p:spPr>
      </p:pic>
      <p:sp>
        <p:nvSpPr>
          <p:cNvPr id="197" name="Tekstvak 9"/>
          <p:cNvSpPr/>
          <p:nvPr/>
        </p:nvSpPr>
        <p:spPr>
          <a:xfrm>
            <a:off x="500040" y="28584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</a:rPr>
              <a:t>veilig gedra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 rot="1263600">
            <a:off x="6075360" y="4231800"/>
            <a:ext cx="898560" cy="200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Documents and Settings\gerard\Local Settings\Temporary Internet Files\Content.IE5\4W83JHJS\MCj04339320000[1].png"/>
          <p:cNvPicPr/>
          <p:nvPr/>
        </p:nvPicPr>
        <p:blipFill>
          <a:blip r:embed="rId5">
            <a:lum bright="-32000"/>
          </a:blip>
          <a:stretch/>
        </p:blipFill>
        <p:spPr>
          <a:xfrm>
            <a:off x="7429680" y="2500200"/>
            <a:ext cx="1099800" cy="142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flipH="1" rot="20294400">
            <a:off x="1864800" y="4317840"/>
            <a:ext cx="12146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201" name="Ovale toelichting 13"/>
          <p:cNvGrpSpPr/>
          <p:nvPr/>
        </p:nvGrpSpPr>
        <p:grpSpPr>
          <a:xfrm>
            <a:off x="2998800" y="3608280"/>
            <a:ext cx="2060640" cy="1324080"/>
            <a:chOff x="2998800" y="3608280"/>
            <a:chExt cx="2060640" cy="1324080"/>
          </a:xfrm>
        </p:grpSpPr>
        <p:pic>
          <p:nvPicPr>
            <p:cNvPr id="202" name="Ovale toelichting 13" descr=""/>
            <p:cNvPicPr/>
            <p:nvPr/>
          </p:nvPicPr>
          <p:blipFill>
            <a:blip r:embed="rId7"/>
            <a:stretch/>
          </p:blipFill>
          <p:spPr>
            <a:xfrm>
              <a:off x="2998800" y="3608280"/>
              <a:ext cx="20606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659040" y="3821040"/>
              <a:ext cx="11145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Ovale toelichting 14"/>
          <p:cNvGrpSpPr/>
          <p:nvPr/>
        </p:nvGrpSpPr>
        <p:grpSpPr>
          <a:xfrm>
            <a:off x="2335320" y="2109960"/>
            <a:ext cx="2077920" cy="1176120"/>
            <a:chOff x="2335320" y="2109960"/>
            <a:chExt cx="2077920" cy="1176120"/>
          </a:xfrm>
        </p:grpSpPr>
        <p:pic>
          <p:nvPicPr>
            <p:cNvPr id="205" name="Ovale toelichting 14" descr=""/>
            <p:cNvPicPr/>
            <p:nvPr/>
          </p:nvPicPr>
          <p:blipFill>
            <a:blip r:embed="rId8"/>
            <a:stretch/>
          </p:blipFill>
          <p:spPr>
            <a:xfrm>
              <a:off x="2335320" y="2109960"/>
              <a:ext cx="20779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260880" y="2300400"/>
              <a:ext cx="91116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Ovale toelichting 15"/>
          <p:cNvGrpSpPr/>
          <p:nvPr/>
        </p:nvGrpSpPr>
        <p:grpSpPr>
          <a:xfrm>
            <a:off x="5151600" y="3078000"/>
            <a:ext cx="2535120" cy="1208160"/>
            <a:chOff x="5151600" y="3078000"/>
            <a:chExt cx="2535120" cy="1208160"/>
          </a:xfrm>
        </p:grpSpPr>
        <p:pic>
          <p:nvPicPr>
            <p:cNvPr id="208" name="Ovale toelichting 15" descr=""/>
            <p:cNvPicPr/>
            <p:nvPr/>
          </p:nvPicPr>
          <p:blipFill>
            <a:blip r:embed="rId9"/>
            <a:stretch/>
          </p:blipFill>
          <p:spPr>
            <a:xfrm>
              <a:off x="5151600" y="3078000"/>
              <a:ext cx="253512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403960" y="3422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Ovale toelichting 16"/>
          <p:cNvGrpSpPr/>
          <p:nvPr/>
        </p:nvGrpSpPr>
        <p:grpSpPr>
          <a:xfrm>
            <a:off x="4943520" y="4322880"/>
            <a:ext cx="1469880" cy="725400"/>
            <a:chOff x="4943520" y="4322880"/>
            <a:chExt cx="1469880" cy="725400"/>
          </a:xfrm>
        </p:grpSpPr>
        <p:pic>
          <p:nvPicPr>
            <p:cNvPr id="211" name="Ovale toelichting 16" descr=""/>
            <p:cNvPicPr/>
            <p:nvPr/>
          </p:nvPicPr>
          <p:blipFill>
            <a:blip r:embed="rId10"/>
            <a:stretch/>
          </p:blipFill>
          <p:spPr>
            <a:xfrm>
              <a:off x="4943520" y="4322880"/>
              <a:ext cx="1469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29280" y="4441680"/>
              <a:ext cx="603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Ovale toelichting 17"/>
          <p:cNvGrpSpPr/>
          <p:nvPr/>
        </p:nvGrpSpPr>
        <p:grpSpPr>
          <a:xfrm>
            <a:off x="4511520" y="1401840"/>
            <a:ext cx="1401840" cy="1743120"/>
            <a:chOff x="4511520" y="1401840"/>
            <a:chExt cx="1401840" cy="1743120"/>
          </a:xfrm>
        </p:grpSpPr>
        <p:pic>
          <p:nvPicPr>
            <p:cNvPr id="214" name="Ovale toelichting 17" descr=""/>
            <p:cNvPicPr/>
            <p:nvPr/>
          </p:nvPicPr>
          <p:blipFill>
            <a:blip r:embed="rId11"/>
            <a:stretch/>
          </p:blipFill>
          <p:spPr>
            <a:xfrm>
              <a:off x="4511520" y="1401840"/>
              <a:ext cx="1401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761000" y="2279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Tekstvak 18"/>
          <p:cNvSpPr/>
          <p:nvPr/>
        </p:nvSpPr>
        <p:spPr>
          <a:xfrm>
            <a:off x="5003640" y="435780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ff"/>
                </a:solidFill>
                <a:latin typeface="Arial Narrow"/>
              </a:rPr>
              <a:t>o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kstvak 19"/>
          <p:cNvSpPr/>
          <p:nvPr/>
        </p:nvSpPr>
        <p:spPr>
          <a:xfrm>
            <a:off x="3214800" y="228600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k volg precie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kstvak 21"/>
          <p:cNvSpPr/>
          <p:nvPr/>
        </p:nvSpPr>
        <p:spPr>
          <a:xfrm>
            <a:off x="3571920" y="3786120"/>
            <a:ext cx="16095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dff"/>
                </a:solidFill>
                <a:latin typeface="Arial"/>
              </a:rPr>
              <a:t>stumperds!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gewoon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doorpakken !!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kstvak 22"/>
          <p:cNvSpPr/>
          <p:nvPr/>
        </p:nvSpPr>
        <p:spPr>
          <a:xfrm>
            <a:off x="4714920" y="221472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hier goed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lette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kstvak 23"/>
          <p:cNvSpPr/>
          <p:nvPr/>
        </p:nvSpPr>
        <p:spPr>
          <a:xfrm>
            <a:off x="5286240" y="3357720"/>
            <a:ext cx="13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ik heb m’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eigen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957F-5032-4FBF-B2B2-467523FC1CB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 flipH="1" rot="587400">
            <a:off x="3842640" y="429588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28920" y="4286160"/>
            <a:ext cx="121428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Documents and Settings\gerard\Local Settings\Temporary Internet Files\Content.IE5\4W83JHJS\MCj04339320000[1].png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029200" y="400068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 rot="382800">
            <a:off x="6071760" y="3429000"/>
            <a:ext cx="642960" cy="2000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rot="21005400">
            <a:off x="3286080" y="3214440"/>
            <a:ext cx="785880" cy="1428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43040" y="364320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Documents and Settings\gerard\Local Settings\Temporary Internet Files\Content.IE5\4W83JHJS\MCj04339320000[1].png"/>
          <p:cNvPicPr/>
          <p:nvPr/>
        </p:nvPicPr>
        <p:blipFill>
          <a:blip r:embed="rId8">
            <a:lum bright="-32000"/>
          </a:blip>
          <a:stretch/>
        </p:blipFill>
        <p:spPr>
          <a:xfrm>
            <a:off x="5357880" y="2714760"/>
            <a:ext cx="11001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72160" y="271476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6160" y="3000240"/>
            <a:ext cx="1042920" cy="1897200"/>
          </a:xfrm>
          <a:prstGeom prst="rect">
            <a:avLst/>
          </a:prstGeom>
          <a:ln w="0">
            <a:noFill/>
          </a:ln>
        </p:spPr>
      </p:pic>
      <p:sp>
        <p:nvSpPr>
          <p:cNvPr id="233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w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2"/>
          <a:stretch/>
        </p:blipFill>
        <p:spPr>
          <a:xfrm rot="3629400">
            <a:off x="3199320" y="4186800"/>
            <a:ext cx="970200" cy="292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13"/>
          <a:stretch/>
        </p:blipFill>
        <p:spPr>
          <a:xfrm flipH="1" rot="14430600">
            <a:off x="2144520" y="4358880"/>
            <a:ext cx="650880" cy="546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14"/>
          <a:stretch/>
        </p:blipFill>
        <p:spPr>
          <a:xfrm flipH="1" rot="17535600">
            <a:off x="2980440" y="505944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15"/>
          <a:stretch/>
        </p:blipFill>
        <p:spPr>
          <a:xfrm flipH="1" rot="15644400">
            <a:off x="4430520" y="4859280"/>
            <a:ext cx="650880" cy="546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16">
            <a:lum bright="-4000"/>
          </a:blip>
          <a:stretch/>
        </p:blipFill>
        <p:spPr>
          <a:xfrm flipH="1" rot="15643800">
            <a:off x="4529880" y="3783600"/>
            <a:ext cx="1036800" cy="869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17">
            <a:lum contrast="78000"/>
          </a:blip>
          <a:stretch/>
        </p:blipFill>
        <p:spPr>
          <a:xfrm flipH="1" rot="7727400">
            <a:off x="5073120" y="4789080"/>
            <a:ext cx="419040" cy="412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18"/>
          <a:stretch/>
        </p:blipFill>
        <p:spPr>
          <a:xfrm flipH="1" rot="11916000">
            <a:off x="6716880" y="357300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9">
            <a:lum contrast="74000"/>
          </a:blip>
          <a:stretch/>
        </p:blipFill>
        <p:spPr>
          <a:xfrm flipH="1" rot="11916600">
            <a:off x="5927400" y="4446360"/>
            <a:ext cx="651240" cy="54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44" name="Tekstvak 28"/>
          <p:cNvSpPr/>
          <p:nvPr/>
        </p:nvSpPr>
        <p:spPr>
          <a:xfrm>
            <a:off x="556272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d6"/>
                </a:solidFill>
                <a:latin typeface="Arial"/>
              </a:rPr>
              <a:t>ons bedrijf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29"/>
          <p:cNvSpPr/>
          <p:nvPr/>
        </p:nvSpPr>
        <p:spPr>
          <a:xfrm>
            <a:off x="571680" y="214200"/>
            <a:ext cx="62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5196-783F-4F2A-919F-7C9C0C1BC28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3724200" y="4206960"/>
            <a:ext cx="1311480" cy="1603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19200" y="4280040"/>
            <a:ext cx="1231920" cy="1444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5022720" y="3992400"/>
            <a:ext cx="798480" cy="1159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>
            <a:off x="5956200" y="3395520"/>
            <a:ext cx="871560" cy="2067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>
            <a:off x="3164040" y="3151080"/>
            <a:ext cx="1029960" cy="1554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39800" y="3638520"/>
            <a:ext cx="101124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gerard\Local Settings\Temporary Internet Files\Content.IE5\4W83JHJS\MCj04339320000[1].png"/>
          <p:cNvPicPr/>
          <p:nvPr/>
        </p:nvPicPr>
        <p:blipFill>
          <a:blip r:embed="rId8"/>
          <a:stretch/>
        </p:blipFill>
        <p:spPr>
          <a:xfrm>
            <a:off x="5353200" y="2706840"/>
            <a:ext cx="1108080" cy="144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66040" y="2706840"/>
            <a:ext cx="1083960" cy="1444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0040" y="2992320"/>
            <a:ext cx="1054080" cy="1908360"/>
          </a:xfrm>
          <a:prstGeom prst="rect">
            <a:avLst/>
          </a:prstGeom>
          <a:ln w="0">
            <a:noFill/>
          </a:ln>
        </p:spPr>
      </p:pic>
      <p:sp>
        <p:nvSpPr>
          <p:cNvPr id="258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j..,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2"/>
          <a:stretch/>
        </p:blipFill>
        <p:spPr>
          <a:xfrm>
            <a:off x="3309840" y="3833640"/>
            <a:ext cx="749520" cy="1000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13"/>
          <a:stretch/>
        </p:blipFill>
        <p:spPr>
          <a:xfrm>
            <a:off x="2066760" y="4206960"/>
            <a:ext cx="804960" cy="846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14"/>
          <a:stretch/>
        </p:blipFill>
        <p:spPr>
          <a:xfrm>
            <a:off x="2919240" y="4925880"/>
            <a:ext cx="768600" cy="816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15"/>
          <a:stretch/>
        </p:blipFill>
        <p:spPr>
          <a:xfrm>
            <a:off x="4425840" y="4761000"/>
            <a:ext cx="658800" cy="744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16"/>
          <a:stretch/>
        </p:blipFill>
        <p:spPr>
          <a:xfrm>
            <a:off x="4529160" y="3633840"/>
            <a:ext cx="1036440" cy="1170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17"/>
          <a:stretch/>
        </p:blipFill>
        <p:spPr>
          <a:xfrm>
            <a:off x="4986360" y="469440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18"/>
          <a:stretch/>
        </p:blipFill>
        <p:spPr>
          <a:xfrm>
            <a:off x="6638760" y="3481560"/>
            <a:ext cx="804960" cy="730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19"/>
          <a:stretch/>
        </p:blipFill>
        <p:spPr>
          <a:xfrm>
            <a:off x="5851440" y="4352760"/>
            <a:ext cx="804960" cy="736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69" name="Tekstvak 28"/>
          <p:cNvSpPr/>
          <p:nvPr/>
        </p:nvSpPr>
        <p:spPr>
          <a:xfrm>
            <a:off x="558648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ffff"/>
                </a:solidFill>
                <a:latin typeface="Arial"/>
              </a:rPr>
              <a:t>ons bedrijf..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kstvak 29"/>
          <p:cNvSpPr/>
          <p:nvPr/>
        </p:nvSpPr>
        <p:spPr>
          <a:xfrm>
            <a:off x="609480" y="214200"/>
            <a:ext cx="4672080" cy="375048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44b8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eft info over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medewerker, zijn werk en werkomstandighe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paalt de werkwijz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oudt toezich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rrigeer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C7E3-D231-44B6-B073-A57A20CCCB1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2" descr="C:\Documents and Settings\gerard\Local Settings\Temporary Internet Files\Content.IE5\SH0PLZ11\MPj02160520000[1].jpg"/>
          <p:cNvPicPr/>
          <p:nvPr/>
        </p:nvPicPr>
        <p:blipFill>
          <a:blip r:embed="rId2"/>
          <a:stretch/>
        </p:blipFill>
        <p:spPr>
          <a:xfrm>
            <a:off x="3925800" y="353880"/>
            <a:ext cx="1621080" cy="2157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>
            <a:off x="3857760" y="1643040"/>
            <a:ext cx="1822320" cy="2149560"/>
          </a:xfrm>
          <a:prstGeom prst="rect">
            <a:avLst/>
          </a:prstGeom>
          <a:ln w="0">
            <a:noFill/>
          </a:ln>
        </p:spPr>
      </p:pic>
      <p:sp>
        <p:nvSpPr>
          <p:cNvPr id="274" name="Gekromde PIJL-RECHTS 8"/>
          <p:cNvSpPr/>
          <p:nvPr/>
        </p:nvSpPr>
        <p:spPr>
          <a:xfrm>
            <a:off x="2286000" y="857160"/>
            <a:ext cx="1571760" cy="3714840"/>
          </a:xfrm>
          <a:custGeom>
            <a:avLst/>
            <a:gdLst>
              <a:gd name="textAreaLeft" fmla="*/ 210600 w 1571760"/>
              <a:gd name="textAreaRight" fmla="*/ 1361160 w 1571760"/>
              <a:gd name="textAreaTop" fmla="*/ 781200 h 3714840"/>
              <a:gd name="textAreaBottom" fmla="*/ 2737080 h 371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87" stAng="-5400000" swAng="-5400000"/>
                <a:lnTo>
                  <a:pt x="0" y="11372"/>
                </a:lnTo>
                <a:arcTo wR="21600" hR="9087" stAng="10800000" swAng="-3507558"/>
                <a:lnTo>
                  <a:pt x="16200" y="21311"/>
                </a:lnTo>
                <a:lnTo>
                  <a:pt x="21600" y="19316"/>
                </a:lnTo>
                <a:lnTo>
                  <a:pt x="16200" y="16742"/>
                </a:lnTo>
                <a:lnTo>
                  <a:pt x="16200" y="17884"/>
                </a:lnTo>
                <a:arcTo wR="21600" hR="9087" stAng="7292442" swAng="3324442"/>
                <a:lnTo>
                  <a:pt x="171" y="10229"/>
                </a:lnTo>
                <a:arcTo wR="21600" hR="9087" stAng="-10616884" swAng="5216884"/>
                <a:close/>
              </a:path>
              <a:path fill="darkenLess" w="21600" h="21600">
                <a:moveTo>
                  <a:pt x="21600" y="0"/>
                </a:moveTo>
                <a:arcTo wR="21600" hR="9087" stAng="-5400000" swAng="-5400000"/>
                <a:lnTo>
                  <a:pt x="0" y="9087"/>
                </a:lnTo>
                <a:arcTo wR="21600" hR="9087" stAng="10800000" swAng="-183116"/>
                <a:lnTo>
                  <a:pt x="171" y="10229"/>
                </a:lnTo>
                <a:arcTo wR="21600" hR="9087" stAng="-10616884" swAng="5216884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3786120" y="3214800"/>
            <a:ext cx="1932120" cy="2576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5"/>
          <a:stretch/>
        </p:blipFill>
        <p:spPr>
          <a:xfrm flipH="1" rot="11916600">
            <a:off x="4282560" y="4731840"/>
            <a:ext cx="651240" cy="546120"/>
          </a:xfrm>
          <a:prstGeom prst="rect">
            <a:avLst/>
          </a:prstGeom>
          <a:ln w="0">
            <a:noFill/>
          </a:ln>
        </p:spPr>
      </p:pic>
      <p:sp>
        <p:nvSpPr>
          <p:cNvPr id="277" name="Gekromde PIJL-RECHTS 13"/>
          <p:cNvSpPr/>
          <p:nvPr/>
        </p:nvSpPr>
        <p:spPr>
          <a:xfrm flipH="1">
            <a:off x="5643000" y="928800"/>
            <a:ext cx="1285560" cy="3714480"/>
          </a:xfrm>
          <a:custGeom>
            <a:avLst/>
            <a:gdLst>
              <a:gd name="textAreaLeft" fmla="*/ 172080 w 1285560"/>
              <a:gd name="textAreaRight" fmla="*/ 1113480 w 1285560"/>
              <a:gd name="textAreaTop" fmla="*/ 807840 h 3714480"/>
              <a:gd name="textAreaBottom" fmla="*/ 2745720 h 37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98" stAng="-5400000" swAng="-5400000"/>
                <a:lnTo>
                  <a:pt x="0" y="11268"/>
                </a:lnTo>
                <a:arcTo wR="21600" hR="9398" stAng="10800000" swAng="-3558819"/>
                <a:lnTo>
                  <a:pt x="16200" y="21302"/>
                </a:lnTo>
                <a:lnTo>
                  <a:pt x="21600" y="19731"/>
                </a:lnTo>
                <a:lnTo>
                  <a:pt x="16200" y="17564"/>
                </a:lnTo>
                <a:lnTo>
                  <a:pt x="16200" y="18498"/>
                </a:lnTo>
                <a:arcTo wR="21600" hR="9398" stAng="7241181" swAng="3409361"/>
                <a:lnTo>
                  <a:pt x="107" y="10333"/>
                </a:lnTo>
                <a:arcTo wR="21600" hR="9398" stAng="-10650542" swAng="5250542"/>
                <a:close/>
              </a:path>
              <a:path fill="darkenLess" w="21600" h="21600">
                <a:moveTo>
                  <a:pt x="21600" y="0"/>
                </a:moveTo>
                <a:arcTo wR="21600" hR="9398" stAng="-5400000" swAng="-5400000"/>
                <a:lnTo>
                  <a:pt x="0" y="9398"/>
                </a:lnTo>
                <a:arcTo wR="21600" hR="9398" stAng="10800000" swAng="-149458"/>
                <a:lnTo>
                  <a:pt x="107" y="10333"/>
                </a:lnTo>
                <a:arcTo wR="21600" hR="9398" stAng="-10650542" swAng="5250542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kstvak 14"/>
          <p:cNvSpPr/>
          <p:nvPr/>
        </p:nvSpPr>
        <p:spPr>
          <a:xfrm>
            <a:off x="609480" y="857160"/>
            <a:ext cx="203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t wil je? kijk zelf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moet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nt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el veilig,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doe ik zelf oo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kstvak 15"/>
          <p:cNvSpPr/>
          <p:nvPr/>
        </p:nvSpPr>
        <p:spPr>
          <a:xfrm>
            <a:off x="6929280" y="285840"/>
            <a:ext cx="221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k vind dat j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veiligheid betref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ijp ik wel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 ook niet perfec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r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B247-56A9-4FE3-BB7C-A64C9E7FF22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Wolk 9"/>
          <p:cNvSpPr/>
          <p:nvPr/>
        </p:nvSpPr>
        <p:spPr>
          <a:xfrm>
            <a:off x="714240" y="785880"/>
            <a:ext cx="7429680" cy="485784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840"/>
              <a:gd name="textAreaBottom" fmla="*/ 3899160 h 4857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283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Tekstvak 10"/>
          <p:cNvGrpSpPr/>
          <p:nvPr/>
        </p:nvGrpSpPr>
        <p:grpSpPr>
          <a:xfrm>
            <a:off x="1127160" y="2120760"/>
            <a:ext cx="6284880" cy="871560"/>
            <a:chOff x="1127160" y="2120760"/>
            <a:chExt cx="6284880" cy="871560"/>
          </a:xfrm>
        </p:grpSpPr>
        <p:pic>
          <p:nvPicPr>
            <p:cNvPr id="286" name="Tekstvak 10" descr=""/>
            <p:cNvPicPr/>
            <p:nvPr/>
          </p:nvPicPr>
          <p:blipFill>
            <a:blip r:embed="rId3"/>
            <a:stretch/>
          </p:blipFill>
          <p:spPr>
            <a:xfrm>
              <a:off x="1127160" y="2120760"/>
              <a:ext cx="6284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214280" y="2214720"/>
              <a:ext cx="61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 </a:t>
              </a:r>
              <a:r>
                <a:rPr b="0" lang="en-US" sz="2800" spc="-1" strike="noStrike">
                  <a:solidFill>
                    <a:srgbClr val="0000b3"/>
                  </a:solidFill>
                  <a:latin typeface="Arial"/>
                  <a:ea typeface="Tahoma"/>
                </a:rPr>
                <a:t>organisatorische 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289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Tekstvak 13"/>
          <p:cNvGrpSpPr/>
          <p:nvPr/>
        </p:nvGrpSpPr>
        <p:grpSpPr>
          <a:xfrm>
            <a:off x="2494080" y="3365640"/>
            <a:ext cx="2590560" cy="504720"/>
            <a:chOff x="2494080" y="3365640"/>
            <a:chExt cx="2590560" cy="504720"/>
          </a:xfrm>
        </p:grpSpPr>
        <p:pic>
          <p:nvPicPr>
            <p:cNvPr id="296" name="Tekstvak 13" descr=""/>
            <p:cNvPicPr/>
            <p:nvPr/>
          </p:nvPicPr>
          <p:blipFill>
            <a:blip r:embed="rId5"/>
            <a:stretch/>
          </p:blipFill>
          <p:spPr>
            <a:xfrm>
              <a:off x="2494080" y="3365640"/>
              <a:ext cx="25905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600280" y="342900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7ffff"/>
                  </a:solidFill>
                  <a:latin typeface="Arial"/>
                  <a:ea typeface="Tahoma"/>
                </a:rPr>
                <a:t>uitvoeringsteam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2590920" y="4038480"/>
            <a:ext cx="27144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300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EAEA-C60B-48CB-AD11-C7C2800E2E6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71680" y="1499760"/>
            <a:ext cx="8370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asisvoorwaar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eelsselectie en begeleiding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man op de juist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e: werk, team en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continue in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ervaties veiligheids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tructureerd overle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delen klachten en v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4 Organisatorische inspann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17:14Z</dcterms:modified>
  <cp:revision>271</cp:revision>
  <dc:subject/>
  <dc:title>Taak en positie VFP</dc:title>
</cp:coreProperties>
</file>