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19AE-818D-4A89-9E2D-966C095DFEF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F7CF-3DBA-4BAA-86CC-E64A08435A0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FE7-7C05-44A8-9405-9EB10AB5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003-9D3A-4716-B86C-EBE25339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53F-041F-4B40-B6D3-970C1526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424-A8C1-44E3-9223-F1DEBA44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B43D-2712-4ECE-B73F-F4B86E22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D150-090C-4733-A3E2-FCCEF36A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0834-21CA-477B-BBDC-1D0459CC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CEA5-39B8-45D4-8986-8447E0D7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D957-9212-4148-BE47-462AA606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B396-44EE-4C53-AD7B-86BF2808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5E78-31B5-4DF3-9204-72DA641E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47B-1E41-478D-9943-CC97F992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0BE5-CCF3-4567-838C-7C6C2F1B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4687-FB84-4E60-89DF-18762ED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9938-553C-4B37-8461-5109A146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091B-B86A-462C-AE1A-086B440F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6A93-4E56-4EB7-9A2A-5FCE57B1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4B87-BB63-4A39-92F2-AA7EAE92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70C0C-FB65-40BE-8294-05A05119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952DC-DD8E-4B09-9101-9CB4468F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C1C2-9124-4442-951D-04C77C2A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9DCB2-0BF9-43FF-952A-1988F52C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907-D609-4C0C-BE1A-63BEDCD8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D3A0-B75A-4904-BF9D-E068B4ED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96B90-7CD7-4E51-8873-00AC93C5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A580-7E63-431B-8CB7-5C16E77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6565-87C3-418D-A710-B608CB4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9FA5-1D4B-4CDE-A3A3-54D10142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27F7-4FF9-4195-8932-F3024981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F744-24FC-43A3-B20F-34D32920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7A5B-2877-4BA7-9217-01921B5C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85D-6811-4E50-BD52-2220DC70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4BB-7BA7-4128-A553-29F6C1DF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F6B-7694-4D3D-B9DB-BB18454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56F-941A-4D63-9E5E-B1C4D55E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4B1-84AC-4025-A450-D231D80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8273-1BC1-40D2-9EDD-239463B22B50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F021-6656-4970-9C82-CB9DE3FACD75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3A88-7AB6-4965-A2FD-B40CFC87C56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50104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bf19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Hoofdstuk 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Lasten verplaatsen: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bf19"/>
                </a:solidFill>
                <a:latin typeface="Arial"/>
              </a:rPr>
              <a:t>naderend onhe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3A44-D0B6-4B5B-8419-CF5EBE142AF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71320" y="999720"/>
            <a:ext cx="8458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hijsen vereis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orenkranen, mobiele kranen en heistell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 een lastmoment gelijk aan of groter dan 10 ton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836C-50EC-4567-BB46-001F6C6FDC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71320" y="1143000"/>
            <a:ext cx="815652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e visuele controle van het materieel op beschadigingen en slij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idhoek van sprongen zo klein mogelijk (max. 1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windkracht 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afstemming bij de inzet van meerdere hijskranen (kranenpla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2184-4B7F-474C-94CC-EDACCBD6EF6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428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6" descr="hijsjuk_thumb1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500880" y="3780000"/>
            <a:ext cx="2643120" cy="2220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928440"/>
            <a:ext cx="815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gereedschap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n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delen van het gebruik van een hijsj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en van te grote spreidh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lijksoortige lasten snell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pi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s hangen recht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geen kans op schui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2EBE-AE9E-4144-AD3E-F9131AB8DAA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20116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10.3 </a:t>
            </a: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Hijsen</a:t>
            </a:r>
            <a:r>
              <a:rPr b="1" lang="en-US" sz="2400" spc="-1" strike="noStrike">
                <a:solidFill>
                  <a:srgbClr val="07bf19"/>
                </a:solidFill>
                <a:latin typeface="Arial"/>
              </a:rPr>
              <a:t> (5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71320" y="85680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in lengterich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s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A8D3-DD7F-4176-B29F-47F3F04D17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Afbeelding 5" descr="Herstel%20(2).jpg"/>
          <p:cNvPicPr/>
          <p:nvPr/>
        </p:nvPicPr>
        <p:blipFill>
          <a:blip r:embed="rId2"/>
          <a:srcRect l="0" t="26596" r="37962" b="8594"/>
          <a:stretch/>
        </p:blipFill>
        <p:spPr>
          <a:xfrm>
            <a:off x="1785960" y="3071880"/>
            <a:ext cx="2143080" cy="1676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71320" y="114264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staalkabel bezwijkt: ernstig gevaar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ware materiële 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33CE-E0BC-420E-8D94-39EE47004A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Afbeelding 4" descr="200px-Fraying_wire_rope.jpg"/>
          <p:cNvPicPr/>
          <p:nvPr/>
        </p:nvPicPr>
        <p:blipFill>
          <a:blip r:embed="rId2"/>
          <a:stretch/>
        </p:blipFill>
        <p:spPr>
          <a:xfrm>
            <a:off x="6143760" y="2428920"/>
            <a:ext cx="2333520" cy="31147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10.3 Hijsen (7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71320" y="11473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staalkab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gebruiken bi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4720" indent="-2034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924-CE7D-40C4-B3B0-B7EB7D27FC5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Afbeelding 4" descr="96px-Steel_wire_rope.png"/>
          <p:cNvPicPr/>
          <p:nvPr/>
        </p:nvPicPr>
        <p:blipFill>
          <a:blip r:embed="rId2"/>
          <a:stretch/>
        </p:blipFill>
        <p:spPr>
          <a:xfrm>
            <a:off x="7215120" y="2428920"/>
            <a:ext cx="1928880" cy="25542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8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fbeelding 5" descr="hijsbanden.jpg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71320" y="714240"/>
            <a:ext cx="815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tte, geweven ban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usvorm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met leder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binnenzij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bel met aandu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vuldig mee w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overbelast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keuren bij slijtage, beschadiging, vervuiling doo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lie of chemicalië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fkeuren als het label onleesbaa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EBC1-7694-4CEC-85CE-1A8598A854C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642924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9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1320" y="1147680"/>
            <a:ext cx="83581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bediend hijstoest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ering van lasten tijdens hijswerkzaamhede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 bij tak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5BB1-36BF-4C47-B049-7F3B6B1BA38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4 Takelen met een handtakel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71320" y="99972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 gebruik 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haak niet op de punt be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F722-11B6-4098-BDB7-90BCD7F4706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71320" y="1147680"/>
            <a:ext cx="8156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ktrocutie bij kabel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- en explosie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delving bij instortingen (inkalv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emvervuiling bij leidingbre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omend wa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als gassen vrij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che en/of bacteriologische vervuiling van de bod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80E-05D7-4B40-A93A-3E75A74281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2"/>
          <a:srcRect l="3232" t="0" r="40324" b="29011"/>
          <a:stretch/>
        </p:blipFill>
        <p:spPr>
          <a:xfrm>
            <a:off x="6429240" y="0"/>
            <a:ext cx="27147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 Lasten verplaat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plaatsen in alle rich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en til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len met een handtak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kheftru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letwage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A43F-EAE0-4A63-993B-0C3CF0B7EED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71680" y="114732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aag gegevens leidingen/kabels (klic/kad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voorgenomen graafwerk aan k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niet starten zolang er geen gegevens zij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aanwijzingen netbehee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ligging kabels/pijpleidingen met proefsleu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getande graafbak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dracht / toezicht op veilig w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 en afwijkende liggingen melden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tbeheerders/klic/kadas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C12C-8CF0-4ACD-9714-F4F360DE14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429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42" name="Afbeelding 4" descr="excavation.jpg"/>
          <p:cNvPicPr/>
          <p:nvPr/>
        </p:nvPicPr>
        <p:blipFill>
          <a:blip r:embed="rId2"/>
          <a:stretch/>
        </p:blipFill>
        <p:spPr>
          <a:xfrm>
            <a:off x="7010280" y="3657600"/>
            <a:ext cx="1398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71320" y="999720"/>
            <a:ext cx="8156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werken in/bij uitgraving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k rond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ravingwan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nodig stu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ling talud aanpassen aan diepte en soort ondergr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oeiing sluit goed aan bij de 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egraven grond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materiaal en materieel op veilige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gascilinders in de uitgra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uchtweg: 2 ladders  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pe uitgraving benaderen als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7CE-4B6C-4FBD-AD29-DDFAB17A4A2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5 Grav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6740640" y="0"/>
            <a:ext cx="2403360" cy="21430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47560" y="928440"/>
            <a:ext cx="82281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ongevallen met heftruc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ige gevolgen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kan vall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ftruck kan kantel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rijden personen, goederen of gebouw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j niet-vakkundig gebruik schade a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16992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82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 heftruck op bijv. dieselolie die binnen wordt gebruikt, vervuilt de in te ademen lucht ernst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8D52-146B-40E4-AA13-3F736B3DB0C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-1432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6 Vorkheftruck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320" y="990720"/>
            <a:ext cx="8142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jbewijs…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CE02-3B03-4898-A44E-7A36F1D3599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7 Palletwag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4804-91B9-4229-B119-225DD047ABC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71680" y="11476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jnlijke schouder en armen door te zware las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-265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Tijdelijke aanduiding voor inhoud 4" descr="palletwagen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248600" y="0"/>
            <a:ext cx="189540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7358040" y="3071880"/>
            <a:ext cx="164304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499760"/>
            <a:ext cx="84294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 bedrijf heeft te maken met trans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aal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899-4121-449E-A3DE-92E64D22263A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1320" y="1294920"/>
            <a:ext cx="81421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risico op - soms ernstige - schade 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perso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hijswerktui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EF49-7DFC-4C7F-AAB0-63570B4933DE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1 Verplaatsen in alle richt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 Tillen van las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143000"/>
            <a:ext cx="81565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evaren bij handmatig tillen en verplaat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handvatten of goede uitsparingen zijn no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ook op lange termijn mogelij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gblessures zijn een belangrijke reden voor het afkeuren va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7A6E-BA47-4A38-B8EF-40DBD85302A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Afbeelding 4" descr="imagesCAH6CN3G.jpg"/>
          <p:cNvPicPr/>
          <p:nvPr/>
        </p:nvPicPr>
        <p:blipFill>
          <a:blip r:embed="rId2"/>
          <a:stretch/>
        </p:blipFill>
        <p:spPr>
          <a:xfrm>
            <a:off x="3286080" y="428616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71320" y="1571400"/>
            <a:ext cx="8429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bij handmatig tillen en verplaat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len met een rechte rug en gebogen knieë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7E8E-853D-4ED9-B462-354F149E8D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2 Tillen van last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428480"/>
            <a:ext cx="8084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rdere 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stig t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meer dan 25 k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te h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niet te ver handmatig verplaat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e tilt, bepaalt eigen temp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de vlo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ffenhed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036E-D58A-408D-9D1E-CE1DFDF678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147320"/>
            <a:ext cx="8013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kseminslag of omwaai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575F-BC9B-47FE-8C70-771223FDD9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Afbeelding 4" descr="imagesCAPB6G3T.jpg"/>
          <p:cNvPicPr/>
          <p:nvPr/>
        </p:nvPicPr>
        <p:blipFill>
          <a:blip r:embed="rId2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bf19"/>
                </a:solidFill>
                <a:latin typeface="Arial"/>
              </a:rPr>
              <a:t>10.3 Hijs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7840" y="999720"/>
            <a:ext cx="8227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7bf1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tabellen en hijsgrafie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k gewicht op welke afstand mag worden verplaat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scertificaten van lieren, takels, hijsmasten, extra kettingen, hijsjuk en ander hijsgereed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689C-D5F5-4345-B725-C199F9CD71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3:37Z</dcterms:modified>
  <cp:revision>116</cp:revision>
  <dc:subject/>
  <dc:title>Taak en positie VFP</dc:title>
</cp:coreProperties>
</file>