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7239000" cy="10666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144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95200" y="739800"/>
            <a:ext cx="2476440" cy="365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84760"/>
            <a:ext cx="2890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84760"/>
            <a:ext cx="2890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825040-949A-4F11-A5A2-DE4E8F0995B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8F878C0-9A79-489D-A9EB-B44C0076E04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E2297C0-29DA-456D-93BC-7B6F6C0AA41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FB0B6B-434A-4C07-A1B1-DDAD815613C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C7589E-CE4C-47D9-BE83-873B395F039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62C76D-B0EB-4998-BBAF-F9ED9AC0472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64DF31-11E8-4805-AA16-908FD5C0E78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BA4847-78E9-43DB-BD7F-53BDC7BAE5C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905F21-7A36-40CE-B6E7-ED9D015AE06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631E5A7-4616-451E-B611-67099EAE108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C698AD-1098-47FD-BDE4-A9E75ACC469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64C6BE-1F97-4CF5-ADD3-1B2483065F0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A156F36-0156-4419-825A-89694DA7071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9D7B61-072F-4592-973C-577087C57A0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40D973-11A0-4C71-AA04-EC6D6710A7D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E483F54-F2A6-4A55-8B50-6D8BD25C67C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A98798-23A2-447D-810B-AFB02FE4831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2E57FA-F018-49AE-80A7-EE686078348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6B318A-4EFC-4E7C-B5D5-97079983827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BCECF2A-7CA0-4AD7-8378-36AD1144933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A6D3166-1B55-4CCE-BC61-1ADFA53CD0E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F8C62C-7FB4-4CE3-BF9A-C74AD6D02D6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A9B106D-5E9B-454F-B448-75A4FD7D0EB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AF1696-EEA4-4B2C-A638-C68AE8825AE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46B08F-5721-4F0A-B71A-107CF93D4CC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1D8A18-7BE1-42D4-B2E2-6063877F0BA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61BD-EE2B-4DB6-9C32-DEE4B1B0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34BA-EDAC-4FAD-A74B-71C29979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1A14-A164-47DD-BC77-593316CE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E9D3-391B-4E57-A4A4-CFAAB259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8DF-5390-4FAA-AAB9-ACEFC04E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3A1C-4448-4766-941D-8855F90D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E9AE-F492-474B-B043-9B40326F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CDC-86A5-4A5D-9945-2181D9BA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7880"/>
            <a:ext cx="615312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5DBB-996B-41B5-A780-7CFB8AA5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0C8-6532-4914-B888-A2236D88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A42-8C82-4F00-B6F3-3EBF5DA1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CC4-E2C9-46EB-B23A-BBB7C857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20000"/>
            <a:ext cx="2292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277B21B-FF60-4637-AFA9-B2AE614C4BE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418FFB-4F4A-4B6A-A538-DFE4CF33906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2880" y="96696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85760" y="2971800"/>
            <a:ext cx="5067360" cy="67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j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jskr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AAE606-263F-43A7-9449-4153E595CA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2"/>
          <p:cNvGraphicFramePr/>
          <p:nvPr/>
        </p:nvGraphicFramePr>
        <p:xfrm>
          <a:off x="534960" y="1011240"/>
          <a:ext cx="6162840" cy="864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1011240"/>
                    <a:ext cx="6162840" cy="864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3"/>
          <p:cNvSpPr/>
          <p:nvPr/>
        </p:nvSpPr>
        <p:spPr>
          <a:xfrm rot="16200000">
            <a:off x="1926360" y="828684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-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 rot="16200000">
            <a:off x="1776240" y="5924520"/>
            <a:ext cx="196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rp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 rot="16200000">
            <a:off x="1345680" y="2369160"/>
            <a:ext cx="331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weedse haak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ichzelfsluitende kl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 rot="16200000">
            <a:off x="5662080" y="1960200"/>
            <a:ext cx="179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opsch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 rot="16200000">
            <a:off x="5661360" y="4092840"/>
            <a:ext cx="179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latenk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 rot="16200000">
            <a:off x="5813640" y="638100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ijgh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 rot="16200000">
            <a:off x="4442040" y="950364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ijgh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6B45339-7D9C-42D7-AC5F-859FEA487D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2880" y="414000"/>
            <a:ext cx="6153120" cy="13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alka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2880" y="1557000"/>
            <a:ext cx="6153120" cy="819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erkte van de staalkabel hangt af 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amenstelling van de staal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kte van de staal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waliteit van het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waliteit van de k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staalkabels horen certificaten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gelden een aantal regels voor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slaan in droge, goed geventileerde ruim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in aanraking laten komen met zuren. l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specteren op roest en slij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F4C0BF-F4B6-4891-88B0-0EF394313C8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en vernietigen van staalka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felige spli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rdere draden zijn gebroken (vleeshak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 één plaats draden gebroken (breuknes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n buiten verbogen of beschadig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est of slijt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0CC7E5-FB3F-4675-9EA2-99C0E11EEE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271440" y="1008000"/>
          <a:ext cx="4427640" cy="700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1008000"/>
                    <a:ext cx="4427640" cy="70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3"/>
          <p:cNvSpPr/>
          <p:nvPr/>
        </p:nvSpPr>
        <p:spPr>
          <a:xfrm>
            <a:off x="4365000" y="6918480"/>
            <a:ext cx="13968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831480" y="4935600"/>
            <a:ext cx="29192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reuk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756600" y="3032280"/>
            <a:ext cx="2856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ogel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527640" y="1584360"/>
            <a:ext cx="3261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leesh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4036A0-F853-41A3-8394-8A2A818E1B7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6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oppen, lengen en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9200" y="1940040"/>
            <a:ext cx="6153120" cy="750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oppen en le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beide kanten een 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strop heeft een grote lus, een leng een kleine 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kern van de stroppen en lengen is van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aakt van kunststof of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de hijsband zit een label gena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band is minimaal 5 cm breed en de ogen moeten minimaal 20 cm groot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0C20FA-6062-4E94-A0EB-3EB1724A8D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bij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hijsband sterk genoeg is voor de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 op voor scherpe h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 op voor teveel zon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de hijsband regelma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B7181EF-EED0-43E9-8F3E-EBCC039A2E4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 zijn ernstig versl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tten scheuren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tten olie of chemicalië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is iets mis met de metalen onderdelen die aan de hijsband vastzitten (intering, breuk, vervorming, ro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58680" y="7701120"/>
            <a:ext cx="5626440" cy="196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hijsband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gekeurd dienen ze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nieti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F44DD69-04D0-463D-B642-37FBB2201ED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gereedschappen in samenst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82720" y="9150480"/>
            <a:ext cx="5473800" cy="444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882720" y="831204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1035000" y="84646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3168720" y="6789600"/>
            <a:ext cx="520560" cy="8226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3168720" y="564516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"/>
          <p:cNvSpPr/>
          <p:nvPr/>
        </p:nvSpPr>
        <p:spPr>
          <a:xfrm>
            <a:off x="3168720" y="442584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"/>
          <p:cNvSpPr/>
          <p:nvPr/>
        </p:nvSpPr>
        <p:spPr>
          <a:xfrm>
            <a:off x="5835600" y="8312040"/>
            <a:ext cx="52092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1"/>
          <p:cNvSpPr/>
          <p:nvPr/>
        </p:nvSpPr>
        <p:spPr>
          <a:xfrm>
            <a:off x="3092400" y="2139840"/>
            <a:ext cx="520920" cy="827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2"/>
          <p:cNvSpPr/>
          <p:nvPr/>
        </p:nvSpPr>
        <p:spPr>
          <a:xfrm>
            <a:off x="3244680" y="236700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3"/>
          <p:cNvSpPr/>
          <p:nvPr/>
        </p:nvSpPr>
        <p:spPr>
          <a:xfrm>
            <a:off x="5987880" y="84646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4"/>
          <p:cNvSpPr/>
          <p:nvPr/>
        </p:nvSpPr>
        <p:spPr>
          <a:xfrm>
            <a:off x="3321000" y="701676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5"/>
          <p:cNvSpPr/>
          <p:nvPr/>
        </p:nvSpPr>
        <p:spPr>
          <a:xfrm>
            <a:off x="3321000" y="45784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3321000" y="579744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/>
          <p:cNvSpPr/>
          <p:nvPr/>
        </p:nvSpPr>
        <p:spPr>
          <a:xfrm flipV="1">
            <a:off x="3016080" y="8463960"/>
            <a:ext cx="901800" cy="672840"/>
          </a:xfrm>
          <a:custGeom>
            <a:avLst/>
            <a:gdLst>
              <a:gd name="textAreaLeft" fmla="*/ 187560 w 901800"/>
              <a:gd name="textAreaRight" fmla="*/ 714240 w 901800"/>
              <a:gd name="textAreaTop" fmla="*/ 140040 h 672840"/>
              <a:gd name="textAreaBottom" fmla="*/ 532800 h 67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97" y="21600"/>
                </a:lnTo>
                <a:lnTo>
                  <a:pt x="1620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3168720" y="7931160"/>
            <a:ext cx="596880" cy="520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3244680" y="8007480"/>
            <a:ext cx="36864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V="1">
            <a:off x="1104840" y="2971440"/>
            <a:ext cx="221004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H="1" flipV="1">
            <a:off x="3390840" y="2895120"/>
            <a:ext cx="2743200" cy="541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 flipV="1">
            <a:off x="1257480" y="5105160"/>
            <a:ext cx="1981080" cy="32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 flipV="1">
            <a:off x="1333440" y="6400440"/>
            <a:ext cx="198144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4"/>
          <p:cNvSpPr/>
          <p:nvPr/>
        </p:nvSpPr>
        <p:spPr>
          <a:xfrm flipV="1">
            <a:off x="1333440" y="7389360"/>
            <a:ext cx="182880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5"/>
          <p:cNvSpPr/>
          <p:nvPr/>
        </p:nvSpPr>
        <p:spPr>
          <a:xfrm flipH="1" flipV="1">
            <a:off x="3543120" y="5029200"/>
            <a:ext cx="243828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6"/>
          <p:cNvSpPr/>
          <p:nvPr/>
        </p:nvSpPr>
        <p:spPr>
          <a:xfrm flipH="1" flipV="1">
            <a:off x="3619080" y="6322680"/>
            <a:ext cx="2210040" cy="221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 flipH="1" flipV="1">
            <a:off x="3695400" y="7389360"/>
            <a:ext cx="213372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3068640" y="916632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0033"/>
                </a:solidFill>
                <a:latin typeface="Arial"/>
              </a:rPr>
              <a:t>10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4211640" y="764388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0033"/>
                </a:solidFill>
                <a:latin typeface="Arial"/>
              </a:rPr>
              <a:t>10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2458800" y="649908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ffcc"/>
                </a:solidFill>
                <a:latin typeface="Arial"/>
              </a:rPr>
              <a:t>7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3830400" y="528012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339933"/>
                </a:solidFill>
                <a:latin typeface="Arial"/>
              </a:rPr>
              <a:t>58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2"/>
          <p:cNvSpPr/>
          <p:nvPr/>
        </p:nvSpPr>
        <p:spPr>
          <a:xfrm>
            <a:off x="2382480" y="3443400"/>
            <a:ext cx="721440" cy="305640"/>
          </a:xfrm>
          <a:prstGeom prst="rect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cc99"/>
                </a:solidFill>
                <a:latin typeface="Arial"/>
              </a:rPr>
              <a:t>52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3152520" y="319896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00cc99"/>
                </a:solidFill>
                <a:latin typeface="Arial"/>
              </a:rPr>
              <a:t>30 </a:t>
            </a:r>
            <a:r>
              <a:rPr b="0" lang="nl-NL" sz="1600" spc="-1" strike="noStrike" baseline="30000">
                <a:solidFill>
                  <a:srgbClr val="00cc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3228480" y="518004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339933"/>
                </a:solidFill>
                <a:latin typeface="Arial"/>
              </a:rPr>
              <a:t>60 </a:t>
            </a:r>
            <a:r>
              <a:rPr b="0" lang="nl-NL" sz="1600" spc="-1" strike="noStrike" baseline="30000">
                <a:solidFill>
                  <a:srgbClr val="339933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3228480" y="639936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00ffcc"/>
                </a:solidFill>
                <a:latin typeface="Arial"/>
              </a:rPr>
              <a:t>90 </a:t>
            </a:r>
            <a:r>
              <a:rPr b="0" lang="nl-NL" sz="1600" spc="-1" strike="noStrike" baseline="30000">
                <a:solidFill>
                  <a:srgbClr val="00ffcc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6"/>
          <p:cNvSpPr/>
          <p:nvPr/>
        </p:nvSpPr>
        <p:spPr>
          <a:xfrm>
            <a:off x="3228480" y="7616880"/>
            <a:ext cx="64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0033"/>
                </a:solidFill>
                <a:latin typeface="Arial"/>
              </a:rPr>
              <a:t>120 </a:t>
            </a:r>
            <a:r>
              <a:rPr b="0" lang="nl-NL" sz="1600" spc="-1" strike="noStrike" baseline="30000">
                <a:solidFill>
                  <a:srgbClr val="ff0033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ADE8CD-A944-4505-837C-2A77FADF77F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soorten touw: natuurvezelt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kunstvezelt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waar touw aan blootgesteld kan wo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ressieve stoffen en chemicali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Jzerroest en vo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licht en droo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rpe hoeken aan de ra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806400" y="7778880"/>
            <a:ext cx="6007320" cy="1892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mer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uw mag niet gebruikt word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ten die zwaarder zijn dan 1000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A89468-67C4-406C-8726-2E160D69B7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van t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ij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uiling met olie en chemical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kleuring door ro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ad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er bij het opendraaien van het touw poeder uitko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C0A44A4-E7A5-4A7D-909E-DDB80900DDA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en &amp; Hijskra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rijkste regel: het is verboden te hijsen met iets dat daar niet voor is gemaa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elden van soorten hijskra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biele 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venloopkranen en portaal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laad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uw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49200" y="2444760"/>
            <a:ext cx="6540480" cy="1589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finitie: een hijskraan is een werktu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t is ingericht en uitgerust is voor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aatsen van vrijhangende la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71BBD7D-3909-4243-A4C9-B5E7CFBAEFA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k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2880" y="2133720"/>
            <a:ext cx="6153120" cy="73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s moeten één keer per jaar worden geïnspect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s moeten regelmatig worden beproef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aank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een repa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etting, eens per 4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het gebruik van tak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aak nooit op de punt bela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 niet overbelasten en inspecteren voor gebr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constateerde overbelasting direct laten inspect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06400" y="8389800"/>
            <a:ext cx="5702400" cy="1355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mer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delingse trekkracht is levensgevaar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62B603-8B09-4D76-979A-5F4393376DF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18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2880" y="1406160"/>
            <a:ext cx="6153120" cy="82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juiste til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gever moet kijken naar de mogelijke gevaren van tillen (RI&amp;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hulpmiddelen aanwez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ang, magneet, zuign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 werkmethoden (kranen, vorkheftrucks e.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od House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7953E1B-5BF0-4F67-B5BA-2A69049FD8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C:\Documents and Settings\Inge Nagle\Mijn documenten\Mijn afbeeldingen\houding.bmp"/>
          <p:cNvPicPr/>
          <p:nvPr/>
        </p:nvPicPr>
        <p:blipFill>
          <a:blip r:embed="rId1"/>
          <a:stretch/>
        </p:blipFill>
        <p:spPr>
          <a:xfrm>
            <a:off x="685800" y="380880"/>
            <a:ext cx="5838840" cy="42195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838080" y="5181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UT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1EB2355-4924-4C9D-96E5-3BCA20FF70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C:\Documents and Settings\Inge Nagle\Mijn documenten\Mijn afbeeldingen\houding1.bmp"/>
          <p:cNvPicPr/>
          <p:nvPr/>
        </p:nvPicPr>
        <p:blipFill>
          <a:blip r:embed="rId1"/>
          <a:stretch/>
        </p:blipFill>
        <p:spPr>
          <a:xfrm>
            <a:off x="700200" y="2743200"/>
            <a:ext cx="5838840" cy="4498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609480" y="4572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NK AAN JE RUG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IL JU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DFCDAE-12BA-4784-A31D-D0494B81AB6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ikelen, uitglijden en verst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42880" y="2055960"/>
            <a:ext cx="6153120" cy="74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risico’s kunnen worden weggen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aanpak (ontwerp, reparatie, opruimen, inrichting bouwpla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rkering (kleurmarkering, kleine afzetting zoals palen met kettingen ertu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(veiligheidsschoenen e.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77800" y="2139840"/>
            <a:ext cx="5931000" cy="181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ofdzaak van struikelen, uitglijden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appen is een niet-egal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ladde ondergr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jdelijke aanduiding voor datum 2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jdelijke aanduiding voor dianummer 4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2D95875-6CCB-4ACE-AC82-E1350BE9839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pskr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712800" y="2895480"/>
            <a:ext cx="59720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6E9D7C-8C37-4315-AC01-6407557F6B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71680" y="3048120"/>
            <a:ext cx="609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4E7ECD-7E94-4CE4-9AC2-E3B588B4EF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uropese machinericht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hijskranen moeten voldo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de Europ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richtlijn omd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Één onderdeel van de machine kan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achine een aandrijfmechanisme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achine heeft een bedieningsschakelaar of vermogens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301535-A113-4FB1-B337-2E9C2719997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880" y="261720"/>
            <a:ext cx="6153120" cy="13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uring van hijskra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2880" y="1481040"/>
            <a:ext cx="6153120" cy="819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bewijs dat kranen voldoen 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wettelijke eisen z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stgelegd 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bo-beslu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EN-nor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I bladen Arbeidsinsp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de kraan behoort Kraanboek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jstabellen en -grafieken 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ertifica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bewijs dat de kraandrijv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ikt over de nodige vakkenn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jsbewij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gistratieboek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F516DC-0134-4EE4-9A6A-0AB67E9F83B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&amp;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9200" y="2090520"/>
            <a:ext cx="6153120" cy="72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rootste risico bij hijsen is h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llen van de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olgende maatregelen dienen 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rden geno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gereedschap dient gekeurd te zijn en sterk genoeg voor de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catie tussen kraandrijver en degene die de last aanslaat en begeleidt (rigger) dient goed te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ndkracht 6 en meer mag er niet worden gehe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grond moet stevig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controleren van materi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41B3F1-ABBF-461E-A49C-E94A8E80432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42880" y="339840"/>
            <a:ext cx="6153120" cy="15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gereedschap, Ketting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42880" y="1862280"/>
            <a:ext cx="6153120" cy="796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 kettingwerk wordt versta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ett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l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rt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uit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gbou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654120" y="7550280"/>
            <a:ext cx="6083280" cy="212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kettingwerk dient een maxi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sting te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A13701-0EF6-4EA6-B2F3-A63CB300F3A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rtificaat bij ketting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2880" y="2744280"/>
            <a:ext cx="6153120" cy="673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het certificaat van de hijsketting dient het volgende te staa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e werk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ef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oei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istratien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da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6C9167-34AE-49A0-A2E0-DE02050080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sregels voor Hijskett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i bouten van sluitingen helemaal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st nooit de punt van de h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ketting sterk genoeg is voor de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ketting niet beschadig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hamer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9:00:13Z</dcterms:created>
  <dc:creator>Hajo Kleijburg</dc:creator>
  <dc:description>Revisie 0</dc:description>
  <dc:language>en-US</dc:language>
  <cp:lastModifiedBy>Hans Mulder</cp:lastModifiedBy>
  <cp:lastPrinted>2000-04-30T14:23:00Z</cp:lastPrinted>
  <dcterms:modified xsi:type="dcterms:W3CDTF">2016-10-03T10:34:54Z</dcterms:modified>
  <cp:revision>18</cp:revision>
  <dc:subject>Les 6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