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BECD-A75E-430E-8AF0-60A80697F8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CD89-D8FA-46BB-8111-3C2C10F18F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5EB-504C-4994-BC82-6FBBF26E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4B9-2853-4919-B5A6-AB86DCDA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F03-DB62-46CA-9102-B1C760B3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E2F-4CCD-461B-88C0-165BF442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DBA-294C-4F4C-A140-0F011A4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9A3-CF24-414F-8714-AFEE653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5E3-5A87-49A2-AD0F-056B7425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F4D-B2B0-4F04-BAA3-B25D5F7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246-BA58-47AD-A0AC-9557186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253-50E6-4E1F-B549-D24D935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985-E934-4A1D-B889-38F08403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C5E-CB90-4FF6-9E3B-9A0F11B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13C-B43C-4185-ADC2-FB30BD603D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er mis kan 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e deeltjes: oog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springen van 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mmen van werkstuk tegen slijpst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 door het aanraken draaiende slijpst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ademen van schadelijk of giftig slijp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schade bij langdurig slij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slijpmachin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slijpstenen op één machine mogen niet te veel verschi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ijpstenen voldoende rond, slijpkant v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tussen leunspaan en werkstuk ≤ 3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kanten van de stenen afgescher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es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ren/vervangen slijpstenen door deskundig 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regelmatig bijste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unspaan alleen verstellen bij stilstaand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ermruitje altijd gebrui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fbeelding 5" descr="http://www.metabo.nl/uploads/tx_commerce/feinbilder/0300020003s_51_m.jpg"/>
          <p:cNvPicPr/>
          <p:nvPr/>
        </p:nvPicPr>
        <p:blipFill>
          <a:blip r:embed="rId1"/>
          <a:stretch/>
        </p:blipFill>
        <p:spPr>
          <a:xfrm>
            <a:off x="6934320" y="3124080"/>
            <a:ext cx="1976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of gegrepen worden door de zaa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andere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roffen worden door afgezaagde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vliegende delen van he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klachten door inademen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nderlijke of gevaarlijk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 opgestelde cirkelza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, stevig bevestigde beschuttings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ikte hulpgele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whout gebruiken bij smalle werkst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juist inste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grote werkstukken assistentie van tweede persoon of gebruik rollenb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Afbeelding 5" descr="http://www.metabo.nl/uploads/tx_commerce/feinbilder/0104605000s_51_m.jpg"/>
          <p:cNvPicPr/>
          <p:nvPr/>
        </p:nvPicPr>
        <p:blipFill>
          <a:blip r:embed="rId1"/>
          <a:stretch/>
        </p:blipFill>
        <p:spPr>
          <a:xfrm>
            <a:off x="7172280" y="152280"/>
            <a:ext cx="1971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 geïsolee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iet ge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 geïsoleerd betekent niet bescherming tegen water of vochtig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neumatisch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erslucht = pneumatis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pauzeren bij trillen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uchttoevoer na gebruik afslu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gereedsc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jhandv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mansknop, bij slijpschijven groter dan 125m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slijpschijf moet st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m van de fabrik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al toelaatbaar toer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meting van de schijf, toepassing en jaar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slijpmachin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tuk vastze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toerental van de schijf nooit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slijpmachine pas neerleggen als schijf stil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kant van de schijf niet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fbramen specifieke afbraamschijven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lijpschijven niet voor afbram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3800" y="1889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handcirkel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kap schermt de buitenrand zaag volledig a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utomatische beschermkap over de buiten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ouwmes aanpassen aan diameter en dikte van de za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lad en geleider zo instellen dat het zaagblad zo weinig mogelijk uitsteekt onder het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en nodig assistentie door tweede perso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 niet laten kle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oer steeds achter de zaag 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nagel/niet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en/nagels kiezen bij apparaat, materiaal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rm van werkstu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werkdruk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stevig op het werkstuk druk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der plaatsen als de geleider leeg 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e hand weghouden van de mach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Aangedreven handgereedschap 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lektrische kettingz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wendige trillingsdemp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beugel, beschermk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handbedi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vatten: trillingsvrij met antisl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chterste handvat beschermd tegen kettingbreu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ttingrem, ketting opvangmechan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paste opleid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terugslag mag de ketting het lichaam niet r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aagbro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0227" t="0" r="8150" b="0"/>
          <a:stretch/>
        </p:blipFill>
        <p:spPr>
          <a:xfrm>
            <a:off x="7500960" y="1523880"/>
            <a:ext cx="1643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gebruiker van machines en gereedschappen heb je een belangrijke rol in risico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zelf vragen stellen en zonodig in actie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het apparaat in ord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risico's bij gebrui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b je een duidelijke instructie gekregen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ren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oldoende kennis: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p moet gaaf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vastzitten op ste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el ongeschon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rsleutels en slagsleu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beschadi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k precies pass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steel van moersleutels en slagsleutels niet verle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bij voorkeur ringsleut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458040" y="1905120"/>
            <a:ext cx="26859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roevendraa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cies op maat voor de schroefgleuf/kru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ad mag niet te scherp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werkstukken vastklemmen (steekwond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ij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hef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vig vast aan vij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ndz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aat en (soort) zaag aangepas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gesle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zet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ugelza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ad goed aanspan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de juiste richting mont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6" descr="zagen.jpg"/>
          <p:cNvPicPr/>
          <p:nvPr/>
        </p:nvPicPr>
        <p:blipFill>
          <a:blip r:embed="rId1"/>
          <a:stretch/>
        </p:blipFill>
        <p:spPr>
          <a:xfrm>
            <a:off x="7531200" y="3124080"/>
            <a:ext cx="1612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4 Handgereedschap zonder aandrijving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i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bramen op de beitelk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and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ta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k en het scharnier gaaf en sch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cher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gepast aan aard van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standig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nijd van het lichaam we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ud uitschuifbaar lemmet k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breekmessen afbreken met een ta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Afbeelding 8" descr="tangen.jpg"/>
          <p:cNvPicPr/>
          <p:nvPr/>
        </p:nvPicPr>
        <p:blipFill>
          <a:blip r:embed="rId1"/>
          <a:srcRect l="0" t="0" r="0" b="35266"/>
          <a:stretch/>
        </p:blipFill>
        <p:spPr>
          <a:xfrm>
            <a:off x="6678720" y="2967120"/>
            <a:ext cx="2465280" cy="923760"/>
          </a:xfrm>
          <a:prstGeom prst="rect">
            <a:avLst/>
          </a:prstGeom>
          <a:ln w="0">
            <a:noFill/>
          </a:ln>
        </p:spPr>
      </p:pic>
      <p:pic>
        <p:nvPicPr>
          <p:cNvPr id="99" name="Afbeelding 4" descr="images.jpg"/>
          <p:cNvPicPr/>
          <p:nvPr/>
        </p:nvPicPr>
        <p:blipFill>
          <a:blip r:embed="rId2"/>
          <a:stretch/>
        </p:blipFill>
        <p:spPr>
          <a:xfrm>
            <a:off x="5638680" y="1523880"/>
            <a:ext cx="1378080" cy="1443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7" descr="imagesCAPWV5WN.jpg"/>
          <p:cNvPicPr/>
          <p:nvPr/>
        </p:nvPicPr>
        <p:blipFill>
          <a:blip r:embed="rId3"/>
          <a:stretch/>
        </p:blipFill>
        <p:spPr>
          <a:xfrm>
            <a:off x="6705720" y="4419720"/>
            <a:ext cx="1725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Hoofdstuk 7 </a:t>
            </a:r>
            <a:br>
              <a:rPr sz="2800"/>
            </a:br>
            <a:r>
              <a:rPr b="1" lang="nl-NL" sz="2800" spc="-1" strike="noStrike">
                <a:solidFill>
                  <a:srgbClr val="00cc00"/>
                </a:solidFill>
                <a:latin typeface="Arial"/>
              </a:rPr>
              <a:t>Machines en 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1  Veiligheidseisen voor arbeidsmiddel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2  Algemene eisen en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3  Vast opgestelde machines/gereedsc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4 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.5  Handgereedschap zonder aand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1 Veiligheidseis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- voor arbeidsmiddelen en machin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bruik kunnen er ongevallen ont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sp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ontwer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bricage met veiligheidsvoorzien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 onderhoud en regelmatig (laten) ke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doende kennis en vaardigheid van de gebruiker door opleiding, instructie en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 werkge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e werkom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s- en onderhoudsvoorschrift in taal gebruik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mogen met machines werken en ho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aan bedieners van machi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opleiding/ervaring en ouder dan 18 j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oshangende kleding, sieraden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ren dra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handschoenen dragen bij mogelijk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met roterende (draaiende) onder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en niet overbruggen, onklaar ma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f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raaiende machine onbeheerd achterl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aats en functie noodstop ke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uste inzet van techniek in ruimtes met explosie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e machin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ili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dreven geree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erhog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stofafzu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rem om de machine te sto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noodst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kelijkheid en werk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loer rond machines en vast opgesteld gereedschap opgeruimd, schoon, vlak, droog en stro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loop- en bewegingsruim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dachte werk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manier bedienen (instructiekaar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zones afgescherm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it de machine laten draaien met open aandrij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nderhoud machines of gereedschappen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op de juiste manier gebruiken en onderhou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2 Algemene eisen 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maatregelen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voorzieni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demansknop op aangedreven hand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topinr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reikbaar, duidelijk zichtbaar en herkenba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 gebruik noodstop: alleen op te starten met normale opstartproced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ulspanningschak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 herstart niet automatisch na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anningsonderbre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: tweehandenbediening en koppelscherm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let zelf op dat je instructies krijgt</a:t>
            </a:r>
            <a:br>
              <a:rPr sz="2400"/>
            </a:b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voor nieuw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7.3 Vast opgestelde machines/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reedsc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olomboormachines en boor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ij het boren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slaan van het werkstuk, als dit niet goed is ingekl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 door breken van de b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wegvegen van boorsel met de h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 door sp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ademen van spatten of nevel van koel- of snij-ol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 werken is van bela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doorzichtig scherm tussen de boor en de gebrui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werkstuk goed vastg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orsel wegvegen met krullenkwast of krullenh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4:56:51Z</dcterms:created>
  <dc:creator>jrijdes</dc:creator>
  <dc:description/>
  <dc:language>en-US</dc:language>
  <cp:lastModifiedBy>Mechteld de Coo</cp:lastModifiedBy>
  <dcterms:modified xsi:type="dcterms:W3CDTF">2015-09-29T10:37:45Z</dcterms:modified>
  <cp:revision>34</cp:revision>
  <dc:subject/>
  <dc:title>Test</dc:title>
</cp:coreProperties>
</file>