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7239000" cy="10666413"/>
  <p:notesSz cx="66706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1440" y="-1440"/>
            <a:ext cx="2890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1440"/>
            <a:ext cx="2890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95200" y="739800"/>
            <a:ext cx="2476440" cy="3651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1440" y="9284760"/>
            <a:ext cx="2890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284760"/>
            <a:ext cx="2890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9A1E099-9825-4DF7-A45B-62E88830BD0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A9C160B-4CE6-4666-A209-7D68DC611A0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6817741-C9A7-4F85-A24F-8E8E75D2F18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E37C1D4-17B5-4587-B8C5-5566DDEDC1C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CFD5F41-E9EB-48A1-A312-ED104407932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6E28798-F47B-4085-8871-63AF6EB85DB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A7C2E57-A0CA-4CEE-A064-353019F841F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496C11A-F759-4FF1-B3F7-B2BB4EE6D25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2E2D166-0D17-4CFB-8B1F-A0F7800C554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1B3744C-7935-4C52-9E14-57B4F0914FE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C274B6C-EA61-463C-9778-829FCF7E1BD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D01E35D-3C8F-485A-9D44-A96D57DF1A3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C30D5D9-17D0-4EFE-886B-7685F683577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0E5C32C-2124-4F27-957E-E555EC9224C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C599244-97D0-42A2-A95B-F7BFB49D541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A4F9D5E-7268-464F-9EAB-4935E16A730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1C43C14-BBCB-45AA-84F6-A0B65CEC805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752745B-CE4F-4137-90D7-AF9E6FE8354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4383CFE-D1A9-4D66-9C30-6D571D693AC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7C6BA1A-9652-4327-AD35-B01F0108721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9D99B34-CC93-4147-8629-E9B2416BAAD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4B60725-5356-4054-A049-EE34B0C589D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750B50C-8761-42DE-ACC3-65F13F7BEE3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6F1ADE1-F8E8-469A-8F57-328A26698D1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B239611-7B75-47C4-8EAD-4DF891153B6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778200" y="9285120"/>
            <a:ext cx="2890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EDC0004-F44B-484B-8E9B-20BC0EEE07D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2095560" y="739800"/>
            <a:ext cx="2476440" cy="36511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888840" y="4641480"/>
            <a:ext cx="48895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04FC-5BD4-41AE-B791-DBF08ADE9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5D21-E43D-4AF8-9F1F-45BD4CAF4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C745-8F58-44AF-A2D8-9C42F5737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62BE-59A0-423C-8C41-27A521433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2DDB-6F74-4532-AA10-9EB52BE95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B18B-FE6B-4BAF-9BE5-24674B2DA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AF49-8909-41FE-B51A-ABEA628F0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F72B-8489-4512-BE16-4A56723A5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7880"/>
            <a:ext cx="6153120" cy="82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10EC-8213-492F-A0A0-450517693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D199-CC20-45FA-841F-78C6EA26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547D-428F-4F91-A424-4DF95BCC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871F-3F21-4FA5-AE73-94E036AC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20000"/>
            <a:ext cx="1508040" cy="71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20000"/>
            <a:ext cx="2292480" cy="71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20000"/>
            <a:ext cx="1508040" cy="71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6CC7051-418D-4A69-94C8-3E8234A9A71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7D06D05-45AA-43E3-8B98-11A6FF0551C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42880" y="96696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SISVEILIGHEID (VC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85760" y="2971800"/>
            <a:ext cx="5067360" cy="678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Hij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Hijskra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ijdelijke aanduiding voor datum 1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ijdelijke aanduiding voor dianummer 3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9B5BBFD-8574-4B15-91E2-E0D738B7C6D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2"/>
          <p:cNvGraphicFramePr/>
          <p:nvPr/>
        </p:nvGraphicFramePr>
        <p:xfrm>
          <a:off x="534960" y="1011240"/>
          <a:ext cx="6162840" cy="864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4960" y="1011240"/>
                    <a:ext cx="6162840" cy="864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Rectangle 3"/>
          <p:cNvSpPr/>
          <p:nvPr/>
        </p:nvSpPr>
        <p:spPr>
          <a:xfrm rot="16200000">
            <a:off x="1926360" y="828684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-Slu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 rot="16200000">
            <a:off x="1776240" y="5924520"/>
            <a:ext cx="196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arpslu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 rot="16200000">
            <a:off x="1345680" y="2369160"/>
            <a:ext cx="3319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Zweedse haak m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zichzelfsluitende kl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 rot="16200000">
            <a:off x="5662080" y="1960200"/>
            <a:ext cx="1792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Topschal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 rot="16200000">
            <a:off x="5661360" y="4092840"/>
            <a:ext cx="179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latenk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 rot="16200000">
            <a:off x="5813640" y="6381000"/>
            <a:ext cx="1454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ijgha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 rot="16200000">
            <a:off x="4442040" y="9503640"/>
            <a:ext cx="1454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ijgha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AA9CE26-62F2-4E28-87B1-B2AF6B0EFAA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42880" y="414000"/>
            <a:ext cx="6153120" cy="133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aalkab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42880" y="1557000"/>
            <a:ext cx="6153120" cy="819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sterkte van de staalkabel hangt af v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amenstelling van de staalka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ikte van de staalka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waliteit van het staaldra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waliteit van de k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j staalkabels horen certificaten 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r gelden een aantal regels voor h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hou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slaan in droge, goed geventileerde ruim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 in aanraking laten komen met zuren. l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specteren op roest en slij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B56D109-7F0A-49E1-A7E3-E809C9D48E3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fkeuren en vernietigen van staalkab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afelige splits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erdere draden zijn gebroken (vleeshake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p één plaats draden gebroken (breuknes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an buiten verbogen of beschadig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oest of slijt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ijdelijke aanduiding voor datum 1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ijdelijke aanduiding voor dianummer 3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EEEB5AC-A9DA-4246-9FC6-4CD4D671A49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2"/>
          <p:cNvGraphicFramePr/>
          <p:nvPr/>
        </p:nvGraphicFramePr>
        <p:xfrm>
          <a:off x="271440" y="1008000"/>
          <a:ext cx="4427640" cy="700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1440" y="1008000"/>
                    <a:ext cx="4427640" cy="700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Rectangle 3"/>
          <p:cNvSpPr/>
          <p:nvPr/>
        </p:nvSpPr>
        <p:spPr>
          <a:xfrm>
            <a:off x="4365000" y="6918480"/>
            <a:ext cx="13968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Kni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3831480" y="4935600"/>
            <a:ext cx="291924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Breukn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3756600" y="3032280"/>
            <a:ext cx="28566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Vogeln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3527640" y="1584360"/>
            <a:ext cx="32619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Vleesha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E8606A8-4398-4A25-9F56-1309BA0F152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42880" y="262080"/>
            <a:ext cx="6153120" cy="16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roppen, lengen en hijsban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9200" y="1940040"/>
            <a:ext cx="6153120" cy="750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roppen en len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 beide kanten een 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 strop heeft een grote lus, een leng een kleine 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kern van de stroppen en lengen is van staaldra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ijsban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maakt van kunststof of staaldra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de hijsband zit een label gena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ijsband is minimaal 5 cm breed en de ogen moeten minimaal 20 cm groot z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56834E6-40DE-4643-8528-924C2F34845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egels bij hijsban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roleer of de hijsband sterk genoeg is voor de l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s op voor scherpe ho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s op voor teveel zonl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roleer de hijsband regelmat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0498A5A-17D3-4132-AF49-0BBF5C2657B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fkeuren hijsban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 zijn ernstig versle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zitten scheuren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zitten olie of chemicaliën 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is iets mis met de metalen onderdelen die aan de hijsband vastzitten (intering, breuk, vervorming, roe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958680" y="7701120"/>
            <a:ext cx="5626440" cy="19699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s hijsbanden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fgekeurd dienen ze te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nietig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FCA72D9-54E4-4B23-B464-2CDC4FBD6BA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42880" y="2620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ijsgereedschappen in samenste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882720" y="9150480"/>
            <a:ext cx="5473800" cy="4442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5"/>
          <p:cNvSpPr/>
          <p:nvPr/>
        </p:nvSpPr>
        <p:spPr>
          <a:xfrm>
            <a:off x="882720" y="8312040"/>
            <a:ext cx="520560" cy="825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6"/>
          <p:cNvSpPr/>
          <p:nvPr/>
        </p:nvSpPr>
        <p:spPr>
          <a:xfrm>
            <a:off x="1035000" y="8464680"/>
            <a:ext cx="216000" cy="444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7"/>
          <p:cNvSpPr/>
          <p:nvPr/>
        </p:nvSpPr>
        <p:spPr>
          <a:xfrm>
            <a:off x="3168720" y="6789600"/>
            <a:ext cx="520560" cy="82260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8"/>
          <p:cNvSpPr/>
          <p:nvPr/>
        </p:nvSpPr>
        <p:spPr>
          <a:xfrm>
            <a:off x="3168720" y="5645160"/>
            <a:ext cx="520560" cy="825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9"/>
          <p:cNvSpPr/>
          <p:nvPr/>
        </p:nvSpPr>
        <p:spPr>
          <a:xfrm>
            <a:off x="3168720" y="4425840"/>
            <a:ext cx="520560" cy="825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0"/>
          <p:cNvSpPr/>
          <p:nvPr/>
        </p:nvSpPr>
        <p:spPr>
          <a:xfrm>
            <a:off x="5835600" y="8312040"/>
            <a:ext cx="520920" cy="825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1"/>
          <p:cNvSpPr/>
          <p:nvPr/>
        </p:nvSpPr>
        <p:spPr>
          <a:xfrm>
            <a:off x="3092400" y="2139840"/>
            <a:ext cx="520920" cy="827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2"/>
          <p:cNvSpPr/>
          <p:nvPr/>
        </p:nvSpPr>
        <p:spPr>
          <a:xfrm>
            <a:off x="3244680" y="2367000"/>
            <a:ext cx="216000" cy="444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3"/>
          <p:cNvSpPr/>
          <p:nvPr/>
        </p:nvSpPr>
        <p:spPr>
          <a:xfrm>
            <a:off x="5987880" y="8464680"/>
            <a:ext cx="216000" cy="444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4"/>
          <p:cNvSpPr/>
          <p:nvPr/>
        </p:nvSpPr>
        <p:spPr>
          <a:xfrm>
            <a:off x="3321000" y="7016760"/>
            <a:ext cx="216000" cy="444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5"/>
          <p:cNvSpPr/>
          <p:nvPr/>
        </p:nvSpPr>
        <p:spPr>
          <a:xfrm>
            <a:off x="3321000" y="4578480"/>
            <a:ext cx="216000" cy="444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6"/>
          <p:cNvSpPr/>
          <p:nvPr/>
        </p:nvSpPr>
        <p:spPr>
          <a:xfrm>
            <a:off x="3321000" y="5797440"/>
            <a:ext cx="216000" cy="444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7"/>
          <p:cNvSpPr/>
          <p:nvPr/>
        </p:nvSpPr>
        <p:spPr>
          <a:xfrm flipV="1">
            <a:off x="3016080" y="8463960"/>
            <a:ext cx="901800" cy="672840"/>
          </a:xfrm>
          <a:custGeom>
            <a:avLst/>
            <a:gdLst>
              <a:gd name="textAreaLeft" fmla="*/ 187560 w 901800"/>
              <a:gd name="textAreaRight" fmla="*/ 714240 w 901800"/>
              <a:gd name="textAreaTop" fmla="*/ 140040 h 672840"/>
              <a:gd name="textAreaBottom" fmla="*/ 532800 h 67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397" y="21600"/>
                </a:lnTo>
                <a:lnTo>
                  <a:pt x="16203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8"/>
          <p:cNvSpPr/>
          <p:nvPr/>
        </p:nvSpPr>
        <p:spPr>
          <a:xfrm>
            <a:off x="3168720" y="7931160"/>
            <a:ext cx="596880" cy="520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9"/>
          <p:cNvSpPr/>
          <p:nvPr/>
        </p:nvSpPr>
        <p:spPr>
          <a:xfrm>
            <a:off x="3244680" y="8007480"/>
            <a:ext cx="368640" cy="368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0"/>
          <p:cNvSpPr/>
          <p:nvPr/>
        </p:nvSpPr>
        <p:spPr>
          <a:xfrm flipV="1">
            <a:off x="1104840" y="2971440"/>
            <a:ext cx="221004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1"/>
          <p:cNvSpPr/>
          <p:nvPr/>
        </p:nvSpPr>
        <p:spPr>
          <a:xfrm flipH="1" flipV="1">
            <a:off x="3390840" y="2895120"/>
            <a:ext cx="2743200" cy="541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2"/>
          <p:cNvSpPr/>
          <p:nvPr/>
        </p:nvSpPr>
        <p:spPr>
          <a:xfrm flipV="1">
            <a:off x="1257480" y="5105160"/>
            <a:ext cx="1981080" cy="327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3"/>
          <p:cNvSpPr/>
          <p:nvPr/>
        </p:nvSpPr>
        <p:spPr>
          <a:xfrm flipV="1">
            <a:off x="1333440" y="6400440"/>
            <a:ext cx="1981440" cy="213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4"/>
          <p:cNvSpPr/>
          <p:nvPr/>
        </p:nvSpPr>
        <p:spPr>
          <a:xfrm flipV="1">
            <a:off x="1333440" y="7389360"/>
            <a:ext cx="1828800" cy="137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5"/>
          <p:cNvSpPr/>
          <p:nvPr/>
        </p:nvSpPr>
        <p:spPr>
          <a:xfrm flipH="1" flipV="1">
            <a:off x="3543120" y="5029200"/>
            <a:ext cx="2438280" cy="32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6"/>
          <p:cNvSpPr/>
          <p:nvPr/>
        </p:nvSpPr>
        <p:spPr>
          <a:xfrm flipH="1" flipV="1">
            <a:off x="3619080" y="6322680"/>
            <a:ext cx="2210040" cy="221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7"/>
          <p:cNvSpPr/>
          <p:nvPr/>
        </p:nvSpPr>
        <p:spPr>
          <a:xfrm flipH="1" flipV="1">
            <a:off x="3695400" y="7389360"/>
            <a:ext cx="2133720" cy="137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8"/>
          <p:cNvSpPr/>
          <p:nvPr/>
        </p:nvSpPr>
        <p:spPr>
          <a:xfrm>
            <a:off x="3068640" y="9166320"/>
            <a:ext cx="820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0033"/>
                </a:solidFill>
                <a:latin typeface="Arial"/>
              </a:rPr>
              <a:t>1000 k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9"/>
          <p:cNvSpPr/>
          <p:nvPr/>
        </p:nvSpPr>
        <p:spPr>
          <a:xfrm>
            <a:off x="4211640" y="7643880"/>
            <a:ext cx="820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0033"/>
                </a:solidFill>
                <a:latin typeface="Arial"/>
              </a:rPr>
              <a:t>1000 k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0"/>
          <p:cNvSpPr/>
          <p:nvPr/>
        </p:nvSpPr>
        <p:spPr>
          <a:xfrm>
            <a:off x="2458800" y="6499080"/>
            <a:ext cx="721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ffcc"/>
                </a:solidFill>
                <a:latin typeface="Arial"/>
              </a:rPr>
              <a:t>700 k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1"/>
          <p:cNvSpPr/>
          <p:nvPr/>
        </p:nvSpPr>
        <p:spPr>
          <a:xfrm>
            <a:off x="3830400" y="5280120"/>
            <a:ext cx="721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339933"/>
                </a:solidFill>
                <a:latin typeface="Arial"/>
              </a:rPr>
              <a:t>580 k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2"/>
          <p:cNvSpPr/>
          <p:nvPr/>
        </p:nvSpPr>
        <p:spPr>
          <a:xfrm>
            <a:off x="2382480" y="3443400"/>
            <a:ext cx="721440" cy="305640"/>
          </a:xfrm>
          <a:prstGeom prst="rect">
            <a:avLst/>
          </a:prstGeom>
          <a:noFill/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cc99"/>
                </a:solidFill>
                <a:latin typeface="Arial"/>
              </a:rPr>
              <a:t>520 k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3"/>
          <p:cNvSpPr/>
          <p:nvPr/>
        </p:nvSpPr>
        <p:spPr>
          <a:xfrm>
            <a:off x="3152520" y="3198960"/>
            <a:ext cx="532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600" spc="-1" strike="noStrike">
                <a:solidFill>
                  <a:srgbClr val="00cc99"/>
                </a:solidFill>
                <a:latin typeface="Arial"/>
              </a:rPr>
              <a:t>30 </a:t>
            </a:r>
            <a:r>
              <a:rPr b="0" lang="nl-NL" sz="1600" spc="-1" strike="noStrike" baseline="30000">
                <a:solidFill>
                  <a:srgbClr val="00cc99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4"/>
          <p:cNvSpPr/>
          <p:nvPr/>
        </p:nvSpPr>
        <p:spPr>
          <a:xfrm>
            <a:off x="3228480" y="5180040"/>
            <a:ext cx="532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600" spc="-1" strike="noStrike">
                <a:solidFill>
                  <a:srgbClr val="339933"/>
                </a:solidFill>
                <a:latin typeface="Arial"/>
              </a:rPr>
              <a:t>60 </a:t>
            </a:r>
            <a:r>
              <a:rPr b="0" lang="nl-NL" sz="1600" spc="-1" strike="noStrike" baseline="30000">
                <a:solidFill>
                  <a:srgbClr val="339933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5"/>
          <p:cNvSpPr/>
          <p:nvPr/>
        </p:nvSpPr>
        <p:spPr>
          <a:xfrm>
            <a:off x="3228480" y="6399360"/>
            <a:ext cx="532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600" spc="-1" strike="noStrike">
                <a:solidFill>
                  <a:srgbClr val="00ffcc"/>
                </a:solidFill>
                <a:latin typeface="Arial"/>
              </a:rPr>
              <a:t>90 </a:t>
            </a:r>
            <a:r>
              <a:rPr b="0" lang="nl-NL" sz="1600" spc="-1" strike="noStrike" baseline="30000">
                <a:solidFill>
                  <a:srgbClr val="00ffcc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6"/>
          <p:cNvSpPr/>
          <p:nvPr/>
        </p:nvSpPr>
        <p:spPr>
          <a:xfrm>
            <a:off x="3228480" y="7616880"/>
            <a:ext cx="645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600" spc="-1" strike="noStrike">
                <a:solidFill>
                  <a:srgbClr val="ff0033"/>
                </a:solidFill>
                <a:latin typeface="Arial"/>
              </a:rPr>
              <a:t>120 </a:t>
            </a:r>
            <a:r>
              <a:rPr b="0" lang="nl-NL" sz="1600" spc="-1" strike="noStrike" baseline="30000">
                <a:solidFill>
                  <a:srgbClr val="ff0033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6772D1F-8678-48CD-872F-6AAD4C95C6F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wee soorten touw: natuurvezeltou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n kunstvezeltou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risico’s waar touw aan blootgesteld kan wor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gressieve stoffen en chemicali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Jzerroest en vo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nlicht en droog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erpe hoeken aan de ra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806400" y="7778880"/>
            <a:ext cx="6007320" cy="18921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merk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ouw mag niet gebruikt worden v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sten die zwaarder zijn dan 1000 k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BA4E319-0C38-4015-A185-2D7A533650B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fkeuren van tou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lij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vuiling met olie en chemicalië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kleuring door ro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schadi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s er bij het opendraaien van het touw poeder uitkom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D75A197-688A-45D8-B4F0-BCD9A3ECC6F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2880" y="33948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ijsen &amp; Hijskra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langrijkste regel: het is verboden te hijsen met iets dat daar niet voor is gemaak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beelden van soorten hijskran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obiele kr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ovenloopkranen en portaalkr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utolaadkr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ouwkr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349200" y="2444760"/>
            <a:ext cx="6540480" cy="15890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finitie: een hijskraan is een werktu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at is ingericht en uitgerust is voor h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plaatsen van vrijhangende las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CB4F789-63D4-4D1C-9D68-CA9FC6A992E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2880" y="33948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ak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2880" y="2133720"/>
            <a:ext cx="6153120" cy="73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ls moeten één keer per jaar worden geïnspectee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ls moeten regelmatig worden beproef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 aank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 een repar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ketting, eens per 4 j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s bij het gebruik van tak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haak nooit op de punt bela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l niet overbelasten en inspecteren voor gebru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geconstateerde overbelasting direct laten inspect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806400" y="8389800"/>
            <a:ext cx="5702400" cy="13557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merk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ijdelingse trekkracht is levensgevaarlij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A983B53-6471-4E04-8CA5-116E9A8EA2B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2880" y="339480"/>
            <a:ext cx="6153120" cy="118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2880" y="1406160"/>
            <a:ext cx="6153120" cy="82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een juiste tilhou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gever moet kijken naar de mogelijke gevaren van tillen (RI&amp;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oede hulpmiddelen aanwez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tang, magneet, zuigna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dere werkmethoden (kranen, vorkheftrucks e.d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ood Housekee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ijdelijke aanduiding voor datum 1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ijdelijke aanduiding voor dianummer 3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DC87024-B1D1-4647-9D74-C2A9430EC8E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5" descr="C:\Documents and Settings\Inge Nagle\Mijn documenten\Mijn afbeeldingen\houding.bmp"/>
          <p:cNvPicPr/>
          <p:nvPr/>
        </p:nvPicPr>
        <p:blipFill>
          <a:blip r:embed="rId1"/>
          <a:stretch/>
        </p:blipFill>
        <p:spPr>
          <a:xfrm>
            <a:off x="685800" y="380880"/>
            <a:ext cx="5838840" cy="421956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6"/>
          <p:cNvSpPr/>
          <p:nvPr/>
        </p:nvSpPr>
        <p:spPr>
          <a:xfrm>
            <a:off x="838080" y="518148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FOUT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O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ijdelijke aanduiding voor datum 1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ijdelijke aanduiding voor dianummer 3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8F6EF9B-A75E-4F51-BA2C-034368DEC94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5" descr="C:\Documents and Settings\Inge Nagle\Mijn documenten\Mijn afbeeldingen\houding1.bmp"/>
          <p:cNvPicPr/>
          <p:nvPr/>
        </p:nvPicPr>
        <p:blipFill>
          <a:blip r:embed="rId1"/>
          <a:stretch/>
        </p:blipFill>
        <p:spPr>
          <a:xfrm>
            <a:off x="700200" y="2743200"/>
            <a:ext cx="5838840" cy="4498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6"/>
          <p:cNvSpPr/>
          <p:nvPr/>
        </p:nvSpPr>
        <p:spPr>
          <a:xfrm>
            <a:off x="609480" y="457200"/>
            <a:ext cx="6019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ENK AAN JE RUG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TIL JU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DDBC2D1-F949-47FE-82F5-EBCF5938428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2880" y="2620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ruikelen, uitglijden en verstap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42880" y="2055960"/>
            <a:ext cx="6153120" cy="742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risico’s kunnen worden weggen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onaanpak (ontwerp, reparatie, opruimen, inrichting bouwplaa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rkering (kleurmarkering, kleine afzetting zoals palen met kettingen ertuss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beschermingsmiddelen (veiligheidsschoenen e.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577800" y="2139840"/>
            <a:ext cx="5931000" cy="18162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hoofdzaak van struikelen, uitglijden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tappen is een niet-egal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ladde ondergr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ijdelijke aanduiding voor datum 2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ijdelijke aanduiding voor dianummer 4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76BEF7D-39C7-41F2-BBCB-42455DD8218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upskra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712800" y="2895480"/>
            <a:ext cx="597204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ijdelijke aanduiding voor datum 1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jdelijke aanduiding voor dianummer 3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C4FBA4A-0997-4A53-AFE6-1346BB31050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571680" y="3048120"/>
            <a:ext cx="6099120" cy="45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B8B28FD-FDB2-47BB-9CC5-6C06B8186DD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uropese machinerichtlij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le hijskranen moeten voldo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 de Europ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chinerichtlijn omd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Één onderdeel van de machine kan bewe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machine een aandrijfmechanisme he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machine heeft een bedieningsschakelaar of vermogensschakel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7B58801-484F-407F-8A4F-ABAC544051F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42880" y="261720"/>
            <a:ext cx="6153120" cy="133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euring van hijskra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42880" y="1481040"/>
            <a:ext cx="6153120" cy="819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bewijs dat kranen voldoen a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wettelijke eisen z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astgelegd i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rbo-beslu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EN-norm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I bladen Arbeidsinspect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j de kraan behoort Kraanboek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ijstabellen en -grafieken 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Certificat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bewijs dat de kraandrijv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ikt over de nodige vakkenni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ijsbewij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egistratieboek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C010921-E942-4487-8DE7-DF481A9103C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42880" y="2620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sico’s &amp; Maatreg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9200" y="2090520"/>
            <a:ext cx="6153120" cy="72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grootste risico bij hijsen is h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llen van de l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volgende maatregelen dienen 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orden genom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ijsgereedschap dient gekeurd te zijn en sterk genoeg voor de l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mmunicatie tussen kraandrijver en degene die de last aanslaat en begeleidt (rigger) dient goed te z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indkracht 6 en meer mag er niet worden gehe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grond moet stevig z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gelmatig controleren van materi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9961688-E94F-46DD-846C-3C26D46AE97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42880" y="339840"/>
            <a:ext cx="6153120" cy="156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ijsgereedschap, Ketting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42880" y="1862280"/>
            <a:ext cx="6153120" cy="796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 kettingwerk wordt versta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ett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al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rt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luit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ogbou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654120" y="7550280"/>
            <a:ext cx="6083280" cy="21207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kettingwerk dient een maxim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lasting te st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BE87B42-7425-44C7-A567-2F99E836C5B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ertificaat bij ketting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2880" y="2744280"/>
            <a:ext cx="6153120" cy="673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het certificaat van de hijsketting dient het volgende te staan vermel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ilige werkbel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oefbel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loeibel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gistratien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stda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ijdelijke aanduiding voor datum 3"/>
          <p:cNvSpPr/>
          <p:nvPr/>
        </p:nvSpPr>
        <p:spPr>
          <a:xfrm>
            <a:off x="54288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ijdelijke aanduiding voor dianummer 5"/>
          <p:cNvSpPr/>
          <p:nvPr/>
        </p:nvSpPr>
        <p:spPr>
          <a:xfrm>
            <a:off x="5187960" y="9720360"/>
            <a:ext cx="15080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E477D5F-72FE-4D94-BD62-A1492B689EF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42880" y="947880"/>
            <a:ext cx="6153120" cy="17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dragsregels voor Hijskett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aai bouten van sluitingen helemaal 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last nooit de punt van de ha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roleer of de ketting sterk genoeg is voor de l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roleer of de ketting niet beschadigd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en hamer gebru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gen scherpe hoeken bescher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0T19:00:13Z</dcterms:created>
  <dc:creator>Hajo Kleijburg</dc:creator>
  <dc:description>Revisie 0</dc:description>
  <dc:language>en-US</dc:language>
  <cp:lastModifiedBy>Hans Mulder</cp:lastModifiedBy>
  <cp:lastPrinted>2000-04-30T14:23:00Z</cp:lastPrinted>
  <dcterms:modified xsi:type="dcterms:W3CDTF">2016-10-03T10:34:54Z</dcterms:modified>
  <cp:revision>18</cp:revision>
  <dc:subject>Les 6</dc:subject>
  <dc:title>Basisveiligheid (VC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um voltooid">
    <vt:filetime>2000-03-14T23:00:00Z</vt:filetime>
  </property>
</Properties>
</file>