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3.wmf" ContentType="image/x-wmf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6.png" ContentType="image/png"/>
  <Override PartName="/ppt/media/image3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837-1FF3-41D7-B3DE-2DA0583A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913-C3B6-4A2E-8B8F-85E2676D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A3F-FDD3-4AA8-A505-94CA28C3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12B-7479-4A4E-8050-5D4A4E8C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062-AD74-4AF1-9CBC-A78B98A2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0066-A528-4ECF-8D8B-1D36EFD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BF92-13FF-466A-9B7A-D8F135B2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9804-6215-47B9-BAC5-0498DBA9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569E-900B-4D50-857B-FA47C7C0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B58A-1E64-4D63-9ABE-920E66F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91F0-1E47-4770-BCB5-81AFE7C2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61B-10A3-418A-82C3-DBE8D47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0ED0-F4DF-47F4-AD5E-04C7C0CD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8037-9A4D-4928-8B1B-840B2EB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2007-84CB-44AB-91FD-7675D5D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D02-7438-4CA4-88A9-70BD591A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711-5F26-4A89-991F-93E93EB7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9F89-065B-425B-A597-28F3E327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5F647-791E-403E-9A6A-E29E85AB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93294-A18D-43A6-95AF-121ED31B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4132-8E40-4B25-8C5F-08F9EA9A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5DB5-2FCB-4F6E-84D6-6D35A30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5FF-56CD-442F-9A3A-E74941AF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6298-9506-443C-8FED-FCCF386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D82C-23EF-4733-811A-C69BD59D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B748-9D61-44BE-A9AA-3CA34D9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C4FB-DC2D-4CCB-8E91-6656F9A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525A-EB87-458B-A7AD-177F217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D026-8656-4741-BCC4-A9116658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BF65-2DD4-416E-BE5D-C3DBAD09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EE6-9212-4263-8FE2-42A3FF9C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C23-3157-44AD-97EA-3AA1698E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B6A-3819-46AE-B87B-080237BF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BD7-B1AE-496B-87F1-65FB279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CC1-6959-4AB9-B063-076F759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8B0-AB63-4CB2-B650-31153B95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9BC-192B-4A39-A2CC-A4E73208D9B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E57-19AF-443A-B3D2-FC69C8D604A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31F-E57A-4F33-A940-DF088D47A1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hyperlink" Target="http://www.kerckebosch.nl/html/home.php" TargetMode="External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0.png"/><Relationship Id="rId12" Type="http://schemas.openxmlformats.org/officeDocument/2006/relationships/image" Target="../media/image19.wmf"/><Relationship Id="rId13" Type="http://schemas.openxmlformats.org/officeDocument/2006/relationships/image" Target="../media/image19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9.wmf"/><Relationship Id="rId17" Type="http://schemas.openxmlformats.org/officeDocument/2006/relationships/image" Target="../media/image19.wmf"/><Relationship Id="rId18" Type="http://schemas.openxmlformats.org/officeDocument/2006/relationships/image" Target="../media/image19.wmf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9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40.wmf"/><Relationship Id="rId4" Type="http://schemas.openxmlformats.org/officeDocument/2006/relationships/image" Target="../media/image10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1.png"/><Relationship Id="rId4" Type="http://schemas.openxmlformats.org/officeDocument/2006/relationships/image" Target="../media/image7.png"/><Relationship Id="rId5" Type="http://schemas.openxmlformats.org/officeDocument/2006/relationships/image" Target="../media/image4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3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EFBB-7A56-47EB-B834-BA19D73A401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Hoofdstuk 3</a:t>
            </a:r>
            <a:br>
              <a:rPr sz="4400"/>
            </a:b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Veiligheidsmotivatie,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b800"/>
                </a:solidFill>
                <a:latin typeface="Arial"/>
                <a:ea typeface="Arial"/>
              </a:rPr>
              <a:t>leiderschap en veilig werkgedrag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B59-B943-448E-9CDE-7B3D2E908AB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uwe medewerk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lgemene voorlich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ldingsproced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t te doen bij een ongev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M-gebru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plek inf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403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instructie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8474-5367-4861-99F6-FE5A663D2CE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71680" y="1499760"/>
            <a:ext cx="8370720" cy="16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te structuur en regelma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reid, agenda en ver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breng van iede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5 VGM-overle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AB14-6C19-4358-ACD1-D021CD4C472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71680" y="128556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en volgens veiligheidsvoorschrif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aar aanspreken op on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ijpen bij onveilige situa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gen stellen bij onduidelijk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de leidinggevende stimuleert dit door voorbeeld gedra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ezicht  te houden en te corrig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ening te houden met de inbreng v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n e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tuigende en onderbouwde instructies te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6 Gewenst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2833-CB24-45CC-815C-F07F99F0917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805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7 Gedrag beïnvloeden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16" name="Tekstvak 6"/>
          <p:cNvGrpSpPr/>
          <p:nvPr/>
        </p:nvGrpSpPr>
        <p:grpSpPr>
          <a:xfrm>
            <a:off x="249120" y="1047600"/>
            <a:ext cx="1378080" cy="689040"/>
            <a:chOff x="249120" y="1047600"/>
            <a:chExt cx="1378080" cy="689040"/>
          </a:xfrm>
        </p:grpSpPr>
        <p:pic>
          <p:nvPicPr>
            <p:cNvPr id="317" name="Tekstvak 6" descr=""/>
            <p:cNvPicPr/>
            <p:nvPr/>
          </p:nvPicPr>
          <p:blipFill>
            <a:blip r:embed="rId2"/>
            <a:stretch/>
          </p:blipFill>
          <p:spPr>
            <a:xfrm>
              <a:off x="249120" y="1047600"/>
              <a:ext cx="1378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428760" y="11430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oel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Tekstvak 7"/>
          <p:cNvGrpSpPr/>
          <p:nvPr/>
        </p:nvGrpSpPr>
        <p:grpSpPr>
          <a:xfrm>
            <a:off x="249120" y="2120760"/>
            <a:ext cx="1463760" cy="689040"/>
            <a:chOff x="249120" y="2120760"/>
            <a:chExt cx="1463760" cy="689040"/>
          </a:xfrm>
        </p:grpSpPr>
        <p:pic>
          <p:nvPicPr>
            <p:cNvPr id="320" name="Tekstvak 7" descr=""/>
            <p:cNvPicPr/>
            <p:nvPr/>
          </p:nvPicPr>
          <p:blipFill>
            <a:blip r:embed="rId3"/>
            <a:stretch/>
          </p:blipFill>
          <p:spPr>
            <a:xfrm>
              <a:off x="249120" y="2120760"/>
              <a:ext cx="14637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428760" y="221472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is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Tekstvak 8"/>
          <p:cNvGrpSpPr/>
          <p:nvPr/>
        </p:nvGrpSpPr>
        <p:grpSpPr>
          <a:xfrm>
            <a:off x="228600" y="3352680"/>
            <a:ext cx="1784160" cy="1066680"/>
            <a:chOff x="228600" y="3352680"/>
            <a:chExt cx="1784160" cy="1066680"/>
          </a:xfrm>
        </p:grpSpPr>
        <p:pic>
          <p:nvPicPr>
            <p:cNvPr id="323" name="Tekstvak 8" descr=""/>
            <p:cNvPicPr/>
            <p:nvPr/>
          </p:nvPicPr>
          <p:blipFill>
            <a:blip r:embed="rId4"/>
            <a:stretch/>
          </p:blipFill>
          <p:spPr>
            <a:xfrm>
              <a:off x="228600" y="3352680"/>
              <a:ext cx="17841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16160" y="3448080"/>
              <a:ext cx="14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e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5" name="Groep 15" descr=""/>
          <p:cNvPicPr/>
          <p:nvPr/>
        </p:nvPicPr>
        <p:blipFill>
          <a:blip r:embed="rId5"/>
          <a:stretch/>
        </p:blipFill>
        <p:spPr>
          <a:xfrm>
            <a:off x="2798640" y="2151000"/>
            <a:ext cx="2565360" cy="590760"/>
          </a:xfrm>
          <a:prstGeom prst="rect">
            <a:avLst/>
          </a:prstGeom>
          <a:ln w="0">
            <a:noFill/>
          </a:ln>
        </p:spPr>
      </p:pic>
      <p:grpSp>
        <p:nvGrpSpPr>
          <p:cNvPr id="326" name="Tekstvak 9"/>
          <p:cNvGrpSpPr/>
          <p:nvPr/>
        </p:nvGrpSpPr>
        <p:grpSpPr>
          <a:xfrm>
            <a:off x="249120" y="4681440"/>
            <a:ext cx="1457280" cy="695520"/>
            <a:chOff x="249120" y="4681440"/>
            <a:chExt cx="1457280" cy="695520"/>
          </a:xfrm>
        </p:grpSpPr>
        <p:pic>
          <p:nvPicPr>
            <p:cNvPr id="327" name="Tekstvak 9" descr=""/>
            <p:cNvPicPr/>
            <p:nvPr/>
          </p:nvPicPr>
          <p:blipFill>
            <a:blip r:embed="rId6"/>
            <a:stretch/>
          </p:blipFill>
          <p:spPr>
            <a:xfrm>
              <a:off x="249120" y="4681440"/>
              <a:ext cx="14572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428760" y="4776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cties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Tekstvak 10"/>
          <p:cNvSpPr/>
          <p:nvPr/>
        </p:nvSpPr>
        <p:spPr>
          <a:xfrm>
            <a:off x="3146400" y="1071720"/>
            <a:ext cx="37148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iliger  werkgedra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kstvak 12"/>
          <p:cNvSpPr/>
          <p:nvPr/>
        </p:nvSpPr>
        <p:spPr>
          <a:xfrm>
            <a:off x="1905120" y="3357720"/>
            <a:ext cx="180648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suc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Groep 19" descr=""/>
          <p:cNvPicPr/>
          <p:nvPr/>
        </p:nvPicPr>
        <p:blipFill>
          <a:blip r:embed="rId7"/>
          <a:stretch/>
        </p:blipFill>
        <p:spPr>
          <a:xfrm>
            <a:off x="5303880" y="2152800"/>
            <a:ext cx="2560680" cy="5904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27"/>
          <p:cNvSpPr/>
          <p:nvPr/>
        </p:nvSpPr>
        <p:spPr>
          <a:xfrm>
            <a:off x="2071800" y="4776840"/>
            <a:ext cx="16430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1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kstvak 29"/>
          <p:cNvSpPr/>
          <p:nvPr/>
        </p:nvSpPr>
        <p:spPr>
          <a:xfrm>
            <a:off x="3581280" y="3357720"/>
            <a:ext cx="184464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verminder nadel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Rechte verbindingslijn met pijl 30"/>
          <p:cNvCxnSpPr>
            <a:endCxn id="330" idx="0"/>
          </p:cNvCxnSpPr>
          <p:nvPr/>
        </p:nvCxnSpPr>
        <p:spPr>
          <a:xfrm flipH="1">
            <a:off x="2807640" y="2738520"/>
            <a:ext cx="12531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5" name="Rechte verbindingslijn met pijl 31"/>
          <p:cNvCxnSpPr/>
          <p:nvPr/>
        </p:nvCxnSpPr>
        <p:spPr>
          <a:xfrm>
            <a:off x="4143240" y="2738520"/>
            <a:ext cx="53568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6" name="Rechte verbindingslijn met pijl 37"/>
          <p:cNvCxnSpPr>
            <a:endCxn id="337" idx="0"/>
          </p:cNvCxnSpPr>
          <p:nvPr/>
        </p:nvCxnSpPr>
        <p:spPr>
          <a:xfrm>
            <a:off x="6642720" y="2738520"/>
            <a:ext cx="164196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cxnSp>
        <p:nvCxnSpPr>
          <p:cNvPr id="338" name="Rechte verbindingslijn met pijl 38"/>
          <p:cNvCxnSpPr>
            <a:endCxn id="339" idx="0"/>
          </p:cNvCxnSpPr>
          <p:nvPr/>
        </p:nvCxnSpPr>
        <p:spPr>
          <a:xfrm flipH="1">
            <a:off x="6476400" y="2738520"/>
            <a:ext cx="143640" cy="619920"/>
          </a:xfrm>
          <a:prstGeom prst="straightConnector1">
            <a:avLst/>
          </a:prstGeom>
          <a:ln w="76320">
            <a:solidFill>
              <a:srgbClr val="44b800"/>
            </a:solidFill>
            <a:miter/>
            <a:tailEnd len="med" type="arrow" w="med"/>
          </a:ln>
        </p:spPr>
      </p:cxnSp>
      <p:sp>
        <p:nvSpPr>
          <p:cNvPr id="339" name="Tekstvak 40"/>
          <p:cNvSpPr/>
          <p:nvPr/>
        </p:nvSpPr>
        <p:spPr>
          <a:xfrm>
            <a:off x="5334120" y="3357720"/>
            <a:ext cx="22860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gevolg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benadruk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kstvak 41"/>
          <p:cNvSpPr/>
          <p:nvPr/>
        </p:nvSpPr>
        <p:spPr>
          <a:xfrm>
            <a:off x="7572240" y="3357720"/>
            <a:ext cx="1425600" cy="94716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163a"/>
                </a:solidFill>
                <a:latin typeface="Arial"/>
              </a:rPr>
              <a:t>moeilijk make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kstvak 47"/>
          <p:cNvSpPr/>
          <p:nvPr/>
        </p:nvSpPr>
        <p:spPr>
          <a:xfrm>
            <a:off x="3786120" y="4786200"/>
            <a:ext cx="1643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kstvak 48"/>
          <p:cNvSpPr/>
          <p:nvPr/>
        </p:nvSpPr>
        <p:spPr>
          <a:xfrm>
            <a:off x="5572080" y="4786200"/>
            <a:ext cx="1928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3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kstvak 49"/>
          <p:cNvSpPr/>
          <p:nvPr/>
        </p:nvSpPr>
        <p:spPr>
          <a:xfrm>
            <a:off x="7543800" y="4724280"/>
            <a:ext cx="1600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acti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strategie 4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…………</a:t>
            </a: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4b8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5021-C376-4D52-9825-BDC4B5C89F7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143000" y="1828440"/>
            <a:ext cx="37180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ucces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beeld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kmansch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ar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ef bespre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idelijke instructies gev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stimuleer 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ijdelijke aanduiding voor inhoud 4"/>
          <p:cNvSpPr/>
          <p:nvPr/>
        </p:nvSpPr>
        <p:spPr>
          <a:xfrm>
            <a:off x="5003640" y="1785960"/>
            <a:ext cx="385452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. nadelen vermindere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anteerbare voorschrift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reikbare veiligheids-    voorzien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mfortabele PB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ijd voor veilig werk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1B5-247F-4036-886B-2B1BB17362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62120" y="1785960"/>
            <a:ext cx="40989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gevolgen benadruk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eer ov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preek gevolgen van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ef instructies ove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 han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Strategische acties bevorderen veilig 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1" name="Tekstvak 6"/>
          <p:cNvSpPr/>
          <p:nvPr/>
        </p:nvSpPr>
        <p:spPr>
          <a:xfrm>
            <a:off x="1000080" y="1000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em onveilighe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ijdelijke aanduiding voor inhoud 4"/>
          <p:cNvSpPr/>
          <p:nvPr/>
        </p:nvSpPr>
        <p:spPr>
          <a:xfrm>
            <a:off x="4800600" y="1785960"/>
            <a:ext cx="4140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maak het moeilij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mheiningen/afzetting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ak afzetten beveiliging onmogelijk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erwijder slecht   gereedschap en materiaal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ncties bij onveilig gedra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F1E9-2A84-400E-8D0D-89DA5DAB1B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5880" y="1143000"/>
            <a:ext cx="485784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aag toestem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m de tij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at om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én perso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risico’s genom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schriften nageleef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preek  + en  -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k afspra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s corr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8 OOG-rond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6" name="Tekstvak 6"/>
          <p:cNvSpPr/>
          <p:nvPr/>
        </p:nvSpPr>
        <p:spPr>
          <a:xfrm>
            <a:off x="5003640" y="1143000"/>
            <a:ext cx="38354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163a"/>
                </a:solidFill>
                <a:latin typeface="Arial"/>
                <a:ea typeface="Arial"/>
              </a:rPr>
              <a:t>letten op: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de/nethei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ebruik gereedschap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uding, plek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erkuitvoe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mpo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81A9-C418-45F7-A5E1-36DE5B2C778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99972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óór het werk, liefst op de werkpl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opdrachtgevers en aan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en werk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ens een tool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wisseling van ploe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en afstemmen op niveau werk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de werkzaam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aktisch en begrijpelijk (J&amp;J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9 Veiligheid besprek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CEA4-63BC-40AA-961E-52A9CC20FED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9680" y="1071360"/>
            <a:ext cx="86439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risicovol wer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ken en veiligheidsmaatregelen volgens afspraa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checken, zo nodig ingrij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werkplekinspec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elmatig met 2 (of 3) person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n op middelen, opstellingen bescherm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ok handelingen, procedures volgen, zie OO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orteer tekorten, verbeteracties en de verantwoordelij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aandacht voor belasting van medewer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orkom schade, verzuim en arbeidsongeschikth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op lichamelijke en mental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0 Controle en toezich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F1EB-115F-419E-9D67-5E201E72CE9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571760"/>
            <a:ext cx="796896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che belasting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3437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 Leiderschap en werkgedra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071720"/>
            <a:ext cx="8358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igh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beleid en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eutelrol van de leidinggeven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atorische inspanningen om veilig gedrag te bevord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GM-overleg en instr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merken van gewenst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drag beïnvlo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G-ron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lichting en opl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ntrole en toezi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59880" indent="-659880">
              <a:spcBef>
                <a:spcPts val="601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Aandacht voor lichamelijke en mental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B558-E39B-457A-B4BD-199C3C31C89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77D5-68F9-4F7B-91FE-364E00905E6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71680" y="1066320"/>
            <a:ext cx="78739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lichamelijke of fysieke bela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angrijke factor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ding, bewe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anning / werk- en rust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ongunstig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 zitten of staan in dezelfde houding (stat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el kracht leveren, zoals bij traplopen en zwaar tillen, trillingen en terugkerende bewegingen (dynamische belastin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mogelijke gevol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moeidheid, spierpijn, kramp, schade aan gewrichten bij dynamische 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11 Over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697A-209E-42CB-8C87-2EF599EF0D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71680" y="766800"/>
            <a:ext cx="83325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zittend en staa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 mogelijk afwiss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an bij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chtuitoefening, onvoldoende beenruim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lmatig opstaan en laag, ver of hoog rei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ij zittend 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un bovenbenen (zitvlak) en schouders (leuning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rugst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handmatig ti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kelijk van krachten en duur, vooral ook rugbelas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bruik liever hulpmiddelen of beperk belasting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samenwerken of extra pau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org voor goede til-instructie en gezondheidskundige beoorde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462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Praktijkvoorbeeld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31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Mentale belast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71680" y="928440"/>
            <a:ext cx="833256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druk (regelmogelijkheden / regelvereis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petenties (taak / capaciteit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sfeer (relaties collega’s en leidinggeve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sche omstandighe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(on)zeker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chterligge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rastructuur en uitrus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163a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oonlijkheidskenmerk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2A7-5339-409C-BC3B-165B18C0F73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Ergonomische benader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71680" y="1500120"/>
            <a:ext cx="8370720" cy="33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 ook op langere termijn goed te kunnen werken, is een goede werkomgeving met comfort wensel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signalen, klachten en nieuwe ontwikkel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onomen zorgen voor een mensgericht (her)ontwerp van werkplek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e houden naast lichamelijke en mentale belasting rekening met licht, geluid, klimaat en trill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5F8B-600B-4666-9A6F-9D65052A662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E34A-8CC6-4BC8-8C4A-04BAA1B74C9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Wolk 9"/>
          <p:cNvSpPr/>
          <p:nvPr/>
        </p:nvSpPr>
        <p:spPr>
          <a:xfrm>
            <a:off x="857160" y="762120"/>
            <a:ext cx="7429680" cy="485748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480"/>
              <a:gd name="textAreaBottom" fmla="*/ 3898800 h 48574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175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Tekstvak 10"/>
          <p:cNvGrpSpPr/>
          <p:nvPr/>
        </p:nvGrpSpPr>
        <p:grpSpPr>
          <a:xfrm>
            <a:off x="2206800" y="2193840"/>
            <a:ext cx="2877840" cy="689040"/>
            <a:chOff x="2206800" y="2193840"/>
            <a:chExt cx="2877840" cy="689040"/>
          </a:xfrm>
        </p:grpSpPr>
        <p:pic>
          <p:nvPicPr>
            <p:cNvPr id="178" name="Tekstvak 10" descr=""/>
            <p:cNvPicPr/>
            <p:nvPr/>
          </p:nvPicPr>
          <p:blipFill>
            <a:blip r:embed="rId3"/>
            <a:stretch/>
          </p:blipFill>
          <p:spPr>
            <a:xfrm>
              <a:off x="2206800" y="2193840"/>
              <a:ext cx="28778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86080" y="2286000"/>
              <a:ext cx="26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181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Tekstvak 13"/>
          <p:cNvGrpSpPr/>
          <p:nvPr/>
        </p:nvGrpSpPr>
        <p:grpSpPr>
          <a:xfrm>
            <a:off x="2481120" y="3371760"/>
            <a:ext cx="2603520" cy="498600"/>
            <a:chOff x="2481120" y="3371760"/>
            <a:chExt cx="2603520" cy="498600"/>
          </a:xfrm>
        </p:grpSpPr>
        <p:pic>
          <p:nvPicPr>
            <p:cNvPr id="188" name="Tekstvak 13" descr=""/>
            <p:cNvPicPr/>
            <p:nvPr/>
          </p:nvPicPr>
          <p:blipFill>
            <a:blip r:embed="rId5"/>
            <a:stretch/>
          </p:blipFill>
          <p:spPr>
            <a:xfrm>
              <a:off x="2481120" y="3371760"/>
              <a:ext cx="260352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00280" y="3429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d6"/>
                  </a:solidFill>
                  <a:latin typeface="Arial"/>
                  <a:ea typeface="Tahoma"/>
                </a:rPr>
                <a:t>uitvoeringsteam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2314080" y="3785760"/>
            <a:ext cx="27147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192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1955-AA99-4F86-8A3B-9B4F5489769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5003640" y="6429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1643040" y="1643040"/>
            <a:ext cx="1000080" cy="1428840"/>
          </a:xfrm>
          <a:prstGeom prst="rect">
            <a:avLst/>
          </a:prstGeom>
          <a:ln w="0">
            <a:noFill/>
          </a:ln>
        </p:spPr>
      </p:pic>
      <p:sp>
        <p:nvSpPr>
          <p:cNvPr id="197" name="Tekstvak 9"/>
          <p:cNvSpPr/>
          <p:nvPr/>
        </p:nvSpPr>
        <p:spPr>
          <a:xfrm>
            <a:off x="500040" y="285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</a:rPr>
              <a:t>veilig gedrag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 rot="1263600">
            <a:off x="6075360" y="4231800"/>
            <a:ext cx="898560" cy="2000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Documents and Settings\gerard\Local Settings\Temporary Internet Files\Content.IE5\4W83JHJS\MCj04339320000[1].png"/>
          <p:cNvPicPr/>
          <p:nvPr/>
        </p:nvPicPr>
        <p:blipFill>
          <a:blip r:embed="rId5">
            <a:lum bright="-32000"/>
          </a:blip>
          <a:stretch/>
        </p:blipFill>
        <p:spPr>
          <a:xfrm>
            <a:off x="7429680" y="2500200"/>
            <a:ext cx="109980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flipH="1" rot="20294400">
            <a:off x="1864800" y="4317840"/>
            <a:ext cx="12146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Ovale toelichting 13"/>
          <p:cNvGrpSpPr/>
          <p:nvPr/>
        </p:nvGrpSpPr>
        <p:grpSpPr>
          <a:xfrm>
            <a:off x="2998800" y="3608280"/>
            <a:ext cx="2060640" cy="1324080"/>
            <a:chOff x="2998800" y="3608280"/>
            <a:chExt cx="2060640" cy="1324080"/>
          </a:xfrm>
        </p:grpSpPr>
        <p:pic>
          <p:nvPicPr>
            <p:cNvPr id="202" name="Ovale toelichting 13" descr=""/>
            <p:cNvPicPr/>
            <p:nvPr/>
          </p:nvPicPr>
          <p:blipFill>
            <a:blip r:embed="rId7"/>
            <a:stretch/>
          </p:blipFill>
          <p:spPr>
            <a:xfrm>
              <a:off x="2998800" y="3608280"/>
              <a:ext cx="206064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659040" y="3821040"/>
              <a:ext cx="111456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Ovale toelichting 14"/>
          <p:cNvGrpSpPr/>
          <p:nvPr/>
        </p:nvGrpSpPr>
        <p:grpSpPr>
          <a:xfrm>
            <a:off x="2335320" y="2109960"/>
            <a:ext cx="2077920" cy="1176120"/>
            <a:chOff x="2335320" y="2109960"/>
            <a:chExt cx="2077920" cy="1176120"/>
          </a:xfrm>
        </p:grpSpPr>
        <p:pic>
          <p:nvPicPr>
            <p:cNvPr id="205" name="Ovale toelichting 14" descr=""/>
            <p:cNvPicPr/>
            <p:nvPr/>
          </p:nvPicPr>
          <p:blipFill>
            <a:blip r:embed="rId8"/>
            <a:stretch/>
          </p:blipFill>
          <p:spPr>
            <a:xfrm>
              <a:off x="2335320" y="2109960"/>
              <a:ext cx="207792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260880" y="2300400"/>
              <a:ext cx="9111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Ovale toelichting 15"/>
          <p:cNvGrpSpPr/>
          <p:nvPr/>
        </p:nvGrpSpPr>
        <p:grpSpPr>
          <a:xfrm>
            <a:off x="5151600" y="3078000"/>
            <a:ext cx="2535120" cy="1208160"/>
            <a:chOff x="5151600" y="3078000"/>
            <a:chExt cx="2535120" cy="1208160"/>
          </a:xfrm>
        </p:grpSpPr>
        <p:pic>
          <p:nvPicPr>
            <p:cNvPr id="208" name="Ovale toelichting 15" descr=""/>
            <p:cNvPicPr/>
            <p:nvPr/>
          </p:nvPicPr>
          <p:blipFill>
            <a:blip r:embed="rId9"/>
            <a:stretch/>
          </p:blipFill>
          <p:spPr>
            <a:xfrm>
              <a:off x="5151600" y="3078000"/>
              <a:ext cx="25351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403960" y="3422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Ovale toelichting 16"/>
          <p:cNvGrpSpPr/>
          <p:nvPr/>
        </p:nvGrpSpPr>
        <p:grpSpPr>
          <a:xfrm>
            <a:off x="4943520" y="4322880"/>
            <a:ext cx="1469880" cy="725400"/>
            <a:chOff x="4943520" y="4322880"/>
            <a:chExt cx="1469880" cy="725400"/>
          </a:xfrm>
        </p:grpSpPr>
        <p:pic>
          <p:nvPicPr>
            <p:cNvPr id="211" name="Ovale toelichting 16" descr=""/>
            <p:cNvPicPr/>
            <p:nvPr/>
          </p:nvPicPr>
          <p:blipFill>
            <a:blip r:embed="rId10"/>
            <a:stretch/>
          </p:blipFill>
          <p:spPr>
            <a:xfrm>
              <a:off x="4943520" y="4322880"/>
              <a:ext cx="1469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29280" y="4441680"/>
              <a:ext cx="6033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Ovale toelichting 17"/>
          <p:cNvGrpSpPr/>
          <p:nvPr/>
        </p:nvGrpSpPr>
        <p:grpSpPr>
          <a:xfrm>
            <a:off x="4511520" y="1401840"/>
            <a:ext cx="1401840" cy="1743120"/>
            <a:chOff x="4511520" y="1401840"/>
            <a:chExt cx="1401840" cy="1743120"/>
          </a:xfrm>
        </p:grpSpPr>
        <p:pic>
          <p:nvPicPr>
            <p:cNvPr id="214" name="Ovale toelichting 17" descr=""/>
            <p:cNvPicPr/>
            <p:nvPr/>
          </p:nvPicPr>
          <p:blipFill>
            <a:blip r:embed="rId11"/>
            <a:stretch/>
          </p:blipFill>
          <p:spPr>
            <a:xfrm>
              <a:off x="4511520" y="1401840"/>
              <a:ext cx="14018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761000" y="2279520"/>
              <a:ext cx="91116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Tekstvak 18"/>
          <p:cNvSpPr/>
          <p:nvPr/>
        </p:nvSpPr>
        <p:spPr>
          <a:xfrm>
            <a:off x="5003640" y="43578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ff"/>
                </a:solidFill>
                <a:latin typeface="Arial Narrow"/>
              </a:rPr>
              <a:t>o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kstvak 19"/>
          <p:cNvSpPr/>
          <p:nvPr/>
        </p:nvSpPr>
        <p:spPr>
          <a:xfrm>
            <a:off x="3214800" y="228600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k volg preci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kstvak 21"/>
          <p:cNvSpPr/>
          <p:nvPr/>
        </p:nvSpPr>
        <p:spPr>
          <a:xfrm>
            <a:off x="3571920" y="3786120"/>
            <a:ext cx="16095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d0dff"/>
                </a:solidFill>
                <a:latin typeface="Arial"/>
              </a:rPr>
              <a:t>stumperds!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gewo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doorpakken !!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kstvak 22"/>
          <p:cNvSpPr/>
          <p:nvPr/>
        </p:nvSpPr>
        <p:spPr>
          <a:xfrm>
            <a:off x="4714920" y="2214720"/>
            <a:ext cx="107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hier go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lette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kstvak 23"/>
          <p:cNvSpPr/>
          <p:nvPr/>
        </p:nvSpPr>
        <p:spPr>
          <a:xfrm>
            <a:off x="5286240" y="3357720"/>
            <a:ext cx="13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ik heb m’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d0dff"/>
                </a:solidFill>
                <a:latin typeface="Arial"/>
              </a:rPr>
              <a:t>eigen regel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482-A0CE-4935-BCA5-42C21B8DEF7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 flipH="1" rot="587400">
            <a:off x="3842640" y="429588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28920" y="428616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Documents and Settings\gerard\Local Settings\Temporary Internet Files\Content.IE5\4W83JHJS\MCj04339320000[1].png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5029200" y="4000680"/>
            <a:ext cx="78588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 rot="382800">
            <a:off x="6071760" y="3429000"/>
            <a:ext cx="6429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 rot="21005400">
            <a:off x="3286080" y="3214440"/>
            <a:ext cx="785880" cy="1428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43040" y="364320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Documents and Settings\gerard\Local Settings\Temporary Internet Files\Content.IE5\4W83JHJS\MCj04339320000[1].png"/>
          <p:cNvPicPr/>
          <p:nvPr/>
        </p:nvPicPr>
        <p:blipFill>
          <a:blip r:embed="rId8">
            <a:lum bright="-32000"/>
          </a:blip>
          <a:stretch/>
        </p:blipFill>
        <p:spPr>
          <a:xfrm>
            <a:off x="5357880" y="2714760"/>
            <a:ext cx="1100160" cy="1428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72160" y="2714760"/>
            <a:ext cx="1071720" cy="1428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6160" y="3000240"/>
            <a:ext cx="1042920" cy="1897200"/>
          </a:xfrm>
          <a:prstGeom prst="rect">
            <a:avLst/>
          </a:prstGeom>
          <a:ln w="0">
            <a:noFill/>
          </a:ln>
        </p:spPr>
      </p:pic>
      <p:sp>
        <p:nvSpPr>
          <p:cNvPr id="233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w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2"/>
          <a:stretch/>
        </p:blipFill>
        <p:spPr>
          <a:xfrm rot="3629400">
            <a:off x="3199320" y="4186800"/>
            <a:ext cx="970200" cy="292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13"/>
          <a:stretch/>
        </p:blipFill>
        <p:spPr>
          <a:xfrm flipH="1" rot="14430600">
            <a:off x="2144520" y="4358880"/>
            <a:ext cx="650880" cy="5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14"/>
          <a:stretch/>
        </p:blipFill>
        <p:spPr>
          <a:xfrm flipH="1" rot="17535600">
            <a:off x="2980440" y="505944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tretch/>
        </p:blipFill>
        <p:spPr>
          <a:xfrm flipH="1" rot="15644400">
            <a:off x="4430520" y="4859280"/>
            <a:ext cx="650880" cy="54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16">
            <a:lum bright="-4000"/>
          </a:blip>
          <a:stretch/>
        </p:blipFill>
        <p:spPr>
          <a:xfrm flipH="1" rot="15643800">
            <a:off x="4529880" y="3783600"/>
            <a:ext cx="1036800" cy="869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17">
            <a:lum contrast="78000"/>
          </a:blip>
          <a:stretch/>
        </p:blipFill>
        <p:spPr>
          <a:xfrm flipH="1" rot="7727400">
            <a:off x="5073120" y="4789080"/>
            <a:ext cx="419040" cy="412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18"/>
          <a:stretch/>
        </p:blipFill>
        <p:spPr>
          <a:xfrm flipH="1" rot="11916000">
            <a:off x="6716880" y="3573000"/>
            <a:ext cx="649080" cy="546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9">
            <a:lum contrast="74000"/>
          </a:blip>
          <a:stretch/>
        </p:blipFill>
        <p:spPr>
          <a:xfrm flipH="1" rot="11916600">
            <a:off x="5927400" y="4446360"/>
            <a:ext cx="651240" cy="54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44" name="Tekstvak 28"/>
          <p:cNvSpPr/>
          <p:nvPr/>
        </p:nvSpPr>
        <p:spPr>
          <a:xfrm>
            <a:off x="556272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d6"/>
                </a:solidFill>
                <a:latin typeface="Arial"/>
              </a:rPr>
              <a:t>ons bedrijf…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kstvak 29"/>
          <p:cNvSpPr/>
          <p:nvPr/>
        </p:nvSpPr>
        <p:spPr>
          <a:xfrm>
            <a:off x="571680" y="214200"/>
            <a:ext cx="62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52BF-BB93-4A14-BCC5-3D532CE2A2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Wolk 7"/>
          <p:cNvSpPr/>
          <p:nvPr/>
        </p:nvSpPr>
        <p:spPr>
          <a:xfrm>
            <a:off x="1214280" y="749160"/>
            <a:ext cx="6715440" cy="5359680"/>
          </a:xfrm>
          <a:custGeom>
            <a:avLst/>
            <a:gdLst>
              <a:gd name="textAreaLeft" fmla="*/ 925560 w 6715440"/>
              <a:gd name="textAreaRight" fmla="*/ 5312520 w 6715440"/>
              <a:gd name="textAreaTop" fmla="*/ 809280 h 5359680"/>
              <a:gd name="textAreaBottom" fmla="*/ 4302000 h 5359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2" descr="C:\Documents and Settings\gerard\Local Settings\Temporary Internet Files\Content.IE5\4W83JHJS\MCj04339320000[1].png"/>
          <p:cNvPicPr/>
          <p:nvPr/>
        </p:nvPicPr>
        <p:blipFill>
          <a:blip r:embed="rId2"/>
          <a:stretch/>
        </p:blipFill>
        <p:spPr>
          <a:xfrm>
            <a:off x="3724200" y="4206960"/>
            <a:ext cx="1311480" cy="160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C:\Documents and Settings\gerard\Local Settings\Temporary Internet Files\Content.IE5\4W83JHJS\MCj04339320000[1].png"/>
          <p:cNvPicPr/>
          <p:nvPr/>
        </p:nvPicPr>
        <p:blipFill>
          <a:blip r:embed="rId3"/>
          <a:stretch/>
        </p:blipFill>
        <p:spPr>
          <a:xfrm>
            <a:off x="2419200" y="4280040"/>
            <a:ext cx="1231920" cy="1444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5022720" y="3992400"/>
            <a:ext cx="798480" cy="1159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gerard\Local Settings\Temporary Internet Files\Content.IE5\4W83JHJS\MCj04339320000[1].png"/>
          <p:cNvPicPr/>
          <p:nvPr/>
        </p:nvPicPr>
        <p:blipFill>
          <a:blip r:embed="rId5"/>
          <a:stretch/>
        </p:blipFill>
        <p:spPr>
          <a:xfrm>
            <a:off x="5956200" y="3395520"/>
            <a:ext cx="8715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gerard\Local Settings\Temporary Internet Files\Content.IE5\4W83JHJS\MCj04339320000[1].png"/>
          <p:cNvPicPr/>
          <p:nvPr/>
        </p:nvPicPr>
        <p:blipFill>
          <a:blip r:embed="rId6"/>
          <a:stretch/>
        </p:blipFill>
        <p:spPr>
          <a:xfrm>
            <a:off x="3164040" y="3151080"/>
            <a:ext cx="1029960" cy="1554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Documents and Settings\gerard\Local Settings\Temporary Internet Files\Content.IE5\4W83JHJS\MCj04339320000[1].png"/>
          <p:cNvPicPr/>
          <p:nvPr/>
        </p:nvPicPr>
        <p:blipFill>
          <a:blip r:embed="rId7"/>
          <a:stretch/>
        </p:blipFill>
        <p:spPr>
          <a:xfrm>
            <a:off x="1639800" y="3638520"/>
            <a:ext cx="101124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gerard\Local Settings\Temporary Internet Files\Content.IE5\4W83JHJS\MCj04339320000[1].png"/>
          <p:cNvPicPr/>
          <p:nvPr/>
        </p:nvPicPr>
        <p:blipFill>
          <a:blip r:embed="rId8"/>
          <a:stretch/>
        </p:blipFill>
        <p:spPr>
          <a:xfrm>
            <a:off x="5353200" y="2706840"/>
            <a:ext cx="1108080" cy="1444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gerard\Local Settings\Temporary Internet Files\Content.IE5\4W83JHJS\MCj04339320000[1].png"/>
          <p:cNvPicPr/>
          <p:nvPr/>
        </p:nvPicPr>
        <p:blipFill>
          <a:blip r:embed="rId9"/>
          <a:stretch/>
        </p:blipFill>
        <p:spPr>
          <a:xfrm>
            <a:off x="6566040" y="2706840"/>
            <a:ext cx="1083960" cy="1444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Documents and Settings\gerard\Local Settings\Temporary Internet Files\Content.IE5\SH0PLZ11\MPj02160520000[1].jpg"/>
          <p:cNvPicPr/>
          <p:nvPr/>
        </p:nvPicPr>
        <p:blipFill>
          <a:blip r:embed="rId10"/>
          <a:stretch/>
        </p:blipFill>
        <p:spPr>
          <a:xfrm>
            <a:off x="3852720" y="1494000"/>
            <a:ext cx="1621080" cy="21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gerard\Local Settings\Temporary Internet Files\Content.IE5\4W83JHJS\MCj04339320000[1].png"/>
          <p:cNvPicPr/>
          <p:nvPr/>
        </p:nvPicPr>
        <p:blipFill>
          <a:blip r:embed="rId11"/>
          <a:stretch/>
        </p:blipFill>
        <p:spPr>
          <a:xfrm>
            <a:off x="4280040" y="2992320"/>
            <a:ext cx="1054080" cy="1908360"/>
          </a:xfrm>
          <a:prstGeom prst="rect">
            <a:avLst/>
          </a:prstGeom>
          <a:ln w="0">
            <a:noFill/>
          </a:ln>
        </p:spPr>
      </p:pic>
      <p:sp>
        <p:nvSpPr>
          <p:cNvPr id="258" name="Ovale toelichting 18"/>
          <p:cNvSpPr/>
          <p:nvPr/>
        </p:nvSpPr>
        <p:spPr>
          <a:xfrm>
            <a:off x="5029200" y="1071720"/>
            <a:ext cx="1971720" cy="121428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e toelichting 19"/>
          <p:cNvSpPr/>
          <p:nvPr/>
        </p:nvSpPr>
        <p:spPr>
          <a:xfrm flipH="1">
            <a:off x="2642400" y="1428840"/>
            <a:ext cx="1538280" cy="642960"/>
          </a:xfrm>
          <a:prstGeom prst="wedgeEllipseCallout">
            <a:avLst>
              <a:gd name="adj1" fmla="val -72171"/>
              <a:gd name="adj2" fmla="val 64851"/>
            </a:avLst>
          </a:pr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j..,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2"/>
          <a:stretch/>
        </p:blipFill>
        <p:spPr>
          <a:xfrm>
            <a:off x="3309840" y="3833640"/>
            <a:ext cx="749520" cy="1000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13"/>
          <a:stretch/>
        </p:blipFill>
        <p:spPr>
          <a:xfrm>
            <a:off x="2066760" y="4206960"/>
            <a:ext cx="804960" cy="846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14"/>
          <a:stretch/>
        </p:blipFill>
        <p:spPr>
          <a:xfrm>
            <a:off x="2919240" y="4925880"/>
            <a:ext cx="768600" cy="816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"/>
          <p:cNvPicPr/>
          <p:nvPr/>
        </p:nvPicPr>
        <p:blipFill>
          <a:blip r:embed="rId15"/>
          <a:stretch/>
        </p:blipFill>
        <p:spPr>
          <a:xfrm>
            <a:off x="4425840" y="4761000"/>
            <a:ext cx="658800" cy="744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16"/>
          <a:stretch/>
        </p:blipFill>
        <p:spPr>
          <a:xfrm>
            <a:off x="4529160" y="3633840"/>
            <a:ext cx="1036440" cy="1170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17"/>
          <a:stretch/>
        </p:blipFill>
        <p:spPr>
          <a:xfrm>
            <a:off x="4986360" y="469440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18"/>
          <a:stretch/>
        </p:blipFill>
        <p:spPr>
          <a:xfrm>
            <a:off x="6638760" y="3481560"/>
            <a:ext cx="804960" cy="730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19"/>
          <a:stretch/>
        </p:blipFill>
        <p:spPr>
          <a:xfrm>
            <a:off x="5851440" y="4352760"/>
            <a:ext cx="804960" cy="73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0"/>
          <a:stretch/>
        </p:blipFill>
        <p:spPr>
          <a:xfrm>
            <a:off x="5492880" y="3419640"/>
            <a:ext cx="768240" cy="62856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28"/>
          <p:cNvSpPr/>
          <p:nvPr/>
        </p:nvSpPr>
        <p:spPr>
          <a:xfrm>
            <a:off x="5586480" y="135576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ffff"/>
                </a:solidFill>
                <a:latin typeface="Arial"/>
              </a:rPr>
              <a:t>ons bedrijf..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kstvak 29"/>
          <p:cNvSpPr/>
          <p:nvPr/>
        </p:nvSpPr>
        <p:spPr>
          <a:xfrm>
            <a:off x="609480" y="214200"/>
            <a:ext cx="4672080" cy="375048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44b8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b800"/>
                </a:solidFill>
                <a:latin typeface="Arial"/>
                <a:ea typeface="Tahoma"/>
              </a:rPr>
              <a:t>sleutelrol leidinggeven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  <a:ea typeface="Tahoma"/>
              </a:rPr>
              <a:t>heeft info over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de medewerker, zijn werk en werkomstandighede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bepaalt de werkwijze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houdt toezich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284040">
              <a:lnSpc>
                <a:spcPct val="100000"/>
              </a:lnSpc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ahoma"/>
              </a:rPr>
              <a:t>corrigeer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FBB8-E076-4018-A9B0-B84CCC4C2E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2" descr="C:\Documents and Settings\gerard\Local Settings\Temporary Internet Files\Content.IE5\SH0PLZ11\MPj02160520000[1].jpg"/>
          <p:cNvPicPr/>
          <p:nvPr/>
        </p:nvPicPr>
        <p:blipFill>
          <a:blip r:embed="rId2"/>
          <a:stretch/>
        </p:blipFill>
        <p:spPr>
          <a:xfrm>
            <a:off x="3925800" y="353880"/>
            <a:ext cx="1621080" cy="2157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3857760" y="1643040"/>
            <a:ext cx="1822320" cy="2149560"/>
          </a:xfrm>
          <a:prstGeom prst="rect">
            <a:avLst/>
          </a:prstGeom>
          <a:ln w="0">
            <a:noFill/>
          </a:ln>
        </p:spPr>
      </p:pic>
      <p:sp>
        <p:nvSpPr>
          <p:cNvPr id="274" name="Gekromde PIJL-RECHTS 8"/>
          <p:cNvSpPr/>
          <p:nvPr/>
        </p:nvSpPr>
        <p:spPr>
          <a:xfrm>
            <a:off x="2286000" y="857160"/>
            <a:ext cx="1571760" cy="3714840"/>
          </a:xfrm>
          <a:custGeom>
            <a:avLst/>
            <a:gdLst>
              <a:gd name="textAreaLeft" fmla="*/ 210600 w 1571760"/>
              <a:gd name="textAreaRight" fmla="*/ 1361160 w 1571760"/>
              <a:gd name="textAreaTop" fmla="*/ 781200 h 3714840"/>
              <a:gd name="textAreaBottom" fmla="*/ 2737080 h 371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87" stAng="-5400000" swAng="-5400000"/>
                <a:lnTo>
                  <a:pt x="0" y="11372"/>
                </a:lnTo>
                <a:arcTo wR="21600" hR="9087" stAng="10800000" swAng="-3507558"/>
                <a:lnTo>
                  <a:pt x="16200" y="21311"/>
                </a:lnTo>
                <a:lnTo>
                  <a:pt x="21600" y="19316"/>
                </a:lnTo>
                <a:lnTo>
                  <a:pt x="16200" y="16742"/>
                </a:lnTo>
                <a:lnTo>
                  <a:pt x="16200" y="17884"/>
                </a:lnTo>
                <a:arcTo wR="21600" hR="9087" stAng="7292442" swAng="3324442"/>
                <a:lnTo>
                  <a:pt x="171" y="10229"/>
                </a:lnTo>
                <a:arcTo wR="21600" hR="9087" stAng="-10616884" swAng="5216884"/>
                <a:close/>
              </a:path>
              <a:path fill="darkenLess" w="21600" h="21600">
                <a:moveTo>
                  <a:pt x="21600" y="0"/>
                </a:moveTo>
                <a:arcTo wR="21600" hR="9087" stAng="-5400000" swAng="-5400000"/>
                <a:lnTo>
                  <a:pt x="0" y="9087"/>
                </a:lnTo>
                <a:arcTo wR="21600" hR="9087" stAng="10800000" swAng="-183116"/>
                <a:lnTo>
                  <a:pt x="171" y="10229"/>
                </a:lnTo>
                <a:arcTo wR="21600" hR="9087" stAng="-10616884" swAng="5216884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2" descr="C:\Documents and Settings\gerard\Local Settings\Temporary Internet Files\Content.IE5\4W83JHJS\MCj04339320000[1].png"/>
          <p:cNvPicPr/>
          <p:nvPr/>
        </p:nvPicPr>
        <p:blipFill>
          <a:blip r:embed="rId4"/>
          <a:stretch/>
        </p:blipFill>
        <p:spPr>
          <a:xfrm>
            <a:off x="3786120" y="3214800"/>
            <a:ext cx="1932120" cy="2576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5"/>
          <a:stretch/>
        </p:blipFill>
        <p:spPr>
          <a:xfrm flipH="1" rot="11916600">
            <a:off x="4282560" y="4731840"/>
            <a:ext cx="651240" cy="546120"/>
          </a:xfrm>
          <a:prstGeom prst="rect">
            <a:avLst/>
          </a:prstGeom>
          <a:ln w="0">
            <a:noFill/>
          </a:ln>
        </p:spPr>
      </p:pic>
      <p:sp>
        <p:nvSpPr>
          <p:cNvPr id="277" name="Gekromde PIJL-RECHTS 13"/>
          <p:cNvSpPr/>
          <p:nvPr/>
        </p:nvSpPr>
        <p:spPr>
          <a:xfrm flipH="1">
            <a:off x="5643000" y="928800"/>
            <a:ext cx="1285560" cy="3714480"/>
          </a:xfrm>
          <a:custGeom>
            <a:avLst/>
            <a:gdLst>
              <a:gd name="textAreaLeft" fmla="*/ 172080 w 1285560"/>
              <a:gd name="textAreaRight" fmla="*/ 1113480 w 1285560"/>
              <a:gd name="textAreaTop" fmla="*/ 807840 h 3714480"/>
              <a:gd name="textAreaBottom" fmla="*/ 2745720 h 371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98" stAng="-5400000" swAng="-5400000"/>
                <a:lnTo>
                  <a:pt x="0" y="11268"/>
                </a:lnTo>
                <a:arcTo wR="21600" hR="9398" stAng="10800000" swAng="-3558819"/>
                <a:lnTo>
                  <a:pt x="16200" y="21302"/>
                </a:lnTo>
                <a:lnTo>
                  <a:pt x="21600" y="19731"/>
                </a:lnTo>
                <a:lnTo>
                  <a:pt x="16200" y="17564"/>
                </a:lnTo>
                <a:lnTo>
                  <a:pt x="16200" y="18498"/>
                </a:lnTo>
                <a:arcTo wR="21600" hR="9398" stAng="7241181" swAng="3409361"/>
                <a:lnTo>
                  <a:pt x="107" y="10333"/>
                </a:lnTo>
                <a:arcTo wR="21600" hR="9398" stAng="-10650542" swAng="5250542"/>
                <a:close/>
              </a:path>
              <a:path fill="darkenLess" w="21600" h="21600">
                <a:moveTo>
                  <a:pt x="21600" y="0"/>
                </a:moveTo>
                <a:arcTo wR="21600" hR="9398" stAng="-5400000" swAng="-5400000"/>
                <a:lnTo>
                  <a:pt x="0" y="9398"/>
                </a:lnTo>
                <a:arcTo wR="21600" hR="9398" stAng="10800000" swAng="-149458"/>
                <a:lnTo>
                  <a:pt x="107" y="10333"/>
                </a:lnTo>
                <a:arcTo wR="21600" hR="9398" stAng="-10650542" swAng="5250542"/>
                <a:close/>
              </a:path>
            </a:pathLst>
          </a:cu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kstvak 14"/>
          <p:cNvSpPr/>
          <p:nvPr/>
        </p:nvSpPr>
        <p:spPr>
          <a:xfrm>
            <a:off x="609480" y="857160"/>
            <a:ext cx="203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t wil je? kijk zelf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moet,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ant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wel veilig,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dat doe ik zelf oo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kstvak 15"/>
          <p:cNvSpPr/>
          <p:nvPr/>
        </p:nvSpPr>
        <p:spPr>
          <a:xfrm>
            <a:off x="6929280" y="285840"/>
            <a:ext cx="221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k vind dat jij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eiligheid betref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ijp ik wel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 ook niet perfect 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r…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F247-20D0-4709-89EE-4BDF1C43C3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Wolk 9"/>
          <p:cNvSpPr/>
          <p:nvPr/>
        </p:nvSpPr>
        <p:spPr>
          <a:xfrm>
            <a:off x="714240" y="785880"/>
            <a:ext cx="7429680" cy="4857840"/>
          </a:xfrm>
          <a:custGeom>
            <a:avLst/>
            <a:gdLst>
              <a:gd name="textAreaLeft" fmla="*/ 1023840 w 7429680"/>
              <a:gd name="textAreaRight" fmla="*/ 5877360 w 7429680"/>
              <a:gd name="textAreaTop" fmla="*/ 733320 h 4857840"/>
              <a:gd name="textAreaBottom" fmla="*/ 3899160 h 4857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fbf"/>
          </a:solidFill>
          <a:ln w="40320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Tekstvak 6"/>
          <p:cNvGrpSpPr/>
          <p:nvPr/>
        </p:nvGrpSpPr>
        <p:grpSpPr>
          <a:xfrm>
            <a:off x="3133800" y="853920"/>
            <a:ext cx="1633320" cy="609840"/>
            <a:chOff x="3133800" y="853920"/>
            <a:chExt cx="1633320" cy="609840"/>
          </a:xfrm>
        </p:grpSpPr>
        <p:pic>
          <p:nvPicPr>
            <p:cNvPr id="283" name="Tekstvak 6" descr=""/>
            <p:cNvPicPr/>
            <p:nvPr/>
          </p:nvPicPr>
          <p:blipFill>
            <a:blip r:embed="rId2"/>
            <a:stretch/>
          </p:blipFill>
          <p:spPr>
            <a:xfrm>
              <a:off x="3133800" y="853920"/>
              <a:ext cx="163332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286080" y="92880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drijf: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Tekstvak 10"/>
          <p:cNvGrpSpPr/>
          <p:nvPr/>
        </p:nvGrpSpPr>
        <p:grpSpPr>
          <a:xfrm>
            <a:off x="1127160" y="2120760"/>
            <a:ext cx="6284880" cy="871560"/>
            <a:chOff x="1127160" y="2120760"/>
            <a:chExt cx="6284880" cy="871560"/>
          </a:xfrm>
        </p:grpSpPr>
        <p:pic>
          <p:nvPicPr>
            <p:cNvPr id="286" name="Tekstvak 10" descr=""/>
            <p:cNvPicPr/>
            <p:nvPr/>
          </p:nvPicPr>
          <p:blipFill>
            <a:blip r:embed="rId3"/>
            <a:stretch/>
          </p:blipFill>
          <p:spPr>
            <a:xfrm>
              <a:off x="1127160" y="2120760"/>
              <a:ext cx="6284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214280" y="2214720"/>
              <a:ext cx="61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Tahoma"/>
                </a:rPr>
                <a:t> </a:t>
              </a:r>
              <a:r>
                <a:rPr b="0" lang="en-US" sz="2800" spc="-1" strike="noStrike">
                  <a:solidFill>
                    <a:srgbClr val="0000b3"/>
                  </a:solidFill>
                  <a:latin typeface="Arial"/>
                  <a:ea typeface="Tahoma"/>
                </a:rPr>
                <a:t>organisatorische inspanninge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" name="Tekstvak 8"/>
          <p:cNvGrpSpPr/>
          <p:nvPr/>
        </p:nvGrpSpPr>
        <p:grpSpPr>
          <a:xfrm>
            <a:off x="2962440" y="1620720"/>
            <a:ext cx="1665000" cy="689040"/>
            <a:chOff x="2962440" y="1620720"/>
            <a:chExt cx="1665000" cy="689040"/>
          </a:xfrm>
        </p:grpSpPr>
        <p:pic>
          <p:nvPicPr>
            <p:cNvPr id="289" name="Tekstvak 8" descr=""/>
            <p:cNvPicPr/>
            <p:nvPr/>
          </p:nvPicPr>
          <p:blipFill>
            <a:blip r:embed="rId4"/>
            <a:stretch/>
          </p:blipFill>
          <p:spPr>
            <a:xfrm>
              <a:off x="2962440" y="1620720"/>
              <a:ext cx="1665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143160" y="171468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Tahoma"/>
                </a:rPr>
                <a:t>beleid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" name="Wolk 16"/>
          <p:cNvSpPr/>
          <p:nvPr/>
        </p:nvSpPr>
        <p:spPr>
          <a:xfrm>
            <a:off x="5029200" y="3000240"/>
            <a:ext cx="1471680" cy="1428840"/>
          </a:xfrm>
          <a:custGeom>
            <a:avLst/>
            <a:gdLst>
              <a:gd name="textAreaLeft" fmla="*/ 202680 w 1471680"/>
              <a:gd name="textAreaRight" fmla="*/ 1164240 w 1471680"/>
              <a:gd name="textAreaTop" fmla="*/ 215640 h 1428840"/>
              <a:gd name="textAreaBottom" fmla="*/ 1146960 h 14288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Wolk 15"/>
          <p:cNvSpPr/>
          <p:nvPr/>
        </p:nvSpPr>
        <p:spPr>
          <a:xfrm>
            <a:off x="3992400" y="2928960"/>
            <a:ext cx="2073600" cy="1928880"/>
          </a:xfrm>
          <a:custGeom>
            <a:avLst/>
            <a:gdLst>
              <a:gd name="textAreaLeft" fmla="*/ 285840 w 2073600"/>
              <a:gd name="textAreaRight" fmla="*/ 1640520 w 20736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Wolk 17"/>
          <p:cNvSpPr/>
          <p:nvPr/>
        </p:nvSpPr>
        <p:spPr>
          <a:xfrm rot="2026200">
            <a:off x="1433520" y="3270240"/>
            <a:ext cx="2071800" cy="1928880"/>
          </a:xfrm>
          <a:custGeom>
            <a:avLst/>
            <a:gdLst>
              <a:gd name="textAreaLeft" fmla="*/ 285480 w 2071800"/>
              <a:gd name="textAreaRight" fmla="*/ 1639080 w 2071800"/>
              <a:gd name="textAreaTop" fmla="*/ 291240 h 1928880"/>
              <a:gd name="textAreaBottom" fmla="*/ 1548360 h 19288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Wolk 12"/>
          <p:cNvSpPr/>
          <p:nvPr/>
        </p:nvSpPr>
        <p:spPr>
          <a:xfrm>
            <a:off x="2000160" y="3000240"/>
            <a:ext cx="3429000" cy="2357640"/>
          </a:xfrm>
          <a:custGeom>
            <a:avLst/>
            <a:gdLst>
              <a:gd name="textAreaLeft" fmla="*/ 472320 w 3429000"/>
              <a:gd name="textAreaRight" fmla="*/ 2712600 w 3429000"/>
              <a:gd name="textAreaTop" fmla="*/ 356040 h 2357640"/>
              <a:gd name="textAreaBottom" fmla="*/ 1892520 h 2357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Tekstvak 13"/>
          <p:cNvGrpSpPr/>
          <p:nvPr/>
        </p:nvGrpSpPr>
        <p:grpSpPr>
          <a:xfrm>
            <a:off x="2494080" y="3365640"/>
            <a:ext cx="2590560" cy="504720"/>
            <a:chOff x="2494080" y="3365640"/>
            <a:chExt cx="2590560" cy="504720"/>
          </a:xfrm>
        </p:grpSpPr>
        <p:pic>
          <p:nvPicPr>
            <p:cNvPr id="296" name="Tekstvak 13" descr=""/>
            <p:cNvPicPr/>
            <p:nvPr/>
          </p:nvPicPr>
          <p:blipFill>
            <a:blip r:embed="rId5"/>
            <a:stretch/>
          </p:blipFill>
          <p:spPr>
            <a:xfrm>
              <a:off x="2494080" y="3365640"/>
              <a:ext cx="2590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600280" y="34290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7ffff"/>
                  </a:solidFill>
                  <a:latin typeface="Arial"/>
                  <a:ea typeface="Tahoma"/>
                </a:rPr>
                <a:t>uitvoeringsteam</a:t>
              </a:r>
              <a:endParaRPr b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 txBox="1"/>
          <p:nvPr/>
        </p:nvSpPr>
        <p:spPr>
          <a:xfrm>
            <a:off x="2590920" y="4038480"/>
            <a:ext cx="27144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Arial"/>
              </a:rPr>
              <a:t>veilig gedr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PIJL-RECHTS 7"/>
          <p:cNvGrpSpPr/>
          <p:nvPr/>
        </p:nvGrpSpPr>
        <p:grpSpPr>
          <a:xfrm>
            <a:off x="3475080" y="1298520"/>
            <a:ext cx="291960" cy="457200"/>
            <a:chOff x="3475080" y="1298520"/>
            <a:chExt cx="291960" cy="457200"/>
          </a:xfrm>
        </p:grpSpPr>
        <p:pic>
          <p:nvPicPr>
            <p:cNvPr id="300" name="PIJL-RECHTS 7" descr=""/>
            <p:cNvPicPr/>
            <p:nvPr/>
          </p:nvPicPr>
          <p:blipFill>
            <a:blip r:embed="rId6"/>
            <a:stretch/>
          </p:blipFill>
          <p:spPr>
            <a:xfrm>
              <a:off x="3475080" y="1298520"/>
              <a:ext cx="2919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6108000">
              <a:off x="3461400" y="1437120"/>
              <a:ext cx="3621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BB8-1CAE-4AF3-AC32-90438A87224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680" y="1499760"/>
            <a:ext cx="837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basisvoorwaard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eelsselectie en begeleiding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iste man op de juiste plaa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e: werk, team en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163a"/>
                </a:solidFill>
                <a:latin typeface="Arial"/>
              </a:rPr>
              <a:t>continue inspann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ervaties veiligheidsgedra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ructureerd overl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handelen klachten en v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b800"/>
                </a:solidFill>
                <a:latin typeface="Arial"/>
              </a:rPr>
              <a:t>3.4 Organisatorische inspann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jrijdes</cp:lastModifiedBy>
  <dcterms:modified xsi:type="dcterms:W3CDTF">2010-02-16T12:17:14Z</dcterms:modified>
  <cp:revision>271</cp:revision>
  <dc:subject/>
  <dc:title>Taak en positie VFP</dc:title>
</cp:coreProperties>
</file>