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B73-C37C-4662-BCBB-5312E337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701-D1F3-4D75-BA7D-53D06A22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129-B8C8-4540-B470-D6B8A6A3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F777-1552-4CAC-BFEA-15F8196C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5D11-1991-4E04-88CD-DB15A8DA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5485-2926-475A-A129-F1FA6837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F8AC-79CE-4DED-A252-440F83A7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FBB6-D8C9-4A5C-A3B4-298F5F4B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F1A6-4CEF-4366-B8DC-37B3D483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835F-BBD5-404E-A9DF-8F4C63A9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A6E4-CEF0-40D4-A9C2-0B2B2712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F36-A613-4427-B755-F44DF639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A7DB-A108-45FD-8088-1164BED9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E753-BE46-47FA-BA2E-62AA74FE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265C-2012-4950-9610-08F4E149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7889-F9E1-4E26-A83D-DD040588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23C4-6FF3-4B03-A65A-A33D0727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12F0B-5AA5-48A3-AC07-D76BF5FC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074A7-CCE2-4F7D-BEE5-35A49CC7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E0405-0E9A-46D0-80B0-A7ED79AA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C9042-3617-4431-89C4-33C31ABB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70BE4-1217-4138-A4BB-6FAF62F1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5C0-9534-4E7C-838D-A21879AB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905A-C42A-42BA-8954-067E6437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C64F1-8CE1-41F6-BFC6-894782B1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BFAFE-3067-4209-9631-236BF30A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306F6-F2E1-4AD1-BC88-89BB417D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0FB4E-6D71-4F26-86FF-E1FCA35B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3C13B-3130-4D1C-9D71-274C7C80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43A75-60CD-43BA-A421-296315DC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9F0-0CD0-4239-849D-D7153813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BB6-CD53-45F1-9EB2-9BA49DE9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046-DB35-4771-A18D-7E8619C1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822-9A68-447B-A987-4CD1F204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F25-A32B-4960-9E06-A0A3A630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866-7AC8-4631-9DE8-AE7B51C7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7257-F39D-45D6-A690-F54C5503B9D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4523-1F6F-43F5-A40E-1241E827A59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2826-1D3E-487C-BD57-7F92C964ADC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71320"/>
            <a:ext cx="815328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3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Hoofdstuk 6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Elektriciteit, straling, trillingen en lawaai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risico’s van de techni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0C80-C7D8-40AE-AB1B-A1BAC72502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320" y="1147320"/>
            <a:ext cx="835812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gevaloorz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amengev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23FD-542B-4B04-8325-BF2CF9D78D4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320" y="1499760"/>
            <a:ext cx="8001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an elektrische installaties is aan regels gebo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person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atie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bekwaam persoon (elektrotechnicu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onderricht persoo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niet bevoegd: l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7693-08BB-48D1-BD89-322501DE38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1680" y="164268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 (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 persoon en een leek hebben geen elektrotechnische vakopleiding afge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e persoon heeft van een vakbekwaam persoon een instructie gekregen om zorgvuldig omschreven taken aan een elektrische installatie onder toezicht te mogen uit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163a"/>
                </a:solidFill>
                <a:latin typeface="Arial"/>
              </a:rPr>
              <a:t>een leek heeft géén instructie ontvangen en mag níet aan een installatie wer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ECF7-900B-4320-AB22-745C3CE054A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4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Technische</a:t>
            </a:r>
            <a:br>
              <a:rPr sz="2800"/>
            </a:b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571400"/>
            <a:ext cx="7799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90DC-CC64-4326-8E88-95CD7EC0F0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6232680" y="0"/>
            <a:ext cx="2911320" cy="194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http://www.soer.nl/shop/images/9706278elektra.JPG"/>
          <p:cNvPicPr/>
          <p:nvPr/>
        </p:nvPicPr>
        <p:blipFill>
          <a:blip r:embed="rId3"/>
          <a:stretch/>
        </p:blipFill>
        <p:spPr>
          <a:xfrm>
            <a:off x="6643800" y="371484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9d37"/>
                </a:solidFill>
                <a:latin typeface="Arial"/>
              </a:rPr>
              <a:t>Veiligheidsaar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1320" y="164268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en defect elektrisch toestel wordt voorkomen dat uitwendige delen onder spanning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30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5F7C-21C6-42F1-800D-287A21221A3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9680" y="1428480"/>
            <a:ext cx="8442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 op: beveiligt niet tegen indringen van vocht en 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FDAA-CA7E-4D06-B250-0C1FA8CADD1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http://www.gortzen.eu/vca/elektrisch%20gereedschap/dubbel%20geisoleerd.png"/>
          <p:cNvPicPr/>
          <p:nvPr/>
        </p:nvPicPr>
        <p:blipFill>
          <a:blip r:embed="rId2"/>
          <a:stretch/>
        </p:blipFill>
        <p:spPr>
          <a:xfrm>
            <a:off x="4675320" y="2779560"/>
            <a:ext cx="6588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57720" y="1147680"/>
            <a:ext cx="62863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isuele insp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bruik tijdelijke stroominstal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een aardlekschakelaar (30 of 300 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ADD4-8226-4A82-8BD8-02088C5466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Afbeelding 4" descr="insp.jpg"/>
          <p:cNvPicPr/>
          <p:nvPr/>
        </p:nvPicPr>
        <p:blipFill>
          <a:blip r:embed="rId2"/>
          <a:stretch/>
        </p:blipFill>
        <p:spPr>
          <a:xfrm>
            <a:off x="357120" y="1357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http://www.abird.nl/UserFiles/Image/Producten/VerdeelkastVS.jpg"/>
          <p:cNvPicPr/>
          <p:nvPr/>
        </p:nvPicPr>
        <p:blipFill>
          <a:blip r:embed="rId3"/>
          <a:stretch/>
        </p:blipFill>
        <p:spPr>
          <a:xfrm>
            <a:off x="785880" y="3429000"/>
            <a:ext cx="2628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85960" y="1642680"/>
            <a:ext cx="70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4589-3D72-4FF5-8411-F7F358C0A73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Afbeelding 4" descr="kabelhaspel02.jpg"/>
          <p:cNvPicPr/>
          <p:nvPr/>
        </p:nvPicPr>
        <p:blipFill>
          <a:blip r:embed="rId2"/>
          <a:stretch/>
        </p:blipFill>
        <p:spPr>
          <a:xfrm>
            <a:off x="133200" y="2852640"/>
            <a:ext cx="17384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320" y="157140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 is de opbou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elektrische spanning bi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f spuiten of andere soortgelijke activit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vloeistoffen bij strom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een kunststofleiding of bij het ro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01FD-3C14-4C05-8B75-2796620760F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7283520" y="0"/>
            <a:ext cx="1860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320" y="1147680"/>
            <a:ext cx="8358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et ontstaan van (zeer) hoge spanninge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statische elektriciteit is mogelijk,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us gevaarlijk!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2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aatregelen om statische elektriciteit te bep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D610-973A-44F9-A821-C2049E5B040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 Elektriciteit, straling, trillingen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680" y="71424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: gemak en risico’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n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werken met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sch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 in werk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6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-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klimaat e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3E43-096D-43F5-BEC6-653DC86018C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1D79-F81B-493C-A3DF-979C436FE6A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kstvak 4"/>
          <p:cNvSpPr/>
          <p:nvPr/>
        </p:nvSpPr>
        <p:spPr>
          <a:xfrm>
            <a:off x="1071720" y="1785960"/>
            <a:ext cx="2143080" cy="9471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actiev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kstvak 7"/>
          <p:cNvSpPr/>
          <p:nvPr/>
        </p:nvSpPr>
        <p:spPr>
          <a:xfrm>
            <a:off x="4786200" y="1643040"/>
            <a:ext cx="142884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kstvak 12"/>
          <p:cNvSpPr/>
          <p:nvPr/>
        </p:nvSpPr>
        <p:spPr>
          <a:xfrm>
            <a:off x="5500800" y="2643120"/>
            <a:ext cx="228600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chn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14"/>
          <p:cNvSpPr/>
          <p:nvPr/>
        </p:nvSpPr>
        <p:spPr>
          <a:xfrm>
            <a:off x="3214800" y="2263680"/>
            <a:ext cx="2286000" cy="64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 verbindingslijn 19"/>
          <p:cNvSpPr/>
          <p:nvPr/>
        </p:nvSpPr>
        <p:spPr>
          <a:xfrm flipV="1">
            <a:off x="3214800" y="1908000"/>
            <a:ext cx="1571400" cy="262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kstvak 24"/>
          <p:cNvSpPr/>
          <p:nvPr/>
        </p:nvSpPr>
        <p:spPr>
          <a:xfrm>
            <a:off x="5500800" y="371808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es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cen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e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al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kstvak 28"/>
          <p:cNvSpPr/>
          <p:nvPr/>
        </p:nvSpPr>
        <p:spPr>
          <a:xfrm>
            <a:off x="857160" y="3228840"/>
            <a:ext cx="2876760" cy="45972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OMLAAG 29"/>
          <p:cNvSpPr/>
          <p:nvPr/>
        </p:nvSpPr>
        <p:spPr>
          <a:xfrm>
            <a:off x="1928880" y="27860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IJL-OMLAAG 30"/>
          <p:cNvSpPr/>
          <p:nvPr/>
        </p:nvSpPr>
        <p:spPr>
          <a:xfrm>
            <a:off x="2000160" y="3714840"/>
            <a:ext cx="71640" cy="1428840"/>
          </a:xfrm>
          <a:prstGeom prst="downArrow">
            <a:avLst>
              <a:gd name="adj1" fmla="val 50000"/>
              <a:gd name="adj2" fmla="val 49862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kstvak 33"/>
          <p:cNvSpPr/>
          <p:nvPr/>
        </p:nvSpPr>
        <p:spPr>
          <a:xfrm>
            <a:off x="857160" y="5143680"/>
            <a:ext cx="2857680" cy="36828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antasting weefsel/org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kstvak 34"/>
          <p:cNvSpPr/>
          <p:nvPr/>
        </p:nvSpPr>
        <p:spPr>
          <a:xfrm>
            <a:off x="2214720" y="3786120"/>
            <a:ext cx="278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ort b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rkte b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: absorptie / reflec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kstvak 15"/>
          <p:cNvSpPr/>
          <p:nvPr/>
        </p:nvSpPr>
        <p:spPr>
          <a:xfrm>
            <a:off x="6715080" y="928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ge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kstvak 16"/>
          <p:cNvSpPr/>
          <p:nvPr/>
        </p:nvSpPr>
        <p:spPr>
          <a:xfrm>
            <a:off x="6715080" y="1785960"/>
            <a:ext cx="19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j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e/gasw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hte verbindingslijn 18"/>
          <p:cNvSpPr/>
          <p:nvPr/>
        </p:nvSpPr>
        <p:spPr>
          <a:xfrm flipV="1">
            <a:off x="6215040" y="1279440"/>
            <a:ext cx="5000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Rechte verbindingslijn met pijl 26"/>
          <p:cNvCxnSpPr>
            <a:stCxn id="236" idx="3"/>
            <a:endCxn id="247" idx="1"/>
          </p:cNvCxnSpPr>
          <p:nvPr/>
        </p:nvCxnSpPr>
        <p:spPr>
          <a:xfrm>
            <a:off x="6214680" y="1907640"/>
            <a:ext cx="5007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B510-0D74-4A5A-9355-B5AAFE99935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tel 2"/>
          <p:cNvSpPr/>
          <p:nvPr/>
        </p:nvSpPr>
        <p:spPr>
          <a:xfrm>
            <a:off x="571680" y="228600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er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fstand: borden en afsche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gië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pakkingen gesloten la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tingen uitvo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8 Niet-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320" y="11473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ionisatie-effecten maar wel schadelijke werking mog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V-straling en IR-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nl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er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g instructies en houd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EDF3-3BFE-4F4F-8E61-92AD60DA0B8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49DF-3482-40AD-9366-2F65152B301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kstvak 3"/>
          <p:cNvSpPr/>
          <p:nvPr/>
        </p:nvSpPr>
        <p:spPr>
          <a:xfrm>
            <a:off x="642960" y="2276640"/>
            <a:ext cx="19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torische) aand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kstvak 4"/>
          <p:cNvSpPr/>
          <p:nvPr/>
        </p:nvSpPr>
        <p:spPr>
          <a:xfrm>
            <a:off x="2714760" y="1643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r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kstvak 5"/>
          <p:cNvSpPr/>
          <p:nvPr/>
        </p:nvSpPr>
        <p:spPr>
          <a:xfrm>
            <a:off x="3718080" y="2419200"/>
            <a:ext cx="13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d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kstvak 7"/>
          <p:cNvSpPr/>
          <p:nvPr/>
        </p:nvSpPr>
        <p:spPr>
          <a:xfrm>
            <a:off x="5410080" y="1676520"/>
            <a:ext cx="15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/arm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kstvak 8"/>
          <p:cNvSpPr/>
          <p:nvPr/>
        </p:nvSpPr>
        <p:spPr>
          <a:xfrm>
            <a:off x="5429160" y="25909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chaams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Vrije vorm 9"/>
          <p:cNvSpPr/>
          <p:nvPr/>
        </p:nvSpPr>
        <p:spPr>
          <a:xfrm>
            <a:off x="1928880" y="2604960"/>
            <a:ext cx="1805040" cy="39708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1253067" h="296998">
                <a:moveTo>
                  <a:pt x="0" y="50722"/>
                </a:moveTo>
                <a:cubicBezTo>
                  <a:pt x="7526" y="35670"/>
                  <a:pt x="6397" y="10190"/>
                  <a:pt x="22578" y="5567"/>
                </a:cubicBezTo>
                <a:cubicBezTo>
                  <a:pt x="42062" y="0"/>
                  <a:pt x="63636" y="14956"/>
                  <a:pt x="79022" y="28144"/>
                </a:cubicBezTo>
                <a:cubicBezTo>
                  <a:pt x="91799" y="39096"/>
                  <a:pt x="93251" y="58689"/>
                  <a:pt x="101600" y="73300"/>
                </a:cubicBezTo>
                <a:cubicBezTo>
                  <a:pt x="108331" y="85080"/>
                  <a:pt x="118110" y="95032"/>
                  <a:pt x="124178" y="107167"/>
                </a:cubicBezTo>
                <a:cubicBezTo>
                  <a:pt x="129500" y="117810"/>
                  <a:pt x="129563" y="130701"/>
                  <a:pt x="135467" y="141033"/>
                </a:cubicBezTo>
                <a:cubicBezTo>
                  <a:pt x="144802" y="157369"/>
                  <a:pt x="158397" y="170879"/>
                  <a:pt x="169333" y="186189"/>
                </a:cubicBezTo>
                <a:cubicBezTo>
                  <a:pt x="177219" y="197229"/>
                  <a:pt x="184385" y="208766"/>
                  <a:pt x="191911" y="220055"/>
                </a:cubicBezTo>
                <a:cubicBezTo>
                  <a:pt x="199437" y="208766"/>
                  <a:pt x="207758" y="197969"/>
                  <a:pt x="214489" y="186189"/>
                </a:cubicBezTo>
                <a:cubicBezTo>
                  <a:pt x="222838" y="171578"/>
                  <a:pt x="227416" y="154820"/>
                  <a:pt x="237067" y="141033"/>
                </a:cubicBezTo>
                <a:cubicBezTo>
                  <a:pt x="253921" y="116956"/>
                  <a:pt x="274696" y="95878"/>
                  <a:pt x="293511" y="73300"/>
                </a:cubicBezTo>
                <a:cubicBezTo>
                  <a:pt x="297274" y="62011"/>
                  <a:pt x="294596" y="33311"/>
                  <a:pt x="304800" y="39433"/>
                </a:cubicBezTo>
                <a:cubicBezTo>
                  <a:pt x="328068" y="53394"/>
                  <a:pt x="349955" y="107167"/>
                  <a:pt x="349955" y="107167"/>
                </a:cubicBezTo>
                <a:cubicBezTo>
                  <a:pt x="351162" y="111995"/>
                  <a:pt x="364332" y="186189"/>
                  <a:pt x="383822" y="186189"/>
                </a:cubicBezTo>
                <a:cubicBezTo>
                  <a:pt x="412480" y="186189"/>
                  <a:pt x="436503" y="163611"/>
                  <a:pt x="462844" y="152322"/>
                </a:cubicBezTo>
                <a:cubicBezTo>
                  <a:pt x="464730" y="149493"/>
                  <a:pt x="510596" y="75896"/>
                  <a:pt x="519289" y="84589"/>
                </a:cubicBezTo>
                <a:cubicBezTo>
                  <a:pt x="547947" y="113247"/>
                  <a:pt x="546319" y="161228"/>
                  <a:pt x="564444" y="197478"/>
                </a:cubicBezTo>
                <a:lnTo>
                  <a:pt x="609600" y="287789"/>
                </a:lnTo>
                <a:cubicBezTo>
                  <a:pt x="678786" y="264727"/>
                  <a:pt x="613722" y="296998"/>
                  <a:pt x="654755" y="231344"/>
                </a:cubicBezTo>
                <a:cubicBezTo>
                  <a:pt x="674307" y="200061"/>
                  <a:pt x="704634" y="183040"/>
                  <a:pt x="733778" y="163611"/>
                </a:cubicBezTo>
                <a:cubicBezTo>
                  <a:pt x="739335" y="174725"/>
                  <a:pt x="765634" y="231994"/>
                  <a:pt x="778933" y="242633"/>
                </a:cubicBezTo>
                <a:cubicBezTo>
                  <a:pt x="788225" y="250067"/>
                  <a:pt x="801511" y="250159"/>
                  <a:pt x="812800" y="253922"/>
                </a:cubicBezTo>
                <a:cubicBezTo>
                  <a:pt x="816563" y="242633"/>
                  <a:pt x="818767" y="230698"/>
                  <a:pt x="824089" y="220055"/>
                </a:cubicBezTo>
                <a:cubicBezTo>
                  <a:pt x="877407" y="113418"/>
                  <a:pt x="843787" y="206114"/>
                  <a:pt x="869244" y="129744"/>
                </a:cubicBezTo>
                <a:cubicBezTo>
                  <a:pt x="876023" y="156859"/>
                  <a:pt x="878748" y="189277"/>
                  <a:pt x="903111" y="208767"/>
                </a:cubicBezTo>
                <a:cubicBezTo>
                  <a:pt x="912403" y="216200"/>
                  <a:pt x="925689" y="216292"/>
                  <a:pt x="936978" y="220055"/>
                </a:cubicBezTo>
                <a:cubicBezTo>
                  <a:pt x="948267" y="197477"/>
                  <a:pt x="961135" y="175623"/>
                  <a:pt x="970844" y="152322"/>
                </a:cubicBezTo>
                <a:cubicBezTo>
                  <a:pt x="979997" y="130354"/>
                  <a:pt x="974838" y="99456"/>
                  <a:pt x="993422" y="84589"/>
                </a:cubicBezTo>
                <a:cubicBezTo>
                  <a:pt x="1004017" y="76113"/>
                  <a:pt x="1016000" y="99641"/>
                  <a:pt x="1027289" y="107167"/>
                </a:cubicBezTo>
                <a:cubicBezTo>
                  <a:pt x="1038578" y="122219"/>
                  <a:pt x="1050219" y="137012"/>
                  <a:pt x="1061155" y="152322"/>
                </a:cubicBezTo>
                <a:cubicBezTo>
                  <a:pt x="1069041" y="163363"/>
                  <a:pt x="1070165" y="186189"/>
                  <a:pt x="1083733" y="186189"/>
                </a:cubicBezTo>
                <a:cubicBezTo>
                  <a:pt x="1097301" y="186189"/>
                  <a:pt x="1097625" y="162745"/>
                  <a:pt x="1106311" y="152322"/>
                </a:cubicBezTo>
                <a:cubicBezTo>
                  <a:pt x="1116532" y="140057"/>
                  <a:pt x="1129788" y="130577"/>
                  <a:pt x="1140178" y="118455"/>
                </a:cubicBezTo>
                <a:cubicBezTo>
                  <a:pt x="1152422" y="104170"/>
                  <a:pt x="1162755" y="88352"/>
                  <a:pt x="1174044" y="73300"/>
                </a:cubicBezTo>
                <a:cubicBezTo>
                  <a:pt x="1185333" y="84589"/>
                  <a:pt x="1199055" y="93883"/>
                  <a:pt x="1207911" y="107167"/>
                </a:cubicBezTo>
                <a:cubicBezTo>
                  <a:pt x="1214512" y="117068"/>
                  <a:pt x="1213878" y="130390"/>
                  <a:pt x="1219200" y="141033"/>
                </a:cubicBezTo>
                <a:cubicBezTo>
                  <a:pt x="1225268" y="153168"/>
                  <a:pt x="1234797" y="163266"/>
                  <a:pt x="1241778" y="174900"/>
                </a:cubicBezTo>
                <a:cubicBezTo>
                  <a:pt x="1246107" y="182115"/>
                  <a:pt x="1249304" y="189952"/>
                  <a:pt x="1253067" y="197478"/>
                </a:cubicBezTo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Rechte verbindingslijn met pijl 11"/>
          <p:cNvCxnSpPr>
            <a:stCxn id="260" idx="3"/>
            <a:endCxn id="261" idx="1"/>
          </p:cNvCxnSpPr>
          <p:nvPr/>
        </p:nvCxnSpPr>
        <p:spPr>
          <a:xfrm flipV="1">
            <a:off x="5105520" y="2056680"/>
            <a:ext cx="305280" cy="56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5" name="Rechte verbindingslijn met pijl 13"/>
          <p:cNvCxnSpPr>
            <a:stCxn id="260" idx="3"/>
            <a:endCxn id="262" idx="1"/>
          </p:cNvCxnSpPr>
          <p:nvPr/>
        </p:nvCxnSpPr>
        <p:spPr>
          <a:xfrm>
            <a:off x="5105160" y="2617560"/>
            <a:ext cx="324360" cy="354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6" name="Tekstvak 17"/>
          <p:cNvSpPr/>
          <p:nvPr/>
        </p:nvSpPr>
        <p:spPr>
          <a:xfrm>
            <a:off x="7072200" y="2562120"/>
            <a:ext cx="192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el of vloer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e/ werktu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kstvak 18"/>
          <p:cNvSpPr/>
          <p:nvPr/>
        </p:nvSpPr>
        <p:spPr>
          <a:xfrm>
            <a:off x="7072200" y="928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and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kstvak 19"/>
          <p:cNvSpPr/>
          <p:nvPr/>
        </p:nvSpPr>
        <p:spPr>
          <a:xfrm>
            <a:off x="5257800" y="5043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IJL-OMLAAG 20"/>
          <p:cNvSpPr/>
          <p:nvPr/>
        </p:nvSpPr>
        <p:spPr>
          <a:xfrm>
            <a:off x="5857920" y="3776760"/>
            <a:ext cx="642960" cy="10000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kstvak 21"/>
          <p:cNvSpPr/>
          <p:nvPr/>
        </p:nvSpPr>
        <p:spPr>
          <a:xfrm>
            <a:off x="6858000" y="41148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requ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uitslag (ampl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C6E8-891B-4054-906D-2271AAF487F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3"/>
          <p:cNvSpPr/>
          <p:nvPr/>
        </p:nvSpPr>
        <p:spPr>
          <a:xfrm>
            <a:off x="571680" y="13510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letsel/gezondheidsklachten door 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ijn in handen en a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voelloze vingertop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u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moei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hoofd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pier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ncentratiever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enwichtstoor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821E-EB03-4D22-AA4A-5CE6E1DAA4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kstvak 3"/>
          <p:cNvSpPr/>
          <p:nvPr/>
        </p:nvSpPr>
        <p:spPr>
          <a:xfrm>
            <a:off x="571680" y="14479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preventieve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euze van nieuwe appar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illing absorberende handscho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ternatieve techn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perking blootstelling (bijv. door taakroul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7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 Binnenklimaat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4B70-5100-4788-B515-648D5689A77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kstvak 3"/>
          <p:cNvSpPr/>
          <p:nvPr/>
        </p:nvSpPr>
        <p:spPr>
          <a:xfrm>
            <a:off x="571680" y="838080"/>
            <a:ext cx="83581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t werkt beter onder comfortabele omstandighed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je blijft langer gez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limaatbehee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leving wordt bepaald door temperatuur, vocht 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to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rksoort stelt eisen: precisiewerk meer 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eigenschappen werknemer: zichtverlies bijvoorbee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oor leef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kwaliteit verlichting/inrichting (contrasten en spiegeling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onderhoud en verva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ttelijke ei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33520" y="1371600"/>
            <a:ext cx="58291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awaai is schadelijk geluid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rd geluid heeft nadelig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 verstaat mensen slecht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effecten zijn afhankelijk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308B-0C90-43DE-B762-D317932C2A9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283" name="Picture 7" descr=""/>
            <p:cNvPicPr/>
            <p:nvPr/>
          </p:nvPicPr>
          <p:blipFill>
            <a:blip r:embed="rId2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"/>
            <p:cNvPicPr/>
            <p:nvPr/>
          </p:nvPicPr>
          <p:blipFill>
            <a:blip r:embed="rId3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7" descr="http://www.energytech.at/kwk/fotos/portrait_10_en.jpg"/>
            <p:cNvPicPr/>
            <p:nvPr/>
          </p:nvPicPr>
          <p:blipFill>
            <a:blip r:embed="rId4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Rechthoek 12"/>
          <p:cNvGrpSpPr/>
          <p:nvPr/>
        </p:nvGrpSpPr>
        <p:grpSpPr>
          <a:xfrm>
            <a:off x="8772480" y="-12600"/>
            <a:ext cx="384120" cy="6883200"/>
            <a:chOff x="8772480" y="-12600"/>
            <a:chExt cx="384120" cy="6883200"/>
          </a:xfrm>
        </p:grpSpPr>
        <p:pic>
          <p:nvPicPr>
            <p:cNvPr id="288" name="Rechthoek 12" descr=""/>
            <p:cNvPicPr/>
            <p:nvPr/>
          </p:nvPicPr>
          <p:blipFill>
            <a:blip r:embed="rId6"/>
            <a:stretch/>
          </p:blipFill>
          <p:spPr>
            <a:xfrm>
              <a:off x="8772480" y="-12600"/>
              <a:ext cx="3841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786880" y="0"/>
              <a:ext cx="35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hte verbindingslijn 14"/>
          <p:cNvSpPr/>
          <p:nvPr/>
        </p:nvSpPr>
        <p:spPr>
          <a:xfrm>
            <a:off x="6786720" y="3000240"/>
            <a:ext cx="20001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 verbindingslijn 16"/>
          <p:cNvSpPr/>
          <p:nvPr/>
        </p:nvSpPr>
        <p:spPr>
          <a:xfrm>
            <a:off x="6715080" y="292896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 verbindingslijn 18"/>
          <p:cNvSpPr/>
          <p:nvPr/>
        </p:nvSpPr>
        <p:spPr>
          <a:xfrm>
            <a:off x="6500880" y="2928960"/>
            <a:ext cx="35712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 verbindingslijn 20"/>
          <p:cNvSpPr/>
          <p:nvPr/>
        </p:nvSpPr>
        <p:spPr>
          <a:xfrm>
            <a:off x="6500880" y="2714760"/>
            <a:ext cx="357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71680" y="1066680"/>
            <a:ext cx="6410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 va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oring van de communicati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jdens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oren van alarmsignal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hulpgeroe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vende gehoor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D5E4-0745-4EEA-AD23-7987A359EBD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http://www.docukit.nl/inhoud/ic74-2.jpg"/>
          <p:cNvPicPr/>
          <p:nvPr/>
        </p:nvPicPr>
        <p:blipFill>
          <a:blip r:embed="rId2"/>
          <a:stretch/>
        </p:blipFill>
        <p:spPr>
          <a:xfrm>
            <a:off x="5334120" y="2975040"/>
            <a:ext cx="3438360" cy="2230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1680" y="1147320"/>
            <a:ext cx="82152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lijvende gehoor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dus alle reden om lawaai serieus aan te 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F2B9-6638-4045-81B1-92977721417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, gemak en risico’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A2D7-711E-4474-916E-538EE28AAA95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09480" y="1752480"/>
            <a:ext cx="82296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onmisb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ma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stroom kan doden en brand en explosies veroorz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en kunnen effecten geven op 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 kunnen de gezondheid bedr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 kan ernstige schade toebre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091F-4E22-4D59-8FB4-A141CB9D0CE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3"/>
          <p:cNvSpPr/>
          <p:nvPr/>
        </p:nvSpPr>
        <p:spPr>
          <a:xfrm>
            <a:off x="571680" y="1143000"/>
            <a:ext cx="8397720" cy="47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geluidssterkte in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oor rekenen met geluidsbelasting wordt decibel(A) gebruikt</a:t>
            </a:r>
            <a:br>
              <a:rPr sz="2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A staat voor toepassen van een geluidsfilter A dat overeenkomt met het menselijk oor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eenheid decibel bevat een logarit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aardoor gelden andere rekenregels als lineaire een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erdubbeling van geluid betekent een toename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halvering van geluid betekent een vermindering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elke puntbron, dus meestal ook voor geluid, geldt: 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ubbele afstand: 1/4 van de intensiteit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geluid is dat  dus  -6 decibel!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: gemak en risico’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6CC0-D32D-4038-AE51-AA7FF12A450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95440" y="1676520"/>
            <a:ext cx="82627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de basis van de industrie, huishouden en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veel ervaring met en er zijn veel voorschriften voor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het algemene gebruik en de goede bescherming kunnen we overblijvende risico’s gaan onder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C954-E0D0-4BB7-A261-2257F2D3745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71680" y="1600200"/>
            <a:ext cx="83581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10EF-3108-4398-914F-C05FF96D19A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http://aivpc41.vub.ac.be/preventie/Images/VE_EL_electrocutie.gif"/>
          <p:cNvPicPr/>
          <p:nvPr/>
        </p:nvPicPr>
        <p:blipFill>
          <a:blip r:embed="rId2">
            <a:grayscl/>
          </a:blip>
          <a:stretch/>
        </p:blipFill>
        <p:spPr>
          <a:xfrm>
            <a:off x="4003560" y="1071720"/>
            <a:ext cx="2000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15228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85" name="Titel 1"/>
          <p:cNvSpPr/>
          <p:nvPr/>
        </p:nvSpPr>
        <p:spPr>
          <a:xfrm>
            <a:off x="571680" y="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01200" y="2133720"/>
            <a:ext cx="7651440" cy="39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gevaren van stroom door het licha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en door meerdere factoren bepaa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anning (50 Volt, 230 Volt of hoogspan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ochtigheidsgraad van de huid (droog of n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kte van de huid (een eeltlaag biedt bescherm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anrakingsoppervlak (hoe groter hoe meer stro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olatieweerstand van de standplaa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oleum en een rubbermat hebben een ho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en betonnen vloer heeft een la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8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(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3252-8C49-4D04-A6C4-75DD786AF72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21420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90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71680" y="2362320"/>
            <a:ext cx="6867360" cy="27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om door het lichaam kan op een indirec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er leiden tot een ong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waardoor letsel ontsta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rondvliegend materia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71320" y="2071440"/>
            <a:ext cx="87296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tsluit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kortsluiting en/of een 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9997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kortslui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A01F-E0B3-48D6-BA95-78D76A49B18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8:10Z</dcterms:modified>
  <cp:revision>131</cp:revision>
  <dc:subject/>
  <dc:title>Taak en positie VFP</dc:title>
</cp:coreProperties>
</file>