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5E6-F4FF-4C0F-A45A-398BC96F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006-889A-4FD0-84FD-CB72A51C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BB4-EE02-4229-851C-B80592BC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F3C-275F-430B-8B0E-CFF1E530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7E9-B83B-4E18-B8AA-D6985DBA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D5A-FC92-412A-8F9B-6F9BADEA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B34-CFF3-495A-8C9F-97226787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AF2-DA3F-4C90-BFB7-66D0E2E6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7A0-9A15-4866-B6D1-1284C082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C16-405C-4B96-9B28-F2979525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926-7737-4D05-8772-8178BA0D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11A-744A-4A8D-88E7-01B3DB25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2DD961-E7C3-4FE5-91EB-9ED850428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58392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62080" y="2590560"/>
            <a:ext cx="506736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kvergun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152-1A22-4598-81B2-832D66390AA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toegank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en en sleuven 2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tenzijde afzetting en waarschuwingsb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gangen altijd vrij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9400" y="6894360"/>
          <a:ext cx="188280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6894360"/>
                    <a:ext cx="188280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34D-8ACC-465B-ACC5-C72C6355A0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89880" y="685800"/>
            <a:ext cx="4659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00" y="8381880"/>
            <a:ext cx="6648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BESLOTEN RUIM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puh" descr=""/>
          <p:cNvPicPr/>
          <p:nvPr/>
        </p:nvPicPr>
        <p:blipFill>
          <a:blip r:embed="rId1"/>
          <a:stretch/>
        </p:blipFill>
        <p:spPr>
          <a:xfrm>
            <a:off x="444600" y="2819520"/>
            <a:ext cx="6348240" cy="443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EE9-F2D0-4D17-AF17-D550395EF56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7640" y="480960"/>
            <a:ext cx="5992920" cy="88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DAC-A436-4E22-A2F5-F634DF5D3592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26208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2880" y="1328760"/>
            <a:ext cx="6153120" cy="850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03720" y="5589720"/>
          <a:ext cx="190044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3720" y="5589720"/>
                    <a:ext cx="19004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032440" y="7799400"/>
          <a:ext cx="189216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440" y="7799400"/>
                    <a:ext cx="189216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075280" y="1074600"/>
          <a:ext cx="18050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5280" y="1074600"/>
                    <a:ext cx="1805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033880" y="3241800"/>
          <a:ext cx="1887480" cy="18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3880" y="3241800"/>
                    <a:ext cx="1887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174-9BC0-4B1F-BDC2-9317C824DF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2880" y="337680"/>
            <a:ext cx="6153120" cy="11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2880" y="1709280"/>
            <a:ext cx="6153120" cy="796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schoei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he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afhankelijke adem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05240" y="5210280"/>
          <a:ext cx="200376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240" y="5210280"/>
                    <a:ext cx="200376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189400" y="3227400"/>
          <a:ext cx="188280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9400" y="3227400"/>
                    <a:ext cx="18828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110200" y="1251000"/>
          <a:ext cx="1887480" cy="19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0200" y="1251000"/>
                    <a:ext cx="188748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6520" y="7524720"/>
          <a:ext cx="2041200" cy="201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6520" y="7524720"/>
                    <a:ext cx="2041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CF4-B87F-44DB-8EC8-CF4E2BAD53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ren elektriciteit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hogere tempera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vo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lal metaal en dus goede gele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ruimte, waardoor elektrakabels ongeor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F98-B0ED-44F2-A3B3-EE7A622252E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2135160"/>
            <a:ext cx="6832440" cy="63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3E7-C735-42EE-95C7-D3534E274480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 te voorkomen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te verrichten met een veilige sp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080" y="5416560"/>
            <a:ext cx="5550120" cy="1434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Volt wissel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4120" y="7854840"/>
            <a:ext cx="562608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 Volt gelijk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26E-E38D-4989-A28B-A128C17E2BB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werkvergunning is bedo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 de volgende zaken goed 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ende afspraken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vastleggen van de voorwaarden waaronder gewerkt dient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4CC-B47C-4951-98E8-18EBE7502A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te onderdelen op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verstrekkende af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de 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rachtiging door verschillend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7778880"/>
            <a:ext cx="6235920" cy="1968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6720" y="7894800"/>
            <a:ext cx="611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de betrokkenen 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aar va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C8A-BE51-44CA-AB30-A1BC85BDF7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9200" y="5666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2880" y="1828440"/>
            <a:ext cx="6153120" cy="76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erg kleine werkplek, waardoor moeilijk te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slecht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kleine in- en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weinig 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dag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DA5-D19C-49EA-BF77-A5FF2E79D8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2880" y="2319480"/>
            <a:ext cx="6153120" cy="74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evaren in een besl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en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toffen en zuurstofgeb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len en strui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1987560"/>
            <a:ext cx="5931000" cy="341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17600" y="2133720"/>
            <a:ext cx="46720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beelden besloten ruim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lag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7B4-DA75-4DC9-88F9-5326CB045A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&amp; Explo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 voor brand en explos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nig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bare stoffen in 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zorgen voor brandba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er geen brandbare stoffen in de ruimte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voor ventilatie d.m.v. lucht in bla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6C5-3158-48B0-A9C3-C877E36DF9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arlijke stoffen en zuurstoftek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komen giftige stoffen in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oten 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verdamping van resten van de inhoud van een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 de wanden door verhitting en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het werk dat wordt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buiten de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3D8-F1E2-4C66-BF79-FCB0154BB47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bij werken in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reidend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ganisatie, toezicht en verblijfsduur, meti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tijdens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gemene maatregelen, ventileren, maatregelen bij lassen, slijpen, schilderen en bij overige werkzaam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4FA-68E5-4358-8B4A-50A41AEA57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2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n is W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51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betreden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skundig personeel al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n 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zuurstof (21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L (&lt;10 % L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w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920" y="7245360"/>
            <a:ext cx="6692760" cy="2502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520" y="7405560"/>
            <a:ext cx="5349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OIT FILTERBU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700520" y="7553160"/>
          <a:ext cx="194652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7553160"/>
                    <a:ext cx="194652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62440" y="7620120"/>
            <a:ext cx="1905120" cy="1904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86120" y="7620120"/>
            <a:ext cx="1904760" cy="1828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46F-BF10-41C4-AD4E-0211D813E6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8:09:42Z</dcterms:created>
  <dc:creator>Hajo Kleijburg</dc:creator>
  <dc:description>Revisie 0</dc:description>
  <dc:language>en-US</dc:language>
  <cp:lastModifiedBy>inge</cp:lastModifiedBy>
  <cp:lastPrinted>2000-04-30T14:28:28Z</cp:lastPrinted>
  <dcterms:modified xsi:type="dcterms:W3CDTF">2003-11-25T19:44:47Z</dcterms:modified>
  <cp:revision>21</cp:revision>
  <dc:subject>Les 8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