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20520" y="9360"/>
            <a:ext cx="297648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9360"/>
            <a:ext cx="2976840" cy="455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1920" y="700200"/>
            <a:ext cx="546732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20520" y="9281880"/>
            <a:ext cx="297648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281880"/>
            <a:ext cx="2976840" cy="455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A74209-5A8A-4BF2-BC53-7F4B92F29BA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002DA3-A218-46AC-B66B-3A0148F30DF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F04F69-29C9-4F2B-A5E3-83A128CB881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24778CC-AF92-457A-BB17-BA21D42214B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5503A4-DFE6-487E-985A-0D80105A805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A067A77-969E-448F-9343-2539CD813F8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CD4600-A7F9-4D0A-AAF0-A49E2B467098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5FE18B-A894-4543-8D4E-79F120C835F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421FA0-9835-48B1-BE86-4342DF74799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E5743AA-F392-4672-BA65-2FEDC4ABBD6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025180C-C40D-4E88-9610-9956E9427F5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2D343D-6642-421D-AD27-7DFEDFFBF5E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86F9C0-0840-4E44-AEA1-2126DA7A84F4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B08230-9717-4717-AEED-C6915A9CCC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EF50A71-03A3-4141-9505-85D7488DAA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50BDE2-9BCD-4B61-9D22-63015B48B702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B5797D-9783-4402-A6AD-6B1B57933BA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7F773E-F18D-47D8-A34E-DCB2F81CCD2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6C76990-CC84-4CCB-A858-533679092FBA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7D1425-7CE0-4A9D-9833-94E144980E6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2D1CC0-A218-4103-AAE7-7DF8ED6BAD8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E64023-1613-480B-ACBF-F9159F9E9BC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7F373F-C48B-48A5-875B-52A48F0CAF1C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4DC14C0-A8A9-45D7-8BA5-A6036AD75D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D209B4-8C61-4ED9-A4E1-0F8251C76F30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8C9C63-F06A-4F40-AE43-E4F47CFF3B3E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25DC6C-3170-462C-9553-B65E1C5C1D05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95560" y="9282240"/>
            <a:ext cx="297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BEDE98-519F-4166-8760-E7156BD518A7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692280" y="700200"/>
            <a:ext cx="5467320" cy="37116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20520" y="4645080"/>
            <a:ext cx="501012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F5A-704F-40FA-9D4A-2A874F98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EC4-33B5-49B8-B41A-989CB978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245-ED16-4EAA-8D40-708A706F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FA5-A76F-4A86-A31F-74928DFD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601-4D7E-4AAB-8B8C-2FDF02CF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144-DFDD-4D10-B8F3-E601950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08E-46E3-487B-97A6-B0299622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D4A-F33E-4092-AFE9-5E77FCFE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7EB6-D167-48A0-AA84-FF5821F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6BD-2586-450E-9423-A184A16B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073-6AC3-47B2-B367-49D1ABDE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1F6-4162-4C7F-AD03-F6C3B61D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ABC7F0-3FB8-4AE8-98A7-D39682A969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B9774E4-155B-4A74-BD90-2534A94271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301ABD-3E8F-4CB1-910C-F89DF7CD27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290600" y="2016000"/>
            <a:ext cx="82836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4167850-E1CD-4A83-ADE9-6446700A54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581647-BA4C-45AE-B276-E757EA737A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48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D67875-E603-4701-B4D0-7895F1C44F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760A20-B4DD-4713-951E-267524DAC6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B1F576-0FCD-4794-8934-0F4F6B0F2B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3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4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0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1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2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3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5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36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7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8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9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0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1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2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3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4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5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46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7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48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49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4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5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7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4A1DDDA-D986-4084-A731-614B228270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B1D7725-2B40-4B05-B5AD-2FBDA6982C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2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3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6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7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8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9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1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2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3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4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5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6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7"/>
          <p:cNvSpPr/>
          <p:nvPr/>
        </p:nvSpPr>
        <p:spPr>
          <a:xfrm>
            <a:off x="1515960" y="312408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8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39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0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1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2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3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4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5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6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7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8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9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0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1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2"/>
          <p:cNvSpPr/>
          <p:nvPr/>
        </p:nvSpPr>
        <p:spPr>
          <a:xfrm>
            <a:off x="1515960" y="459432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3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5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6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7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8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9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687E74-83F4-4401-8419-7BEC04F439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39609C-AC40-4818-BC88-A26D6C3712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3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4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26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8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9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0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1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32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33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34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35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6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37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38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39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1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2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3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44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5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46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47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9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0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3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4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55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6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7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6991F21-D50F-4029-BFAE-9C0A292FA3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191120" y="1600200"/>
            <a:ext cx="5638680" cy="800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FC8637-B181-44C7-9A2F-043AEA4C2F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C8F9F6-71A1-46C6-B892-5C97920232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datum 1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ijdelijke aanduiding voor dianummer 3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31B26D-0475-44BE-89EE-B545F9A9C5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2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3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4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4" name="Picture 5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23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942558-FE12-4E51-AD05-E0805421CF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532126-286D-4C39-9B3C-86DCDF942A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542880" y="4508640"/>
            <a:ext cx="975996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werkgever.  Deze heeft d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onderzoeken zod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geen sch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2B089F-CBF4-478C-8DE9-55F10CA3CE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796BAD-71F6-430C-8595-70ACFD8C46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AE27B1-36E0-41D8-940B-7DC4C3BA35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bestaat het recht 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F4EAB3-FB96-4B16-9803-61207A55EE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A72CAC-6342-4653-A621-1E715D9EA7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FAB18A-5376-43E2-9CEB-8B932670CE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2645F6-DCD0-4B16-8EF9-06D896E71A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960" y="1418760"/>
            <a:ext cx="906768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iner werd de dominothe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gestel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8178840" y="321804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9245520" y="2895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H="1">
            <a:off x="8178480" y="57103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8178480" y="289548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8178480" y="426240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277120" y="3301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89956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632800" y="36241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366040" y="41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89956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4"/>
          <p:cNvSpPr/>
          <p:nvPr/>
        </p:nvSpPr>
        <p:spPr>
          <a:xfrm>
            <a:off x="8277120" y="46702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8277120" y="555480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8899560" y="450864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8632800" y="5072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889956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6532560" y="321804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7599240" y="2895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H="1">
            <a:off x="6532200" y="289548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 flipH="1">
            <a:off x="6532200" y="43434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6532200" y="571032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6629400" y="33019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7251840" y="314172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6"/>
          <p:cNvSpPr/>
          <p:nvPr/>
        </p:nvSpPr>
        <p:spPr>
          <a:xfrm>
            <a:off x="6629400" y="4187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6629400" y="47498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251840" y="458964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7251840" y="402588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6629400" y="5554800"/>
            <a:ext cx="24912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1"/>
          <p:cNvSpPr/>
          <p:nvPr/>
        </p:nvSpPr>
        <p:spPr>
          <a:xfrm>
            <a:off x="7251840" y="5394240"/>
            <a:ext cx="2491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2"/>
          <p:cNvSpPr/>
          <p:nvPr/>
        </p:nvSpPr>
        <p:spPr>
          <a:xfrm>
            <a:off x="579744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3"/>
          <p:cNvSpPr/>
          <p:nvPr/>
        </p:nvSpPr>
        <p:spPr>
          <a:xfrm>
            <a:off x="473076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4"/>
          <p:cNvSpPr/>
          <p:nvPr/>
        </p:nvSpPr>
        <p:spPr>
          <a:xfrm flipH="1">
            <a:off x="473040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5"/>
          <p:cNvSpPr/>
          <p:nvPr/>
        </p:nvSpPr>
        <p:spPr>
          <a:xfrm flipH="1">
            <a:off x="473040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6"/>
          <p:cNvSpPr/>
          <p:nvPr/>
        </p:nvSpPr>
        <p:spPr>
          <a:xfrm flipH="1">
            <a:off x="473040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7"/>
          <p:cNvSpPr/>
          <p:nvPr/>
        </p:nvSpPr>
        <p:spPr>
          <a:xfrm flipH="1">
            <a:off x="288252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8"/>
          <p:cNvSpPr/>
          <p:nvPr/>
        </p:nvSpPr>
        <p:spPr>
          <a:xfrm flipH="1">
            <a:off x="288252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9"/>
          <p:cNvSpPr/>
          <p:nvPr/>
        </p:nvSpPr>
        <p:spPr>
          <a:xfrm flipH="1">
            <a:off x="288252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394956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288288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1057320" y="321804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3"/>
          <p:cNvSpPr/>
          <p:nvPr/>
        </p:nvSpPr>
        <p:spPr>
          <a:xfrm>
            <a:off x="2124000" y="2895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4"/>
          <p:cNvSpPr/>
          <p:nvPr/>
        </p:nvSpPr>
        <p:spPr>
          <a:xfrm flipH="1">
            <a:off x="1056960" y="289548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5"/>
          <p:cNvSpPr/>
          <p:nvPr/>
        </p:nvSpPr>
        <p:spPr>
          <a:xfrm flipH="1">
            <a:off x="1056960" y="42624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 flipH="1">
            <a:off x="1056960" y="571032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456B0B-2E53-4C7C-93CE-C921F63B8E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ilighe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DECDE6-ACA3-492B-978F-786519F629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4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7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0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1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2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3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4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6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7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2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cccc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800" spc="-1" strike="noStrike">
                <a:solidFill>
                  <a:srgbClr val="ffff99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f6633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atum 3"/>
          <p:cNvSpPr/>
          <p:nvPr/>
        </p:nvSpPr>
        <p:spPr>
          <a:xfrm>
            <a:off x="800280" y="6595920"/>
            <a:ext cx="2222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ca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645320" y="6595920"/>
            <a:ext cx="2222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70A31-BFE7-436A-8919-87B4309851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Hans Mulder</cp:lastModifiedBy>
  <cp:lastPrinted>2000-05-31T16:35:47Z</cp:lastPrinted>
  <dcterms:modified xsi:type="dcterms:W3CDTF">2016-10-03T10:33:21Z</dcterms:modified>
  <cp:revision>27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