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11049000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7640" y="738000"/>
            <a:ext cx="5556240" cy="36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5992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0EC986-EFF7-4999-A4CF-04A9F16F39D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0075F7-E82C-4A42-B8BE-05A7B661B31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C65E99-AA35-45DF-A692-88B5A4B220B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6A905D-F6ED-4006-9711-979EF7942B8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CD2BF2-F38A-48D5-A668-C012D8027BB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CED95E-19F7-447D-B63C-F73D8B2A85B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49288A-2412-4018-9F6B-E540CE22F6D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770A140-4073-4A11-8C56-A71FF34CDBD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006B77-4EB7-4271-B0B9-1594223248D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D9F177-AE8F-4B6B-A850-43DC7E54191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6E0757-E2C1-480C-A64C-05E7E69B96F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71008C-8338-4D17-832C-F93B4FC30E7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84E30AD-CBDC-49D5-A463-1D1D54F3752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D6C58A-0896-40F0-9084-D7E8C9895CF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A63AE7-1169-4302-A68D-6C755A2B47F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016B9D-60DA-4ECA-A7E6-8A631CABBFA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715375-B458-4CAC-8FD9-380187FB1D6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EF837A-06B2-4986-8E4E-203088F0956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F5E2CA-93B0-47AD-B4E6-DB85D71FA36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2029419-C63D-4AFB-A627-AF009B8DBFA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F3430C3-42C1-4BB3-86F2-E1374DD0D3C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1AD4A56-51F6-4BFE-9D7B-D80175BAF649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F1BA79-0752-43FF-8BC4-732265EB78A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EC934AF-2C88-403A-BC4F-80BA90B838E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3FCE8F-E25E-4C11-AB2D-BC69374824B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D9EDBF-FC1D-4AC3-9EFA-6766B7B4655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C6F7BB-7D2E-45BC-838A-D9C7AD8C322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60AC90-42A8-4873-9773-6705B87ADBD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05533C-D4E4-4AEB-873F-6AAD0F344263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60F1E0C-755A-4167-87BB-34EF0AB6AF7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29CA7EC-F7A9-4F5E-BB8A-9BB11322336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55044E-CF1D-418A-8656-B2234CF02D4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6F1CAE-DDAC-4A0B-9996-11142319259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E929AAA-FC0B-41B9-A51F-E0CA6E3EDED1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40E643F-C1EB-42F1-8E52-7E9688139A7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9A30EA-CF93-40D0-9711-992EEE06C6BB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2A6E49A-93C5-4BED-8154-6207CBA0014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B889BE-68B4-4823-852E-D5D626AF7C3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0CD49F-ED4D-41F8-9438-F97E68CE09F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F0099C-19D4-45F4-86B7-9A8DE7C0622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EA676FC-B45C-4D05-964C-48325585927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01AB97-62D2-4BC6-82BA-00166B42730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4D49CB-012D-497C-8DBD-E8A929BA146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BDC0D6-55F8-4034-82BA-E61E4366A75F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2960" y="925992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0C92C0B-DF82-450A-AFF3-1947BC7DB71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47640" y="738360"/>
            <a:ext cx="5556240" cy="3641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629240"/>
            <a:ext cx="502272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2654-F38F-4430-AC78-ADA33851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626-E5A3-4B0B-9A6E-45754717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6CD-5B9A-4C1F-9A48-F17DE46F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0428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79840" y="209196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872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0428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79840" y="4360680"/>
            <a:ext cx="30240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BE16-F169-4CD3-81B2-BF5A5327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6B2B-6121-4134-A483-B571AA0A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AC02-F675-4462-A49D-D0E5392D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4B0-A571-409B-BA8E-71F4AEDA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77F-AF0C-4CD9-B6E3-F9A66541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8720" y="644400"/>
            <a:ext cx="939168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3C1-647D-47B9-9153-E6AFF9B8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4BAB-7C97-41DF-B50C-0C9544AB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1200" y="436068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76AD-DFD1-42AF-B861-37D1842E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1200" y="2091960"/>
            <a:ext cx="4582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8720" y="4360680"/>
            <a:ext cx="9391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603B-8B0D-45EA-BE26-AA1B1CDC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74600" y="6594120"/>
            <a:ext cx="3498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18560" y="6594120"/>
            <a:ext cx="23018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08ED6F-652C-4A8B-AF13-BC5A471839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D8938E8-3D87-4A1D-9B2A-10E2349F30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44640" y="66492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57440" y="2022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chinaal geree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assen en br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100CE4-04B0-420A-8848-432DABF1CF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8400" y="1473120"/>
            <a:ext cx="9657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295C1A-425E-44DE-AF01-BC5E4C8474B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et jaarlijks worden geke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beschadi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E21A66-000F-4CA7-9C1F-15EC361B5CE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slijpmachines, doorslijpschijven en afbraam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slijpschijven verm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fabrik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um toelaatbaar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 bindmid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relgroo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uc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81A0DF3-CABD-4B06-9280-10393DE4C17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t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16120" y="1752480"/>
            <a:ext cx="591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CF1D6F-BF2A-480C-A2C7-BA9FA9BF7E5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langrijkste risico’s bij 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een 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vliegende deeltj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anrak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uit elkaar springen van de slijp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 door ontsteking van brandbare sto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ampen en 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2C3896-A842-4D50-9E18-4EDE9D30F6D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 groepen van schijv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slijp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braamsch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30490FB-644A-46DE-89FD-4E5EB7B04BD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schij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157560" y="2682720"/>
          <a:ext cx="47512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7560" y="2682720"/>
                    <a:ext cx="47512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350975-1DA7-4596-A8A1-8ADBB683BB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en met de hand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moet rekening gehoud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ype handslijp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ermog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wenste afmeting van de sch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materiaal dat men gaat slij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resultaat dat men wil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rootte en de vorm van het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stand waaronder men wer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rvaring en het vakmansch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0B6ABDD-8231-4DE3-A075-26BC6C8C63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t op samengeperste lu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s voor het werk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neumatisch handgereedscha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voor voldoende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zachte, leren handsch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lmatig rust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521404-763C-4DF9-93F7-B75CE8B99C5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 door binnendringen s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troffen worden door weggeslagen gereedschap of materiaal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otstelling giftige stoffen bij gevelrei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B6F9DC-4C47-4A67-8A94-DF55C982DE6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440" y="2091960"/>
            <a:ext cx="969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s soorten gereedsch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eenvoudig)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 hand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pparaten onder hoge dr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 opgestelde gereedschaps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sappa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7C71DC-1331-4354-A120-2914B0662F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werkdruk &gt; 100 B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imaal 18 j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uitpistool met dodemanskn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eiligd tegen ongewild inscha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g niet in “AAN” stand vergrendeld kunn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mp voorzien van nood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quate opleiding verp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B3E5985-14CE-4A65-82C5-11179D03771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ogedruk rein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uiten op asbesthoudend materiaal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werken met chemicaliën zijn persoonlijke beschermingsmiddelen verpl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4FF4453-EB16-473F-9D5D-9F21777C05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aansluitende kl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lange haren niet bij de bewegende delen kunnen 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geen handschoenen en 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m het werkstuk op een werk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aag een veiligheidsbril met zijkleppen en evt. adem- en gehoor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7AAFF4D-9CFA-405D-A9DB-5E738F37FD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gemene regels bij machines met bewegende del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laten afleiden tijdens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m het gereedschap niet met de hand af, maar laat het uitdraa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voldoende 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- en uit schakel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 gereedschap nooit aan het snoer of de lucht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goed onderhoud van geree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4B7922-F4E3-499C-BC9C-5E841A804B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eedschaps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 behandelen de volge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ne regels voor dez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lijkse ke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gebruiker moet een goede instruc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 opgest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D83FD2-B542-4AC2-B80B-D6A16F68EC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44640" y="14436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irkelz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8720" y="1372680"/>
            <a:ext cx="93916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kneld raken van armen of benen in de opspan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abuis opstarten van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lopen van 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ademen van hou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D1209B-1D46-4E75-92DA-CCA8C7C59A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8720" y="1572840"/>
            <a:ext cx="939168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isen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goede beschuttingskap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spouwmessupport hebben dat bij het zaagbla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 moet een instelbare en goed uitgevoerde hulpgeleider heb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én of meer aansluitingen voor de stofaanzu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wezigheid van een duwhou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hoog mogelijk instellen van het zaagb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90C2645-5C9F-418C-849D-BE4FD33143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C:\Documents and Settings\Inge Nagle\Mijn documenten\Mijn afbeeldingen\cirkelzaag.bmp"/>
          <p:cNvPicPr/>
          <p:nvPr/>
        </p:nvPicPr>
        <p:blipFill>
          <a:blip r:embed="rId1"/>
          <a:stretch/>
        </p:blipFill>
        <p:spPr>
          <a:xfrm>
            <a:off x="762120" y="685800"/>
            <a:ext cx="95248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35F4051-28C9-403E-BC34-97A2C51311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universele cirkelzaag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230480" y="2674800"/>
            <a:ext cx="8588160" cy="36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m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de bouwcirkelzaag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dt de aanwezigheid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lspanningsschakela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A3370B8-68B6-4576-A633-17AA9993D0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boor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“Happen” in het niet vastgezette werkstu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eken van de b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gvegen van het boorsel met de h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 gesloten aandrijv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stellen van de V-snaar als de machine nog niet stil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en van koel- en snijol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234737E-D192-4111-9920-2021C9CCC91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len met handgereed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p worden veroorzaakt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Slecht onderh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ein gereedschap zelf onderhouden, ander gereedschap laten repareren of vernie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d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reedschap gebruiken waar het voor bedoel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92003F-5EE8-4F24-8F82-5335687880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or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788B890-72C6-467C-92C4-8FF6CF67B7A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44640" y="44460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st opgestelde slijp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292040"/>
            <a:ext cx="9391680" cy="54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risico’s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hoog toer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adiging van de 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plinters in het 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monteren door deskundig pers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 afschermen van de zijkanten van d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tand tussen leunspaan en slijpsteen mag niet meer dan 3 mm bed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unspaan mag niet U-vormig zijn uitgesl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26F587-B888-4FB5-B660-E710A51B180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8720" y="244080"/>
            <a:ext cx="9391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lijp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104840" y="1444680"/>
            <a:ext cx="400068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5257800" y="4140360"/>
            <a:ext cx="4343400" cy="25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7014DFE-0D66-477E-A24D-A71FA7BCFB1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sch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plaatselijk verhitten met behulp van elektrische vlamb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utogeen la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teriaal verhitten met behulp van een gasvlam, versterkt door extra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54FF48-0C90-4CD2-BFE7-D783B2C231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ssen en slijpe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schappelijke geva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- en explosie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andbaar materiaal dat achter blijft op de werkpl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ssen aan tanks en le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88B3FB0-8F64-4295-8394-B57EFEF65D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men van preventieve maatreg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randblusser en brandw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las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gehoor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beschermende kl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zuiging en/of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7F90B77-04F4-41F5-AFE1-E47EFBE2A0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BM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39680" y="1994040"/>
            <a:ext cx="3075120" cy="20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3687840" cy="20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1100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74ECAEF-2E58-4E68-B615-42CB6BBCAE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919160" y="1968480"/>
            <a:ext cx="69328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A85D73-0E3F-4BFD-83BE-AB6913B7FA5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elektrisch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iftige gassen en damp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raling (gevolg = laso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ektrocu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goede beschermende kl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bruik een laskap of lashel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helper moet ook een lasbril dra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 werkstukklem, de elektrode, lastang niet onder de 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B9E5FC-36A7-4B92-B6F9-6C028F5076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Documents and Settings\Inge Nagle\Mijn documenten\Mijn afbeeldingen\lassen.bmp"/>
          <p:cNvPicPr/>
          <p:nvPr/>
        </p:nvPicPr>
        <p:blipFill>
          <a:blip r:embed="rId1"/>
          <a:stretch/>
        </p:blipFill>
        <p:spPr>
          <a:xfrm>
            <a:off x="1143000" y="587520"/>
            <a:ext cx="8763120" cy="60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D3309A1-790F-4B37-A1CB-15C39B503B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194760"/>
            <a:ext cx="939168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8720" y="1492200"/>
            <a:ext cx="93916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schieten, vallen of struik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nijden, knellen of pl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worden door wegschiet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boord of doorstok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ven of schu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oorschade door lawa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C08EFE-55AF-4A17-B196-7EB1059AA2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Documents and Settings\Inge Nagle\Mijn documenten\Mijn afbeeldingen\afzuiging.bmp"/>
          <p:cNvPicPr/>
          <p:nvPr/>
        </p:nvPicPr>
        <p:blipFill>
          <a:blip r:embed="rId1"/>
          <a:stretch/>
        </p:blipFill>
        <p:spPr>
          <a:xfrm>
            <a:off x="1944720" y="966960"/>
            <a:ext cx="71578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5C1381-8A43-48C6-A2AD-2352F0CF2E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xtra gevaren autogeen la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acetyleen en prop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van zuivere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 nemen 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 dat explosiegrenzen niet worden bere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a propaanflessen niet op in kelders en pu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ruik geen zuurstof als werklucht of om te venti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kom zuurstof lek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60C968-775B-440A-9EE9-F47943FAF6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C:\Documents and Settings\Inge Nagle\Mijn documenten\Mijn afbeeldingen\gasfles.bmp"/>
          <p:cNvPicPr/>
          <p:nvPr/>
        </p:nvPicPr>
        <p:blipFill>
          <a:blip r:embed="rId1"/>
          <a:stretch/>
        </p:blipFill>
        <p:spPr>
          <a:xfrm>
            <a:off x="2795760" y="676440"/>
            <a:ext cx="5457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3FEFC20-4F10-4BC7-A1AB-D365A1065FA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Documents and Settings\Inge Nagle\Mijn documenten\Mijn afbeeldingen\gasfles1.bmp"/>
          <p:cNvPicPr/>
          <p:nvPr/>
        </p:nvPicPr>
        <p:blipFill>
          <a:blip r:embed="rId1"/>
          <a:stretch/>
        </p:blipFill>
        <p:spPr>
          <a:xfrm>
            <a:off x="1905120" y="304920"/>
            <a:ext cx="722304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27A9CA-1A5C-4050-9434-73D80926021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62080" y="604800"/>
            <a:ext cx="10529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atum 1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jdelijke aanduiding voor dianummer 3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092E0A-CD2C-4865-A2CF-088E5B81ADF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2"/>
          <p:cNvGraphicFramePr/>
          <p:nvPr/>
        </p:nvGraphicFramePr>
        <p:xfrm>
          <a:off x="3398760" y="274680"/>
          <a:ext cx="415296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760" y="274680"/>
                    <a:ext cx="415296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5" descr="C:\Documents and Settings\Inge Nagle\Mijn documenten\Mijn afbeeldingen\hamer.bmp"/>
          <p:cNvPicPr/>
          <p:nvPr/>
        </p:nvPicPr>
        <p:blipFill>
          <a:blip r:embed="rId3"/>
          <a:stretch/>
        </p:blipFill>
        <p:spPr>
          <a:xfrm>
            <a:off x="685800" y="179280"/>
            <a:ext cx="98298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75F3D3-F9D1-44D3-8C8D-DE62E83231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44640" y="693360"/>
            <a:ext cx="93916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sen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2800" y="214128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eedschap gaaf en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mers met gladde, goed geborgde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rsleutels die passen en niet verslet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len met hand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oevendraaiers zonder beschadi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els, doorslagen en centerponsen zonder b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gen met gave en schone 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834D01-9F3F-4DE4-81EF-F7C894BF4B6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8720" y="344520"/>
            <a:ext cx="939168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640" y="1522080"/>
            <a:ext cx="9391680" cy="51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lleen gebruiken waarvoor bestem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Moersleutels nooit verleng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Gereedschap pass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Van je af snijden en bi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Kleine werkstukken vast zett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Oppassen voor elektrakab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PBM’s gebrui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4A30FC-DED6-4B1D-8044-8E9DEBBC4B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iciteit kan op 2 man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aarlijk zij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ektrocutie (stroom door het licha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nkoverslag (kortsluiting in of vlakbij het appar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risico’s zijn te verkle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te werken met veilige sp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50 Volt wissel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ximaal 120 Volt gelijksp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jdelijke aanduiding voor datum 3"/>
          <p:cNvSpPr/>
          <p:nvPr/>
        </p:nvSpPr>
        <p:spPr>
          <a:xfrm>
            <a:off x="82872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7918560" y="6594480"/>
            <a:ext cx="23018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9A5A3C-7FCC-4277-811B-E3DE221B8F4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8720" y="644400"/>
            <a:ext cx="9391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’s elektrisch 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8720" y="2091960"/>
            <a:ext cx="9391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- of explo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wo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schietende deel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hoorsch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21:06:26Z</dcterms:created>
  <dc:creator>Hajo Kleijburg</dc:creator>
  <dc:description>Revisie 0</dc:description>
  <dc:language>en-US</dc:language>
  <cp:lastModifiedBy>Hans Mulder</cp:lastModifiedBy>
  <cp:lastPrinted>2000-05-31T17:51:36Z</cp:lastPrinted>
  <dcterms:modified xsi:type="dcterms:W3CDTF">2016-10-03T10:34:19Z</dcterms:modified>
  <cp:revision>27</cp:revision>
  <dc:subject>Les 5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