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9.jpeg" ContentType="image/jpe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3.wmf" ContentType="image/x-wmf"/>
  <Override PartName="/ppt/media/image1.jpeg" ContentType="image/jpe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438CA-A999-4053-B3D8-76D759A8F7A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ijdelijke aanduiding voor voettekst 3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AutoCAD Basis Training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Tijdelijke aanduiding voor dianummer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8E7F1-11AB-4D5F-8FC5-6143FEB6E717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ijdelijke aanduiding voor voettekst 3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AutoCAD Basis Training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Tijdelijke aanduiding voor dianummer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C6541-95D3-4A40-B678-60ED7D8E328B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ijdelijke aanduiding voor voettekst 3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AutoCAD Basis Training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Tijdelijke aanduiding voor dianummer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AD758-7448-4012-9A74-508EB6D3E300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477A-416F-4CF0-9402-638EA1D23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2600-60AB-4A22-BDEF-2863DE46A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F92C-594F-47CD-9488-5B3679A74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384D-C6BD-4213-8DA4-5BDFE4B3E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D1804-83B7-41AA-96C6-DEACDA15C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85375-FF79-4D4B-85D9-94B2123DE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28EDB-715D-4F7C-A831-328F76242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3BFD1-8600-4559-8343-9F42FBFB7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3426B-57E1-4158-8303-D9DA1242F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04219-DA08-4234-9EF8-E9378C8B8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07135-E883-4EAD-9E43-36351B0D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7877-4694-4010-8CB4-843C7A99B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DD5EE-63C1-4588-AB99-33174771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808B0-2A4B-4397-B77E-E83D078A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D8D56-7F06-4856-9438-912BE0926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15B81-DE3E-4CDB-8EC2-8EDC1B9F2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EA3AD-5612-469F-8682-F784E6AB4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07C8C-354C-47F3-9940-8A76B3FFF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58FF0-658D-483E-B54C-D2863290A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F099E-4075-4789-945E-2FF288502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F0D8C-B250-4256-9CCB-602DBA053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17F06-84C2-43FB-8DA2-AA333D19A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78DB-41AE-4DA6-B5CE-A3E7F9D8B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38EB6-0DE5-4F54-BBC0-E35E63745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0B025-29E9-4131-B0E9-003C467D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9D1E8-AE44-44E1-8095-4606BE62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D939B-FADC-4DBE-B78C-090EE5D3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E170C-B03A-4876-9E3A-78698C404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0E603-3680-4BC7-86BB-95269E5B0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68169-8CAB-45EF-997A-0C216162D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879F-9C1E-4242-AC33-9EA0CBAB3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F40B-1EF7-460F-8DEF-30D1DE2E6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F253-5FBC-4B51-8CDE-647B82B10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17D3-C154-4671-A54C-8EB00B56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E754-88CC-478A-8553-B5253ACC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4EAE-A39D-41F4-A06B-9E21AEEF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image" Target="../media/image2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81076-B9DE-4AB1-9E20-4463F021EBA6}" type="slidenum"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7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6"/>
          <a:stretch/>
        </p:blipFill>
        <p:spPr>
          <a:xfrm>
            <a:off x="771516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7"/>
          <a:stretch/>
        </p:blipFill>
        <p:spPr>
          <a:xfrm>
            <a:off x="533520" y="5867280"/>
            <a:ext cx="838080" cy="542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A3983-6786-470C-9D1B-6CB150388A8A}" type="slidenum"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1039680" cy="1092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3210A-C0B2-469A-BCC2-D7C069AFB55A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500040" y="500040"/>
            <a:ext cx="8429760" cy="36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a407"/>
                </a:solidFill>
                <a:latin typeface="Arial"/>
              </a:rPr>
              <a:t>VCA V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fa407"/>
                </a:solidFill>
                <a:latin typeface="Arial"/>
              </a:rPr>
              <a:t>Hoofdstuk 8 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fa407"/>
                </a:solidFill>
                <a:latin typeface="Arial"/>
              </a:rPr>
              <a:t>VGM-beheersing,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fa407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fa407"/>
                </a:solidFill>
                <a:latin typeface="Arial"/>
              </a:rPr>
              <a:t>vormgeven aan veilig werken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14E91-0BDB-4709-BDA6-6E6B5409C19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4" name="Object 5"/>
          <p:cNvGraphicFramePr/>
          <p:nvPr/>
        </p:nvGraphicFramePr>
        <p:xfrm>
          <a:off x="3357720" y="4286160"/>
          <a:ext cx="2493720" cy="1714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5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57720" y="4286160"/>
                    <a:ext cx="2493720" cy="17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4 Algemene en specifieke veiligheidsregel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71680" y="1499760"/>
            <a:ext cx="75722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lgemene veiligheidsreg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lden voor iedereen op het bedrijf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e medewerker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itzendkracht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personeel van) aannemers en onderaannem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an op papi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rijgt iedere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eten duidelijk zijn, eenduidi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grijpelijk voor anderstali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CE8E0-819B-48E2-8453-F56C4459E2F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571320" y="1599840"/>
            <a:ext cx="80658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derwerpen algemene veiligheidsreg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- en afmel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keersregels op het terrei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e te handelen bij calamitei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eiden van afv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lden van ongevallen, brand en inciden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DB58D-E633-45D2-8C66-46EFCB60CCB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71680" y="3567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4 Algemene en specifieke veiligheidsregels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1680" y="1000080"/>
            <a:ext cx="812952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pecifieke veiligheidsregels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71680" y="1857240"/>
            <a:ext cx="7643520" cy="45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n, functies en werk met verhoogd risic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reden van besloten ruim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en op hoog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rm/heet 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en in explosiegevaarlijke omge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bruik van de vereiste PB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afwerkzaamhe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bruik van specifieke gereedschappen,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aratuur en werktui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ED3C3-C58C-4C53-9E21-99BB98876B8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itel 1"/>
          <p:cNvSpPr/>
          <p:nvPr/>
        </p:nvSpPr>
        <p:spPr>
          <a:xfrm>
            <a:off x="571680" y="0"/>
            <a:ext cx="8572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  <a:ea typeface="Arial"/>
              </a:rPr>
              <a:t>8.4 Algemene en specifieke veiligheidsregels (3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1680" y="713880"/>
            <a:ext cx="8318160" cy="100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a407"/>
                </a:solidFill>
                <a:latin typeface="Arial"/>
              </a:rPr>
              <a:t>specifieke veiligheidsregels </a:t>
            </a:r>
            <a:r>
              <a:rPr b="0" lang="en-US" sz="2400" spc="-1" strike="noStrike">
                <a:solidFill>
                  <a:srgbClr val="0fa407"/>
                </a:solidFill>
                <a:latin typeface="Arial"/>
              </a:rPr>
              <a:t>(2)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71680" y="1499760"/>
            <a:ext cx="833112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33520" indent="-53352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e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riftelijk vastgelegd zij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ikbaar zijn voor betreffende/betrokken werknem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egelicht wor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toetst worden of deze regels begrepen zij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33520" indent="-533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reffen eisen en voorschrif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m veilig te werken met een bepaalde machin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 veilige uitvoering van bepaald soort 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A8647-62AF-4CA9-9CA2-0F6F6BA5D60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kstvak 4"/>
          <p:cNvSpPr/>
          <p:nvPr/>
        </p:nvSpPr>
        <p:spPr>
          <a:xfrm rot="21028800">
            <a:off x="5319360" y="566064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a407"/>
                </a:solidFill>
                <a:latin typeface="Arial Black"/>
              </a:rPr>
              <a:t>overleg…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Titel 1"/>
          <p:cNvSpPr/>
          <p:nvPr/>
        </p:nvSpPr>
        <p:spPr>
          <a:xfrm>
            <a:off x="571680" y="0"/>
            <a:ext cx="8572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  <a:ea typeface="Arial"/>
              </a:rPr>
              <a:t>8.4 Algemene en specifieke veiligheidsregels (4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571320" y="1295280"/>
            <a:ext cx="735804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regels kunnen eisen bevatten omtr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858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ezic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858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lei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858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scher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858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til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858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l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858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858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tvoering meti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F48BC-1D60-4E67-958F-E866BA6C412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kstvak 4"/>
          <p:cNvSpPr/>
          <p:nvPr/>
        </p:nvSpPr>
        <p:spPr>
          <a:xfrm rot="21028800">
            <a:off x="4756320" y="4576320"/>
            <a:ext cx="242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a911"/>
                </a:solidFill>
                <a:latin typeface="Arial Black"/>
              </a:rPr>
              <a:t>overleg…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itel 1"/>
          <p:cNvSpPr/>
          <p:nvPr/>
        </p:nvSpPr>
        <p:spPr>
          <a:xfrm>
            <a:off x="571680" y="0"/>
            <a:ext cx="8572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  <a:ea typeface="Arial"/>
              </a:rPr>
              <a:t>8.4 Algemene en specifieke veiligheidsregels (5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5 Werkvoorbereid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DBFF8-80FE-4A2F-B341-19989DEE7CB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kstvak 6"/>
          <p:cNvSpPr/>
          <p:nvPr/>
        </p:nvSpPr>
        <p:spPr>
          <a:xfrm>
            <a:off x="571680" y="1143000"/>
            <a:ext cx="8286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een goed begin…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tijdsplanning voor totale wer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goede volgorde om goed en veilig te kunnen werk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benodigde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8276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materia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8276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gereedschappen en machin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detailplanning voor de uitvoering van het werk volgens een veiliger werkwijze (ook als die trager is en extr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voorzieningen eist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1320" y="304560"/>
            <a:ext cx="8019720" cy="92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6 Vergunning veilig werk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71320" y="1905120"/>
            <a:ext cx="8358120" cy="30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oorwaarden scheppen om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de uit te voeren werkzaamhed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tap voor stap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met maximale veilighei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oor mens en installati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uit te voeren…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0" y="-2588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6 Vergunning veilig werk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42960" y="1220400"/>
            <a:ext cx="82152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gemene werkvergun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doel: zeker weten d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70000"/>
              </a:lnSpc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wordt overlegd over veilige werkuitvo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meel toestemming wordt gegeven om te werken op het terrein en aan de installa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zonder vergunning niet aan het werk 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04151-FCBF-48F9-A486-928EF7E6E70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0" name="Object 6"/>
          <p:cNvGraphicFramePr/>
          <p:nvPr/>
        </p:nvGraphicFramePr>
        <p:xfrm>
          <a:off x="3429000" y="2743200"/>
          <a:ext cx="1785960" cy="100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1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29000" y="2743200"/>
                    <a:ext cx="178596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6000480" cy="92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pecifieke werkvergunning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71680" y="2037960"/>
            <a:ext cx="6929280" cy="27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gen van een veilige werkwijze voor werk met specifieke risico’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spraken op schrif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egelich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derteke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nodig specifieke opleiding of train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90BBD-32AB-497B-88FE-76B01D8A58D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kstvak 4"/>
          <p:cNvSpPr/>
          <p:nvPr/>
        </p:nvSpPr>
        <p:spPr>
          <a:xfrm rot="20244600">
            <a:off x="4191480" y="4952520"/>
            <a:ext cx="44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a407"/>
                </a:solidFill>
                <a:latin typeface="Arial Black"/>
              </a:rPr>
              <a:t>persoonlijk overtuig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Titel 1"/>
          <p:cNvSpPr/>
          <p:nvPr/>
        </p:nvSpPr>
        <p:spPr>
          <a:xfrm>
            <a:off x="571680" y="142920"/>
            <a:ext cx="81295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  <a:ea typeface="Arial"/>
              </a:rPr>
              <a:t>8.6 Vergunning veilig werken (3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812952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Specifieke werkvergunning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71320" y="1220400"/>
            <a:ext cx="86468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oorbeelden van werk met specifieke vergun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reden van een besloten ruim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andgevaarlijk werk, ook vuurvergunning of heetwerkvergunning, bijvoorbeeld lassen, slijp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ven in vervuilde ondergron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dergrond met leidingen (vloeren, strate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en aan of bij gevaarlijke stralingsbronn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jswerk bij belangrijke installat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iteiten asbesthoudend materia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en met giftige en/of kankerverwekkend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off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en op hoog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0C826-B605-4AD6-8DE7-4A9F484DC06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0040" y="33120"/>
            <a:ext cx="8429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 Overleggen en regel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71680" y="1220400"/>
            <a:ext cx="8215200" cy="45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1  Hoofdrol voor de leidinggeven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  VGM-kennis een basisvoorwaar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  Overleggen en regel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  Algemene en specifieke veiligheidsreg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 Werkvoorberei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6  Vergunning veilig wer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7  Aandachtspunten bij risicovol werk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8  Noodsitua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C9F22-3F49-4F76-8871-AFF94CA7C0D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1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515520" cy="708804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Specifieke werkvergunning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1367A-1167-4428-B7B3-A2BFADA14EA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kstvak 5"/>
          <p:cNvSpPr/>
          <p:nvPr/>
        </p:nvSpPr>
        <p:spPr>
          <a:xfrm rot="18256200">
            <a:off x="-417240" y="2829960"/>
            <a:ext cx="372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aanvraag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werkzaamhed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Tekstvak 7"/>
          <p:cNvSpPr/>
          <p:nvPr/>
        </p:nvSpPr>
        <p:spPr>
          <a:xfrm rot="18256200">
            <a:off x="3654000" y="2758680"/>
            <a:ext cx="372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maatregelen vergunninghoude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Tekstvak 8"/>
          <p:cNvSpPr/>
          <p:nvPr/>
        </p:nvSpPr>
        <p:spPr>
          <a:xfrm rot="18256200">
            <a:off x="6011640" y="2901600"/>
            <a:ext cx="372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bekrachtiging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Alle partij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Tekstvak 9"/>
          <p:cNvSpPr/>
          <p:nvPr/>
        </p:nvSpPr>
        <p:spPr>
          <a:xfrm rot="18256200">
            <a:off x="1725480" y="2544480"/>
            <a:ext cx="372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maatregelen verstrekke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Tekstvak 12"/>
          <p:cNvSpPr/>
          <p:nvPr/>
        </p:nvSpPr>
        <p:spPr>
          <a:xfrm rot="21347400">
            <a:off x="6356520" y="5245200"/>
            <a:ext cx="27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verlenging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Werkvergunningen</a:t>
            </a:r>
            <a:r>
              <a:rPr b="0" lang="en-US" sz="2800" spc="-1" strike="noStrike">
                <a:solidFill>
                  <a:srgbClr val="0fa407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zijn een onderdeel van projectveiligheid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59" name="Picture 1" descr=""/>
          <p:cNvPicPr/>
          <p:nvPr/>
        </p:nvPicPr>
        <p:blipFill>
          <a:blip r:embed="rId2"/>
          <a:stretch/>
        </p:blipFill>
        <p:spPr>
          <a:xfrm>
            <a:off x="1779480" y="1420920"/>
            <a:ext cx="4803840" cy="4583160"/>
          </a:xfrm>
          <a:prstGeom prst="rect">
            <a:avLst/>
          </a:prstGeom>
          <a:ln w="0">
            <a:noFill/>
          </a:ln>
        </p:spPr>
      </p:pic>
      <p:pic>
        <p:nvPicPr>
          <p:cNvPr id="260" name="WordArt 2" descr=""/>
          <p:cNvPicPr/>
          <p:nvPr/>
        </p:nvPicPr>
        <p:blipFill>
          <a:blip r:embed="rId3"/>
          <a:stretch/>
        </p:blipFill>
        <p:spPr>
          <a:xfrm>
            <a:off x="1841400" y="1620720"/>
            <a:ext cx="2621160" cy="1293840"/>
          </a:xfrm>
          <a:prstGeom prst="rect">
            <a:avLst/>
          </a:prstGeom>
          <a:ln w="0">
            <a:noFill/>
          </a:ln>
        </p:spPr>
      </p:pic>
      <p:pic>
        <p:nvPicPr>
          <p:cNvPr id="261" name="WordArt 3" descr=""/>
          <p:cNvPicPr/>
          <p:nvPr/>
        </p:nvPicPr>
        <p:blipFill>
          <a:blip r:embed="rId4"/>
          <a:stretch/>
        </p:blipFill>
        <p:spPr>
          <a:xfrm>
            <a:off x="3962520" y="4638600"/>
            <a:ext cx="2614320" cy="1285920"/>
          </a:xfrm>
          <a:prstGeom prst="rect">
            <a:avLst/>
          </a:prstGeom>
          <a:ln w="0">
            <a:noFill/>
          </a:ln>
        </p:spPr>
      </p:pic>
      <p:pic>
        <p:nvPicPr>
          <p:cNvPr id="262" name="WordArt 4" descr=""/>
          <p:cNvPicPr/>
          <p:nvPr/>
        </p:nvPicPr>
        <p:blipFill>
          <a:blip r:embed="rId5"/>
          <a:stretch/>
        </p:blipFill>
        <p:spPr>
          <a:xfrm>
            <a:off x="4853160" y="1500120"/>
            <a:ext cx="1908000" cy="2737080"/>
          </a:xfrm>
          <a:prstGeom prst="rect">
            <a:avLst/>
          </a:prstGeom>
          <a:ln w="0">
            <a:noFill/>
          </a:ln>
        </p:spPr>
      </p:pic>
      <p:pic>
        <p:nvPicPr>
          <p:cNvPr id="263" name="WordArt 5" descr=""/>
          <p:cNvPicPr/>
          <p:nvPr/>
        </p:nvPicPr>
        <p:blipFill>
          <a:blip r:embed="rId6"/>
          <a:stretch/>
        </p:blipFill>
        <p:spPr>
          <a:xfrm>
            <a:off x="1706400" y="3333600"/>
            <a:ext cx="1970280" cy="271332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7"/>
          <p:cNvSpPr/>
          <p:nvPr/>
        </p:nvSpPr>
        <p:spPr>
          <a:xfrm>
            <a:off x="0" y="-2588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71680" y="3567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Functies van de werkvergunn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71680" y="1357200"/>
            <a:ext cx="700056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goede voorbereiding op veilig wer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leggen met iedereen die bij het werk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rokken is en met hen bindende afspraken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stleggen van de voorwaarden waaronder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werkt word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lenen van toestemming voor aanvang van de werkzaamhe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E7900-A153-4BC4-A843-027F2AACAC2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Tekstvak 4"/>
          <p:cNvSpPr/>
          <p:nvPr/>
        </p:nvSpPr>
        <p:spPr>
          <a:xfrm rot="21347400">
            <a:off x="3115440" y="4472280"/>
            <a:ext cx="512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a407"/>
                </a:solidFill>
                <a:latin typeface="Arial Black"/>
              </a:rPr>
              <a:t>gestructureerde en verplichte communicatie tussen alle partij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8129520" cy="107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Invullen van de werkvergunn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837720" y="1294920"/>
            <a:ext cx="664380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ldigheidsduur (meestal 1 dag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m welke werkzaamheden het ga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ie gaat wanneer welk werk do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atregelen die de verstrekker van d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gunning neem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veiligheids-)maatregelen vaststellen voor operationele medewerk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atregelen om de werkomgeving na d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zaamheden veilig achter te la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krachtiging/onderteken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waarden voor verleng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C1A99-95FA-4D8B-A27E-AC74E19A52B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57232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Rechten en plichten vergunningverstrekk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71320" y="1002960"/>
            <a:ext cx="8156520" cy="49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85840" indent="-285840">
              <a:spcBef>
                <a:spcPts val="550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e op de vrijstelling van de installati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eker weten dat daar veilig gewerkt kan wor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 het aftekenen van de vergunn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sprek met de vergunninghouder ov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rd van de werkzaamhe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voorwaarden en de maatreg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dertekening van de vergu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verstrekker zorgt zo nodig dat metingen zijn verric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verschillende werkzaamheden tegelijkertij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rgt de verstrekker voor coördinatie en afsprak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ssen de betrokken partij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E9666-E50B-47EE-A4BC-A6D8AFE059A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812952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Rechten en plichten vergunninghoud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71320" y="1219320"/>
            <a:ext cx="814212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de houder van de werkvergun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dertekent de vergu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rgt ervoor dat de vergunning ter plaatse 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eft uitleg aan de operationele medewerk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et erop toe dat de werkzaamheden volgens de voorwaarden verlop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897BB-1BD7-49EF-800B-A0365C59B73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Rechten/plichten operationele medewerker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571320" y="1356840"/>
            <a:ext cx="81579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de operationele medewerk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nnen de inhoud van de vergu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en volgens de voorwaarden van de vergu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men de maatregelen die op de vergunning sta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en alleen met een geldige vergunn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163a"/>
                </a:solidFill>
                <a:latin typeface="Arial"/>
              </a:rPr>
              <a:t>een werkvergunning heeft alleen zin als de afspraken die worden gemaakt, ook worden nageleef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ADEFC-EA74-49BF-B952-FA53EF06C49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96912-8135-4A62-B5A6-416EAC429A6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2" name="Picture 7" descr=""/>
          <p:cNvPicPr/>
          <p:nvPr/>
        </p:nvPicPr>
        <p:blipFill>
          <a:blip r:embed="rId2"/>
          <a:srcRect l="18846" t="30242" r="-414" b="16908"/>
          <a:stretch/>
        </p:blipFill>
        <p:spPr>
          <a:xfrm>
            <a:off x="7358040" y="0"/>
            <a:ext cx="1785960" cy="2500200"/>
          </a:xfrm>
          <a:prstGeom prst="rect">
            <a:avLst/>
          </a:prstGeom>
          <a:ln w="0">
            <a:noFill/>
          </a:ln>
        </p:spPr>
      </p:pic>
      <p:sp>
        <p:nvSpPr>
          <p:cNvPr id="283" name="Tekstvak 5"/>
          <p:cNvSpPr/>
          <p:nvPr/>
        </p:nvSpPr>
        <p:spPr>
          <a:xfrm>
            <a:off x="500040" y="54000"/>
            <a:ext cx="714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  <a:ea typeface="Tahoma"/>
              </a:rPr>
              <a:t>8.7 Aandachtspunten bij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  <a:ea typeface="Tahoma"/>
              </a:rPr>
              <a:t>risicovolle werkzaamhed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ekstvak 9"/>
          <p:cNvSpPr/>
          <p:nvPr/>
        </p:nvSpPr>
        <p:spPr>
          <a:xfrm>
            <a:off x="571680" y="1928880"/>
            <a:ext cx="7914960" cy="37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bereiding, toepassen bedrijfsvoorschriften,  werkvergunningen, TRA, LMR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wezig zijn, controleren en zonodig ingrijpen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rrigeren als maatregelen niet worden genomen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 stoppen als het werkplan niet wordt gevolg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tzendkrachten in samenwerking met de    uitzendorganisatie, aanvullend informeren en zonodig opleiden en instructies gev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71680" y="928440"/>
            <a:ext cx="500040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TRA: (taak)risicoanalyse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71680" y="1645920"/>
            <a:ext cx="8540640" cy="37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72960" indent="-372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e van de gevaren voor werknemers bij uitvoering van (risicovolle) taken  met als doel beheersmaatregelen vast te stellen en in te zet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wijz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90000"/>
              </a:lnSpc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taakstap nagaan of extra beheersmaatregelen nodig zij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90000"/>
              </a:lnSpc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TRA wordt bijgesteld als er afwijkingen optreden t.o.v. het werkpl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bijgestelde TRA wordt dan besproken met  de vertegenwoordiger van de opdrachtgev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30AF8-C2B4-4CF6-BA30-4B0A77B40A4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Tekstvak 5"/>
          <p:cNvSpPr/>
          <p:nvPr/>
        </p:nvSpPr>
        <p:spPr>
          <a:xfrm>
            <a:off x="571680" y="0"/>
            <a:ext cx="835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  <a:ea typeface="Tahoma"/>
              </a:rPr>
              <a:t>8.7 Aandachtpunten bij risicovolle werkzaamheden (2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0" y="-2588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Tekstvak 8"/>
          <p:cNvSpPr/>
          <p:nvPr/>
        </p:nvSpPr>
        <p:spPr>
          <a:xfrm>
            <a:off x="571680" y="380880"/>
            <a:ext cx="85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  <a:ea typeface="Tahoma"/>
              </a:rPr>
              <a:t>Hoofdlijn omgaan met verhoogd risico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Tekstvak 9"/>
          <p:cNvSpPr/>
          <p:nvPr/>
        </p:nvSpPr>
        <p:spPr>
          <a:xfrm>
            <a:off x="1900080" y="1571760"/>
            <a:ext cx="307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normale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bedrijfsvoer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Tekstvak 10"/>
          <p:cNvSpPr/>
          <p:nvPr/>
        </p:nvSpPr>
        <p:spPr>
          <a:xfrm>
            <a:off x="6469200" y="1500120"/>
            <a:ext cx="264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projectmatige werkuitvoer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Tekstvak 11"/>
          <p:cNvSpPr/>
          <p:nvPr/>
        </p:nvSpPr>
        <p:spPr>
          <a:xfrm>
            <a:off x="571680" y="2428920"/>
            <a:ext cx="171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a911"/>
                </a:solidFill>
                <a:latin typeface="Tahoma"/>
                <a:ea typeface="Tahoma"/>
              </a:rPr>
              <a:t>identificatie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Tekstvak 12"/>
          <p:cNvSpPr/>
          <p:nvPr/>
        </p:nvSpPr>
        <p:spPr>
          <a:xfrm>
            <a:off x="1447920" y="2928960"/>
            <a:ext cx="2233440" cy="459720"/>
          </a:xfrm>
          <a:prstGeom prst="rect">
            <a:avLst/>
          </a:prstGeom>
          <a:noFill/>
          <a:ln w="9360">
            <a:solidFill>
              <a:srgbClr val="c016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bedrijfs-RI&amp;E</a:t>
            </a:r>
            <a:r>
              <a:rPr b="1" lang="nl-NL" sz="1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Tekstvak 13"/>
          <p:cNvSpPr/>
          <p:nvPr/>
        </p:nvSpPr>
        <p:spPr>
          <a:xfrm>
            <a:off x="6681960" y="3000240"/>
            <a:ext cx="2428560" cy="825480"/>
          </a:xfrm>
          <a:prstGeom prst="rect">
            <a:avLst/>
          </a:prstGeom>
          <a:noFill/>
          <a:ln w="9360">
            <a:solidFill>
              <a:srgbClr val="c016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- functie-RI&amp;E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kstvak 14"/>
          <p:cNvSpPr/>
          <p:nvPr/>
        </p:nvSpPr>
        <p:spPr>
          <a:xfrm>
            <a:off x="6681960" y="335772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- project-RI&amp;E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7" name="Tekstvak 15"/>
          <p:cNvGrpSpPr/>
          <p:nvPr/>
        </p:nvGrpSpPr>
        <p:grpSpPr>
          <a:xfrm>
            <a:off x="981000" y="4022640"/>
            <a:ext cx="3200400" cy="1519200"/>
            <a:chOff x="981000" y="4022640"/>
            <a:chExt cx="3200400" cy="1519200"/>
          </a:xfrm>
        </p:grpSpPr>
        <p:pic>
          <p:nvPicPr>
            <p:cNvPr id="298" name="Tekstvak 15" descr=""/>
            <p:cNvPicPr/>
            <p:nvPr/>
          </p:nvPicPr>
          <p:blipFill>
            <a:blip r:embed="rId2"/>
            <a:stretch/>
          </p:blipFill>
          <p:spPr>
            <a:xfrm>
              <a:off x="981000" y="4022640"/>
              <a:ext cx="3200400" cy="15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1100160" y="4143240"/>
              <a:ext cx="3029040" cy="13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Tahoma"/>
                </a:rPr>
                <a:t>algemene en 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Tahoma"/>
                </a:rPr>
                <a:t>specifieke veiligheidsregels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Tahoma"/>
                </a:rPr>
                <a:t>beheersmaatregelen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Tahoma"/>
                </a:rPr>
                <a:t>werkvergunningen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0" name="Tekstvak 16"/>
          <p:cNvGrpSpPr/>
          <p:nvPr/>
        </p:nvGrpSpPr>
        <p:grpSpPr>
          <a:xfrm>
            <a:off x="6303960" y="4127400"/>
            <a:ext cx="2833560" cy="1511280"/>
            <a:chOff x="6303960" y="4127400"/>
            <a:chExt cx="2833560" cy="1511280"/>
          </a:xfrm>
        </p:grpSpPr>
        <p:pic>
          <p:nvPicPr>
            <p:cNvPr id="301" name="Tekstvak 16" descr=""/>
            <p:cNvPicPr/>
            <p:nvPr/>
          </p:nvPicPr>
          <p:blipFill>
            <a:blip r:embed="rId3"/>
            <a:stretch/>
          </p:blipFill>
          <p:spPr>
            <a:xfrm>
              <a:off x="6303960" y="4127400"/>
              <a:ext cx="283356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6421320" y="4241880"/>
              <a:ext cx="2662200" cy="13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Tahoma"/>
                </a:rPr>
                <a:t>beheersmaatregelen 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Tahoma"/>
                </a:rPr>
                <a:t>werkvergunning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Tahoma"/>
                </a:rPr>
                <a:t>algemene en 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Tahoma"/>
                </a:rPr>
                <a:t>specifieke veiligheidsregels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3" name="Tekstvak 17"/>
          <p:cNvSpPr/>
          <p:nvPr/>
        </p:nvSpPr>
        <p:spPr>
          <a:xfrm>
            <a:off x="1066680" y="5638680"/>
            <a:ext cx="17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163a"/>
                </a:solidFill>
                <a:latin typeface="Tahoma"/>
                <a:ea typeface="Tahoma"/>
              </a:rPr>
              <a:t>beheersing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Tekstvak 18"/>
          <p:cNvSpPr/>
          <p:nvPr/>
        </p:nvSpPr>
        <p:spPr>
          <a:xfrm>
            <a:off x="4419720" y="1357200"/>
            <a:ext cx="1547640" cy="1008720"/>
          </a:xfrm>
          <a:prstGeom prst="rect">
            <a:avLst/>
          </a:prstGeom>
          <a:noFill/>
          <a:ln w="9360">
            <a:solidFill>
              <a:srgbClr val="0fa4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wijkende omstandig-hede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kstvak 19"/>
          <p:cNvSpPr/>
          <p:nvPr/>
        </p:nvSpPr>
        <p:spPr>
          <a:xfrm>
            <a:off x="4876920" y="2971800"/>
            <a:ext cx="1073160" cy="703800"/>
          </a:xfrm>
          <a:prstGeom prst="rect">
            <a:avLst/>
          </a:prstGeom>
          <a:noFill/>
          <a:ln w="9360">
            <a:solidFill>
              <a:srgbClr val="0fa4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MRA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IJL-OMHOOG 20"/>
          <p:cNvSpPr/>
          <p:nvPr/>
        </p:nvSpPr>
        <p:spPr>
          <a:xfrm rot="10800000">
            <a:off x="2611080" y="3571920"/>
            <a:ext cx="498600" cy="3571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IJL-OMHOOG 21"/>
          <p:cNvSpPr/>
          <p:nvPr/>
        </p:nvSpPr>
        <p:spPr>
          <a:xfrm rot="10800000">
            <a:off x="7469280" y="3786120"/>
            <a:ext cx="498240" cy="3571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IJL-OMHOOG 22"/>
          <p:cNvSpPr/>
          <p:nvPr/>
        </p:nvSpPr>
        <p:spPr>
          <a:xfrm rot="13027800">
            <a:off x="4167000" y="3963240"/>
            <a:ext cx="501480" cy="3589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IJL-OMHOOG 23"/>
          <p:cNvSpPr/>
          <p:nvPr/>
        </p:nvSpPr>
        <p:spPr>
          <a:xfrm rot="7795200">
            <a:off x="6014880" y="3965400"/>
            <a:ext cx="501480" cy="3556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707220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1 Hoofdrol voor de leidinggevende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ADF49-4FC0-4641-9AF7-8555517D904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kstvak 4"/>
          <p:cNvSpPr/>
          <p:nvPr/>
        </p:nvSpPr>
        <p:spPr>
          <a:xfrm>
            <a:off x="1066680" y="2209680"/>
            <a:ext cx="3714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ies aan werkgev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gevallen- en incidentenonderzoe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e arbeidsmidde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e PBM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ies vragen bij deskundig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GM-kennis/info werknemers checken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kstvak 5"/>
          <p:cNvSpPr/>
          <p:nvPr/>
        </p:nvSpPr>
        <p:spPr>
          <a:xfrm>
            <a:off x="4952880" y="2209680"/>
            <a:ext cx="3714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tructies laten nalev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uwe medewerker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troductie gev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ntor aanwijz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werken aan RI&amp;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RA’s opstel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GM-inspecties uitvoer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olboxmeetings verzorg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713880" y="1219320"/>
            <a:ext cx="7799400" cy="92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de leidinggevende heeft de taak om de VGM-risicobeheersing in de praktijk te realiser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8" descr=""/>
          <p:cNvPicPr/>
          <p:nvPr/>
        </p:nvPicPr>
        <p:blipFill>
          <a:blip r:embed="rId2"/>
          <a:stretch/>
        </p:blipFill>
        <p:spPr>
          <a:xfrm>
            <a:off x="7358040" y="285840"/>
            <a:ext cx="140508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828648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8. Noodsituatie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71320" y="1523520"/>
            <a:ext cx="8156520" cy="42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dreigende situaties door ongevallen m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sel, brand, vloeistoff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losie van gas, damp of brandbare stof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gecontroleerde ontsnapping van giftig gas, biologische agentia of radioactieve stral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mmel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4F94B-A71F-42D7-AACD-F473FDB7CEA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7215120" cy="7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Noodsituaties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71680" y="857160"/>
            <a:ext cx="52862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eheersing en bestrij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4320" indent="-27432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od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490680" indent="-216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sis om noodsituaties te beheer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4320" indent="-27432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aibo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490680" indent="-216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 effectief optreden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ie moet wat, wanneer, hoe do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fasen noodsitua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4320" indent="-27432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erste mel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4320" indent="-27432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elingen en maatrege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4320" indent="-27432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ëindigen van de noodsitu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490680" indent="-216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idelijk dat de situatie veilig i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490680" indent="-216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nemers kunnen weer aan het  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4320" indent="-27432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856D9-9FCE-4CD9-BB9A-2FD2940AC51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6" name="Picture 2" descr="http://www.safetybillboards.nl/brandpreventie.JPG"/>
          <p:cNvPicPr/>
          <p:nvPr/>
        </p:nvPicPr>
        <p:blipFill>
          <a:blip r:embed="rId2"/>
          <a:stretch/>
        </p:blipFill>
        <p:spPr>
          <a:xfrm>
            <a:off x="5772240" y="566640"/>
            <a:ext cx="337824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Noodsituaties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571320" y="928800"/>
            <a:ext cx="8156520" cy="34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ar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middellijk het werk onderbre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ructies van de opdrachtgever (BHV) opvol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ar verzamelplaats gaa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en liften gebruik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cua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nsen overbrengen naar een veilige plaa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dereen moet weten wat te doen bij alarm evacuatie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DC358-8666-43B4-A147-3868D5DC491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0" name="Picture 5" descr=""/>
          <p:cNvPicPr/>
          <p:nvPr/>
        </p:nvPicPr>
        <p:blipFill>
          <a:blip r:embed="rId2"/>
          <a:stretch/>
        </p:blipFill>
        <p:spPr>
          <a:xfrm>
            <a:off x="7358040" y="214200"/>
            <a:ext cx="1609920" cy="1609920"/>
          </a:xfrm>
          <a:prstGeom prst="rect">
            <a:avLst/>
          </a:prstGeom>
          <a:ln w="0">
            <a:noFill/>
          </a:ln>
        </p:spPr>
      </p:pic>
      <p:sp>
        <p:nvSpPr>
          <p:cNvPr id="321" name="Rechthoek 5"/>
          <p:cNvSpPr/>
          <p:nvPr/>
        </p:nvSpPr>
        <p:spPr>
          <a:xfrm>
            <a:off x="571680" y="4214880"/>
            <a:ext cx="727704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46160" indent="-474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wat/waar zijn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6160" indent="-4744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ahoma"/>
              </a:rPr>
              <a:t>de evacuatie(verzamel)plaats(en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6160" indent="-4744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ahoma"/>
              </a:rPr>
              <a:t>de evacuatiemogelijkheden/vluchtrout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6160" indent="-4744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ahoma"/>
              </a:rPr>
              <a:t>de instructies van de opdrachtgever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6160" indent="-4744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ahoma"/>
              </a:rPr>
              <a:t>en bij evacuatie direct melden op de verzamelplaats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A81E9-97BB-4221-979B-059D1FDF7F34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3" name="Picture 2" descr="http://www.safetybillboards.nl/vluchtwegen.JPG"/>
          <p:cNvPicPr/>
          <p:nvPr/>
        </p:nvPicPr>
        <p:blipFill>
          <a:blip r:embed="rId1"/>
          <a:stretch/>
        </p:blipFill>
        <p:spPr>
          <a:xfrm>
            <a:off x="2627280" y="353880"/>
            <a:ext cx="3949560" cy="55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42976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2 VGM-kennis een basisvoorwaarde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EC586-6615-4FE7-A1FB-A3EC802AA23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71320" y="1000080"/>
            <a:ext cx="8156520" cy="12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ewerkers moeten, ook volgens wetgeving, direct worden voorgelicht over risico’s en veilige werkwijze en op die kennis getoetst word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ar de kennis moet ook actueel blijven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kstvak 8"/>
          <p:cNvSpPr/>
          <p:nvPr/>
        </p:nvSpPr>
        <p:spPr>
          <a:xfrm>
            <a:off x="571680" y="2643120"/>
            <a:ext cx="7858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wanneer opleiding en instructie?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dat gebeurt bij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start nieuwe medewerk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overplaats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functiewijzig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inzet nieuwe arbeidsmidde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aanpassingen aan arbeidsmiddelen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inzet nieuwe technologi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invoeren nieuwe werkprocedures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57232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2 VGM-kennis een basisvoorwaarde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5DE25-FE07-4E81-8CC4-B414B9F941A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71680" y="1143000"/>
            <a:ext cx="833256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edrijven hanteren meestal de volgende vormen van opleiding en instructi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ijdelijke aanduiding voor inhoud 6"/>
          <p:cNvSpPr/>
          <p:nvPr/>
        </p:nvSpPr>
        <p:spPr>
          <a:xfrm>
            <a:off x="571680" y="1928880"/>
            <a:ext cx="808668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gemene veiligheidsopleiding/instructi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3459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lgemene VGM-regels, brand- en andere noodmeldingen en voorschriften, werkplekregels en verplicht PBM-gebruik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345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ijdelijke aanduiding voor inhoud 6"/>
          <p:cNvSpPr/>
          <p:nvPr/>
        </p:nvSpPr>
        <p:spPr>
          <a:xfrm>
            <a:off x="533520" y="3200400"/>
            <a:ext cx="815796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fieke opleiding/instructi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345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werkplekgebonden of aan installaties, arbeidsmiddelen, machines, zones of omstandigheden en aan plaatsen verbonden risico’s en de daarbij behorende regels en voorziening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57232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2 VGM-kennis een basisvoorwaarde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AF263-B7E6-4BE6-8A6F-1F2EB60A9D2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ijdelijke aanduiding voor inhoud 6"/>
          <p:cNvSpPr/>
          <p:nvPr/>
        </p:nvSpPr>
        <p:spPr>
          <a:xfrm>
            <a:off x="571680" y="928800"/>
            <a:ext cx="828648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GM-bijeenkomsten of toolboxmeeting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om de kennis op peil te houden en de medewerkers te motiveren tot veilig werken, wordt regelmatig een onderwerp  behandeld en met de medewerkers bediscussieerd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in de bijeenkomst wordt getoetst of de boodschap begrepen is, er worden duidelijke afspraken gemaakt en een verslag opgesteld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c0163a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c0163a"/>
                </a:solidFill>
                <a:latin typeface="Arial"/>
                <a:ea typeface="Arial"/>
              </a:rPr>
              <a:t>mogelijke onderwerpen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c0163a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werkmethode, orde en netheid, PBM-gebruik, machines, gevaarlijke stoffen, procedures, incidenten en ongevallen, fysieke belasting, communicatie, inspecties en alle andere onderwerpen over VGM die aandacht verdiene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20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3 Overleggen en regel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33160" y="1371240"/>
            <a:ext cx="80391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overleg over VGM-beleid tussen werkgever 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werknemersvertegenwoordig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 wat werkgever en werknemers belangrijk vind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 onderwerpen waarvoor de werkgever instemming of advies van de werknemersvertegenwoordiging (OR of VGM-commissie) nodig heef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 RI&amp;E en het plan van aanpa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odeskundigen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deskundig adv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8EF36-6A0B-4F7F-A401-95C623186F5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kstvak 6"/>
          <p:cNvSpPr/>
          <p:nvPr/>
        </p:nvSpPr>
        <p:spPr>
          <a:xfrm>
            <a:off x="642960" y="4857840"/>
            <a:ext cx="7562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1" name="Object 5"/>
          <p:cNvGraphicFramePr/>
          <p:nvPr/>
        </p:nvGraphicFramePr>
        <p:xfrm>
          <a:off x="7215120" y="71280"/>
          <a:ext cx="1857600" cy="127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2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15120" y="71280"/>
                    <a:ext cx="1857600" cy="12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3 Overleggen en regel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856800" y="999720"/>
            <a:ext cx="671508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3E1D3-ACC0-4153-A6D2-A3FBAD0B36E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Tekstvak 6"/>
          <p:cNvSpPr/>
          <p:nvPr/>
        </p:nvSpPr>
        <p:spPr>
          <a:xfrm>
            <a:off x="928800" y="1192320"/>
            <a:ext cx="7377120" cy="35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Arial"/>
              </a:rPr>
              <a:t>werkoverle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(eventueel  samen met toolboxmeeting)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t de werknemers,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ver praktische aspecten van VGM-beheersing,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v. werkmethoden, opleidingen, gevaarlijke stoffen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Arial"/>
              </a:rPr>
              <a:t>eventueel met een deskundig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t een verslag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ver het gevoerde overleg en de gegeven adviez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7" name="Object 5"/>
          <p:cNvGraphicFramePr/>
          <p:nvPr/>
        </p:nvGraphicFramePr>
        <p:xfrm>
          <a:off x="7139160" y="797040"/>
          <a:ext cx="1861920" cy="127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8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39160" y="797040"/>
                    <a:ext cx="1861920" cy="12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812952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Regelen en regel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571680" y="1294920"/>
            <a:ext cx="821520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regels en -procedures zijn er om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dagelijkse werkuitvoering veilig te laten verlop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eronder vall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gemene veiligheidsreg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ecifieke veiligheidsreg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unningen veilig wer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akrisicoanalyse TRA *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atste Minuut RisicoAnalyse LMRA *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s bij noodsituaties *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c0163a"/>
                </a:solidFill>
                <a:latin typeface="Arial"/>
              </a:rPr>
              <a:t>* zie (ook) hoofdstuk 7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7DDF1-6D66-474F-AA03-82A816E7239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5:19:44Z</dcterms:created>
  <dc:creator>de Groot</dc:creator>
  <dc:description/>
  <dc:language>en-US</dc:language>
  <cp:lastModifiedBy>jrijdes</cp:lastModifiedBy>
  <dcterms:modified xsi:type="dcterms:W3CDTF">2010-02-16T12:50:52Z</dcterms:modified>
  <cp:revision>201</cp:revision>
  <dc:subject/>
  <dc:title>Taak en positie VFP</dc:title>
</cp:coreProperties>
</file>