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A0B3-299F-4CF1-96C0-BA083AB3C6E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A314-C690-4FA3-A81D-A0632379E75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CF35-784C-4C6F-BF68-E91C90CFAC6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69B1-CAFF-4587-A0C6-6352BC7C58A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846-0B42-4841-9C2D-F7841B4E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022-D880-451C-991D-F026F926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8B6-694B-4B17-B37E-92A253CD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574-20FF-4ED6-994B-EC65B1AE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7354-82F7-4F5D-AD1C-8FDAA0FC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EFF5-C4BA-464D-A484-63EBB958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72B6-2CB0-4F6A-8828-84DD8D24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47A1-826A-4B12-BF0E-472D1DEC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80AE-EE5A-4C45-93A9-D8D13ADE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CDF2-9A9D-40DE-B928-0F130AAA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F9C5-7FF0-4E79-B863-5147DD3F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132-BC36-4221-9C5B-61538544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955F-66D9-4F07-9FB9-92519743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20FA-004C-4804-B25A-5DCE88BE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79A8-B0E0-4214-88CB-A0CD7351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3980-91F3-4598-8D9A-F24E7ABB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9601-1E74-441C-A0AD-06B24637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0279-0E11-4363-8DBA-022D8833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E494E-2BF9-4C75-95A4-9F6CB43C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FBF1A-2E17-4099-8993-234217EF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C640D-FC73-4CB5-911D-D23453CB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7B096-57EB-4E94-AD56-E73FAFC3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5A5A-B808-408D-8DD7-ECC205BC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FFDA9-E5CD-401A-B65D-F9037E62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57BF-B5C6-40F3-9FCB-58FA5AF8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EF940-E793-4895-9D62-D9D774C0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C38A-81FC-4787-B13C-739E5C96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854DC-712B-404A-B093-9FA87FB9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DB47C-A97B-4088-8C28-353D269B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25C27-5B93-427E-B062-F7BBF96B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0B3-5935-4FE2-B060-BA452A27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5D2D-B6B2-4D92-8394-EE3260AF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6F4-CC8E-421C-8311-6C1D85CE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15B-B4E1-4FBD-90E7-20E21288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F6D8-F0DE-4C64-B643-89073341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5D8-1B23-48F2-A025-2C3F7E96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8AA5-4D7D-4290-B8B3-57ACE6F681C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144E-0AD1-49AD-B790-8B3FE3F906E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A8D0-DB0F-4364-936A-2A28D4E41CC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42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a60d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Hoofdstuk 9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Machines en gereedschapp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a60d"/>
                </a:solidFill>
                <a:latin typeface="Arial"/>
              </a:rPr>
              <a:t>keuze, gebruik en onderhou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0DC4-745D-4B2D-BE5F-EFD67BA696F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</a:rPr>
              <a:t>9.3 Algemene eisen en veiligheidsmaatregel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71680" y="1142640"/>
            <a:ext cx="8432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bereikbaar, duidelijk zichtbaar en herkenb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ulspanningschakela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ms: tweehandbediening en koppelscherm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E708-1DCC-4D60-AA7C-969E70BA655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1320" y="1066680"/>
            <a:ext cx="742932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kolomboormachines en boor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bij het boren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ilig werken is van bel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4A79-F9C2-49F6-8AEE-0CDCCEBA985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71680" y="1356840"/>
            <a:ext cx="8038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er mis kan g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CF46-4E09-475B-BDB9-D48B5843E6D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Afbeelding 5" descr="http://www.metabo.nl/uploads/tx_commerce/feinbilder/0300020003s_51_m.jpg"/>
          <p:cNvPicPr/>
          <p:nvPr/>
        </p:nvPicPr>
        <p:blipFill>
          <a:blip r:embed="rId2"/>
          <a:srcRect l="0" t="0" r="0" b="3860"/>
          <a:stretch/>
        </p:blipFill>
        <p:spPr>
          <a:xfrm>
            <a:off x="6715080" y="714240"/>
            <a:ext cx="2357640" cy="1785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571320" y="1285920"/>
            <a:ext cx="7786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ee slijpstenen op één machine mogen niet te vee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venmes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het wer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260D-34FB-4959-BB9E-9C8A8003F79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71320" y="1447560"/>
            <a:ext cx="8142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st opgestelde cirkelza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nderlijk of gevaarlijk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4AB5-8BA0-4BB7-ABF9-172E8BC32CF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71320" y="142848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ast opgestelde cirkel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grote werkstukk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0760" indent="-266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entie van tweede persoo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rollenb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AA4E-173A-49F8-888E-01FA7CCEED8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4 Vast opgestelde machines/gereedschappen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17" name="Afbeelding 5" descr="http://www.metabo.nl/uploads/tx_commerce/feinbilder/0104605000s_51_m.jpg"/>
          <p:cNvPicPr/>
          <p:nvPr/>
        </p:nvPicPr>
        <p:blipFill>
          <a:blip r:embed="rId2"/>
          <a:stretch/>
        </p:blipFill>
        <p:spPr>
          <a:xfrm>
            <a:off x="6500880" y="1714680"/>
            <a:ext cx="2405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42848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isolatie biedt geen bescherming tegen water of vochtig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69880" indent="-28404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pneumatisch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(perslucht = pneumatis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7120-F71E-4744-93D2-7126AED98CF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1320" y="1428480"/>
            <a:ext cx="8538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spunten elektrische 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demansknop, bij slijpschijven groter dan 125 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de slijpschijf moet 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2765-0DAD-4793-83F2-60704905164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85360" y="21384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71320" y="1285560"/>
            <a:ext cx="77864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slijp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4880" indent="-419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7E7C-005A-4BF1-9C65-B93F553E5FB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1295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71320" y="928800"/>
            <a:ext cx="85388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handcirkel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kap schermt de buitenrand zaa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ledig 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uwmes aanpassen aan diameter en dikt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n de za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03360" indent="-272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 weghouden van zaagbl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59B7-1EE0-42A5-9658-07F568E9162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 Machines en gereedschapp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71680" y="1214280"/>
            <a:ext cx="8501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 Goed en 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 Veiligheidseisen: de achtergro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 Algemene veiligheidseisen  en -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 Vast opgestelde machines/gereedsch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 Aangedreven hand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6  Handgereedschap zonder aandrij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89A3-1168-461A-8F97-222D7EB8DD7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1428840"/>
            <a:ext cx="857232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nagel/nietmach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AE65-FDC8-4815-A1CE-C2B852279CA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2"/>
          <a:srcRect l="40227" t="0" r="8150" b="0"/>
          <a:stretch/>
        </p:blipFill>
        <p:spPr>
          <a:xfrm>
            <a:off x="7500960" y="0"/>
            <a:ext cx="1643040" cy="2558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92936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5 Aangedreven handgereedschap (6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14732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lektrische kettingza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39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A9DF-2680-49A6-BF37-692D1BC4EC6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320" y="1285560"/>
            <a:ext cx="85388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ersleutels en slagsleut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919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A114-55FF-402E-8FC3-74690A09652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6458040" y="857160"/>
            <a:ext cx="2685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85360" y="-360"/>
            <a:ext cx="8558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roevendraai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ij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75C5-905B-41FF-A850-8BE3F255D4A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6 Handgereedschap zonder aandrijv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35684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z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at en (soort) zaag aangepa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ugelza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5580-BEDD-4A6D-9AEB-D4D7720EB54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kstvak 4"/>
          <p:cNvSpPr/>
          <p:nvPr/>
        </p:nvSpPr>
        <p:spPr>
          <a:xfrm>
            <a:off x="914400" y="493704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voor messen, zagen, beitels en boren geldt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163a"/>
                </a:solidFill>
                <a:latin typeface="Arial"/>
                <a:ea typeface="Arial"/>
              </a:rPr>
              <a:t>scherp is veiliger, als je er maar voorzichtig mee omgaat!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Afbeelding 6" descr="zagen.jpg"/>
          <p:cNvPicPr/>
          <p:nvPr/>
        </p:nvPicPr>
        <p:blipFill>
          <a:blip r:embed="rId2"/>
          <a:stretch/>
        </p:blipFill>
        <p:spPr>
          <a:xfrm>
            <a:off x="7531200" y="107172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3A64-5C02-41D1-8801-D22879922E0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itel 2"/>
          <p:cNvSpPr/>
          <p:nvPr/>
        </p:nvSpPr>
        <p:spPr>
          <a:xfrm>
            <a:off x="571680" y="0"/>
            <a:ext cx="831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  <a:ea typeface="Arial"/>
              </a:rPr>
              <a:t>9.6 Handgereedschap zonder aandrijving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ijdelijke aanduiding voor inhoud 3"/>
          <p:cNvSpPr/>
          <p:nvPr/>
        </p:nvSpPr>
        <p:spPr>
          <a:xfrm>
            <a:off x="571680" y="928800"/>
            <a:ext cx="61401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koudbeitel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ta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ess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7936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5720" indent="-22716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6985080" y="61768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Afbeelding 4" descr="images.jpg"/>
          <p:cNvPicPr/>
          <p:nvPr/>
        </p:nvPicPr>
        <p:blipFill>
          <a:blip r:embed="rId2"/>
          <a:stretch/>
        </p:blipFill>
        <p:spPr>
          <a:xfrm>
            <a:off x="6429240" y="928800"/>
            <a:ext cx="1714680" cy="1795320"/>
          </a:xfrm>
          <a:prstGeom prst="rect">
            <a:avLst/>
          </a:prstGeom>
          <a:ln w="0">
            <a:noFill/>
          </a:ln>
        </p:spPr>
      </p:pic>
      <p:pic>
        <p:nvPicPr>
          <p:cNvPr id="254" name="Afbeelding 7" descr="imagesCAPWV5WN.jpg"/>
          <p:cNvPicPr/>
          <p:nvPr/>
        </p:nvPicPr>
        <p:blipFill>
          <a:blip r:embed="rId3"/>
          <a:stretch/>
        </p:blipFill>
        <p:spPr>
          <a:xfrm>
            <a:off x="6858000" y="4000680"/>
            <a:ext cx="1725480" cy="1785600"/>
          </a:xfrm>
          <a:prstGeom prst="rect">
            <a:avLst/>
          </a:prstGeom>
          <a:ln w="0">
            <a:noFill/>
          </a:ln>
        </p:spPr>
      </p:pic>
      <p:pic>
        <p:nvPicPr>
          <p:cNvPr id="255" name="Afbeelding 8" descr="tangen.jpg"/>
          <p:cNvPicPr/>
          <p:nvPr/>
        </p:nvPicPr>
        <p:blipFill>
          <a:blip r:embed="rId4"/>
          <a:srcRect l="0" t="0" r="0" b="35266"/>
          <a:stretch/>
        </p:blipFill>
        <p:spPr>
          <a:xfrm>
            <a:off x="6324480" y="2881440"/>
            <a:ext cx="2465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16CA-EDC3-4DC3-A8B3-F9E68B26332C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ol leidinggevend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ze bij aanscha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lichting en instructie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ur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va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zicht op juist 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varingen evalueren met uitvoeren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3181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1 Goed en veilig gereedschap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B3DF-5811-4753-9D52-579BC31690EE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gevaren van gereedschappen zijn di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etsel gebruik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nijden, knellen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bij omstand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gschietend materiaal, straling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belastingseffecten ook op term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illingen, straling, vrijkomende stoffen, lawaai enz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oorzaken schade / letsel in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plosies door vonken, wegschietende dele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sten constructiesterkte enz.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5723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9.2 Veiligheidseisen </a:t>
            </a:r>
            <a:br>
              <a:rPr sz="2800"/>
            </a:b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0163a"/>
                </a:solidFill>
                <a:latin typeface="Arial"/>
              </a:rPr>
              <a:t>voor arbeidsmiddelen en machine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1320" y="1500120"/>
            <a:ext cx="84294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gebruik kunnen er ongevallen ontsta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asp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ontwerp, goedgemaakt produc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42D9-8CC7-458E-9876-A42EEF2133E1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chines en gereedschapp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oede staa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afscherming van bewege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iek gekeur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ldigheid keuring is zichtbaar (kleur/stic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houdsvoorschri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al van de gebruiker is toegep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BE16-29C6-4A68-BADE-AF89EB3DD59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320" y="1285560"/>
            <a:ext cx="8156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sen aan bedieners van mach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2C93-F309-42A3-B30A-114457619E2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</a:t>
            </a:r>
            <a:r>
              <a:rPr b="1" lang="en-US" sz="2800" spc="-1" strike="noStrike">
                <a:solidFill>
                  <a:srgbClr val="09a60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veiligheidsmaatregel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71320" y="1357200"/>
            <a:ext cx="83581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wuste inzet van techni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uimtes met explosie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eveilig aangedreven gereedsch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verho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12F4-922D-4FF1-8220-62B9E2223EE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5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a60d"/>
                </a:solidFill>
                <a:latin typeface="Arial"/>
              </a:rPr>
              <a:t>9.3 Algemene eisen en veiligheidsmaatregel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71320" y="1428480"/>
            <a:ext cx="77864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loop- en bewegingsruimt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9a60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onderhoud machines of gereedschappen 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1D69-30A5-4A97-AB9B-CC89AD457A4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1:53Z</dcterms:modified>
  <cp:revision>122</cp:revision>
  <dc:subject/>
  <dc:title>Taak en positie VFP</dc:title>
</cp:coreProperties>
</file>