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93F-202C-41DD-BAD0-F9DC0672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6F8-CD35-47B4-82C2-97523AA7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8B7-AD5E-436D-AF5A-719E08A3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918-AC81-4585-BB88-51158C51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B66-F384-45DE-A9E7-9CFBD18A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D48-5069-435E-A626-55B8E5E5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281-CA7B-49FC-B3CD-14717941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936-10DB-437C-82A8-65EF606F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7B3-66AE-4759-98EF-096D8F82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25C-FB5C-48AF-97B9-1568907A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9D4-26F0-4C2A-AE12-5ABAE02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E81-6E8C-4C89-B4BF-8617D1E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856C-2580-416F-B1E0-B35A3FD3DB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9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tikking door te weinig zuurstof, benauwdheid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eloosheid en doo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dringing van de zuurstof: door bijvoorbeel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haan, stikstof, argon en heliu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verbruik van zuurstof: door bijvoorbeeld lassen, roesten, biologische/ bacteriologische rea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 weinig zuurstof: bewusteloosheid of d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uurstoftekort voorkomen (min.19% i.p.v. 21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ch beluchten/onafhankelijke adem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en filtermasker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7815240" y="1523880"/>
            <a:ext cx="1328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/of explosiegev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aanwezigheid brandbare stoffen is er sneller explosiegevaar; 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 de beperkte ruimte en weinig ventilatie wordt de LEL snel bere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are stoffen kunnen ook vrijkomen uit materialen of bij verwijdering van roestl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 kan plaatsvinden door open vuur of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er dan 21% zuurstof in de lucht is er extra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xtra zuurstof of brandbare gassen kunnen vrijkomen door lekken uit leidingen of flessen: daarom flessen buiten de (besloten) ruimte houden, slangbreuk-beveilig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pauzes etc. altijd slangen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1 Risico’s va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slechte ventilatie hogere lichaamstemperat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re vochtigheid, geeft meer ge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apparatuur spanningsvrij 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eidende wanden: veilige spanning toepass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epaalde dosis giftige st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beperkte ruimte en bij verminderde ventilatie wordt de veilige grens sneller bere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2 Veiligheidsmaatregelen voor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innentreden van de besloten ruimte zorgen v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sborden tegen onbevoeg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leidingen zijn afgeblind of los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dequate luchtverv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percentage &gt; 1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asmengsel &lt; 10% van de L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giftige stoffen of dampen &lt; grenswa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erhogende componenten veiligstellen en vergre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route uitzetten en bhv 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3 Toegang tot een beslo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verlenen voor toegang 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schoon en droo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maatregelen zijn getr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een geldige werkvergunning of een schriftelijke vrijg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rs ten minste 18 jaar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sprake is van permanente observatie/toezicht door een mangatwacht of veiligheids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4 Metingen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gehal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iftig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 perso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trouw nooit  alléén op je neus…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meerdere plaatsen m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 (periodiek) her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continu meten, bijv. meetapparaat dat altijd aan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5 Toez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loten ruimte met gevaar voor verstikk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welming, brand en explosie of 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uitgevoerd door een veiligheidswach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t altijd buiten de besloten ruim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g alleen weg als er een vervanger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efent permanent toezicht u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udt contact met de personen bin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voor het alarmeren van hulpverle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ert ook de ventil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wacht moet aantoonb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fbeelding 4" descr="mangatwacht_1.jpg"/>
          <p:cNvPicPr/>
          <p:nvPr/>
        </p:nvPicPr>
        <p:blipFill>
          <a:blip r:embed="rId1"/>
          <a:srcRect l="19685" t="0" r="12812" b="0"/>
          <a:stretch/>
        </p:blipFill>
        <p:spPr>
          <a:xfrm>
            <a:off x="7286760" y="0"/>
            <a:ext cx="1857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rk wordt optimaal voorber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lijfsduur in de ruimte is zo kort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uurlijke 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in riolen vooraf riooldeksels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che venti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ntilato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elijke 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fbeelding 4" descr="hoofdpijn01.jpg"/>
          <p:cNvPicPr/>
          <p:nvPr/>
        </p:nvPicPr>
        <p:blipFill>
          <a:blip r:embed="rId1"/>
          <a:stretch/>
        </p:blipFill>
        <p:spPr>
          <a:xfrm>
            <a:off x="6638760" y="3352680"/>
            <a:ext cx="24987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persoonlijke beschermingsmiddelen(PB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(geen filtermaskers) bij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gassen/dampen boven de grenswaar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laag zuurstofperce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dings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nzij deze extra gevaar oplev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zover nodig en niet risicoverhog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fbeelding 5" descr="medisafe-pbm-medium.jpg"/>
          <p:cNvPicPr/>
          <p:nvPr/>
        </p:nvPicPr>
        <p:blipFill>
          <a:blip r:embed="rId1"/>
          <a:stretch/>
        </p:blipFill>
        <p:spPr>
          <a:xfrm>
            <a:off x="7500960" y="3581280"/>
            <a:ext cx="16430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plaats of werkple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elke plek die bedoeld is om te wer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óók elke plek waar wórdt gewer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zorgen voor veilig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plekken zijn werkplekken, waar ongevallen regelmatig een ernstige afloop hebb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g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f slangen controleren op 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flessen buiten de ruim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ens pauzes en einde werkzaamhe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ers en slangen buiten de ruim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en snij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brandbare stoffen weg of afged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usmiddelen binnen handbere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ngen en branders controleren op zuurstofl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plaatselijke afzui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elektrisch lassen: veilige sp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.6 Veilig werken in een besloten ruimte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brengen van ve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afhankelijke adem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e ruimte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apparatuur geaard i.v.m.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tot enige dagen na het schil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imte niet afsluiten in verband met verhardingsproces van de ver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zuurstof wordt door proces verbrui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verven enige tijd kans op zuurstoft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 Werken op hoog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regels veiligheidsmaatregel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meer dan 2,5 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boven een gevaarlijk pun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bewegende delen of wateroppervl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an vallende voorwer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teiger, bordes of werkvl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matige hekwerken, leun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nieregel en kantpl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openingen dichtleg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fbeelding 4" descr="imagesCANB9EWE.jpg"/>
          <p:cNvPicPr/>
          <p:nvPr/>
        </p:nvPicPr>
        <p:blipFill>
          <a:blip r:embed="rId1"/>
          <a:stretch/>
        </p:blipFill>
        <p:spPr>
          <a:xfrm>
            <a:off x="7023240" y="6480"/>
            <a:ext cx="2114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1 Werken op d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schuine d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opplan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dakbedekking niet sterk genoe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verplaatsing op het hellend vl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rote openingen en aan randen hellend vl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ngnetten of veiligheidsharn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 da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minder dan 4 meter van dakrand: dakrandbeveiliging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gnetten aanbrengen eventueel veiligheidsharnas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fbeelding 5" descr="imagesCAU1R4VZ.jpg"/>
          <p:cNvPicPr/>
          <p:nvPr/>
        </p:nvPicPr>
        <p:blipFill>
          <a:blip r:embed="rId1"/>
          <a:stretch/>
        </p:blipFill>
        <p:spPr>
          <a:xfrm>
            <a:off x="0" y="2895480"/>
            <a:ext cx="1173240" cy="125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rcRect l="33256" t="0" r="0" b="0"/>
          <a:stretch/>
        </p:blipFill>
        <p:spPr>
          <a:xfrm>
            <a:off x="7721640" y="0"/>
            <a:ext cx="142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 Lad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één bij lichte 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nzet van een steiger (stelling) of hoogwerker technisch of economisch niet haal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dder is goedgekeurd en voorzien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hoogte is minder dan 7,5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jd is minder dan 4 u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kwijdte is maximaal een armlen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 windkracht 6 ladders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chtuitoefening is minder dan 100N (10 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2. Ladd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een stevige ondergro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niet achterstevoren of ondersteboven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dder opstellen onder hoek van ca. 75 gra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rgen tegen wegzakken of uitglij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imaal 1 meter laten uitsteken boven toe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g tot ladder vrijhouden van obstak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kkeer deur of doorgang achter de la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orten en ladderschoenen schoonhou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klimmen met gladde of vervuilde zo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klim de ladder met het gezicht naar de ladder t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alen ladders &gt; 2 meter van onder spann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ande 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 voor drie contactpunten met de ladder: 2 voeten/1 hand of 2 handen/1 vo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5" descr="imagesCAXI9X3V.jpg"/>
          <p:cNvPicPr/>
          <p:nvPr/>
        </p:nvPicPr>
        <p:blipFill>
          <a:blip r:embed="rId1"/>
          <a:stretch/>
        </p:blipFill>
        <p:spPr>
          <a:xfrm>
            <a:off x="7358040" y="0"/>
            <a:ext cx="1785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3. 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liteitsber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op- of ombou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en en veranderingen door vakkundige bou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egde toezichthouder aanwezi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ingebruikname wordt een steigerkaart ingev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re 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hij betreden mag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wanneer de keuring geldi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opgeleide mensen mogen op steigers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s aan de constructie van de steiger ver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materiaal of gereedschap op de steiger achter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trap of ladder op de ste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fbeelding 6" descr="2-verdiepingen-in-steigers-.jpg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4 Hang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ers krijgen vóóraf instruc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 testen voor gebrui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geving onder de steiger afzet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harnas dragen, gehaakt aan een speciaal pu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sklaar en onbeheerd achterla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bediening niet op de hangsteiger zelf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g de bediener niet weggaan wanneer er personen in de hangsteiger z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en of beperkt oogcontact tussen bediener en personen in de hangstei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 voor communicatie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fbeelding 4" descr="imagesCAV5URG7.jpg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5 Rolstei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len blokkeren voor he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van binnenuit bekli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en gereedschap op een veilige manier naar boven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p de schoren 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grond moet vlak en har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steiger niet verplaatsen met iemand er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dat de stabilisatoren en uithouders niet kunnen verschuiven tijdens het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fbeelding 7" descr="rol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6 Werkbakken voor pers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bakken voor personen moeten met e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ersprong worden opgehangen aan de kraa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 moeten gekeur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de buitenzijde staat informatie 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re werk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laatbaar aantal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aanmachinist en personen in de werkbak moeten elkaar kunnen z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delinge communic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nen in de werkbak moeten een veiligheidsharna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g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bonden met bevestigingspun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 b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fbeelding 4" descr="imagesCAGWZ8M8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162920" y="1600200"/>
            <a:ext cx="185724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Hoofdstuk 9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isicovolle arbeids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1  Laswerkplek en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2  Besloten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3  Werkplek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4  Locatie met wand- en vloerop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5  Sloop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6  Asbest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.7  Graaf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 Hoogwe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rijdende hoogwerk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aanhangwagen, vrachtwa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bestela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schaarlift is een hoogwerker met een schaarconstruc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gwerkers zijn veiliger dan lad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hoog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vallen door verkeerde plaatsing of een aanrij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neld raken tussen object en platfo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 het bakje vall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raken van stroomvoerende 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62880" y="0"/>
            <a:ext cx="158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3.7. Hoogwerker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of bij de hoogwerker moeten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sticker, geldig keuringsbewij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at met maximum 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rshandleiding en bedieningsi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in horizontale positie en op vlakk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en rijden met ingeschoven steunen en arm oml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bruiken voor hijsen en ook niet als personenl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 die aan de bak is vast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iener moet aantoonbaar deskundig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788160" y="0"/>
            <a:ext cx="2355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4 Locatie met wand- en/of vloeropen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werken bij wand- en vloerop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valt er doorh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mand wordt getroffen door een vallend voorwer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eningen afdekken met draagkrachtig 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brengen van leuningen of hek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beveiliging niet mogelijk is: P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Afbeelding 4" descr="imagesCAG0ZOPZ.jpg"/>
          <p:cNvPicPr/>
          <p:nvPr/>
        </p:nvPicPr>
        <p:blipFill>
          <a:blip r:embed="rId1"/>
          <a:stretch/>
        </p:blipFill>
        <p:spPr>
          <a:xfrm>
            <a:off x="6737400" y="4267080"/>
            <a:ext cx="2406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sloopwerkzaamhe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abiliteit bij het sloopfr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sloop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ekende constructie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komen van gevaarlijke 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Afbeelding 4" descr="stock-photo-demolution-2527839.jpg"/>
          <p:cNvPicPr/>
          <p:nvPr/>
        </p:nvPicPr>
        <p:blipFill>
          <a:blip r:embed="rId1"/>
          <a:srcRect l="0" t="0" r="0" b="8867"/>
          <a:stretch/>
        </p:blipFill>
        <p:spPr>
          <a:xfrm>
            <a:off x="6248520" y="0"/>
            <a:ext cx="289548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5 Sloop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draagkracht van de overblijvende constru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specifiek plan niet boven of onder elkaar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rtkokers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lm, veiligheidsschoenen, brandveilige overa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hoorbescherming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centratie van gevaarlijke stoffen inventar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6 Asbest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ijderen van asbest (door opgeleide deskundige asbestverwijderaar) en keramische vez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ixeermiddel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aal niet breken, zagen of verspa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dragen wegwerpover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3-stofmas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s inpakken en voorzichtig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stortkoker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fbeelding 4" descr="asbestos-remov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door raken kabels onder sp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of explosie door raken van gas-/olie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overlast door raken water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vervu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olven raken door inst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i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zorgvuldig gra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graven wanneer bekend is waar leidingen li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netbeheerd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leidinggevende of aannemer op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efsleuven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jking van ligging en schade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van graafmachine: niet-getande graaf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7 Graaflocati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raafwe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kwerk rondom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stut- en taludvoorzi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graven aarde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uigen, materialen en materieel op veilige af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wee ladders plaatsen voor veilige vlucht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ascilinders in uitgr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uitgraving veiligheidsregels voor besloten ruimt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9.1 Laswerkplek 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elektrisch la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 en explosie door hittevorming en vo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randing huid of hoornvlies door UV-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linding door vrijkomende 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ngaandoeningen of vergiftiging door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klachten door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rcRect l="31486" t="0" r="19555" b="0"/>
          <a:stretch/>
        </p:blipFill>
        <p:spPr>
          <a:xfrm>
            <a:off x="7429680" y="0"/>
            <a:ext cx="1714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1.2 Gevaren bij autogeen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zuurstof onder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is brandbevorderend en oxide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ilinder met acetyleen of prop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ide gassen zijn brandbaar en kunnen explosieve mengsels met lucht vo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ebruik van acetyleen kans op vlamterugsla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de slang naar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 is zwaarder dan luch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blijft hangen in putten, uitgravingen en keld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kan daar explosieve mengsels met lucht vo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fbeelding 4" descr="autogeen_1.jpg"/>
          <p:cNvPicPr/>
          <p:nvPr/>
        </p:nvPicPr>
        <p:blipFill>
          <a:blip r:embed="rId1"/>
          <a:stretch/>
        </p:blipFill>
        <p:spPr>
          <a:xfrm>
            <a:off x="7172280" y="0"/>
            <a:ext cx="1971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ergunningensyst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en/of afzuiging van las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 (luchtgeventileerde) laskap, lasschort, laskleding, veiligheidsscho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middelen onder handber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gordijnen voor bescherming tegen UV- en infraroodstr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bij 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autogeen lassen, snij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met zuurstof en acetyleen / prop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etyleenfles rechtop opslaan of onder een hoek van ten minste 3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propaan vent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s continu gas me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dover tussen acetyleenfles e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ugstroombegrenzers op gas- en zuurstofslang van br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ngbreu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l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bewegingsruim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bedoeld voor verblijf van pers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elijks natuurlijke ventila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gankelijkheid is last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vluchtmogelijkhe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 ver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door leidingen en kabels op onverwachte plaa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0002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7" descr="Besloten.jpg"/>
          <p:cNvPicPr/>
          <p:nvPr/>
        </p:nvPicPr>
        <p:blipFill>
          <a:blip r:embed="rId2"/>
          <a:stretch/>
        </p:blipFill>
        <p:spPr>
          <a:xfrm>
            <a:off x="2971800" y="1676520"/>
            <a:ext cx="137628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9.2 Besloten ruimt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greservoi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ftsch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p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s- of soldeertentjes bij diepe uitgra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uil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fbeelding 5" descr="tank.jpg"/>
          <p:cNvPicPr/>
          <p:nvPr/>
        </p:nvPicPr>
        <p:blipFill>
          <a:blip r:embed="rId1"/>
          <a:stretch/>
        </p:blipFill>
        <p:spPr>
          <a:xfrm>
            <a:off x="6143760" y="35712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63" name="Afbeelding 9" descr="vervuilde-grond.jpg"/>
          <p:cNvPicPr/>
          <p:nvPr/>
        </p:nvPicPr>
        <p:blipFill>
          <a:blip r:embed="rId2"/>
          <a:stretch/>
        </p:blipFill>
        <p:spPr>
          <a:xfrm>
            <a:off x="6172200" y="2971800"/>
            <a:ext cx="2714760" cy="207180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riool1.jpg"/>
          <p:cNvPicPr/>
          <p:nvPr/>
        </p:nvPicPr>
        <p:blipFill>
          <a:blip r:embed="rId3"/>
          <a:stretch/>
        </p:blipFill>
        <p:spPr>
          <a:xfrm>
            <a:off x="3733920" y="1752480"/>
            <a:ext cx="271440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2:49:32Z</dcterms:modified>
  <cp:revision>62</cp:revision>
  <dc:subject/>
  <dc:title>Test</dc:title>
</cp:coreProperties>
</file>