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28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D29-8023-4D29-898D-08B46BF8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7A35-25A2-4E5C-8950-8457CDAD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AE26-83B5-436E-A995-B7758606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DB9E-DA98-403E-B4A2-D782D3E4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21D2-9025-49EA-B03B-BB53A016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3255-4F18-48DE-8605-62140B65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DCD3-0283-4EEC-8964-EECD4AC0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B332-FC9F-476D-BD54-33DED1E1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316-5D17-4316-B19E-A3EF91FF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3031-074B-4212-82E7-B34FFDEF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36A-C56B-46E5-B621-373033E2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71B3-4C86-43FD-BBB3-48DE9B91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8407-E245-4BE1-9627-1847E3A7DFE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ptieklammerant.be/Graphics/Veiligheidsbril1.jpg&amp;imgrefurl=http://www.optieklammerant.be/NL/Veiligheidsbrillen.php&amp;h=188&amp;w=242&amp;sz=56&amp;hl=nl&amp;start=55&amp;sig2=ZHSBzjhp1tgxrFk0n8Xgiw&amp;um=1&amp;usg=__CUKcKlhaujcnzqIWdiECb6GPUJc=&amp;tbnid=uPQHGKo37lH6iM:&amp;tbnh=85&amp;tbnw=110&amp;ei=yPEGSeywCJH-1QaUk4mKBw&amp;prev=/images?q=veiligheidsbril&amp;start=40&amp;ndsp=20&amp;um=1&amp;hl=nl&amp;rlz=1T4GGLL_nl&amp;sa=N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nl/imgres?imgurl=http://www.enormbrabander.nl/Html/Images/Veiligheidsbril.jpg&amp;imgrefurl=http://www.enormbrabander.nl/Html/assortiment/assortiment/nederlands/website_enorm_brabander/04Sale.html&amp;h=250&amp;w=250&amp;sz=8&amp;hl=nl&amp;start=9&amp;sig2=F92OidaQdtn4Emo0ID_lVA&amp;um=1&amp;usg=__VLvTLF5n8rszb-RxCsU4tFdw7tU=&amp;tbnid=V07os4M3iNu1EM:&amp;tbnh=111&amp;tbnw=111&amp;ei=CvAGSaDbBIOo1gaU8K2BBw&amp;prev=/images?q=veiligheidsbril&amp;um=1&amp;hl=nl&amp;rlz=1T4GGLL_nl&amp;sa=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toolstation.nl/images/library/stock/webbig/56509.jpg&amp;imgrefurl=http://www.toolstation.nl/shop/Veiligheid/Hoofdengezicht/d70/sd520&amp;h=500&amp;w=500&amp;sz=27&amp;hl=nl&amp;start=7&amp;sig2=ejdeNPhmpSX36vuhQzL0ZA&amp;um=1&amp;usg=__Tlazlr_pSoVL_0HCIcBUFaIxnHQ=&amp;tbnid=Lbv8ckYmnagLRM:&amp;tbnh=130&amp;tbnw=130&amp;ei=6PUGSf-SMom-1wbLtfGHBw&amp;prev=/images?q=gehoorbescherming&amp;um=1&amp;hl=nl&amp;rlz=1T4GGLL_nl&amp;sa=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10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Persoonlijke beschermingsmidd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assen, dampen of stof in de luch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nderlijk, ook gevaar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beschermingsmiddelen zij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termasker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niet in besloten ruim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de werksituati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zuurstof: geen filtermaske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verse lucht of zuurstof mas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en dampen andere filters dan 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mas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venti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perslucht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kap op een lucht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8696" t="0" r="21505" b="0"/>
          <a:stretch/>
        </p:blipFill>
        <p:spPr>
          <a:xfrm>
            <a:off x="7572240" y="0"/>
            <a:ext cx="1571760" cy="22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preventia.nl/images/Hamilton3"/>
          <p:cNvPicPr/>
          <p:nvPr/>
        </p:nvPicPr>
        <p:blipFill>
          <a:blip r:embed="rId2"/>
          <a:stretch/>
        </p:blipFill>
        <p:spPr>
          <a:xfrm>
            <a:off x="7454880" y="3048120"/>
            <a:ext cx="168912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rcRect l="23803" t="5386" r="26782" b="33079"/>
          <a:stretch/>
        </p:blipFill>
        <p:spPr>
          <a:xfrm>
            <a:off x="7640640" y="0"/>
            <a:ext cx="150336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905120" y="4724280"/>
            <a:ext cx="142848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gas/dam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5760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stoffilters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P1/P2/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aanzuigen verse lu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0102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luchtfles of luchtle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85880" y="471492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oort P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85880" y="3714840"/>
            <a:ext cx="19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hoofdi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71880" y="36432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filtermas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857920" y="2500200"/>
            <a:ext cx="2000160" cy="85752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loten ruim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zuurstoftek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71880" y="2500200"/>
            <a:ext cx="1785960" cy="85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f vlu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29160" y="1357200"/>
            <a:ext cx="1614600" cy="90036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ade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85880" y="2900520"/>
            <a:ext cx="18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it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867280" y="36576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nafhankelijke adem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duur van het filterpatro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gt af van de concentratie van verontreini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terke verontreiniging vaker nieuw patroon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als je meer lucht verbruikt bij zwaar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filterma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uitje (geperst mondkap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lfgelaatmaskermask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m de mond en de n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filterpatroon/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ela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ker waarmee tevens de 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met patroon of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http://www.arbostore.eu/UserFiles/Image/x_06970273.jpg"/>
          <p:cNvPicPr/>
          <p:nvPr/>
        </p:nvPicPr>
        <p:blipFill>
          <a:blip r:embed="rId1"/>
          <a:stretch/>
        </p:blipFill>
        <p:spPr>
          <a:xfrm>
            <a:off x="7010280" y="3578400"/>
            <a:ext cx="1725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filters, nadelen en risico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age langs het filter, bijvoorbeeld door baardgro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een beschadigd of verouderd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oppen of door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bescherming tegen zuurstofte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68580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9" descr="imagesCANAECO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994440" y="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inder dan 20% zuurstof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hoge concentraties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onbekende stoffen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onafhankelijke adem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e luchtkappen met toegevoerde l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l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laatsmasker in combinatie met luchtfl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lucht (ademlucht) wordt via een longautoma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de flessen in de ademruimte aangezo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 voor verse luchtkappen, ademluchtleidingen en ademluchtfless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lucht moet van goede kwaliteit en temperatuur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dembescherming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en oefening voor het gebru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 of het masker goed passend is (fit 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nderhoud en schoon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4" descr="imagesCAPA3MR9.jpg"/>
          <p:cNvPicPr/>
          <p:nvPr/>
        </p:nvPicPr>
        <p:blipFill>
          <a:blip r:embed="rId1"/>
          <a:stretch/>
        </p:blipFill>
        <p:spPr>
          <a:xfrm>
            <a:off x="7467480" y="380988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4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helm of een stoot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laag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fd sto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innenwerk vangt de schok op en verdeelt de krachten over het hoo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en vervangen na een val of stoot of na het opvangen van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angen na een bepaalde peri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helmen zijn in de industri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fbeelding 7" descr="imagesCA740JAN.jpg"/>
          <p:cNvPicPr/>
          <p:nvPr/>
        </p:nvPicPr>
        <p:blipFill>
          <a:blip r:embed="rId1"/>
          <a:stretch/>
        </p:blipFill>
        <p:spPr>
          <a:xfrm>
            <a:off x="6553080" y="4419720"/>
            <a:ext cx="2062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6" descr="s_108.jpg"/>
          <p:cNvPicPr/>
          <p:nvPr/>
        </p:nvPicPr>
        <p:blipFill>
          <a:blip r:embed="rId2"/>
          <a:stretch/>
        </p:blipFill>
        <p:spPr>
          <a:xfrm>
            <a:off x="6986520" y="0"/>
            <a:ext cx="2157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5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rte handschoenen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schoenen met verlengde pols- of ar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gebruiksdo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ijbestendige handschoenen voor bij het sn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olerende handschoenen of wanten bij hitte of ko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shandscho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of rubberen handschoenen bij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 zijn gemaakt van materia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relatie tot het gebruiksd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14" descr="imagesCAXRQ26V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6352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3" descr="imagesCAQL3HR7.jpg"/>
          <p:cNvPicPr/>
          <p:nvPr/>
        </p:nvPicPr>
        <p:blipFill>
          <a:blip r:embed="rId2"/>
          <a:stretch/>
        </p:blipFill>
        <p:spPr>
          <a:xfrm>
            <a:off x="7315200" y="4343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6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erpe voorwerpen,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 op gladde vloeren en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een explosiegevaarlijk gebied: antistati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door extra beschermende delen, z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stalen neus die de tenen bescher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len tussenzool tegen trappen in scherpe voorwer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islipzool tegen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schoenen veelal verplicht in de 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len neus en stalen tussenz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er en/of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je werkplek, de 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het werk, is passende kleding verpli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bevu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jdens het lassen en slijpen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le beschermende kle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tte, koude,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alkleding voor zichtbaa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werkkleding en isolerend onderg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lage temperat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kleding wisselen indien no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GNZWRX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358040" y="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 onvoldoen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 gevarenbron niet toereike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fscherming van mensen kan falen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90720" y="1828800"/>
            <a:ext cx="754380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bij het gebru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leding niet schoonblazen met perslucht en zek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met zuurstof (ernstig brandgeva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uilde kleding direct reinigen of om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bewegende, draaiende delen kleding geslo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potte kleding onmiddellijk laten herstellen o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gwerpkleding na één keer dragen weggoo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bescherming voorkomt vallen en/of bepe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en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regels en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nasgordels goed passend en afgestemd zijn op dr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drager controleert vooraf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lijnen mogen niet vervuil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dempers en harnasgordels opslaan op een droge en schon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 die een val heeft opgevangen, laten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ssystemen en harnasgordels minstens eenmaal per jaar laten ke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belangrijk lichamelijke schade te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zo klein mogelij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chok maximaal de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bij een gedempte val is er 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maal opgevangen in het harnas wordt de bloedsomloop naar het onderlichaam afgekn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s op bewusteloos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zo’n situatie altijd benen blijven bewegen en optrekken aan de vallijn om de druk op de benen te verl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minimaal twee personen werken om zonodig hulp te kunnen inroe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ep 7"/>
          <p:cNvGrpSpPr/>
          <p:nvPr/>
        </p:nvGrpSpPr>
        <p:grpSpPr>
          <a:xfrm>
            <a:off x="7620120" y="2057400"/>
            <a:ext cx="1523880" cy="2209680"/>
            <a:chOff x="7620120" y="2057400"/>
            <a:chExt cx="1523880" cy="2209680"/>
          </a:xfrm>
        </p:grpSpPr>
        <p:pic>
          <p:nvPicPr>
            <p:cNvPr id="123" name="Picture 5" descr="Ein Arbeiter hängt nach dem Unfall auf einer Baustelle in Grevenbroich an einem Gerüst. Bei dem schweren Unfall auf der Baustelle des neuen RWE-Kraftwerks sind vermutlich mehrere Menschen getötet worden."/>
            <p:cNvPicPr/>
            <p:nvPr/>
          </p:nvPicPr>
          <p:blipFill>
            <a:blip r:embed="rId1"/>
            <a:stretch/>
          </p:blipFill>
          <p:spPr>
            <a:xfrm>
              <a:off x="7620120" y="2057400"/>
              <a:ext cx="15238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al 6"/>
            <p:cNvSpPr/>
            <p:nvPr/>
          </p:nvSpPr>
          <p:spPr>
            <a:xfrm>
              <a:off x="8187120" y="2561400"/>
              <a:ext cx="460080" cy="994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4" descr="untitled.bmp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PBM zijn er om je te bescherm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                 </a:t>
            </a: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maak er goed gebruik v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is de laatste verdediging tegen gevaren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of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worden gebruikt als het niet anders 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BM moeten wel goed zij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ouw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bescherming bi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test en voorzien van een CE-merkt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voor het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controleert PBM kwaliteit en CE-merkt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moet er op een goede manier mee om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9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4382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1 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2 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3 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4 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5 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6 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7 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8 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gen zijn heel kwets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op het werk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de, scherpe of stofdeeltjes bij verspanen, slijpen, hakken of b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oeiende deeltjes bij slijpen, lassen en br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rmte- en lichtstraling, waaronder ultraviolet (UV) en infrarood (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ten van gevaarlijke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corrosief, irriterend, schadelijk of gifti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335720" y="0"/>
            <a:ext cx="180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uitgevoerd  met zijkap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zen van gehard glas of kunst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zicht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p het gezicht 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of volledig stofdichte ventilatieopen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of bij slijpen, hakken, bo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lijke vloei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aatsche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ndom het gehele gez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escherming tegen stoffen,gassen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mpen, stofdeeltjes die van onder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1" descr="http://tbn0.google.com/images?q=tbn:uPQHGKo37lH6iM:http://www.optieklammerant.be/Graphics/Veiligheidsbril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2640" y="1523880"/>
            <a:ext cx="1584360" cy="122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tbn0.google.com/images?q=tbn:V07os4M3iNu1EM:http://www.enormbrabander.nl/Html/Images/Veiligheidsbri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15200" y="3200400"/>
            <a:ext cx="1584360" cy="1073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~1\gerard\LOCALS~1\Temp\~DEST\0001iw\Scannen0017.bmp"/>
          <p:cNvPicPr/>
          <p:nvPr/>
        </p:nvPicPr>
        <p:blipFill>
          <a:blip r:embed="rId5"/>
          <a:stretch/>
        </p:blipFill>
        <p:spPr>
          <a:xfrm>
            <a:off x="7791480" y="4718160"/>
            <a:ext cx="13525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br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dere ruit van gehard glas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en een donkere r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gebruik bij autogeen las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rondvliegende deeltjes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fbikken en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askappen/lassche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dekken het hele gez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bben een donkere ruit tegen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ltraviolette en infrarode straling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rmte metaaldeeltjes e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fbeelding 5" descr="images.jpg"/>
          <p:cNvPicPr/>
          <p:nvPr/>
        </p:nvPicPr>
        <p:blipFill>
          <a:blip r:embed="rId1"/>
          <a:stretch/>
        </p:blipFill>
        <p:spPr>
          <a:xfrm>
            <a:off x="6248520" y="2359080"/>
            <a:ext cx="1798560" cy="16225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4" descr="images2.jpg"/>
          <p:cNvPicPr/>
          <p:nvPr/>
        </p:nvPicPr>
        <p:blipFill>
          <a:blip r:embed="rId2"/>
          <a:stretch/>
        </p:blipFill>
        <p:spPr>
          <a:xfrm>
            <a:off x="6248520" y="4498920"/>
            <a:ext cx="1773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lawaai is gevaarlij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catie moei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ter beschikking stellen bij een geluidsniveau vanaf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verplicht dragen bij een geluidsniveau vanaf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fbeelding 5" descr="gehoor.jpg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atten /prop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rpluggen / oordo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toplast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hoork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http://tbn0.google.com/images?q=tbn:Lbv8ckYmnagLRM:http://www.toolstation.nl/images/library/stock/webbig/565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105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tbn0.google.com/images?q=tbn:sUedTQkv7_DL1M:http://boneschansker.com/images/otoplastieken.JPG"/>
          <p:cNvPicPr/>
          <p:nvPr/>
        </p:nvPicPr>
        <p:blipFill>
          <a:blip r:embed="rId3"/>
          <a:stretch/>
        </p:blipFill>
        <p:spPr>
          <a:xfrm>
            <a:off x="3124080" y="4114800"/>
            <a:ext cx="141444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tbn0.google.com/images?q=tbn:eTsdTFVHnl2ubM:http://www.toolspecial.com/images/1984-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553080" y="2590920"/>
            <a:ext cx="142884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rcRect l="0" t="0" r="13370" b="0"/>
          <a:stretch/>
        </p:blipFill>
        <p:spPr>
          <a:xfrm>
            <a:off x="3200400" y="1828800"/>
            <a:ext cx="14288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jrijdes</cp:lastModifiedBy>
  <dcterms:modified xsi:type="dcterms:W3CDTF">2010-02-16T11:24:13Z</dcterms:modified>
  <cp:revision>36</cp:revision>
  <dc:subject/>
  <dc:title>Test</dc:title>
</cp:coreProperties>
</file>