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943-AD35-42FC-ADC4-00C00F48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A06F-1FC5-492D-B205-89E207FD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5AA-0F69-42F2-837C-BE3668F0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D91-E6B3-4064-A873-F7BF7FD0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0FF0-0AB0-4437-8573-BA4EC888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FD7D-8F94-42D5-AF6A-886086E1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5135-4F6F-4A6D-898C-9B003ADB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BD9B-D870-4888-9690-4D02EC5B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889F-BE7C-4F71-9F52-C3C69522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5375-EE9F-4045-8601-B1D58135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48C1-280A-4957-8B4B-EC2AF56E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D250-CCB7-4DAB-8E44-B2B990DB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5FB2-3E6C-40D2-91FA-FEBA61E6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7F18-BF2A-4129-9791-A4DF9D6B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6E74-7CBA-4263-89AF-4DBEEE62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58F7-0AB6-4D55-ADA2-FCCD1AD4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96A9-9524-4A4B-BCFF-2DB75CF2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A8260-A54A-40BE-8AEC-AA93186E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11D2C-B2C5-4603-BE21-4BEBDAB1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8E2F1-5901-47E7-B5B1-D69EE29A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0218F-5589-4657-85D2-71CBB0A4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770C8-D35A-47AE-AD08-C21683B1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E3B-8F8C-4541-ADA8-4BED0563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F4243-8D63-46C3-A876-E0C3C88A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2E6DE-8178-4DCB-924F-B388D627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F9963-72C2-472E-99DC-7C5DEF6A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0A644-5DC6-4AC7-BBDF-910EE9DC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8241E-761A-4C68-B601-DD7EBA8C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CBBA8-4B67-4272-9936-32A4305B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011A5-8714-44B7-9E34-34CAA397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4ECF-3A14-46BF-A672-161DDABD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47F0-C5DF-42AC-9587-C8996D59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3ECA-5248-4748-8441-46A48743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D02-B08E-4B4C-B690-865E0C05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32D-FA1D-4561-A7E9-46B7B3D6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F7B5-FBFE-4E22-9B0C-EB5F1805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A02E-2A10-4FCA-B73B-F286C30222E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EEAE-3A16-467B-BF2C-99E4D113C5A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2792-8533-43FB-A38F-5F434096C58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71320"/>
            <a:ext cx="815328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3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Hoofdstuk 6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Elektriciteit, straling, trillingen en lawaai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risico’s van de techni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8A1A-0895-4405-ACC4-065E03F014E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71320" y="1147320"/>
            <a:ext cx="835812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gevaloorz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amengev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7360-BE98-4FDF-9DBF-CAF279D5944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1320" y="1499760"/>
            <a:ext cx="8001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an elektrische installaties is aan regels gebo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person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atie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bekwaam persoon (elektrotechnicu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onderricht persoo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niet bevoegd: l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C41C-C47B-4435-948A-CF3DDA90975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71680" y="164268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 (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 persoon en een leek hebben geen elektrotechnische vakopleiding afge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e persoon heeft van een vakbekwaam persoon een instructie gekregen om zorgvuldig omschreven taken aan een elektrische installatie onder toezicht te mogen uit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163a"/>
                </a:solidFill>
                <a:latin typeface="Arial"/>
              </a:rPr>
              <a:t>een leek heeft géén instructie ontvangen en mag níet aan een installatie werk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45B5-FE75-49E6-B5C4-389D7807834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4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Technische</a:t>
            </a:r>
            <a:br>
              <a:rPr sz="2800"/>
            </a:b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571400"/>
            <a:ext cx="77990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608B-9261-47B9-B7A1-9DF2742CA95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6232680" y="0"/>
            <a:ext cx="2911320" cy="1943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http://www.soer.nl/shop/images/9706278elektra.JPG"/>
          <p:cNvPicPr/>
          <p:nvPr/>
        </p:nvPicPr>
        <p:blipFill>
          <a:blip r:embed="rId3"/>
          <a:stretch/>
        </p:blipFill>
        <p:spPr>
          <a:xfrm>
            <a:off x="6643800" y="3714840"/>
            <a:ext cx="2309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9d37"/>
                </a:solidFill>
                <a:latin typeface="Arial"/>
              </a:rPr>
              <a:t>Veiligheidsaar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1320" y="164268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en defect elektrisch toestel wordt voorkomen dat uitwendige delen onder spanning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30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8378-0683-49F1-A44E-CFF3C1A2211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9680" y="1428480"/>
            <a:ext cx="8442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 op: beveiligt niet tegen indringen van vocht en 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B121-9AEE-4F07-A683-8ED048E85A2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http://www.gortzen.eu/vca/elektrisch%20gereedschap/dubbel%20geisoleerd.png"/>
          <p:cNvPicPr/>
          <p:nvPr/>
        </p:nvPicPr>
        <p:blipFill>
          <a:blip r:embed="rId2"/>
          <a:stretch/>
        </p:blipFill>
        <p:spPr>
          <a:xfrm>
            <a:off x="4675320" y="2779560"/>
            <a:ext cx="6588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357720" y="1147680"/>
            <a:ext cx="62863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isuele insp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bruik tijdelijke stroominstal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een aardlekschakelaar (30 of 300 m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FE31-004C-4EB1-A3E2-315D17E01F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Afbeelding 4" descr="insp.jpg"/>
          <p:cNvPicPr/>
          <p:nvPr/>
        </p:nvPicPr>
        <p:blipFill>
          <a:blip r:embed="rId2"/>
          <a:stretch/>
        </p:blipFill>
        <p:spPr>
          <a:xfrm>
            <a:off x="357120" y="135720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http://www.abird.nl/UserFiles/Image/Producten/VerdeelkastVS.jpg"/>
          <p:cNvPicPr/>
          <p:nvPr/>
        </p:nvPicPr>
        <p:blipFill>
          <a:blip r:embed="rId3"/>
          <a:stretch/>
        </p:blipFill>
        <p:spPr>
          <a:xfrm>
            <a:off x="785880" y="3429000"/>
            <a:ext cx="2628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85960" y="1642680"/>
            <a:ext cx="70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5C9A-501D-4B6C-88B4-0D090A810C8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Afbeelding 4" descr="kabelhaspel02.jpg"/>
          <p:cNvPicPr/>
          <p:nvPr/>
        </p:nvPicPr>
        <p:blipFill>
          <a:blip r:embed="rId2"/>
          <a:stretch/>
        </p:blipFill>
        <p:spPr>
          <a:xfrm>
            <a:off x="133200" y="2852640"/>
            <a:ext cx="173844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71320" y="157140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 is de opbou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elektrische spanning bi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f spuiten of andere soortgelijke activit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vloeistoffen bij strom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een kunststofleiding of bij het ro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B7B9-5261-48F2-AC89-75E6F06506A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7283520" y="0"/>
            <a:ext cx="1860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320" y="1147680"/>
            <a:ext cx="8358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et ontstaan van (zeer) hoge spanninge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statische elektriciteit is mogelijk,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us gevaarlijk!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2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aatregelen om statische elektriciteit te bep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569A-44BC-47E7-ABDD-8BD10950F3D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 Elektriciteit, straling, trillingen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1680" y="714240"/>
            <a:ext cx="8572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: gemak en risico’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n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werken met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sch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 in werk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6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7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-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klimaat e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DBF8-3FCD-4D9F-A296-8FA0404DC14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6E0D-7D27-465F-8B0A-82CFC5102B3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kstvak 4"/>
          <p:cNvSpPr/>
          <p:nvPr/>
        </p:nvSpPr>
        <p:spPr>
          <a:xfrm>
            <a:off x="1071720" y="1785960"/>
            <a:ext cx="2143080" cy="9471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actiev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kstvak 7"/>
          <p:cNvSpPr/>
          <p:nvPr/>
        </p:nvSpPr>
        <p:spPr>
          <a:xfrm>
            <a:off x="4786200" y="1643040"/>
            <a:ext cx="142884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kstvak 12"/>
          <p:cNvSpPr/>
          <p:nvPr/>
        </p:nvSpPr>
        <p:spPr>
          <a:xfrm>
            <a:off x="5500800" y="2643120"/>
            <a:ext cx="228600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chni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hte verbindingslijn 14"/>
          <p:cNvSpPr/>
          <p:nvPr/>
        </p:nvSpPr>
        <p:spPr>
          <a:xfrm>
            <a:off x="3214800" y="2263680"/>
            <a:ext cx="2286000" cy="64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 verbindingslijn 19"/>
          <p:cNvSpPr/>
          <p:nvPr/>
        </p:nvSpPr>
        <p:spPr>
          <a:xfrm flipV="1">
            <a:off x="3214800" y="1908000"/>
            <a:ext cx="1571400" cy="262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kstvak 24"/>
          <p:cNvSpPr/>
          <p:nvPr/>
        </p:nvSpPr>
        <p:spPr>
          <a:xfrm>
            <a:off x="5500800" y="3718080"/>
            <a:ext cx="228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es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cent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ie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al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kstvak 28"/>
          <p:cNvSpPr/>
          <p:nvPr/>
        </p:nvSpPr>
        <p:spPr>
          <a:xfrm>
            <a:off x="857160" y="3228840"/>
            <a:ext cx="2876760" cy="45972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IJL-OMLAAG 29"/>
          <p:cNvSpPr/>
          <p:nvPr/>
        </p:nvSpPr>
        <p:spPr>
          <a:xfrm>
            <a:off x="1928880" y="278604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IJL-OMLAAG 30"/>
          <p:cNvSpPr/>
          <p:nvPr/>
        </p:nvSpPr>
        <p:spPr>
          <a:xfrm>
            <a:off x="2000160" y="3714840"/>
            <a:ext cx="71640" cy="1428840"/>
          </a:xfrm>
          <a:prstGeom prst="downArrow">
            <a:avLst>
              <a:gd name="adj1" fmla="val 50000"/>
              <a:gd name="adj2" fmla="val 49862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kstvak 33"/>
          <p:cNvSpPr/>
          <p:nvPr/>
        </p:nvSpPr>
        <p:spPr>
          <a:xfrm>
            <a:off x="857160" y="5143680"/>
            <a:ext cx="2857680" cy="36828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antasting weefsel/org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kstvak 34"/>
          <p:cNvSpPr/>
          <p:nvPr/>
        </p:nvSpPr>
        <p:spPr>
          <a:xfrm>
            <a:off x="2214720" y="3786120"/>
            <a:ext cx="278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ort b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rkte br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: absorptie / reflec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kstvak 15"/>
          <p:cNvSpPr/>
          <p:nvPr/>
        </p:nvSpPr>
        <p:spPr>
          <a:xfrm>
            <a:off x="6715080" y="928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gebi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kstvak 16"/>
          <p:cNvSpPr/>
          <p:nvPr/>
        </p:nvSpPr>
        <p:spPr>
          <a:xfrm>
            <a:off x="6715080" y="1785960"/>
            <a:ext cx="197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jn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e/gasw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hte verbindingslijn 18"/>
          <p:cNvSpPr/>
          <p:nvPr/>
        </p:nvSpPr>
        <p:spPr>
          <a:xfrm flipV="1">
            <a:off x="6215040" y="1279440"/>
            <a:ext cx="50004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Rechte verbindingslijn met pijl 26"/>
          <p:cNvCxnSpPr>
            <a:stCxn id="236" idx="3"/>
            <a:endCxn id="247" idx="1"/>
          </p:cNvCxnSpPr>
          <p:nvPr/>
        </p:nvCxnSpPr>
        <p:spPr>
          <a:xfrm>
            <a:off x="6214680" y="1907640"/>
            <a:ext cx="5007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5574-C9AB-461C-BC06-D2DA9FD56B4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tel 2"/>
          <p:cNvSpPr/>
          <p:nvPr/>
        </p:nvSpPr>
        <p:spPr>
          <a:xfrm>
            <a:off x="571680" y="228600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er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fstand: borden en afsche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gië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pakkingen gesloten la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tingen uitvo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8 Niet-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71320" y="11473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ionisatie-effecten maar wel schadelijke werking mog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V-straling en IR-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nl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er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g instructies en houd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03F2-3A68-45A8-802C-CFC5FC6EB01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CAE5-ECC5-49B1-99D2-8BBF5805142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kstvak 3"/>
          <p:cNvSpPr/>
          <p:nvPr/>
        </p:nvSpPr>
        <p:spPr>
          <a:xfrm>
            <a:off x="642960" y="2276640"/>
            <a:ext cx="19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torische) aandrij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kstvak 4"/>
          <p:cNvSpPr/>
          <p:nvPr/>
        </p:nvSpPr>
        <p:spPr>
          <a:xfrm>
            <a:off x="2714760" y="16430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r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kstvak 5"/>
          <p:cNvSpPr/>
          <p:nvPr/>
        </p:nvSpPr>
        <p:spPr>
          <a:xfrm>
            <a:off x="3718080" y="2419200"/>
            <a:ext cx="13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d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kstvak 7"/>
          <p:cNvSpPr/>
          <p:nvPr/>
        </p:nvSpPr>
        <p:spPr>
          <a:xfrm>
            <a:off x="5410080" y="1676520"/>
            <a:ext cx="15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/arm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kstvak 8"/>
          <p:cNvSpPr/>
          <p:nvPr/>
        </p:nvSpPr>
        <p:spPr>
          <a:xfrm>
            <a:off x="5429160" y="259092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chaams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Vrije vorm 9"/>
          <p:cNvSpPr/>
          <p:nvPr/>
        </p:nvSpPr>
        <p:spPr>
          <a:xfrm>
            <a:off x="1928880" y="2604960"/>
            <a:ext cx="1805040" cy="39708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1253067" h="296998">
                <a:moveTo>
                  <a:pt x="0" y="50722"/>
                </a:moveTo>
                <a:cubicBezTo>
                  <a:pt x="7526" y="35670"/>
                  <a:pt x="6397" y="10190"/>
                  <a:pt x="22578" y="5567"/>
                </a:cubicBezTo>
                <a:cubicBezTo>
                  <a:pt x="42062" y="0"/>
                  <a:pt x="63636" y="14956"/>
                  <a:pt x="79022" y="28144"/>
                </a:cubicBezTo>
                <a:cubicBezTo>
                  <a:pt x="91799" y="39096"/>
                  <a:pt x="93251" y="58689"/>
                  <a:pt x="101600" y="73300"/>
                </a:cubicBezTo>
                <a:cubicBezTo>
                  <a:pt x="108331" y="85080"/>
                  <a:pt x="118110" y="95032"/>
                  <a:pt x="124178" y="107167"/>
                </a:cubicBezTo>
                <a:cubicBezTo>
                  <a:pt x="129500" y="117810"/>
                  <a:pt x="129563" y="130701"/>
                  <a:pt x="135467" y="141033"/>
                </a:cubicBezTo>
                <a:cubicBezTo>
                  <a:pt x="144802" y="157369"/>
                  <a:pt x="158397" y="170879"/>
                  <a:pt x="169333" y="186189"/>
                </a:cubicBezTo>
                <a:cubicBezTo>
                  <a:pt x="177219" y="197229"/>
                  <a:pt x="184385" y="208766"/>
                  <a:pt x="191911" y="220055"/>
                </a:cubicBezTo>
                <a:cubicBezTo>
                  <a:pt x="199437" y="208766"/>
                  <a:pt x="207758" y="197969"/>
                  <a:pt x="214489" y="186189"/>
                </a:cubicBezTo>
                <a:cubicBezTo>
                  <a:pt x="222838" y="171578"/>
                  <a:pt x="227416" y="154820"/>
                  <a:pt x="237067" y="141033"/>
                </a:cubicBezTo>
                <a:cubicBezTo>
                  <a:pt x="253921" y="116956"/>
                  <a:pt x="274696" y="95878"/>
                  <a:pt x="293511" y="73300"/>
                </a:cubicBezTo>
                <a:cubicBezTo>
                  <a:pt x="297274" y="62011"/>
                  <a:pt x="294596" y="33311"/>
                  <a:pt x="304800" y="39433"/>
                </a:cubicBezTo>
                <a:cubicBezTo>
                  <a:pt x="328068" y="53394"/>
                  <a:pt x="349955" y="107167"/>
                  <a:pt x="349955" y="107167"/>
                </a:cubicBezTo>
                <a:cubicBezTo>
                  <a:pt x="351162" y="111995"/>
                  <a:pt x="364332" y="186189"/>
                  <a:pt x="383822" y="186189"/>
                </a:cubicBezTo>
                <a:cubicBezTo>
                  <a:pt x="412480" y="186189"/>
                  <a:pt x="436503" y="163611"/>
                  <a:pt x="462844" y="152322"/>
                </a:cubicBezTo>
                <a:cubicBezTo>
                  <a:pt x="464730" y="149493"/>
                  <a:pt x="510596" y="75896"/>
                  <a:pt x="519289" y="84589"/>
                </a:cubicBezTo>
                <a:cubicBezTo>
                  <a:pt x="547947" y="113247"/>
                  <a:pt x="546319" y="161228"/>
                  <a:pt x="564444" y="197478"/>
                </a:cubicBezTo>
                <a:lnTo>
                  <a:pt x="609600" y="287789"/>
                </a:lnTo>
                <a:cubicBezTo>
                  <a:pt x="678786" y="264727"/>
                  <a:pt x="613722" y="296998"/>
                  <a:pt x="654755" y="231344"/>
                </a:cubicBezTo>
                <a:cubicBezTo>
                  <a:pt x="674307" y="200061"/>
                  <a:pt x="704634" y="183040"/>
                  <a:pt x="733778" y="163611"/>
                </a:cubicBezTo>
                <a:cubicBezTo>
                  <a:pt x="739335" y="174725"/>
                  <a:pt x="765634" y="231994"/>
                  <a:pt x="778933" y="242633"/>
                </a:cubicBezTo>
                <a:cubicBezTo>
                  <a:pt x="788225" y="250067"/>
                  <a:pt x="801511" y="250159"/>
                  <a:pt x="812800" y="253922"/>
                </a:cubicBezTo>
                <a:cubicBezTo>
                  <a:pt x="816563" y="242633"/>
                  <a:pt x="818767" y="230698"/>
                  <a:pt x="824089" y="220055"/>
                </a:cubicBezTo>
                <a:cubicBezTo>
                  <a:pt x="877407" y="113418"/>
                  <a:pt x="843787" y="206114"/>
                  <a:pt x="869244" y="129744"/>
                </a:cubicBezTo>
                <a:cubicBezTo>
                  <a:pt x="876023" y="156859"/>
                  <a:pt x="878748" y="189277"/>
                  <a:pt x="903111" y="208767"/>
                </a:cubicBezTo>
                <a:cubicBezTo>
                  <a:pt x="912403" y="216200"/>
                  <a:pt x="925689" y="216292"/>
                  <a:pt x="936978" y="220055"/>
                </a:cubicBezTo>
                <a:cubicBezTo>
                  <a:pt x="948267" y="197477"/>
                  <a:pt x="961135" y="175623"/>
                  <a:pt x="970844" y="152322"/>
                </a:cubicBezTo>
                <a:cubicBezTo>
                  <a:pt x="979997" y="130354"/>
                  <a:pt x="974838" y="99456"/>
                  <a:pt x="993422" y="84589"/>
                </a:cubicBezTo>
                <a:cubicBezTo>
                  <a:pt x="1004017" y="76113"/>
                  <a:pt x="1016000" y="99641"/>
                  <a:pt x="1027289" y="107167"/>
                </a:cubicBezTo>
                <a:cubicBezTo>
                  <a:pt x="1038578" y="122219"/>
                  <a:pt x="1050219" y="137012"/>
                  <a:pt x="1061155" y="152322"/>
                </a:cubicBezTo>
                <a:cubicBezTo>
                  <a:pt x="1069041" y="163363"/>
                  <a:pt x="1070165" y="186189"/>
                  <a:pt x="1083733" y="186189"/>
                </a:cubicBezTo>
                <a:cubicBezTo>
                  <a:pt x="1097301" y="186189"/>
                  <a:pt x="1097625" y="162745"/>
                  <a:pt x="1106311" y="152322"/>
                </a:cubicBezTo>
                <a:cubicBezTo>
                  <a:pt x="1116532" y="140057"/>
                  <a:pt x="1129788" y="130577"/>
                  <a:pt x="1140178" y="118455"/>
                </a:cubicBezTo>
                <a:cubicBezTo>
                  <a:pt x="1152422" y="104170"/>
                  <a:pt x="1162755" y="88352"/>
                  <a:pt x="1174044" y="73300"/>
                </a:cubicBezTo>
                <a:cubicBezTo>
                  <a:pt x="1185333" y="84589"/>
                  <a:pt x="1199055" y="93883"/>
                  <a:pt x="1207911" y="107167"/>
                </a:cubicBezTo>
                <a:cubicBezTo>
                  <a:pt x="1214512" y="117068"/>
                  <a:pt x="1213878" y="130390"/>
                  <a:pt x="1219200" y="141033"/>
                </a:cubicBezTo>
                <a:cubicBezTo>
                  <a:pt x="1225268" y="153168"/>
                  <a:pt x="1234797" y="163266"/>
                  <a:pt x="1241778" y="174900"/>
                </a:cubicBezTo>
                <a:cubicBezTo>
                  <a:pt x="1246107" y="182115"/>
                  <a:pt x="1249304" y="189952"/>
                  <a:pt x="1253067" y="197478"/>
                </a:cubicBezTo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Rechte verbindingslijn met pijl 11"/>
          <p:cNvCxnSpPr>
            <a:stCxn id="260" idx="3"/>
            <a:endCxn id="261" idx="1"/>
          </p:cNvCxnSpPr>
          <p:nvPr/>
        </p:nvCxnSpPr>
        <p:spPr>
          <a:xfrm flipV="1">
            <a:off x="5105520" y="2056680"/>
            <a:ext cx="305280" cy="56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5" name="Rechte verbindingslijn met pijl 13"/>
          <p:cNvCxnSpPr>
            <a:stCxn id="260" idx="3"/>
            <a:endCxn id="262" idx="1"/>
          </p:cNvCxnSpPr>
          <p:nvPr/>
        </p:nvCxnSpPr>
        <p:spPr>
          <a:xfrm>
            <a:off x="5105160" y="2617560"/>
            <a:ext cx="324360" cy="354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6" name="Tekstvak 17"/>
          <p:cNvSpPr/>
          <p:nvPr/>
        </p:nvSpPr>
        <p:spPr>
          <a:xfrm>
            <a:off x="7072200" y="2562120"/>
            <a:ext cx="192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el of vloer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e/ werktu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kstvak 18"/>
          <p:cNvSpPr/>
          <p:nvPr/>
        </p:nvSpPr>
        <p:spPr>
          <a:xfrm>
            <a:off x="7072200" y="928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hand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kstvak 19"/>
          <p:cNvSpPr/>
          <p:nvPr/>
        </p:nvSpPr>
        <p:spPr>
          <a:xfrm>
            <a:off x="5257800" y="5043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IJL-OMLAAG 20"/>
          <p:cNvSpPr/>
          <p:nvPr/>
        </p:nvSpPr>
        <p:spPr>
          <a:xfrm>
            <a:off x="5857920" y="3776760"/>
            <a:ext cx="642960" cy="10000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kstvak 21"/>
          <p:cNvSpPr/>
          <p:nvPr/>
        </p:nvSpPr>
        <p:spPr>
          <a:xfrm>
            <a:off x="6858000" y="41148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requen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uitslag (amplit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DD88-F16F-4796-9711-1BA74990DDE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3"/>
          <p:cNvSpPr/>
          <p:nvPr/>
        </p:nvSpPr>
        <p:spPr>
          <a:xfrm>
            <a:off x="571680" y="135108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letsel/gezondheidsklachten door 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ijn in handen en a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voelloze vingertopp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u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moei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hoofd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pier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ncentratiever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enwichtstoor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2391-62D0-4B5E-A35C-3AFCB41ECAB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kstvak 3"/>
          <p:cNvSpPr/>
          <p:nvPr/>
        </p:nvSpPr>
        <p:spPr>
          <a:xfrm>
            <a:off x="571680" y="14479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preventieve maatreg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euze van nieuwe appara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illing absorberende handscho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ternatieve techni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perking blootstelling (bijv. door taakroula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7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 Binnenklimaat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871D-805D-4F83-B3E5-5BC8C66079F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kstvak 3"/>
          <p:cNvSpPr/>
          <p:nvPr/>
        </p:nvSpPr>
        <p:spPr>
          <a:xfrm>
            <a:off x="571680" y="838080"/>
            <a:ext cx="835812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t werkt beter onder comfortabele omstandighed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je blijft langer gez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limaatbehee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leving wordt bepaald door temperatuur, vocht e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to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rksoort stelt eisen: precisiewerk meer 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eigenschappen werknemer: zichtverlies bijvoorbeel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oor leef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kwaliteit verlichting/inrichting (contrasten en spiegeling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onderhoud en vervan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ttelijke ei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533520" y="1371600"/>
            <a:ext cx="58291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awaai is schadelijk geluid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rd geluid heeft nadelig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 verstaat mensen slecht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effecten zijn afhankelijk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2C6A-925D-4EFA-8A0A-4FA6D30E08F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283" name="Picture 7" descr=""/>
            <p:cNvPicPr/>
            <p:nvPr/>
          </p:nvPicPr>
          <p:blipFill>
            <a:blip r:embed="rId2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" descr=""/>
            <p:cNvPicPr/>
            <p:nvPr/>
          </p:nvPicPr>
          <p:blipFill>
            <a:blip r:embed="rId3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7" descr="http://www.energytech.at/kwk/fotos/portrait_10_en.jpg"/>
            <p:cNvPicPr/>
            <p:nvPr/>
          </p:nvPicPr>
          <p:blipFill>
            <a:blip r:embed="rId4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" descr=""/>
            <p:cNvPicPr/>
            <p:nvPr/>
          </p:nvPicPr>
          <p:blipFill>
            <a:blip r:embed="rId5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Rechthoek 12"/>
          <p:cNvGrpSpPr/>
          <p:nvPr/>
        </p:nvGrpSpPr>
        <p:grpSpPr>
          <a:xfrm>
            <a:off x="8772480" y="-12600"/>
            <a:ext cx="384120" cy="6883200"/>
            <a:chOff x="8772480" y="-12600"/>
            <a:chExt cx="384120" cy="6883200"/>
          </a:xfrm>
        </p:grpSpPr>
        <p:pic>
          <p:nvPicPr>
            <p:cNvPr id="288" name="Rechthoek 12" descr=""/>
            <p:cNvPicPr/>
            <p:nvPr/>
          </p:nvPicPr>
          <p:blipFill>
            <a:blip r:embed="rId6"/>
            <a:stretch/>
          </p:blipFill>
          <p:spPr>
            <a:xfrm>
              <a:off x="8772480" y="-12600"/>
              <a:ext cx="3841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8786880" y="0"/>
              <a:ext cx="35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hte verbindingslijn 14"/>
          <p:cNvSpPr/>
          <p:nvPr/>
        </p:nvSpPr>
        <p:spPr>
          <a:xfrm>
            <a:off x="6786720" y="3000240"/>
            <a:ext cx="20001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 verbindingslijn 16"/>
          <p:cNvSpPr/>
          <p:nvPr/>
        </p:nvSpPr>
        <p:spPr>
          <a:xfrm>
            <a:off x="6715080" y="292896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 verbindingslijn 18"/>
          <p:cNvSpPr/>
          <p:nvPr/>
        </p:nvSpPr>
        <p:spPr>
          <a:xfrm>
            <a:off x="6500880" y="2928960"/>
            <a:ext cx="35712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 verbindingslijn 20"/>
          <p:cNvSpPr/>
          <p:nvPr/>
        </p:nvSpPr>
        <p:spPr>
          <a:xfrm>
            <a:off x="6500880" y="2714760"/>
            <a:ext cx="357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571680" y="1066680"/>
            <a:ext cx="6410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 va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oring van de communicati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jdens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oren van alarmsignal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hulpgeroe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vende gehoor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E796-DEE4-4AB8-9467-23238B4FFAF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http://www.docukit.nl/inhoud/ic74-2.jpg"/>
          <p:cNvPicPr/>
          <p:nvPr/>
        </p:nvPicPr>
        <p:blipFill>
          <a:blip r:embed="rId2"/>
          <a:stretch/>
        </p:blipFill>
        <p:spPr>
          <a:xfrm>
            <a:off x="5334120" y="2975040"/>
            <a:ext cx="3438360" cy="22302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1680" y="1147320"/>
            <a:ext cx="82152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lijvende gehoor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dus alle reden om lawaai serieus aan te 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20F2-C4D4-4D8A-878A-F0C38F6DA85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, gemak en risico’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1AA5-C1A6-482D-A01A-2684809BC1E8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09480" y="1752480"/>
            <a:ext cx="82296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onmisb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maar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stroom kan doden en brand en explosies veroorz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en kunnen effecten geven op 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 kunnen de gezondheid bedre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 kan ernstige schade toebre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A166-D90F-4863-AAB3-EBA05C1888F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3"/>
          <p:cNvSpPr/>
          <p:nvPr/>
        </p:nvSpPr>
        <p:spPr>
          <a:xfrm>
            <a:off x="571680" y="1143000"/>
            <a:ext cx="8397720" cy="47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geluidssterkte in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oor rekenen met geluidsbelasting wordt decibel(A) gebruikt</a:t>
            </a:r>
            <a:br>
              <a:rPr sz="2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A staat voor toepassen van een geluidsfilter A dat overeenkomt met het menselijk oor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eenheid decibel bevat een logarit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aardoor gelden andere rekenregels als lineaire een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erdubbeling van geluid betekent een toename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halvering van geluid betekent een vermindering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elke puntbron, dus meestal ook voor geluid, geldt: 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ubbele afstand: 1/4 van de intensiteit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geluid is dat  dus  -6 decibel!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: gemak en risico’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371F-9EC1-4F06-A940-4C63F9EFE8C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95440" y="1676520"/>
            <a:ext cx="82627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de basis van de industrie, huishouden en 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veel ervaring met en er zijn veel voorschriften voor 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het algemene gebruik en de goede bescherming kunnen we overblijvende risico’s gaan onderscha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CF1B-6C9E-4398-91D1-B430FE26947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71680" y="1600200"/>
            <a:ext cx="835812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8D28-4C69-43BF-ABDE-2AD8C0F511D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http://aivpc41.vub.ac.be/preventie/Images/VE_EL_electrocutie.gif"/>
          <p:cNvPicPr/>
          <p:nvPr/>
        </p:nvPicPr>
        <p:blipFill>
          <a:blip r:embed="rId2">
            <a:grayscl/>
          </a:blip>
          <a:stretch/>
        </p:blipFill>
        <p:spPr>
          <a:xfrm>
            <a:off x="4003560" y="1071720"/>
            <a:ext cx="20005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15228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85" name="Titel 1"/>
          <p:cNvSpPr/>
          <p:nvPr/>
        </p:nvSpPr>
        <p:spPr>
          <a:xfrm>
            <a:off x="571680" y="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#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01200" y="2133720"/>
            <a:ext cx="7651440" cy="39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gevaren van stroom door het licha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en door meerdere factoren bepaa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panning (50 Volt, 230 Volt of hoogspan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ochtigheidsgraad van de huid (droog of n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kte van de huid (een eeltlaag biedt bescherm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anrakingsoppervlak (hoe groter hoe meer stro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solatieweerstand van de standplaa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oleum en een rubbermat hebben een ho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en betonnen vloer heeft een la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8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(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E1F2-B8BA-4A1B-91E3-24CF823428B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21420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90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71680" y="2362320"/>
            <a:ext cx="6867360" cy="27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om door het lichaam kan op een indirec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er leiden tot een ong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waardoor letsel ontsta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rondvliegend materia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571320" y="2071440"/>
            <a:ext cx="87296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tsluit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kortsluiting en/of een 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9997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kortslui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4924-7FC0-401A-8040-90A264B1991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8:10Z</dcterms:modified>
  <cp:revision>131</cp:revision>
  <dc:subject/>
  <dc:title>Taak en positie VFP</dc:title>
</cp:coreProperties>
</file>