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AB4-281D-4CEB-B31D-46DC40BE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AEC-79B6-4538-88C4-584EFD66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87A-DB76-4BBC-84F9-125AB92E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954-37B4-4321-BF12-EC04B13E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C08-109A-4757-8A4A-079C29C9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002-F277-4238-9A6D-31E430D1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523-7FCB-40F8-A74B-0945E1BF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1E8-6307-40CC-9132-5D10371D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7BF-69D8-4282-A66C-2410427F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5E0-5490-46F6-A264-63830D38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DD4-B129-4AF4-9608-83AA9065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DBD-8180-4E97-8D77-9DD76CC4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868938-374F-4EE2-853B-24730AE6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2880" y="58392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62080" y="2590560"/>
            <a:ext cx="5067360" cy="73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kvergun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DEB-0FE1-4FAC-A612-60E20B112F5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toeganke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der dan 18 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en en sleuven 2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tenzijde afzetting en waarschuwings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gangen altijd vr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9400" y="6894360"/>
          <a:ext cx="18828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6894360"/>
                    <a:ext cx="18828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6D1-46C7-4AE2-A757-9AE8BD8A29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89880" y="685800"/>
            <a:ext cx="4659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ILIG WER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8381880"/>
            <a:ext cx="66484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BESLOTEN RUIM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puh" descr=""/>
          <p:cNvPicPr/>
          <p:nvPr/>
        </p:nvPicPr>
        <p:blipFill>
          <a:blip r:embed="rId1"/>
          <a:stretch/>
        </p:blipFill>
        <p:spPr>
          <a:xfrm>
            <a:off x="444600" y="2819520"/>
            <a:ext cx="6348240" cy="443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22E-1DD3-419D-93EF-8A8B44B6FB2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7640" y="480960"/>
            <a:ext cx="5992920" cy="88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89D-3EBC-4B73-B60F-99D4A04C4EA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62080"/>
            <a:ext cx="615312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42880" y="1328760"/>
            <a:ext cx="6153120" cy="850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b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03720" y="5589720"/>
          <a:ext cx="190044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3720" y="5589720"/>
                    <a:ext cx="190044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032440" y="7799400"/>
          <a:ext cx="189216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7799400"/>
                    <a:ext cx="189216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075280" y="1074600"/>
          <a:ext cx="18050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5280" y="1074600"/>
                    <a:ext cx="1805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033880" y="3241800"/>
          <a:ext cx="1887480" cy="18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33880" y="3241800"/>
                    <a:ext cx="1887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2EB-2CBE-42CB-918D-964E25B1D27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2880" y="337680"/>
            <a:ext cx="6153120" cy="11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880" y="1709280"/>
            <a:ext cx="6153120" cy="796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schoei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she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e adem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beveil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205240" y="5210280"/>
          <a:ext cx="200376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240" y="5210280"/>
                    <a:ext cx="200376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189400" y="3227400"/>
          <a:ext cx="1882800" cy="19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9400" y="3227400"/>
                    <a:ext cx="18828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110200" y="1251000"/>
          <a:ext cx="1887480" cy="190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10200" y="1251000"/>
                    <a:ext cx="188748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186520" y="7524720"/>
          <a:ext cx="2041200" cy="201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6520" y="7524720"/>
                    <a:ext cx="20412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1A6-6C93-434A-A342-CDFC3E239A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ren elektriciteit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hogere tempera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k voch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lal metaal en dus goede gele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ruimte, waardoor elektrakabels ongeord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8EA-1048-4B4F-B301-47E6264BFB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2135160"/>
            <a:ext cx="6832440" cy="63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ECB-A2C3-4C0B-942B-1C9455A52FF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 te voorkomen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te verrichten met een veilige sp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0080" y="5416560"/>
            <a:ext cx="5550120" cy="1434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Volt wissel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4120" y="7854840"/>
            <a:ext cx="562608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 Volt gelijkst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5E2-DB9C-45F9-80E8-2C62ABF467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werkvergunning is bedo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 de volgende zaken goed 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ende afspraken tussen iedereen die met het werk heeft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vastleggen van de voorwaarden waaronder gewerkt dient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DD6-1FB4-4271-981F-1206F9E0A4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ergunning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te onderdelen op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verstrekkende af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door de hou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krachtiging door verschillend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7778880"/>
            <a:ext cx="6235920" cy="1968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7894800"/>
            <a:ext cx="6111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de betrokkenen 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aar va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vergunning heb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2CE-6496-4EE8-8305-8C27BF2454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5666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2880" y="1828440"/>
            <a:ext cx="6153120" cy="76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erg kleine werkplek, waardoor moeilijk te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slecht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kleine in- en uitg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al weinig 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dag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A05-8F2D-4781-B604-0154800F83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3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loten ruim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2880" y="2319480"/>
            <a:ext cx="6153120" cy="74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evaren in een besl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 en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toffen en zuurstofgeb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len en strui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4120" y="1987560"/>
            <a:ext cx="5931000" cy="341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7600" y="2133720"/>
            <a:ext cx="46720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orbeelden besloten ruim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slagreservo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7AF-D528-47E7-B896-75550F4E9B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&amp; Explo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 voor brand en explos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nig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bare stoffen in 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zaamheden zorgen voor brandbare 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dat er geen brandbare stoffen in de ruimte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rgen voor ventilatie d.m.v. lucht in bla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860-A6C1-48FE-A4D7-0ED8C7D68B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aarlijke stoffen en zuurstoftek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komen giftige stoffen in 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oten ruim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verdamping van resten van de inhoud van een t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 de wanden door verhitting en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het werk dat wordt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 buiten de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B41-E99F-4547-8CDE-2A902E0E736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atregelen bij werken in besloten 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reidend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ganisatie, toezicht en verblijfsduur, metin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tregelen tijdens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gemene maatregelen, ventileren, maatregelen bij lassen, slijpen, schilderen en bij overige werkzaam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E12-05BC-4CDA-B471-E2BF74F903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2880" y="338040"/>
            <a:ext cx="6153120" cy="12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n is 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51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betreden besloten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skundig personeel al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n 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zuurstof (21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L (&lt;10 % L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wa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6920" y="7245360"/>
            <a:ext cx="6692760" cy="2502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9520" y="7405560"/>
            <a:ext cx="53499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OIT FILTERBU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BESLOTEN RUI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700520" y="7553160"/>
          <a:ext cx="1946520" cy="19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7553160"/>
                    <a:ext cx="194652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762440" y="7620120"/>
            <a:ext cx="1905120" cy="19047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686120" y="7620120"/>
            <a:ext cx="1904760" cy="182880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67B-FA88-41DC-B351-2B9C604DE5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18:09:42Z</dcterms:created>
  <dc:creator>Hajo Kleijburg</dc:creator>
  <dc:description>Revisie 0</dc:description>
  <dc:language>en-US</dc:language>
  <cp:lastModifiedBy>inge</cp:lastModifiedBy>
  <cp:lastPrinted>2000-04-30T14:28:28Z</cp:lastPrinted>
  <dcterms:modified xsi:type="dcterms:W3CDTF">2003-11-25T19:44:47Z</dcterms:modified>
  <cp:revision>21</cp:revision>
  <dc:subject>Les 8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