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B98C-F050-49B2-A67C-3DEC6727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1C06-B44B-4155-8A61-470FF801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7411-DAB6-436C-943E-50B89A6A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B2F7-D84E-4571-8B31-2310064F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75F-1D98-434C-ABB9-1DA0DD17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8A32-C22C-440C-A1EA-E40135D6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AD7-1C01-4600-A1CB-F863C729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1E98-200E-4FB1-B538-5CC7AB73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A70-0B6A-4B6D-BFE0-BC023DA2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0DBF-ECE9-422E-94B0-9EA9872C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208-E881-4C29-90E6-EA5C6F92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352-DCE7-4114-BEE5-290991F3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0D9C-C88A-4CC2-8164-AA3AD360D07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0004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4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Brand en explosie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4 Brandbaarheid van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ne stof brandt gemakkelijker d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istoffen: vlampunt is maat voor brand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g vlampun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hoog brandgeva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pu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of de ‘ontvlammingstemperatuur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laagste temperatuur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ij vloeistof zoveel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ontvlambare damp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wikkelt, dat deze in de aanwezige lucht onder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normale luchtomstandigheden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een vlam of vonk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aangestok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n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nzine kan bij vorst aangestoken worden (vlampunt onder - 20 °C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troleum kan niet bij kamertemperatuur aangestoken worden, vlampunt boven + 30 °C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nzine is dus veel brandgevaarlijker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rcRect l="20482" t="0" r="29468" b="0"/>
          <a:stretch/>
        </p:blipFill>
        <p:spPr>
          <a:xfrm>
            <a:off x="7786800" y="0"/>
            <a:ext cx="13572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4 Brandbaarheid van stoffen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ontbrandingstemperatuur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gste temperatuur waarbij een stof spontaan ontbran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nder enig hulpmiddel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normale luchtomstandig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stekingsenergie is hier geen vonk of vlam, maar de hoge temperatuur z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5 Blus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incipes van blu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stof uitschakelen / verwij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rmte uitschakelen door afko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sbron weg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 verdringen of de toegang to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stof verhi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grijpen in de chemische reactie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rand (negatieve kataly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6715080" y="82440"/>
            <a:ext cx="221292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Indeling brandklas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EB76BD7-4227-447F-B5C8-D5C14D2928CF" descr="5A8DB082-2839-484A-B0AB-DACCFFD08C53@profit"/>
          <p:cNvPicPr/>
          <p:nvPr/>
        </p:nvPicPr>
        <p:blipFill>
          <a:blip r:embed="rId1"/>
          <a:stretch/>
        </p:blipFill>
        <p:spPr>
          <a:xfrm>
            <a:off x="216000" y="3068640"/>
            <a:ext cx="8640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6 Blusmiddel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1447920"/>
          <a:ext cx="7772400" cy="4616280"/>
        </p:xfrm>
        <a:graphic>
          <a:graphicData uri="http://schemas.openxmlformats.org/drawingml/2006/table">
            <a:tbl>
              <a:tblPr/>
              <a:tblGrid>
                <a:gridCol w="2062080"/>
                <a:gridCol w="2476440"/>
                <a:gridCol w="3233880"/>
              </a:tblGrid>
              <a:tr h="340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middel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king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ort bra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om 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im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uit zuurstoftoevoer a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uit zuurstoftoevoer a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 op de grond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deken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bij person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poeder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t verbrandingsreactie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(gass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metal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1" lang="nl-BE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elektriciteitsinstallaties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     - lees de aanwijzingen -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77" name="Picture 6" descr="http://www.brandweer.borger-odoorn.info/images/146_1.jpg"/>
          <p:cNvPicPr/>
          <p:nvPr/>
        </p:nvPicPr>
        <p:blipFill>
          <a:blip r:embed="rId1"/>
          <a:stretch/>
        </p:blipFill>
        <p:spPr>
          <a:xfrm>
            <a:off x="2827440" y="1981080"/>
            <a:ext cx="3128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     - lees de aanwijzingen –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79" name="Picture 10" descr="http://www.manroy.nl/ontruimingsplan.gif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 eigen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 de brand zo snel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 de mensen in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uit deuren en r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ng mensen in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 de brand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ls je het kunt en dat verantwoord is….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ies het juiste blusmid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icht op het brandende voorwerp, niet op de vlam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ijf opletten, het vuur kan weer aanwakk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515960" y="5867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cc0000"/>
                </a:solidFill>
                <a:latin typeface="Arial"/>
                <a:ea typeface="Arial"/>
              </a:rPr>
              <a:t>bij brandwonden zo snel mogelijk koelen </a:t>
            </a:r>
            <a:r>
              <a:rPr b="0" i="1" lang="nl-NL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cc0000"/>
                </a:solidFill>
                <a:latin typeface="Arial"/>
                <a:ea typeface="Arial"/>
              </a:rPr>
              <a:t> 15 minute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brand is vuur waar het niet thuis hoort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oorkomen en schade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en explosies zijn ernstige bedreig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ijv. raffinaderijen en chemische fabrieken is brand zeer ern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en explosies voorkomen of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hoe ze kunnen 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hoe je moet optr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wat van belang is voor blu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1  Gevaren voor brand en explo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2  Gevaren tijdens een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3  Ontstaan van brand en explo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4  Brandbaarheid van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5  Blu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6  Blu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7  Handelend optreden bij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1 Gevaren voor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branden komen heel veel vo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abrieken en werkplaat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gvervoer (bijv. vrachtwagens met propaa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ansporten van licht ontvlambare produc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krepar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nkelpanden, opslagloodsen, jachthav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wembaden, hotels, disco’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orm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http://www.morgenpost.de/multimedia/archive/00382/sei_Unfall_BM_Berli_382094b.jpg"/>
          <p:cNvPicPr/>
          <p:nvPr/>
        </p:nvPicPr>
        <p:blipFill>
          <a:blip r:embed="rId1"/>
          <a:stretch/>
        </p:blipFill>
        <p:spPr>
          <a:xfrm>
            <a:off x="5562720" y="4648320"/>
            <a:ext cx="2143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2 Gevaren tijdens een bran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ing door vuurcontact, hitte en 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ttestraling belemmert blus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s mogelijk door ontsteking en opw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an roo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lemmert vluch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ift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ijgt op (lichter dan luch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preidt zich in een gebou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3 Ontstaan van brand of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brand of explosie is tegelijk nodi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brandbare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zuur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ontstekingsener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de branddrieho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aan van brand hangt af van aanwezighei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brandbare stof en aanwezigheid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‘ontstekingsenergie’ (vlammetje of von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5108400" y="2498760"/>
            <a:ext cx="294984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ntstekingsenerg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senergie wordt geleverd door een ontstekingsb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mogelijke ontstekingsb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onk van handgereedschap of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t oppervl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 temperatu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 vuur en stralingswar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plosie is een “bliksemsnelle”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randingsgassen komen vrij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drukgol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drukgolf is verwoest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upersnelle verbranding alleen bij ideale omstandig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bare stof en zuurstof heel goed gemeng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verhouding tussen brandbare stof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moet goe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: propaan-luchtmengsel kan niet exploderen bij een concentratie onder 2,1% en niet boven 9,5%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paan-luchtmengsels kunnen alleen exploderen bij een concentratie tussen 2,1% en 9,5% propaan in de lu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Explosiegrenzen en explosiegebie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59" name="Picture 9" descr="http://www.arbobert.nl/images/290Expl1.jpg"/>
          <p:cNvPicPr/>
          <p:nvPr/>
        </p:nvPicPr>
        <p:blipFill>
          <a:blip r:embed="rId1"/>
          <a:stretch/>
        </p:blipFill>
        <p:spPr>
          <a:xfrm>
            <a:off x="685800" y="2476440"/>
            <a:ext cx="7772400" cy="3695760"/>
          </a:xfrm>
          <a:prstGeom prst="rect">
            <a:avLst/>
          </a:prstGeom>
          <a:ln w="0">
            <a:noFill/>
          </a:ln>
        </p:spPr>
      </p:pic>
      <p:sp>
        <p:nvSpPr>
          <p:cNvPr id="60" name="Tekstvak 9"/>
          <p:cNvSpPr/>
          <p:nvPr/>
        </p:nvSpPr>
        <p:spPr>
          <a:xfrm>
            <a:off x="685800" y="220968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e ‘arm’ mengs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te ‘rijk’ mengsel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IJL-OMHOOG 7"/>
          <p:cNvSpPr/>
          <p:nvPr/>
        </p:nvSpPr>
        <p:spPr>
          <a:xfrm rot="16200000">
            <a:off x="1159560" y="1278720"/>
            <a:ext cx="642960" cy="1285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IJL-OMHOOG 8"/>
          <p:cNvSpPr/>
          <p:nvPr/>
        </p:nvSpPr>
        <p:spPr>
          <a:xfrm rot="5400000">
            <a:off x="6564600" y="1283400"/>
            <a:ext cx="642960" cy="1428840"/>
          </a:xfrm>
          <a:prstGeom prst="upArrow">
            <a:avLst>
              <a:gd name="adj1" fmla="val 50000"/>
              <a:gd name="adj2" fmla="val 50001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10-01T08:35:03Z</dcterms:modified>
  <cp:revision>124</cp:revision>
  <dc:subject/>
  <dc:title>PowerPoint-presentatie</dc:title>
</cp:coreProperties>
</file>