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3.wmf" ContentType="image/x-wm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CCF8-BFDF-471D-A658-153AF943A6F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C80C-5B7A-453E-9EC3-034DD3D39E5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4689-7A5D-4C07-B3FE-5BF55317791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AutoCAD Basis Training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ijdelijke aanduiding voor dianumm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1ECF-9F78-4BF0-B328-111E0F13573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E50-A2CE-4D6E-BCBD-71D3A4BC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A48-9CC0-4EA3-8198-A96053EA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328-A534-4CC7-A01F-AC058217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3C7-BF2C-4C04-8F16-D8FE162B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7F70-1A4F-41C3-986D-6F21D779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3D9C-B96D-45F5-91E8-9FA5923C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B13A-D13A-41D4-8EC4-9B2F176D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C350-9280-4A68-9E23-A1AD826C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BA0A-ACC6-452D-B45C-9AECDA71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5FF7-04A6-4BC8-9585-9040BF56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A796-C5FF-4A26-8719-C6C43875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EDC-1258-4AFA-9F07-D71DA5F0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80D3-BC8F-4644-9BE7-7E4C0976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115A-D56A-40A2-8F3C-CD1A8354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BF6B-2254-4E39-B23A-7B4CB9B5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71DE-95F8-406F-9E9C-61AD8626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F197-9B4D-4D88-A084-2D73A87A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0DAB2-A7F4-40C0-8804-4F8D6CFE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CEB8C-7B78-46CB-B89E-387688CC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7570-901F-4882-A4F5-E8EA1EFE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4C061-E0DD-489E-BD9F-441633D7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3FB76-ECFD-45E9-B32C-65F308B1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916-E441-4A28-83D6-290B144B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6C6A-B365-4886-A248-4358B12B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B48D-8D02-4A3E-AC1C-49A1E67A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65D2-BE35-4C8C-935C-DF5EEFD5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AA4D6-49DA-44C5-94EB-DA2B65EE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B7D7-788B-4CED-9174-1904A9B6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1345B-D062-4F26-8A3D-CF494A19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54A2-0F10-414B-B4B4-01631C4C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F60-7453-44A5-9FC5-B5DA10E4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595-09C7-415D-82D1-A2B9B9AD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910-B1D5-4A8D-A7A9-6BDABAA1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BF7-553B-44D1-92CB-CF0720EA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40A-595E-438A-8124-DB1F94DA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8C1-6C89-4CCB-BB5D-DDB0A359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779F-8530-4D2B-BCF7-D0927B7BC594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F5DD-37AD-47EC-A095-AD7F2564A314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1007-326A-4513-81F5-FE1A7C7B71F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42976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a40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Hoofdstuk 8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GM-beheersing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fa407"/>
                </a:solidFill>
                <a:latin typeface="Arial"/>
              </a:rPr>
              <a:t>vormgeven aan veilig werke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7222-18BD-40D9-90E2-484352E9445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3357720" y="4286160"/>
          <a:ext cx="2493720" cy="17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7720" y="4286160"/>
                    <a:ext cx="2493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1680" y="149976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152A-30DA-44F9-B2F3-9B487C9221C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71320" y="159984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C1A8-1E95-49A6-98FD-DE568A68706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4 Algemene en specifieke veiligheidsregel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100008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71680" y="1857240"/>
            <a:ext cx="764352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5545-351A-4831-A6B9-EA8B41B8814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318160" cy="10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specifieke veiligheidsregels </a:t>
            </a:r>
            <a:r>
              <a:rPr b="0" lang="en-US" sz="2400" spc="-1" strike="noStrike">
                <a:solidFill>
                  <a:srgbClr val="0fa40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499760"/>
            <a:ext cx="8331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3520" indent="-5335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ikbaar zijn voor betreffende/betrokken werkne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533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effen eisen en 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3A18-D8F4-46A7-8667-F5C8876544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kstvak 4"/>
          <p:cNvSpPr/>
          <p:nvPr/>
        </p:nvSpPr>
        <p:spPr>
          <a:xfrm rot="21028800">
            <a:off x="5319360" y="5660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71320" y="1295280"/>
            <a:ext cx="735804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sregels kunnen eisen bevatten omt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63DB-FEE6-453E-960C-A5F34CA9D8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kstvak 4"/>
          <p:cNvSpPr/>
          <p:nvPr/>
        </p:nvSpPr>
        <p:spPr>
          <a:xfrm rot="21028800">
            <a:off x="4756320" y="457632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 Black"/>
              </a:rPr>
              <a:t>overle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itel 1"/>
          <p:cNvSpPr/>
          <p:nvPr/>
        </p:nvSpPr>
        <p:spPr>
          <a:xfrm>
            <a:off x="571680" y="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4 Algemene en specifieke veiligheidsregels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5 Werkvoorberei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F3AA-4B47-4957-B254-C9A11BD1FAB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kstvak 6"/>
          <p:cNvSpPr/>
          <p:nvPr/>
        </p:nvSpPr>
        <p:spPr>
          <a:xfrm>
            <a:off x="571680" y="114300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en goed begin…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ijdsplanning voor totale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oede volgorde om goed en veilig te kunnen wer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nodigd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teria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reedschappen en machin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tailplanning voor de uitvoering van het werk volgens een veiliger werkwijze (ook als die trager is en ext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zieningen eis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1972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320" y="1905120"/>
            <a:ext cx="83581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waarden scheppen 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uit te voeren werkzaam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ap voor stap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et maximale veilighei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mens en installati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uit te voeren…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6 Vergunning veilig werk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2960" y="1220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zeker weten d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werken op het terrein en aan de installa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nder vergunning niet aan het werk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D080-B6B7-48DD-8318-F6AB51F660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Object 6"/>
          <p:cNvGraphicFramePr/>
          <p:nvPr/>
        </p:nvGraphicFramePr>
        <p:xfrm>
          <a:off x="3429000" y="2743200"/>
          <a:ext cx="1785960" cy="100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743200"/>
                    <a:ext cx="178596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60004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pecifieke werkvergunn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1680" y="2037960"/>
            <a:ext cx="692928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gen van een veilige werkwijze voor werk met specifieke risico’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odig specifieke opleiding of train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F7FA-EEAD-4FC7-89B4-1C81F8E61F8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4"/>
          <p:cNvSpPr/>
          <p:nvPr/>
        </p:nvSpPr>
        <p:spPr>
          <a:xfrm rot="20244600">
            <a:off x="4191480" y="49525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a407"/>
                </a:solidFill>
                <a:latin typeface="Arial Black"/>
              </a:rPr>
              <a:t>persoonlijk overtu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itel 1"/>
          <p:cNvSpPr/>
          <p:nvPr/>
        </p:nvSpPr>
        <p:spPr>
          <a:xfrm>
            <a:off x="571680" y="142920"/>
            <a:ext cx="8129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Arial"/>
              </a:rPr>
              <a:t>8.6 Vergunning veilig werken (3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1220400"/>
            <a:ext cx="8646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beelden van werk met specifieke 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jswerk bij belangrijke install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eiten asbesthoudend materia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met giftige en/of kankerverwekken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1440" indent="-271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E515-6609-4371-A82A-D3DD6E6AD8D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33120"/>
            <a:ext cx="842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680" y="122040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1  Hoofdrol voor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  VGM-kennis een basisvoorwaar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  Overleggen en reg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  Algemene en 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  Vergunning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7  Aandachtspunten bij risicovol wer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8  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BFE5-D0DC-4191-960B-812C6AA2B17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515520" cy="70880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Specifieke werkvergunning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28D2-A138-428E-B974-C4DE979D66A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kstvak 5"/>
          <p:cNvSpPr/>
          <p:nvPr/>
        </p:nvSpPr>
        <p:spPr>
          <a:xfrm rot="18256200">
            <a:off x="-417240" y="282996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anvraag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kstvak 7"/>
          <p:cNvSpPr/>
          <p:nvPr/>
        </p:nvSpPr>
        <p:spPr>
          <a:xfrm rot="18256200">
            <a:off x="3654000" y="27586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gunninghoud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kstvak 8"/>
          <p:cNvSpPr/>
          <p:nvPr/>
        </p:nvSpPr>
        <p:spPr>
          <a:xfrm rot="18256200">
            <a:off x="6011640" y="29016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ekrachtig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kstvak 9"/>
          <p:cNvSpPr/>
          <p:nvPr/>
        </p:nvSpPr>
        <p:spPr>
          <a:xfrm rot="18256200">
            <a:off x="1725480" y="254448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maatregelen verstrekk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kstvak 12"/>
          <p:cNvSpPr/>
          <p:nvPr/>
        </p:nvSpPr>
        <p:spPr>
          <a:xfrm rot="21347400">
            <a:off x="6356520" y="524520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verleng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Werkvergunningen</a:t>
            </a:r>
            <a:r>
              <a:rPr b="0" lang="en-US" sz="2800" spc="-1" strike="noStrike">
                <a:solidFill>
                  <a:srgbClr val="0fa407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jn een onderdeel van projectveiligheid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4803840" cy="4583160"/>
          </a:xfrm>
          <a:prstGeom prst="rect">
            <a:avLst/>
          </a:prstGeom>
          <a:ln w="0">
            <a:noFill/>
          </a:ln>
        </p:spPr>
      </p:pic>
      <p:pic>
        <p:nvPicPr>
          <p:cNvPr id="260" name="WordArt 2" descr=""/>
          <p:cNvPicPr/>
          <p:nvPr/>
        </p:nvPicPr>
        <p:blipFill>
          <a:blip r:embed="rId3"/>
          <a:stretch/>
        </p:blipFill>
        <p:spPr>
          <a:xfrm>
            <a:off x="1841400" y="1620720"/>
            <a:ext cx="2621160" cy="1293840"/>
          </a:xfrm>
          <a:prstGeom prst="rect">
            <a:avLst/>
          </a:prstGeom>
          <a:ln w="0">
            <a:noFill/>
          </a:ln>
        </p:spPr>
      </p:pic>
      <p:pic>
        <p:nvPicPr>
          <p:cNvPr id="261" name="WordArt 3" descr=""/>
          <p:cNvPicPr/>
          <p:nvPr/>
        </p:nvPicPr>
        <p:blipFill>
          <a:blip r:embed="rId4"/>
          <a:stretch/>
        </p:blipFill>
        <p:spPr>
          <a:xfrm>
            <a:off x="3962520" y="4638600"/>
            <a:ext cx="261432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WordArt 4" descr=""/>
          <p:cNvPicPr/>
          <p:nvPr/>
        </p:nvPicPr>
        <p:blipFill>
          <a:blip r:embed="rId5"/>
          <a:stretch/>
        </p:blipFill>
        <p:spPr>
          <a:xfrm>
            <a:off x="4853160" y="1500120"/>
            <a:ext cx="1908000" cy="2737080"/>
          </a:xfrm>
          <a:prstGeom prst="rect">
            <a:avLst/>
          </a:prstGeom>
          <a:ln w="0">
            <a:noFill/>
          </a:ln>
        </p:spPr>
      </p:pic>
      <p:pic>
        <p:nvPicPr>
          <p:cNvPr id="263" name="WordArt 5" descr=""/>
          <p:cNvPicPr/>
          <p:nvPr/>
        </p:nvPicPr>
        <p:blipFill>
          <a:blip r:embed="rId6"/>
          <a:stretch/>
        </p:blipFill>
        <p:spPr>
          <a:xfrm>
            <a:off x="1706400" y="3333600"/>
            <a:ext cx="1970280" cy="2713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Functies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71680" y="1357200"/>
            <a:ext cx="70005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oede voorbereiding op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leggen met iedereen die bij het werk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tleggen van de voorwaarden waarond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lenen van toestemming voor aanvang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ACA3-E804-44BE-BCD6-37FAE87C4B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kstvak 4"/>
          <p:cNvSpPr/>
          <p:nvPr/>
        </p:nvSpPr>
        <p:spPr>
          <a:xfrm rot="21347400">
            <a:off x="3115440" y="44722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a407"/>
                </a:solidFill>
                <a:latin typeface="Arial Black"/>
              </a:rPr>
              <a:t>gestructureerde en verplichte communicatie tussen alle partij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Invullen van de werkvergunn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7720" y="1294920"/>
            <a:ext cx="6643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ED9E-769C-4B9D-9BC0-A92CC90DF9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verstrekk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320" y="1002960"/>
            <a:ext cx="81565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op de vrijstelling van de installat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prek met de vergunninghouder ov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1120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B3A7-DCDD-4389-9033-CC69C7344DC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 en plichten vergunninghoud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71320" y="1219320"/>
            <a:ext cx="814212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houder van de werkvergu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5540-B91D-46D9-9013-B3196973F25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chten/plichten operationele medewerk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71320" y="1356840"/>
            <a:ext cx="8157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operationele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een werkvergunning heeft alleen zin als de afspraken die worden gemaakt, ook worden nagelee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F1EE-80ED-451F-941E-B26D048B953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1778-817C-41A7-990B-EB0C0B5D44C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2"/>
          <a:srcRect l="18846" t="30242" r="-414" b="16908"/>
          <a:stretch/>
        </p:blipFill>
        <p:spPr>
          <a:xfrm>
            <a:off x="7358040" y="0"/>
            <a:ext cx="1785960" cy="250020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5"/>
          <p:cNvSpPr/>
          <p:nvPr/>
        </p:nvSpPr>
        <p:spPr>
          <a:xfrm>
            <a:off x="500040" y="54000"/>
            <a:ext cx="71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spunten bij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risicovolle werkzaamhed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kstvak 9"/>
          <p:cNvSpPr/>
          <p:nvPr/>
        </p:nvSpPr>
        <p:spPr>
          <a:xfrm>
            <a:off x="571680" y="1928880"/>
            <a:ext cx="7914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, toepassen bedrijfsvoorschriften,  werkvergunningen, TRA, 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wezig zijn, controleren en zonodig ingrijpe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igeren als maatregelen niet worden genomen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 stoppen als het werkplan niet wordt gevol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tzendkrachten in samenwerking met de    uitzendorganisatie, aanvullend informeren en zonodig opleiden en instructies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50004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TRA: (taak)risicoanalys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645920"/>
            <a:ext cx="854064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e van de gevaren voor werknemers bij uitvoering van (risicovolle) taken  met als doel beheersmaatregelen vast te stellen en in te zet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taakstap nagaan of extra beheersmaatregelen nodig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RA wordt bijgesteld als er afwijkingen optreden t.o.v. het werkp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bijgestelde TRA wordt dan besproken met  de vertegenwoordiger van de opdracht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96F1-AEF6-49D6-8393-8B2FC35DD18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kstvak 5"/>
          <p:cNvSpPr/>
          <p:nvPr/>
        </p:nvSpPr>
        <p:spPr>
          <a:xfrm>
            <a:off x="571680" y="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8.7 Aandachtpunten bij risicovolle werkzaamheden (2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0" y="-258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kstvak 8"/>
          <p:cNvSpPr/>
          <p:nvPr/>
        </p:nvSpPr>
        <p:spPr>
          <a:xfrm>
            <a:off x="571680" y="38088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  <a:ea typeface="Tahoma"/>
              </a:rPr>
              <a:t>Hoofdlijn omgaan met verhoogd risic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kstvak 9"/>
          <p:cNvSpPr/>
          <p:nvPr/>
        </p:nvSpPr>
        <p:spPr>
          <a:xfrm>
            <a:off x="1900080" y="1571760"/>
            <a:ext cx="307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normal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kstvak 10"/>
          <p:cNvSpPr/>
          <p:nvPr/>
        </p:nvSpPr>
        <p:spPr>
          <a:xfrm>
            <a:off x="6469200" y="1500120"/>
            <a:ext cx="26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rojectmatige werkuitvoer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kstvak 11"/>
          <p:cNvSpPr/>
          <p:nvPr/>
        </p:nvSpPr>
        <p:spPr>
          <a:xfrm>
            <a:off x="571680" y="2428920"/>
            <a:ext cx="17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a911"/>
                </a:solidFill>
                <a:latin typeface="Tahoma"/>
                <a:ea typeface="Tahoma"/>
              </a:rPr>
              <a:t>identificatie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kstvak 12"/>
          <p:cNvSpPr/>
          <p:nvPr/>
        </p:nvSpPr>
        <p:spPr>
          <a:xfrm>
            <a:off x="1447920" y="2928960"/>
            <a:ext cx="2233440" cy="45972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bedrijfs-RI&amp;E</a:t>
            </a:r>
            <a:r>
              <a:rPr b="1" lang="nl-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kstvak 13"/>
          <p:cNvSpPr/>
          <p:nvPr/>
        </p:nvSpPr>
        <p:spPr>
          <a:xfrm>
            <a:off x="6681960" y="3000240"/>
            <a:ext cx="2428560" cy="825480"/>
          </a:xfrm>
          <a:prstGeom prst="rect">
            <a:avLst/>
          </a:prstGeom>
          <a:noFill/>
          <a:ln w="936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functie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kstvak 14"/>
          <p:cNvSpPr/>
          <p:nvPr/>
        </p:nvSpPr>
        <p:spPr>
          <a:xfrm>
            <a:off x="6681960" y="335772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- project-RI&amp;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Tekstvak 15"/>
          <p:cNvGrpSpPr/>
          <p:nvPr/>
        </p:nvGrpSpPr>
        <p:grpSpPr>
          <a:xfrm>
            <a:off x="981000" y="4022640"/>
            <a:ext cx="3200400" cy="1519200"/>
            <a:chOff x="981000" y="4022640"/>
            <a:chExt cx="3200400" cy="1519200"/>
          </a:xfrm>
        </p:grpSpPr>
        <p:pic>
          <p:nvPicPr>
            <p:cNvPr id="298" name="Tekstvak 15" descr=""/>
            <p:cNvPicPr/>
            <p:nvPr/>
          </p:nvPicPr>
          <p:blipFill>
            <a:blip r:embed="rId2"/>
            <a:stretch/>
          </p:blipFill>
          <p:spPr>
            <a:xfrm>
              <a:off x="981000" y="4022640"/>
              <a:ext cx="32004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00160" y="4143240"/>
              <a:ext cx="3029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en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Tekstvak 16"/>
          <p:cNvGrpSpPr/>
          <p:nvPr/>
        </p:nvGrpSpPr>
        <p:grpSpPr>
          <a:xfrm>
            <a:off x="6303960" y="4127400"/>
            <a:ext cx="2833560" cy="1511280"/>
            <a:chOff x="6303960" y="4127400"/>
            <a:chExt cx="2833560" cy="1511280"/>
          </a:xfrm>
        </p:grpSpPr>
        <p:pic>
          <p:nvPicPr>
            <p:cNvPr id="301" name="Tekstvak 16" descr=""/>
            <p:cNvPicPr/>
            <p:nvPr/>
          </p:nvPicPr>
          <p:blipFill>
            <a:blip r:embed="rId3"/>
            <a:stretch/>
          </p:blipFill>
          <p:spPr>
            <a:xfrm>
              <a:off x="6303960" y="4127400"/>
              <a:ext cx="28335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21320" y="4241880"/>
              <a:ext cx="266220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heersmaatregel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werkvergunning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algemene en 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Tahoma"/>
                </a:rPr>
                <a:t>specifieke veiligheidsregels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kstvak 17"/>
          <p:cNvSpPr/>
          <p:nvPr/>
        </p:nvSpPr>
        <p:spPr>
          <a:xfrm>
            <a:off x="1066680" y="5638680"/>
            <a:ext cx="17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163a"/>
                </a:solidFill>
                <a:latin typeface="Tahoma"/>
                <a:ea typeface="Tahoma"/>
              </a:rPr>
              <a:t>beheersing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kstvak 18"/>
          <p:cNvSpPr/>
          <p:nvPr/>
        </p:nvSpPr>
        <p:spPr>
          <a:xfrm>
            <a:off x="4419720" y="1357200"/>
            <a:ext cx="1547640" cy="100872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wijkende omstandig-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kstvak 19"/>
          <p:cNvSpPr/>
          <p:nvPr/>
        </p:nvSpPr>
        <p:spPr>
          <a:xfrm>
            <a:off x="4876920" y="2971800"/>
            <a:ext cx="1073160" cy="703800"/>
          </a:xfrm>
          <a:prstGeom prst="rect">
            <a:avLst/>
          </a:prstGeom>
          <a:noFill/>
          <a:ln w="9360">
            <a:solidFill>
              <a:srgbClr val="0fa4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IJL-OMHOOG 20"/>
          <p:cNvSpPr/>
          <p:nvPr/>
        </p:nvSpPr>
        <p:spPr>
          <a:xfrm rot="10800000">
            <a:off x="2611080" y="3571920"/>
            <a:ext cx="49860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IJL-OMHOOG 21"/>
          <p:cNvSpPr/>
          <p:nvPr/>
        </p:nvSpPr>
        <p:spPr>
          <a:xfrm rot="10800000">
            <a:off x="7469280" y="3786120"/>
            <a:ext cx="498240" cy="357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IJL-OMHOOG 22"/>
          <p:cNvSpPr/>
          <p:nvPr/>
        </p:nvSpPr>
        <p:spPr>
          <a:xfrm rot="13027800">
            <a:off x="4167000" y="3963240"/>
            <a:ext cx="50148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IJL-OMHOOG 23"/>
          <p:cNvSpPr/>
          <p:nvPr/>
        </p:nvSpPr>
        <p:spPr>
          <a:xfrm rot="7795200">
            <a:off x="6014880" y="3965400"/>
            <a:ext cx="501480" cy="355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07220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1 Hoofdrol voor de leidinggeven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A60F-02F1-4CAA-851B-4C5BFDFE1E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kstvak 4"/>
          <p:cNvSpPr/>
          <p:nvPr/>
        </p:nvSpPr>
        <p:spPr>
          <a:xfrm>
            <a:off x="1066680" y="2209680"/>
            <a:ext cx="3714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aan werkge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vallen- en incidentenonderz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 PB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es vragen bij deskundi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kennis/info werknemers check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kstvak 5"/>
          <p:cNvSpPr/>
          <p:nvPr/>
        </p:nvSpPr>
        <p:spPr>
          <a:xfrm>
            <a:off x="4952880" y="2209680"/>
            <a:ext cx="371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laten nal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medewerk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roductie gev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or aanwij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werken aan RI&amp;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A’s op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GM-inspecties uitvo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olboxmeetings verzor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13880" y="1219320"/>
            <a:ext cx="77994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de taak om de VGM-risicobeheersing in de praktijk te realiser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7358040" y="285840"/>
            <a:ext cx="1405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8.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71320" y="1523520"/>
            <a:ext cx="815652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0ACC-6AAC-461D-92F2-570EF6DD8B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21512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71680" y="857160"/>
            <a:ext cx="5286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heersing en 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s om noodsituaties te beheer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 effectief optrede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ie moet wat, wanneer, hoe do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fasen noodsit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rste me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elingen en maatreg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ëindigen van de nood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 dat de situatie veilig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90680" indent="-216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DC45-B49A-460D-83B9-CF1FAFED5EC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2" descr="http://www.safetybillboards.nl/brandpreventie.JPG"/>
          <p:cNvPicPr/>
          <p:nvPr/>
        </p:nvPicPr>
        <p:blipFill>
          <a:blip r:embed="rId2"/>
          <a:stretch/>
        </p:blipFill>
        <p:spPr>
          <a:xfrm>
            <a:off x="5772240" y="566640"/>
            <a:ext cx="33782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71320" y="928800"/>
            <a:ext cx="815652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ar verzamelplaats gaa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liften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BAD8-7113-4D8B-B953-26B0A0640E3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  <p:sp>
        <p:nvSpPr>
          <p:cNvPr id="321" name="Rechthoek 5"/>
          <p:cNvSpPr/>
          <p:nvPr/>
        </p:nvSpPr>
        <p:spPr>
          <a:xfrm>
            <a:off x="571680" y="4214880"/>
            <a:ext cx="7277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46160" indent="-474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/waar zij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(verzamel)plaats(en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evacuatiemogelijkheden/vluchtrou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de instructies van de opdrachtgev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46160" indent="-474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en bij evacuatie direct melden op de verzamelplaat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26F6-7D68-450C-9A85-E058B91F465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2627280" y="353880"/>
            <a:ext cx="39495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42976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4783-5CE4-42D1-855F-F49E9F618E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71320" y="1000080"/>
            <a:ext cx="81565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ewerkers moeten, ook volgens wetgeving, direct worden voorgelicht over risico’s en veilige werkwijze en op die kennis getoetst wo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de kennis moet ook actueel blijve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kstvak 8"/>
          <p:cNvSpPr/>
          <p:nvPr/>
        </p:nvSpPr>
        <p:spPr>
          <a:xfrm>
            <a:off x="571680" y="264312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nneer opleiding en instructi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at gebeurt bij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tart nieuwe medewerk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verplaats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functiewijzig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arbeids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anpassingen aan arbeidsmiddel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zet nieuwe technolog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voeren nieuwe werkprocedur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0CC6-A04E-4C2F-8090-00C2CE254E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71680" y="1143000"/>
            <a:ext cx="83325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rijven hanteren meestal de volgende vormen van opleiding en instruct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inhoud 6"/>
          <p:cNvSpPr/>
          <p:nvPr/>
        </p:nvSpPr>
        <p:spPr>
          <a:xfrm>
            <a:off x="571680" y="1928880"/>
            <a:ext cx="808668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gemene veiligheids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gemene VGM-regels, brand- en andere noodmeldingen en voorschriften, werkplekregels en verplicht PBM-gebrui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ijdelijke aanduiding voor inhoud 6"/>
          <p:cNvSpPr/>
          <p:nvPr/>
        </p:nvSpPr>
        <p:spPr>
          <a:xfrm>
            <a:off x="533520" y="3200400"/>
            <a:ext cx="8157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ke opleiding/instruc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plekgebonden of aan installaties, arbeidsmiddelen, machines, zones of omstandigheden en aan plaatsen verbonden risico’s en de daarbij behorende regels en voorzien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2 VGM-kennis een basisvoorwaar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ED4B-E89D-44BA-B198-571CB992568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inhoud 6"/>
          <p:cNvSpPr/>
          <p:nvPr/>
        </p:nvSpPr>
        <p:spPr>
          <a:xfrm>
            <a:off x="571680" y="928800"/>
            <a:ext cx="82864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GM-bijeenkomsten of toolboxmeet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m de kennis op peil te houden en de medewerkers te motiveren tot veilig werken, wordt regelmatig een onderwerp  behandeld en met de medewerkers bediscussieer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 de bijeenkomst wordt getoetst of de boodschap begrepen is, er worden duidelijke afspraken gemaakt en een verslag opgestel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mogelijke onderwerpen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methode, orde en netheid, PBM-gebruik, machines, gevaarlijke stoffen, procedures, incidenten en ongevallen, fysieke belasting, communicatie, inspecties en alle andere onderwerpen over VGM die aandacht verdien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160" y="1371240"/>
            <a:ext cx="803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verleg over VGM-beleid tussen werkgever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nemersvertegenwoord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wat werkgever en werknemers belangrijk vi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onderwerpen waarvoor de werkgever instemming of advies van de werknemersvertegenwoordiging (OR of VGM-commissie) nodig hee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 RI&amp;E en 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3F3E-BA27-48C5-9A8C-9C5BFD44B0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kstvak 6"/>
          <p:cNvSpPr/>
          <p:nvPr/>
        </p:nvSpPr>
        <p:spPr>
          <a:xfrm>
            <a:off x="642960" y="4857840"/>
            <a:ext cx="756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7215120" y="71280"/>
          <a:ext cx="18576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71280"/>
                    <a:ext cx="18576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8.3 Overleggen en regel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56800" y="999720"/>
            <a:ext cx="6715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7A0B-00EF-40DD-90DC-86610A0D00D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kstvak 6"/>
          <p:cNvSpPr/>
          <p:nvPr/>
        </p:nvSpPr>
        <p:spPr>
          <a:xfrm>
            <a:off x="928800" y="1192320"/>
            <a:ext cx="737712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werk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(eventueel  samen met toolboxmeeting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praktische aspecten van VGM-beheersi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. werkmethoden, opleidingen, gevaarlijke stoff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eventueel met een deskundi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en verslag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ver het gevoerde overleg en de gegeven adviez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Object 5"/>
          <p:cNvGraphicFramePr/>
          <p:nvPr/>
        </p:nvGraphicFramePr>
        <p:xfrm>
          <a:off x="7139160" y="797040"/>
          <a:ext cx="1861920" cy="127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39160" y="797040"/>
                    <a:ext cx="186192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295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a407"/>
                </a:solidFill>
                <a:latin typeface="Arial"/>
              </a:rPr>
              <a:t>Regelen en regel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71680" y="1294920"/>
            <a:ext cx="82152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zijn er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dagelijkse werkuitvoering veilig te laten verlop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onder vall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 T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Analyse LMRA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a4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 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* zie (ook) hoofdstuk 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32DF-AB3E-407E-BA32-D4C405DD5D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50:52Z</dcterms:modified>
  <cp:revision>201</cp:revision>
  <dc:subject/>
  <dc:title>Taak en positie VFP</dc:title>
</cp:coreProperties>
</file>