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jpeg" ContentType="image/jpeg"/>
  <Override PartName="/ppt/media/image1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2DA87-F87C-4160-843F-11121526622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8C893-A202-4215-9BA7-93D93FEB9E33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ABC19-7FF3-4472-A345-64FA4AC3858B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46634-18F1-4EC7-BAE7-33227DBF0FF1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0904-C719-49E9-AAB3-F4844CB78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0F5E-EBA2-474E-A252-D7216D0CF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33FF-F6F8-4671-BEE0-AF69A3105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0A75-D836-4DA9-95A2-BD6828273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07AA8-FC58-462F-81B5-76A8FEA93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A786D-2FD9-4AB3-8508-CDCEADDDC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0D0CC-BB3A-4554-9A69-11DE68E4B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BE47F-ECA2-4266-B6DB-A3FEC7204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BCBC4-1992-44C3-8EBF-15C74D415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80765-8D9C-4B9A-BEA2-E9346F80E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85B5C-51F1-49D9-8013-2665BF71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E65C-BFF8-4FCE-B7EC-E85C9D46B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C3E27-DDAC-4B6E-AF46-A4D41E6F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FA8E5-1F13-4072-9C06-21BCAA35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66FBF-E705-4812-8C10-CC590A72F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EB41B-9673-4AAB-B9F6-EDB3FEF1C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BB08F-6751-4160-B8AE-0BCF421F5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D28D9-C259-4FA8-BC14-581268BBC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A7F6B-64EB-4C05-85CB-A98B868F0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87B8D-522F-4131-96FC-61F146438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6C454-4C9B-4BC5-848F-EB2A2724F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B2FAD-ED32-4174-ADFD-E3CAE608E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FE5E-C183-40D0-9313-220B73465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A5AAC-0B1A-4C0E-93EF-B07B5484E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941AD-2B65-4AB7-A321-38E5D389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70DE8-B8A7-4180-A6FD-83991262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7281C-C3C2-451B-A24C-51FAB854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0EE76-865B-4785-ABFC-382EAAFCD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ADFFC-94E6-465B-8C92-E0379371C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BCCB9-0FDA-454D-898E-0DC778F4E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3E1C-749D-41F0-A00C-7139BFB4F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9BB6-42A2-4A79-BE62-75935CA9C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3B25-3062-4754-930A-97D63DC47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833B-1ED1-43DA-AE5F-93D997AA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782C-CEDA-48E2-8E46-D0DAC5F9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72AF-691C-4055-9FE1-A70E899B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image" Target="../media/image2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49573-AE24-4506-B7AF-4AEC9AB25BDF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7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6"/>
          <a:stretch/>
        </p:blipFill>
        <p:spPr>
          <a:xfrm>
            <a:off x="771516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7"/>
          <a:stretch/>
        </p:blipFill>
        <p:spPr>
          <a:xfrm>
            <a:off x="533520" y="5867280"/>
            <a:ext cx="838080" cy="542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2431-44B4-4BA2-90B1-E521A6D4847D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9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5334120" y="5181480"/>
            <a:ext cx="1447560" cy="96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"/>
          <p:cNvPicPr/>
          <p:nvPr/>
        </p:nvPicPr>
        <p:blipFill>
          <a:blip r:embed="rId4"/>
          <a:stretch/>
        </p:blipFill>
        <p:spPr>
          <a:xfrm>
            <a:off x="2362320" y="5181480"/>
            <a:ext cx="1039680" cy="10922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15A7E-88EB-46B1-9527-79265B26AEA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500040" y="500040"/>
            <a:ext cx="8429760" cy="421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a60d"/>
                </a:solidFill>
                <a:latin typeface="Arial"/>
              </a:rPr>
              <a:t>VCA V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9a60d"/>
                </a:solidFill>
                <a:latin typeface="Arial"/>
              </a:rPr>
              <a:t>Hoofdstuk 9 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9a60d"/>
                </a:solidFill>
                <a:latin typeface="Arial"/>
              </a:rPr>
              <a:t>Machines en gereedschappen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9a60d"/>
                </a:solidFill>
                <a:latin typeface="Arial"/>
              </a:rPr>
              <a:t>keuze, gebruik en onderhoud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B7F86-3C88-4236-AECE-5BDE0B2CC87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72320" cy="10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a911"/>
                </a:solidFill>
                <a:latin typeface="Arial"/>
              </a:rPr>
              <a:t>9.3 Algemene eisen en veiligheidsmaatregelen (5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71680" y="1142640"/>
            <a:ext cx="84326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odvoorzien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odemanskno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oodstopinrich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oed bereikbaar, duidelijk zichtbaar en herkenbaa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 gebruik noodstop: alleen op te starten met normale opstartprocedur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ulspanningschakelaar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chine herstart niet automatisch na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panningsonderbrek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oms: tweehandbediening en koppelscherm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D8876-86EC-4A71-A5A8-33BB23A2A9E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4 Vast opgestelde machines/gereedschapp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71320" y="1066680"/>
            <a:ext cx="7429320" cy="506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kolomboormachines en boormachi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80000"/>
              </a:lnSpc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ren bij het boren zij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sslaan van het werkstuk, als dit niet goed is ingeklem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tsel door breken van de boo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wonding door wegvegen van boorsel met de ha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wonding door span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ademen van spatten of nevel van koel- of snij-oli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80000"/>
              </a:lnSpc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 veilig werken is van bela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en doorzichtig scherm tussen de boor en de gebruik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t werkstuk goed vastgeze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orsel wegvegen met krullenkwast of krullenhaa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68DE2-062A-4035-9D52-2B4316F9C01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571680" y="1356840"/>
            <a:ext cx="80388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ast opgestelde slijpmachi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 er mis kan ga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ndvliegende deeltjes: ooglets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apot springen van de slijpste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lemmen van werkstuk tegen slijpste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wonding door het aanraken draaiende slijpste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ademen van schadelijk of giftig slijpsto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hoorschade bij langdurig slijpwe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CAD3A-AB4C-44D2-95F4-BEB7E26ABBC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a60d"/>
                </a:solidFill>
                <a:latin typeface="Arial"/>
              </a:rPr>
              <a:t>9.4 Vast opgestelde machines/gereedschapp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Afbeelding 5" descr="http://www.metabo.nl/uploads/tx_commerce/feinbilder/0300020003s_51_m.jpg"/>
          <p:cNvPicPr/>
          <p:nvPr/>
        </p:nvPicPr>
        <p:blipFill>
          <a:blip r:embed="rId2"/>
          <a:srcRect l="0" t="0" r="0" b="3860"/>
          <a:stretch/>
        </p:blipFill>
        <p:spPr>
          <a:xfrm>
            <a:off x="6715080" y="714240"/>
            <a:ext cx="2357640" cy="17859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571320" y="1285920"/>
            <a:ext cx="7786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ast opgestelde slijpmachi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80000"/>
              </a:lnSpc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ijpstenen voldoende rond, slijpkant vla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ee slijpstenen op één machine mogen niet te veel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schi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stand tussen leunspaan en werkstuk ≤ 3 m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ijkanten van de stenen afgescherm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ermruitj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45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venmes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80000"/>
              </a:lnSpc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het wer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nteren/vervangen slijpstenen door deskundig personeel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unspaan alleen verstellen bij stilstaande machin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ermruitje altijd gebrui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unspaan regelmatig bijste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637E3-9FD2-4C0F-9823-9788CAC38EB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a60d"/>
                </a:solidFill>
                <a:latin typeface="Arial"/>
              </a:rPr>
              <a:t>9.4 Vast opgestelde machines/gereedschappen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571320" y="1447560"/>
            <a:ext cx="81421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ast opgestelde cirkelza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ren vast opgestelde cirkelza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troffen of gegrepen worden door de zaag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 andere bewegende 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troffen worden door afgezaagde,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gvliegende delen van het produc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zondheidsklachten door inademen va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nderlijk of gevaarlijk sto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EDCFF-F1DE-4863-B25F-38DF7E31BB4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a60d"/>
                </a:solidFill>
                <a:latin typeface="Arial"/>
              </a:rPr>
              <a:t>9.4 Vast opgestelde machines/gereedschappen (4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71320" y="1428480"/>
            <a:ext cx="81565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ast opgestelde cirkelza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s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0760" indent="-2667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ouwm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90760" indent="-2667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schikte hulpgeleid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90760" indent="-2667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ofafzuiging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maatrege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0760" indent="-2667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whout gebruiken bij smalle werkstuk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90760" indent="-2667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aagblad juist inste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90760" indent="-2667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grote werkstukken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90760" indent="-2667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stentie van tweede persoon of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bruik rollenba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8990D-352A-4128-895F-3A11C53366A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429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a60d"/>
                </a:solidFill>
                <a:latin typeface="Arial"/>
              </a:rPr>
              <a:t>9.4 Vast opgestelde machines/gereedschappen (5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17" name="Afbeelding 5" descr="http://www.metabo.nl/uploads/tx_commerce/feinbilder/0104605000s_51_m.jpg"/>
          <p:cNvPicPr/>
          <p:nvPr/>
        </p:nvPicPr>
        <p:blipFill>
          <a:blip r:embed="rId2"/>
          <a:stretch/>
        </p:blipFill>
        <p:spPr>
          <a:xfrm>
            <a:off x="6500880" y="1714680"/>
            <a:ext cx="24051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5 Aangedreven handgereedschap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71680" y="1428480"/>
            <a:ext cx="72864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elektrisch aangedreven handgereedscha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bbel geïsoleer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iet gea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bbele isolatie biedt geen bescherming tegen water of vochtige omge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pneumatisch aangedreven handgereedscha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(perslucht = pneumatis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elmatig pauzeren bij trillende werkzaamhe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uchttoevoer na gebruik afslui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16E89-2632-4F6B-95AB-2DD2611B6A5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057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5 Aangedreven handgereedschap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571320" y="1428480"/>
            <a:ext cx="853884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aandachtspunten elektrische gereedschapp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slijpmachi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ijhandv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ermka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demansknop, bij slijpschijven groter dan 125 m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 de slijpschijf moet sta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am van de fabrika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imaal toelaatbaar toerent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meting van de schijf, toepassing en jaart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BCD52-C7A7-44E9-AA7C-DB8A0097CD6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85360" y="213840"/>
            <a:ext cx="820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5 Aangedreven handgereedschap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71320" y="1285560"/>
            <a:ext cx="778644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elektrische handslijpmachi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419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stuk vastzet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419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imale toerental van de schijf nooit overschrij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419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slijpmachine pas neerleggen als schijf stilsta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419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ijkant van de schijf niet gebrui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419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afbramen specifieke afbraamschijven gebruik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419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orslijpschijven niet voor afbramen gebrui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DE7F0-F394-4BB3-B400-AEBB3DDFA62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12952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5 Aangedreven handgereedschap (4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71320" y="928800"/>
            <a:ext cx="853884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elektrische handcirkelza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3360" indent="-272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ermkap schermt de buitenrand zaag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lledig a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03360" indent="-272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tomatische beschermkap over de buitenra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03360" indent="-272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ouwmes aanpassen aan diameter en dikt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n de zaa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03360" indent="-27252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maatrege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3360" indent="-272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aagblad en geleider zo instellen dat het zaagblad zo weinig mogelijk uitsteekt onder het werkstu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03360" indent="-272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ien nodig assistentie door tweede perso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03360" indent="-272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aag niet laten klem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03360" indent="-272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noer weghouden van zaagbla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DD713-DC2A-497A-AFE9-755667153AA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857232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 Machines en gereedschapp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71680" y="1214280"/>
            <a:ext cx="8501040" cy="45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1  Goed en veilig gereedscha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2  Veiligheidseisen: de achtergro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3  Algemene veiligheidseisen  en -maatrege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4  Vast opgestelde machines/gereedschapp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5  Aangedreven handgereedscha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6  Handgereedschap zonder aandrijv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84427-F28B-4D8C-99C3-F5896448561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835812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5 Aangedreven handgereedschap (5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71680" y="1428840"/>
            <a:ext cx="857232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elektrische nagel/nietmach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en/nagels kiezen bij apparaat, materiaal en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rm van werkstu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imale werkdruk control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op stevig op het werkstuk druk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der plaatsen als de geleider leeg i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rije hand weghouden van de machin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DF82E-53F7-4D02-827E-E498EAE2B38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2"/>
          <a:srcRect l="40227" t="0" r="8150" b="0"/>
          <a:stretch/>
        </p:blipFill>
        <p:spPr>
          <a:xfrm>
            <a:off x="7500960" y="0"/>
            <a:ext cx="1643040" cy="255888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792936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5 Aangedreven handgereedschap (6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71680" y="1147320"/>
            <a:ext cx="85723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elektrische kettingza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39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wendige trillingsdemp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39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ermbeugel, beschermka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39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bbele handbedien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39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vatten: trillingsvrij met antisli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39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hterste handvat beschermd tegen kettingbreuk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39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ttingrem, ketting opvangmechanis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39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gepaste opleidin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39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terugslag mag de ketting het lichaam niet ra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39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aagbroe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23D29-E17A-42B7-AD91-28F45960A1C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6 Handgereedschap zonder aandrijv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71320" y="1285560"/>
            <a:ext cx="85388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ham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919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p moet gaaf zij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919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ed vastzitten op ste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919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el ongeschon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919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moersleutels en slagsleut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919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beschadig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919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k precies passe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919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steel van moersleutels en slagsleutels niet verlen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919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bruik bij voorkeur ringsleut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5A397-DC03-4F54-B899-63B58FD71AC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Picture 6" descr=""/>
          <p:cNvPicPr/>
          <p:nvPr/>
        </p:nvPicPr>
        <p:blipFill>
          <a:blip r:embed="rId2"/>
          <a:stretch/>
        </p:blipFill>
        <p:spPr>
          <a:xfrm>
            <a:off x="6458040" y="857160"/>
            <a:ext cx="268596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85360" y="-360"/>
            <a:ext cx="8558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6 Handgereedschap zonder aandrijving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71680" y="1499760"/>
            <a:ext cx="85723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schroevendraai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cies op maat voor de schroefgleuf/krui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ad mag niet te scherp zij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leine werkstukken vastklemmen (steekwonde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ij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vig hef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vig vast aan vij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6E189-1B57-4594-8A6B-B2665BDEC0D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6 Handgereedschap zonder aandrijving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71320" y="1356840"/>
            <a:ext cx="67863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handza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maat en (soort) zaag aangepas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 het we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d geslep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de zet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eugelzaa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ad goed aanspann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de juiste richting mont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7E76B-4740-42FD-B89F-148D05E15ED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kstvak 4"/>
          <p:cNvSpPr/>
          <p:nvPr/>
        </p:nvSpPr>
        <p:spPr>
          <a:xfrm>
            <a:off x="914400" y="493704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163a"/>
                </a:solidFill>
                <a:latin typeface="Arial"/>
                <a:ea typeface="Arial"/>
              </a:rPr>
              <a:t>voor messen, zagen, beitels en boren geldt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163a"/>
                </a:solidFill>
                <a:latin typeface="Arial"/>
                <a:ea typeface="Arial"/>
              </a:rPr>
              <a:t>scherp is veiliger, als je er maar voorzichtig mee omgaat!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8" name="Afbeelding 6" descr="zagen.jpg"/>
          <p:cNvPicPr/>
          <p:nvPr/>
        </p:nvPicPr>
        <p:blipFill>
          <a:blip r:embed="rId2"/>
          <a:stretch/>
        </p:blipFill>
        <p:spPr>
          <a:xfrm>
            <a:off x="7531200" y="1071720"/>
            <a:ext cx="16128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3C4C-E0AB-4BFE-935A-F042795DDC8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Titel 2"/>
          <p:cNvSpPr/>
          <p:nvPr/>
        </p:nvSpPr>
        <p:spPr>
          <a:xfrm>
            <a:off x="571680" y="0"/>
            <a:ext cx="8318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  <a:ea typeface="Arial"/>
              </a:rPr>
              <a:t>9.6 Handgereedschap zonder aandrijving (4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Tijdelijke aanduiding voor inhoud 3"/>
          <p:cNvSpPr/>
          <p:nvPr/>
        </p:nvSpPr>
        <p:spPr>
          <a:xfrm>
            <a:off x="571680" y="928800"/>
            <a:ext cx="6140160" cy="45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Arial"/>
              </a:rPr>
              <a:t>koudbeitel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7936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geen bramen op de beitelkop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7936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andbescherming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7936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Arial"/>
              </a:rPr>
              <a:t>tang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7936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ek en het scharnier gaaf en schoo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7936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Arial"/>
              </a:rPr>
              <a:t>mess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7936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scherp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7936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angepast aan aard van het werk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7936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rstandig gebruik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855720" indent="-227160">
              <a:lnSpc>
                <a:spcPct val="100000"/>
              </a:lnSpc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nijd van het lichaam weg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55720" indent="-227160">
              <a:lnSpc>
                <a:spcPct val="100000"/>
              </a:lnSpc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houd uitschuifbaar lemmet kor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55720" indent="-227160">
              <a:lnSpc>
                <a:spcPct val="100000"/>
              </a:lnSpc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fbreekmessen afbreken met een tang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ijdelijke aanduiding voor dianummer 3"/>
          <p:cNvSpPr/>
          <p:nvPr/>
        </p:nvSpPr>
        <p:spPr>
          <a:xfrm>
            <a:off x="6985080" y="61768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3" name="Afbeelding 4" descr="images.jpg"/>
          <p:cNvPicPr/>
          <p:nvPr/>
        </p:nvPicPr>
        <p:blipFill>
          <a:blip r:embed="rId2"/>
          <a:stretch/>
        </p:blipFill>
        <p:spPr>
          <a:xfrm>
            <a:off x="6429240" y="928800"/>
            <a:ext cx="1714680" cy="1795320"/>
          </a:xfrm>
          <a:prstGeom prst="rect">
            <a:avLst/>
          </a:prstGeom>
          <a:ln w="0">
            <a:noFill/>
          </a:ln>
        </p:spPr>
      </p:pic>
      <p:pic>
        <p:nvPicPr>
          <p:cNvPr id="254" name="Afbeelding 7" descr="imagesCAPWV5WN.jpg"/>
          <p:cNvPicPr/>
          <p:nvPr/>
        </p:nvPicPr>
        <p:blipFill>
          <a:blip r:embed="rId3"/>
          <a:stretch/>
        </p:blipFill>
        <p:spPr>
          <a:xfrm>
            <a:off x="6858000" y="4000680"/>
            <a:ext cx="1725480" cy="1785600"/>
          </a:xfrm>
          <a:prstGeom prst="rect">
            <a:avLst/>
          </a:prstGeom>
          <a:ln w="0">
            <a:noFill/>
          </a:ln>
        </p:spPr>
      </p:pic>
      <p:pic>
        <p:nvPicPr>
          <p:cNvPr id="255" name="Afbeelding 8" descr="tangen.jpg"/>
          <p:cNvPicPr/>
          <p:nvPr/>
        </p:nvPicPr>
        <p:blipFill>
          <a:blip r:embed="rId4"/>
          <a:srcRect l="0" t="0" r="0" b="35266"/>
          <a:stretch/>
        </p:blipFill>
        <p:spPr>
          <a:xfrm>
            <a:off x="6324480" y="2881440"/>
            <a:ext cx="246564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1320" y="214200"/>
            <a:ext cx="835812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1 Goed en veilig gereedschap 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3AE62-7C7A-42C6-87CB-A1EB40531F17}" type="slidenum"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71680" y="149976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rol leidinggevend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uze bij aanscha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orlichting en instructie gev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derhou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ur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vang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ezicht op juist gebrui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varingen evalueren met uitvoeren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31816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1 Goed en veilig gereedschap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7FC53-BAF2-4A45-B8E9-09C4BCEDA5C8}" type="slidenum"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71680" y="1499760"/>
            <a:ext cx="85723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algemene gevaren van gereedschappen zijn diver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 letsel gebruiker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nijden, knellen enz.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sel bij omstander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wegschietend materiaal, straling enz.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chamelijke belastingseffecten ook op termij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rillingen, straling, vrijkomende stoffen, lawaai enz.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oorzaken schade / letsel in de omgev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xplosies door vonken, wegschietende delen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tasten constructiesterkte enz.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857232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9.2 Veiligheidseisen </a:t>
            </a:r>
            <a:br>
              <a:rPr sz="2800"/>
            </a:br>
            <a:r>
              <a:rPr b="0" lang="en-US" sz="2000" spc="-1" strike="noStrike">
                <a:solidFill>
                  <a:srgbClr val="c0163a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0163a"/>
                </a:solidFill>
                <a:latin typeface="Arial"/>
              </a:rPr>
              <a:t>voor arbeidsmiddelen en machines 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71320" y="1500120"/>
            <a:ext cx="84294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ij gebruik kunnen er ongevallen ontsta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aspec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ilig ontwerp, goedgemaakt produc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bricage met veiligheidsvoorzien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d onderhoud en regelmatig (laten) keu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ldoende kennis en vaardigheid van de gebruiker door opleiding, instructie en train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ilig werkgedra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ilige werkomge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58C1D-7CF4-4977-B165-DFF236F65539}" type="slidenum"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3 Algemene eisen en veiligheidsmaatregel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71320" y="1285560"/>
            <a:ext cx="81565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machines en gereedschapp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goede staa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 afscherming van bewegende 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iodiek gekeur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ldigheid keuring is zichtbaar (kleur/sticker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bruiksvoorschrif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derhoudsvoorschrif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al van de gebruiker is toegepa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35EA3-66CF-4535-84AF-CF7818A55E6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15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a60d"/>
                </a:solidFill>
                <a:latin typeface="Arial"/>
              </a:rPr>
              <a:t>9.3 Algemene eisen en veiligheidsmaatregel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71320" y="1285560"/>
            <a:ext cx="81565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e mogen met machines werken en ho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sen aan bedieners van machi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der dan 18 jaa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en loshangende kleding, sieraden of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ren dra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en handschoenen dragen bij mogelijk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act met roterende (draaiende) onder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veiligingen niet overbruggen, onklaar maken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 verwijd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oit draaiende machine onbeheerd achterla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ats en functie noodstop kenn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8DC2A-C674-408E-83F7-FF7BBC888DC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a60d"/>
                </a:solidFill>
                <a:latin typeface="Arial"/>
              </a:rPr>
              <a:t>9.3 Algemene eisen en</a:t>
            </a: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9a60d"/>
                </a:solidFill>
                <a:latin typeface="Arial"/>
              </a:rPr>
              <a:t>veiligheidsmaatregelen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71320" y="1357200"/>
            <a:ext cx="835812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wuste inzet van technie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ruimtes met explosiegevaa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271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sieveilige machines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271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sieveilig aangedreven gereedsch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27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 verhogen do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ilige spann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de stofafzuig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en rem om de machine te stopp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en noodsto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3D27B-65B3-49AA-B2A6-FBDC55A70BF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53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a60d"/>
                </a:solidFill>
                <a:latin typeface="Arial"/>
              </a:rPr>
              <a:t>9.3 Algemene eisen en veiligheidsmaatregelen (4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71320" y="1428480"/>
            <a:ext cx="778644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egankelijkheid en werkbeheers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loer rond machines en vast opgesteld gereedschap opgeruimd, schoon, vlak, droog en stroe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ldoende loop- en bewegingsruimt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ordachte werkaanpa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 de juiste manier bedienen (instructiekaart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vaarlijke zones afgeschermd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oit de machine laten draaien met open aandrij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onderhoud machines of gereedschappen UI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BM op de juiste manier gebruiken en onderhou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BED8F-8A06-41D6-8F13-7227FACB13F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15:19:44Z</dcterms:created>
  <dc:creator>de Groot</dc:creator>
  <dc:description/>
  <dc:language>en-US</dc:language>
  <cp:lastModifiedBy>jrijdes</cp:lastModifiedBy>
  <dcterms:modified xsi:type="dcterms:W3CDTF">2010-02-16T12:51:53Z</dcterms:modified>
  <cp:revision>122</cp:revision>
  <dc:subject/>
  <dc:title>Taak en positie VFP</dc:title>
</cp:coreProperties>
</file>