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1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8.wmf" ContentType="image/x-wmf"/>
  <Override PartName="/ppt/media/image17.png" ContentType="image/png"/>
  <Override PartName="/ppt/media/image16.png" ContentType="image/png"/>
  <Override PartName="/ppt/media/image15.png" ContentType="image/png"/>
  <Override PartName="/ppt/media/image1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2.png" ContentType="image/png"/>
  <Override PartName="/ppt/media/image10.wmf" ContentType="image/x-wmf"/>
  <Override PartName="/ppt/media/image7.wmf" ContentType="image/x-wmf"/>
  <Override PartName="/ppt/media/image1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11049000" cy="7239000"/>
  <p:notesSz cx="6850063" cy="97488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0800" cy="974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1440" y="0"/>
            <a:ext cx="2970000" cy="487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647640" y="738000"/>
            <a:ext cx="5556240" cy="3641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1440" y="9259920"/>
            <a:ext cx="2970000" cy="487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260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i="1" lang="nl-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203E7EA8-F124-42B5-9BD1-45854DEC9CAC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8F89EFC4-F40A-49AC-9821-8068187D51BC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9FBA09CD-46D3-4F6E-BF63-0DF1C9F105D7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DEDF128A-4EA5-42C6-869E-987768DD30C7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4E61DA06-EE23-4B8E-AFDF-DBD0080CFEC7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1834431C-C976-47E0-B50C-1FB581746D66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DD1E4007-7F61-49C3-924F-E029CFAC49C8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93B69254-94C7-472F-89EE-E48A641175F0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BA1EDF25-7F37-49C2-BFD8-D7E241461D1D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CCFC2730-B8E4-418E-9944-FA43BDA6857B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8FE3B41E-2F0F-46B3-982A-A6FF5C53F2A0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DA860643-6278-417A-97D2-2272F7AC2316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09F5BE5F-CD4D-4048-B40F-42D80FC25501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59F9B10F-664B-4C4F-BBA8-081B6911715E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4199A219-081A-4639-AAE2-313613A87AFE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4245E448-422C-4B22-8E7B-3DE6593B71C0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3716F27D-4EAA-4A9B-98EE-AEE8658A0DD8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6AFB3E12-B5AD-44AA-A5EC-BC04E07A447E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560D59CB-7907-4472-B6B6-60E1BACD50B2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87FB7429-FB33-44CE-A38B-B46448C38A02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FD4773E6-FCD6-4482-86E6-08959478667C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77FB49C7-2AD6-4E09-ABC6-6F034483A710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F37A58F0-389E-43C7-B60C-7ED5AD54C394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544827ED-80FF-4B23-8F94-71DC96500365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4A4EA37F-6DEE-402D-92AD-44424D136531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78940C9C-83F3-48D0-A814-E16EFC0CC584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A0194572-4EAF-49A7-B213-27FAAFBDBA6A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EDDFDFF3-1EE0-4A2C-B393-E2204E970916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8F8E7245-C92B-4BFF-BC19-6EE209B0E93B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F3B69CCD-28DD-457E-BA5B-01D86C028E08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13DA6BA3-50C3-4E22-8586-C722905DBFEA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B3D991BA-78A6-42FB-9DBD-E687410A0457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CC14B4B9-8485-4461-83B6-ED9393012253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89D99C52-731F-4DFE-B84F-AC9E680E0F1E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4CFCB498-3FE3-4F8E-A9AE-728C29B5BFE6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1B61709A-FCFD-43AB-B99B-CC451C02F193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65CDE9F9-F18F-4295-93BA-334D6C440986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75FB5DE3-7412-459D-A9C0-6178A32AA08D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76E983F7-C965-402C-87D6-2E5D01C70CAB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73C67E96-929B-4279-AE37-7D72A271C67C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4A259F94-8B1D-484E-BC6C-A42CC039303D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43524A7D-4BF9-4B58-A399-7A02C0817436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980DDCED-836C-4EFA-B77F-879E71B390EC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0558381F-F9D5-41FA-BBA6-E40D5FE3BC02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A975EAE7-6562-4E4D-A512-0C82D72CB59F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39159-BBFA-4D88-A080-C720B22A1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28720" y="4360680"/>
            <a:ext cx="939168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07992-57CE-4C28-BD81-46FA16554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45828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641200" y="2091960"/>
            <a:ext cx="45828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28720" y="4360680"/>
            <a:ext cx="45828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641200" y="4360680"/>
            <a:ext cx="45828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15264-D6C4-4388-9AC6-143C995D3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30240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004280" y="2091960"/>
            <a:ext cx="30240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179840" y="2091960"/>
            <a:ext cx="30240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28720" y="4360680"/>
            <a:ext cx="30240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004280" y="4360680"/>
            <a:ext cx="30240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179840" y="4360680"/>
            <a:ext cx="30240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D5C02-3914-41FB-B878-E1E5153FA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6399D-6B20-4836-8E47-70F8A529F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0B9C7-5B60-4DB5-8244-42E490E36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45828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641200" y="2091960"/>
            <a:ext cx="45828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41C1E-A73A-489D-88AB-5DCCF5C4A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8E9DE-7CA7-4FC8-9C41-289713AE4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8720" y="644400"/>
            <a:ext cx="9391680" cy="559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FF2ED-AA84-4596-AC8F-99C14FB22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45828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641200" y="2091960"/>
            <a:ext cx="45828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28720" y="4360680"/>
            <a:ext cx="45828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A3F54-7C44-4D90-B4D9-8505A1E32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45828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641200" y="2091960"/>
            <a:ext cx="45828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641200" y="4360680"/>
            <a:ext cx="45828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54DB2-6914-4B53-A2AB-8A5CAE695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45828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641200" y="2091960"/>
            <a:ext cx="45828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28720" y="4360680"/>
            <a:ext cx="939168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BDBFE-DF72-45B9-8D7B-8F0FCED4F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28720" y="6594120"/>
            <a:ext cx="2301840" cy="48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774600" y="6594120"/>
            <a:ext cx="3498840" cy="48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18560" y="6594120"/>
            <a:ext cx="2301840" cy="48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D5950A1A-8EB1-417C-A4C6-95B22E4EB6D7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4B590521-5BAC-413D-906E-66AB85C2124E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44640" y="664920"/>
            <a:ext cx="9391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ASISVEILIGHEID (VCA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657440" y="2022120"/>
            <a:ext cx="7734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Handgereedschap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machinaal gereedschap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lassen en bran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ijdelijke aanduiding voor datum 1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ijdelijke aanduiding voor dianummer 3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CD5999E6-5A43-4D5B-BF31-BA40200C8864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2" descr=""/>
          <p:cNvPicPr/>
          <p:nvPr/>
        </p:nvPicPr>
        <p:blipFill>
          <a:blip r:embed="rId1"/>
          <a:stretch/>
        </p:blipFill>
        <p:spPr>
          <a:xfrm>
            <a:off x="698400" y="1473120"/>
            <a:ext cx="9657000" cy="428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3991E4AB-BC70-431A-92B2-78B538364450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Eisen elektrisch handgereedsch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oet jaarlijks worden gekeu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en beschadigi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oed onderhou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CE666488-D370-4E25-8FE4-44B4C5CFA765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andslijpmachines, doorslijpschijven en afbraamschijv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p slijpschijven vermel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Naam fabrik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aximum toelaatbaar toere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oort bindmid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Korrelgroot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tructu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ardhe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fmeting van de schij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Toepas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58AD705B-C381-44B1-AFCC-3DD93947F7DF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lijpt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"/>
          <p:cNvPicPr/>
          <p:nvPr/>
        </p:nvPicPr>
        <p:blipFill>
          <a:blip r:embed="rId1"/>
          <a:stretch/>
        </p:blipFill>
        <p:spPr>
          <a:xfrm>
            <a:off x="2616120" y="1752480"/>
            <a:ext cx="5918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550E254E-A5DC-47B1-9F64-20EEDDD311A0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Risico’s slijpmach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belangrijkste risico’s bij h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erken met een slijpmach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zij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Rondvliegende deeltj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et aanraken van de slijpschij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et uit elkaar springen van de slijpschij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rand door ontsteking van brandbare stoff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Lawaa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ampen en st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D4074585-BD8A-41B2-9431-B2EF03DA6D04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lijpschijv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2000"/>
          </a:bodyPr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Twee groepen van schijven zij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oorslijpschijv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fbraamschijv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99571068-83E1-4568-8CFF-8A0A157E5784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lijpschijv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Object 4"/>
          <p:cNvGraphicFramePr/>
          <p:nvPr/>
        </p:nvGraphicFramePr>
        <p:xfrm>
          <a:off x="3157560" y="2682720"/>
          <a:ext cx="4751280" cy="2351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57560" y="2682720"/>
                    <a:ext cx="4751280" cy="235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CBD60272-B3A9-460A-B121-633BA869756A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lijpen met de handslijpmach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r moet rekening gehouden wor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e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et type handslijpmach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et vermogen van de mach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gewenste afmeting van de schij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et materiaal dat men gaat slijp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et resultaat dat men wil hebb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grootte en de vorm van het materia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stand waaronder men werk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ervaring en het vakmansch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2B45F8AC-E769-40E1-8075-BB47BBF85540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Pneumatisch handgereedsch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erkt op samengeperste luc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bruik van dodemanskn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Regels voor het werken m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pneumatisch handgereedschap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Zorg voor voldoende onderhou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bruik gehoorbescher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bruik zachte, leren handschoe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Regelmatig rust ne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1B302007-E6E7-4FE8-87B3-FB4DAE2DF5F9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ogedruk reinig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isico’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etsel door binnendringen sta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troffen worden door weggeslagen gereedschap of materiaaldeeltj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lootstelling giftige stoffen bij gevelreini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F20B57F5-80DF-47E3-A1AC-F4E2C40C1D4D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Gereedsch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23440" y="2091960"/>
            <a:ext cx="96966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es soorten gereedschap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(eenvoudig) handgereedsch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lektrisch handgereedsch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neumatisch handgereedsch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pparaten onder hoge dru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ast opgestelde gereedschapsmach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asapparatu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0266732E-B524-4E67-B097-017E0CEC5092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Eisen hogedruk reinig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ij werkdruk &gt; 100 Ba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inimaal 18 ja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puitpistool met dodemanskn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eveiligd tegen ongewild inschake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ag niet in “AAN” stand vergrendeld kunnen wor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Pomp voorzien van noodst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dequate opleiding verplic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16E2A571-9E80-4D5A-AF99-B0C7A38CB9D1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Gebruik hogedruk reinig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puiten op asbesthoudend materiaal verbo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ij werken met chemicaliën zijn persoonlijke beschermingsmiddelen verplic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9DF7F222-B90F-4C31-A5EE-322DA91835FE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Algemene regels bij machines met bewegende dele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org voor goed aansluitende kle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org dat lange haren niet bij de bewegende delen kunnen ko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raag geen handschoenen en rin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lem het werkstuk op een werkban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raag een veiligheidsbril met zijkleppen en evt. adem- en gehoorbescherm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org voor voldoende ruim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6AF78853-EB61-45DE-B63E-7827395646B8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Algemene regels bij machines met bewegende delen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iet laten afleiden tijdens de werkzaamhe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em het gereedschap niet met de hand af, maar laat het uitdraai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org voor voldoende lic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an- en uit schakela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rek gereedschap nooit aan het snoer of de luchtsla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org voor goed onderhoud van gereedsch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314CED1B-26F9-4CF8-8BAF-C5B92C85C307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Gereedschapsmach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e behandelen de volgen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achin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Cirkelza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ast opgestelde boormach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ast opgestelde slijpmach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lgemene regels voor deze mach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oed onderhou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Jaarlijkse keu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gebruiker moet een goede instructie krij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Ruim opgeste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40579442-B719-4A50-A1C0-9516563FC0DA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44640" y="14436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Cirkelzag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28720" y="1372680"/>
            <a:ext cx="9391680" cy="50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 risico’s zij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egschietende de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kneld raken van armen of benen in de opspantoestel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er abuis opstarten van de mach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plopen van gehoorsch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nademen van houtst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3ECC55C3-596F-479C-B4A6-162541E2A9FA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28720" y="244080"/>
            <a:ext cx="9391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De universele cirkelzaagmach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28720" y="1572840"/>
            <a:ext cx="9391680" cy="48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eisen zij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achine moet een goede beschuttingskap hebb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achine moet een spouwmessupport hebben dat bij het zaagblad p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achine moet een instelbare en goed uitgevoerde hulpgeleider hebb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én of meer aansluitingen voor de stofaanzuig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anwezigheid van een duwhout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Zo hoog mogelijk instellen van het zaagbl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ijdelijke aanduiding voor datum 1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ijdelijke aanduiding voor dianummer 3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5D68BB3F-848D-4429-8521-A420268F6DD5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3" descr="C:\Documents and Settings\Inge Nagle\Mijn documenten\Mijn afbeeldingen\cirkelzaag.bmp"/>
          <p:cNvPicPr/>
          <p:nvPr/>
        </p:nvPicPr>
        <p:blipFill>
          <a:blip r:embed="rId1"/>
          <a:stretch/>
        </p:blipFill>
        <p:spPr>
          <a:xfrm>
            <a:off x="762120" y="685800"/>
            <a:ext cx="9524880" cy="55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88121ECC-29C5-4B62-BD2E-AFCB09703BF5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De universele cirkelzaagmach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4"/>
          <p:cNvSpPr/>
          <p:nvPr/>
        </p:nvSpPr>
        <p:spPr>
          <a:xfrm>
            <a:off x="1230480" y="2674800"/>
            <a:ext cx="8588160" cy="368640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pmerking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oor de bouwcirkelzaag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ach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ldt de aanwezigheid v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ulspanningsschakelaar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A183C01D-731B-45BA-82B0-CC036D9B86C7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Vast opgestelde boormach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e risico’s zijn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“Happen” in het niet vastgezette werkstu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reken van de bo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Wegvegen van het boorsel met de ha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Niet gesloten aandrijv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Verstellen van de V-snaar als de machine nog niet stilsta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Gebruiken van koel- en snijoli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C9D71392-047A-4C1B-A1C5-C920A1B6EB94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andgereedsch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ngevallen met handgereed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chap worden veroorzaakt doo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 Slecht onderhou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Klein gereedschap zelf onderhouden, ander gereedschap laten repareren of vernieuw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erkeerd gebrui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reedschap gebruiken waar het voor bedoeld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97429CEA-4531-46C1-AAB0-EF3244CCA485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oormach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4" descr=""/>
          <p:cNvPicPr/>
          <p:nvPr/>
        </p:nvPicPr>
        <p:blipFill>
          <a:blip r:embed="rId1"/>
          <a:stretch/>
        </p:blipFill>
        <p:spPr>
          <a:xfrm>
            <a:off x="1676520" y="1828800"/>
            <a:ext cx="723888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9BCDA6E4-0CCE-486B-98DB-66F9A022FA03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44640" y="444600"/>
            <a:ext cx="9391680" cy="8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Vast opgestelde slijpmach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28720" y="1292040"/>
            <a:ext cx="9391680" cy="542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risico’s zij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Te hoog toere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eschadiging van de ste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plinters in het o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hoorbeschadig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aatregel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lleen monteren door deskundig persone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oed afschermen van de zijkanten van de mach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bruik van beschermru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fstand tussen leunspaan en slijpsteen mag niet meer dan 3 mm bedra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Leunspaan mag niet U-vormig zijn uitgesle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C93AFA64-DAA4-440E-8AFD-0B2E0A650C0D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28720" y="244080"/>
            <a:ext cx="9391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lijpmach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4" descr=""/>
          <p:cNvPicPr/>
          <p:nvPr/>
        </p:nvPicPr>
        <p:blipFill>
          <a:blip r:embed="rId1"/>
          <a:stretch/>
        </p:blipFill>
        <p:spPr>
          <a:xfrm>
            <a:off x="1104840" y="1444680"/>
            <a:ext cx="4000680" cy="26622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5" descr=""/>
          <p:cNvPicPr/>
          <p:nvPr/>
        </p:nvPicPr>
        <p:blipFill>
          <a:blip r:embed="rId2"/>
          <a:stretch/>
        </p:blipFill>
        <p:spPr>
          <a:xfrm>
            <a:off x="5257800" y="4140360"/>
            <a:ext cx="4343400" cy="252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7CD1FBBC-D268-4026-B369-F95F059382F5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Lassen en slijpe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lektrisch lass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ateriaal plaatselijk verhitten met behulp van elektrische vlambo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utogeen lass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ateriaal verhitten met behulp van een gasvlam, versterkt door extra zuurst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952F9135-2A15-4159-923C-B3CD2B5B104F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Lassen en slijpen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meenschappelijke gevar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rand- en explosiegeva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randbaar materiaal dat achter blijft op de werkpl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Lassen aan tanks en leidi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A21FA47A-D07D-4E38-AA4C-18442DB889FF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Nemen van preventieve maatrege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bruik van brandblusser en brandwac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bruik van lasbr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bruik van gehoorbescher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bruik van beschermende kle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fzuiging en/of ventilat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E71EBF32-D926-4BF3-A7B1-97631C3531EC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PBM’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4" descr=""/>
          <p:cNvPicPr/>
          <p:nvPr/>
        </p:nvPicPr>
        <p:blipFill>
          <a:blip r:embed="rId1"/>
          <a:stretch/>
        </p:blipFill>
        <p:spPr>
          <a:xfrm>
            <a:off x="1039680" y="1994040"/>
            <a:ext cx="3075120" cy="204444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5" descr=""/>
          <p:cNvPicPr/>
          <p:nvPr/>
        </p:nvPicPr>
        <p:blipFill>
          <a:blip r:embed="rId2"/>
          <a:stretch/>
        </p:blipFill>
        <p:spPr>
          <a:xfrm>
            <a:off x="6400800" y="1828800"/>
            <a:ext cx="3687840" cy="209556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6" descr=""/>
          <p:cNvPicPr/>
          <p:nvPr/>
        </p:nvPicPr>
        <p:blipFill>
          <a:blip r:embed="rId3"/>
          <a:stretch/>
        </p:blipFill>
        <p:spPr>
          <a:xfrm>
            <a:off x="2743200" y="4419720"/>
            <a:ext cx="3110040" cy="20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09721783-9997-42D4-8F25-D19281FCE077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Elektrisch lass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4" descr=""/>
          <p:cNvPicPr/>
          <p:nvPr/>
        </p:nvPicPr>
        <p:blipFill>
          <a:blip r:embed="rId1"/>
          <a:stretch/>
        </p:blipFill>
        <p:spPr>
          <a:xfrm>
            <a:off x="1919160" y="1968480"/>
            <a:ext cx="6932880" cy="44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79BDA444-D47B-47C5-8A9D-5C62123E2D03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Extra gevaren elektrisch lass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Giftige gassen en damp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Straling (gevolg = lasoge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Elektrocuti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Te nemen maatregelen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Zorg voor goede beschermende kled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Gebruik een laskap of lashel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e helper moet ook een lasbril drag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Houd werkstukklem, de elektrode, lastang niet onder de ar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ijdelijke aanduiding voor datum 1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ijdelijke aanduiding voor dianummer 3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2006AE58-CEBA-4CA5-BB79-6AE315E31091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3" descr="C:\Documents and Settings\Inge Nagle\Mijn documenten\Mijn afbeeldingen\lassen.bmp"/>
          <p:cNvPicPr/>
          <p:nvPr/>
        </p:nvPicPr>
        <p:blipFill>
          <a:blip r:embed="rId1"/>
          <a:stretch/>
        </p:blipFill>
        <p:spPr>
          <a:xfrm>
            <a:off x="1143000" y="587520"/>
            <a:ext cx="8763120" cy="60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BFFE5C85-39C1-48B7-B0A5-5E99E262F143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28720" y="194760"/>
            <a:ext cx="9391680" cy="1078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Risico’s handgereedsch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28720" y="1492200"/>
            <a:ext cx="9391680" cy="5122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Uitschieten, vallen of struike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nijden, knellen of plet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troffen worden door wegschietende de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oorboord of doorstoken wor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chaven of schu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hoorschade door lawaa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ijdelijke aanduiding voor datum 1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ijdelijke aanduiding voor dianummer 3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5F0A5F26-B5B4-46CE-BE4B-D09FA20591BF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3" descr="C:\Documents and Settings\Inge Nagle\Mijn documenten\Mijn afbeeldingen\afzuiging.bmp"/>
          <p:cNvPicPr/>
          <p:nvPr/>
        </p:nvPicPr>
        <p:blipFill>
          <a:blip r:embed="rId1"/>
          <a:stretch/>
        </p:blipFill>
        <p:spPr>
          <a:xfrm>
            <a:off x="1944720" y="966960"/>
            <a:ext cx="7157880" cy="53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71884D6D-746E-4232-89F5-852AE43F2473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Extra gevaren autogeen lass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bruik van acetyleen en propa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bruik van zuivere zuurst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Te nemen maatregel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Zorg dat explosiegrenzen niet worden bereik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la propaanflessen niet op in kelders en put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bruik geen zuurstof als werklucht of om te ventile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oorkom zuurstof lekk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ijdelijke aanduiding voor datum 1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ijdelijke aanduiding voor dianummer 3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43DFDACA-2EB9-4C9C-B2DD-3DE8266B3B9D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3" descr="C:\Documents and Settings\Inge Nagle\Mijn documenten\Mijn afbeeldingen\gasfles.bmp"/>
          <p:cNvPicPr/>
          <p:nvPr/>
        </p:nvPicPr>
        <p:blipFill>
          <a:blip r:embed="rId1"/>
          <a:stretch/>
        </p:blipFill>
        <p:spPr>
          <a:xfrm>
            <a:off x="2795760" y="676440"/>
            <a:ext cx="5457600" cy="588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ijdelijke aanduiding voor datum 1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ijdelijke aanduiding voor dianummer 3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D76374DD-0951-449C-BA2A-A973B4C5B9BA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3" descr="C:\Documents and Settings\Inge Nagle\Mijn documenten\Mijn afbeeldingen\gasfles1.bmp"/>
          <p:cNvPicPr/>
          <p:nvPr/>
        </p:nvPicPr>
        <p:blipFill>
          <a:blip r:embed="rId1"/>
          <a:stretch/>
        </p:blipFill>
        <p:spPr>
          <a:xfrm>
            <a:off x="1905120" y="304920"/>
            <a:ext cx="7223040" cy="646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Tijdelijke aanduiding voor datum 1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ijdelijke aanduiding voor dianummer 3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00A6E68F-1E43-4E56-B019-229654AEA5D5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2" descr=""/>
          <p:cNvPicPr/>
          <p:nvPr/>
        </p:nvPicPr>
        <p:blipFill>
          <a:blip r:embed="rId1"/>
          <a:stretch/>
        </p:blipFill>
        <p:spPr>
          <a:xfrm>
            <a:off x="262080" y="604800"/>
            <a:ext cx="10529640" cy="603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ijdelijke aanduiding voor datum 1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ijdelijke aanduiding voor dianummer 3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45187037-1E0A-4D58-829D-FBB1A581F69A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Object 2"/>
          <p:cNvGraphicFramePr/>
          <p:nvPr/>
        </p:nvGraphicFramePr>
        <p:xfrm>
          <a:off x="3398760" y="274680"/>
          <a:ext cx="4152960" cy="629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98760" y="274680"/>
                    <a:ext cx="4152960" cy="629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8" name="Picture 5" descr="C:\Documents and Settings\Inge Nagle\Mijn documenten\Mijn afbeeldingen\hamer.bmp"/>
          <p:cNvPicPr/>
          <p:nvPr/>
        </p:nvPicPr>
        <p:blipFill>
          <a:blip r:embed="rId3"/>
          <a:stretch/>
        </p:blipFill>
        <p:spPr>
          <a:xfrm>
            <a:off x="685800" y="179280"/>
            <a:ext cx="9829800" cy="633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EE7922D1-95CC-4751-98D8-69E0FF0240C5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44640" y="693360"/>
            <a:ext cx="9391680" cy="97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Eisen handgereedsch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12800" y="214128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reedschap gaaf en sch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amers met gladde, goed geborgde ste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oersleutels die passen en niet versleten zij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ijlen met handv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chroevendraaiers zonder beschadigin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itels, doorslagen en centerponsen zonder bra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angen met gave en schone b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2912944A-2AEC-41EC-855E-F8D64463CCAB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28720" y="344520"/>
            <a:ext cx="9391680" cy="8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Gebruik handgereedsch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44640" y="1522080"/>
            <a:ext cx="9391680" cy="514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Alleen gebruiken waarvoor bestemd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Moersleutels nooit verlenge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Gereedschap passend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Van je af snijden en bikke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Kleine werkstukken vast zette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Oppassen voor elektrakab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PBM’s gebruike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59ED76D9-7B0C-46B9-B0FE-CD2426B7645B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Elektrisch handgereedsch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lektriciteit kan op 2 manie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vaarlijk zij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lektrocutie (stroom door het lichaa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onkoverslag (kortsluiting in of vlakbij het apparaa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ze risico’s zijn te verklei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oor te werken met veilige spann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aximaal 50 Volt wisselspan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aximaal 120 Volt gelijkspan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1DCD3454-8F9D-48BC-839A-539028F84CE4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Risico’s elektrisch handgereedsch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rand- of explos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randwon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wegende de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egschietende deeltj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t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hoorsch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19T21:06:26Z</dcterms:created>
  <dc:creator>Hajo Kleijburg</dc:creator>
  <dc:description>Revisie 0</dc:description>
  <dc:language>en-US</dc:language>
  <cp:lastModifiedBy>Hans Mulder</cp:lastModifiedBy>
  <cp:lastPrinted>2000-05-31T17:51:36Z</cp:lastPrinted>
  <dcterms:modified xsi:type="dcterms:W3CDTF">2016-10-03T10:34:19Z</dcterms:modified>
  <cp:revision>27</cp:revision>
  <dc:subject>Les 5</dc:subject>
  <dc:title>Basisveiligheid (VCA)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atum voltooid">
    <vt:filetime>2000-03-14T23:00:00Z</vt:filetime>
  </property>
</Properties>
</file>