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5BD-414D-4156-8D41-031CB6D4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CCE-A7C2-4762-847C-931DF8E2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24E-4B24-4348-AFC1-687D261F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8BA-D550-4807-9703-D11F2A24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BC1-56E7-42C8-A26C-CDF7105F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905-CA95-4AD7-BBC6-EFC1F095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2BA-40DC-4718-B499-3DBC46CC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953-D743-4482-B2B7-12876B5A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F75-9752-48FB-8132-D5BBF247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F01-E750-48C4-9F7D-7FD4FF18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A86-9A20-43EE-B204-774674F4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F4F-6938-4B29-9733-C6D99570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1D51-0332-4376-8D19-98708AFABBB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54880" y="3048120"/>
            <a:ext cx="16891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0280" y="3578400"/>
            <a:ext cx="1725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s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lucht 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86520" y="0"/>
            <a:ext cx="2157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stalen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en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len neus en stalen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kleding wisselen indie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nasgordels goed passend en afgestemd zijn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harnasgordels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harnasgordels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7120" y="2561400"/>
              <a:ext cx="460080" cy="994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438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ndom het gehele 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2640" y="1523880"/>
            <a:ext cx="1584360" cy="122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3200400"/>
            <a:ext cx="1584360" cy="10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1480" y="4718160"/>
            <a:ext cx="13525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autogeen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48520" y="2359080"/>
            <a:ext cx="1798560" cy="16225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48520" y="4498920"/>
            <a:ext cx="1773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4:13Z</dcterms:modified>
  <cp:revision>36</cp:revision>
  <dc:subject/>
  <dc:title>Test</dc:title>
</cp:coreProperties>
</file>