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132D-6FAB-4C59-97EB-F851DED2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A10C-C632-4F86-A9F6-986723D0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FDCA-0599-4248-9F53-D52E667D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CF0B-FDBB-4DA5-89AC-5DF92F5A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71A-0397-4ADE-A3F6-FF3685D1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895B-FFC8-4E04-847C-3C5E05CC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8A7-969C-4D92-BAEE-150DE77C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475-2FB3-4C58-AD19-7696C4B9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BEF4-C54F-4752-921F-B3755135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6B65-D482-4940-8DDF-549C758A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53C-9005-4A53-AA94-2519F541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D9B-112C-470D-9592-E587BED5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4DF4-A227-4F28-BF87-90E1E60EEF5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6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Overleggen en reg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o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ftelijk vastgelegd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ikbaar zijn voor betreffende/betrok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toetst worden of deze regels begrepen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treft eisen en 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veilig te werken met een bepaald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ilige uitvoering van bepaald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kstvak 4"/>
          <p:cNvSpPr/>
          <p:nvPr/>
        </p:nvSpPr>
        <p:spPr>
          <a:xfrm rot="21028800">
            <a:off x="4419720" y="59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overleg….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kunn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vatten omt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voering me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4 Vergunning veilig werk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lgemen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is om zeker te weten 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wordt overlegd over veilige werk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el toestemming wordt gegeven om t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et terrein en aan de install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zonder vergunning niet a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bedoeld voor het borgen van een veilige werkwij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op schri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eli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 met specifieke risico’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ecifieke opleiding of training no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om dit werk uit te v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staan op schri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waarden zijn toegeli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unning is ondertek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kstvak 4"/>
          <p:cNvSpPr/>
          <p:nvPr/>
        </p:nvSpPr>
        <p:spPr>
          <a:xfrm rot="20244600">
            <a:off x="4347000" y="5340240"/>
            <a:ext cx="44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 Black"/>
              </a:rPr>
              <a:t>persoonlijk overtuige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beelden werk met specifieke vergu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treden van een besloten 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gevaarlijk werk, ook vuurvergunning of heetwerkvergunning, bijvoorbeeld lassen, slij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aven in vervuilde ondergro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grond met leidingen (vloeren, strat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aan of bij gevaarlijke 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ijswerk boven of in de omgeving van belangr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of slopen van asbesthoudend materia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met giftige en/of kankerverwekkend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523800" y="438120"/>
            <a:ext cx="8632800" cy="6432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838080" y="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990720" y="152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pecifieke werkvergunning (3)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79" name="Tekstvak 5"/>
          <p:cNvSpPr/>
          <p:nvPr/>
        </p:nvSpPr>
        <p:spPr>
          <a:xfrm rot="18256200">
            <a:off x="-87480" y="2761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anvraag 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werkzaamhed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0" name="Tekstvak 9"/>
          <p:cNvSpPr/>
          <p:nvPr/>
        </p:nvSpPr>
        <p:spPr>
          <a:xfrm rot="18256200">
            <a:off x="2198160" y="254520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strekk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1" name="Tekstvak 7"/>
          <p:cNvSpPr/>
          <p:nvPr/>
        </p:nvSpPr>
        <p:spPr>
          <a:xfrm rot="18256200">
            <a:off x="3912840" y="2759400"/>
            <a:ext cx="372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maatregelen vergunninghouder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2" name="Tekstvak 8"/>
          <p:cNvSpPr/>
          <p:nvPr/>
        </p:nvSpPr>
        <p:spPr>
          <a:xfrm rot="18256200">
            <a:off x="6198480" y="2902320"/>
            <a:ext cx="37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bekrachtiging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83" name="Tekstvak 12"/>
          <p:cNvSpPr/>
          <p:nvPr/>
        </p:nvSpPr>
        <p:spPr>
          <a:xfrm rot="21347400">
            <a:off x="6356160" y="524520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 Black"/>
              </a:rPr>
              <a:t>verlenging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“…</a:t>
            </a: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waarden scheppen om de uit te voeren werkzaamheden stap voor st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met maximale veilig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3cc33"/>
                </a:solidFill>
                <a:latin typeface="Arial"/>
              </a:rPr>
              <a:t>voor mens en installatie uit te voeren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werkvergunning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zijn een onderdeel van project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2419200" y="1987560"/>
            <a:ext cx="429912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Functies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voorbereiding op veilig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verleg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met iedereen die bij het werk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 is en met hen bindende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astlegg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voorwaarden waaronde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erkt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erle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toestem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oor het aanva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de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kstvak 4"/>
          <p:cNvSpPr/>
          <p:nvPr/>
        </p:nvSpPr>
        <p:spPr>
          <a:xfrm rot="21347400">
            <a:off x="3580920" y="4952880"/>
            <a:ext cx="51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0000"/>
                </a:solidFill>
                <a:latin typeface="Arial"/>
              </a:rPr>
              <a:t>gestructureerde en verplichte communicatie tussen alle partijen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vullen van de werkvergu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igheidsduur (meestal 1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welke werkzaamheden het 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ie gaat wanneer welk werk do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die de verstrekker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 ne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veiligheids-)maatregelen vaststellen voor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de werkomgeving na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zaamheden veilig achter te l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krachtiging/ondertek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waarden voor verlen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rmgeven aa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regelen hoort overleggen en anders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a overleg over veilig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praken m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en dat  afspraken worden nagekomen (‘opvolging’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 werken regelen (bijv. nieuwe proced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, hoe en wanneer begin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 alleen bij praten l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lag maken, ook om afspraken niet te verg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voering contro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5"/>
          <p:cNvGraphicFramePr/>
          <p:nvPr/>
        </p:nvGraphicFramePr>
        <p:xfrm>
          <a:off x="7010280" y="0"/>
          <a:ext cx="213372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21337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verstrek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de vrijstelling van de instal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ker weten dat daar veilig gewerkt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het aftekenen van de vergu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k met de vergunninghouder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 van d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oorwaarden en de maatreg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ing van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strekker zorgt zo nodig dat metingen zijn verr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verschillende werkzaamheden tegelijkertijd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e verstrekker voor coördinatie en afsprak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ssen de betrokken partij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ergunninghou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houd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de werk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tekent de verg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ervoor dat de vergunning ter plaat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ft uitleg aan de operationele medewe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t erop toe dat de werkzaamheden volgens de voorwaard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operationele medewerkers</a:t>
            </a: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perationele medewerkers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en de inhoud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volgens de voorwaarden van d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men de maatregelen die op de vergunning staan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alleen met een geldige vergunn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een werkvergunning heeft alleen zin al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de afspraken die worden gemaakt, ook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worden nageleefd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5 (Taak)risicoanaly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en analyse van de gevaren die zijn verbonden aan de uitvoering van (risicovolle) taken ten aanzien van de veiligheid en de gezondheid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eersmaatregelen vaststellen en afspreken voor het uitvoeren van de (risicovolle) taak of een taak in een risicovolle omgeving, door analyseren en evalueren van risico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rcRect l="18846" t="30242" r="-414" b="16908"/>
          <a:stretch/>
        </p:blipFill>
        <p:spPr>
          <a:xfrm>
            <a:off x="7729560" y="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(werkche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laatste check op veiligheid voordat je a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klus begi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lkens voor aanvang werkzaamheden of nieuwe ta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verandering van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bij routinematige 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lf de LMRA uitv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 door leidinggevende of extern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skundi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gevende kan LMRA controleren doo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pectie, toezicht en OOG-ron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6 LM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itel 1"/>
          <p:cNvSpPr/>
          <p:nvPr/>
        </p:nvSpPr>
        <p:spPr>
          <a:xfrm>
            <a:off x="137160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07" name="Picture 7" descr="Scannen0001"/>
          <p:cNvPicPr/>
          <p:nvPr/>
        </p:nvPicPr>
        <p:blipFill>
          <a:blip r:embed="rId1"/>
          <a:srcRect l="3501" t="1212" r="19563" b="15335"/>
          <a:stretch/>
        </p:blipFill>
        <p:spPr>
          <a:xfrm>
            <a:off x="609480" y="380880"/>
            <a:ext cx="2571840" cy="371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Scannen0003"/>
          <p:cNvPicPr/>
          <p:nvPr/>
        </p:nvPicPr>
        <p:blipFill>
          <a:blip r:embed="rId2"/>
          <a:srcRect l="0" t="5832" r="0" b="21877"/>
          <a:stretch/>
        </p:blipFill>
        <p:spPr>
          <a:xfrm>
            <a:off x="2743200" y="1752480"/>
            <a:ext cx="2779560" cy="3543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Scannen0005"/>
          <p:cNvPicPr/>
          <p:nvPr/>
        </p:nvPicPr>
        <p:blipFill>
          <a:blip r:embed="rId3"/>
          <a:srcRect l="0" t="0" r="4502" b="0"/>
          <a:stretch/>
        </p:blipFill>
        <p:spPr>
          <a:xfrm rot="17194200">
            <a:off x="5980680" y="2753280"/>
            <a:ext cx="2503440" cy="16477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7"/>
          <p:cNvSpPr/>
          <p:nvPr/>
        </p:nvSpPr>
        <p:spPr>
          <a:xfrm>
            <a:off x="5735520" y="990720"/>
            <a:ext cx="340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achtspuntenkaartje  of werkcheckcard gebruiken, 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leinere kans dat je iets over het hoofd ziet…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7 Nood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ende situaties door ongevallen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tsel, brand, vloei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 van gas, damp of brandbare sto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controleerde ontsnapping van giftig gas, biologische agentia of radioactieve str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k do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weer, natuurram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ociale onru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rroris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es van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utilities (GW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62120" y="1828800"/>
            <a:ext cx="77724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heersing en bestrijding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oodpl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basis om noodsituaties het hoofd 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unnen bieden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raaiboek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om effectief te kunnen optreden,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ie moet wat, wanneer, met wie en waarmee do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fasen noodsituatie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eerste melding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delingen en maatregelen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ëindigen van de noodsituatie</a:t>
            </a:r>
            <a:endParaRPr b="0" lang="en-US" sz="2200" spc="-1" strike="noStrike">
              <a:solidFill>
                <a:srgbClr val="33cc33"/>
              </a:solidFill>
              <a:latin typeface="Arial"/>
            </a:endParaRPr>
          </a:p>
        </p:txBody>
      </p:sp>
      <p:pic>
        <p:nvPicPr>
          <p:cNvPr id="115" name="Picture 2" descr="http://www.safetybillboards.nl/brandpreventie.JPG"/>
          <p:cNvPicPr/>
          <p:nvPr/>
        </p:nvPicPr>
        <p:blipFill>
          <a:blip r:embed="rId1"/>
          <a:stretch/>
        </p:blipFill>
        <p:spPr>
          <a:xfrm>
            <a:off x="7040520" y="0"/>
            <a:ext cx="20970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rste signaal dat er een noodsituatie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aaib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welke manieren kan de noodsituatie gemeld wo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informatie is nodi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zijn de daaropvolgende acties t.b.v.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e is gemachtigd de noodsituatie als beëindigd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verklaren en hoe wordt dit kenbaar gemaa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 en maatreg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te doen na een melding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feitelijke hulpverl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Afbeelding 7" descr="back_bhv.jpg"/>
          <p:cNvPicPr/>
          <p:nvPr/>
        </p:nvPicPr>
        <p:blipFill>
          <a:blip r:embed="rId1"/>
          <a:srcRect l="25877" t="10844" r="6838" b="34966"/>
          <a:stretch/>
        </p:blipFill>
        <p:spPr>
          <a:xfrm>
            <a:off x="7086600" y="0"/>
            <a:ext cx="20574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middellijk het werk onderbre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cties van de opdrachtgever (BHV) op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ar verzamelplaats g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liften gebruik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en overbrengen naar een veilige 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edereen moet weten wat te doen bij alarm evacu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ëindigen van de noodsitu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uidelijkheid dat de situatie veilig 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kunnen weer aan het  we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6099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 Overleggen en reg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1  Inspraak en over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2 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3  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4  Vergunning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5  (Taak-)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6  LM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7 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Noodsituaties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s voor evac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moet je vooraf op de hoogte stellen 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(verzamel)plaats(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evacuatiemogelijkheden/vluchtrou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structies van de opdrachtge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vacuatie direct melden op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amel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http://www.safetybillboards.nl/vluchtwegen.JPG"/>
          <p:cNvPicPr/>
          <p:nvPr/>
        </p:nvPicPr>
        <p:blipFill>
          <a:blip r:embed="rId1"/>
          <a:stretch/>
        </p:blipFill>
        <p:spPr>
          <a:xfrm>
            <a:off x="6924600" y="0"/>
            <a:ext cx="221940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wetgeving en VCA is sprake van twee soorten overle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over het bedrijfsbeleid en regelingen over VGM (beleidsgericht overl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overleg over de uitvoering van 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1 Inspraak en over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leidsoverle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uss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vertegenwoordig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werkgever en werknemers belangrijk vi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werpen waarvoor de werkgever instemm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advies van  de werknemersvertegenwoordiging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OR of  VGM-commissie) nodig he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&amp;E en het plan van aanp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odeskundigen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deskundig ad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85800" y="4495680"/>
            <a:ext cx="8077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overle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werknemers 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  <a:p>
            <a:pPr lvl="2" marL="762120" indent="-285840">
              <a:lnSpc>
                <a:spcPct val="100000"/>
              </a:lnSpc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GM-bijeenkomst (toolboxmeeting) gaat over praktische zaken, bijvoorbeeld over klachten, werkbelasting</a:t>
            </a:r>
            <a:endParaRPr b="0" lang="en-US" sz="2000" spc="-1" strike="noStrike">
              <a:solidFill>
                <a:srgbClr val="33cc33"/>
              </a:solidFill>
              <a:latin typeface="Arial"/>
            </a:endParaRPr>
          </a:p>
        </p:txBody>
      </p:sp>
      <p:graphicFrame>
        <p:nvGraphicFramePr>
          <p:cNvPr id="53" name="Object 6"/>
          <p:cNvGraphicFramePr/>
          <p:nvPr/>
        </p:nvGraphicFramePr>
        <p:xfrm>
          <a:off x="7143840" y="0"/>
          <a:ext cx="200016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3840" y="0"/>
                    <a:ext cx="200016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gelen en 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regels en -procedures om dagelijk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uitvoering veilig te laten ver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wie de regels en procedures bedoeld 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-271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ermee omgegaan moet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3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unningen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risico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(LM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nood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en voor iedereen op het bed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medewerk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personeel van) aannemers en onderaan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an op pap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rijgt iede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en duidelijk zijn, eenduid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rijpelijk voor anderstal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2 Algemene veiligheidsregel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werpen algemene veiligheidsreg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- en af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regels op het terre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te handelen bij calam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af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brand en incid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6.3 Specifieke veiligheidsreg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, functies en werk met verhoogd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den van besloten ruim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/he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explosiegevaarlijk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de vereiste P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specifieke gereedschapp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 en werk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Mechteld de Coo</cp:lastModifiedBy>
  <dcterms:modified xsi:type="dcterms:W3CDTF">2015-09-29T10:14:10Z</dcterms:modified>
  <cp:revision>106</cp:revision>
  <dc:subject/>
  <dc:title>PowerPoint-presentatie</dc:title>
</cp:coreProperties>
</file>