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386-AAE0-4CE4-880A-988B88BE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864-1F3F-4858-8547-66EC2252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FE2-3A4C-4944-9365-6F2CFC7B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34D-6655-49CF-9243-45DBAB9B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E0C-7457-4A76-B643-8A5EE62A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1A9-A2F4-46F5-858B-A09FAA49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F03F-1B64-4D27-9A9F-58E02CA2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8C1-7284-43CA-823C-AC6D462E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2DD2-E03A-461B-8335-A170044A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415-C3B3-4D6B-8231-868CAF7C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6086-684D-45AE-8382-42361250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7A9-A961-4CEF-A6EF-FC044332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684D-8CCE-4144-AD71-F0B8E4E8600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6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Overleggen en reg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ikbaar zijn voor betreffende/betrok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treft eisen en 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kstvak 4"/>
          <p:cNvSpPr/>
          <p:nvPr/>
        </p:nvSpPr>
        <p:spPr>
          <a:xfrm rot="21028800">
            <a:off x="4419720" y="59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overleg….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kunn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vatten omt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4 Vergunning veilig werk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lgemen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is om zeker te weten 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et terrein en aan de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zonder vergunning nie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bedoeld voor het borgen van een veilige werkwij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 met specifieke risico’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ecifieke opleiding of training no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om dit werk uit te v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staan op schr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zijn toegel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is onder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kstvak 4"/>
          <p:cNvSpPr/>
          <p:nvPr/>
        </p:nvSpPr>
        <p:spPr>
          <a:xfrm rot="20244600">
            <a:off x="4347000" y="5340240"/>
            <a:ext cx="44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 Black"/>
              </a:rPr>
              <a:t>persoonlijk overtuige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 werk met specifieke vergu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jswerk boven of in de omgeving van belangr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of slopen van asbesthoudend materia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giftige en/of kankerverwekkend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523800" y="438120"/>
            <a:ext cx="8632800" cy="6432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838080" y="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990720" y="152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3)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9" name="Tekstvak 5"/>
          <p:cNvSpPr/>
          <p:nvPr/>
        </p:nvSpPr>
        <p:spPr>
          <a:xfrm rot="18256200">
            <a:off x="-87480" y="2761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anvraag 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werkzaamhed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0" name="Tekstvak 9"/>
          <p:cNvSpPr/>
          <p:nvPr/>
        </p:nvSpPr>
        <p:spPr>
          <a:xfrm rot="18256200">
            <a:off x="2198160" y="2545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strekk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1" name="Tekstvak 7"/>
          <p:cNvSpPr/>
          <p:nvPr/>
        </p:nvSpPr>
        <p:spPr>
          <a:xfrm rot="18256200">
            <a:off x="3912840" y="275940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gunninghoud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2" name="Tekstvak 8"/>
          <p:cNvSpPr/>
          <p:nvPr/>
        </p:nvSpPr>
        <p:spPr>
          <a:xfrm rot="18256200">
            <a:off x="6198480" y="290232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bekrachtiging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3" name="Tekstvak 12"/>
          <p:cNvSpPr/>
          <p:nvPr/>
        </p:nvSpPr>
        <p:spPr>
          <a:xfrm rot="21347400">
            <a:off x="6356160" y="524520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verlenging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“…</a:t>
            </a: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waarden scheppen om de uit te voeren werkzaamheden stap voor st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met maximale veilig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 mens en installatie uit te voeren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zijn een onderdeel van project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2419200" y="1987560"/>
            <a:ext cx="42991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Functies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voorbereiding op veilig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verleg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met iedereen die bij het werk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astlegg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voorwaarden waaronde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erle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toestem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oor het aanva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kstvak 4"/>
          <p:cNvSpPr/>
          <p:nvPr/>
        </p:nvSpPr>
        <p:spPr>
          <a:xfrm rot="21347400">
            <a:off x="3580920" y="49528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"/>
              </a:rPr>
              <a:t>gestructureerde en verplichte communicatie tussen 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vullen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rmgeven aa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regelen hoort overleggen en anders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a overleg over veilig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praken m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en dat  afspraken worden nagekomen (‘opvolging’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 werken regelen (bijv. nieuwe proced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, hoe en wanneer begin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 alleen bij praten l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lag maken, ook om afspraken niet te verg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voering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5"/>
          <p:cNvGraphicFramePr/>
          <p:nvPr/>
        </p:nvGraphicFramePr>
        <p:xfrm>
          <a:off x="7010280" y="0"/>
          <a:ext cx="213372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21337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verstrek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de vrijstelling van de instal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k met de vergunninghouder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hou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houd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de werk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operationele medewerkers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perationele medewerkers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een werkvergunning heeft alleen zin al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de afspraken die worden gemaakt, ook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worden nageleefd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5 (Taak)risico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en analyse van de gevaren die zijn verbonden aan de uitvoering van (risicovolle) taken ten aanzien van de veiligheid en de gezondheid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eersmaatregelen vaststellen en afspreken voor het uitvoeren van de (risicovolle) taak of een taak in een risicovolle omgeving, door analyseren en evalueren van risico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rcRect l="18846" t="30242" r="-414" b="16908"/>
          <a:stretch/>
        </p:blipFill>
        <p:spPr>
          <a:xfrm>
            <a:off x="7729560" y="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(werkche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laatste check op veiligheid voordat je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klus begi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lkens voor aanvang werkzaamheden of nieuwe t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verandering van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routinematig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lf de LMRA uitv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door leidinggevende of extern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gevende kan LMRA controleren doo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pectie, toezicht en OOG-ron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itel 1"/>
          <p:cNvSpPr/>
          <p:nvPr/>
        </p:nvSpPr>
        <p:spPr>
          <a:xfrm>
            <a:off x="137160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07" name="Picture 7" descr="Scannen0001"/>
          <p:cNvPicPr/>
          <p:nvPr/>
        </p:nvPicPr>
        <p:blipFill>
          <a:blip r:embed="rId1"/>
          <a:srcRect l="3501" t="1212" r="19563" b="15335"/>
          <a:stretch/>
        </p:blipFill>
        <p:spPr>
          <a:xfrm>
            <a:off x="609480" y="38088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Scannen0003"/>
          <p:cNvPicPr/>
          <p:nvPr/>
        </p:nvPicPr>
        <p:blipFill>
          <a:blip r:embed="rId2"/>
          <a:srcRect l="0" t="5832" r="0" b="21877"/>
          <a:stretch/>
        </p:blipFill>
        <p:spPr>
          <a:xfrm>
            <a:off x="2743200" y="1752480"/>
            <a:ext cx="2779560" cy="3543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Scannen0005"/>
          <p:cNvPicPr/>
          <p:nvPr/>
        </p:nvPicPr>
        <p:blipFill>
          <a:blip r:embed="rId3"/>
          <a:srcRect l="0" t="0" r="4502" b="0"/>
          <a:stretch/>
        </p:blipFill>
        <p:spPr>
          <a:xfrm rot="17194200">
            <a:off x="5980680" y="2753280"/>
            <a:ext cx="2503440" cy="16477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7"/>
          <p:cNvSpPr/>
          <p:nvPr/>
        </p:nvSpPr>
        <p:spPr>
          <a:xfrm>
            <a:off x="5735520" y="99072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 of werkcheckcard gebruiken, 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7 Nood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do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weer, natuurra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ciale onru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ror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es van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utilities (GW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62120" y="1828800"/>
            <a:ext cx="77724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heersing en bestrijd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oodpl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basis om noodsituaties het hoofd 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unnen bieden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raaiboek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om effectief te kunnen optreden,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ie moet wat, wanneer, met wie en waarmee do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fasen noodsituatie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eerste melding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elingen en maatregelen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ëindigen van de noodsituatie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15" name="Picture 2" descr="http://www.safetybillboards.nl/brandpreventie.JPG"/>
          <p:cNvPicPr/>
          <p:nvPr/>
        </p:nvPicPr>
        <p:blipFill>
          <a:blip r:embed="rId1"/>
          <a:stretch/>
        </p:blipFill>
        <p:spPr>
          <a:xfrm>
            <a:off x="7040520" y="0"/>
            <a:ext cx="20970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e signaal dat er een noodsituatie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welke manieren kan de noodsituatie gemeld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informatie is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daaropvolgende acties t.b.v.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is gemachtigd de noodsituatie als beëindig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verklaren en hoe wordt dit kenbaar 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 en maatreg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te doen na een melding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feitelijke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Afbeelding 7" descr="back_bhv.jpg"/>
          <p:cNvPicPr/>
          <p:nvPr/>
        </p:nvPicPr>
        <p:blipFill>
          <a:blip r:embed="rId1"/>
          <a:srcRect l="25877" t="10844" r="6838" b="34966"/>
          <a:stretch/>
        </p:blipFill>
        <p:spPr>
          <a:xfrm>
            <a:off x="7086600" y="0"/>
            <a:ext cx="20574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r verzamelplaats g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iften gebruik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ëindigen van de noodsitu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idelijkheid dat de situatie veili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1  Inspraak en over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2 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3  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4  Vergunning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5  (Taak-)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6  LM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7 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 vooraf op de hoogte stellen 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(verzamel)plaats(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mogelijkheden/vluchtro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structies van de opdrachtge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vacuatie direct melden op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amel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6924600" y="0"/>
            <a:ext cx="22194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wetgeving en VCA is sprake van twee soorten overle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over het bedrijfsbeleid en regelingen over VGM (beleidsgericht overl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overleg over de uitvoering van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leids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uss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vertegenwoordig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werkgever en werknemers belangrijk vi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werpen waarvoor de werkgever instemm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advies van  de werknemersvertegenwoordig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OR of  VGM-commissie) nodig he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&amp;E en het plan van aanp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85800" y="4495680"/>
            <a:ext cx="8077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overle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62120" indent="-28584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GM-bijeenkomst (toolboxmeeting) gaat over praktische zaken, bijvoorbeeld over klachten, werkbelasting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graphicFrame>
        <p:nvGraphicFramePr>
          <p:cNvPr id="53" name="Object 6"/>
          <p:cNvGraphicFramePr/>
          <p:nvPr/>
        </p:nvGraphicFramePr>
        <p:xfrm>
          <a:off x="7143840" y="0"/>
          <a:ext cx="200016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3840" y="0"/>
                    <a:ext cx="200016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gelen en 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om dagelijk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uitvoering veilig te lat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wie de regels en procedures bedoel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ermee omgegaan moet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(LM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Mechteld de Coo</cp:lastModifiedBy>
  <dcterms:modified xsi:type="dcterms:W3CDTF">2015-09-29T10:14:10Z</dcterms:modified>
  <cp:revision>106</cp:revision>
  <dc:subject/>
  <dc:title>PowerPoint-presentatie</dc:title>
</cp:coreProperties>
</file>