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4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jpeg" ContentType="image/jpeg"/>
  <Override PartName="/ppt/media/image15.png" ContentType="image/png"/>
  <Override PartName="/ppt/media/image2.wmf" ContentType="image/x-wmf"/>
  <Override PartName="/ppt/media/image3.wmf" ContentType="image/x-wmf"/>
  <Override PartName="/ppt/media/image7.png" ContentType="image/png"/>
  <Override PartName="/ppt/media/image1.jpeg" ContentType="image/jpeg"/>
  <Override PartName="/ppt/media/image10.png" ContentType="image/png"/>
  <Override PartName="/ppt/media/image5.wmf" ContentType="image/x-wmf"/>
  <Override PartName="/ppt/media/image6.png" ContentType="image/pn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765B0-C8AB-4473-9CE5-6329034D4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25672-1805-471A-9F12-DB3BD2920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7024C-84DF-46AB-B15D-4D8701BF8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B6E9B-EA87-4320-B300-E65FB94D8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BACC8-82BA-4A3A-884F-176DACED6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1FC64-3272-4C66-A028-8A321A7B9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094CB-980D-4265-9B25-F32DB2D36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EEAAB-3AAD-434B-A56A-09C438564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7361B-8E3B-47DE-A5DF-485A19795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BB1C5-24B6-4D78-9620-BE3B724B1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D265A-0731-41E0-8A41-B315DB524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8F6EF-D3B4-4977-A29E-527F3A8C1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cc33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B0DF3-EE55-4A9B-8EE0-F447C13BEA15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33cc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42960" y="571320"/>
            <a:ext cx="7772400" cy="217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33cc33"/>
                </a:solidFill>
                <a:latin typeface="Arial"/>
              </a:rPr>
              <a:t>VCA Basisveiligheid</a:t>
            </a:r>
            <a:br>
              <a:rPr sz="2000"/>
            </a:br>
            <a:br>
              <a:rPr sz="2000"/>
            </a:br>
            <a:r>
              <a:rPr b="1" lang="nl-NL" sz="4400" spc="-1" strike="noStrike">
                <a:solidFill>
                  <a:srgbClr val="00cc00"/>
                </a:solidFill>
                <a:latin typeface="Arial"/>
              </a:rPr>
              <a:t>Hoofdstuk 1</a:t>
            </a:r>
            <a:br>
              <a:rPr sz="4400"/>
            </a:br>
            <a:r>
              <a:rPr b="1" lang="nl-NL" sz="4400" spc="-1" strike="noStrike">
                <a:solidFill>
                  <a:srgbClr val="00cc00"/>
                </a:solidFill>
                <a:latin typeface="Arial"/>
              </a:rPr>
              <a:t> Veilighei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3352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cc00"/>
                </a:solidFill>
                <a:latin typeface="Arial"/>
              </a:rPr>
              <a:t>Aandachtspunten voor veilig werk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drag dat veilig werken bevordert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zorgen voor de veiligheid en gezondhei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van jezelf en van anderen in je omgev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7" descr="http://www.safetybillboards.nl/stuntwerk%20gekkewerk.JPG"/>
          <p:cNvPicPr/>
          <p:nvPr/>
        </p:nvPicPr>
        <p:blipFill>
          <a:blip r:embed="rId1"/>
          <a:stretch/>
        </p:blipFill>
        <p:spPr>
          <a:xfrm>
            <a:off x="3429000" y="3697200"/>
            <a:ext cx="2143080" cy="31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cc00"/>
                </a:solidFill>
                <a:latin typeface="Arial"/>
              </a:rPr>
              <a:t>Aandachtspunten voor veilig werk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een positieve instel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oud je aan de veiligheidsvoorschriften,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wijzingen en instructi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ndere medewerkers aanspreken bij onveilige handelingen, onveilige situa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cidenten melden en zo nodig handelend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ptre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dacht voor persoonlijke hygiëne en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rde en neth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cc00"/>
                </a:solidFill>
                <a:latin typeface="Arial"/>
              </a:rPr>
              <a:t>Waar het misga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bruik van alcohol en drug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het werkt langer en ingrijpender dan je zelf denk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lechter functioneren </a:t>
            </a:r>
            <a:r>
              <a:rPr b="0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cc0000"/>
                </a:solidFill>
                <a:latin typeface="Arial"/>
              </a:rPr>
              <a:t>minder waakzaam en oplett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ituaties niet goed inschat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verschatten eigen mogelijkhe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makkelijker grenzen overschrij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Afbeelding 7" descr="encare-pesten-posters-6.gif"/>
          <p:cNvPicPr/>
          <p:nvPr/>
        </p:nvPicPr>
        <p:blipFill>
          <a:blip r:embed="rId1"/>
          <a:stretch/>
        </p:blipFill>
        <p:spPr>
          <a:xfrm>
            <a:off x="7424640" y="6480"/>
            <a:ext cx="1712880" cy="235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cc00"/>
                </a:solidFill>
                <a:latin typeface="Arial"/>
              </a:rPr>
              <a:t>Richtlijnen alcohol en drugs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ooit tijdens het wer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iet wanneer de effecten je werk nog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ïnvloeden (bv. diep in de nacht nog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el gebrui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merkbare effecten op werkbeheersing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(bij jezelf/collega’s)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en werk (laten) doen met verhoogd risic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eld het aan je leidinggevend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4"/>
          <p:cNvSpPr/>
          <p:nvPr/>
        </p:nvSpPr>
        <p:spPr>
          <a:xfrm>
            <a:off x="1527840" y="5257800"/>
            <a:ext cx="646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00cc00"/>
                </a:solidFill>
                <a:latin typeface="Arial Narrow"/>
              </a:rPr>
              <a:t>Als je zelf regelmatig te veel gebruikt, zoek dan hulp!</a:t>
            </a:r>
            <a:endParaRPr b="0" lang="en-US" sz="2400" spc="-1" strike="noStrike">
              <a:solidFill>
                <a:srgbClr val="33cc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cc00"/>
                </a:solidFill>
                <a:latin typeface="Arial"/>
              </a:rPr>
              <a:t>Orde en nethe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langrijk voor veilig wer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orkomen van incidenten, vervuiling en milieuscha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lies van gereedschappen en material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genamere werkomgev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ositieve invloed op motivatie en gesteldh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ijdwinst en een hogere efficiën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Picture 8" descr=""/>
          <p:cNvPicPr/>
          <p:nvPr/>
        </p:nvPicPr>
        <p:blipFill>
          <a:blip r:embed="rId1"/>
          <a:srcRect l="50030" t="0" r="0" b="0"/>
          <a:stretch/>
        </p:blipFill>
        <p:spPr>
          <a:xfrm>
            <a:off x="3510000" y="4114800"/>
            <a:ext cx="2347920" cy="26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cc00"/>
                </a:solidFill>
                <a:latin typeface="Arial"/>
              </a:rPr>
              <a:t>Good housekeep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omgeving opgeruimd hou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estmaterialen afvoeren of veilig opsla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pslagsysteem voor gereedschappen en material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kabels ophangen (safety-hooks) of wegwerk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oede inrichting van de werkplaats/werf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icture 10" descr=""/>
          <p:cNvPicPr/>
          <p:nvPr/>
        </p:nvPicPr>
        <p:blipFill>
          <a:blip r:embed="rId1"/>
          <a:stretch/>
        </p:blipFill>
        <p:spPr>
          <a:xfrm>
            <a:off x="2514600" y="4343400"/>
            <a:ext cx="3386160" cy="2343240"/>
          </a:xfrm>
          <a:prstGeom prst="rect">
            <a:avLst/>
          </a:prstGeom>
          <a:ln w="0">
            <a:noFill/>
          </a:ln>
        </p:spPr>
      </p:pic>
      <p:sp>
        <p:nvSpPr>
          <p:cNvPr id="90" name="Tekstvak 7"/>
          <p:cNvSpPr/>
          <p:nvPr/>
        </p:nvSpPr>
        <p:spPr>
          <a:xfrm>
            <a:off x="6553080" y="4495680"/>
            <a:ext cx="14432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8800" spc="-1" strike="noStrike">
                <a:solidFill>
                  <a:srgbClr val="00b050"/>
                </a:solidFill>
                <a:latin typeface="Wingdings"/>
                <a:ea typeface="Wingdings"/>
              </a:rPr>
              <a:t></a:t>
            </a:r>
            <a:endParaRPr b="0" lang="en-US" sz="8800" spc="-1" strike="noStrike">
              <a:solidFill>
                <a:srgbClr val="33cc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cc00"/>
                </a:solidFill>
                <a:latin typeface="Arial"/>
              </a:rPr>
              <a:t>Vallen en struikel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aandachtspunten voorkomen vallen en struike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1250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overzichtelijke bedrijfsinricht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1250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werkplekken opgeruim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1250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looppaden schoon en vrij van obstak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1250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onveilige situaties verhelp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1250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opletten waar je loo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1250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voldoende zicht als je iets draag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1250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wegen en paden vol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1250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gepast schoeisel, zoals veiligheidsschoen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6" descr="http://www.safetybillboards.nl/goede%20afzetting.JPG"/>
          <p:cNvPicPr/>
          <p:nvPr/>
        </p:nvPicPr>
        <p:blipFill>
          <a:blip r:embed="rId1">
            <a:grayscl/>
            <a:lum bright="-10000"/>
          </a:blip>
          <a:stretch/>
        </p:blipFill>
        <p:spPr>
          <a:xfrm>
            <a:off x="7269120" y="3200400"/>
            <a:ext cx="187488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cc00"/>
                </a:solidFill>
                <a:latin typeface="Arial"/>
              </a:rPr>
              <a:t>1.5 Preventieve aanpa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gevallen en gezondheidsschade voorkom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volgen beper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000000"/>
                </a:solidFill>
                <a:latin typeface="Arial"/>
              </a:rPr>
              <a:t>voorkomen van onveilige handelingen en situati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veilige hande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het niet volgen van de veiligheidsvoorschriften kan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tot een ongeval lei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veilige situa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ls de werksituatie niet voldoet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an voorwaarden voor veilig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erken, kan ook een ongeval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ntstaa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5" descr=""/>
          <p:cNvPicPr/>
          <p:nvPr/>
        </p:nvPicPr>
        <p:blipFill>
          <a:blip r:embed="rId1"/>
          <a:stretch/>
        </p:blipFill>
        <p:spPr>
          <a:xfrm>
            <a:off x="6572160" y="3786120"/>
            <a:ext cx="2363760" cy="23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cc00"/>
                </a:solidFill>
                <a:latin typeface="Arial"/>
              </a:rPr>
              <a:t>Onveilige handeling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onder werkvergunningen werk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orgeschreven PBM niet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bruik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veiligingen buiten werking stell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reedschap onjuist gebruik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apot gereedschap gebrui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en last verkeerd verplaat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2" descr=""/>
          <p:cNvPicPr/>
          <p:nvPr/>
        </p:nvPicPr>
        <p:blipFill>
          <a:blip r:embed="rId1"/>
          <a:srcRect l="0" t="16763" r="0" b="9092"/>
          <a:stretch/>
        </p:blipFill>
        <p:spPr>
          <a:xfrm>
            <a:off x="7429680" y="0"/>
            <a:ext cx="171432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cc00"/>
                </a:solidFill>
                <a:latin typeface="Arial"/>
              </a:rPr>
              <a:t>Onveilige situa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r is geen of onvoldoende verlich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vloeren zijn niet opgeruim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pparatuur/machines zijn niet (voldoende) beveilig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luchtwegen ontbreken of zijn geblokkee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ls iemand onveilig werkt: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orkom dat het misgaat en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ld het aan de leidinggeven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nveilige handeling stopp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orzaak van het gevaar wegnem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aarschuw de mensen in de omgev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cc00"/>
                </a:solidFill>
                <a:latin typeface="Arial"/>
              </a:rPr>
              <a:t>Van gevarenkennis tot veilighe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cc33"/>
                </a:solidFill>
                <a:latin typeface="Arial"/>
              </a:rPr>
              <a:t>1.1 Gevaren bij het we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cc33"/>
                </a:solidFill>
                <a:latin typeface="Arial"/>
              </a:rPr>
              <a:t>1.2 Begripp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cc33"/>
                </a:solidFill>
                <a:latin typeface="Arial"/>
              </a:rPr>
              <a:t>1.3 Lessen uit eerdere ongeval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cc33"/>
                </a:solidFill>
                <a:latin typeface="Arial"/>
              </a:rPr>
              <a:t>1.4 Veilig werkgedra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cc33"/>
                </a:solidFill>
                <a:latin typeface="Arial"/>
              </a:rPr>
              <a:t>1.5 Preventieve aanpa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cc33"/>
                </a:solidFill>
                <a:latin typeface="Arial"/>
              </a:rPr>
              <a:t>1.6 Handelend optreden bij incidenten </a:t>
            </a:r>
            <a:br>
              <a:rPr sz="2400"/>
            </a:br>
            <a:r>
              <a:rPr b="0" lang="nl-NL" sz="2400" spc="-1" strike="noStrike">
                <a:solidFill>
                  <a:srgbClr val="33cc33"/>
                </a:solidFill>
                <a:latin typeface="Arial"/>
              </a:rPr>
              <a:t>  en (bijna-)ongeval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" name="Groep 6"/>
          <p:cNvGrpSpPr/>
          <p:nvPr/>
        </p:nvGrpSpPr>
        <p:grpSpPr>
          <a:xfrm>
            <a:off x="2786040" y="5072040"/>
            <a:ext cx="3571920" cy="1445040"/>
            <a:chOff x="2786040" y="5072040"/>
            <a:chExt cx="3571920" cy="1445040"/>
          </a:xfrm>
        </p:grpSpPr>
        <p:pic>
          <p:nvPicPr>
            <p:cNvPr id="46" name="Picture 5" descr="C:\Users\Eigenaar\AppData\Local\Microsoft\Windows\Temporary Internet Files\Content.IE5\RVMFCU9C\MCj01963200000[1].wmf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2786040" y="5072040"/>
              <a:ext cx="881640" cy="126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Tekstvak 4"/>
            <p:cNvSpPr/>
            <p:nvPr/>
          </p:nvSpPr>
          <p:spPr>
            <a:xfrm>
              <a:off x="3720960" y="5325840"/>
              <a:ext cx="15746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800" spc="-1" strike="noStrike">
                  <a:solidFill>
                    <a:srgbClr val="808080"/>
                  </a:solidFill>
                  <a:latin typeface="Arial"/>
                  <a:ea typeface="Arial"/>
                </a:rPr>
                <a:t>eerst denken,                    </a:t>
              </a:r>
              <a:r>
                <a:rPr b="0" lang="nl-NL" sz="1800" spc="-1" strike="noStrike">
                  <a:solidFill>
                    <a:srgbClr val="808080"/>
                  </a:solidFill>
                  <a:latin typeface="Arial"/>
                  <a:ea typeface="Arial"/>
                </a:rPr>
                <a:t>	</a:t>
              </a:r>
              <a:endParaRPr b="0" lang="en-US" sz="1800" spc="-1" strike="noStrike">
                <a:solidFill>
                  <a:srgbClr val="33cc33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800" spc="-1" strike="noStrike">
                  <a:solidFill>
                    <a:srgbClr val="808080"/>
                  </a:solidFill>
                  <a:latin typeface="Arial"/>
                  <a:ea typeface="Arial"/>
                </a:rPr>
                <a:t>dan doen</a:t>
              </a:r>
              <a:endParaRPr b="0" lang="en-US" sz="1800" spc="-1" strike="noStrike">
                <a:solidFill>
                  <a:srgbClr val="33cc33"/>
                </a:solidFill>
                <a:latin typeface="Arial"/>
              </a:endParaRPr>
            </a:p>
          </p:txBody>
        </p:sp>
        <p:pic>
          <p:nvPicPr>
            <p:cNvPr id="48" name="Picture 8" descr="C:\Users\Eigenaar\AppData\Local\Microsoft\Windows\Temporary Internet Files\Content.IE5\RVMFCU9C\MCj00978310000[1].wmf"/>
            <p:cNvPicPr/>
            <p:nvPr/>
          </p:nvPicPr>
          <p:blipFill>
            <a:blip r:embed="rId2">
              <a:grayscl/>
            </a:blip>
            <a:stretch/>
          </p:blipFill>
          <p:spPr>
            <a:xfrm>
              <a:off x="5295600" y="5275080"/>
              <a:ext cx="1062360" cy="1200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9" name="Picture 4" descr="C:\Users\Eigenaar\AppData\Local\Microsoft\Windows\Temporary Internet Files\Content.IE5\4EHAKWTX\MPj04227460000[1].jpg"/>
          <p:cNvPicPr/>
          <p:nvPr/>
        </p:nvPicPr>
        <p:blipFill>
          <a:blip r:embed="rId3">
            <a:grayscl/>
          </a:blip>
          <a:stretch/>
        </p:blipFill>
        <p:spPr>
          <a:xfrm>
            <a:off x="7399440" y="0"/>
            <a:ext cx="174456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cc00"/>
                </a:solidFill>
                <a:latin typeface="Arial"/>
              </a:rPr>
              <a:t>Handelend optred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c0000"/>
                </a:solidFill>
                <a:latin typeface="Arial"/>
              </a:rPr>
              <a:t>bij incidenten en bijna-ongevall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irecte maatregele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(situaties markeren/handeling (laten) stoppen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elden bij de leidinggevende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c0000"/>
                </a:solidFill>
                <a:latin typeface="Arial"/>
              </a:rPr>
              <a:t>bij ongevall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olg de alarminstructies op (BHV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geleid het slachtoffer naar de medische dienst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(of alarmeer zo nodig de BHV’er of de art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neem direct maatregelen om herhaling te voorkom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elden bij de leidinggevend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Picture 10" descr=""/>
          <p:cNvPicPr/>
          <p:nvPr/>
        </p:nvPicPr>
        <p:blipFill>
          <a:blip r:embed="rId1"/>
          <a:srcRect l="29373" t="0" r="9143" b="0"/>
          <a:stretch/>
        </p:blipFill>
        <p:spPr>
          <a:xfrm>
            <a:off x="7715160" y="0"/>
            <a:ext cx="1428840" cy="20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cc00"/>
                </a:solidFill>
                <a:latin typeface="Arial"/>
              </a:rPr>
              <a:t>Wat is veilighei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scherming tegen geva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óók gevaren voor je gezondh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oede arbeidsomstandighe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iligheid, Gezondheid en Welzijn (VGW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reventie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(voorkomen is beter dan genez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eren van incidenten, ongevallen en bijna-ongeval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" name="Object 1"/>
          <p:cNvGraphicFramePr/>
          <p:nvPr/>
        </p:nvGraphicFramePr>
        <p:xfrm>
          <a:off x="7412040" y="0"/>
          <a:ext cx="1731960" cy="2714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3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12040" y="0"/>
                    <a:ext cx="1731960" cy="271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cc00"/>
                </a:solidFill>
                <a:latin typeface="Arial"/>
              </a:rPr>
              <a:t>1.1 Gevaren bij het we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voorbee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rand, ontploffing (explosie) of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giftig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raakt worden door of bekneld raken tussen bewegende de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gereden worden door autoverkeer of werkvoertui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allen of getroffen worden door een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allend voorwer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lektriciteit, straling en lawaa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Afbeelding 6" descr="405230_f520.jpg"/>
          <p:cNvPicPr/>
          <p:nvPr/>
        </p:nvPicPr>
        <p:blipFill>
          <a:blip r:embed="rId1"/>
          <a:stretch/>
        </p:blipFill>
        <p:spPr>
          <a:xfrm>
            <a:off x="6540480" y="6480"/>
            <a:ext cx="2610000" cy="26082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8" descr=""/>
          <p:cNvPicPr/>
          <p:nvPr/>
        </p:nvPicPr>
        <p:blipFill>
          <a:blip r:embed="rId2"/>
          <a:stretch/>
        </p:blipFill>
        <p:spPr>
          <a:xfrm>
            <a:off x="6913440" y="3444840"/>
            <a:ext cx="2303640" cy="287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cc00"/>
                </a:solidFill>
                <a:latin typeface="Arial"/>
              </a:rPr>
              <a:t>1.1 Gevaren bij het we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ronnen van gevaar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t soort we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werkplek of de omgeving van de werkpl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rbeidsmidde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machines, gereedschappen en hulpmidde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producten en de materialen waarmee gewerkt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wor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t gedrag van de werknem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7" descr="el5"/>
          <p:cNvPicPr/>
          <p:nvPr/>
        </p:nvPicPr>
        <p:blipFill>
          <a:blip r:embed="rId1"/>
          <a:stretch/>
        </p:blipFill>
        <p:spPr>
          <a:xfrm>
            <a:off x="3060720" y="5108400"/>
            <a:ext cx="2852640" cy="17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cc00"/>
                </a:solidFill>
                <a:latin typeface="Arial"/>
              </a:rPr>
              <a:t>1.1 Gevaren bij het we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gevaren zijn groter bi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en met gevaarlijke stoff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en met gevaarlijk gereedschap/mach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en met hoge dru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en met stralingsbronn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raafwerkzaamhe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en met elektricite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en in hitte of ko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en in lawaaierige omgev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en op hoog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" name="Groep 6"/>
          <p:cNvGrpSpPr/>
          <p:nvPr/>
        </p:nvGrpSpPr>
        <p:grpSpPr>
          <a:xfrm>
            <a:off x="7572240" y="142920"/>
            <a:ext cx="1571760" cy="2357280"/>
            <a:chOff x="7572240" y="142920"/>
            <a:chExt cx="1571760" cy="2357280"/>
          </a:xfrm>
        </p:grpSpPr>
        <p:pic>
          <p:nvPicPr>
            <p:cNvPr id="64" name="Picture 4" descr="C:\Users\Eigenaar\AppData\Local\Microsoft\Windows\Temporary Internet Files\Content.IE5\X3JDBKQA\MCj03039330000[1].wmf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572240" y="142920"/>
              <a:ext cx="1427400" cy="235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Picture 5" descr="C:\Users\Eigenaar\AppData\Local\Microsoft\Windows\Temporary Internet Files\Content.IE5\U0M1V2XN\MCj02790320000[1].wmf"/>
            <p:cNvPicPr/>
            <p:nvPr/>
          </p:nvPicPr>
          <p:blipFill>
            <a:blip r:embed="rId2"/>
            <a:stretch/>
          </p:blipFill>
          <p:spPr>
            <a:xfrm>
              <a:off x="8570880" y="1054440"/>
              <a:ext cx="573120" cy="8168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cc00"/>
                </a:solidFill>
                <a:latin typeface="Arial"/>
              </a:rPr>
              <a:t>1.2 Begripp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6212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cid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ngewenste gebeurtenis met of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zonder schade of lets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na-ongev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ngewenste gebeurtenis zonder schade of lets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gev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ngewenste gebeurtenis met schade en/of lets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rbeidsongev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ngewenste gebeurtenis tijdens het werk met lets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oodsitua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ernstige bedreiging door ongevallen,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randen, explosie, gevaarlijke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ziekteverwekkers of een bommeld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cc00"/>
                </a:solidFill>
                <a:latin typeface="Arial"/>
              </a:rPr>
              <a:t>1.3 Lessen uit eerdere ongevall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aardoor gaan zaken m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8840" indent="-28260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ervan leren om ze te voorkom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18840" indent="-28260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aatregelen nemen om erger te voorkom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orzaken van ongeval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8840" indent="-282600">
              <a:lnSpc>
                <a:spcPct val="100000"/>
              </a:lnSpc>
              <a:spcBef>
                <a:spcPts val="550"/>
              </a:spcBef>
              <a:buClr>
                <a:srgbClr val="c0163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000000"/>
                </a:solidFill>
                <a:latin typeface="Arial"/>
              </a:rPr>
              <a:t>onveilig handelen en/of een onveilige situatie              (directe oorzaken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veilig handelen: dé belangrijkste oorzaa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cc00"/>
                </a:solidFill>
                <a:latin typeface="Arial"/>
                <a:ea typeface="Arial"/>
              </a:rPr>
              <a:t>ongevallen zijn vooral te voorkom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cc00"/>
                </a:solidFill>
                <a:latin typeface="Arial"/>
                <a:ea typeface="Arial"/>
              </a:rPr>
              <a:t>door te zorgen voor veilig werkgedra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cc00"/>
                </a:solidFill>
                <a:latin typeface="Arial"/>
              </a:rPr>
              <a:t>1.4 Veilig werkgedr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org voor jezel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org voor je omgev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ositieve instel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lg veiligheidsvoorschrif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lg instruc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6" descr="http://www.safetybillboards.nl/stop%20werkt%20u%20wel%20veilig.JPG"/>
          <p:cNvPicPr/>
          <p:nvPr/>
        </p:nvPicPr>
        <p:blipFill>
          <a:blip r:embed="rId1"/>
          <a:stretch/>
        </p:blipFill>
        <p:spPr>
          <a:xfrm>
            <a:off x="7429680" y="0"/>
            <a:ext cx="171432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7T09:32:11Z</dcterms:created>
  <dc:creator>jrijdes</dc:creator>
  <dc:description/>
  <dc:language>en-US</dc:language>
  <cp:lastModifiedBy>Hans Mulder</cp:lastModifiedBy>
  <dcterms:modified xsi:type="dcterms:W3CDTF">2016-10-06T09:06:41Z</dcterms:modified>
  <cp:revision>79</cp:revision>
  <dc:subject/>
  <dc:title>PowerPoint-presentatie</dc:title>
</cp:coreProperties>
</file>