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wmf" ContentType="image/x-wmf"/>
  <Override PartName="/ppt/media/image3.wmf" ContentType="image/x-wmf"/>
  <Override PartName="/ppt/media/image15.jpeg" ContentType="image/jpe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33FF-0C81-49E4-9EC0-13E786F5E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0B90-4A2E-4498-B271-F17ECC9E3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002945-FD96-4085-A02C-33298E31F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DCD72F-D82F-4D29-AD54-3DE9042DA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5786D6-02D5-4E50-B04A-06D093095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3C650F-470D-42FB-BE00-E2B7ED3E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D14790-E7C6-4080-86B5-B0E46E2B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997E59-3DEF-4F5B-AAF2-2108FE18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268DE4-C886-4AA2-9444-A82A8874B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34F3F8-8E1C-41F6-8C25-547F392E8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B7AC52-2863-47FE-88A6-CDD207E87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34CB11-079B-44C1-910C-3449F940A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3C68-1799-4B18-9D18-1EDD530EB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79509E-7477-493F-96DD-0C73D42C1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433BFC-00A1-40C1-BD14-2B7610532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A38D02-B52E-4E52-8CFD-C0C386138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7B70F8-79CA-4694-862B-1C874CB9A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5018EE-0DB7-4AC6-80A2-A3D22436B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CB2BB3-9FE7-44D1-B68F-81CCC414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5EA896-7BD3-4599-9415-77E9B4FF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6CC111-C754-4DBC-9DAF-C3800323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EF2401-873A-4A11-AF94-C03AC140B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4CB545-1DAC-4DD7-9BBD-15E51A488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F574-49D5-4B5B-9050-22CCA73AD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E0DF74-122A-4F6E-9BDB-F92C3CB7A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EC7231-6154-412E-9E01-1CBBA89A7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518D32-8DEC-4530-BB13-FAF727F00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A9716F-4398-44CD-94E1-017476FDE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9036B2-4BEA-4D9C-97BA-3E717D083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84B083-33C2-447C-B95A-52C220166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5680EF-9617-4633-84DE-9F74A74A1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C64CEC-559D-48CC-AF34-1546C378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8A3806-062F-42C7-89DB-921BDD22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57482E-BDD3-450B-8E55-AB19AC22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6AD5E-3AC1-4480-BF43-B0B5AEEFD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03DE0E-7A4C-4150-8659-B7B068E2C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E6EA3D-DDDD-41A6-9428-82AF430F2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D399F9-FF1F-445F-A53F-3A6AD0AC3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019E50-21AD-4D83-A45E-A2DDE39A5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1873A8-9D92-4D6A-B828-1080C11E0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7F0E72-89C6-4953-BFB6-B3BB7BD6E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4E20EA-5EEB-4751-99BC-FAD3946E7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CE0548-A1E9-45D3-AB60-3A95E4D0C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DCE8AB-AFB0-4DA5-B09D-F932BF642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580D0D-9AEF-4035-8343-03CD2AD5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3F9FD-3709-45EE-A5C4-8CED1D366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C47F85-0A52-433D-BA20-A14DB8BD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4357C6-5082-4306-AB03-7D883957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8C1FDD-101B-4A23-B1F3-AFF59EFE0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AD27AE-6CBC-4D08-8FA8-BD2AF2B5D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4B8D6C-5A7D-4C0D-90B1-9B11F12E8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99DC5-2D61-43C2-9E6F-C3B5DAEED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DA68B-1D36-4454-81ED-4EDDCAE6A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CA64F-E67E-4F71-ACA2-789B272B0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0933D-F20D-4349-9EC7-8C322A66D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EC11B-7F68-4603-ABBA-9D5F4DA6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F84A-73B2-4F01-B5B3-026E26CA3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984D3-3408-4D66-8D8E-9BADED82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F39B5-0419-49BA-8CEC-F34C50EC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BF73D-4D69-463F-84BF-E09890AA5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B3725-314D-4943-95A9-7A225B223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0D59A-3A11-4D56-BF31-9B551058D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A5EEF-AC70-480D-B230-F1936CF74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D39DD-76BB-404D-8A21-67EEB6FC7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CE163-5E71-4ADF-92F6-E45322E34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818DA-94C4-4489-8E0C-93243600D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17EC3-81EC-45D6-BE96-4CE729B3A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7FD4-46A6-4BA5-9E2E-EE65D03D4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3EC99-FF49-44DA-9AC8-56C188C09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FB001-6B92-4D18-B0B1-E4197B37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18887-789F-45C6-8BC5-089595E1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B9A0E-AE4B-4229-9703-CCD863BD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D4716-5590-47CA-85D8-7E4A8D4D7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365DD-8B7E-40FF-AA15-A5B490A61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E2EE6-3F55-4BF3-BCCD-9513DA85E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BB265-BDF9-4E2C-9096-7079FB66B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04DFC-46C8-4393-BC8E-8CFDC219A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36BE2-EB29-4793-A78B-9B061D14D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57E9-96F1-4741-920E-4F8D5FF91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53087-B76A-43DC-87E6-2346913AF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3A4DD-9502-4BDC-ADD9-C2B653D7C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E48D2-7E32-44C8-8084-0CE046D84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E1E30-6959-45CD-9005-C0A5592D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8D352-188A-4583-A2AC-AE9FD80F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8711A-EBF4-4A01-B086-1ACB2884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4762B-6801-4308-80FD-CDB7FF27C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F7478-4E6C-4A45-9D3E-029207753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D2A2F-2291-41B8-B81E-62F3E8DF5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CD84F-AAEE-4EAE-9248-9A28E03CF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7BF3-3A85-4FA4-BB43-DE0418E73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906FD-F9B1-41B9-9747-3464C226A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97D26-E10A-4615-A0C8-2C2BE53EC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54787-F245-46CB-8A69-526E4848D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C9927-951C-4C07-B7E4-DF2E2C91A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D995A-6141-4BEB-B35B-8C0F705A5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D1268-C077-41A6-9E18-B2E09B4F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8A859-B9B4-4FBE-B184-D64CE510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CD335-1CCC-41B2-9D45-7C4A6294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92177-6678-49B6-9212-EE0048A06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84046-7D35-4ADB-997B-4E4533953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32F7-5F2B-4022-8433-7194BE241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D047E-BE3E-4E72-9901-F9D94D0C3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D23F3-4B7D-4E94-8A7F-585930112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2A8C5-ED46-4175-9A94-5448014FF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81E5A-A84A-4F52-B84A-4D7DB44DA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CE25E-51CB-4D06-B84F-4270A0C7F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E29490-EC02-4025-AE08-6CC727054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012D3-0CE1-4DC2-B812-5434BE5A1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20A06C-681B-4CD3-8C2F-E5C267EF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BF557-E893-4440-BDFD-4AA1186B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F18DF-64F0-424F-BFEE-164C07DC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8B0E-9792-444A-8D72-0500C236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BACB8-9045-4B43-A753-175AA827D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D4B39-290D-44A5-AA43-72E3950E5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B1F5B7-6E8E-4040-9CC4-DB6CE4826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DDE06-0C49-4CB0-8E97-48B6CCDF5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29B8BA-835A-4A5B-B0EA-C568D0660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75F407-6B1D-4142-A747-7B83D39AA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D1081-D0C7-4553-BF98-F3FE2D6C2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23BA6-9FE1-4C2C-8FE5-1AE4EA55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50A049-39E6-4284-82E1-365EDB675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86DF3D-ECCE-4891-9DE4-3E577A97D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0840-09B6-4C22-9CD1-5D938E19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99EB6B-7A93-4650-9F48-172BE2BE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DB7E0-179F-4882-B2A4-7F1948C6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05CDB-D3A9-4D0D-AB8D-EB718CBD3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5353D-C174-4FC8-9002-236F3F3E5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C915B-7007-4176-A21B-8F08CAF1D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07A458-50AF-491E-8820-B158C97DB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96F153-29EA-4900-8C7B-CBB2CA99A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BE857D-4C7C-4366-A843-F4785D673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C35FE0-92A0-4809-80E1-F5B775C3F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86802E-FD08-418C-BDC0-25DC6B38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E4BB-86F9-43BB-83A2-CB43BEC9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E1ADB2-F6F1-4826-B68D-4B055D99A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E3C32A-B471-42F2-9617-7DDA682D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5D6B74-2D6A-4772-8657-EE6E69E5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396003-1ADD-400C-9850-EA98FF93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F39A99-50E8-471A-9BBB-2F4AA7FA8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A4BFD4-AEBE-4889-A3A8-B239606B9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00A434-70A4-48DE-A4F2-C5D0A473D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D7E98D-DACF-4FC3-8B3E-8078EB015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8C192F-DFB0-4793-87E8-767051210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B8B5E7-1CB1-42A5-B4B7-971272509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F6819-65C2-47A7-BAED-D3A833F8A155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39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8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9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0FA14-EA0B-48A1-8C01-846E2D626783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3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2BA52-7C8F-445E-AE1F-76504FEC66AE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D2F35-5B5F-4496-AC5C-490FEB4EFAE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3"/>
          <a:stretch/>
        </p:blipFill>
        <p:spPr>
          <a:xfrm>
            <a:off x="771516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4"/>
          <a:stretch/>
        </p:blipFill>
        <p:spPr>
          <a:xfrm>
            <a:off x="533520" y="5867280"/>
            <a:ext cx="838080" cy="5428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CC919-15F7-472D-ADD0-5C66C2BD970D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20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1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122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51" name="Picture 4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47560" cy="9651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4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1039680" cy="10922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11620-F098-4F6C-A4B5-CB1563216D1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0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59DD1-6184-4A5E-A72B-8309FBB4E5B5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EA7EE-B126-454C-9116-DCBA6DEA9316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6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91D17-245C-4B20-9464-9151EA09CE7B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9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C5CA6-7A61-49C5-BDA5-10A86A302440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2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D2BFC-75D7-490D-A67D-DD9604F29B4C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5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FB9DB-0C69-4AC0-B10F-07E5772F31A0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erckebosch.nl/html/home.php" TargetMode="External"/><Relationship Id="rId3" Type="http://schemas.openxmlformats.org/officeDocument/2006/relationships/hyperlink" Target="http://www.kerckebosch.nl/html/home.php" TargetMode="External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499680" y="571680"/>
            <a:ext cx="8358120" cy="400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aa911"/>
                </a:solidFill>
                <a:latin typeface="Arial"/>
              </a:rPr>
              <a:t>VCA V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a911"/>
                </a:solidFill>
                <a:latin typeface="Arial"/>
              </a:rPr>
              <a:t>Hoofdstuk 7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a911"/>
                </a:solidFill>
                <a:latin typeface="Arial"/>
              </a:rPr>
              <a:t>Managementsysteem en certificatie:</a:t>
            </a:r>
            <a:br>
              <a:rPr sz="4400"/>
            </a:br>
            <a:r>
              <a:rPr b="1" lang="en-US" sz="4400" spc="-1" strike="noStrike">
                <a:solidFill>
                  <a:srgbClr val="2aa911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2aa911"/>
                </a:solidFill>
                <a:latin typeface="Arial"/>
                <a:ea typeface="Tahoma"/>
              </a:rPr>
              <a:t>het fundament van VC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AutoShape 5">
            <a:hlinkClick r:id="rId2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AutoShape 7">
            <a:hlinkClick r:id="rId3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Tijdelijke aanduiding voor dianummer 6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296D0-9C62-4817-9A90-63E597ABB08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4  V&amp;G-actiepla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1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AEBE3-44DB-45DF-8BDB-6D72D409303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6" name="Groep 8"/>
          <p:cNvGrpSpPr/>
          <p:nvPr/>
        </p:nvGrpSpPr>
        <p:grpSpPr>
          <a:xfrm>
            <a:off x="1285920" y="1071360"/>
            <a:ext cx="2954160" cy="4818240"/>
            <a:chOff x="1285920" y="1071360"/>
            <a:chExt cx="2954160" cy="4818240"/>
          </a:xfrm>
        </p:grpSpPr>
        <p:sp>
          <p:nvSpPr>
            <p:cNvPr id="617" name="Parallellogram 6"/>
            <p:cNvSpPr/>
            <p:nvPr/>
          </p:nvSpPr>
          <p:spPr>
            <a:xfrm flipH="1" rot="5400000">
              <a:off x="1636200" y="997560"/>
              <a:ext cx="2122200" cy="2269080"/>
            </a:xfrm>
            <a:prstGeom prst="parallelogram">
              <a:avLst>
                <a:gd name="adj" fmla="val 25000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18" name="Rechthoek 5" descr=""/>
            <p:cNvPicPr/>
            <p:nvPr/>
          </p:nvPicPr>
          <p:blipFill>
            <a:blip r:embed="rId2"/>
            <a:stretch/>
          </p:blipFill>
          <p:spPr>
            <a:xfrm>
              <a:off x="1285920" y="1611360"/>
              <a:ext cx="2954160" cy="4278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9" name="Tekstvak 7"/>
          <p:cNvSpPr/>
          <p:nvPr/>
        </p:nvSpPr>
        <p:spPr>
          <a:xfrm>
            <a:off x="5143680" y="1428840"/>
            <a:ext cx="3000240" cy="3812040"/>
          </a:xfrm>
          <a:prstGeom prst="rect">
            <a:avLst/>
          </a:prstGeom>
          <a:noFill/>
          <a:ln w="28440">
            <a:solidFill>
              <a:srgbClr val="c016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lstell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ie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atrege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de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akverdel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6E7FF-0C74-4014-B66A-6C3331E888A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4  V&amp;G-actiepla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22" name="Tekstvak 5"/>
          <p:cNvSpPr/>
          <p:nvPr/>
        </p:nvSpPr>
        <p:spPr>
          <a:xfrm>
            <a:off x="571680" y="1285920"/>
            <a:ext cx="82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doel actieplan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zorgen dat vastgestelde risico’s bij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RIE en T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worden beheerst door doeltreffende maatrege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Tekstvak 6"/>
          <p:cNvSpPr/>
          <p:nvPr/>
        </p:nvSpPr>
        <p:spPr>
          <a:xfrm>
            <a:off x="571680" y="3357720"/>
            <a:ext cx="8286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V&amp;G-actieplan bevat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maatregelen/acti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uitvoering (mensen, middelen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planning en eindtij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verantwoordelijk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evaluatie (ook t.a.v. doel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FDF26-B328-43F1-8B16-3A932A81C9F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2aa911"/>
                </a:solidFill>
                <a:latin typeface="Arial"/>
              </a:rPr>
              <a:t>7.5 Taakrisicoanalyse (TRA)</a:t>
            </a:r>
            <a:br>
              <a:rPr sz="2800"/>
            </a:br>
            <a:r>
              <a:rPr b="1" lang="nl-NL" sz="2800" spc="-1" strike="noStrike">
                <a:solidFill>
                  <a:srgbClr val="2aa911"/>
                </a:solidFill>
                <a:latin typeface="Arial"/>
              </a:rPr>
              <a:t>en Laatste Minuut RisicoAnalyse (LMRA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26" name="Tekstvak 5"/>
          <p:cNvSpPr/>
          <p:nvPr/>
        </p:nvSpPr>
        <p:spPr>
          <a:xfrm>
            <a:off x="571680" y="1828800"/>
            <a:ext cx="8072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voordat je goede maatregelen kunt treffen,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moet je eerst de risico’s analyser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zeker als er geen goede veiligheidsprocedures zij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6F1E9-ED62-437B-85DA-12E22243D99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Tekstvak 4"/>
          <p:cNvSpPr/>
          <p:nvPr/>
        </p:nvSpPr>
        <p:spPr>
          <a:xfrm>
            <a:off x="571680" y="417600"/>
            <a:ext cx="8572320" cy="57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TR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38124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bij nieuwe machines, projecten of voorafgaand aan werkvergunningen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38124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ook bij nieuwbouw, verbouw of inzetten van stagiairs, uitzendkrachten en jonger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38124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TRA-karwei opsplitsen in taken en die weer in taakstapp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38124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per taakstap de risico’s en de noodzakelijke (extra) beheersmaatregelen vaststel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38124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zo nodig maatregelen aanpassen/nieuwe TRA uitvoeren als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7600" indent="-2854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condities zijn veranderd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7600" indent="-2854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het werkplan niet meer uitvoerbaar is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7600" indent="-2854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de installatie niet meer drukvrij of spanningsvrij is  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7600" indent="-2854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de  juiste middelen of gereedschappen niet beschikbaar zij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AA3A8-EBA8-44CD-B49B-93CE51CE2F3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0" name="Picture 7" descr=""/>
          <p:cNvPicPr/>
          <p:nvPr/>
        </p:nvPicPr>
        <p:blipFill>
          <a:blip r:embed="rId2"/>
          <a:stretch/>
        </p:blipFill>
        <p:spPr>
          <a:xfrm>
            <a:off x="0" y="5929200"/>
            <a:ext cx="714240" cy="495360"/>
          </a:xfrm>
          <a:prstGeom prst="rect">
            <a:avLst/>
          </a:prstGeom>
          <a:ln w="0">
            <a:noFill/>
          </a:ln>
        </p:spPr>
      </p:pic>
      <p:sp>
        <p:nvSpPr>
          <p:cNvPr id="631" name="Tekstvak 4"/>
          <p:cNvSpPr/>
          <p:nvPr/>
        </p:nvSpPr>
        <p:spPr>
          <a:xfrm>
            <a:off x="571680" y="511200"/>
            <a:ext cx="8572320" cy="52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Tahoma"/>
              </a:rPr>
              <a:t>LMR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uit te voeren risicocheck door de uitvoerende direct voor aanvang van zijn werkzaamheden bij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nieuwe taa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verandering van wer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en ook bij routinematige werkzaamheden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doel is dat werk zo nodig wordt gestopt en eerst de beheersmaatregelen worden getroff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Tahoma"/>
              </a:rPr>
              <a:t>middelen die worden gebruik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aandachtspuntenkaar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werkcheckcar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stop-check-go card …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LMRA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D742E-D0B7-4765-BB8A-01D9EA94DCE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Rechthoek 7"/>
          <p:cNvSpPr/>
          <p:nvPr/>
        </p:nvSpPr>
        <p:spPr>
          <a:xfrm>
            <a:off x="3571920" y="1000080"/>
            <a:ext cx="3408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andachtspuntenkaartje of werkcheckcard gebruiken,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leinere kans dat je iets over het hoofd ziet…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5" name="Picture 7" descr="Scannen0001"/>
          <p:cNvPicPr/>
          <p:nvPr/>
        </p:nvPicPr>
        <p:blipFill>
          <a:blip r:embed="rId2"/>
          <a:srcRect l="3501" t="1212" r="19563" b="15335"/>
          <a:stretch/>
        </p:blipFill>
        <p:spPr>
          <a:xfrm>
            <a:off x="857160" y="1071720"/>
            <a:ext cx="2571840" cy="371952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10" descr="Scannen0002"/>
          <p:cNvPicPr/>
          <p:nvPr/>
        </p:nvPicPr>
        <p:blipFill>
          <a:blip r:embed="rId3"/>
          <a:srcRect l="0" t="15349" r="62584" b="6527"/>
          <a:stretch/>
        </p:blipFill>
        <p:spPr>
          <a:xfrm rot="983400">
            <a:off x="6754680" y="2332080"/>
            <a:ext cx="1600200" cy="246384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9" descr="Scannen0003"/>
          <p:cNvPicPr/>
          <p:nvPr/>
        </p:nvPicPr>
        <p:blipFill>
          <a:blip r:embed="rId4"/>
          <a:srcRect l="0" t="5832" r="0" b="21877"/>
          <a:stretch/>
        </p:blipFill>
        <p:spPr>
          <a:xfrm>
            <a:off x="3286080" y="2500200"/>
            <a:ext cx="2779920" cy="354348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12" descr="Scannen0005"/>
          <p:cNvPicPr/>
          <p:nvPr/>
        </p:nvPicPr>
        <p:blipFill>
          <a:blip r:embed="rId5"/>
          <a:srcRect l="0" t="0" r="4502" b="0"/>
          <a:stretch/>
        </p:blipFill>
        <p:spPr>
          <a:xfrm rot="17194200">
            <a:off x="6323760" y="2753280"/>
            <a:ext cx="250344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B7073-10C7-4032-AAAD-65249D97C65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272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6 Incidenten registrer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1" name="Tekstvak 6"/>
          <p:cNvSpPr/>
          <p:nvPr/>
        </p:nvSpPr>
        <p:spPr>
          <a:xfrm>
            <a:off x="609480" y="1371600"/>
            <a:ext cx="700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wat registreren?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incident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ongeval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bijna-ongeval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onveilige situati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onveilige handeling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Tekstvak 7"/>
          <p:cNvSpPr/>
          <p:nvPr/>
        </p:nvSpPr>
        <p:spPr>
          <a:xfrm>
            <a:off x="571680" y="4000680"/>
            <a:ext cx="7072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waarom?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gegevens vastleggen voor de overheid en als basis voor bedrijfsbeleid om ervan te kunnen ler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EBDF2-A475-4EA9-A7A4-E70E91561D6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272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7 Ongevallenonderzoek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5" name="Tekstvak 7"/>
          <p:cNvSpPr/>
          <p:nvPr/>
        </p:nvSpPr>
        <p:spPr>
          <a:xfrm>
            <a:off x="571680" y="974880"/>
            <a:ext cx="835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vaststellen en wegnemen van de oorzaken van een ongeval voorkomt herhal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Tekstvak 8"/>
          <p:cNvSpPr/>
          <p:nvPr/>
        </p:nvSpPr>
        <p:spPr>
          <a:xfrm>
            <a:off x="2786040" y="2049480"/>
            <a:ext cx="2624040" cy="2598840"/>
          </a:xfrm>
          <a:prstGeom prst="rect">
            <a:avLst/>
          </a:prstGeom>
          <a:solidFill>
            <a:srgbClr val="60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derzoek 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at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.s.m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to’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standighede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Tekstvak 10"/>
          <p:cNvSpPr/>
          <p:nvPr/>
        </p:nvSpPr>
        <p:spPr>
          <a:xfrm>
            <a:off x="1357200" y="5072040"/>
            <a:ext cx="235764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nalyseren en combiner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Tekstvak 11"/>
          <p:cNvSpPr/>
          <p:nvPr/>
        </p:nvSpPr>
        <p:spPr>
          <a:xfrm>
            <a:off x="785880" y="3714840"/>
            <a:ext cx="1714320" cy="947160"/>
          </a:xfrm>
          <a:prstGeom prst="rect">
            <a:avLst/>
          </a:prstGeom>
          <a:solidFill>
            <a:srgbClr val="c4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uigen hor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49" name="Rechte verbindingslijn met pijl 13"/>
          <p:cNvCxnSpPr>
            <a:endCxn id="647" idx="0"/>
          </p:cNvCxnSpPr>
          <p:nvPr/>
        </p:nvCxnSpPr>
        <p:spPr>
          <a:xfrm>
            <a:off x="1787400" y="4714920"/>
            <a:ext cx="750240" cy="357840"/>
          </a:xfrm>
          <a:prstGeom prst="straightConnector1">
            <a:avLst/>
          </a:prstGeom>
          <a:ln w="57240">
            <a:solidFill>
              <a:srgbClr val="2aa911"/>
            </a:solidFill>
            <a:miter/>
            <a:tailEnd len="med" type="arrow" w="med"/>
          </a:ln>
        </p:spPr>
      </p:cxnSp>
      <p:cxnSp>
        <p:nvCxnSpPr>
          <p:cNvPr id="650" name="Rechte verbindingslijn met pijl 15"/>
          <p:cNvCxnSpPr/>
          <p:nvPr/>
        </p:nvCxnSpPr>
        <p:spPr>
          <a:xfrm flipH="1">
            <a:off x="2714400" y="4714920"/>
            <a:ext cx="1072080" cy="286560"/>
          </a:xfrm>
          <a:prstGeom prst="straightConnector1">
            <a:avLst/>
          </a:prstGeom>
          <a:ln w="57240">
            <a:solidFill>
              <a:srgbClr val="2aa911"/>
            </a:solidFill>
            <a:miter/>
            <a:tailEnd len="med" type="arrow" w="med"/>
          </a:ln>
        </p:spPr>
      </p:cxnSp>
      <p:cxnSp>
        <p:nvCxnSpPr>
          <p:cNvPr id="651" name="Rechte verbindingslijn met pijl 18"/>
          <p:cNvCxnSpPr>
            <a:stCxn id="647" idx="3"/>
            <a:endCxn id="652" idx="1"/>
          </p:cNvCxnSpPr>
          <p:nvPr/>
        </p:nvCxnSpPr>
        <p:spPr>
          <a:xfrm flipV="1">
            <a:off x="3714840" y="4990320"/>
            <a:ext cx="1838880" cy="55476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653" name="Tekstvak 21"/>
          <p:cNvSpPr/>
          <p:nvPr/>
        </p:nvSpPr>
        <p:spPr>
          <a:xfrm>
            <a:off x="609480" y="2362320"/>
            <a:ext cx="200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onderzoek-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pla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Tekstvak 22"/>
          <p:cNvSpPr/>
          <p:nvPr/>
        </p:nvSpPr>
        <p:spPr>
          <a:xfrm>
            <a:off x="5572080" y="4071960"/>
            <a:ext cx="3038400" cy="1800360"/>
          </a:xfrm>
          <a:prstGeom prst="rect">
            <a:avLst/>
          </a:prstGeom>
          <a:solidFill>
            <a:srgbClr val="c4c4c4"/>
          </a:solidFill>
          <a:ln w="38160">
            <a:solidFill>
              <a:srgbClr val="000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port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it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anbeveling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5267E-7BE4-44A0-89C3-A6696EB18FA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8 Voorbereiden op noodsituatie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6" name="Tekstvak 4"/>
          <p:cNvSpPr/>
          <p:nvPr/>
        </p:nvSpPr>
        <p:spPr>
          <a:xfrm>
            <a:off x="642960" y="1643040"/>
            <a:ext cx="7786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noodpla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noodprocedures bekend stell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organiseren van de noodhulp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DAB62-65A0-44B1-B4B3-3481F109D4E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8 Voorbereiden op noodsituaties (2)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659" name="Groep 5" descr=""/>
          <p:cNvPicPr/>
          <p:nvPr/>
        </p:nvPicPr>
        <p:blipFill>
          <a:blip r:embed="rId2"/>
          <a:stretch/>
        </p:blipFill>
        <p:spPr>
          <a:xfrm>
            <a:off x="963720" y="1352520"/>
            <a:ext cx="3705120" cy="4037040"/>
          </a:xfrm>
          <a:prstGeom prst="rect">
            <a:avLst/>
          </a:prstGeom>
          <a:ln w="0">
            <a:noFill/>
          </a:ln>
        </p:spPr>
      </p:pic>
      <p:sp>
        <p:nvSpPr>
          <p:cNvPr id="660" name="Tekstvak 8"/>
          <p:cNvSpPr/>
          <p:nvPr/>
        </p:nvSpPr>
        <p:spPr>
          <a:xfrm>
            <a:off x="5018040" y="2233440"/>
            <a:ext cx="3571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chrijving van maatregelen en voorzieningen om in noodsituaties effectief te kunnen optred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Tekstvak 9"/>
          <p:cNvSpPr/>
          <p:nvPr/>
        </p:nvSpPr>
        <p:spPr>
          <a:xfrm>
            <a:off x="4929120" y="4929120"/>
            <a:ext cx="385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het noodplan staan ook de noodprocedur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 Managementsysteem en certificatie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99680" y="1356840"/>
            <a:ext cx="86439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n van veiligheid met een syste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CA, wat is het, hoe werkt h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systeem: risicobeheersing 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eidsvoer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 VCA checklist: V&amp;G-actiepl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en VCA checklist: TRA en LMR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6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 VCA checklist: incidenten registre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7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 VCA checklist: ongevallenonderzoe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8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 VCA checklist: voorbereiding o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odsitua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9117C-689B-42FD-97FE-6BE89E33CAE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EB6D9-FA5F-4984-8421-ED940B79133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700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8 Voorbereiden op noodsituaties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64" name="Tekstvak 4"/>
          <p:cNvSpPr/>
          <p:nvPr/>
        </p:nvSpPr>
        <p:spPr>
          <a:xfrm>
            <a:off x="928800" y="1285920"/>
            <a:ext cx="5214960" cy="703440"/>
          </a:xfrm>
          <a:prstGeom prst="rect">
            <a:avLst/>
          </a:prstGeom>
          <a:noFill/>
          <a:ln w="9360">
            <a:solidFill>
              <a:srgbClr val="2aa9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Arial"/>
                <a:ea typeface="Tahoma"/>
              </a:rPr>
              <a:t> </a:t>
            </a:r>
            <a:r>
              <a:rPr b="0" lang="en-US" sz="4000" spc="-1" strike="noStrike">
                <a:solidFill>
                  <a:srgbClr val="c00000"/>
                </a:solidFill>
                <a:latin typeface="Arial"/>
                <a:ea typeface="Tahoma"/>
              </a:rPr>
              <a:t>noodprocedure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Tekstvak 5"/>
          <p:cNvSpPr/>
          <p:nvPr/>
        </p:nvSpPr>
        <p:spPr>
          <a:xfrm>
            <a:off x="609480" y="2895480"/>
            <a:ext cx="2476800" cy="2135520"/>
          </a:xfrm>
          <a:prstGeom prst="rect">
            <a:avLst/>
          </a:prstGeom>
          <a:noFill/>
          <a:ln w="9360">
            <a:solidFill>
              <a:srgbClr val="2aa9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meld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ongevall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noodsituatie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alarmeren van hulpdienst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Tekstvak 6"/>
          <p:cNvSpPr/>
          <p:nvPr/>
        </p:nvSpPr>
        <p:spPr>
          <a:xfrm>
            <a:off x="3195720" y="2895480"/>
            <a:ext cx="2876400" cy="2135520"/>
          </a:xfrm>
          <a:prstGeom prst="rect">
            <a:avLst/>
          </a:prstGeom>
          <a:noFill/>
          <a:ln w="9360">
            <a:solidFill>
              <a:srgbClr val="2aa9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hulpverlen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EHBO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middel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oorzaak /dreiging wegnem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Tekstvak 7"/>
          <p:cNvSpPr/>
          <p:nvPr/>
        </p:nvSpPr>
        <p:spPr>
          <a:xfrm>
            <a:off x="6215040" y="2895480"/>
            <a:ext cx="2548080" cy="3141000"/>
          </a:xfrm>
          <a:prstGeom prst="rect">
            <a:avLst/>
          </a:prstGeom>
          <a:noFill/>
          <a:ln w="9360">
            <a:solidFill>
              <a:srgbClr val="2aa9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evacuati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plattegrond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waarschuwing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middel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verzamel-</a:t>
            </a: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 plaats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oefeningen </a:t>
            </a:r>
            <a:br>
              <a:rPr sz="2200"/>
            </a:b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(min.1x per jaar, met derden)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Rechte verbindingslijn 9"/>
          <p:cNvSpPr/>
          <p:nvPr/>
        </p:nvSpPr>
        <p:spPr>
          <a:xfrm flipV="1">
            <a:off x="1828800" y="1981080"/>
            <a:ext cx="1108080" cy="857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Rechte verbindingslijn 12"/>
          <p:cNvSpPr/>
          <p:nvPr/>
        </p:nvSpPr>
        <p:spPr>
          <a:xfrm>
            <a:off x="3536280" y="1996920"/>
            <a:ext cx="19080" cy="1363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Rechte verbindingslijn 14"/>
          <p:cNvSpPr/>
          <p:nvPr/>
        </p:nvSpPr>
        <p:spPr>
          <a:xfrm>
            <a:off x="5429160" y="1928880"/>
            <a:ext cx="1608120" cy="950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Tekstvak 16"/>
          <p:cNvSpPr/>
          <p:nvPr/>
        </p:nvSpPr>
        <p:spPr>
          <a:xfrm>
            <a:off x="3286080" y="228600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uitreiken !!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2" name="Picture 5" descr=""/>
          <p:cNvPicPr/>
          <p:nvPr/>
        </p:nvPicPr>
        <p:blipFill>
          <a:blip r:embed="rId2"/>
          <a:stretch/>
        </p:blipFill>
        <p:spPr>
          <a:xfrm>
            <a:off x="7358040" y="214200"/>
            <a:ext cx="16099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642CC-51A7-49A9-8797-F86987B04BC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272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8 Voorbereiden op noodsituaties (4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5" name="Tekstvak 5"/>
          <p:cNvSpPr/>
          <p:nvPr/>
        </p:nvSpPr>
        <p:spPr>
          <a:xfrm>
            <a:off x="609480" y="928800"/>
            <a:ext cx="824868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in het noodplan staat ook verdere info m.b.t. de noodorganisatie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a9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chikbare hulpbronn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odvoorzieningen en menskracht in eig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satie en exter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HV (bedrijfshulpverlening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ttelijk verplichte organisati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 EHBO, bestrijden beginnende brand 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odevacuati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leiden oefenen van optreden volgens het draaiboe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eel voorbereid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odplan test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bereiding personeel test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a911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6" name="Afbeelding 7" descr="back_bhv.jpg"/>
          <p:cNvPicPr/>
          <p:nvPr/>
        </p:nvPicPr>
        <p:blipFill>
          <a:blip r:embed="rId2"/>
          <a:srcRect l="25877" t="10844" r="6838" b="34966"/>
          <a:stretch/>
        </p:blipFill>
        <p:spPr>
          <a:xfrm>
            <a:off x="7072200" y="785880"/>
            <a:ext cx="18576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B0070-7257-4061-8D17-B46A68E10F2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Tekstvak 3"/>
          <p:cNvSpPr/>
          <p:nvPr/>
        </p:nvSpPr>
        <p:spPr>
          <a:xfrm>
            <a:off x="571680" y="1373040"/>
            <a:ext cx="8286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als je zaken regelt, wil je graag dat wat je georganiseerd hebt, in stand blijft en dat je niet de volgende dag opnieuw met hetzelfde moet beginn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dan kom je niet vooruit!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een managementsysteem is een hulpmiddel om wel vooruit te kom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267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1 Managen van veiligheid met een systeem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1 Managen van veiligheid met een systeem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571680" y="1499760"/>
            <a:ext cx="85723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76280" indent="-285840">
              <a:spcBef>
                <a:spcPts val="601"/>
              </a:spcBef>
              <a:buClr>
                <a:srgbClr val="2aa91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gever moet steeds voldoen aan wettelijke eisen, bijvoorbeeld Arbow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spcBef>
                <a:spcPts val="601"/>
              </a:spcBef>
              <a:buClr>
                <a:srgbClr val="2aa91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gever moet ook afspraken nakomen die zijn gemaakt, zoals certificeringen, ca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de leidinggevende heeft een sleutelrol, maar dan moet er wel sprake zijn v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spcBef>
                <a:spcPts val="601"/>
              </a:spcBef>
              <a:buClr>
                <a:srgbClr val="2aa91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en duidelijk bele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spcBef>
                <a:spcPts val="601"/>
              </a:spcBef>
              <a:buClr>
                <a:srgbClr val="2aa91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ormite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spcBef>
                <a:spcPts val="601"/>
              </a:spcBef>
              <a:buClr>
                <a:srgbClr val="2aa91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voorwaarden als tijd, geld en bud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ff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D1C10-121F-4660-BBA8-02E92AB23E5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8272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2 VCA, wat is het, hoe werkt het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500040" y="1077480"/>
            <a:ext cx="8501040" cy="45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0163a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GM  </a:t>
            </a:r>
            <a:r>
              <a:rPr b="0" lang="en-US" sz="3200" spc="-1" strike="noStrike">
                <a:solidFill>
                  <a:srgbClr val="c0163a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hecklist  </a:t>
            </a:r>
            <a:r>
              <a:rPr b="0" lang="en-US" sz="3200" spc="-1" strike="noStrike">
                <a:solidFill>
                  <a:srgbClr val="c0163a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nnem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en lijst met beheersingseisen  om risico’s te voorkomen als aannemers werk uitvoeren in situaties met verhoogd risico, zoals in de Petrochem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en certificaat is een keurmerk dat aantoont dat het bedrijf de VCA-regels toepa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checklist VCA 2008/05 kent 3 niveaus van certificering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CA*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CA**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CA Petrochem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693B7-184C-408F-AEC6-47FB08E5C5D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2 VCA, wat is het, hoe werkt het 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571320" y="1077480"/>
            <a:ext cx="8429400" cy="520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basis van de beheersing is voldoende kenn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VCA vereist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kopleid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gemene veiligheidsopleiding VCA basisveiligheid voor uitvoerend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CA VOL voor operationeel leidinggevend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leidingen voor hoogrisicotaken volgens de SSVV opleidingengi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opleidingen en medische gegevens kunnen worden aangetoond met een veiligheidspaspoort of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personal safety logboek (PS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90FBC-831E-4F57-9D22-5D84576EECD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71680" y="-7668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3 Risicobeheersing en beleidsvoer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761760" y="1066320"/>
            <a:ext cx="7799400" cy="45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 van beleid is te zorgen voor planning van de preventie-uitvoer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gaat om een goede voorbereiding en leren van je ervaringe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it wordt weergegeven met de Deming-cirk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89DB4-942E-4CEC-A52F-2C4E1D23EE0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5" name="Gebogen pijl 4"/>
          <p:cNvGrpSpPr/>
          <p:nvPr/>
        </p:nvGrpSpPr>
        <p:grpSpPr>
          <a:xfrm>
            <a:off x="2651040" y="3749760"/>
            <a:ext cx="1049400" cy="895320"/>
            <a:chOff x="2651040" y="3749760"/>
            <a:chExt cx="1049400" cy="895320"/>
          </a:xfrm>
        </p:grpSpPr>
        <p:pic>
          <p:nvPicPr>
            <p:cNvPr id="586" name="Gebogen pijl 4" descr=""/>
            <p:cNvPicPr/>
            <p:nvPr/>
          </p:nvPicPr>
          <p:blipFill>
            <a:blip r:embed="rId2"/>
            <a:stretch/>
          </p:blipFill>
          <p:spPr>
            <a:xfrm>
              <a:off x="2651040" y="3749760"/>
              <a:ext cx="104940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2714760" y="3786120"/>
              <a:ext cx="92844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8" name="Gebogen pijl 5"/>
          <p:cNvGrpSpPr/>
          <p:nvPr/>
        </p:nvGrpSpPr>
        <p:grpSpPr>
          <a:xfrm>
            <a:off x="2541600" y="5273640"/>
            <a:ext cx="903240" cy="1041480"/>
            <a:chOff x="2541600" y="5273640"/>
            <a:chExt cx="903240" cy="1041480"/>
          </a:xfrm>
        </p:grpSpPr>
        <p:pic>
          <p:nvPicPr>
            <p:cNvPr id="589" name="Gebogen pijl 5" descr=""/>
            <p:cNvPicPr/>
            <p:nvPr/>
          </p:nvPicPr>
          <p:blipFill>
            <a:blip r:embed="rId3"/>
            <a:stretch/>
          </p:blipFill>
          <p:spPr>
            <a:xfrm>
              <a:off x="2541600" y="5273640"/>
              <a:ext cx="903240" cy="10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"/>
            <p:cNvSpPr/>
            <p:nvPr/>
          </p:nvSpPr>
          <p:spPr>
            <a:xfrm rot="16200000">
              <a:off x="2530440" y="5383440"/>
              <a:ext cx="9288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1" name="Gebogen pijl 6"/>
          <p:cNvGrpSpPr/>
          <p:nvPr/>
        </p:nvGrpSpPr>
        <p:grpSpPr>
          <a:xfrm>
            <a:off x="4584600" y="5394240"/>
            <a:ext cx="1041480" cy="897120"/>
            <a:chOff x="4584600" y="5394240"/>
            <a:chExt cx="1041480" cy="897120"/>
          </a:xfrm>
        </p:grpSpPr>
        <p:pic>
          <p:nvPicPr>
            <p:cNvPr id="592" name="Gebogen pijl 6" descr=""/>
            <p:cNvPicPr/>
            <p:nvPr/>
          </p:nvPicPr>
          <p:blipFill>
            <a:blip r:embed="rId4"/>
            <a:stretch/>
          </p:blipFill>
          <p:spPr>
            <a:xfrm>
              <a:off x="4584600" y="5394240"/>
              <a:ext cx="104148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"/>
            <p:cNvSpPr/>
            <p:nvPr/>
          </p:nvSpPr>
          <p:spPr>
            <a:xfrm rot="10800000">
              <a:off x="4643280" y="5428800"/>
              <a:ext cx="92880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4" name="Gebogen pijl 7"/>
          <p:cNvGrpSpPr/>
          <p:nvPr/>
        </p:nvGrpSpPr>
        <p:grpSpPr>
          <a:xfrm>
            <a:off x="4724280" y="3822840"/>
            <a:ext cx="901800" cy="1035000"/>
            <a:chOff x="4724280" y="3822840"/>
            <a:chExt cx="901800" cy="1035000"/>
          </a:xfrm>
        </p:grpSpPr>
        <p:pic>
          <p:nvPicPr>
            <p:cNvPr id="595" name="Gebogen pijl 7" descr=""/>
            <p:cNvPicPr/>
            <p:nvPr/>
          </p:nvPicPr>
          <p:blipFill>
            <a:blip r:embed="rId5"/>
            <a:stretch/>
          </p:blipFill>
          <p:spPr>
            <a:xfrm>
              <a:off x="4724280" y="3822840"/>
              <a:ext cx="901800" cy="103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"/>
            <p:cNvSpPr/>
            <p:nvPr/>
          </p:nvSpPr>
          <p:spPr>
            <a:xfrm rot="5400000">
              <a:off x="4714560" y="3929040"/>
              <a:ext cx="92844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7" name="Tekstvak 9"/>
          <p:cNvGrpSpPr/>
          <p:nvPr/>
        </p:nvGrpSpPr>
        <p:grpSpPr>
          <a:xfrm>
            <a:off x="3584520" y="3621240"/>
            <a:ext cx="1182600" cy="688680"/>
            <a:chOff x="3584520" y="3621240"/>
            <a:chExt cx="1182600" cy="688680"/>
          </a:xfrm>
        </p:grpSpPr>
        <p:pic>
          <p:nvPicPr>
            <p:cNvPr id="598" name="Tekstvak 9" descr=""/>
            <p:cNvPicPr/>
            <p:nvPr/>
          </p:nvPicPr>
          <p:blipFill>
            <a:blip r:embed="rId6"/>
            <a:stretch/>
          </p:blipFill>
          <p:spPr>
            <a:xfrm>
              <a:off x="3584520" y="3621240"/>
              <a:ext cx="118260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"/>
            <p:cNvSpPr/>
            <p:nvPr/>
          </p:nvSpPr>
          <p:spPr>
            <a:xfrm>
              <a:off x="3643200" y="3714840"/>
              <a:ext cx="1071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o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0" name="Tekstvak 10"/>
          <p:cNvGrpSpPr/>
          <p:nvPr/>
        </p:nvGrpSpPr>
        <p:grpSpPr>
          <a:xfrm>
            <a:off x="4511520" y="4694400"/>
            <a:ext cx="1670040" cy="688680"/>
            <a:chOff x="4511520" y="4694400"/>
            <a:chExt cx="1670040" cy="688680"/>
          </a:xfrm>
        </p:grpSpPr>
        <p:pic>
          <p:nvPicPr>
            <p:cNvPr id="601" name="Tekstvak 10" descr=""/>
            <p:cNvPicPr/>
            <p:nvPr/>
          </p:nvPicPr>
          <p:blipFill>
            <a:blip r:embed="rId7"/>
            <a:stretch/>
          </p:blipFill>
          <p:spPr>
            <a:xfrm>
              <a:off x="4511520" y="4694400"/>
              <a:ext cx="167004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"/>
            <p:cNvSpPr/>
            <p:nvPr/>
          </p:nvSpPr>
          <p:spPr>
            <a:xfrm>
              <a:off x="4572000" y="4786200"/>
              <a:ext cx="155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check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3" name="Tekstvak 11"/>
          <p:cNvGrpSpPr/>
          <p:nvPr/>
        </p:nvGrpSpPr>
        <p:grpSpPr>
          <a:xfrm>
            <a:off x="1798560" y="4621320"/>
            <a:ext cx="1670040" cy="689040"/>
            <a:chOff x="1798560" y="4621320"/>
            <a:chExt cx="1670040" cy="689040"/>
          </a:xfrm>
        </p:grpSpPr>
        <p:pic>
          <p:nvPicPr>
            <p:cNvPr id="604" name="Tekstvak 11" descr=""/>
            <p:cNvPicPr/>
            <p:nvPr/>
          </p:nvPicPr>
          <p:blipFill>
            <a:blip r:embed="rId8"/>
            <a:stretch/>
          </p:blipFill>
          <p:spPr>
            <a:xfrm>
              <a:off x="1798560" y="4621320"/>
              <a:ext cx="167004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"/>
            <p:cNvSpPr/>
            <p:nvPr/>
          </p:nvSpPr>
          <p:spPr>
            <a:xfrm>
              <a:off x="1857240" y="4714920"/>
              <a:ext cx="155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plan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6" name="Tekstvak 13"/>
          <p:cNvGrpSpPr/>
          <p:nvPr/>
        </p:nvGrpSpPr>
        <p:grpSpPr>
          <a:xfrm>
            <a:off x="3438360" y="5767560"/>
            <a:ext cx="1189080" cy="688680"/>
            <a:chOff x="3438360" y="5767560"/>
            <a:chExt cx="1189080" cy="688680"/>
          </a:xfrm>
        </p:grpSpPr>
        <p:pic>
          <p:nvPicPr>
            <p:cNvPr id="607" name="Tekstvak 13" descr=""/>
            <p:cNvPicPr/>
            <p:nvPr/>
          </p:nvPicPr>
          <p:blipFill>
            <a:blip r:embed="rId9"/>
            <a:stretch/>
          </p:blipFill>
          <p:spPr>
            <a:xfrm>
              <a:off x="3438360" y="5767560"/>
              <a:ext cx="118908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"/>
            <p:cNvSpPr/>
            <p:nvPr/>
          </p:nvSpPr>
          <p:spPr>
            <a:xfrm>
              <a:off x="3500280" y="5857920"/>
              <a:ext cx="1071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act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3 Risicobeheersing en beleidsvoering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571680" y="990360"/>
            <a:ext cx="8572320" cy="54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601"/>
              </a:spcBef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systematische beheersing wordt veelal bedrijfsbreed aangepak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t managementsysteem bevat de beschrijving van de uitgangspunten, regels, procedures en documenten die worden ingezet om de doelstellingen van het bedrijf te realise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kwijls is er een KAM-systeem (Kwaliteit Arbo Milieu);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wettelijk verplichte RIE is daarin opgenomen: </a:t>
            </a:r>
            <a:br>
              <a:rPr sz="2200"/>
            </a:br>
            <a:r>
              <a:rPr b="0" lang="en-US" sz="2200" spc="-1" strike="noStrike">
                <a:solidFill>
                  <a:srgbClr val="c0163a"/>
                </a:solidFill>
                <a:latin typeface="Arial"/>
              </a:rPr>
              <a:t>VCA eis 2.1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ze bestaat uit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81160" indent="-228600">
              <a:spcBef>
                <a:spcPts val="524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dentificeren van de gevaren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1181160" indent="-228600">
              <a:spcBef>
                <a:spcPts val="524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ventariseren van de risico’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1181160" indent="-228600">
              <a:spcBef>
                <a:spcPts val="524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valueren van de risico’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CCA82-C950-4EB7-AF27-3C357D3CEC2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90AF3-B633-4C0D-91F6-CCF1BB69F6A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Tekstvak 4"/>
          <p:cNvSpPr/>
          <p:nvPr/>
        </p:nvSpPr>
        <p:spPr>
          <a:xfrm>
            <a:off x="1357200" y="1246320"/>
            <a:ext cx="6643800" cy="3293280"/>
          </a:xfrm>
          <a:prstGeom prst="rect">
            <a:avLst/>
          </a:prstGeom>
          <a:noFill/>
          <a:ln w="9360">
            <a:solidFill>
              <a:srgbClr val="2aa9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enkele van de 47 VCA checklist-eisen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a911"/>
                </a:solidFill>
                <a:latin typeface="Arial"/>
                <a:ea typeface="Tahoma"/>
              </a:rPr>
              <a:t> </a:t>
            </a:r>
            <a:r>
              <a:rPr b="0" lang="en-US" sz="2800" spc="-1" strike="noStrike">
                <a:solidFill>
                  <a:srgbClr val="2aa911"/>
                </a:solidFill>
                <a:latin typeface="Arial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V&amp;G-actiepla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TR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LMR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incidentregistrati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ongevallenonderzoek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voorbereiding op noodsituati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5:19:44Z</dcterms:created>
  <dc:creator>de Groot</dc:creator>
  <dc:description/>
  <dc:language>en-US</dc:language>
  <cp:lastModifiedBy>jrijdes</cp:lastModifiedBy>
  <dcterms:modified xsi:type="dcterms:W3CDTF">2010-02-16T12:49:30Z</dcterms:modified>
  <cp:revision>244</cp:revision>
  <dc:subject/>
  <dc:title>Taak en positie VFP</dc:title>
</cp:coreProperties>
</file>