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DF7-E8C5-4CDE-BB5D-44AF4EA5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79B-F810-4B7B-BF43-D7566CFD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0A5-1BE9-4756-9E91-9B2ACEAF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48E-F2A8-4ED9-A115-4FF306FD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E5C-CCB9-46EF-A0D0-6D79B797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FC5-FE16-4CB0-965E-85989C53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431-24EB-41C9-9BC1-A5F76D73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5C4-E60F-4BFC-B162-E0C3EC8E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1D6-7F5C-45C7-8559-1BB30668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C1B-2879-42DE-A7A8-63CDDDC2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74E-C686-47F5-89D0-6091696F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5D3-3C68-4DFF-AEC5-F2CC190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31F8-7882-41DB-9693-B7A3878671A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saned.nl/index.php?id=289&amp;L=10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71320"/>
            <a:ext cx="7848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 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3 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Gevaarlijke stoffen</a:t>
            </a:r>
            <a:endParaRPr b="0" lang="en-US" sz="4400" spc="-1" strike="noStrike">
              <a:solidFill>
                <a:srgbClr val="33cc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voers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de vervoersetiketten van gevaarlijke stoff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 het om het gevaar dat tijdens het transport kan optre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die over de weg worden vervoerd, worden aangeduid met een diamant- of ruitvormig gevaarsymbool met de punt omhoog; de kleur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hankelijk van de 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       </a:t>
            </a:r>
            <a:r>
              <a:rPr b="0" lang="nl-NL" sz="2200" spc="-1" strike="noStrike">
                <a:solidFill>
                  <a:srgbClr val="33cc33"/>
                </a:solidFill>
                <a:latin typeface="Arial"/>
              </a:rPr>
              <a:t>brandbare vaste stof                        ontplofbare st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81320" y="548640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6248520" y="556272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ronosPro-Bol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inhoud van de gascilinder is te zien aan de kleur op de bovenkant (schouder) van de cilin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905120" y="2441520"/>
            <a:ext cx="51051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3 Gascilinder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</a:t>
            </a: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opsla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scilinder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ilinders goed vastze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 tegen zonnestralen / weersinvlo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fschermen van warmtestralingsbron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atterijen met gasflessen niet op de arbeidsplaa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ruimte goed venti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opslaan in of bij kelders en pu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uurstof gescheiden houden van brandbare g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aangepaste blusmiddelen en water als koelmiddel vlak bij de opslagruim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44375" t="0" r="4399" b="0"/>
          <a:stretch/>
        </p:blipFill>
        <p:spPr>
          <a:xfrm>
            <a:off x="7358040" y="0"/>
            <a:ext cx="1785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4 Gassen en dampen herkenn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assen en dampen (verdampte vloeistoffen) hebben geen kleur, maar herken je door g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je niets ruikt of ziet, kan er toch gas of damp aanwez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veel gevaarlijke dampen of gassen hebb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en geur of kleu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de geur van de gevaarlijke stof kan worden 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maskeerd door andere, niet-gevaarlijke stoff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niet iedereen kan even goed ruiken;</a:t>
            </a:r>
            <a:br>
              <a:rPr sz="2300"/>
            </a:b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geur is voor iedereen anders... persoonsafhankelijk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ukgren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 iets sterk ruikt of zwak, hangt af van de concentratie in de lu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ukgr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gere concentraties niet met neus waar te 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 reukgrens kunnen stoffen ook gevaarlijk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mige gassen of dampen zijn helemaal reukl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ze giftig zijn, is er sprake van een groo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leem, zoals bij koolmonoxid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olenda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lijks vele doden door bijvoorbeeld slecht werkende gasg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4" descr="wlimageimage_253.jpg"/>
          <p:cNvPicPr/>
          <p:nvPr/>
        </p:nvPicPr>
        <p:blipFill>
          <a:blip r:embed="rId1"/>
          <a:stretch/>
        </p:blipFill>
        <p:spPr>
          <a:xfrm>
            <a:off x="7456320" y="0"/>
            <a:ext cx="168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5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hoeveelheid van een stof die op en/of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lichaam terechtkomt, bepaalt het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stoffen in huis (bijvoorbeeld schoonmaakmiddelen en verven) kunn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schade aanrichten dan een gevaar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waar je heel voorzichtig mee om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http://www.rivm.nl/jeugdgezondheid/images/veiligheid.jpg"/>
          <p:cNvPicPr/>
          <p:nvPr/>
        </p:nvPicPr>
        <p:blipFill>
          <a:blip r:embed="rId1"/>
          <a:stretch/>
        </p:blipFill>
        <p:spPr>
          <a:xfrm>
            <a:off x="3657600" y="4343400"/>
            <a:ext cx="2271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andachtspunten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 veilig werken met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alle werkzaamheden naga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gevaren er zijn bij de stof(fen) die je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de schadelijke effecten 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mogelijke schadelijke gevolgen zij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de grenzen zijn waarbij gevaar optreedt en hoe je kunt meten of je de gevarengrens passe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risico’s kunt verklei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je jezelf kunt bescher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je moet doen in noodgeva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shoudelijke stoff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opp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, met kans op ernstig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en, ver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 met organische oplos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te Spi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licht)ontvlambaar, bij langdurig gebruik hersenletsel, ontvet de hu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asproducten (vaatwas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rriterend, kans op oog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C:\Users\Eigenaar\AppData\Local\Microsoft\Windows\Temporary Internet Files\Content.IE5\X3JDBKQA\MCj03343160000[1].wmf"/>
          <p:cNvPicPr/>
          <p:nvPr/>
        </p:nvPicPr>
        <p:blipFill>
          <a:blip r:embed="rId1"/>
          <a:stretch/>
        </p:blipFill>
        <p:spPr>
          <a:xfrm>
            <a:off x="7327800" y="212760"/>
            <a:ext cx="1590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03" name="0B691036-7581-44CA-A8E3-B76B5209B409" descr="55F4348B-CA0A-44C8-AD31-3AF23DEB23A0@profit"/>
          <p:cNvPicPr/>
          <p:nvPr/>
        </p:nvPicPr>
        <p:blipFill>
          <a:blip r:embed="rId1"/>
          <a:stretch/>
        </p:blipFill>
        <p:spPr>
          <a:xfrm>
            <a:off x="1692360" y="148428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6 Stoffen en hun gevaren (3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biologisch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verschillende stoffen ‘biologisch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nd- en tuinbou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edingsindust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vervelende effec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ec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iftiging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rgieën en schimme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van natuurlijke stoffen zijn soms ernsti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champignons (allerg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fbeelding 4" descr="biohazard.png"/>
          <p:cNvPicPr/>
          <p:nvPr/>
        </p:nvPicPr>
        <p:blipFill>
          <a:blip r:embed="rId1"/>
          <a:stretch/>
        </p:blipFill>
        <p:spPr>
          <a:xfrm>
            <a:off x="7184880" y="0"/>
            <a:ext cx="19591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Directe en sluipende gevar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e stoffen zijn stoffen die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rmen voor de gezondheid en/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verschillen per soort s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gevaarlijke stoffen m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etiket en kleurcodes op 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moet je weten om veilig te kunnen wer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uishoudelijke stoff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offen in werksitua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ologisch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chade van sto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taat als ze je lichaam raken en vooral als ze je lichaam binnendringen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raken en spatten van vloeistoff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staan aan nevels, dampen en g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denk d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mpen, gassen en nevels gemakkelijk je hele lichaam kunnen bere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aste stof in fijne poedervorm bij verstuiven overal je lichaam kan r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istoffen in kledingstukken kunnen trekken en dan (eventueel na verdamping) langdurig in contac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jn met de h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7862760" y="0"/>
            <a:ext cx="1281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7 Gezondheidsschade (2)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dringen van stoffen in je licha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http://www.spirxpert.com/brreactiviteit/bitmaps/airways.gif"/>
          <p:cNvPicPr/>
          <p:nvPr/>
        </p:nvPicPr>
        <p:blipFill>
          <a:blip r:embed="rId1"/>
          <a:stretch/>
        </p:blipFill>
        <p:spPr>
          <a:xfrm>
            <a:off x="4648320" y="4325760"/>
            <a:ext cx="2346120" cy="253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beautycentre-renaissance.nl/images/huid.png"/>
          <p:cNvPicPr/>
          <p:nvPr/>
        </p:nvPicPr>
        <p:blipFill>
          <a:blip r:embed="rId2"/>
          <a:stretch/>
        </p:blipFill>
        <p:spPr>
          <a:xfrm>
            <a:off x="1857240" y="4429080"/>
            <a:ext cx="2433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685800" y="2438280"/>
            <a:ext cx="78660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8 Bronbenader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m schade te voorkomen en te beperk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85800" y="2281320"/>
            <a:ext cx="77724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 Bedrijfsmatige beheers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nneer gevaarlijke stoffen in de werkomgeving voorkomen, moeten de medewe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oplettend zijn op hun persoonlijke veilighei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ageren op lek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maatregelen nemen bij biologische besmet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1  Persoonlijke veiligheid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kl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en en drinken in speciale ruimte, vuile werkkleding uittr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n en gezicht schoonma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persoonlijke beschermingsmiddelen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nden/wondjes direct beh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ilatie of ademhalingsbescherming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concentraties van stoffen in de lucht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Concentrati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veel stoffen is een veilige grenswaarde vastgest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er minder van de stof in de lucht is dan de grenswaarde, is het veil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, condities voor grenswaa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al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one werkda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verwer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wee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wone werkomstandighe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rmale fysieke inspa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msaned.nl/uploads/tx_comacatalog/AUERPPMStatic1_09.jpg">
            <a:hlinkClick r:id="rId1"/>
          </p:cNvPr>
          <p:cNvPicPr/>
          <p:nvPr/>
        </p:nvPicPr>
        <p:blipFill>
          <a:blip r:embed="rId2">
            <a:lum bright="-20000"/>
          </a:blip>
          <a:srcRect l="35170" t="0" r="33203" b="0"/>
          <a:stretch/>
        </p:blipFill>
        <p:spPr>
          <a:xfrm>
            <a:off x="8180280" y="0"/>
            <a:ext cx="96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2  Reageren op lekkages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gwerken van gelekt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jken naar de oorzaken en die aanpak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spreiding van product in de ademluc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brand en/of explos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lieuverontreini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ippen van voertui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oductverl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Lekkages beheers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matig controleren of de installatie in or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personeel voor bedieningswerkzaamheden én reparatie goed oplei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k begin van lekken mel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doende grote lekbakken plaatsen onder t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 vakkundig repar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kt product vakkundig verwijd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xtra aandacht voor belangrijke oorzak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 onderhoud van install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lechte montage van flenz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outieve procedure bij overgie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kkende kran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9.3  Biologische besmetting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eiging door bacteriën, virussen en schimmels kan in sommige omstandigheden toene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iologische besmettingsdreiging extra preventieve maatregelen ne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enti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vaak en intensief handen wass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ruik van beschermingcrè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ast gebruikelijke besche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ende kl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nd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gbescherming bij gevaar voor spat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dembescher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Afbeelding 4" descr="genomicsBacterien.jpg"/>
          <p:cNvPicPr/>
          <p:nvPr/>
        </p:nvPicPr>
        <p:blipFill>
          <a:blip r:embed="rId1"/>
          <a:stretch/>
        </p:blipFill>
        <p:spPr>
          <a:xfrm>
            <a:off x="7570800" y="6480"/>
            <a:ext cx="15667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1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eling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rkennen van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ci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4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ssen en dampen herke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fen en hu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benadering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matige behee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3.1 Indeling gevaarlijke stoff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sief/ontplofba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xid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 ontvlambaar, licht ontvlambaar, ontvlamb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, zeer gift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tend of corros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gevaar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ibiliser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gevaarlijk op lange termij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assen onder dr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el 2"/>
          <p:cNvSpPr/>
          <p:nvPr/>
        </p:nvSpPr>
        <p:spPr>
          <a:xfrm>
            <a:off x="571680" y="214200"/>
            <a:ext cx="84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3.2 Herkennen van gevaarlijke stoffen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en het gevaar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Tijdelijke aanduiding voor inhoud 3"/>
          <p:cNvSpPr/>
          <p:nvPr/>
        </p:nvSpPr>
        <p:spPr>
          <a:xfrm>
            <a:off x="1884240" y="1366920"/>
            <a:ext cx="722808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lke de gevaren van een stof zijn, kun je zien aan het gevarenetike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we geven de betekenis van de etiketten en voorbeelden van stoffen met dat gevaar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    </a:t>
            </a:r>
            <a:r>
              <a:rPr b="0" lang="nl-NL" sz="2400" spc="-1" strike="noStrike">
                <a:solidFill>
                  <a:srgbClr val="808080"/>
                </a:solidFill>
                <a:latin typeface="Arial"/>
                <a:ea typeface="Arial"/>
              </a:rPr>
              <a:t>	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7186-8BDB-4DEB-A5F3-80588FC40134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42A4-5E1B-488D-BDA3-95DE48BB271C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2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3635280" y="4905360"/>
            <a:ext cx="113364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Y:\UITGEVERIJ\boeken\VCA\Basisboek Veiligheid\picto 2011\brandbevorderend.gif"/>
          <p:cNvPicPr/>
          <p:nvPr/>
        </p:nvPicPr>
        <p:blipFill>
          <a:blip r:embed="rId2"/>
          <a:stretch/>
        </p:blipFill>
        <p:spPr>
          <a:xfrm>
            <a:off x="843120" y="3541680"/>
            <a:ext cx="11430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Tijdelijke aanduiding voor dianummer 1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7CE2-2201-4098-A237-D7B3D0B638E4}" type="slidenum">
              <a:rPr b="0" lang="nl-N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5" name="Picture 6" descr="Y:\UITGEVERIJ\boeken\VCA\Basisboek Veiligheid\picto 2011\brandgevaarlijk.gif"/>
          <p:cNvPicPr/>
          <p:nvPr/>
        </p:nvPicPr>
        <p:blipFill>
          <a:blip r:embed="rId3"/>
          <a:stretch/>
        </p:blipFill>
        <p:spPr>
          <a:xfrm>
            <a:off x="843120" y="230976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Y:\UITGEVERIJ\boeken\VCA\Basisboek Veiligheid\picto 2011\explosiegevaar.gif"/>
          <p:cNvPicPr/>
          <p:nvPr/>
        </p:nvPicPr>
        <p:blipFill>
          <a:blip r:embed="rId4"/>
          <a:stretch/>
        </p:blipFill>
        <p:spPr>
          <a:xfrm>
            <a:off x="843120" y="1095480"/>
            <a:ext cx="1145880" cy="114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Y:\UITGEVERIJ\boeken\VCA\Basisboek Veiligheid\picto 2011\giftig.gif"/>
          <p:cNvPicPr/>
          <p:nvPr/>
        </p:nvPicPr>
        <p:blipFill>
          <a:blip r:embed="rId5"/>
          <a:stretch/>
        </p:blipFill>
        <p:spPr>
          <a:xfrm>
            <a:off x="846000" y="4875120"/>
            <a:ext cx="1143000" cy="114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Y:\UITGEVERIJ\boeken\VCA\Basisboek Veiligheid\picto 2011\houder onder druk.gif"/>
          <p:cNvPicPr/>
          <p:nvPr/>
        </p:nvPicPr>
        <p:blipFill>
          <a:blip r:embed="rId6"/>
          <a:stretch/>
        </p:blipFill>
        <p:spPr>
          <a:xfrm>
            <a:off x="752472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Y:\UITGEVERIJ\boeken\VCA\Basisboek Veiligheid\picto 2011\lange termijn gezondheidsschadelijk.gif"/>
          <p:cNvPicPr/>
          <p:nvPr/>
        </p:nvPicPr>
        <p:blipFill>
          <a:blip r:embed="rId7"/>
          <a:stretch/>
        </p:blipFill>
        <p:spPr>
          <a:xfrm>
            <a:off x="4932360" y="495000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Y:\UITGEVERIJ\boeken\VCA\Basisboek Veiligheid\picto 2011\milieuschadelijk.gif"/>
          <p:cNvPicPr/>
          <p:nvPr/>
        </p:nvPicPr>
        <p:blipFill>
          <a:blip r:embed="rId8"/>
          <a:stretch/>
        </p:blipFill>
        <p:spPr>
          <a:xfrm>
            <a:off x="6227640" y="4950000"/>
            <a:ext cx="1146240" cy="114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Y:\UITGEVERIJ\boeken\VCA\Basisboek Veiligheid\picto 2011\schadelijk.gif"/>
          <p:cNvPicPr/>
          <p:nvPr/>
        </p:nvPicPr>
        <p:blipFill>
          <a:blip r:embed="rId9"/>
          <a:stretch/>
        </p:blipFill>
        <p:spPr>
          <a:xfrm>
            <a:off x="2235240" y="487512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57200"/>
            <a:ext cx="781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pl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loderen gemakkelijk, ook zonder inwerking van zuurstof, bijvoorbeeld door een schok of verhitting, zoals bij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unitie, TNT, busk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licht en licht ontvlambar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liegen zeer gemakkelijk in brand, zelfs bij normale omgevingstemperaturen, zoals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nzine, acet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xiderende of brandbevord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geren heftig met onder andere ontvlambare stoffen, waarbij veel warmte vrijkomt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voor aantasting van huid, kleding en het ontstaan van brand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terstofperoxide (zuurstofwater), ozon, zuur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8" descr="Y:\UITGEVERIJ\boeken\VCA\Basisboek Veiligheid\picto 2011\explosiegevaar.gif"/>
          <p:cNvPicPr/>
          <p:nvPr/>
        </p:nvPicPr>
        <p:blipFill>
          <a:blip r:embed="rId1"/>
          <a:stretch/>
        </p:blipFill>
        <p:spPr>
          <a:xfrm>
            <a:off x="611280" y="134136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Y:\UITGEVERIJ\boeken\VCA\Basisboek Veiligheid\picto 2011\brandgevaarlijk.gif"/>
          <p:cNvPicPr/>
          <p:nvPr/>
        </p:nvPicPr>
        <p:blipFill>
          <a:blip r:embed="rId2"/>
          <a:stretch/>
        </p:blipFill>
        <p:spPr>
          <a:xfrm>
            <a:off x="614520" y="2762280"/>
            <a:ext cx="114300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Y:\UITGEVERIJ\boeken\VCA\Basisboek Veiligheid\picto 2011\brandbevorderend.gif"/>
          <p:cNvPicPr/>
          <p:nvPr/>
        </p:nvPicPr>
        <p:blipFill>
          <a:blip r:embed="rId3"/>
          <a:stretch/>
        </p:blipFill>
        <p:spPr>
          <a:xfrm>
            <a:off x="614520" y="4278240"/>
            <a:ext cx="11430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2880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er giftige en giftig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e kans op (zeer) ernstige verschijnselen bij inademen, inslikken of contact met de huid. Bv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CO (kolendamp), H2S (zwavelwaterstof), methanol, benz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adelijke en irrit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e stoffen vergelijkbaar met giftige stoff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erschijnselen minder ernstig dan giftige stoff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: inademen, inslikken of huidcontact bijvoorbeeld met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erf, lak, houtbesche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rriterende stoffen hebben beperktere werking; ze kunnen ontstekingen veroorzaken bij contact met huid, ogen, longen en slijmvliezen met bv. 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Y:\UITGEVERIJ\boeken\VCA\Basisboek Veiligheid\picto 2011\giftig.gif"/>
          <p:cNvPicPr/>
          <p:nvPr/>
        </p:nvPicPr>
        <p:blipFill>
          <a:blip r:embed="rId1"/>
          <a:stretch/>
        </p:blipFill>
        <p:spPr>
          <a:xfrm>
            <a:off x="596880" y="206064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Y:\UITGEVERIJ\boeken\VCA\Basisboek Veiligheid\picto 2011\schadelijk.gif"/>
          <p:cNvPicPr/>
          <p:nvPr/>
        </p:nvPicPr>
        <p:blipFill>
          <a:blip r:embed="rId2"/>
          <a:stretch/>
        </p:blipFill>
        <p:spPr>
          <a:xfrm>
            <a:off x="615960" y="3728880"/>
            <a:ext cx="1146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Gevarenetiketten</a:t>
            </a:r>
            <a:endParaRPr b="0" lang="en-US" sz="2800" spc="-1" strike="noStrike">
              <a:solidFill>
                <a:srgbClr val="33cc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752480"/>
            <a:ext cx="727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tende/corrosiev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sting huid, ogen, longen en kleding bij contact, met bijvoorbeeld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zuren, zoals salpeterzuur, zoutzuur en basen (loog), zoals natron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assen onder dru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plofbaar bij hitte; bij contact met vloeibaar gas is verbranding mogelijk; door vrijkomend brandbaar gas explosiegevaar, zuurstofverdringing en verstikkingsgevaar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cetyleen, propaan, stiks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ensibiliserende stoff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unnen een allergie veroorz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oorbeeld bij in aanraking komen me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paalde harsen en kleurmiddelen, sommige verven, metaalbehandelingsmiddelen, haarkleur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Y:\UITGEVERIJ\boeken\VCA\Basisboek Veiligheid\picto 2011\bijtend.gif"/>
          <p:cNvPicPr/>
          <p:nvPr/>
        </p:nvPicPr>
        <p:blipFill>
          <a:blip r:embed="rId1"/>
          <a:stretch/>
        </p:blipFill>
        <p:spPr>
          <a:xfrm>
            <a:off x="609480" y="1916280"/>
            <a:ext cx="1131840" cy="114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Y:\UITGEVERIJ\boeken\VCA\Basisboek Veiligheid\picto 2011\houder onder druk.gif"/>
          <p:cNvPicPr/>
          <p:nvPr/>
        </p:nvPicPr>
        <p:blipFill>
          <a:blip r:embed="rId2"/>
          <a:stretch/>
        </p:blipFill>
        <p:spPr>
          <a:xfrm>
            <a:off x="623880" y="3357720"/>
            <a:ext cx="114444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  <a:ea typeface="Arial"/>
              </a:rPr>
              <a:t>Gevaaretikette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58920" y="1752480"/>
            <a:ext cx="71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zondheidsschadelijke stoffen (op lange termijn)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rnstige gevaren met mogelijke gevolgen op lange termijn: kanker, aantasting vruchtbaarheid, miskramen, misvormde baby’s, aantasting organen, longziekten; voorbeelden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sbest, dieselrook, benzeen, formaldehyde, tolueen, aldrin, vinylchlori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lieugevaarlijke stoffen:</a:t>
            </a:r>
            <a:endParaRPr b="1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vaarlijk voor het milieu en voor dieren, zoals  bijvoorbeel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hloorfluorkoolwaterstoffen (cfk’s) en pesticiden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Picture 16" descr="Y:\UITGEVERIJ\boeken\VCA\Basisboek Veiligheid\picto 2011\milieuschadelijk.gif"/>
          <p:cNvPicPr/>
          <p:nvPr/>
        </p:nvPicPr>
        <p:blipFill>
          <a:blip r:embed="rId1"/>
          <a:stretch/>
        </p:blipFill>
        <p:spPr>
          <a:xfrm>
            <a:off x="592200" y="3933720"/>
            <a:ext cx="1146240" cy="114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Y:\UITGEVERIJ\boeken\VCA\Basisboek Veiligheid\picto 2011\lange termijn gezondheidsschadelijk.gif"/>
          <p:cNvPicPr/>
          <p:nvPr/>
        </p:nvPicPr>
        <p:blipFill>
          <a:blip r:embed="rId2"/>
          <a:stretch/>
        </p:blipFill>
        <p:spPr>
          <a:xfrm>
            <a:off x="593640" y="1989000"/>
            <a:ext cx="114624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10-01T08:32:39Z</dcterms:modified>
  <cp:revision>123</cp:revision>
  <dc:subject/>
  <dc:title>PowerPoint-presentatie</dc:title>
</cp:coreProperties>
</file>