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2A2-8FDE-46D5-86FC-0D48AB1C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F25-B3CC-459A-8118-ACCB9681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FF3-EE4D-46DC-BDE9-982D45A8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016-EC4E-4630-B1A7-AEECE75D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0E3-3D00-4E03-A044-FC7CD82B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0E7-56C3-48B6-ACAC-1CA09B89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C66-B6E1-4383-AFE9-3CAF2322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F83-F87E-4B6D-8188-02D1747A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C88-07D7-4741-8214-78D6A358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478-F385-4F64-811E-BC31CBDF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B00-B500-41DD-AAF9-2D8D2313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381-6F43-4DE7-83D7-CFCBCB63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8319-1E99-441D-8546-36B9DE1F5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fbeelding 5" descr="tank.jpg"/>
          <p:cNvPicPr/>
          <p:nvPr/>
        </p:nvPicPr>
        <p:blipFill>
          <a:blip r:embed="rId2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5" name="Afbeelding 9" descr="vervuilde-grond.jpg"/>
          <p:cNvPicPr/>
          <p:nvPr/>
        </p:nvPicPr>
        <p:blipFill>
          <a:blip r:embed="rId3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6" descr="riool1.jpg"/>
          <p:cNvPicPr/>
          <p:nvPr/>
        </p:nvPicPr>
        <p:blipFill>
          <a:blip r:embed="rId4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,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,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,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binnentreden van de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3. Toegang tot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4.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5.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fbeelding 4" descr="mangatwacht_1.jpg"/>
          <p:cNvPicPr/>
          <p:nvPr/>
        </p:nvPicPr>
        <p:blipFill>
          <a:blip r:embed="rId2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Afbeelding 4" descr="hoofdpijn01.jpg"/>
          <p:cNvPicPr/>
          <p:nvPr/>
        </p:nvPicPr>
        <p:blipFill>
          <a:blip r:embed="rId2"/>
          <a:stretch/>
        </p:blipFill>
        <p:spPr>
          <a:xfrm>
            <a:off x="6632640" y="3346560"/>
            <a:ext cx="2511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a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fbeelding 5" descr="medisafe-pbm-medium.jpg"/>
          <p:cNvPicPr/>
          <p:nvPr/>
        </p:nvPicPr>
        <p:blipFill>
          <a:blip r:embed="rId2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4" descr="imagesCANB9EWE.jpg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1.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 of harnasgor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gnetten aanbrengen eventueel harnasgor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5" descr="imagesCAU1R4VZ.jpg"/>
          <p:cNvPicPr/>
          <p:nvPr/>
        </p:nvPicPr>
        <p:blipFill>
          <a:blip r:embed="rId2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opstellen onder ca. 75 gra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Afbeelding 5" descr="imagesCAXI9X3V.jpg"/>
          <p:cNvPicPr/>
          <p:nvPr/>
        </p:nvPicPr>
        <p:blipFill>
          <a:blip r:embed="rId2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fbeelding 6" descr="2-verdiepingen-in-steigers-.jpg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4.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nasgordel dragen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V5URG7.jp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5.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en gereedschap naar boven hij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niet verplaatsen met iemand op de rol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dat de steun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Afbeelding 7" descr="rol.jpg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Explosiegevaarlijke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7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8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6.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en in de werkbak moeten harnasgorde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fbeelding 4" descr="imagesCAGWZ8M8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k gevaren zoals omvallen van de hoogwerker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5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4" descr="imagesCAG0ZOPZ.jpg"/>
          <p:cNvPicPr/>
          <p:nvPr/>
        </p:nvPicPr>
        <p:blipFill>
          <a:blip r:embed="rId2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fbeelding 4" descr="stock-photo-demolution-2527839.jpg"/>
          <p:cNvPicPr/>
          <p:nvPr/>
        </p:nvPicPr>
        <p:blipFill>
          <a:blip r:embed="rId2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7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ijderen van asbest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fbeelding 4" descr="asbestos-remov.jpg"/>
          <p:cNvPicPr/>
          <p:nvPr/>
        </p:nvPicPr>
        <p:blipFill>
          <a:blip r:embed="rId2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2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2 Explosiegevaarlijke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centraties boven LEL zijn mogelij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r voorkoming van ontsteking, bijvoorbee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veilige verlichting en -schakela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aal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in plaats van elektrisch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7" descr="Besloten.jpg"/>
          <p:cNvPicPr/>
          <p:nvPr/>
        </p:nvPicPr>
        <p:blipFill>
          <a:blip r:embed="rId3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3:06Z</dcterms:modified>
  <cp:revision>52</cp:revision>
  <dc:subject/>
  <dc:title>Test</dc:title>
</cp:coreProperties>
</file>