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519-3EE6-4418-AAD2-1C28F28B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FB9-F311-4E64-8E67-CDC1D5ED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AA4-590B-4C3C-AC94-61BD408B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26D-ADDF-42C3-8662-610F83F1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3DD-5A7C-4098-87C8-BD1B240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720-3E5E-419C-A90B-860D7B86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153-788C-44DC-BB19-00925255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1AE-CD4D-4264-AB46-5FF08162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137-4236-471E-B586-E9A17857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D14-03C4-400B-9A17-F25ECE1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838-7EB0-4693-ABE2-5E477E7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D7C-923B-4512-BBB9-ACA635E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F10-CF3B-4695-8108-FBE1CB199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Toolboxmeeting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Garamond"/>
              </a:rPr>
              <a:t>Versie 1, juni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77bbb"/>
                </a:solidFill>
                <a:latin typeface="Times New Roman"/>
              </a:rPr>
              <a:t>Tillen van zware las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4" name="logo%20CUMELA%20RGB" descr=""/>
          <p:cNvPicPr/>
          <p:nvPr/>
        </p:nvPicPr>
        <p:blipFill>
          <a:blip r:embed="rId2"/>
          <a:stretch/>
        </p:blipFill>
        <p:spPr>
          <a:xfrm>
            <a:off x="76320" y="5987880"/>
            <a:ext cx="144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beer niet te ver te reiken, te strekken of te bu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alleen niet meer dan 25 k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nieuw" descr=""/>
          <p:cNvPicPr/>
          <p:nvPr/>
        </p:nvPicPr>
        <p:blipFill>
          <a:blip r:embed="rId1"/>
          <a:stretch/>
        </p:blipFill>
        <p:spPr>
          <a:xfrm>
            <a:off x="7238880" y="6248520"/>
            <a:ext cx="1828800" cy="603000"/>
          </a:xfrm>
          <a:prstGeom prst="rect">
            <a:avLst/>
          </a:prstGeom>
          <a:ln w="0">
            <a:noFill/>
          </a:ln>
        </p:spPr>
      </p:pic>
      <p:pic>
        <p:nvPicPr>
          <p:cNvPr id="9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353040" cy="266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73520" y="3657600"/>
            <a:ext cx="18352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Houd de last dicht bij je licha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raai tijdens het tillen nooit met j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Maak een positieverandering alleen met de voe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0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903320"/>
            <a:ext cx="3047760" cy="243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867280" y="1066680"/>
            <a:ext cx="21909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voldoende bewegingsruimte en een stabiele ondergr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at de noodzakelijke kracht goed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l over een zo kort mogelijke afst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chuif, kantel of rol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0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314964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943600" y="313524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038480" y="2971800"/>
            <a:ext cx="1490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oordelen van verantwoord til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et lichaam blijft gezond, ook op lange term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inder ziekteverzuim en WAO-inst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gere reïntegratiekosten en verzekeringsprem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ilig tillen kan ongevallen voork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1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Belangrijke 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ak de te tillen last stevig v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em een goede tilhouding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bruik hulpmiddelen of til met meerdere person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es deskundig in het gebruik van tilhulpmidde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org voor een goede lichamelijk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vol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tg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rantwoordelijkh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Knelpu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zonde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48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Aandachts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Veel lasten worden mechanisch get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ware lichamelijke belasting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wielen ver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estsla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aanbouwwerktu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frontgew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kunstmestz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 het veld of in de werkplaa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29200" y="2819520"/>
            <a:ext cx="3048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vol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verbelasting van de ru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chamelijke klach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Ziekteverzuim, (gedeeltelijk) arbeidsongeschik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j onveilig tillen letsel door bekn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5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1143000"/>
            <a:ext cx="2327400" cy="231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80880" y="4202280"/>
            <a:ext cx="30481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Wetg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w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De werkzaamheden mogen geen gezondheidsschade veroorza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rboregelingen en norm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Praktische voorschriften over bijv. het max. te tillen gewicht en de 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6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Verantwoordelijkh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g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zorg dragen dat het tillen van (te) zware lasten verantwoord gebe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erkne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moet de voorschriften en de voorlichting over de juiste wijze van tillen opvol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abrik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- geeft de gebruiksmogelijkheden en de technische veiligheidseisen 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last is moeilijk goed vast te pa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stand van het lichaam t.o.v. de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76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304776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648320" y="2911320"/>
            <a:ext cx="342900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Knelpu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lechte terreinomstandighe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oringen in het v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 noodzakelijke spieren zijn in een slechte condit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31240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Garamond"/>
              </a:rPr>
              <a:t>Gezonde uitvo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handschoenen, steunbalkjes, strop of ketting als een beter aangrijpingspu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ebruik bij te zware lasten tilhulpmiddelen (tilbok, steek-/kruiwagen, hijs- en hefwerktuigen, bandenka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logo%20nieuw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828800" cy="603360"/>
          </a:xfrm>
          <a:prstGeom prst="rect">
            <a:avLst/>
          </a:prstGeom>
          <a:ln w="0">
            <a:noFill/>
          </a:ln>
        </p:spPr>
      </p:pic>
      <p:pic>
        <p:nvPicPr>
          <p:cNvPr id="89" name="logo%20CUMELA%20RGB" descr=""/>
          <p:cNvPicPr/>
          <p:nvPr/>
        </p:nvPicPr>
        <p:blipFill>
          <a:blip r:embed="rId2"/>
          <a:stretch/>
        </p:blipFill>
        <p:spPr>
          <a:xfrm>
            <a:off x="7924680" y="58680"/>
            <a:ext cx="1143000" cy="62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1828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562720" y="1865160"/>
            <a:ext cx="28191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7:56:57Z</dcterms:created>
  <dc:creator>jpolman</dc:creator>
  <dc:description/>
  <dc:language>en-US</dc:language>
  <cp:lastModifiedBy>Anne Soldaat</cp:lastModifiedBy>
  <dcterms:modified xsi:type="dcterms:W3CDTF">2005-06-08T13:16:58Z</dcterms:modified>
  <cp:revision>23</cp:revision>
  <dc:subject/>
  <dc:title>Toolboxmeeting NUMMER Maand en jaar</dc:title>
</cp:coreProperties>
</file>