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png" ContentType="image/png"/>
  <Override PartName="/ppt/media/image7.jpeg" ContentType="image/jpeg"/>
  <Override PartName="/ppt/media/image11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26.jpeg" ContentType="image/jpeg"/>
  <Override PartName="/ppt/media/image13.jpeg" ContentType="image/jpeg"/>
  <Override PartName="/ppt/media/image8.jpeg" ContentType="image/jpeg"/>
  <Override PartName="/ppt/media/image4.png" ContentType="image/png"/>
  <Override PartName="/ppt/media/image23.jpeg" ContentType="image/jpeg"/>
  <Override PartName="/ppt/media/image18.jpeg" ContentType="image/jpeg"/>
  <Override PartName="/ppt/media/image19.jpeg" ContentType="image/jpeg"/>
  <Override PartName="/ppt/media/image1.jpeg" ContentType="image/jpeg"/>
  <Override PartName="/ppt/media/image3.jpeg" ContentType="image/jpeg"/>
  <Override PartName="/ppt/media/image24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17.jpeg" ContentType="image/jpeg"/>
  <Override PartName="/ppt/media/image14.png" ContentType="image/png"/>
  <Override PartName="/ppt/media/image15.jpeg" ContentType="image/jpeg"/>
  <Override PartName="/ppt/media/image25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50B3-6A71-4953-A612-D5EF8A48F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EFAC-9C80-4F4F-B11A-B824BCAD0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AEA6-4E5E-4589-B16C-5CE101FB3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AAD0-6E70-42DD-AD56-687A0CDA6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F806-05BB-45C9-B546-2F7D6BD64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C5D0-E716-499F-99FB-F26CF9043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DE3A-2D1F-461B-9E5D-726CE63AD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363C-8FCE-47BD-8B1F-708A8A4D6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F1A0-61E3-4698-BA00-E5272DA4A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88AE-3C5F-4F13-B76C-AD5BA6126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8881-F860-457F-8477-ABF29EE54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4874-B6E0-4602-8689-92947BD03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AFABB-D264-4CE1-9CA4-4F196135D4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71320"/>
            <a:ext cx="7772400" cy="22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cc33"/>
                </a:solidFill>
                <a:latin typeface="Arial"/>
              </a:rPr>
              <a:t>VCA Basisveiligheid </a:t>
            </a:r>
            <a:br>
              <a:rPr sz="2000"/>
            </a:br>
            <a:br>
              <a:rPr sz="2000"/>
            </a:br>
            <a:r>
              <a:rPr b="1" lang="en-US" sz="4400" spc="-1" strike="noStrike">
                <a:solidFill>
                  <a:srgbClr val="33cc33"/>
                </a:solidFill>
                <a:latin typeface="Arial"/>
              </a:rPr>
              <a:t>Hoofdstuk 9 </a:t>
            </a:r>
            <a:br>
              <a:rPr sz="4400"/>
            </a:br>
            <a:r>
              <a:rPr b="1" lang="en-US" sz="4400" spc="-1" strike="noStrike">
                <a:solidFill>
                  <a:srgbClr val="33cc33"/>
                </a:solidFill>
                <a:latin typeface="Arial"/>
              </a:rPr>
              <a:t>Risicovolle arbeidsplaats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9.3 Besloten ruimte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orbeeld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slagreservoi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n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ol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id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ftschacht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ruipruim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2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s- of soldeertentjes bij diepe uitgrav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2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vuilde gro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2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jpleid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Afbeelding 5" descr="tank.jpg"/>
          <p:cNvPicPr/>
          <p:nvPr/>
        </p:nvPicPr>
        <p:blipFill>
          <a:blip r:embed="rId2"/>
          <a:stretch/>
        </p:blipFill>
        <p:spPr>
          <a:xfrm>
            <a:off x="6143760" y="357120"/>
            <a:ext cx="2714400" cy="2071800"/>
          </a:xfrm>
          <a:prstGeom prst="rect">
            <a:avLst/>
          </a:prstGeom>
          <a:ln w="0">
            <a:noFill/>
          </a:ln>
        </p:spPr>
      </p:pic>
      <p:pic>
        <p:nvPicPr>
          <p:cNvPr id="65" name="Afbeelding 9" descr="vervuilde-grond.jpg"/>
          <p:cNvPicPr/>
          <p:nvPr/>
        </p:nvPicPr>
        <p:blipFill>
          <a:blip r:embed="rId3"/>
          <a:stretch/>
        </p:blipFill>
        <p:spPr>
          <a:xfrm>
            <a:off x="6172200" y="2971800"/>
            <a:ext cx="2714760" cy="2071800"/>
          </a:xfrm>
          <a:prstGeom prst="rect">
            <a:avLst/>
          </a:prstGeom>
          <a:ln w="0">
            <a:noFill/>
          </a:ln>
        </p:spPr>
      </p:pic>
      <p:pic>
        <p:nvPicPr>
          <p:cNvPr id="66" name="Afbeelding 6" descr="riool1.jpg"/>
          <p:cNvPicPr/>
          <p:nvPr/>
        </p:nvPicPr>
        <p:blipFill>
          <a:blip r:embed="rId4"/>
          <a:stretch/>
        </p:blipFill>
        <p:spPr>
          <a:xfrm>
            <a:off x="3733920" y="1752480"/>
            <a:ext cx="2714400" cy="20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9.3.1 Risico’s van een besloten ruim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stikking door te weinig zuurstof, benauwdheid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wusteloosheid en dood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dringing van de zuurstof: door bijvoorbeeld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haan, stikstof, argon en helium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or verbruik van zuurstof: door bijvoorbeeld lassen, roesten, biologische/ bacteriologische reacti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j te weinig zuurstof: bewusteloosheid of doo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zuurstoftekort voorkomen, (min.19% i.p.v. 21%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echanisch beluchten/onafhankelijke adembescher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en filtermasker gebruik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5" descr=""/>
          <p:cNvPicPr/>
          <p:nvPr/>
        </p:nvPicPr>
        <p:blipFill>
          <a:blip r:embed="rId2"/>
          <a:stretch/>
        </p:blipFill>
        <p:spPr>
          <a:xfrm>
            <a:off x="7815240" y="1523880"/>
            <a:ext cx="132876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9.3.1 Risico’s van een besloten ruim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and- en/of explosiegeva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j aanwezigheid brandbare stoffen is er sneller explosiegevaar; d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or de beperkte ruimte, en weinig ventilatie wordt de LEL snel bereik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andbare stoffen kunnen ook vrijkomen uit materialen of bij verwijdering van roestlag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tsteking kan plaatsvinden door open vuur of von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meer dan 21% zuurstof in de lucht is er extra ris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xtra zuurstof of brandbare gassen, kunnen vrijkomen door lekken uit leidingen of flessen: daarom flessen buiten de (besloten) ruimte houden, slangbreuk-beveiliging toepa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 pauzes etc. altijd slangen verwijder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9.3.1 Risico’s van een besloten ruimte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lektrocuti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or slechte ventilatie hogere lichaamstemperatu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gere vochtigheid, geeft meer gelei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lektrische apparatuur spanningsvrij ma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geleidende wanden: veilige spanning toepassen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giftig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bepaalde dosis giftige st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 beperkte ruimte en bij verminderde ventilatie wordt de veilige grens sneller bereik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9.3.2 Veiligheidsmaatregelen voora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or binnentreden van de ruimte zorgen vo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arschuwingsborden tegen onbevoeg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 leidingen zijn afgeblind of losgekopp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equate luchtverve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uurstofpercentage &gt; 19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ntratie gasmengsel &lt; 10% van de L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ntratie giftige stoffen of dampen &lt; grenswaar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sicoverhogende componenten veiligstellen en vergrend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9.3.3. Toegang tot een besloten ruim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gunning verlenen voor toegang a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imte schoon en droog 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e maatregelen zijn getroff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 een geldige werkvergunning of een schriftelijke vrijgave 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reders ten minste 18 jaar zij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 sprake is van permanente observatie/toezicht door een mangatwacht of veiligheidswac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5" descr=""/>
          <p:cNvPicPr/>
          <p:nvPr/>
        </p:nvPicPr>
        <p:blipFill>
          <a:blip r:embed="rId2"/>
          <a:stretch/>
        </p:blipFill>
        <p:spPr>
          <a:xfrm>
            <a:off x="7000920" y="0"/>
            <a:ext cx="2143080" cy="25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9.3.4. Metingen uitvoer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osiemet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uurstofgehal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ntratie van giftige stoff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skundig persoo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trouw nooit  alléén op je neus…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p meerdere plaatsen met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gelmatig (periodiek) herhal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f continu meten, bijv. meetapparaat dat altijd aanstaa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9.3.5. Toezic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sloten ruimte met gevaar voor verstikking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dwelming, brand en explosie of vergifti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ezicht uitgevoerd door een veiligheidswacht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lijft altijd buiten de besloten ruimt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g alleen weg als er een vervanger i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efent permanent toezicht ui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udt contact met de personen binn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orgt voor het alarmeren van hulpverlening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troleert ook de ventilati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iligheidswacht moet aantoonbaa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kundig zij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Afbeelding 4" descr="mangatwacht_1.jpg"/>
          <p:cNvPicPr/>
          <p:nvPr/>
        </p:nvPicPr>
        <p:blipFill>
          <a:blip r:embed="rId2"/>
          <a:srcRect l="19685" t="0" r="12812" b="0"/>
          <a:stretch/>
        </p:blipFill>
        <p:spPr>
          <a:xfrm>
            <a:off x="7286760" y="0"/>
            <a:ext cx="1857240" cy="25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9.3.6. Veilig werken in een besloten ruim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werk wordt optimaal voorberei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verblijfsduur in de ruimte is zo kort mogelij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ndachtspun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ntila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ersoonlijke bescher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 van ga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s- en snijwerkzaamhe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f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9.3.6. Veilig werken in een besloten ruimte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ntilati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uurlijke ventila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jvoorbeeld in riolen vooraf riooldeksels verwijder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chanische ventilat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ntilator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atselijke afzuig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Afbeelding 4" descr="hoofdpijn01.jpg"/>
          <p:cNvPicPr/>
          <p:nvPr/>
        </p:nvPicPr>
        <p:blipFill>
          <a:blip r:embed="rId2"/>
          <a:stretch/>
        </p:blipFill>
        <p:spPr>
          <a:xfrm>
            <a:off x="6632640" y="3346560"/>
            <a:ext cx="251136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Hoofdstuk 9</a:t>
            </a:r>
            <a:br>
              <a:rPr sz="2800"/>
            </a:b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Risicovolle arbeidsplaat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beidsplaats of werkplek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s elke plek die bedoeld is om te werk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óók elke plek waar wórdt gewerk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rkgever moet zorgen voor veilige werkpl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sicovolle werkplekken zijn werkplekken, waar ongevallen regelmatig een ernstige afloop hebb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9.3.6. Veilig werken in een besloten ruimte (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a persoonlijke beschermingsmiddelen(PBM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afhankelijke adembescherming (geen filtermaskers) al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vaarlijke gassen/dampen boven de grenswaard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 laag zuurstofpercentag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hoorbescherm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dingslij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nzij deze extra gevaar oplever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nvullende PB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oor zover nodig en niet risicoverhoge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Afbeelding 5" descr="medisafe-pbm-medium.jpg"/>
          <p:cNvPicPr/>
          <p:nvPr/>
        </p:nvPicPr>
        <p:blipFill>
          <a:blip r:embed="rId2"/>
          <a:stretch/>
        </p:blipFill>
        <p:spPr>
          <a:xfrm>
            <a:off x="7500960" y="3581280"/>
            <a:ext cx="1643040" cy="23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9.3.6. Veilig werken in een besloten ruimte (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 van gass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af slangen controleren op lek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asflessen buiten de ruimte plaat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ijdens pauzes en einde werkzaamhed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anders en slangen buiten de ruim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s- en snijwerkzaamhed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le brandbare stoffen weg of afgedek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lusmiddelen binnen handbere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org voor plaatselijke afzui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elektrisch lassen: veilige spa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9.3.6. Veilig werken in een besloten ruimte (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nbrengen van ver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afhankelijke adembescherm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e ruimte ventil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e apparatuur geaard i.v.m. statische elektricite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ntilatie tot enige dagen na het schild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imte niet afsluiten in verband met verhardingsproces van de verf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zuurstof wordt door proces verbruik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 het verven enige tijd kans op zuurstoftek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9.4. Werken op hoog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ttelijke regels veiligheidsmaatregelen bij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rken op meer dan 2,5 m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rken boven een gevaarlijk punt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bewegende delen of wateroppervlak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vaar van vallende voorwerp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ilige steiger, bordes of werkvlo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lmatige hekwerken, leuning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nieregel en kantplan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ngnett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loeropeningen dichtleg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B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Afbeelding 4" descr="imagesCANB9EWE.jpg"/>
          <p:cNvPicPr/>
          <p:nvPr/>
        </p:nvPicPr>
        <p:blipFill>
          <a:blip r:embed="rId2"/>
          <a:stretch/>
        </p:blipFill>
        <p:spPr>
          <a:xfrm>
            <a:off x="7016760" y="0"/>
            <a:ext cx="212724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9.4.1. Werken op dak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j schuine dake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pplank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s de dakbedekking niet sterk genoeg i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j verplaatsing op het hellend vla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j grote openingen en aan randen hellend vla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ngnetten of harnasgord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tte dak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 minder dan 4 meter van dakrand: dakrandbeveiliging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ngnetten aanbrengen eventueel harnasgor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Afbeelding 5" descr="imagesCAU1R4VZ.jpg"/>
          <p:cNvPicPr/>
          <p:nvPr/>
        </p:nvPicPr>
        <p:blipFill>
          <a:blip r:embed="rId2"/>
          <a:stretch/>
        </p:blipFill>
        <p:spPr>
          <a:xfrm>
            <a:off x="0" y="2895480"/>
            <a:ext cx="1173240" cy="12589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"/>
          <p:cNvPicPr/>
          <p:nvPr/>
        </p:nvPicPr>
        <p:blipFill>
          <a:blip r:embed="rId3"/>
          <a:srcRect l="33256" t="0" r="0" b="0"/>
          <a:stretch/>
        </p:blipFill>
        <p:spPr>
          <a:xfrm>
            <a:off x="7721640" y="0"/>
            <a:ext cx="142236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9.4.2. Lad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léén bij lichte werkzaamhed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s inzet van een steiger (stelling) of hoogwerker technisch of economisch niet haalbaar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dder is goedgekeurd en voorzien va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euringssti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ahoogte is minder dan 7,5 m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atijd is minder dan 4 u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ikwijdte is maximaal een armleng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oven windkracht 6 ladders niet gebrui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rachtuitoefening is minder dan 100N (10 k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9.4.2. Ladders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org voor een stevige ondergro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dder niet achterstevoren of ondersteboven plaat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dder opstellen onder ca. 75 grad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rgen tegen wegzakken of uitglij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aal 1 meter laten uitsteken boven toeg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egang tot ladder vrijhouden van obstake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okkeer deur of doorgang achter de lad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orten en ladderschoenen schoonhou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et beklimmen met gladde of vervuilde zo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klim de ladder met het gezicht naar de ladder to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len ladders &gt; 2 meter van onder spanning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ande d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Afbeelding 5" descr="imagesCAXI9X3V.jpg"/>
          <p:cNvPicPr/>
          <p:nvPr/>
        </p:nvPicPr>
        <p:blipFill>
          <a:blip r:embed="rId2"/>
          <a:stretch/>
        </p:blipFill>
        <p:spPr>
          <a:xfrm>
            <a:off x="7358040" y="0"/>
            <a:ext cx="1785960" cy="17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9.4.3. Steig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biliteitsbereke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es voor op- of ombouw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bouwen en veranderingen door vakkundige bouw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voegde toezichthouder aanwezi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óór ingebruikname wordt een steigerkaart ingevu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ximaal toelaatbare belasting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 hij betreden mag word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t wanneer de keuring geldig i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een opgeleide mensen mogen op steigers wer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ets aan de constructie van de steiger verand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en materiaal of gereedschap op de steiger achterla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en trap of ladder op de stei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Afbeelding 6" descr="2-verdiepingen-in-steigers-.jpg"/>
          <p:cNvPicPr/>
          <p:nvPr/>
        </p:nvPicPr>
        <p:blipFill>
          <a:blip r:embed="rId2"/>
          <a:stretch/>
        </p:blipFill>
        <p:spPr>
          <a:xfrm>
            <a:off x="6286680" y="0"/>
            <a:ext cx="2857320" cy="21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9.4.4. Hangsteig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iligheidsmaatregel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bruikers krijgen vóóraf instructi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erst testen voor gebruik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mgeving onder de steiger afzett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rnasgordel dragen gehaakt aan een speciaal pu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iet gebruiksklaar en onbeheerd achterlat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s de bediening niet op de hangsteiger zelf i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g de bediener niet weggaan wanneer er personen in de hangsteiger zij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j geen of beperkt oogcontact tussen bediener en personen in de hangsteig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ulpmiddelen voor communicatie gebruik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Afbeelding 4" descr="imagesCAV5URG7.jpg"/>
          <p:cNvPicPr/>
          <p:nvPr/>
        </p:nvPicPr>
        <p:blipFill>
          <a:blip r:embed="rId2"/>
          <a:stretch/>
        </p:blipFill>
        <p:spPr>
          <a:xfrm>
            <a:off x="7072200" y="0"/>
            <a:ext cx="207180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9.4.5. Rolsteig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iligheidsmaatregel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elen blokkeren voor het beklim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lsteiger van binnenuit beklim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eriaal en gereedschap naar boven hij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rkvloer opgeruimd hou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et op de schoren sta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dergrond moet vlak en hard zij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lsteiger niet verplaatsen met iemand op de rolstei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org dat de steunen en uithouders niet kunnen verschuiven tijdens het verplaat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Afbeelding 7" descr="rol.jpg"/>
          <p:cNvPicPr/>
          <p:nvPr/>
        </p:nvPicPr>
        <p:blipFill>
          <a:blip r:embed="rId2"/>
          <a:stretch/>
        </p:blipFill>
        <p:spPr>
          <a:xfrm>
            <a:off x="7467480" y="0"/>
            <a:ext cx="167652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Hoofdstuk 9</a:t>
            </a:r>
            <a:br>
              <a:rPr sz="2800"/>
            </a:b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Risicovolle arbeidsplaat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1  Laswerkplek en la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2  Explosiegevaarlijke z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3  Besloten ruim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4  Werkplekken op hoog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5  Locatie met wand- en vloeropen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6  Slooploca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7  Asbestloca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8  Graafloca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9.4.6. Werkbakken voor person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rkbakken voor personen moeten met e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iersprong worden opgehangen aan de kraa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e moeten gekeurd zij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an de buitenzijde staat informatie ov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elaatbare werkla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 mas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elaatbaar aantal person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iligheidsmaatregel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raanmachinist en personen in de werkbak moeten elkaar kunnen zi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delinge communicati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sonen in de werkbak moeten harnasgordel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ge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verbonden met bevestigingspunt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de ba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Afbeelding 4" descr="imagesCAGWZ8M8.jpg"/>
          <p:cNvPicPr/>
          <p:nvPr/>
        </p:nvPicPr>
        <p:blipFill>
          <a:blip r:embed="rId2">
            <a:lum bright="-20000"/>
          </a:blip>
          <a:stretch/>
        </p:blipFill>
        <p:spPr>
          <a:xfrm>
            <a:off x="7162920" y="1600200"/>
            <a:ext cx="1857240" cy="23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9.4.7. Hoogwerk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elfrijdende hoogwerk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 een aanhangwagen, vrachtwage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bestelau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en schaarlift is een hoogwerker met een schaarconstruct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ogwerkers zijn veiliger dan ladd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ok gevaren zoals omvallen van de hoogwerker door verkeerde plaatsing of een aanrijding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kneld raken tussen object en platform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it het bakje vall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t raken van stroomvoerende leidin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2"/>
          <a:stretch/>
        </p:blipFill>
        <p:spPr>
          <a:xfrm>
            <a:off x="7562880" y="0"/>
            <a:ext cx="15811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9.4.7. Hoogwerkers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 of bij de hoogwerker moeten aanwezig zij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uringssticker, geldig keuringsbewij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at met maximum bela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bruikershandleiding en bedieningsinstruc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iligheidsmaatreg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bruik in horizontale positie en op vlakke ondergro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een rijden met ingeschoven steunen en arm omla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iet gebruiken voor hijsen en ook niet als personenlif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beveiliging die aan de bak is vastgemaak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 bediener moet aantoonbaar deskundig zij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2" descr=""/>
          <p:cNvPicPr/>
          <p:nvPr/>
        </p:nvPicPr>
        <p:blipFill>
          <a:blip r:embed="rId2"/>
          <a:stretch/>
        </p:blipFill>
        <p:spPr>
          <a:xfrm>
            <a:off x="6788160" y="0"/>
            <a:ext cx="235584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9.5 Locatie met wand- en/of vloeropenin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varen bij het werken bij wand- en vloeropening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emand valt er doorh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emand wordt getroffen door een vallend voorwer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iligheidsmaatregel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peningen afdekken met draagkrachtig materiaal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anbrengen van leuningen of hekwer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s beveiliging niet mogelijk is: PB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Afbeelding 4" descr="imagesCAG0ZOPZ.jpg"/>
          <p:cNvPicPr/>
          <p:nvPr/>
        </p:nvPicPr>
        <p:blipFill>
          <a:blip r:embed="rId2"/>
          <a:stretch/>
        </p:blipFill>
        <p:spPr>
          <a:xfrm>
            <a:off x="6737400" y="4267080"/>
            <a:ext cx="240660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9.6 Slooplocat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varen bij sloopwerkzaamhed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abiliteit bij het sloopfro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lend sloopmateria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stappen en struik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itstekende constructied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rijkomen van gevaarlijke stoff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wa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len van hoog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or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Afbeelding 4" descr="stock-photo-demolution-2527839.jpg"/>
          <p:cNvPicPr/>
          <p:nvPr/>
        </p:nvPicPr>
        <p:blipFill>
          <a:blip r:embed="rId2"/>
          <a:srcRect l="0" t="0" r="0" b="8867"/>
          <a:stretch/>
        </p:blipFill>
        <p:spPr>
          <a:xfrm>
            <a:off x="6248520" y="0"/>
            <a:ext cx="2895480" cy="18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9.6 Slooplocatie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iligheidsmaatregel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kening houden met de draagkracht van de overblijvende construc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onder specifiek plan niet boven of onder elkaar wer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tkokers gebrui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onlijke beschermingsmiddel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lm, veiligheidsschoenen, brandveilige overall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embescherming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hoorbescherming 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beveilig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ntratie van gevaarlijke stoffen inventaris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9.7 Asbestlocat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wijderen van asbest en keramische veze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xeermiddel gebrui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eriaal niet breken, zagen of verspa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ewerkers dragen wegwerpoveral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3-stofmasker gebrui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es inpakken en voorzichtig behand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Afbeelding 4" descr="asbestos-remov.jpg"/>
          <p:cNvPicPr/>
          <p:nvPr/>
        </p:nvPicPr>
        <p:blipFill>
          <a:blip r:embed="rId2"/>
          <a:stretch/>
        </p:blipFill>
        <p:spPr>
          <a:xfrm>
            <a:off x="7337520" y="0"/>
            <a:ext cx="18064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Arial"/>
                <a:ea typeface="Arial"/>
              </a:rPr>
              <a:t>9.1 Laswerkplek en las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varen bij elektrisch lass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and en explosie door hittevorming en von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branding huid of hoornvlies door UV-stra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blinding door vrijkomende stra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aandoeningen of vergiftiging door lasr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chamelijke klachten door verkeerde werkhou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ktrocu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6" descr=""/>
          <p:cNvPicPr/>
          <p:nvPr/>
        </p:nvPicPr>
        <p:blipFill>
          <a:blip r:embed="rId2"/>
          <a:srcRect l="31486" t="0" r="19555" b="0"/>
          <a:stretch/>
        </p:blipFill>
        <p:spPr>
          <a:xfrm>
            <a:off x="7429680" y="0"/>
            <a:ext cx="1714320" cy="21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9.1.2 Gevaren bij autogeen las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linder met zuurstof onder dru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uurstof is brandbevorderend en oxidere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linder met acetyleen of propa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ide gassen zijn brandbaar en kunnen explosieve mengsels met lucht vorm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j gebruik van acetyleen kans op vlamterugslag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or de slang naar de cilind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paan is zwaarder dan luch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t blijft hangen in putten, uitgravingen en keld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 kan daar explosieve mengsels met lucht vor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Afbeelding 4" descr="autogeen_1.jpg"/>
          <p:cNvPicPr/>
          <p:nvPr/>
        </p:nvPicPr>
        <p:blipFill>
          <a:blip r:embed="rId2"/>
          <a:stretch/>
        </p:blipFill>
        <p:spPr>
          <a:xfrm>
            <a:off x="7172280" y="0"/>
            <a:ext cx="197172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Veiligheidsmaatregelen bij las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rkvergunningensyste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ntilatie en/of afzuiging van lasr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onlijke bescherming (luchtgeventileerde) laskap,lasschort, laskleding, veiligheidsschoe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usmiddelen onder handbere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sgordijnen voor bescherming tegen UV- en infraroodstra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Veiligheidsmaatregelen bij las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dachtspunten bij autogeen lassen, snijden 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anden met zuurstof en acetyleen / propa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cetyleenfles rechtop opslaan of onder een hoek van ten minste 30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gebruik propaan ventil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nders continu gas met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lamdover tussen acetyleenfles en bra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erugstroombegrenzers op gas- en zuurstofslang van bra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langbreukbeveili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9.2 Explosiegevaarlijke z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oncentraties boven LEL zijn mogelijk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atregelen ter voorkoming van ontsteking, bijvoorbeeld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xplosieveilige verlichting en -schakelaa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 van speciaal gereedsch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neumatisch in plaats van elektrisch gereedsch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9.3 Besloten ruim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enmerke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u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le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a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inig bewegingsruim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et bedoeld voor verblijf van person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uwelijks natuurlijke ventilat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egankelijkheid is lasti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echte vluchtmogelijkhed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echt verlich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uikelgevaar door leidingen en kabels op onverwachte plaats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2"/>
          <a:stretch/>
        </p:blipFill>
        <p:spPr>
          <a:xfrm>
            <a:off x="5715000" y="0"/>
            <a:ext cx="3429000" cy="3000240"/>
          </a:xfrm>
          <a:prstGeom prst="rect">
            <a:avLst/>
          </a:prstGeom>
          <a:ln w="0">
            <a:noFill/>
          </a:ln>
        </p:spPr>
      </p:pic>
      <p:pic>
        <p:nvPicPr>
          <p:cNvPr id="61" name="Afbeelding 7" descr="Besloten.jpg"/>
          <p:cNvPicPr/>
          <p:nvPr/>
        </p:nvPicPr>
        <p:blipFill>
          <a:blip r:embed="rId3"/>
          <a:stretch/>
        </p:blipFill>
        <p:spPr>
          <a:xfrm>
            <a:off x="2971800" y="1676520"/>
            <a:ext cx="1376280" cy="17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2T14:56:51Z</dcterms:created>
  <dc:creator>jrijdes</dc:creator>
  <dc:description/>
  <dc:language>en-US</dc:language>
  <cp:lastModifiedBy>jrijdes</cp:lastModifiedBy>
  <dcterms:modified xsi:type="dcterms:W3CDTF">2010-02-16T11:23:06Z</dcterms:modified>
  <cp:revision>52</cp:revision>
  <dc:subject/>
  <dc:title>Test</dc:title>
</cp:coreProperties>
</file>