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E6CC-1AA3-4354-99C5-C05AFB3A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188-89B6-4405-BEC1-4CE277D4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8CFE-AC24-4357-894F-DD15EA34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CA7-4755-4C93-8290-A352849B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AC88-A281-4198-9868-342FB5A1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D62A-8D73-407B-B2FF-6F3C19BD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799B-B110-4A69-B907-67493FD3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EDFC-46FB-42AF-9290-7FEFC7FC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A42A-D4BA-439E-A3EF-CC6B8C14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7D1E-843A-400D-919C-F3614F42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ACE1-D983-4C48-BB01-5DBC279A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708-A284-47F0-BED1-402600E3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F525-19F6-457D-AF17-A1FC62B5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45FA-541C-4653-A7F0-6F600584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CDA1-D514-4AD0-A9D5-753CCB3F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D518-F79C-4AF0-9CB8-86C90E68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86C3-07E6-4CEE-85C1-9CA07794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3007B-3E9B-43D5-A862-0C277AD3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0A3A-6C50-4397-9C7F-05322691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5EB48-57D0-4EB6-92B1-0F629666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62E65-4F36-460F-8D54-ED7F0F14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55CC-09B8-4041-97AF-716E7907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0DA-2402-408F-B958-6B9206C1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CC38F-EBE9-4737-89BD-2E6FFD57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2B865-68F8-4FFF-AF6A-CC9A23F4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8CB56-2354-4183-9629-0A17B65E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048D-0F17-435D-B5B2-A5C2CB5F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62AFB-4175-4CEE-80ED-B838D9F7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D5052-B082-4341-8771-4F8D3F3B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18FEF-2C53-48B6-96A3-A6775AF8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7C6-76D3-432D-B30C-E56BAFDD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192-B6F2-4A02-AA2E-0288B12B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1E3-A976-4F31-B940-922A5997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B7D-6426-446D-830B-8B31AF52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5AC8-2A16-4B6A-A62C-10AB43FF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830-9008-45E6-ACEC-B32082F8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0D77-0100-4891-8E55-D5224CAC3B3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4C5A-CB49-494E-9EEA-6D14BD99D59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5BCB-E48B-47A6-B50A-E4CD8AE1470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71320"/>
            <a:ext cx="815328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3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Hoofdstuk 6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Elektriciteit, straling, trillingen en lawaai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risico’s van de techni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3EF9-20BA-46B7-8FEF-81D5B428D61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320" y="1147320"/>
            <a:ext cx="835812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gevaloorz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amengev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FF94-79C6-4EC7-B414-542A820D59F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320" y="1499760"/>
            <a:ext cx="8001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an elektrische installaties is aan regels gebo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person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atie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bekwaam persoon (elektrotechnicu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onderricht persoo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niet bevoegd: l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A7BD-D961-4A1B-BDCC-2052AC88730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1680" y="164268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 (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 persoon en een leek hebben geen elektrotechnische vakopleiding afge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e persoon heeft van een vakbekwaam persoon een instructie gekregen om zorgvuldig omschreven taken aan een elektrische installatie onder toezicht te mogen uit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163a"/>
                </a:solidFill>
                <a:latin typeface="Arial"/>
              </a:rPr>
              <a:t>een leek heeft géén instructie ontvangen en mag níet aan een installatie wer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18EC-2EAD-456E-9B7A-4344944F8DF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4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Technische</a:t>
            </a:r>
            <a:br>
              <a:rPr sz="2800"/>
            </a:b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571400"/>
            <a:ext cx="7799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AD23-DF8E-4201-9B3B-9D6F26A9597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6232680" y="0"/>
            <a:ext cx="2911320" cy="194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http://www.soer.nl/shop/images/9706278elektra.JPG"/>
          <p:cNvPicPr/>
          <p:nvPr/>
        </p:nvPicPr>
        <p:blipFill>
          <a:blip r:embed="rId3"/>
          <a:stretch/>
        </p:blipFill>
        <p:spPr>
          <a:xfrm>
            <a:off x="6643800" y="371484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9d37"/>
                </a:solidFill>
                <a:latin typeface="Arial"/>
              </a:rPr>
              <a:t>Veiligheidsaar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1320" y="164268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en defect elektrisch toestel wordt voorkomen dat uitwendige delen onder spanning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30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BF1C-3037-47B6-A0C3-CCC56837817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9680" y="1428480"/>
            <a:ext cx="8442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 op: beveiligt niet tegen indringen van vocht en 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BE84-CA90-4A2F-AA62-7CD9F7F841B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http://www.gortzen.eu/vca/elektrisch%20gereedschap/dubbel%20geisoleerd.png"/>
          <p:cNvPicPr/>
          <p:nvPr/>
        </p:nvPicPr>
        <p:blipFill>
          <a:blip r:embed="rId2"/>
          <a:stretch/>
        </p:blipFill>
        <p:spPr>
          <a:xfrm>
            <a:off x="4675320" y="2779560"/>
            <a:ext cx="6588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57720" y="1147680"/>
            <a:ext cx="62863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isuele insp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bruik tijdelijke stroominstal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een aardlekschakelaar (30 of 300 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94AD-43D7-42C4-832A-678AED5C21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Afbeelding 4" descr="insp.jpg"/>
          <p:cNvPicPr/>
          <p:nvPr/>
        </p:nvPicPr>
        <p:blipFill>
          <a:blip r:embed="rId2"/>
          <a:stretch/>
        </p:blipFill>
        <p:spPr>
          <a:xfrm>
            <a:off x="357120" y="1357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http://www.abird.nl/UserFiles/Image/Producten/VerdeelkastVS.jpg"/>
          <p:cNvPicPr/>
          <p:nvPr/>
        </p:nvPicPr>
        <p:blipFill>
          <a:blip r:embed="rId3"/>
          <a:stretch/>
        </p:blipFill>
        <p:spPr>
          <a:xfrm>
            <a:off x="785880" y="3429000"/>
            <a:ext cx="2628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85960" y="1642680"/>
            <a:ext cx="70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3C66-C02B-47F1-BDA2-8CC7EDB578A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Afbeelding 4" descr="kabelhaspel02.jpg"/>
          <p:cNvPicPr/>
          <p:nvPr/>
        </p:nvPicPr>
        <p:blipFill>
          <a:blip r:embed="rId2"/>
          <a:stretch/>
        </p:blipFill>
        <p:spPr>
          <a:xfrm>
            <a:off x="133200" y="2852640"/>
            <a:ext cx="17384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320" y="157140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 is de opbou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elektrische spanning bi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f spuiten of andere soortgelijke activit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vloeistoffen bij strom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een kunststofleiding of bij het ro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F2DC-B6E4-47C8-91B3-159C51A4915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7283520" y="0"/>
            <a:ext cx="1860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320" y="1147680"/>
            <a:ext cx="8358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et ontstaan van (zeer) hoge spanninge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statische elektriciteit is mogelijk,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us gevaarlijk!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2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aatregelen om statische elektriciteit te bep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50E9-2851-4B04-8065-B7453A13504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 Elektriciteit, straling, trillingen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680" y="71424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: gemak en risico’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n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werken met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sch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 in werk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6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-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klimaat e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AFAA-5E2D-49CC-A24B-71019ED9BEF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B7D1-40F0-489D-97BD-6B737224C1E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kstvak 4"/>
          <p:cNvSpPr/>
          <p:nvPr/>
        </p:nvSpPr>
        <p:spPr>
          <a:xfrm>
            <a:off x="1071720" y="1785960"/>
            <a:ext cx="2143080" cy="9471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actiev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kstvak 7"/>
          <p:cNvSpPr/>
          <p:nvPr/>
        </p:nvSpPr>
        <p:spPr>
          <a:xfrm>
            <a:off x="4786200" y="1643040"/>
            <a:ext cx="142884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kstvak 12"/>
          <p:cNvSpPr/>
          <p:nvPr/>
        </p:nvSpPr>
        <p:spPr>
          <a:xfrm>
            <a:off x="5500800" y="2643120"/>
            <a:ext cx="228600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chn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14"/>
          <p:cNvSpPr/>
          <p:nvPr/>
        </p:nvSpPr>
        <p:spPr>
          <a:xfrm>
            <a:off x="3214800" y="2263680"/>
            <a:ext cx="2286000" cy="64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 verbindingslijn 19"/>
          <p:cNvSpPr/>
          <p:nvPr/>
        </p:nvSpPr>
        <p:spPr>
          <a:xfrm flipV="1">
            <a:off x="3214800" y="1908000"/>
            <a:ext cx="1571400" cy="262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kstvak 24"/>
          <p:cNvSpPr/>
          <p:nvPr/>
        </p:nvSpPr>
        <p:spPr>
          <a:xfrm>
            <a:off x="5500800" y="371808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es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cen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e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al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kstvak 28"/>
          <p:cNvSpPr/>
          <p:nvPr/>
        </p:nvSpPr>
        <p:spPr>
          <a:xfrm>
            <a:off x="857160" y="3228840"/>
            <a:ext cx="2876760" cy="45972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OMLAAG 29"/>
          <p:cNvSpPr/>
          <p:nvPr/>
        </p:nvSpPr>
        <p:spPr>
          <a:xfrm>
            <a:off x="1928880" y="27860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IJL-OMLAAG 30"/>
          <p:cNvSpPr/>
          <p:nvPr/>
        </p:nvSpPr>
        <p:spPr>
          <a:xfrm>
            <a:off x="2000160" y="3714840"/>
            <a:ext cx="71640" cy="1428840"/>
          </a:xfrm>
          <a:prstGeom prst="downArrow">
            <a:avLst>
              <a:gd name="adj1" fmla="val 50000"/>
              <a:gd name="adj2" fmla="val 49862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kstvak 33"/>
          <p:cNvSpPr/>
          <p:nvPr/>
        </p:nvSpPr>
        <p:spPr>
          <a:xfrm>
            <a:off x="857160" y="5143680"/>
            <a:ext cx="2857680" cy="36828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antasting weefsel/org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kstvak 34"/>
          <p:cNvSpPr/>
          <p:nvPr/>
        </p:nvSpPr>
        <p:spPr>
          <a:xfrm>
            <a:off x="2214720" y="3786120"/>
            <a:ext cx="278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ort b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rkte b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: absorptie / reflec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kstvak 15"/>
          <p:cNvSpPr/>
          <p:nvPr/>
        </p:nvSpPr>
        <p:spPr>
          <a:xfrm>
            <a:off x="6715080" y="928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ge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kstvak 16"/>
          <p:cNvSpPr/>
          <p:nvPr/>
        </p:nvSpPr>
        <p:spPr>
          <a:xfrm>
            <a:off x="6715080" y="1785960"/>
            <a:ext cx="19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j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e/gasw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hte verbindingslijn 18"/>
          <p:cNvSpPr/>
          <p:nvPr/>
        </p:nvSpPr>
        <p:spPr>
          <a:xfrm flipV="1">
            <a:off x="6215040" y="1279440"/>
            <a:ext cx="5000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Rechte verbindingslijn met pijl 26"/>
          <p:cNvCxnSpPr>
            <a:stCxn id="236" idx="3"/>
            <a:endCxn id="247" idx="1"/>
          </p:cNvCxnSpPr>
          <p:nvPr/>
        </p:nvCxnSpPr>
        <p:spPr>
          <a:xfrm>
            <a:off x="6214680" y="1907640"/>
            <a:ext cx="5007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B95D-ABE2-43F4-80CE-71EC745643A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tel 2"/>
          <p:cNvSpPr/>
          <p:nvPr/>
        </p:nvSpPr>
        <p:spPr>
          <a:xfrm>
            <a:off x="571680" y="228600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er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fstand: borden en afsche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gië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pakkingen gesloten la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tingen uitvo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8 Niet-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320" y="11473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ionisatie-effecten maar wel schadelijke werking mog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V-straling en IR-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nl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er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g instructies en houd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C456-282C-410C-92B5-A25BD4FC37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C45A-2376-4906-9A5B-9A9FB92383A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kstvak 3"/>
          <p:cNvSpPr/>
          <p:nvPr/>
        </p:nvSpPr>
        <p:spPr>
          <a:xfrm>
            <a:off x="642960" y="2276640"/>
            <a:ext cx="19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torische) aand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kstvak 4"/>
          <p:cNvSpPr/>
          <p:nvPr/>
        </p:nvSpPr>
        <p:spPr>
          <a:xfrm>
            <a:off x="2714760" y="1643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r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kstvak 5"/>
          <p:cNvSpPr/>
          <p:nvPr/>
        </p:nvSpPr>
        <p:spPr>
          <a:xfrm>
            <a:off x="3718080" y="2419200"/>
            <a:ext cx="13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d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kstvak 7"/>
          <p:cNvSpPr/>
          <p:nvPr/>
        </p:nvSpPr>
        <p:spPr>
          <a:xfrm>
            <a:off x="5410080" y="1676520"/>
            <a:ext cx="15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/arm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kstvak 8"/>
          <p:cNvSpPr/>
          <p:nvPr/>
        </p:nvSpPr>
        <p:spPr>
          <a:xfrm>
            <a:off x="5429160" y="25909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chaams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Vrije vorm 9"/>
          <p:cNvSpPr/>
          <p:nvPr/>
        </p:nvSpPr>
        <p:spPr>
          <a:xfrm>
            <a:off x="1928880" y="2604960"/>
            <a:ext cx="1805040" cy="39708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1253067" h="296998">
                <a:moveTo>
                  <a:pt x="0" y="50722"/>
                </a:moveTo>
                <a:cubicBezTo>
                  <a:pt x="7526" y="35670"/>
                  <a:pt x="6397" y="10190"/>
                  <a:pt x="22578" y="5567"/>
                </a:cubicBezTo>
                <a:cubicBezTo>
                  <a:pt x="42062" y="0"/>
                  <a:pt x="63636" y="14956"/>
                  <a:pt x="79022" y="28144"/>
                </a:cubicBezTo>
                <a:cubicBezTo>
                  <a:pt x="91799" y="39096"/>
                  <a:pt x="93251" y="58689"/>
                  <a:pt x="101600" y="73300"/>
                </a:cubicBezTo>
                <a:cubicBezTo>
                  <a:pt x="108331" y="85080"/>
                  <a:pt x="118110" y="95032"/>
                  <a:pt x="124178" y="107167"/>
                </a:cubicBezTo>
                <a:cubicBezTo>
                  <a:pt x="129500" y="117810"/>
                  <a:pt x="129563" y="130701"/>
                  <a:pt x="135467" y="141033"/>
                </a:cubicBezTo>
                <a:cubicBezTo>
                  <a:pt x="144802" y="157369"/>
                  <a:pt x="158397" y="170879"/>
                  <a:pt x="169333" y="186189"/>
                </a:cubicBezTo>
                <a:cubicBezTo>
                  <a:pt x="177219" y="197229"/>
                  <a:pt x="184385" y="208766"/>
                  <a:pt x="191911" y="220055"/>
                </a:cubicBezTo>
                <a:cubicBezTo>
                  <a:pt x="199437" y="208766"/>
                  <a:pt x="207758" y="197969"/>
                  <a:pt x="214489" y="186189"/>
                </a:cubicBezTo>
                <a:cubicBezTo>
                  <a:pt x="222838" y="171578"/>
                  <a:pt x="227416" y="154820"/>
                  <a:pt x="237067" y="141033"/>
                </a:cubicBezTo>
                <a:cubicBezTo>
                  <a:pt x="253921" y="116956"/>
                  <a:pt x="274696" y="95878"/>
                  <a:pt x="293511" y="73300"/>
                </a:cubicBezTo>
                <a:cubicBezTo>
                  <a:pt x="297274" y="62011"/>
                  <a:pt x="294596" y="33311"/>
                  <a:pt x="304800" y="39433"/>
                </a:cubicBezTo>
                <a:cubicBezTo>
                  <a:pt x="328068" y="53394"/>
                  <a:pt x="349955" y="107167"/>
                  <a:pt x="349955" y="107167"/>
                </a:cubicBezTo>
                <a:cubicBezTo>
                  <a:pt x="351162" y="111995"/>
                  <a:pt x="364332" y="186189"/>
                  <a:pt x="383822" y="186189"/>
                </a:cubicBezTo>
                <a:cubicBezTo>
                  <a:pt x="412480" y="186189"/>
                  <a:pt x="436503" y="163611"/>
                  <a:pt x="462844" y="152322"/>
                </a:cubicBezTo>
                <a:cubicBezTo>
                  <a:pt x="464730" y="149493"/>
                  <a:pt x="510596" y="75896"/>
                  <a:pt x="519289" y="84589"/>
                </a:cubicBezTo>
                <a:cubicBezTo>
                  <a:pt x="547947" y="113247"/>
                  <a:pt x="546319" y="161228"/>
                  <a:pt x="564444" y="197478"/>
                </a:cubicBezTo>
                <a:lnTo>
                  <a:pt x="609600" y="287789"/>
                </a:lnTo>
                <a:cubicBezTo>
                  <a:pt x="678786" y="264727"/>
                  <a:pt x="613722" y="296998"/>
                  <a:pt x="654755" y="231344"/>
                </a:cubicBezTo>
                <a:cubicBezTo>
                  <a:pt x="674307" y="200061"/>
                  <a:pt x="704634" y="183040"/>
                  <a:pt x="733778" y="163611"/>
                </a:cubicBezTo>
                <a:cubicBezTo>
                  <a:pt x="739335" y="174725"/>
                  <a:pt x="765634" y="231994"/>
                  <a:pt x="778933" y="242633"/>
                </a:cubicBezTo>
                <a:cubicBezTo>
                  <a:pt x="788225" y="250067"/>
                  <a:pt x="801511" y="250159"/>
                  <a:pt x="812800" y="253922"/>
                </a:cubicBezTo>
                <a:cubicBezTo>
                  <a:pt x="816563" y="242633"/>
                  <a:pt x="818767" y="230698"/>
                  <a:pt x="824089" y="220055"/>
                </a:cubicBezTo>
                <a:cubicBezTo>
                  <a:pt x="877407" y="113418"/>
                  <a:pt x="843787" y="206114"/>
                  <a:pt x="869244" y="129744"/>
                </a:cubicBezTo>
                <a:cubicBezTo>
                  <a:pt x="876023" y="156859"/>
                  <a:pt x="878748" y="189277"/>
                  <a:pt x="903111" y="208767"/>
                </a:cubicBezTo>
                <a:cubicBezTo>
                  <a:pt x="912403" y="216200"/>
                  <a:pt x="925689" y="216292"/>
                  <a:pt x="936978" y="220055"/>
                </a:cubicBezTo>
                <a:cubicBezTo>
                  <a:pt x="948267" y="197477"/>
                  <a:pt x="961135" y="175623"/>
                  <a:pt x="970844" y="152322"/>
                </a:cubicBezTo>
                <a:cubicBezTo>
                  <a:pt x="979997" y="130354"/>
                  <a:pt x="974838" y="99456"/>
                  <a:pt x="993422" y="84589"/>
                </a:cubicBezTo>
                <a:cubicBezTo>
                  <a:pt x="1004017" y="76113"/>
                  <a:pt x="1016000" y="99641"/>
                  <a:pt x="1027289" y="107167"/>
                </a:cubicBezTo>
                <a:cubicBezTo>
                  <a:pt x="1038578" y="122219"/>
                  <a:pt x="1050219" y="137012"/>
                  <a:pt x="1061155" y="152322"/>
                </a:cubicBezTo>
                <a:cubicBezTo>
                  <a:pt x="1069041" y="163363"/>
                  <a:pt x="1070165" y="186189"/>
                  <a:pt x="1083733" y="186189"/>
                </a:cubicBezTo>
                <a:cubicBezTo>
                  <a:pt x="1097301" y="186189"/>
                  <a:pt x="1097625" y="162745"/>
                  <a:pt x="1106311" y="152322"/>
                </a:cubicBezTo>
                <a:cubicBezTo>
                  <a:pt x="1116532" y="140057"/>
                  <a:pt x="1129788" y="130577"/>
                  <a:pt x="1140178" y="118455"/>
                </a:cubicBezTo>
                <a:cubicBezTo>
                  <a:pt x="1152422" y="104170"/>
                  <a:pt x="1162755" y="88352"/>
                  <a:pt x="1174044" y="73300"/>
                </a:cubicBezTo>
                <a:cubicBezTo>
                  <a:pt x="1185333" y="84589"/>
                  <a:pt x="1199055" y="93883"/>
                  <a:pt x="1207911" y="107167"/>
                </a:cubicBezTo>
                <a:cubicBezTo>
                  <a:pt x="1214512" y="117068"/>
                  <a:pt x="1213878" y="130390"/>
                  <a:pt x="1219200" y="141033"/>
                </a:cubicBezTo>
                <a:cubicBezTo>
                  <a:pt x="1225268" y="153168"/>
                  <a:pt x="1234797" y="163266"/>
                  <a:pt x="1241778" y="174900"/>
                </a:cubicBezTo>
                <a:cubicBezTo>
                  <a:pt x="1246107" y="182115"/>
                  <a:pt x="1249304" y="189952"/>
                  <a:pt x="1253067" y="197478"/>
                </a:cubicBezTo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Rechte verbindingslijn met pijl 11"/>
          <p:cNvCxnSpPr>
            <a:stCxn id="260" idx="3"/>
            <a:endCxn id="261" idx="1"/>
          </p:cNvCxnSpPr>
          <p:nvPr/>
        </p:nvCxnSpPr>
        <p:spPr>
          <a:xfrm flipV="1">
            <a:off x="5105520" y="2056680"/>
            <a:ext cx="305280" cy="56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5" name="Rechte verbindingslijn met pijl 13"/>
          <p:cNvCxnSpPr>
            <a:stCxn id="260" idx="3"/>
            <a:endCxn id="262" idx="1"/>
          </p:cNvCxnSpPr>
          <p:nvPr/>
        </p:nvCxnSpPr>
        <p:spPr>
          <a:xfrm>
            <a:off x="5105160" y="2617560"/>
            <a:ext cx="324360" cy="354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6" name="Tekstvak 17"/>
          <p:cNvSpPr/>
          <p:nvPr/>
        </p:nvSpPr>
        <p:spPr>
          <a:xfrm>
            <a:off x="7072200" y="2562120"/>
            <a:ext cx="192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el of vloer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e/ werktu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kstvak 18"/>
          <p:cNvSpPr/>
          <p:nvPr/>
        </p:nvSpPr>
        <p:spPr>
          <a:xfrm>
            <a:off x="7072200" y="928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and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kstvak 19"/>
          <p:cNvSpPr/>
          <p:nvPr/>
        </p:nvSpPr>
        <p:spPr>
          <a:xfrm>
            <a:off x="5257800" y="5043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IJL-OMLAAG 20"/>
          <p:cNvSpPr/>
          <p:nvPr/>
        </p:nvSpPr>
        <p:spPr>
          <a:xfrm>
            <a:off x="5857920" y="3776760"/>
            <a:ext cx="642960" cy="10000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kstvak 21"/>
          <p:cNvSpPr/>
          <p:nvPr/>
        </p:nvSpPr>
        <p:spPr>
          <a:xfrm>
            <a:off x="6858000" y="41148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requ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uitslag (ampl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96DE-F509-4DC3-8188-8ED81E6065F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3"/>
          <p:cNvSpPr/>
          <p:nvPr/>
        </p:nvSpPr>
        <p:spPr>
          <a:xfrm>
            <a:off x="571680" y="13510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letsel/gezondheidsklachten door 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ijn in handen en a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voelloze vingertop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u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moei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hoofd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pier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ncentratiever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enwichtstoor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311B-A0D7-49B5-B86B-E483E0B0B51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kstvak 3"/>
          <p:cNvSpPr/>
          <p:nvPr/>
        </p:nvSpPr>
        <p:spPr>
          <a:xfrm>
            <a:off x="571680" y="14479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preventieve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euze van nieuwe appar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illing absorberende handscho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ternatieve techn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perking blootstelling (bijv. door taakroul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7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 Binnenklimaat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A575-A90F-4805-9C63-668BF7AA90E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kstvak 3"/>
          <p:cNvSpPr/>
          <p:nvPr/>
        </p:nvSpPr>
        <p:spPr>
          <a:xfrm>
            <a:off x="571680" y="838080"/>
            <a:ext cx="83581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t werkt beter onder comfortabele omstandighed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je blijft langer gez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limaatbehee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leving wordt bepaald door temperatuur, vocht 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to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rksoort stelt eisen: precisiewerk meer 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eigenschappen werknemer: zichtverlies bijvoorbee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oor leef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kwaliteit verlichting/inrichting (contrasten en spiegeling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onderhoud en verva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ttelijke ei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33520" y="1371600"/>
            <a:ext cx="58291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awaai is schadelijk geluid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rd geluid heeft nadelig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 verstaat mensen slecht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effecten zijn afhankelijk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7111-0EBA-465B-A8F7-421C0CD8D34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283" name="Picture 7" descr=""/>
            <p:cNvPicPr/>
            <p:nvPr/>
          </p:nvPicPr>
          <p:blipFill>
            <a:blip r:embed="rId2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"/>
            <p:cNvPicPr/>
            <p:nvPr/>
          </p:nvPicPr>
          <p:blipFill>
            <a:blip r:embed="rId3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7" descr="http://www.energytech.at/kwk/fotos/portrait_10_en.jpg"/>
            <p:cNvPicPr/>
            <p:nvPr/>
          </p:nvPicPr>
          <p:blipFill>
            <a:blip r:embed="rId4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Rechthoek 12"/>
          <p:cNvGrpSpPr/>
          <p:nvPr/>
        </p:nvGrpSpPr>
        <p:grpSpPr>
          <a:xfrm>
            <a:off x="8772480" y="-12600"/>
            <a:ext cx="384120" cy="6883200"/>
            <a:chOff x="8772480" y="-12600"/>
            <a:chExt cx="384120" cy="6883200"/>
          </a:xfrm>
        </p:grpSpPr>
        <p:pic>
          <p:nvPicPr>
            <p:cNvPr id="288" name="Rechthoek 12" descr=""/>
            <p:cNvPicPr/>
            <p:nvPr/>
          </p:nvPicPr>
          <p:blipFill>
            <a:blip r:embed="rId6"/>
            <a:stretch/>
          </p:blipFill>
          <p:spPr>
            <a:xfrm>
              <a:off x="8772480" y="-12600"/>
              <a:ext cx="3841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786880" y="0"/>
              <a:ext cx="35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hte verbindingslijn 14"/>
          <p:cNvSpPr/>
          <p:nvPr/>
        </p:nvSpPr>
        <p:spPr>
          <a:xfrm>
            <a:off x="6786720" y="3000240"/>
            <a:ext cx="20001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 verbindingslijn 16"/>
          <p:cNvSpPr/>
          <p:nvPr/>
        </p:nvSpPr>
        <p:spPr>
          <a:xfrm>
            <a:off x="6715080" y="292896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 verbindingslijn 18"/>
          <p:cNvSpPr/>
          <p:nvPr/>
        </p:nvSpPr>
        <p:spPr>
          <a:xfrm>
            <a:off x="6500880" y="2928960"/>
            <a:ext cx="35712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 verbindingslijn 20"/>
          <p:cNvSpPr/>
          <p:nvPr/>
        </p:nvSpPr>
        <p:spPr>
          <a:xfrm>
            <a:off x="6500880" y="2714760"/>
            <a:ext cx="357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71680" y="1066680"/>
            <a:ext cx="6410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 va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oring van de communicati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jdens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oren van alarmsignal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hulpgeroe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vende gehoor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DBD7-6F94-479A-A921-A5D3D971D0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http://www.docukit.nl/inhoud/ic74-2.jpg"/>
          <p:cNvPicPr/>
          <p:nvPr/>
        </p:nvPicPr>
        <p:blipFill>
          <a:blip r:embed="rId2"/>
          <a:stretch/>
        </p:blipFill>
        <p:spPr>
          <a:xfrm>
            <a:off x="5334120" y="2975040"/>
            <a:ext cx="3438360" cy="2230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1680" y="1147320"/>
            <a:ext cx="82152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lijvende gehoor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dus alle reden om lawaai serieus aan te 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7BFC-9B4C-43AE-84A0-697F5A8F1FA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, gemak en risico’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4274-FD26-4D96-8EE9-468C65D3D2A9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09480" y="1752480"/>
            <a:ext cx="82296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onmisb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ma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stroom kan doden en brand en explosies veroorz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en kunnen effecten geven op 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 kunnen de gezondheid bedr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 kan ernstige schade toebre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006D-8669-4F57-B558-50507CF0650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3"/>
          <p:cNvSpPr/>
          <p:nvPr/>
        </p:nvSpPr>
        <p:spPr>
          <a:xfrm>
            <a:off x="571680" y="1143000"/>
            <a:ext cx="8397720" cy="47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geluidssterkte in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oor rekenen met geluidsbelasting wordt decibel(A) gebruikt</a:t>
            </a:r>
            <a:br>
              <a:rPr sz="2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A staat voor toepassen van een geluidsfilter A dat overeenkomt met het menselijk oor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eenheid decibel bevat een logarit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aardoor gelden andere rekenregels als lineaire een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erdubbeling van geluid betekent een toename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halvering van geluid betekent een vermindering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elke puntbron, dus meestal ook voor geluid, geldt: 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ubbele afstand: 1/4 van de intensiteit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geluid is dat  dus  -6 decibel!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: gemak en risico’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19DB-7044-4C90-99AA-295DA92409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95440" y="1676520"/>
            <a:ext cx="82627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de basis van de industrie, huishouden en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veel ervaring met en er zijn veel voorschriften voor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het algemene gebruik en de goede bescherming kunnen we overblijvende risico’s gaan onder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0319-AD13-4F36-834F-A91B137D3D8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71680" y="1600200"/>
            <a:ext cx="83581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A577-2C64-44F7-8ABE-0D2D4A5E668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http://aivpc41.vub.ac.be/preventie/Images/VE_EL_electrocutie.gif"/>
          <p:cNvPicPr/>
          <p:nvPr/>
        </p:nvPicPr>
        <p:blipFill>
          <a:blip r:embed="rId2">
            <a:grayscl/>
          </a:blip>
          <a:stretch/>
        </p:blipFill>
        <p:spPr>
          <a:xfrm>
            <a:off x="4003560" y="1071720"/>
            <a:ext cx="2000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15228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85" name="Titel 1"/>
          <p:cNvSpPr/>
          <p:nvPr/>
        </p:nvSpPr>
        <p:spPr>
          <a:xfrm>
            <a:off x="571680" y="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01200" y="2133720"/>
            <a:ext cx="7651440" cy="39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gevaren van stroom door het licha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en door meerdere factoren bepaa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anning (50 Volt, 230 Volt of hoogspan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ochtigheidsgraad van de huid (droog of n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kte van de huid (een eeltlaag biedt bescherm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anrakingsoppervlak (hoe groter hoe meer stro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olatieweerstand van de standplaa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oleum en een rubbermat hebben een ho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en betonnen vloer heeft een la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8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(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7E0E-6A87-4A75-BC1D-0389A377623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21420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90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71680" y="2362320"/>
            <a:ext cx="6867360" cy="27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om door het lichaam kan op een indirec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er leiden tot een ong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waardoor letsel ontsta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rondvliegend materia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71320" y="2071440"/>
            <a:ext cx="87296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tsluit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kortsluiting en/of een 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9997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kortslui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E89A-80AF-42D0-8151-CBBB8CFBF43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8:10Z</dcterms:modified>
  <cp:revision>131</cp:revision>
  <dc:subject/>
  <dc:title>Taak en positie VFP</dc:title>
</cp:coreProperties>
</file>