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2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734AE-4342-4B02-BCAB-78BBA5269213}"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0FC5B-042C-4354-8900-A1B5131FD1F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F12E7-7DE9-4CF6-9258-B70249032A17}"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oel minimaal 10 min bij voorkeur met lauw water, dit houdt de doorbloeding instant zodat de warmte afgevoerd kan worden. Op deze manier kan verdere uitbreiding van de warmte voorkomen worden. Gebruik zacht stromend water. Smeer geen zalfjes op de w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chemische verbranding 30 min spoelen en kleding verwijderen! Zorg wel voor je eigen veiligheid en kom niet in aanraking met de chemische stof gebruik dus handschoenen. Denk ook dat je de gassen niet inademt. Dek de wonden na het koelen af met steriele ga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es bij verbranding in het gezicht op verbranding van de luchtweg-&gt; let op ademhalingsproblem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EB571-81BE-43DF-BCA2-14555F39C90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27068-E720-46DF-8AE8-D8C4A3372D6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D92EF-08AD-4B6B-89E3-2C344655A7F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gel van 9 is een goede manier om te meten hoeveel procent van het oppervlak van het lichaam verbrand is. Hierbij staat ieder lichaamsdeel voor 9% of een meervoud daarvan behalve het geslachtsd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en met hand van het slachto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het lastig kan zijn het oppervlak te berekenen als delen van lichaamsdelen verbrand zijn kun je ook meten met de hand van het slachtoffer. De oppervlakte van de hand met gesloten vingers staat daarbij voor 1%. Het is belangrijk om te weten hoeveel procent van het lichaam ongeveer verbrand is omdat dit gevraagd zal worden bij het bellen van 1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0A76E-D9DA-4B87-BFF5-767FDDE4D336}"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5A2BC-E1A4-4DC3-960D-4FB58B0057E5}"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dere symptomen naarmate de temperatuur daalt rillen, vermoeidheid, verwardheid, spierstijfheid, bewustzijnsdaling, pupilverwijding, ventrikelfibrilleren, de d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handeling: slachtoffer niet laten bewegen en inpakken in aluminiumfolie of dekens. Geen alcohol laten drinken. Niet roken, niet wrij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achtoffer niet laten bewegen anders stroomt het sterk onderkoelde bloed direct naar de vitale organen waardoor een acute stilstand van de bloedsomloop kan ont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is om het slachtoffer geen alcoholische dranken te geven. Alcohol geeft namelijk een vasodilatatie (verwijding van de vaten) in de huid waardoor het slachtoffer wel een warmer gevoel krijgt, maar in werkelijkheid nog sneller afkoelt! Het geven van warme dranken als thee of soep zijn (mits het slachtoffer aanspreekbaar is en het zelf tot zich kan nemen) wel aan te bev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t een onderkoeld slachtoffer niet onder een warme douche of in een warm bad, hierdoor gaan alle vaten in de huid openstaan en zal de bloeddruk vrij plotseling dalen, er kan dan een collaps met bewustzijnsverlies optreden. Wrijf het slachtoffer niet warm, dit kan leiden tot beschadiging van de huid en verder warmteverlies omdat de vaten in de huid gaan openstaan en er nog meer warmte wordt afgevoerd. Wees voorzichtig met gebruik van kruiken, dit leidt gemakkelijk tot brandwonden omdat het slachtoffer de temperatuur niet goed kan waa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speciale houding om warmteverlies tegen te gaan in het water is de HELP-houding (foetushouding) </a:t>
            </a:r>
            <a:endParaRPr b="0" lang="en-US" sz="1200" spc="-1" strike="noStrike">
              <a:solidFill>
                <a:srgbClr val="000000"/>
              </a:solidFill>
              <a:latin typeface="Arial"/>
            </a:endParaRPr>
          </a:p>
        </p:txBody>
      </p:sp>
      <p:sp>
        <p:nvSpPr>
          <p:cNvPr id="35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15239-8704-482C-9DAC-B0A0CCD19DFF}"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DE117-948D-4C79-A365-F2A740C317F4}"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8F1E0-2208-445F-9F2A-A8F69F68570D}"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4296E-1965-409C-9682-1CFD5F566715}"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een brandwond is afhankelijk van de diepte van de beschadiging van de huid, de grootte van de brandwond, de plaats van de brandwond en de leeftijd van het slachtoffer en bijkomend let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de brandwond (omvang en diepte) wordt bepaalt d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ort hittebr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mperatu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ur van blootstell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bloe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chtigheidsgra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kte van de h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zelfde blootstelling geeft aan b.v. de handpalm ernstigere brandwonden dan aan de voetzool.  (meer eelt, geringere doorbloeding en lagere vochtigheidsgra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dwonden worden in gradaties aangegeven te we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e graads: Epidermis (opperh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r>
              <a:rPr b="0" lang="nl-NL" sz="1200" spc="-1" strike="noStrike" baseline="30000">
                <a:solidFill>
                  <a:srgbClr val="000000"/>
                </a:solidFill>
                <a:latin typeface="Arial"/>
              </a:rPr>
              <a:t>e</a:t>
            </a:r>
            <a:r>
              <a:rPr b="0" lang="nl-NL" sz="1200" spc="-1" strike="noStrike">
                <a:solidFill>
                  <a:srgbClr val="000000"/>
                </a:solidFill>
                <a:latin typeface="Arial"/>
              </a:rPr>
              <a:t> graads: Epidermis (opperhuid) en de dermis (lederhuid) gedeelte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r>
              <a:rPr b="0" lang="nl-NL" sz="1200" spc="-1" strike="noStrike" baseline="30000">
                <a:solidFill>
                  <a:srgbClr val="000000"/>
                </a:solidFill>
                <a:latin typeface="Arial"/>
              </a:rPr>
              <a:t>e</a:t>
            </a:r>
            <a:r>
              <a:rPr b="0" lang="nl-NL" sz="1200" spc="-1" strike="noStrike">
                <a:solidFill>
                  <a:srgbClr val="000000"/>
                </a:solidFill>
                <a:latin typeface="Arial"/>
              </a:rPr>
              <a:t> graads: Epidermis, dermis, hypodermis (bindweefsel) gedeelt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4F7D1-E753-459A-8793-1BD7D188F3C3}"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1</a:t>
            </a:r>
            <a:r>
              <a:rPr b="0" lang="nl-NL" sz="1200" spc="-1" strike="noStrike" baseline="30000">
                <a:solidFill>
                  <a:srgbClr val="000000"/>
                </a:solidFill>
                <a:latin typeface="Arial"/>
              </a:rPr>
              <a:t>e</a:t>
            </a:r>
            <a:r>
              <a:rPr b="0" lang="nl-NL" sz="1200" spc="-1" strike="noStrike">
                <a:solidFill>
                  <a:srgbClr val="000000"/>
                </a:solidFill>
                <a:latin typeface="Arial"/>
              </a:rPr>
              <a:t> graads verbranding gaat meestal snel over en hoeft niet in het ziekenhuis te worden behandeld. </a:t>
            </a:r>
            <a:endParaRPr b="0" lang="en-US" sz="12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oodheid,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og,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ijnlijk,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oms wat opgezwollen</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ositieve capillaire refill -&gt; De haarvaten vullen zich weer met bloed nadat de huid is ingedrukt</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nsibiliteit bij priktest -&gt; de gevoelszenuwen zijn nog in takt.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genlijk geen won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3F2D7-368E-4B6E-8360-3DF1EE77CA6B}"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een verschil tussen een </a:t>
            </a:r>
            <a:r>
              <a:rPr b="0" i="1" lang="nl-NL" sz="1200" spc="-1" strike="noStrike">
                <a:solidFill>
                  <a:srgbClr val="000000"/>
                </a:solidFill>
                <a:latin typeface="Arial"/>
              </a:rPr>
              <a:t>oppervlakkige</a:t>
            </a:r>
            <a:r>
              <a:rPr b="0" lang="nl-NL" sz="1200" spc="-1" strike="noStrike">
                <a:solidFill>
                  <a:srgbClr val="000000"/>
                </a:solidFill>
                <a:latin typeface="Arial"/>
              </a:rPr>
              <a:t> tweedegraads brandwond en een </a:t>
            </a:r>
            <a:r>
              <a:rPr b="0" i="1" lang="nl-NL" sz="1200" spc="-1" strike="noStrike">
                <a:solidFill>
                  <a:srgbClr val="000000"/>
                </a:solidFill>
                <a:latin typeface="Arial"/>
              </a:rPr>
              <a:t>diepe</a:t>
            </a:r>
            <a:r>
              <a:rPr b="0" lang="nl-NL" sz="1200" spc="-1" strike="noStrike">
                <a:solidFill>
                  <a:srgbClr val="000000"/>
                </a:solidFill>
                <a:latin typeface="Arial"/>
              </a:rPr>
              <a:t> tweedegraads brandwond. Voor mensen die niet in de zorg werken, is het verschil moeilijk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oppervlakkige tweedegraads brandwond is de huid beschadigd, de huid is rood, nat en pijnlijk en er kan blaarvorming optrede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FCC88-5CD0-4813-AE39-E933EE6F787B}"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nd van de huidhaarvaten wordt poreus waardoor er vocht tussen de cellen komt. Het vocht dringt door naar de opperhuid, hierdoor kan er blaarvorming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iepe tweedegraads brandwond is de dermis beschadigd, de wond is roodachtig/wit, nat en zeer pijn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ellen in de opperhuid en lederhuid zijn beschadigd, maar kunnen wel herstellen mits er geen infectie optreed. Prik nooit blaren door. Hierdoor ontstaat er een verhoogd risico op infecti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476A9-18F7-4571-B5A7-80E090EBB857}"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erdegraads brandwond is de hele huid tot aan het onderhuidse vetweefsel aangetast, de wond is wit of zwart, droog, leerachtig en nauwelijks pijnlijk (de huidzenuwen werken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DBBD5-4D66-4388-B2D1-C7050B094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59611-FD4F-4729-953E-FD9C94163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E0FF1-E37D-49A6-9B0A-C816A1880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F3CD1-200F-4E7A-A312-8B6858D00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02818-DEE6-4D23-B41C-78A6D937D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AD05B-EA20-4D99-B164-C1787B9B4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C4867-CFE6-4BEF-91D0-BA329E504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0715E-FA5E-4D0D-9D3B-340916F3B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BF5F2-638F-42AE-A3AB-F56BE44E9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CDBA0-B545-4845-B730-FE8EFB80D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E87DB-E76C-4AD7-AD28-963B57AD6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60628-0178-4546-B91C-10CD1FFB5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DFA65-431B-41B4-8E2C-F0D5B3025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A9228-8F6B-462E-AEBB-B1A89C5E9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8B1F0-7E6C-4A70-B56E-B435915B4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32920-426B-4DA6-8809-05422CFD1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4E663-8916-4CA9-9F7F-DFCC87795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E077C7-EEF6-4CC9-91B7-3CD0463014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CFCFE8-2D14-49D5-8990-3CD127A5C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C3775-6A6F-4187-BDFC-E1A09CF0F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D3B091-176A-4819-9F81-81FCD9B4AE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0362D3-218E-4327-8ADB-40DAF54E9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9AFAE-E22C-4B60-8672-1C8CFF790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CEDCFE-F8D4-475E-AF85-F5CF74959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BCE5E-FCD9-4067-BA6C-65D9A5F5B9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D398C-FF34-45C4-A79A-C32D743AF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80BE3-915C-47B8-9C1C-6DB7CDDDE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0AB55-FFD3-4EFA-833A-11BA82183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1D6770-8750-4E0D-8A8D-59B9FC9AE3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75E2BC-1B60-45F6-8D28-6D404447B1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3C00FF-4C4C-4113-A02A-814DE86D4C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B79B07-900C-4761-B9D4-ED69FDD49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A304B-C36C-40F2-8D5E-9784AEA1C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772EA-F376-4BEC-BC32-1852C95B1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CBE0B-E362-422A-B61C-18C01F661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97EB5B-6028-4A6D-B845-93D0D6672F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3D50B4-3EE3-4710-B860-CFA465DE92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657A6-C78D-4089-B344-252F3EA22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E66DB-CFDC-4F52-BC35-40BD37411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9AB382-6AE2-4626-9B2C-BAF122221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8FF50-2C2D-4274-A217-A4E70DE56E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1EB166-8143-458C-8C23-59CED95765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FE9938-B7DE-4D30-A2FA-47C3C81AB3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A2DABF-9572-424B-B77F-9E717E863C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5BB6D-FAD9-4006-A822-63B02D9DA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633C4B-5D67-4F18-BDE1-A7F79871A3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17512C-14CF-41AD-AEAB-FCBA208825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493781-71BD-4123-9DD4-AB896118F9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C7B517-678E-44DB-9FAC-A12AD16A1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58F97C-B39B-45B6-B2EB-2A4B4DF341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A8B2DE-0BEF-42FC-8B74-B62FF4EE3B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7AB4B-591F-4B77-9B80-1C2BA3C73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260B0-2415-43F6-9932-0A9768C85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3C59B0-C31E-43C1-B0D0-906BFA09CA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BB7EB1-3B1D-4512-A50D-2E8DAF2D24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178F7-EF17-46C2-A8F9-32D5A61D1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FAEFED-4FB0-4A90-8658-76626EE37D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4E000C-675C-4B3C-BDFE-CD274B6036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6BD5D8-E748-4342-8CC7-277D9C9A87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A9BBE7-855E-4621-A0A9-8D35ED6038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A590FF-AC1A-409E-958C-740A63200C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DDB895-E62F-41E5-9270-ED40A8A240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7E6FE2-1222-4CF5-B8FF-5A45AC4093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8901C-D5AB-4E4C-9F40-A9E9A5FF5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2D885-2D93-429B-95D3-62838105F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8B790-55C9-4508-9AAA-237B8B5B1E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4248-DA9F-41F5-9B2E-87DFE1CF2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A023A2-A3BB-4E5F-A61C-9AED39C051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C2975E-DA3D-45E8-A4CF-FE8668928F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EA398B-E011-4004-BA25-ECAEA39A17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26609-5A37-4794-B5F4-1E06A4703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4889A-2C75-4F45-B324-8E6FE4704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8D44F-83A1-4D2D-9C1C-7E71EC74B37B}"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3D5EA-4DE1-4E14-A3E3-425715EB1E3C}"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DD60F-C2BB-42ED-B6F5-F3CE2FAFF9C6}"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6F796-DD5D-41FF-8EDF-B79DA4C938B7}"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B4F48-DD9D-4B3C-A55A-E19CED78E8EA}"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A6572-27EA-40A3-9751-4944204D4BC6}"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43080" y="4959360"/>
            <a:ext cx="582912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RANDWONDEN</a:t>
            </a:r>
            <a:endParaRPr b="0" lang="en-US" sz="4400" spc="-1" strike="noStrike">
              <a:solidFill>
                <a:srgbClr val="0d0d0d"/>
              </a:solidFill>
              <a:latin typeface="Tw Cen MT Condensed"/>
            </a:endParaRPr>
          </a:p>
        </p:txBody>
      </p:sp>
      <p:sp>
        <p:nvSpPr>
          <p:cNvPr id="263" name="PlaceHolder 2"/>
          <p:cNvSpPr>
            <a:spLocks noGrp="1"/>
          </p:cNvSpPr>
          <p:nvPr>
            <p:ph type="subTitle"/>
          </p:nvPr>
        </p:nvSpPr>
        <p:spPr>
          <a:xfrm>
            <a:off x="6457680" y="4959360"/>
            <a:ext cx="2400120" cy="14637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333000"/>
            <a:ext cx="54723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
        <p:nvSpPr>
          <p:cNvPr id="290" name="PlaceHolder 2"/>
          <p:cNvSpPr>
            <a:spLocks noGrp="1"/>
          </p:cNvSpPr>
          <p:nvPr>
            <p:ph/>
          </p:nvPr>
        </p:nvSpPr>
        <p:spPr>
          <a:xfrm>
            <a:off x="444240" y="1844640"/>
            <a:ext cx="3779640" cy="4114800"/>
          </a:xfrm>
          <a:prstGeom prst="rect">
            <a:avLst/>
          </a:prstGeom>
          <a:noFill/>
          <a:ln w="0">
            <a:noFill/>
          </a:ln>
        </p:spPr>
        <p:txBody>
          <a:bodyPr lIns="45720" rIns="45720" anchor="t">
            <a:normAutofit fontScale="95000"/>
          </a:bodyPr>
          <a:p>
            <a:pPr marL="2592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w Cen MT"/>
              </a:rPr>
              <a:t>Wel</a:t>
            </a:r>
            <a:r>
              <a:rPr b="0" lang="nl-NL" sz="2800" spc="-1" strike="noStrike" u="sng">
                <a:solidFill>
                  <a:srgbClr val="000000"/>
                </a:solidFill>
                <a:uFillTx/>
                <a:latin typeface="Tw Cen MT"/>
              </a:rPr>
              <a:t> doen</a:t>
            </a:r>
            <a:r>
              <a:rPr b="0" lang="nl-NL" sz="2800" spc="-1" strike="noStrike">
                <a:solidFill>
                  <a:srgbClr val="000000"/>
                </a:solidFill>
                <a:latin typeface="Tw Cen MT"/>
              </a:rPr>
              <a:t> </a:t>
            </a:r>
            <a:endParaRPr b="0" lang="en-US" sz="28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top de oorzaak</a:t>
            </a:r>
            <a:endParaRPr b="0" lang="en-US" sz="26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erste zorgen</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A(demhaling)</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ewustzij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irculatie)</a:t>
            </a:r>
            <a:endParaRPr b="0" lang="en-US" sz="19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Koel de wond </a:t>
            </a:r>
            <a:r>
              <a:rPr b="0" lang="nl-NL" sz="1400" spc="-1" strike="noStrike">
                <a:solidFill>
                  <a:srgbClr val="000000"/>
                </a:solidFill>
                <a:latin typeface="Tw Cen MT"/>
              </a:rPr>
              <a:t>(minimaal 10 minuten) </a:t>
            </a:r>
            <a:endParaRPr b="0" lang="en-US" sz="14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Waarschuw een arts bij </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lar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Tweede &amp; derde graad (volwassenen) </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Elektrische verbranding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hemische verbrandingen</a:t>
            </a:r>
            <a:endParaRPr b="0" lang="en-US" sz="1900" spc="-1" strike="noStrike">
              <a:solidFill>
                <a:srgbClr val="000000"/>
              </a:solidFill>
              <a:latin typeface="Tw Cen MT"/>
            </a:endParaRPr>
          </a:p>
          <a:p>
            <a:pPr marL="25920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
        <p:nvSpPr>
          <p:cNvPr id="291" name="Rectangle 3"/>
          <p:cNvSpPr/>
          <p:nvPr/>
        </p:nvSpPr>
        <p:spPr>
          <a:xfrm>
            <a:off x="4356000" y="2276640"/>
            <a:ext cx="4608720" cy="4114800"/>
          </a:xfrm>
          <a:prstGeom prst="rect">
            <a:avLst/>
          </a:prstGeom>
          <a:noFill/>
          <a:ln w="0">
            <a:noFill/>
          </a:ln>
        </p:spPr>
        <p:style>
          <a:lnRef idx="0"/>
          <a:fillRef idx="0"/>
          <a:effectRef idx="0"/>
          <a:fontRef idx="minor"/>
        </p:style>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dek de wond </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teriel verban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chone doek</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kledingstuk van het slachtoffer</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Vervoer het slachtoffer, indien mogelijk, zittend</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892080" y="1952640"/>
            <a:ext cx="6321600" cy="2952720"/>
          </a:xfrm>
          <a:prstGeom prst="rect">
            <a:avLst/>
          </a:prstGeom>
          <a:noFill/>
          <a:ln w="0">
            <a:noFill/>
          </a:ln>
        </p:spPr>
        <p:txBody>
          <a:bodyPr lIns="45720" rIns="45720" anchor="t">
            <a:normAutofit fontScale="96000"/>
          </a:bodyPr>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000000"/>
                </a:solidFill>
                <a:uFillTx/>
                <a:latin typeface="Tw Cen MT"/>
              </a:rPr>
              <a:t>Niet</a:t>
            </a:r>
            <a:r>
              <a:rPr b="0" lang="nl-NL" sz="3400" spc="-1" strike="noStrike" u="sng">
                <a:solidFill>
                  <a:srgbClr val="000000"/>
                </a:solidFill>
                <a:uFillTx/>
                <a:latin typeface="Tw Cen MT"/>
              </a:rPr>
              <a:t> doen</a:t>
            </a:r>
            <a:endParaRPr b="0" lang="en-US" sz="34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warmte</a:t>
            </a:r>
            <a:r>
              <a:rPr b="0" lang="nl-NL" sz="2000" spc="-1" strike="noStrike">
                <a:solidFill>
                  <a:srgbClr val="000000"/>
                </a:solidFill>
                <a:latin typeface="Tw Cen MT"/>
              </a:rPr>
              <a:t> koelen met </a:t>
            </a:r>
            <a:r>
              <a:rPr b="0" i="1" lang="nl-NL" sz="2000" spc="-1" strike="noStrike">
                <a:solidFill>
                  <a:srgbClr val="000000"/>
                </a:solidFill>
                <a:latin typeface="Tw Cen MT"/>
              </a:rPr>
              <a:t>koud</a:t>
            </a:r>
            <a:r>
              <a:rPr b="0" lang="nl-NL" sz="2000" spc="-1" strike="noStrike">
                <a:solidFill>
                  <a:srgbClr val="000000"/>
                </a:solidFill>
                <a:latin typeface="Tw Cen MT"/>
              </a:rPr>
              <a:t> water</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koude</a:t>
            </a:r>
            <a:r>
              <a:rPr b="0" lang="nl-NL" sz="2000" spc="-1" strike="noStrike">
                <a:solidFill>
                  <a:srgbClr val="000000"/>
                </a:solidFill>
                <a:latin typeface="Tw Cen MT"/>
              </a:rPr>
              <a:t> onder </a:t>
            </a:r>
            <a:r>
              <a:rPr b="0" i="1" lang="nl-NL" sz="2000" spc="-1" strike="noStrike">
                <a:solidFill>
                  <a:srgbClr val="000000"/>
                </a:solidFill>
                <a:latin typeface="Tw Cen MT"/>
              </a:rPr>
              <a:t>warm</a:t>
            </a:r>
            <a:r>
              <a:rPr b="0" lang="nl-NL" sz="2000" spc="-1" strike="noStrike">
                <a:solidFill>
                  <a:srgbClr val="000000"/>
                </a:solidFill>
                <a:latin typeface="Tw Cen MT"/>
              </a:rPr>
              <a:t> water houden</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leding verwijderen, tenzij bij chemische verbranding</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Insmeren met zalfjes of andere middelen</a:t>
            </a: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2"/>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62028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RNST VAN DE BRANDWOND</a:t>
            </a:r>
            <a:endParaRPr b="0" lang="en-US" sz="3800" spc="-1" strike="noStrike">
              <a:solidFill>
                <a:srgbClr val="0d0d0d"/>
              </a:solidFill>
              <a:latin typeface="Tw Cen MT Condensed"/>
            </a:endParaRPr>
          </a:p>
        </p:txBody>
      </p:sp>
      <p:sp>
        <p:nvSpPr>
          <p:cNvPr id="295" name="PlaceHolder 2"/>
          <p:cNvSpPr>
            <a:spLocks noGrp="1"/>
          </p:cNvSpPr>
          <p:nvPr>
            <p:ph/>
          </p:nvPr>
        </p:nvSpPr>
        <p:spPr>
          <a:xfrm>
            <a:off x="914400" y="2122560"/>
            <a:ext cx="53640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Afhankelijk va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Leeftijd</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ercentage van lichaam verbrand </a:t>
            </a:r>
            <a:r>
              <a:rPr b="0" lang="nl-NL" sz="2000" spc="-1" strike="noStrike">
                <a:solidFill>
                  <a:srgbClr val="000000"/>
                </a:solidFill>
                <a:latin typeface="Tw Cen MT"/>
              </a:rPr>
              <a:t>(regel van 9)</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diept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medische voorgeschiedenis van de patiën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ventueel gepaard gaande respiratoire letsel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lokalisati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oorzaak van verbrandin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ijkomende lichamelijke letsels</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REGEL VAN 9</a:t>
            </a:r>
            <a:endParaRPr b="0" lang="en-US" sz="3800" spc="-1" strike="noStrike">
              <a:solidFill>
                <a:srgbClr val="0d0d0d"/>
              </a:solidFill>
              <a:latin typeface="Tw Cen MT Condensed"/>
            </a:endParaRPr>
          </a:p>
        </p:txBody>
      </p:sp>
      <p:graphicFrame>
        <p:nvGraphicFramePr>
          <p:cNvPr id="297" name=""/>
          <p:cNvGraphicFramePr/>
          <p:nvPr/>
        </p:nvGraphicFramePr>
        <p:xfrm>
          <a:off x="826920" y="2349360"/>
          <a:ext cx="4392720" cy="4148280"/>
        </p:xfrm>
        <a:graphic>
          <a:graphicData uri="http://schemas.openxmlformats.org/drawingml/2006/table">
            <a:tbl>
              <a:tblPr/>
              <a:tblGrid>
                <a:gridCol w="2233800"/>
                <a:gridCol w="1386000"/>
                <a:gridCol w="772920"/>
              </a:tblGrid>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lwassen</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ind</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oofd + nek</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le arm</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ruis</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8" name="Picture 84" descr="brandwonden_regelvnegen"/>
          <p:cNvPicPr/>
          <p:nvPr/>
        </p:nvPicPr>
        <p:blipFill>
          <a:blip r:embed="rId1"/>
          <a:stretch/>
        </p:blipFill>
        <p:spPr>
          <a:xfrm>
            <a:off x="5816520" y="1557360"/>
            <a:ext cx="3327480" cy="5040360"/>
          </a:xfrm>
          <a:prstGeom prst="rect">
            <a:avLst/>
          </a:prstGeom>
          <a:ln w="0">
            <a:noFill/>
          </a:ln>
        </p:spPr>
      </p:pic>
      <p:sp>
        <p:nvSpPr>
          <p:cNvPr id="299" name="Text Box 114"/>
          <p:cNvSpPr/>
          <p:nvPr/>
        </p:nvSpPr>
        <p:spPr>
          <a:xfrm>
            <a:off x="560520" y="1344600"/>
            <a:ext cx="5256000" cy="703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ea typeface="Arial"/>
              </a:rPr>
              <a:t>Regel om vast te stellen hoeveel procent van het lichaam verbrand 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259920"/>
            <a:ext cx="449892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OPNAMECRITERIA</a:t>
            </a:r>
            <a:endParaRPr b="0" lang="en-US" sz="3800" spc="-1" strike="noStrike">
              <a:solidFill>
                <a:srgbClr val="0d0d0d"/>
              </a:solidFill>
              <a:latin typeface="Tw Cen MT Condensed"/>
            </a:endParaRPr>
          </a:p>
        </p:txBody>
      </p:sp>
      <p:sp>
        <p:nvSpPr>
          <p:cNvPr id="301" name="PlaceHolder 2"/>
          <p:cNvSpPr>
            <a:spLocks noGrp="1"/>
          </p:cNvSpPr>
          <p:nvPr>
            <p:ph/>
          </p:nvPr>
        </p:nvSpPr>
        <p:spPr>
          <a:xfrm>
            <a:off x="914400" y="1844640"/>
            <a:ext cx="8229600" cy="4114800"/>
          </a:xfrm>
          <a:prstGeom prst="rect">
            <a:avLst/>
          </a:prstGeom>
          <a:noFill/>
          <a:ln w="0">
            <a:noFill/>
          </a:ln>
        </p:spPr>
        <p:txBody>
          <a:bodyPr lIns="45720" rIns="45720" anchor="t">
            <a:normAutofit fontScale="97000"/>
          </a:bodyPr>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lwassene &gt; 10% verbrand; Kinderen en Ouderen &gt;5% verbra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irculaire brandwonden hals, thorax en ledemat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brandwonden op specifieke plaats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lektrische of chemische brandwond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gepaard gaande letsels</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een derdegraads brandwo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randwonden gepaard gaande met een inhalatietrauma</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mensen met een bepaalde ziekte zoals astma of epilepsi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BEVRIEZING </a:t>
            </a:r>
            <a:endParaRPr b="0" lang="en-US" sz="3800" spc="-1" strike="noStrike">
              <a:solidFill>
                <a:srgbClr val="0d0d0d"/>
              </a:solidFill>
              <a:latin typeface="Tw Cen MT Condensed"/>
            </a:endParaRPr>
          </a:p>
        </p:txBody>
      </p:sp>
      <p:sp>
        <p:nvSpPr>
          <p:cNvPr id="303" name="PlaceHolder 2"/>
          <p:cNvSpPr>
            <a:spLocks noGrp="1"/>
          </p:cNvSpPr>
          <p:nvPr>
            <p:ph/>
          </p:nvPr>
        </p:nvSpPr>
        <p:spPr>
          <a:xfrm>
            <a:off x="914400" y="1599840"/>
            <a:ext cx="4038480" cy="5257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erst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eek grijze huid;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Twee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aarvorming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met bloederig vocht/ rood/paarse kleur)</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tekende pij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a:t>
            </a:r>
            <a:endParaRPr b="0" lang="en-US" sz="2000" spc="-1" strike="noStrike">
              <a:solidFill>
                <a:srgbClr val="000000"/>
              </a:solidFill>
              <a:latin typeface="Tw Cen MT"/>
            </a:endParaRPr>
          </a:p>
        </p:txBody>
      </p:sp>
      <p:sp>
        <p:nvSpPr>
          <p:cNvPr id="304" name="PlaceHolder 3"/>
          <p:cNvSpPr>
            <a:spLocks noGrp="1"/>
          </p:cNvSpPr>
          <p:nvPr>
            <p:ph/>
          </p:nvPr>
        </p:nvSpPr>
        <p:spPr>
          <a:xfrm>
            <a:off x="5860800" y="1905120"/>
            <a:ext cx="328284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Der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pierwit;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Gevoelloos </a:t>
            </a:r>
            <a:endParaRPr b="0" lang="en-US" sz="2000" spc="-1" strike="noStrike">
              <a:solidFill>
                <a:srgbClr val="000000"/>
              </a:solidFill>
              <a:latin typeface="Tw Cen MT"/>
            </a:endParaRPr>
          </a:p>
        </p:txBody>
      </p:sp>
      <p:pic>
        <p:nvPicPr>
          <p:cNvPr id="305" name="Afbeelding 1" descr=""/>
          <p:cNvPicPr/>
          <p:nvPr/>
        </p:nvPicPr>
        <p:blipFill>
          <a:blip r:embed="rId1"/>
          <a:stretch/>
        </p:blipFill>
        <p:spPr>
          <a:xfrm>
            <a:off x="5508720" y="3860640"/>
            <a:ext cx="239076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 BIJ BEVRIEZING </a:t>
            </a:r>
            <a:endParaRPr b="0" lang="en-US" sz="4400" spc="-1" strike="noStrike">
              <a:solidFill>
                <a:srgbClr val="0d0d0d"/>
              </a:solidFill>
              <a:latin typeface="Tw Cen MT Condensed"/>
            </a:endParaRPr>
          </a:p>
        </p:txBody>
      </p:sp>
      <p:sp>
        <p:nvSpPr>
          <p:cNvPr id="307" name=""/>
          <p:cNvSpPr txBox="1"/>
          <p:nvPr/>
        </p:nvSpPr>
        <p:spPr>
          <a:xfrm>
            <a:off x="826920" y="1988640"/>
            <a:ext cx="7290000" cy="4023000"/>
          </a:xfrm>
          <a:prstGeom prst="rect">
            <a:avLst/>
          </a:prstGeom>
          <a:noFill/>
          <a:ln w="0">
            <a:noFill/>
          </a:ln>
        </p:spPr>
        <p:txBody>
          <a:bodyPr lIns="45720" rIns="45720" anchor="t">
            <a:normAutofit fontScale="97000"/>
          </a:bodyPr>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Het slachtoffer inpakken in dekens of aluminiumfolie (gescheiden)</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dat het slachtoffer onnodig bewogen wordt</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warmteverlies door wind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Warm een slachtoffer met een matige of ernstige onderkoeling nooit actief op!</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Geef geen alcohol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ontroleer vitale functies </a:t>
            </a:r>
            <a:endParaRPr b="0" lang="en-US" sz="2400" spc="-1" strike="noStrike">
              <a:solidFill>
                <a:srgbClr val="000000"/>
              </a:solidFill>
              <a:latin typeface="Tw Cen MT"/>
            </a:endParaRPr>
          </a:p>
          <a:p>
            <a:pPr marL="87480" indent="-8748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49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u="sng">
                <a:solidFill>
                  <a:srgbClr val="0d0d0d"/>
                </a:solidFill>
                <a:uFillTx/>
                <a:latin typeface="Tw Cen MT Condensed"/>
              </a:rPr>
              <a:t>WAT IS EEN BRANDWOND?</a:t>
            </a:r>
            <a:endParaRPr b="0" lang="en-US" sz="4400" spc="-1" strike="noStrike">
              <a:solidFill>
                <a:srgbClr val="0d0d0d"/>
              </a:solidFill>
              <a:latin typeface="Tw Cen MT Condensed"/>
            </a:endParaRPr>
          </a:p>
        </p:txBody>
      </p:sp>
      <p:sp>
        <p:nvSpPr>
          <p:cNvPr id="265" name="PlaceHolder 2"/>
          <p:cNvSpPr>
            <a:spLocks noGrp="1"/>
          </p:cNvSpPr>
          <p:nvPr>
            <p:ph/>
          </p:nvPr>
        </p:nvSpPr>
        <p:spPr>
          <a:xfrm>
            <a:off x="539640" y="2060640"/>
            <a:ext cx="8229600" cy="4114800"/>
          </a:xfrm>
          <a:prstGeom prst="rect">
            <a:avLst/>
          </a:prstGeom>
          <a:noFill/>
          <a:ln w="0">
            <a:noFill/>
          </a:ln>
        </p:spPr>
        <p:txBody>
          <a:bodyPr lIns="45720" rIns="45720" anchor="t">
            <a:norm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w Cen MT"/>
              </a:rPr>
              <a:t>Een brandwond is een necrose van de huid, gedeeltelijk of volledig, veroorzaakt door inwerking van warmte, elektriciteit, bevriezing of door chemische stoffe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33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u="sng">
                <a:solidFill>
                  <a:srgbClr val="0d0d0d"/>
                </a:solidFill>
                <a:uFillTx/>
                <a:latin typeface="Tw Cen MT Condensed"/>
              </a:rPr>
              <a:t>HOE ONTSTAAN BRANDWONDEN?</a:t>
            </a:r>
            <a:endParaRPr b="0" lang="en-US" sz="4200" spc="-1" strike="noStrike">
              <a:solidFill>
                <a:srgbClr val="0d0d0d"/>
              </a:solidFill>
              <a:latin typeface="Tw Cen MT Condensed"/>
            </a:endParaRPr>
          </a:p>
        </p:txBody>
      </p:sp>
      <p:sp>
        <p:nvSpPr>
          <p:cNvPr id="267" name="PlaceHolder 2"/>
          <p:cNvSpPr>
            <a:spLocks noGrp="1"/>
          </p:cNvSpPr>
          <p:nvPr>
            <p:ph/>
          </p:nvPr>
        </p:nvSpPr>
        <p:spPr>
          <a:xfrm>
            <a:off x="890640" y="1916280"/>
            <a:ext cx="5581440" cy="4114800"/>
          </a:xfrm>
          <a:prstGeom prst="rect">
            <a:avLst/>
          </a:prstGeom>
          <a:noFill/>
          <a:ln w="0">
            <a:noFill/>
          </a:ln>
        </p:spPr>
        <p:txBody>
          <a:bodyPr lIns="45720" rIns="45720" anchor="t">
            <a:normAutofit fontScale="96000"/>
          </a:bodyPr>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hermische oorzaken (kou &amp; warmte!)</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lam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Onder invloed van licht</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ontact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hem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lektr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Flitsverbranding </a:t>
            </a:r>
            <a:endParaRPr b="0" lang="en-US" sz="2600" spc="-1" strike="noStrike">
              <a:solidFill>
                <a:srgbClr val="000000"/>
              </a:solidFill>
              <a:latin typeface="Tw Cen MT"/>
            </a:endParaRPr>
          </a:p>
          <a:p>
            <a:pPr marL="26172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w Cen MT"/>
              </a:rPr>
              <a:t>	</a:t>
            </a:r>
            <a:r>
              <a:rPr b="0" lang="nl-NL" sz="2200" spc="-1" strike="noStrike">
                <a:solidFill>
                  <a:srgbClr val="000000"/>
                </a:solidFill>
                <a:latin typeface="Tw Cen MT"/>
              </a:rPr>
              <a:t>(= door stralingswarmte bij explosie of steekvlam)</a:t>
            </a:r>
            <a:endParaRPr b="0" lang="en-US" sz="22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Door bestral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erbranding met te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380880"/>
            <a:ext cx="6553080" cy="138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 ENE BRANDWOND, IS DE ANDER NIET</a:t>
            </a:r>
            <a:endParaRPr b="0" lang="en-US" sz="3800" spc="-1" strike="noStrike">
              <a:solidFill>
                <a:srgbClr val="0d0d0d"/>
              </a:solidFill>
              <a:latin typeface="Tw Cen MT Condensed"/>
            </a:endParaRPr>
          </a:p>
        </p:txBody>
      </p:sp>
      <p:sp>
        <p:nvSpPr>
          <p:cNvPr id="269" name="PlaceHolder 2"/>
          <p:cNvSpPr>
            <a:spLocks noGrp="1"/>
          </p:cNvSpPr>
          <p:nvPr>
            <p:ph/>
          </p:nvPr>
        </p:nvSpPr>
        <p:spPr>
          <a:xfrm>
            <a:off x="684360" y="1905120"/>
            <a:ext cx="4038480" cy="4114800"/>
          </a:xfrm>
          <a:prstGeom prst="rect">
            <a:avLst/>
          </a:prstGeom>
          <a:noFill/>
          <a:ln w="0">
            <a:noFill/>
          </a:ln>
        </p:spPr>
        <p:txBody>
          <a:bodyPr lIns="45720" rIns="45720" anchor="t">
            <a:normAutofit/>
          </a:bodyPr>
          <a:p>
            <a:pPr marL="272880" indent="-272880">
              <a:lnSpc>
                <a:spcPct val="9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Condensed"/>
              </a:rPr>
              <a:t>Onderverdeling in gradaties</a:t>
            </a:r>
            <a:endParaRPr b="0" lang="en-US" sz="2800" spc="-1" strike="noStrike">
              <a:solidFill>
                <a:srgbClr val="000000"/>
              </a:solidFill>
              <a:latin typeface="Tw Cen MT"/>
            </a:endParaRPr>
          </a:p>
          <a:p>
            <a:pPr marL="27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erste graad</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oppervlakkig</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diep</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de graad</a:t>
            </a:r>
            <a:endParaRPr b="0" lang="en-US" sz="1600" spc="-1" strike="noStrike">
              <a:solidFill>
                <a:srgbClr val="000000"/>
              </a:solidFill>
              <a:latin typeface="Tw Cen MT"/>
            </a:endParaRPr>
          </a:p>
        </p:txBody>
      </p:sp>
      <p:sp>
        <p:nvSpPr>
          <p:cNvPr id="270" name="Text Box 9"/>
          <p:cNvSpPr/>
          <p:nvPr/>
        </p:nvSpPr>
        <p:spPr>
          <a:xfrm>
            <a:off x="7000920" y="3071880"/>
            <a:ext cx="1079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ffffff"/>
                </a:solidFill>
                <a:latin typeface="Arial"/>
                <a:ea typeface="Arial"/>
              </a:rPr>
              <a:t>eerstegraads</a:t>
            </a:r>
            <a:endParaRPr b="0" lang="en-US" sz="1100" spc="-1" strike="noStrike">
              <a:solidFill>
                <a:srgbClr val="000000"/>
              </a:solidFill>
              <a:latin typeface="Tw Cen MT"/>
            </a:endParaRPr>
          </a:p>
        </p:txBody>
      </p:sp>
      <p:grpSp>
        <p:nvGrpSpPr>
          <p:cNvPr id="271" name="Group 15"/>
          <p:cNvGrpSpPr/>
          <p:nvPr/>
        </p:nvGrpSpPr>
        <p:grpSpPr>
          <a:xfrm>
            <a:off x="4788000" y="2637000"/>
            <a:ext cx="4038480" cy="3284280"/>
            <a:chOff x="4788000" y="2637000"/>
            <a:chExt cx="4038480" cy="3284280"/>
          </a:xfrm>
        </p:grpSpPr>
        <p:pic>
          <p:nvPicPr>
            <p:cNvPr id="272" name="Picture 12" descr="brandwonden_2&amp;3"/>
            <p:cNvPicPr/>
            <p:nvPr/>
          </p:nvPicPr>
          <p:blipFill>
            <a:blip r:embed="rId1"/>
            <a:stretch/>
          </p:blipFill>
          <p:spPr>
            <a:xfrm>
              <a:off x="4788000" y="2637000"/>
              <a:ext cx="4038480" cy="3284280"/>
            </a:xfrm>
            <a:prstGeom prst="rect">
              <a:avLst/>
            </a:prstGeom>
            <a:ln w="0">
              <a:noFill/>
            </a:ln>
          </p:spPr>
        </p:pic>
        <p:sp>
          <p:nvSpPr>
            <p:cNvPr id="273" name="Line 13"/>
            <p:cNvSpPr/>
            <p:nvPr/>
          </p:nvSpPr>
          <p:spPr>
            <a:xfrm>
              <a:off x="4788000" y="2997000"/>
              <a:ext cx="2881080" cy="0"/>
            </a:xfrm>
            <a:prstGeom prst="line">
              <a:avLst/>
            </a:prstGeom>
            <a:ln w="349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4" name="Text Box 14"/>
            <p:cNvSpPr/>
            <p:nvPr/>
          </p:nvSpPr>
          <p:spPr>
            <a:xfrm>
              <a:off x="7740720" y="2852640"/>
              <a:ext cx="107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2060"/>
                  </a:solidFill>
                  <a:latin typeface="Arial"/>
                  <a:ea typeface="Arial"/>
                </a:rPr>
                <a:t>eerstegraads</a:t>
              </a:r>
              <a:endParaRPr b="0" lang="en-US" sz="11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99640" y="172800"/>
            <a:ext cx="30099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ERSTE GRAAD</a:t>
            </a:r>
            <a:endParaRPr b="0" lang="en-US" sz="3800" spc="-1" strike="noStrike">
              <a:solidFill>
                <a:srgbClr val="0d0d0d"/>
              </a:solidFill>
              <a:latin typeface="Tw Cen MT Condensed"/>
            </a:endParaRPr>
          </a:p>
        </p:txBody>
      </p:sp>
      <p:sp>
        <p:nvSpPr>
          <p:cNvPr id="276" name="PlaceHolder 2"/>
          <p:cNvSpPr>
            <a:spLocks noGrp="1"/>
          </p:cNvSpPr>
          <p:nvPr>
            <p:ph/>
          </p:nvPr>
        </p:nvSpPr>
        <p:spPr>
          <a:xfrm>
            <a:off x="755640" y="1531440"/>
            <a:ext cx="5749920" cy="4729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eschadiging</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Kenmerken:</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heid,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oog,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wat opgezwolle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ositiev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ensibiliteit bij priktest</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igenlijk geen wond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beeld:</a:t>
            </a:r>
            <a:endParaRPr b="0" lang="en-US" sz="24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w Cen MT"/>
              </a:rPr>
              <a:t>langdurige blootstelling aan zonlicht</a:t>
            </a:r>
            <a:endParaRPr b="0" lang="en-US" sz="1800" spc="-1" strike="noStrike">
              <a:solidFill>
                <a:srgbClr val="000000"/>
              </a:solidFill>
              <a:latin typeface="Tw Cen MT"/>
            </a:endParaRPr>
          </a:p>
        </p:txBody>
      </p:sp>
      <p:pic>
        <p:nvPicPr>
          <p:cNvPr id="277" name="Picture 9" descr=""/>
          <p:cNvPicPr/>
          <p:nvPr/>
        </p:nvPicPr>
        <p:blipFill>
          <a:blip r:embed="rId1"/>
          <a:stretch/>
        </p:blipFill>
        <p:spPr>
          <a:xfrm>
            <a:off x="5048280" y="1436760"/>
            <a:ext cx="320364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93720"/>
            <a:ext cx="5219640" cy="907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OPPERVLAKKIG)</a:t>
            </a:r>
            <a:endParaRPr b="0" lang="en-US" sz="3800" spc="-1" strike="noStrike">
              <a:solidFill>
                <a:srgbClr val="0d0d0d"/>
              </a:solidFill>
              <a:latin typeface="Tw Cen MT Condensed"/>
            </a:endParaRPr>
          </a:p>
        </p:txBody>
      </p:sp>
      <p:pic>
        <p:nvPicPr>
          <p:cNvPr id="279" name="Picture 7" descr=""/>
          <p:cNvPicPr/>
          <p:nvPr/>
        </p:nvPicPr>
        <p:blipFill>
          <a:blip r:embed="rId1"/>
          <a:stretch/>
        </p:blipFill>
        <p:spPr>
          <a:xfrm>
            <a:off x="4572000" y="2637000"/>
            <a:ext cx="4038480" cy="2431800"/>
          </a:xfrm>
          <a:prstGeom prst="rect">
            <a:avLst/>
          </a:prstGeom>
          <a:ln w="0">
            <a:noFill/>
          </a:ln>
        </p:spPr>
      </p:pic>
      <p:sp>
        <p:nvSpPr>
          <p:cNvPr id="280" name="PlaceHolder 2"/>
          <p:cNvSpPr>
            <a:spLocks noGrp="1"/>
          </p:cNvSpPr>
          <p:nvPr>
            <p:ph/>
          </p:nvPr>
        </p:nvSpPr>
        <p:spPr>
          <a:xfrm>
            <a:off x="895320" y="2138400"/>
            <a:ext cx="4835520" cy="3571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Roo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laarvorming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eel exsudaa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ositieve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576360"/>
            <a:ext cx="4810320" cy="691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DIEP)</a:t>
            </a:r>
            <a:endParaRPr b="0" lang="en-US" sz="3800" spc="-1" strike="noStrike">
              <a:solidFill>
                <a:srgbClr val="0d0d0d"/>
              </a:solidFill>
              <a:latin typeface="Tw Cen MT Condensed"/>
            </a:endParaRPr>
          </a:p>
        </p:txBody>
      </p:sp>
      <p:sp>
        <p:nvSpPr>
          <p:cNvPr id="282" name="PlaceHolder 2"/>
          <p:cNvSpPr>
            <a:spLocks noGrp="1"/>
          </p:cNvSpPr>
          <p:nvPr>
            <p:ph/>
          </p:nvPr>
        </p:nvSpPr>
        <p:spPr>
          <a:xfrm>
            <a:off x="757080" y="1773360"/>
            <a:ext cx="5075280" cy="384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eschadiging</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ermis grotendeels</a:t>
            </a:r>
            <a:endParaRPr b="0" lang="en-US" sz="20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 2</a:t>
            </a:r>
            <a:r>
              <a:rPr b="0" lang="nl-NL" sz="2000" spc="-1" strike="noStrike" baseline="30000">
                <a:solidFill>
                  <a:srgbClr val="000000"/>
                </a:solidFill>
                <a:latin typeface="Tw Cen MT"/>
              </a:rPr>
              <a:t>e</a:t>
            </a:r>
            <a:r>
              <a:rPr b="0" lang="nl-NL" sz="2000" spc="-1" strike="noStrike">
                <a:solidFill>
                  <a:srgbClr val="000000"/>
                </a:solidFill>
                <a:latin typeface="Tw Cen MT"/>
              </a:rPr>
              <a:t> graads won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achtig/ wit gekleur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Nat en er kunnen blaren te zien zij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Zeer pijnlijk</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traagd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 bij priktest</a:t>
            </a:r>
            <a:endParaRPr b="0" lang="en-US" sz="2000" spc="-1" strike="noStrike">
              <a:solidFill>
                <a:srgbClr val="000000"/>
              </a:solidFill>
              <a:latin typeface="Tw Cen MT"/>
            </a:endParaRPr>
          </a:p>
        </p:txBody>
      </p:sp>
      <p:pic>
        <p:nvPicPr>
          <p:cNvPr id="283" name="Picture 10" descr=""/>
          <p:cNvPicPr/>
          <p:nvPr/>
        </p:nvPicPr>
        <p:blipFill>
          <a:blip r:embed="rId1"/>
          <a:srcRect l="15654" t="6226" r="6162" b="14871"/>
          <a:stretch/>
        </p:blipFill>
        <p:spPr>
          <a:xfrm>
            <a:off x="5075280" y="2421000"/>
            <a:ext cx="3311640" cy="28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90680"/>
            <a:ext cx="4378320" cy="979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RDE GRAAD</a:t>
            </a:r>
            <a:endParaRPr b="0" lang="en-US" sz="3800" spc="-1" strike="noStrike">
              <a:solidFill>
                <a:srgbClr val="0d0d0d"/>
              </a:solidFill>
              <a:latin typeface="Tw Cen MT Condensed"/>
            </a:endParaRPr>
          </a:p>
        </p:txBody>
      </p:sp>
      <p:pic>
        <p:nvPicPr>
          <p:cNvPr id="285" name="Picture 10" descr=""/>
          <p:cNvPicPr/>
          <p:nvPr/>
        </p:nvPicPr>
        <p:blipFill>
          <a:blip r:embed="rId1"/>
          <a:stretch/>
        </p:blipFill>
        <p:spPr>
          <a:xfrm>
            <a:off x="4788000" y="1469880"/>
            <a:ext cx="3313080" cy="4680000"/>
          </a:xfrm>
          <a:prstGeom prst="rect">
            <a:avLst/>
          </a:prstGeom>
          <a:ln w="0">
            <a:noFill/>
          </a:ln>
        </p:spPr>
      </p:pic>
      <p:sp>
        <p:nvSpPr>
          <p:cNvPr id="286" name="PlaceHolder 2"/>
          <p:cNvSpPr>
            <a:spLocks noGrp="1"/>
          </p:cNvSpPr>
          <p:nvPr>
            <p:ph/>
          </p:nvPr>
        </p:nvSpPr>
        <p:spPr>
          <a:xfrm>
            <a:off x="630000" y="2276280"/>
            <a:ext cx="5365800" cy="3600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Hypo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Wit-geel; zwart-brui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oelt lederachti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Afwezigheid van 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a:t>
            </a:r>
            <a:endParaRPr b="0" lang="en-US" sz="4400" spc="-1" strike="noStrike">
              <a:solidFill>
                <a:srgbClr val="0d0d0d"/>
              </a:solidFill>
              <a:latin typeface="Tw Cen MT Condensed"/>
            </a:endParaRPr>
          </a:p>
        </p:txBody>
      </p:sp>
      <p:sp>
        <p:nvSpPr>
          <p:cNvPr id="288" name=""/>
          <p:cNvSpPr txBox="1"/>
          <p:nvPr/>
        </p:nvSpPr>
        <p:spPr>
          <a:xfrm>
            <a:off x="768240" y="2286000"/>
            <a:ext cx="7290000" cy="3519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a:t>
            </a:r>
            <a:br>
              <a:rPr sz="2000"/>
            </a:br>
            <a:r>
              <a:rPr b="0" lang="nl-NL" sz="2000" spc="-1" strike="noStrike">
                <a:solidFill>
                  <a:srgbClr val="000000"/>
                </a:solidFill>
                <a:latin typeface="Tw Cen MT"/>
              </a:rPr>
              <a:t>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1:25:49Z</dcterms:created>
  <dc:creator>vleugels</dc:creator>
  <dc:description/>
  <dc:language>en-US</dc:language>
  <cp:lastModifiedBy>Charlotte Verhagen</cp:lastModifiedBy>
  <cp:lastPrinted>2015-11-11T09:54:02Z</cp:lastPrinted>
  <dcterms:modified xsi:type="dcterms:W3CDTF">2022-02-06T16:27:50Z</dcterms:modified>
  <cp:revision>91</cp:revision>
  <dc:subject/>
  <dc:title>Dia 1</dc:title>
</cp:coreProperties>
</file>