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Tw Cen MT"/>
              </a:rPr>
              <a:t>Click to move the slide</a:t>
            </a:r>
            <a:endParaRPr b="0" lang="en-US" sz="1800" spc="-1" strike="noStrike">
              <a:solidFill>
                <a:srgbClr val="000000"/>
              </a:solidFill>
              <a:latin typeface="Tw Cen MT"/>
            </a:endParaRPr>
          </a:p>
        </p:txBody>
      </p:sp>
      <p:sp>
        <p:nvSpPr>
          <p:cNvPr id="8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0"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1"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2"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04EC247-E658-4680-94CC-C60387A303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685800" y="1143000"/>
            <a:ext cx="5486040" cy="3085920"/>
          </a:xfrm>
          <a:prstGeom prst="rect">
            <a:avLst/>
          </a:prstGeom>
          <a:ln w="0">
            <a:noFill/>
          </a:ln>
        </p:spPr>
      </p:sp>
      <p:sp>
        <p:nvSpPr>
          <p:cNvPr id="11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nl-NL" sz="2000" spc="-1" strike="noStrike">
                <a:solidFill>
                  <a:srgbClr val="000000"/>
                </a:solidFill>
                <a:latin typeface="Arial"/>
              </a:rPr>
              <a:t>Hydrofiele gazen -&gt; nemen goed vocht op. Laat deze zien aan de kla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Zalfgaas -&gt; dit gaas bevat ontsmettende zalf. Voordeel is dat het niet vastplakt aan de wond. Het neemt echter geen vocht op. </a:t>
            </a: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Metallinegaas-&gt; Is steriel, vochtopnemend met een alluminium laagje.  Wordt vooral gebruikt bij brandwonden en schaafwonden omdat aluminium niet aan de wond plak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Siliconen wondverband -&gt; niet klevend steriel verband. Neemt bloed en wondvocht op. Wordt meestal afgedekt met een absorberend verban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Doel: vochtopnemend, voorkomt binnendringen van bacteriën en indien er ontsmettende zalf inzit, ontsmet het de won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13" name="PlaceHolder 3"/>
          <p:cNvSpPr>
            <a:spLocks noGrp="1"/>
          </p:cNvSpPr>
          <p:nvPr>
            <p:ph type="sldNum" idx="1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AAC63FD7-7DDF-463E-A130-31F033809063}"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685800" y="1143000"/>
            <a:ext cx="5486040" cy="3085920"/>
          </a:xfrm>
          <a:prstGeom prst="rect">
            <a:avLst/>
          </a:prstGeom>
          <a:ln w="0">
            <a:noFill/>
          </a:ln>
        </p:spPr>
      </p:sp>
      <p:sp>
        <p:nvSpPr>
          <p:cNvPr id="11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nl-NL" sz="2000" spc="-1" strike="noStrike">
                <a:solidFill>
                  <a:srgbClr val="000000"/>
                </a:solidFill>
                <a:latin typeface="Arial"/>
              </a:rPr>
              <a:t>Witte watten -&gt; nemen goed vocht op. Worden b.v. gebruik bij flink bloedende wonden. Leg de watten nooit direct op de wond. Leg er een gaasje onder, anders plakken de watten vast aan de wond.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Vette watten -&gt; nemen geen vocht op, maar zijn veerkrachtig. Ze worden gebruikt om een drukverband aan te leggen bij b.v. een verstuikte enke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Synthetische watten -&gt; kunnen gebruikt worden i.p.v. vette watten met als voordeel dat ze niet pluizen.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16" name="PlaceHolder 3"/>
          <p:cNvSpPr>
            <a:spLocks noGrp="1"/>
          </p:cNvSpPr>
          <p:nvPr>
            <p:ph type="sldNum" idx="1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180C376D-798E-4E91-96B7-B0D1B824C3D5}"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685800" y="1143000"/>
            <a:ext cx="5486040" cy="3085920"/>
          </a:xfrm>
          <a:prstGeom prst="rect">
            <a:avLst/>
          </a:prstGeom>
          <a:ln w="0">
            <a:noFill/>
          </a:ln>
        </p:spPr>
      </p:sp>
      <p:sp>
        <p:nvSpPr>
          <p:cNvPr id="11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19" name="PlaceHolder 3"/>
          <p:cNvSpPr>
            <a:spLocks noGrp="1"/>
          </p:cNvSpPr>
          <p:nvPr>
            <p:ph type="sldNum" idx="1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93B8B083-8E94-4384-94A3-E2FB32871B8E}"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685800" y="1143000"/>
            <a:ext cx="5486040" cy="3085920"/>
          </a:xfrm>
          <a:prstGeom prst="rect">
            <a:avLst/>
          </a:prstGeom>
          <a:ln w="0">
            <a:noFill/>
          </a:ln>
        </p:spPr>
      </p:sp>
      <p:sp>
        <p:nvSpPr>
          <p:cNvPr id="12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nl-NL" sz="2000" spc="-1" strike="noStrike">
                <a:solidFill>
                  <a:srgbClr val="000000"/>
                </a:solidFill>
                <a:latin typeface="Arial"/>
              </a:rPr>
              <a:t>Snelverband -&gt; bestaat uit een gaas met daaronder absorberende stof. Het verband is ideaal om snel een wond af te dekken. Je hoeft het verband niet aan te raken waardoor je schoner kan werken.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Wonddrukverband -&gt;  gebruik je bij ernstige uitwendige bloedingen om het bloedverlies te stoppen. Bestaat uit steriele gazen, synthetische watten en een elastische zwachte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Drukverband-&gt;  wordt aangelegd bij onderhuidse of inwendige bloedingen zoals kneuzingen of verstuikingen. Het beperkt de welling en geeft rust en steun. Vette watten en een elastische zwachte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Rust en steungevendverband-&gt;  geeft rust en steun aan een lichaamsdeel zoals bv een mitella of een brede das.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Onbeweegelijk makend verband -&gt; bijvoorbeeld een spalk bij een botbreuk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nl-NL" sz="2000" spc="-1" strike="noStrike">
                <a:solidFill>
                  <a:srgbClr val="000000"/>
                </a:solidFill>
                <a:latin typeface="Arial"/>
              </a:rPr>
              <a:t>Laat zoveel mogelijk verbanden zien en voelen.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122" name="PlaceHolder 3"/>
          <p:cNvSpPr>
            <a:spLocks noGrp="1"/>
          </p:cNvSpPr>
          <p:nvPr>
            <p:ph type="sldNum" idx="1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D9E21EA6-52E2-42D6-BED4-868B37A57E38}"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685800" y="1143000"/>
            <a:ext cx="5486040" cy="3085920"/>
          </a:xfrm>
          <a:prstGeom prst="rect">
            <a:avLst/>
          </a:prstGeom>
          <a:ln w="0">
            <a:noFill/>
          </a:ln>
        </p:spPr>
      </p:sp>
      <p:sp>
        <p:nvSpPr>
          <p:cNvPr id="12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25" name="PlaceHolder 3"/>
          <p:cNvSpPr>
            <a:spLocks noGrp="1"/>
          </p:cNvSpPr>
          <p:nvPr>
            <p:ph type="sldNum" idx="1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nl-NL" sz="1200" spc="-1" strike="noStrike">
                <a:solidFill>
                  <a:srgbClr val="000000"/>
                </a:solidFill>
                <a:latin typeface="+mn-lt"/>
                <a:ea typeface="+mn-ea"/>
              </a:defRPr>
            </a:lvl1pPr>
          </a:lstStyle>
          <a:p>
            <a:pPr indent="0" algn="r">
              <a:lnSpc>
                <a:spcPct val="100000"/>
              </a:lnSpc>
              <a:buNone/>
            </a:pPr>
            <a:fld id="{B04AB1EC-8AD5-4DC8-9070-650FC8C72F59}" type="slidenum">
              <a:rPr b="0" lang="nl-N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612977-A30A-422B-8228-E43AB15986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1" name="PlaceHolder 2"/>
          <p:cNvSpPr>
            <a:spLocks noGrp="1"/>
          </p:cNvSpPr>
          <p:nvPr>
            <p:ph/>
          </p:nvPr>
        </p:nvSpPr>
        <p:spPr>
          <a:xfrm>
            <a:off x="1024200" y="228600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32" name="PlaceHolder 3"/>
          <p:cNvSpPr>
            <a:spLocks noGrp="1"/>
          </p:cNvSpPr>
          <p:nvPr>
            <p:ph/>
          </p:nvPr>
        </p:nvSpPr>
        <p:spPr>
          <a:xfrm>
            <a:off x="1024200" y="438732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16FC0-96ED-4909-8DD8-FB2967F04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4"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35"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36" name="PlaceHolder 4"/>
          <p:cNvSpPr>
            <a:spLocks noGrp="1"/>
          </p:cNvSpPr>
          <p:nvPr>
            <p:ph/>
          </p:nvPr>
        </p:nvSpPr>
        <p:spPr>
          <a:xfrm>
            <a:off x="10242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37" name="PlaceHolder 5"/>
          <p:cNvSpPr>
            <a:spLocks noGrp="1"/>
          </p:cNvSpPr>
          <p:nvPr>
            <p:ph/>
          </p:nvPr>
        </p:nvSpPr>
        <p:spPr>
          <a:xfrm>
            <a:off x="60048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3EF98C-3591-4E73-BEB7-B0EBF9EFCA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9" name="PlaceHolder 2"/>
          <p:cNvSpPr>
            <a:spLocks noGrp="1"/>
          </p:cNvSpPr>
          <p:nvPr>
            <p:ph/>
          </p:nvPr>
        </p:nvSpPr>
        <p:spPr>
          <a:xfrm>
            <a:off x="102420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0" name="PlaceHolder 3"/>
          <p:cNvSpPr>
            <a:spLocks noGrp="1"/>
          </p:cNvSpPr>
          <p:nvPr>
            <p:ph/>
          </p:nvPr>
        </p:nvSpPr>
        <p:spPr>
          <a:xfrm>
            <a:off x="431064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1" name="PlaceHolder 4"/>
          <p:cNvSpPr>
            <a:spLocks noGrp="1"/>
          </p:cNvSpPr>
          <p:nvPr>
            <p:ph/>
          </p:nvPr>
        </p:nvSpPr>
        <p:spPr>
          <a:xfrm>
            <a:off x="759672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2" name="PlaceHolder 5"/>
          <p:cNvSpPr>
            <a:spLocks noGrp="1"/>
          </p:cNvSpPr>
          <p:nvPr>
            <p:ph/>
          </p:nvPr>
        </p:nvSpPr>
        <p:spPr>
          <a:xfrm>
            <a:off x="102420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3" name="PlaceHolder 6"/>
          <p:cNvSpPr>
            <a:spLocks noGrp="1"/>
          </p:cNvSpPr>
          <p:nvPr>
            <p:ph/>
          </p:nvPr>
        </p:nvSpPr>
        <p:spPr>
          <a:xfrm>
            <a:off x="431064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4" name="PlaceHolder 7"/>
          <p:cNvSpPr>
            <a:spLocks noGrp="1"/>
          </p:cNvSpPr>
          <p:nvPr>
            <p:ph/>
          </p:nvPr>
        </p:nvSpPr>
        <p:spPr>
          <a:xfrm>
            <a:off x="759672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4F38D-F27A-488F-A35D-104D03685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40301A-6C7F-4BE3-85A6-FC77839B45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52" name="PlaceHolder 2"/>
          <p:cNvSpPr>
            <a:spLocks noGrp="1"/>
          </p:cNvSpPr>
          <p:nvPr>
            <p:ph type="subTitle"/>
          </p:nvPr>
        </p:nvSpPr>
        <p:spPr>
          <a:xfrm>
            <a:off x="1024200" y="2286000"/>
            <a:ext cx="9719640" cy="40230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56690-2824-423F-84E0-F33D4DC48E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54" name="PlaceHolder 2"/>
          <p:cNvSpPr>
            <a:spLocks noGrp="1"/>
          </p:cNvSpPr>
          <p:nvPr>
            <p:ph/>
          </p:nvPr>
        </p:nvSpPr>
        <p:spPr>
          <a:xfrm>
            <a:off x="1024200" y="2286000"/>
            <a:ext cx="971964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14839B-A258-4FFD-AA46-E7286B8DF3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56" name="PlaceHolder 2"/>
          <p:cNvSpPr>
            <a:spLocks noGrp="1"/>
          </p:cNvSpPr>
          <p:nvPr>
            <p:ph/>
          </p:nvPr>
        </p:nvSpPr>
        <p:spPr>
          <a:xfrm>
            <a:off x="10242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7" name="PlaceHolder 3"/>
          <p:cNvSpPr>
            <a:spLocks noGrp="1"/>
          </p:cNvSpPr>
          <p:nvPr>
            <p:ph/>
          </p:nvPr>
        </p:nvSpPr>
        <p:spPr>
          <a:xfrm>
            <a:off x="60048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3DDA21-42B9-4077-817B-585AB10B2D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803FB0-BC0E-4F51-BF45-939C1DE935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024200" y="585360"/>
            <a:ext cx="9719640" cy="6951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C9844E-59D1-4E03-9AB2-84C971C1B5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61"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2" name="PlaceHolder 3"/>
          <p:cNvSpPr>
            <a:spLocks noGrp="1"/>
          </p:cNvSpPr>
          <p:nvPr>
            <p:ph/>
          </p:nvPr>
        </p:nvSpPr>
        <p:spPr>
          <a:xfrm>
            <a:off x="60048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3" name="PlaceHolder 4"/>
          <p:cNvSpPr>
            <a:spLocks noGrp="1"/>
          </p:cNvSpPr>
          <p:nvPr>
            <p:ph/>
          </p:nvPr>
        </p:nvSpPr>
        <p:spPr>
          <a:xfrm>
            <a:off x="10242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A1645-AFF3-4761-A987-1312E90B7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0" name="PlaceHolder 2"/>
          <p:cNvSpPr>
            <a:spLocks noGrp="1"/>
          </p:cNvSpPr>
          <p:nvPr>
            <p:ph type="subTitle"/>
          </p:nvPr>
        </p:nvSpPr>
        <p:spPr>
          <a:xfrm>
            <a:off x="1024200" y="2286000"/>
            <a:ext cx="9719640" cy="40230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C6B2D-7A86-4E43-B4C8-C47F22128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65" name="PlaceHolder 2"/>
          <p:cNvSpPr>
            <a:spLocks noGrp="1"/>
          </p:cNvSpPr>
          <p:nvPr>
            <p:ph/>
          </p:nvPr>
        </p:nvSpPr>
        <p:spPr>
          <a:xfrm>
            <a:off x="10242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6"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7" name="PlaceHolder 4"/>
          <p:cNvSpPr>
            <a:spLocks noGrp="1"/>
          </p:cNvSpPr>
          <p:nvPr>
            <p:ph/>
          </p:nvPr>
        </p:nvSpPr>
        <p:spPr>
          <a:xfrm>
            <a:off x="60048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51E9C-E627-4B65-8EAD-63BDE1C45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69"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0"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1" name="PlaceHolder 4"/>
          <p:cNvSpPr>
            <a:spLocks noGrp="1"/>
          </p:cNvSpPr>
          <p:nvPr>
            <p:ph/>
          </p:nvPr>
        </p:nvSpPr>
        <p:spPr>
          <a:xfrm>
            <a:off x="1024200" y="438732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D7C10-E634-41AB-8DC8-06FD67022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73" name="PlaceHolder 2"/>
          <p:cNvSpPr>
            <a:spLocks noGrp="1"/>
          </p:cNvSpPr>
          <p:nvPr>
            <p:ph/>
          </p:nvPr>
        </p:nvSpPr>
        <p:spPr>
          <a:xfrm>
            <a:off x="1024200" y="228600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4" name="PlaceHolder 3"/>
          <p:cNvSpPr>
            <a:spLocks noGrp="1"/>
          </p:cNvSpPr>
          <p:nvPr>
            <p:ph/>
          </p:nvPr>
        </p:nvSpPr>
        <p:spPr>
          <a:xfrm>
            <a:off x="1024200" y="438732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668BF4-2DFA-47E7-B45B-8F6B8C6AD2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76"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7"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8" name="PlaceHolder 4"/>
          <p:cNvSpPr>
            <a:spLocks noGrp="1"/>
          </p:cNvSpPr>
          <p:nvPr>
            <p:ph/>
          </p:nvPr>
        </p:nvSpPr>
        <p:spPr>
          <a:xfrm>
            <a:off x="10242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9" name="PlaceHolder 5"/>
          <p:cNvSpPr>
            <a:spLocks noGrp="1"/>
          </p:cNvSpPr>
          <p:nvPr>
            <p:ph/>
          </p:nvPr>
        </p:nvSpPr>
        <p:spPr>
          <a:xfrm>
            <a:off x="60048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FCFD84-FBB7-4007-BDBB-6E33C752C6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81" name="PlaceHolder 2"/>
          <p:cNvSpPr>
            <a:spLocks noGrp="1"/>
          </p:cNvSpPr>
          <p:nvPr>
            <p:ph/>
          </p:nvPr>
        </p:nvSpPr>
        <p:spPr>
          <a:xfrm>
            <a:off x="102420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2" name="PlaceHolder 3"/>
          <p:cNvSpPr>
            <a:spLocks noGrp="1"/>
          </p:cNvSpPr>
          <p:nvPr>
            <p:ph/>
          </p:nvPr>
        </p:nvSpPr>
        <p:spPr>
          <a:xfrm>
            <a:off x="431064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3" name="PlaceHolder 4"/>
          <p:cNvSpPr>
            <a:spLocks noGrp="1"/>
          </p:cNvSpPr>
          <p:nvPr>
            <p:ph/>
          </p:nvPr>
        </p:nvSpPr>
        <p:spPr>
          <a:xfrm>
            <a:off x="7596720" y="228600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4" name="PlaceHolder 5"/>
          <p:cNvSpPr>
            <a:spLocks noGrp="1"/>
          </p:cNvSpPr>
          <p:nvPr>
            <p:ph/>
          </p:nvPr>
        </p:nvSpPr>
        <p:spPr>
          <a:xfrm>
            <a:off x="102420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5" name="PlaceHolder 6"/>
          <p:cNvSpPr>
            <a:spLocks noGrp="1"/>
          </p:cNvSpPr>
          <p:nvPr>
            <p:ph/>
          </p:nvPr>
        </p:nvSpPr>
        <p:spPr>
          <a:xfrm>
            <a:off x="431064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86" name="PlaceHolder 7"/>
          <p:cNvSpPr>
            <a:spLocks noGrp="1"/>
          </p:cNvSpPr>
          <p:nvPr>
            <p:ph/>
          </p:nvPr>
        </p:nvSpPr>
        <p:spPr>
          <a:xfrm>
            <a:off x="7596720" y="4387320"/>
            <a:ext cx="312948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5421E2-25EF-4B01-A2DC-5D55C3D9FA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2" name="PlaceHolder 2"/>
          <p:cNvSpPr>
            <a:spLocks noGrp="1"/>
          </p:cNvSpPr>
          <p:nvPr>
            <p:ph/>
          </p:nvPr>
        </p:nvSpPr>
        <p:spPr>
          <a:xfrm>
            <a:off x="1024200" y="2286000"/>
            <a:ext cx="971964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8FE18-3974-48C7-8D89-7094282A6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4" name="PlaceHolder 2"/>
          <p:cNvSpPr>
            <a:spLocks noGrp="1"/>
          </p:cNvSpPr>
          <p:nvPr>
            <p:ph/>
          </p:nvPr>
        </p:nvSpPr>
        <p:spPr>
          <a:xfrm>
            <a:off x="10242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15" name="PlaceHolder 3"/>
          <p:cNvSpPr>
            <a:spLocks noGrp="1"/>
          </p:cNvSpPr>
          <p:nvPr>
            <p:ph/>
          </p:nvPr>
        </p:nvSpPr>
        <p:spPr>
          <a:xfrm>
            <a:off x="60048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9C6FE-E3DF-4704-A11B-A74E20D58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93E52-B6FF-478F-8391-D6FE09BB2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24200" y="585360"/>
            <a:ext cx="9719640" cy="6951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E336B-9545-45C7-8B22-B9DD60BAF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19"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0" name="PlaceHolder 3"/>
          <p:cNvSpPr>
            <a:spLocks noGrp="1"/>
          </p:cNvSpPr>
          <p:nvPr>
            <p:ph/>
          </p:nvPr>
        </p:nvSpPr>
        <p:spPr>
          <a:xfrm>
            <a:off x="60048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1" name="PlaceHolder 4"/>
          <p:cNvSpPr>
            <a:spLocks noGrp="1"/>
          </p:cNvSpPr>
          <p:nvPr>
            <p:ph/>
          </p:nvPr>
        </p:nvSpPr>
        <p:spPr>
          <a:xfrm>
            <a:off x="10242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FDC4C-2668-42FF-AEE8-94A36E78E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23" name="PlaceHolder 2"/>
          <p:cNvSpPr>
            <a:spLocks noGrp="1"/>
          </p:cNvSpPr>
          <p:nvPr>
            <p:ph/>
          </p:nvPr>
        </p:nvSpPr>
        <p:spPr>
          <a:xfrm>
            <a:off x="1024200" y="2286000"/>
            <a:ext cx="4743000" cy="40230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4"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5" name="PlaceHolder 4"/>
          <p:cNvSpPr>
            <a:spLocks noGrp="1"/>
          </p:cNvSpPr>
          <p:nvPr>
            <p:ph/>
          </p:nvPr>
        </p:nvSpPr>
        <p:spPr>
          <a:xfrm>
            <a:off x="6004800" y="438732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66053-892F-4695-A591-BAF8C2444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24200" y="585360"/>
            <a:ext cx="9719640" cy="14994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Tw Cen MT"/>
            </a:endParaRPr>
          </a:p>
        </p:txBody>
      </p:sp>
      <p:sp>
        <p:nvSpPr>
          <p:cNvPr id="27" name="PlaceHolder 2"/>
          <p:cNvSpPr>
            <a:spLocks noGrp="1"/>
          </p:cNvSpPr>
          <p:nvPr>
            <p:ph/>
          </p:nvPr>
        </p:nvSpPr>
        <p:spPr>
          <a:xfrm>
            <a:off x="10242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8" name="PlaceHolder 3"/>
          <p:cNvSpPr>
            <a:spLocks noGrp="1"/>
          </p:cNvSpPr>
          <p:nvPr>
            <p:ph/>
          </p:nvPr>
        </p:nvSpPr>
        <p:spPr>
          <a:xfrm>
            <a:off x="6004800" y="2286000"/>
            <a:ext cx="474300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29" name="PlaceHolder 4"/>
          <p:cNvSpPr>
            <a:spLocks noGrp="1"/>
          </p:cNvSpPr>
          <p:nvPr>
            <p:ph/>
          </p:nvPr>
        </p:nvSpPr>
        <p:spPr>
          <a:xfrm>
            <a:off x="1024200" y="4387320"/>
            <a:ext cx="9719640" cy="191880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6ED60-EFF3-43CC-8697-DE434A84CE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0" name="Straight Connector 6"/>
          <p:cNvCxnSpPr/>
          <p:nvPr/>
        </p:nvCxnSpPr>
        <p:spPr>
          <a:xfrm flipV="1">
            <a:off x="761760" y="826200"/>
            <a:ext cx="360" cy="914760"/>
          </a:xfrm>
          <a:prstGeom prst="straightConnector1">
            <a:avLst/>
          </a:prstGeom>
          <a:ln w="19050">
            <a:solidFill>
              <a:srgbClr val="c66951"/>
            </a:solidFill>
            <a:round/>
          </a:ln>
        </p:spPr>
      </p:cxnSp>
      <p:sp>
        <p:nvSpPr>
          <p:cNvPr id="1" name="Rectangle 8"/>
          <p:cNvSpPr/>
          <p:nvPr/>
        </p:nvSpPr>
        <p:spPr>
          <a:xfrm>
            <a:off x="0" y="0"/>
            <a:ext cx="12191760" cy="4571640"/>
          </a:xfrm>
          <a:prstGeom prst="rect">
            <a:avLst/>
          </a:prstGeom>
          <a:solidFill>
            <a:schemeClr val="accent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 name="Freeform 9"/>
          <p:cNvSpPr/>
          <p:nvPr/>
        </p:nvSpPr>
        <p:spPr>
          <a:xfrm>
            <a:off x="0" y="0"/>
            <a:ext cx="12191760" cy="4571640"/>
          </a:xfrm>
          <a:custGeom>
            <a:avLst/>
            <a:gdLst>
              <a:gd name="textAreaLeft" fmla="*/ 0 w 12191760"/>
              <a:gd name="textAreaRight" fmla="*/ 12192120 w 12191760"/>
              <a:gd name="textAreaTop" fmla="*/ 0 h 4571640"/>
              <a:gd name="textAreaBottom" fmla="*/ 4572000 h 4571640"/>
            </a:gdLst>
            <a:ahLst/>
            <a:rect l="textAreaLeft" t="textAreaTop" r="textAreaRight" b="textAreaBottom"/>
            <a:pathLst>
              <a:path w="12191978" h="4571994">
                <a:moveTo>
                  <a:pt x="1" y="4316129"/>
                </a:moveTo>
                <a:lnTo>
                  <a:pt x="255863" y="4571991"/>
                </a:lnTo>
                <a:lnTo>
                  <a:pt x="203619" y="4571991"/>
                </a:lnTo>
                <a:lnTo>
                  <a:pt x="1" y="4368373"/>
                </a:lnTo>
                <a:close/>
                <a:moveTo>
                  <a:pt x="12191973" y="4312831"/>
                </a:moveTo>
                <a:lnTo>
                  <a:pt x="12191972" y="4365076"/>
                </a:lnTo>
                <a:lnTo>
                  <a:pt x="11985055" y="4571992"/>
                </a:lnTo>
                <a:lnTo>
                  <a:pt x="11932811" y="4571993"/>
                </a:lnTo>
                <a:close/>
                <a:moveTo>
                  <a:pt x="11817249" y="4076816"/>
                </a:moveTo>
                <a:lnTo>
                  <a:pt x="11928074" y="4076816"/>
                </a:lnTo>
                <a:lnTo>
                  <a:pt x="11928074" y="4187641"/>
                </a:lnTo>
                <a:lnTo>
                  <a:pt x="11817249" y="4187641"/>
                </a:lnTo>
                <a:close/>
                <a:moveTo>
                  <a:pt x="10766437" y="4076816"/>
                </a:moveTo>
                <a:lnTo>
                  <a:pt x="10877262" y="4076816"/>
                </a:lnTo>
                <a:lnTo>
                  <a:pt x="10877262" y="4187641"/>
                </a:lnTo>
                <a:lnTo>
                  <a:pt x="10766437" y="4187641"/>
                </a:lnTo>
                <a:close/>
                <a:moveTo>
                  <a:pt x="9715629" y="4076816"/>
                </a:moveTo>
                <a:lnTo>
                  <a:pt x="9826454" y="4076816"/>
                </a:lnTo>
                <a:lnTo>
                  <a:pt x="9826454" y="4187641"/>
                </a:lnTo>
                <a:lnTo>
                  <a:pt x="9715629" y="4187641"/>
                </a:lnTo>
                <a:close/>
                <a:moveTo>
                  <a:pt x="8664821" y="4076816"/>
                </a:moveTo>
                <a:lnTo>
                  <a:pt x="8775646" y="4076816"/>
                </a:lnTo>
                <a:lnTo>
                  <a:pt x="8775646" y="4187641"/>
                </a:lnTo>
                <a:lnTo>
                  <a:pt x="8664821" y="4187641"/>
                </a:lnTo>
                <a:close/>
                <a:moveTo>
                  <a:pt x="7614013" y="4076816"/>
                </a:moveTo>
                <a:lnTo>
                  <a:pt x="7724838" y="4076816"/>
                </a:lnTo>
                <a:lnTo>
                  <a:pt x="7724838" y="4187641"/>
                </a:lnTo>
                <a:lnTo>
                  <a:pt x="7614013" y="4187641"/>
                </a:lnTo>
                <a:close/>
                <a:moveTo>
                  <a:pt x="6563205" y="4076816"/>
                </a:moveTo>
                <a:lnTo>
                  <a:pt x="6674030" y="4076816"/>
                </a:lnTo>
                <a:lnTo>
                  <a:pt x="6674030" y="4187641"/>
                </a:lnTo>
                <a:lnTo>
                  <a:pt x="6563205" y="4187641"/>
                </a:lnTo>
                <a:close/>
                <a:moveTo>
                  <a:pt x="5512397" y="4076816"/>
                </a:moveTo>
                <a:lnTo>
                  <a:pt x="5623222" y="4076816"/>
                </a:lnTo>
                <a:lnTo>
                  <a:pt x="5623222" y="4187641"/>
                </a:lnTo>
                <a:lnTo>
                  <a:pt x="5512397" y="4187641"/>
                </a:lnTo>
                <a:close/>
                <a:moveTo>
                  <a:pt x="4461589" y="4076816"/>
                </a:moveTo>
                <a:lnTo>
                  <a:pt x="4572414" y="4076816"/>
                </a:lnTo>
                <a:lnTo>
                  <a:pt x="4572414" y="4187641"/>
                </a:lnTo>
                <a:lnTo>
                  <a:pt x="4461589" y="4187641"/>
                </a:lnTo>
                <a:close/>
                <a:moveTo>
                  <a:pt x="3410782" y="4076816"/>
                </a:moveTo>
                <a:lnTo>
                  <a:pt x="3521608" y="4076816"/>
                </a:lnTo>
                <a:lnTo>
                  <a:pt x="3521608" y="4187641"/>
                </a:lnTo>
                <a:lnTo>
                  <a:pt x="3410782" y="4187641"/>
                </a:lnTo>
                <a:close/>
                <a:moveTo>
                  <a:pt x="2359975" y="4076816"/>
                </a:moveTo>
                <a:lnTo>
                  <a:pt x="2470800" y="4076816"/>
                </a:lnTo>
                <a:lnTo>
                  <a:pt x="2470800" y="4187641"/>
                </a:lnTo>
                <a:lnTo>
                  <a:pt x="2359975" y="4187641"/>
                </a:lnTo>
                <a:close/>
                <a:moveTo>
                  <a:pt x="1309167" y="4076816"/>
                </a:moveTo>
                <a:lnTo>
                  <a:pt x="1419992" y="4076816"/>
                </a:lnTo>
                <a:lnTo>
                  <a:pt x="1419992" y="4187641"/>
                </a:lnTo>
                <a:lnTo>
                  <a:pt x="1309167" y="4187641"/>
                </a:lnTo>
                <a:close/>
                <a:moveTo>
                  <a:pt x="258359" y="4076816"/>
                </a:moveTo>
                <a:lnTo>
                  <a:pt x="369184" y="4076816"/>
                </a:lnTo>
                <a:lnTo>
                  <a:pt x="369184" y="4187641"/>
                </a:lnTo>
                <a:lnTo>
                  <a:pt x="258359" y="4187641"/>
                </a:lnTo>
                <a:close/>
                <a:moveTo>
                  <a:pt x="11291841" y="3551209"/>
                </a:moveTo>
                <a:lnTo>
                  <a:pt x="11402666" y="3551209"/>
                </a:lnTo>
                <a:lnTo>
                  <a:pt x="11402666" y="3662034"/>
                </a:lnTo>
                <a:lnTo>
                  <a:pt x="11291841" y="3662034"/>
                </a:lnTo>
                <a:close/>
                <a:moveTo>
                  <a:pt x="10241033" y="3551209"/>
                </a:moveTo>
                <a:lnTo>
                  <a:pt x="10351858" y="3551209"/>
                </a:lnTo>
                <a:lnTo>
                  <a:pt x="10351858" y="3662034"/>
                </a:lnTo>
                <a:lnTo>
                  <a:pt x="10241033" y="3662034"/>
                </a:lnTo>
                <a:close/>
                <a:moveTo>
                  <a:pt x="9190225" y="3551209"/>
                </a:moveTo>
                <a:lnTo>
                  <a:pt x="9301050" y="3551209"/>
                </a:lnTo>
                <a:lnTo>
                  <a:pt x="9301050" y="3662034"/>
                </a:lnTo>
                <a:lnTo>
                  <a:pt x="9190225" y="3662034"/>
                </a:lnTo>
                <a:close/>
                <a:moveTo>
                  <a:pt x="8139417" y="3551209"/>
                </a:moveTo>
                <a:lnTo>
                  <a:pt x="8250242" y="3551209"/>
                </a:lnTo>
                <a:lnTo>
                  <a:pt x="8250242" y="3662034"/>
                </a:lnTo>
                <a:lnTo>
                  <a:pt x="8139417" y="3662034"/>
                </a:lnTo>
                <a:close/>
                <a:moveTo>
                  <a:pt x="7088609" y="3551209"/>
                </a:moveTo>
                <a:lnTo>
                  <a:pt x="7199434" y="3551209"/>
                </a:lnTo>
                <a:lnTo>
                  <a:pt x="7199434" y="3662034"/>
                </a:lnTo>
                <a:lnTo>
                  <a:pt x="7088609" y="3662034"/>
                </a:lnTo>
                <a:close/>
                <a:moveTo>
                  <a:pt x="6037801" y="3551209"/>
                </a:moveTo>
                <a:lnTo>
                  <a:pt x="6148626" y="3551209"/>
                </a:lnTo>
                <a:lnTo>
                  <a:pt x="6148626" y="3662034"/>
                </a:lnTo>
                <a:lnTo>
                  <a:pt x="6037801" y="3662034"/>
                </a:lnTo>
                <a:close/>
                <a:moveTo>
                  <a:pt x="4986998" y="3551209"/>
                </a:moveTo>
                <a:lnTo>
                  <a:pt x="5097826" y="3551209"/>
                </a:lnTo>
                <a:lnTo>
                  <a:pt x="5097826" y="3662034"/>
                </a:lnTo>
                <a:lnTo>
                  <a:pt x="4986998" y="3662034"/>
                </a:lnTo>
                <a:close/>
                <a:moveTo>
                  <a:pt x="3936196" y="3551209"/>
                </a:moveTo>
                <a:lnTo>
                  <a:pt x="4047020" y="3551209"/>
                </a:lnTo>
                <a:lnTo>
                  <a:pt x="4047020" y="3662034"/>
                </a:lnTo>
                <a:lnTo>
                  <a:pt x="3936196" y="3662034"/>
                </a:lnTo>
                <a:close/>
                <a:moveTo>
                  <a:pt x="2885389" y="3551209"/>
                </a:moveTo>
                <a:lnTo>
                  <a:pt x="2996214" y="3551209"/>
                </a:lnTo>
                <a:lnTo>
                  <a:pt x="2996214" y="3662034"/>
                </a:lnTo>
                <a:lnTo>
                  <a:pt x="2885389" y="3662034"/>
                </a:lnTo>
                <a:close/>
                <a:moveTo>
                  <a:pt x="1834579" y="3551209"/>
                </a:moveTo>
                <a:lnTo>
                  <a:pt x="1945404" y="3551209"/>
                </a:lnTo>
                <a:lnTo>
                  <a:pt x="1945404" y="3662034"/>
                </a:lnTo>
                <a:lnTo>
                  <a:pt x="1834579" y="3662034"/>
                </a:lnTo>
                <a:close/>
                <a:moveTo>
                  <a:pt x="783773" y="3551209"/>
                </a:moveTo>
                <a:lnTo>
                  <a:pt x="894598" y="3551209"/>
                </a:lnTo>
                <a:lnTo>
                  <a:pt x="894598" y="3662034"/>
                </a:lnTo>
                <a:lnTo>
                  <a:pt x="783773" y="3662034"/>
                </a:lnTo>
                <a:close/>
                <a:moveTo>
                  <a:pt x="2942310" y="3107960"/>
                </a:moveTo>
                <a:lnTo>
                  <a:pt x="2470811" y="3579460"/>
                </a:lnTo>
                <a:lnTo>
                  <a:pt x="2470811" y="3634896"/>
                </a:lnTo>
                <a:lnTo>
                  <a:pt x="2942311" y="4106397"/>
                </a:lnTo>
                <a:lnTo>
                  <a:pt x="3410794" y="3637915"/>
                </a:lnTo>
                <a:lnTo>
                  <a:pt x="3410794" y="3576442"/>
                </a:lnTo>
                <a:close/>
                <a:moveTo>
                  <a:pt x="840944" y="3107960"/>
                </a:moveTo>
                <a:lnTo>
                  <a:pt x="369194" y="3579710"/>
                </a:lnTo>
                <a:lnTo>
                  <a:pt x="369194" y="3634648"/>
                </a:lnTo>
                <a:lnTo>
                  <a:pt x="840944" y="4106399"/>
                </a:lnTo>
                <a:lnTo>
                  <a:pt x="1309176" y="3638165"/>
                </a:lnTo>
                <a:lnTo>
                  <a:pt x="1309176" y="3576193"/>
                </a:lnTo>
                <a:close/>
                <a:moveTo>
                  <a:pt x="3992986" y="3107959"/>
                </a:moveTo>
                <a:lnTo>
                  <a:pt x="3521621" y="3579335"/>
                </a:lnTo>
                <a:lnTo>
                  <a:pt x="3521621" y="3635021"/>
                </a:lnTo>
                <a:lnTo>
                  <a:pt x="3992986" y="4106398"/>
                </a:lnTo>
                <a:lnTo>
                  <a:pt x="4461593" y="3637778"/>
                </a:lnTo>
                <a:lnTo>
                  <a:pt x="4461593" y="3576578"/>
                </a:lnTo>
                <a:close/>
                <a:moveTo>
                  <a:pt x="1891624" y="3107959"/>
                </a:moveTo>
                <a:lnTo>
                  <a:pt x="1420001" y="3579584"/>
                </a:lnTo>
                <a:lnTo>
                  <a:pt x="1420001" y="3634774"/>
                </a:lnTo>
                <a:lnTo>
                  <a:pt x="1891623" y="4106397"/>
                </a:lnTo>
                <a:lnTo>
                  <a:pt x="2359987" y="3638040"/>
                </a:lnTo>
                <a:lnTo>
                  <a:pt x="2359987" y="3576315"/>
                </a:lnTo>
                <a:close/>
                <a:moveTo>
                  <a:pt x="8195689" y="3107959"/>
                </a:moveTo>
                <a:lnTo>
                  <a:pt x="7724838" y="3578810"/>
                </a:lnTo>
                <a:lnTo>
                  <a:pt x="7724838" y="3635541"/>
                </a:lnTo>
                <a:lnTo>
                  <a:pt x="8195691" y="4106395"/>
                </a:lnTo>
                <a:lnTo>
                  <a:pt x="8664821" y="3637265"/>
                </a:lnTo>
                <a:lnTo>
                  <a:pt x="8664821" y="3577091"/>
                </a:lnTo>
                <a:close/>
                <a:moveTo>
                  <a:pt x="5043664" y="3107959"/>
                </a:moveTo>
                <a:lnTo>
                  <a:pt x="4572419" y="3579197"/>
                </a:lnTo>
                <a:lnTo>
                  <a:pt x="4572419" y="3635159"/>
                </a:lnTo>
                <a:lnTo>
                  <a:pt x="5043662" y="4106396"/>
                </a:lnTo>
                <a:lnTo>
                  <a:pt x="5512402" y="3637650"/>
                </a:lnTo>
                <a:lnTo>
                  <a:pt x="5512402" y="3576704"/>
                </a:lnTo>
                <a:close/>
                <a:moveTo>
                  <a:pt x="6094326" y="3107958"/>
                </a:moveTo>
                <a:lnTo>
                  <a:pt x="5623226" y="3579070"/>
                </a:lnTo>
                <a:lnTo>
                  <a:pt x="5623226" y="3635285"/>
                </a:lnTo>
                <a:lnTo>
                  <a:pt x="6094326" y="4106397"/>
                </a:lnTo>
                <a:lnTo>
                  <a:pt x="6563205" y="3637518"/>
                </a:lnTo>
                <a:lnTo>
                  <a:pt x="6563205" y="3576837"/>
                </a:lnTo>
                <a:close/>
                <a:moveTo>
                  <a:pt x="9246372" y="3107957"/>
                </a:moveTo>
                <a:lnTo>
                  <a:pt x="8775646" y="3578683"/>
                </a:lnTo>
                <a:lnTo>
                  <a:pt x="8775646" y="3635671"/>
                </a:lnTo>
                <a:lnTo>
                  <a:pt x="9246369" y="4106395"/>
                </a:lnTo>
                <a:lnTo>
                  <a:pt x="9715629" y="3637135"/>
                </a:lnTo>
                <a:lnTo>
                  <a:pt x="9715629" y="3577215"/>
                </a:lnTo>
                <a:close/>
                <a:moveTo>
                  <a:pt x="7145009" y="3107957"/>
                </a:moveTo>
                <a:lnTo>
                  <a:pt x="6674030" y="3578936"/>
                </a:lnTo>
                <a:lnTo>
                  <a:pt x="6674030" y="3635418"/>
                </a:lnTo>
                <a:lnTo>
                  <a:pt x="7145007" y="4106396"/>
                </a:lnTo>
                <a:lnTo>
                  <a:pt x="7614013" y="3637390"/>
                </a:lnTo>
                <a:lnTo>
                  <a:pt x="7614013" y="3576961"/>
                </a:lnTo>
                <a:close/>
                <a:moveTo>
                  <a:pt x="11347734" y="3107957"/>
                </a:moveTo>
                <a:lnTo>
                  <a:pt x="10877262" y="3578428"/>
                </a:lnTo>
                <a:lnTo>
                  <a:pt x="10877262" y="3635922"/>
                </a:lnTo>
                <a:lnTo>
                  <a:pt x="11347735" y="4106396"/>
                </a:lnTo>
                <a:lnTo>
                  <a:pt x="11817249" y="3636882"/>
                </a:lnTo>
                <a:lnTo>
                  <a:pt x="11817249" y="3577472"/>
                </a:lnTo>
                <a:close/>
                <a:moveTo>
                  <a:pt x="10297053" y="3107955"/>
                </a:moveTo>
                <a:lnTo>
                  <a:pt x="9826454" y="3578554"/>
                </a:lnTo>
                <a:lnTo>
                  <a:pt x="9826454" y="3635794"/>
                </a:lnTo>
                <a:lnTo>
                  <a:pt x="10297054" y="4106394"/>
                </a:lnTo>
                <a:lnTo>
                  <a:pt x="10766437" y="3637011"/>
                </a:lnTo>
                <a:lnTo>
                  <a:pt x="10766437" y="3577339"/>
                </a:lnTo>
                <a:close/>
                <a:moveTo>
                  <a:pt x="11817249" y="3027334"/>
                </a:moveTo>
                <a:lnTo>
                  <a:pt x="11928074" y="3027334"/>
                </a:lnTo>
                <a:lnTo>
                  <a:pt x="11928074" y="3138159"/>
                </a:lnTo>
                <a:lnTo>
                  <a:pt x="11817249" y="3138159"/>
                </a:lnTo>
                <a:close/>
                <a:moveTo>
                  <a:pt x="10766437" y="3027334"/>
                </a:moveTo>
                <a:lnTo>
                  <a:pt x="10877262" y="3027334"/>
                </a:lnTo>
                <a:lnTo>
                  <a:pt x="10877262" y="3138159"/>
                </a:lnTo>
                <a:lnTo>
                  <a:pt x="10766437" y="3138159"/>
                </a:lnTo>
                <a:close/>
                <a:moveTo>
                  <a:pt x="9715629" y="3027334"/>
                </a:moveTo>
                <a:lnTo>
                  <a:pt x="9826454" y="3027334"/>
                </a:lnTo>
                <a:lnTo>
                  <a:pt x="9826454" y="3138159"/>
                </a:lnTo>
                <a:lnTo>
                  <a:pt x="9715629" y="3138159"/>
                </a:lnTo>
                <a:close/>
                <a:moveTo>
                  <a:pt x="8664821" y="3027334"/>
                </a:moveTo>
                <a:lnTo>
                  <a:pt x="8775646" y="3027334"/>
                </a:lnTo>
                <a:lnTo>
                  <a:pt x="8775646" y="3138159"/>
                </a:lnTo>
                <a:lnTo>
                  <a:pt x="8664821" y="3138159"/>
                </a:lnTo>
                <a:close/>
                <a:moveTo>
                  <a:pt x="7614013" y="3027334"/>
                </a:moveTo>
                <a:lnTo>
                  <a:pt x="7724838" y="3027334"/>
                </a:lnTo>
                <a:lnTo>
                  <a:pt x="7724838" y="3138159"/>
                </a:lnTo>
                <a:lnTo>
                  <a:pt x="7614013" y="3138159"/>
                </a:lnTo>
                <a:close/>
                <a:moveTo>
                  <a:pt x="6563205" y="3027334"/>
                </a:moveTo>
                <a:lnTo>
                  <a:pt x="6674030" y="3027334"/>
                </a:lnTo>
                <a:lnTo>
                  <a:pt x="6674030" y="3138159"/>
                </a:lnTo>
                <a:lnTo>
                  <a:pt x="6563205" y="3138159"/>
                </a:lnTo>
                <a:close/>
                <a:moveTo>
                  <a:pt x="5512400" y="3027334"/>
                </a:moveTo>
                <a:lnTo>
                  <a:pt x="5623225" y="3027334"/>
                </a:lnTo>
                <a:lnTo>
                  <a:pt x="5623225" y="3138159"/>
                </a:lnTo>
                <a:lnTo>
                  <a:pt x="5512400" y="3138159"/>
                </a:lnTo>
                <a:close/>
                <a:moveTo>
                  <a:pt x="4461592" y="3027334"/>
                </a:moveTo>
                <a:lnTo>
                  <a:pt x="4572417" y="3027334"/>
                </a:lnTo>
                <a:lnTo>
                  <a:pt x="4572417" y="3138159"/>
                </a:lnTo>
                <a:lnTo>
                  <a:pt x="4461592" y="3138159"/>
                </a:lnTo>
                <a:close/>
                <a:moveTo>
                  <a:pt x="3410790" y="3027334"/>
                </a:moveTo>
                <a:lnTo>
                  <a:pt x="3521616" y="3027334"/>
                </a:lnTo>
                <a:lnTo>
                  <a:pt x="3521616" y="3138159"/>
                </a:lnTo>
                <a:lnTo>
                  <a:pt x="3410790" y="3138159"/>
                </a:lnTo>
                <a:close/>
                <a:moveTo>
                  <a:pt x="2359982" y="3027334"/>
                </a:moveTo>
                <a:lnTo>
                  <a:pt x="2470807" y="3027334"/>
                </a:lnTo>
                <a:lnTo>
                  <a:pt x="2470807" y="3138159"/>
                </a:lnTo>
                <a:lnTo>
                  <a:pt x="2359982" y="3138159"/>
                </a:lnTo>
                <a:close/>
                <a:moveTo>
                  <a:pt x="1309173" y="3027334"/>
                </a:moveTo>
                <a:lnTo>
                  <a:pt x="1419997" y="3027334"/>
                </a:lnTo>
                <a:lnTo>
                  <a:pt x="1419997" y="3138159"/>
                </a:lnTo>
                <a:lnTo>
                  <a:pt x="1309173" y="3138159"/>
                </a:lnTo>
                <a:close/>
                <a:moveTo>
                  <a:pt x="258365" y="3027334"/>
                </a:moveTo>
                <a:lnTo>
                  <a:pt x="369190" y="3027334"/>
                </a:lnTo>
                <a:lnTo>
                  <a:pt x="369190" y="3138159"/>
                </a:lnTo>
                <a:lnTo>
                  <a:pt x="258365" y="3138159"/>
                </a:lnTo>
                <a:close/>
                <a:moveTo>
                  <a:pt x="10794114" y="2610895"/>
                </a:moveTo>
                <a:lnTo>
                  <a:pt x="10323174" y="3081834"/>
                </a:lnTo>
                <a:lnTo>
                  <a:pt x="10792548" y="3551209"/>
                </a:lnTo>
                <a:lnTo>
                  <a:pt x="10852239" y="3551209"/>
                </a:lnTo>
                <a:lnTo>
                  <a:pt x="11321612" y="3081835"/>
                </a:lnTo>
                <a:lnTo>
                  <a:pt x="10850672" y="2610895"/>
                </a:lnTo>
                <a:close/>
                <a:moveTo>
                  <a:pt x="9743434" y="2610895"/>
                </a:moveTo>
                <a:lnTo>
                  <a:pt x="9272494" y="3081834"/>
                </a:lnTo>
                <a:lnTo>
                  <a:pt x="9741869" y="3551209"/>
                </a:lnTo>
                <a:lnTo>
                  <a:pt x="9801555" y="3551209"/>
                </a:lnTo>
                <a:lnTo>
                  <a:pt x="10270931" y="3081833"/>
                </a:lnTo>
                <a:lnTo>
                  <a:pt x="9799992" y="2610895"/>
                </a:lnTo>
                <a:close/>
                <a:moveTo>
                  <a:pt x="8692754" y="2610895"/>
                </a:moveTo>
                <a:lnTo>
                  <a:pt x="8221811" y="3081837"/>
                </a:lnTo>
                <a:lnTo>
                  <a:pt x="8691183" y="3551209"/>
                </a:lnTo>
                <a:lnTo>
                  <a:pt x="8750876" y="3551209"/>
                </a:lnTo>
                <a:lnTo>
                  <a:pt x="9220250" y="3081835"/>
                </a:lnTo>
                <a:lnTo>
                  <a:pt x="8749310" y="2610895"/>
                </a:lnTo>
                <a:close/>
                <a:moveTo>
                  <a:pt x="7642070" y="2610895"/>
                </a:moveTo>
                <a:lnTo>
                  <a:pt x="7171131" y="3081835"/>
                </a:lnTo>
                <a:lnTo>
                  <a:pt x="7640505" y="3551209"/>
                </a:lnTo>
                <a:lnTo>
                  <a:pt x="7700194" y="3551209"/>
                </a:lnTo>
                <a:lnTo>
                  <a:pt x="8169567" y="3081836"/>
                </a:lnTo>
                <a:lnTo>
                  <a:pt x="7698625" y="2610895"/>
                </a:lnTo>
                <a:close/>
                <a:moveTo>
                  <a:pt x="6591389" y="2610895"/>
                </a:moveTo>
                <a:lnTo>
                  <a:pt x="6120448" y="3081836"/>
                </a:lnTo>
                <a:lnTo>
                  <a:pt x="6589820" y="3551209"/>
                </a:lnTo>
                <a:lnTo>
                  <a:pt x="6649514" y="3551209"/>
                </a:lnTo>
                <a:lnTo>
                  <a:pt x="7118887" y="3081836"/>
                </a:lnTo>
                <a:lnTo>
                  <a:pt x="6647947" y="2610895"/>
                </a:lnTo>
                <a:close/>
                <a:moveTo>
                  <a:pt x="5540722" y="2610895"/>
                </a:moveTo>
                <a:lnTo>
                  <a:pt x="5069790" y="3081837"/>
                </a:lnTo>
                <a:lnTo>
                  <a:pt x="5539152" y="3551209"/>
                </a:lnTo>
                <a:lnTo>
                  <a:pt x="5598843" y="3551209"/>
                </a:lnTo>
                <a:lnTo>
                  <a:pt x="6068204" y="3081836"/>
                </a:lnTo>
                <a:lnTo>
                  <a:pt x="5597274" y="2610895"/>
                </a:lnTo>
                <a:close/>
                <a:moveTo>
                  <a:pt x="4490039" y="2610895"/>
                </a:moveTo>
                <a:lnTo>
                  <a:pt x="4019108" y="3081837"/>
                </a:lnTo>
                <a:lnTo>
                  <a:pt x="4488467" y="3551209"/>
                </a:lnTo>
                <a:lnTo>
                  <a:pt x="4548162" y="3551209"/>
                </a:lnTo>
                <a:lnTo>
                  <a:pt x="5017539" y="3081837"/>
                </a:lnTo>
                <a:lnTo>
                  <a:pt x="4546591" y="2610895"/>
                </a:lnTo>
                <a:close/>
                <a:moveTo>
                  <a:pt x="3439377" y="2610895"/>
                </a:moveTo>
                <a:lnTo>
                  <a:pt x="2968431" y="3081838"/>
                </a:lnTo>
                <a:lnTo>
                  <a:pt x="3437805" y="3551209"/>
                </a:lnTo>
                <a:lnTo>
                  <a:pt x="3497502" y="3551209"/>
                </a:lnTo>
                <a:lnTo>
                  <a:pt x="3966864" y="3081837"/>
                </a:lnTo>
                <a:lnTo>
                  <a:pt x="3495931" y="2610895"/>
                </a:lnTo>
                <a:close/>
                <a:moveTo>
                  <a:pt x="2388695" y="2610895"/>
                </a:moveTo>
                <a:lnTo>
                  <a:pt x="1917746" y="3081837"/>
                </a:lnTo>
                <a:lnTo>
                  <a:pt x="2387125" y="3551209"/>
                </a:lnTo>
                <a:lnTo>
                  <a:pt x="2446819" y="3551209"/>
                </a:lnTo>
                <a:lnTo>
                  <a:pt x="2916188" y="3081838"/>
                </a:lnTo>
                <a:lnTo>
                  <a:pt x="2445246" y="2610895"/>
                </a:lnTo>
                <a:close/>
                <a:moveTo>
                  <a:pt x="1338007" y="2610895"/>
                </a:moveTo>
                <a:lnTo>
                  <a:pt x="867066" y="3081838"/>
                </a:lnTo>
                <a:lnTo>
                  <a:pt x="1336436" y="3551209"/>
                </a:lnTo>
                <a:lnTo>
                  <a:pt x="1396132" y="3551209"/>
                </a:lnTo>
                <a:lnTo>
                  <a:pt x="1865502" y="3081837"/>
                </a:lnTo>
                <a:lnTo>
                  <a:pt x="1394561" y="2610895"/>
                </a:lnTo>
                <a:close/>
                <a:moveTo>
                  <a:pt x="11291841" y="2500070"/>
                </a:moveTo>
                <a:lnTo>
                  <a:pt x="11402666" y="2500070"/>
                </a:lnTo>
                <a:lnTo>
                  <a:pt x="11402666" y="2610895"/>
                </a:lnTo>
                <a:lnTo>
                  <a:pt x="11291841" y="2610895"/>
                </a:lnTo>
                <a:close/>
                <a:moveTo>
                  <a:pt x="10241033" y="2500070"/>
                </a:moveTo>
                <a:lnTo>
                  <a:pt x="10351858" y="2500070"/>
                </a:lnTo>
                <a:lnTo>
                  <a:pt x="10351858" y="2610895"/>
                </a:lnTo>
                <a:lnTo>
                  <a:pt x="10241033" y="2610895"/>
                </a:lnTo>
                <a:close/>
                <a:moveTo>
                  <a:pt x="9190225" y="2500070"/>
                </a:moveTo>
                <a:lnTo>
                  <a:pt x="9301050" y="2500070"/>
                </a:lnTo>
                <a:lnTo>
                  <a:pt x="9301050" y="2610895"/>
                </a:lnTo>
                <a:lnTo>
                  <a:pt x="9190225" y="2610895"/>
                </a:lnTo>
                <a:close/>
                <a:moveTo>
                  <a:pt x="8139417" y="2500070"/>
                </a:moveTo>
                <a:lnTo>
                  <a:pt x="8250242" y="2500070"/>
                </a:lnTo>
                <a:lnTo>
                  <a:pt x="8250242" y="2610895"/>
                </a:lnTo>
                <a:lnTo>
                  <a:pt x="8139417" y="2610895"/>
                </a:lnTo>
                <a:close/>
                <a:moveTo>
                  <a:pt x="7088609" y="2500070"/>
                </a:moveTo>
                <a:lnTo>
                  <a:pt x="7199434" y="2500070"/>
                </a:lnTo>
                <a:lnTo>
                  <a:pt x="7199434" y="2610895"/>
                </a:lnTo>
                <a:lnTo>
                  <a:pt x="7088609" y="2610895"/>
                </a:lnTo>
                <a:close/>
                <a:moveTo>
                  <a:pt x="6037801" y="2500070"/>
                </a:moveTo>
                <a:lnTo>
                  <a:pt x="6148626" y="2500070"/>
                </a:lnTo>
                <a:lnTo>
                  <a:pt x="6148626" y="2610895"/>
                </a:lnTo>
                <a:lnTo>
                  <a:pt x="6037801" y="2610895"/>
                </a:lnTo>
                <a:close/>
                <a:moveTo>
                  <a:pt x="4987000" y="2500070"/>
                </a:moveTo>
                <a:lnTo>
                  <a:pt x="5097829" y="2500070"/>
                </a:lnTo>
                <a:lnTo>
                  <a:pt x="5097829" y="2610895"/>
                </a:lnTo>
                <a:lnTo>
                  <a:pt x="4987000" y="2610895"/>
                </a:lnTo>
                <a:close/>
                <a:moveTo>
                  <a:pt x="3936200" y="2500070"/>
                </a:moveTo>
                <a:lnTo>
                  <a:pt x="4047024" y="2500070"/>
                </a:lnTo>
                <a:lnTo>
                  <a:pt x="4047024" y="2610895"/>
                </a:lnTo>
                <a:lnTo>
                  <a:pt x="3936200" y="2610895"/>
                </a:lnTo>
                <a:close/>
                <a:moveTo>
                  <a:pt x="2885393" y="2500070"/>
                </a:moveTo>
                <a:lnTo>
                  <a:pt x="2996218" y="2500070"/>
                </a:lnTo>
                <a:lnTo>
                  <a:pt x="2996218" y="2610895"/>
                </a:lnTo>
                <a:lnTo>
                  <a:pt x="2885393" y="2610895"/>
                </a:lnTo>
                <a:close/>
                <a:moveTo>
                  <a:pt x="1834583" y="2500070"/>
                </a:moveTo>
                <a:lnTo>
                  <a:pt x="1945408" y="2500070"/>
                </a:lnTo>
                <a:lnTo>
                  <a:pt x="1945408" y="2610895"/>
                </a:lnTo>
                <a:lnTo>
                  <a:pt x="1834583" y="2610895"/>
                </a:lnTo>
                <a:close/>
                <a:moveTo>
                  <a:pt x="783777" y="2500070"/>
                </a:moveTo>
                <a:lnTo>
                  <a:pt x="894602" y="2500070"/>
                </a:lnTo>
                <a:lnTo>
                  <a:pt x="894602" y="2610895"/>
                </a:lnTo>
                <a:lnTo>
                  <a:pt x="783777" y="2610895"/>
                </a:lnTo>
                <a:close/>
                <a:moveTo>
                  <a:pt x="1891623" y="2057291"/>
                </a:moveTo>
                <a:lnTo>
                  <a:pt x="1420005" y="2528898"/>
                </a:lnTo>
                <a:lnTo>
                  <a:pt x="1420005" y="2584095"/>
                </a:lnTo>
                <a:lnTo>
                  <a:pt x="1891624" y="3055715"/>
                </a:lnTo>
                <a:lnTo>
                  <a:pt x="2359991" y="2587356"/>
                </a:lnTo>
                <a:lnTo>
                  <a:pt x="2359991" y="2525640"/>
                </a:lnTo>
                <a:close/>
                <a:moveTo>
                  <a:pt x="2942310" y="2057291"/>
                </a:moveTo>
                <a:lnTo>
                  <a:pt x="2470816" y="2528774"/>
                </a:lnTo>
                <a:lnTo>
                  <a:pt x="2470816" y="2584221"/>
                </a:lnTo>
                <a:lnTo>
                  <a:pt x="2942310" y="3055716"/>
                </a:lnTo>
                <a:lnTo>
                  <a:pt x="3410799" y="2587229"/>
                </a:lnTo>
                <a:lnTo>
                  <a:pt x="3410799" y="2525765"/>
                </a:lnTo>
                <a:close/>
                <a:moveTo>
                  <a:pt x="3992986" y="2057290"/>
                </a:moveTo>
                <a:lnTo>
                  <a:pt x="3521627" y="2528649"/>
                </a:lnTo>
                <a:lnTo>
                  <a:pt x="3521627" y="2584345"/>
                </a:lnTo>
                <a:lnTo>
                  <a:pt x="3992986" y="3055715"/>
                </a:lnTo>
                <a:lnTo>
                  <a:pt x="4461596" y="2587094"/>
                </a:lnTo>
                <a:lnTo>
                  <a:pt x="4461596" y="2525899"/>
                </a:lnTo>
                <a:close/>
                <a:moveTo>
                  <a:pt x="840944" y="2057289"/>
                </a:moveTo>
                <a:lnTo>
                  <a:pt x="369198" y="2529024"/>
                </a:lnTo>
                <a:lnTo>
                  <a:pt x="369198" y="2583969"/>
                </a:lnTo>
                <a:lnTo>
                  <a:pt x="840944" y="3055716"/>
                </a:lnTo>
                <a:lnTo>
                  <a:pt x="1309180" y="2587479"/>
                </a:lnTo>
                <a:lnTo>
                  <a:pt x="1309180" y="2525514"/>
                </a:lnTo>
                <a:close/>
                <a:moveTo>
                  <a:pt x="7145007" y="2057289"/>
                </a:moveTo>
                <a:lnTo>
                  <a:pt x="6674030" y="2528255"/>
                </a:lnTo>
                <a:lnTo>
                  <a:pt x="6674030" y="2584733"/>
                </a:lnTo>
                <a:lnTo>
                  <a:pt x="7145010" y="3055713"/>
                </a:lnTo>
                <a:lnTo>
                  <a:pt x="7614013" y="2586710"/>
                </a:lnTo>
                <a:lnTo>
                  <a:pt x="7614013" y="2526283"/>
                </a:lnTo>
                <a:close/>
                <a:moveTo>
                  <a:pt x="5043664" y="2057289"/>
                </a:moveTo>
                <a:lnTo>
                  <a:pt x="4572421" y="2528513"/>
                </a:lnTo>
                <a:lnTo>
                  <a:pt x="4572421" y="2584480"/>
                </a:lnTo>
                <a:lnTo>
                  <a:pt x="5043664" y="3055715"/>
                </a:lnTo>
                <a:lnTo>
                  <a:pt x="5512404" y="2586968"/>
                </a:lnTo>
                <a:lnTo>
                  <a:pt x="5512404" y="2526024"/>
                </a:lnTo>
                <a:close/>
                <a:moveTo>
                  <a:pt x="10297053" y="2057288"/>
                </a:moveTo>
                <a:lnTo>
                  <a:pt x="9826454" y="2527875"/>
                </a:lnTo>
                <a:lnTo>
                  <a:pt x="9826454" y="2585115"/>
                </a:lnTo>
                <a:lnTo>
                  <a:pt x="10297052" y="3055713"/>
                </a:lnTo>
                <a:lnTo>
                  <a:pt x="10766437" y="2586328"/>
                </a:lnTo>
                <a:lnTo>
                  <a:pt x="10766437" y="2526660"/>
                </a:lnTo>
                <a:close/>
                <a:moveTo>
                  <a:pt x="9246373" y="2057288"/>
                </a:moveTo>
                <a:lnTo>
                  <a:pt x="8775646" y="2528002"/>
                </a:lnTo>
                <a:lnTo>
                  <a:pt x="8775646" y="2584986"/>
                </a:lnTo>
                <a:lnTo>
                  <a:pt x="9246373" y="3055713"/>
                </a:lnTo>
                <a:lnTo>
                  <a:pt x="9715629" y="2586457"/>
                </a:lnTo>
                <a:lnTo>
                  <a:pt x="9715629" y="2526532"/>
                </a:lnTo>
                <a:close/>
                <a:moveTo>
                  <a:pt x="8195690" y="2057288"/>
                </a:moveTo>
                <a:lnTo>
                  <a:pt x="7724838" y="2528128"/>
                </a:lnTo>
                <a:lnTo>
                  <a:pt x="7724838" y="2584864"/>
                </a:lnTo>
                <a:lnTo>
                  <a:pt x="8195689" y="3055714"/>
                </a:lnTo>
                <a:lnTo>
                  <a:pt x="8664821" y="2586582"/>
                </a:lnTo>
                <a:lnTo>
                  <a:pt x="8664821" y="2526406"/>
                </a:lnTo>
                <a:close/>
                <a:moveTo>
                  <a:pt x="6094328" y="2057287"/>
                </a:moveTo>
                <a:lnTo>
                  <a:pt x="5623228" y="2528386"/>
                </a:lnTo>
                <a:lnTo>
                  <a:pt x="5623228" y="2584606"/>
                </a:lnTo>
                <a:lnTo>
                  <a:pt x="6094325" y="3055714"/>
                </a:lnTo>
                <a:lnTo>
                  <a:pt x="6563205" y="2586835"/>
                </a:lnTo>
                <a:lnTo>
                  <a:pt x="6563205" y="2526153"/>
                </a:lnTo>
                <a:close/>
                <a:moveTo>
                  <a:pt x="11347736" y="2057286"/>
                </a:moveTo>
                <a:lnTo>
                  <a:pt x="10877262" y="2527747"/>
                </a:lnTo>
                <a:lnTo>
                  <a:pt x="10877262" y="2585241"/>
                </a:lnTo>
                <a:lnTo>
                  <a:pt x="11347734" y="3055713"/>
                </a:lnTo>
                <a:lnTo>
                  <a:pt x="11817249" y="2586199"/>
                </a:lnTo>
                <a:lnTo>
                  <a:pt x="11817249" y="2526787"/>
                </a:lnTo>
                <a:close/>
                <a:moveTo>
                  <a:pt x="258363" y="1973449"/>
                </a:moveTo>
                <a:lnTo>
                  <a:pt x="369188" y="1973449"/>
                </a:lnTo>
                <a:lnTo>
                  <a:pt x="369188" y="2084274"/>
                </a:lnTo>
                <a:lnTo>
                  <a:pt x="258363" y="2084274"/>
                </a:lnTo>
                <a:close/>
                <a:moveTo>
                  <a:pt x="2359980" y="1973449"/>
                </a:moveTo>
                <a:lnTo>
                  <a:pt x="2470805" y="1973449"/>
                </a:lnTo>
                <a:lnTo>
                  <a:pt x="2470805" y="2084274"/>
                </a:lnTo>
                <a:lnTo>
                  <a:pt x="2359980" y="2084274"/>
                </a:lnTo>
                <a:close/>
                <a:moveTo>
                  <a:pt x="1309171" y="1973449"/>
                </a:moveTo>
                <a:lnTo>
                  <a:pt x="1419995" y="1973449"/>
                </a:lnTo>
                <a:lnTo>
                  <a:pt x="1419995" y="2084274"/>
                </a:lnTo>
                <a:lnTo>
                  <a:pt x="1309171" y="2084274"/>
                </a:lnTo>
                <a:close/>
                <a:moveTo>
                  <a:pt x="4461591" y="1973448"/>
                </a:moveTo>
                <a:lnTo>
                  <a:pt x="4572416" y="1973448"/>
                </a:lnTo>
                <a:lnTo>
                  <a:pt x="4572416" y="2084273"/>
                </a:lnTo>
                <a:lnTo>
                  <a:pt x="4461591" y="2084273"/>
                </a:lnTo>
                <a:close/>
                <a:moveTo>
                  <a:pt x="3410788" y="1973448"/>
                </a:moveTo>
                <a:lnTo>
                  <a:pt x="3521614" y="1973448"/>
                </a:lnTo>
                <a:lnTo>
                  <a:pt x="3521614" y="2084273"/>
                </a:lnTo>
                <a:lnTo>
                  <a:pt x="3410788" y="2084273"/>
                </a:lnTo>
                <a:close/>
                <a:moveTo>
                  <a:pt x="6563205" y="1973448"/>
                </a:moveTo>
                <a:lnTo>
                  <a:pt x="6674030" y="1973448"/>
                </a:lnTo>
                <a:lnTo>
                  <a:pt x="6674030" y="2084273"/>
                </a:lnTo>
                <a:lnTo>
                  <a:pt x="6563205" y="2084273"/>
                </a:lnTo>
                <a:close/>
                <a:moveTo>
                  <a:pt x="5512399" y="1973448"/>
                </a:moveTo>
                <a:lnTo>
                  <a:pt x="5623224" y="1973448"/>
                </a:lnTo>
                <a:lnTo>
                  <a:pt x="5623224" y="2084273"/>
                </a:lnTo>
                <a:lnTo>
                  <a:pt x="5512399" y="2084273"/>
                </a:lnTo>
                <a:close/>
                <a:moveTo>
                  <a:pt x="7614013" y="1973448"/>
                </a:moveTo>
                <a:lnTo>
                  <a:pt x="7724838" y="1973448"/>
                </a:lnTo>
                <a:lnTo>
                  <a:pt x="7724838" y="2084273"/>
                </a:lnTo>
                <a:lnTo>
                  <a:pt x="7614013" y="2084273"/>
                </a:lnTo>
                <a:close/>
                <a:moveTo>
                  <a:pt x="9715629" y="1973448"/>
                </a:moveTo>
                <a:lnTo>
                  <a:pt x="9826454" y="1973448"/>
                </a:lnTo>
                <a:lnTo>
                  <a:pt x="9826454" y="2084273"/>
                </a:lnTo>
                <a:lnTo>
                  <a:pt x="9715629" y="2084273"/>
                </a:lnTo>
                <a:close/>
                <a:moveTo>
                  <a:pt x="8664821" y="1973448"/>
                </a:moveTo>
                <a:lnTo>
                  <a:pt x="8775646" y="1973448"/>
                </a:lnTo>
                <a:lnTo>
                  <a:pt x="8775646" y="2084273"/>
                </a:lnTo>
                <a:lnTo>
                  <a:pt x="8664821" y="2084273"/>
                </a:lnTo>
                <a:close/>
                <a:moveTo>
                  <a:pt x="11817249" y="1973448"/>
                </a:moveTo>
                <a:lnTo>
                  <a:pt x="11928074" y="1973448"/>
                </a:lnTo>
                <a:lnTo>
                  <a:pt x="11928074" y="2084273"/>
                </a:lnTo>
                <a:lnTo>
                  <a:pt x="11817249" y="2084273"/>
                </a:lnTo>
                <a:close/>
                <a:moveTo>
                  <a:pt x="10766437" y="1973448"/>
                </a:moveTo>
                <a:lnTo>
                  <a:pt x="10877262" y="1973448"/>
                </a:lnTo>
                <a:lnTo>
                  <a:pt x="10877262" y="2084273"/>
                </a:lnTo>
                <a:lnTo>
                  <a:pt x="10766437" y="2084273"/>
                </a:lnTo>
                <a:close/>
                <a:moveTo>
                  <a:pt x="3441643" y="1557959"/>
                </a:moveTo>
                <a:lnTo>
                  <a:pt x="2968431" y="2031169"/>
                </a:lnTo>
                <a:lnTo>
                  <a:pt x="3437348" y="2500070"/>
                </a:lnTo>
                <a:lnTo>
                  <a:pt x="3497959" y="2500070"/>
                </a:lnTo>
                <a:lnTo>
                  <a:pt x="3966865" y="2031168"/>
                </a:lnTo>
                <a:lnTo>
                  <a:pt x="3493665" y="1557959"/>
                </a:lnTo>
                <a:close/>
                <a:moveTo>
                  <a:pt x="2390961" y="1557959"/>
                </a:moveTo>
                <a:lnTo>
                  <a:pt x="1917745" y="2031169"/>
                </a:lnTo>
                <a:lnTo>
                  <a:pt x="2386665" y="2500070"/>
                </a:lnTo>
                <a:lnTo>
                  <a:pt x="2447277" y="2500070"/>
                </a:lnTo>
                <a:lnTo>
                  <a:pt x="2916189" y="2031169"/>
                </a:lnTo>
                <a:lnTo>
                  <a:pt x="2442980" y="1557959"/>
                </a:lnTo>
                <a:close/>
                <a:moveTo>
                  <a:pt x="1340273" y="1557959"/>
                </a:moveTo>
                <a:lnTo>
                  <a:pt x="867066" y="2031167"/>
                </a:lnTo>
                <a:lnTo>
                  <a:pt x="1335980" y="2500070"/>
                </a:lnTo>
                <a:lnTo>
                  <a:pt x="1396589" y="2500070"/>
                </a:lnTo>
                <a:lnTo>
                  <a:pt x="1865501" y="2031169"/>
                </a:lnTo>
                <a:lnTo>
                  <a:pt x="1392293" y="1557959"/>
                </a:lnTo>
                <a:close/>
                <a:moveTo>
                  <a:pt x="5542986" y="1557958"/>
                </a:moveTo>
                <a:lnTo>
                  <a:pt x="5069790" y="2031167"/>
                </a:lnTo>
                <a:lnTo>
                  <a:pt x="5538694" y="2500070"/>
                </a:lnTo>
                <a:lnTo>
                  <a:pt x="5599302" y="2500070"/>
                </a:lnTo>
                <a:lnTo>
                  <a:pt x="6068206" y="2031166"/>
                </a:lnTo>
                <a:lnTo>
                  <a:pt x="5595011" y="1557958"/>
                </a:lnTo>
                <a:close/>
                <a:moveTo>
                  <a:pt x="4492305" y="1557958"/>
                </a:moveTo>
                <a:lnTo>
                  <a:pt x="4019109" y="2031168"/>
                </a:lnTo>
                <a:lnTo>
                  <a:pt x="4488010" y="2500070"/>
                </a:lnTo>
                <a:lnTo>
                  <a:pt x="4548620" y="2500070"/>
                </a:lnTo>
                <a:lnTo>
                  <a:pt x="5017539" y="2031167"/>
                </a:lnTo>
                <a:lnTo>
                  <a:pt x="4544326" y="1557958"/>
                </a:lnTo>
                <a:close/>
                <a:moveTo>
                  <a:pt x="7644337" y="1557958"/>
                </a:moveTo>
                <a:lnTo>
                  <a:pt x="7171129" y="2031167"/>
                </a:lnTo>
                <a:lnTo>
                  <a:pt x="7640044" y="2500070"/>
                </a:lnTo>
                <a:lnTo>
                  <a:pt x="7700653" y="2500070"/>
                </a:lnTo>
                <a:lnTo>
                  <a:pt x="8169569" y="2031167"/>
                </a:lnTo>
                <a:lnTo>
                  <a:pt x="7696361" y="1557958"/>
                </a:lnTo>
                <a:close/>
                <a:moveTo>
                  <a:pt x="6593656" y="1557958"/>
                </a:moveTo>
                <a:lnTo>
                  <a:pt x="6120450" y="2031165"/>
                </a:lnTo>
                <a:lnTo>
                  <a:pt x="6589366" y="2500070"/>
                </a:lnTo>
                <a:lnTo>
                  <a:pt x="6649970" y="2500070"/>
                </a:lnTo>
                <a:lnTo>
                  <a:pt x="7118885" y="2031167"/>
                </a:lnTo>
                <a:lnTo>
                  <a:pt x="6645676" y="1557958"/>
                </a:lnTo>
                <a:close/>
                <a:moveTo>
                  <a:pt x="9745703" y="1557958"/>
                </a:moveTo>
                <a:lnTo>
                  <a:pt x="9272494" y="2031167"/>
                </a:lnTo>
                <a:lnTo>
                  <a:pt x="9741408" y="2500070"/>
                </a:lnTo>
                <a:lnTo>
                  <a:pt x="9802016" y="2500070"/>
                </a:lnTo>
                <a:lnTo>
                  <a:pt x="10270931" y="2031167"/>
                </a:lnTo>
                <a:lnTo>
                  <a:pt x="9797723" y="1557958"/>
                </a:lnTo>
                <a:close/>
                <a:moveTo>
                  <a:pt x="8695019" y="1557958"/>
                </a:moveTo>
                <a:lnTo>
                  <a:pt x="8221812" y="2031166"/>
                </a:lnTo>
                <a:lnTo>
                  <a:pt x="8690730" y="2500070"/>
                </a:lnTo>
                <a:lnTo>
                  <a:pt x="8751334" y="2500070"/>
                </a:lnTo>
                <a:lnTo>
                  <a:pt x="9220250" y="2031166"/>
                </a:lnTo>
                <a:lnTo>
                  <a:pt x="8747043" y="1557958"/>
                </a:lnTo>
                <a:close/>
                <a:moveTo>
                  <a:pt x="10796383" y="1557958"/>
                </a:moveTo>
                <a:lnTo>
                  <a:pt x="10323175" y="2031166"/>
                </a:lnTo>
                <a:lnTo>
                  <a:pt x="10792091" y="2500070"/>
                </a:lnTo>
                <a:lnTo>
                  <a:pt x="10852696" y="2500070"/>
                </a:lnTo>
                <a:lnTo>
                  <a:pt x="11321614" y="2031164"/>
                </a:lnTo>
                <a:lnTo>
                  <a:pt x="10848409" y="1557958"/>
                </a:lnTo>
                <a:close/>
                <a:moveTo>
                  <a:pt x="783781" y="1447135"/>
                </a:moveTo>
                <a:lnTo>
                  <a:pt x="894606" y="1447135"/>
                </a:lnTo>
                <a:lnTo>
                  <a:pt x="894606" y="1557959"/>
                </a:lnTo>
                <a:lnTo>
                  <a:pt x="783781" y="1557959"/>
                </a:lnTo>
                <a:close/>
                <a:moveTo>
                  <a:pt x="1834586" y="1447134"/>
                </a:moveTo>
                <a:lnTo>
                  <a:pt x="1945411" y="1447134"/>
                </a:lnTo>
                <a:lnTo>
                  <a:pt x="1945411" y="1557959"/>
                </a:lnTo>
                <a:lnTo>
                  <a:pt x="1834586" y="1557959"/>
                </a:lnTo>
                <a:close/>
                <a:moveTo>
                  <a:pt x="4987002" y="1447134"/>
                </a:moveTo>
                <a:lnTo>
                  <a:pt x="5097832" y="1447134"/>
                </a:lnTo>
                <a:lnTo>
                  <a:pt x="5097832" y="1557958"/>
                </a:lnTo>
                <a:lnTo>
                  <a:pt x="4987002" y="1557958"/>
                </a:lnTo>
                <a:close/>
                <a:moveTo>
                  <a:pt x="3936204" y="1447134"/>
                </a:moveTo>
                <a:lnTo>
                  <a:pt x="4047028" y="1447134"/>
                </a:lnTo>
                <a:lnTo>
                  <a:pt x="4047028" y="1557959"/>
                </a:lnTo>
                <a:lnTo>
                  <a:pt x="3936204" y="1557959"/>
                </a:lnTo>
                <a:close/>
                <a:moveTo>
                  <a:pt x="2885398" y="1447134"/>
                </a:moveTo>
                <a:lnTo>
                  <a:pt x="2996224" y="1447134"/>
                </a:lnTo>
                <a:lnTo>
                  <a:pt x="2996224" y="1557959"/>
                </a:lnTo>
                <a:lnTo>
                  <a:pt x="2885398" y="1557959"/>
                </a:lnTo>
                <a:close/>
                <a:moveTo>
                  <a:pt x="6037801" y="1447133"/>
                </a:moveTo>
                <a:lnTo>
                  <a:pt x="6148626" y="1447133"/>
                </a:lnTo>
                <a:lnTo>
                  <a:pt x="6148626" y="1557958"/>
                </a:lnTo>
                <a:lnTo>
                  <a:pt x="6037801" y="1557958"/>
                </a:lnTo>
                <a:close/>
                <a:moveTo>
                  <a:pt x="9190225" y="1447133"/>
                </a:moveTo>
                <a:lnTo>
                  <a:pt x="9301050" y="1447133"/>
                </a:lnTo>
                <a:lnTo>
                  <a:pt x="9301050" y="1557958"/>
                </a:lnTo>
                <a:lnTo>
                  <a:pt x="9190225" y="1557958"/>
                </a:lnTo>
                <a:close/>
                <a:moveTo>
                  <a:pt x="8139417" y="1447133"/>
                </a:moveTo>
                <a:lnTo>
                  <a:pt x="8250242" y="1447133"/>
                </a:lnTo>
                <a:lnTo>
                  <a:pt x="8250242" y="1557958"/>
                </a:lnTo>
                <a:lnTo>
                  <a:pt x="8139417" y="1557958"/>
                </a:lnTo>
                <a:close/>
                <a:moveTo>
                  <a:pt x="7088609" y="1447133"/>
                </a:moveTo>
                <a:lnTo>
                  <a:pt x="7199434" y="1447133"/>
                </a:lnTo>
                <a:lnTo>
                  <a:pt x="7199434" y="1557958"/>
                </a:lnTo>
                <a:lnTo>
                  <a:pt x="7088609" y="1557958"/>
                </a:lnTo>
                <a:close/>
                <a:moveTo>
                  <a:pt x="10241033" y="1447133"/>
                </a:moveTo>
                <a:lnTo>
                  <a:pt x="10351858" y="1447133"/>
                </a:lnTo>
                <a:lnTo>
                  <a:pt x="10351858" y="1557957"/>
                </a:lnTo>
                <a:lnTo>
                  <a:pt x="10241033" y="1557957"/>
                </a:lnTo>
                <a:close/>
                <a:moveTo>
                  <a:pt x="11291841" y="1447133"/>
                </a:moveTo>
                <a:lnTo>
                  <a:pt x="11402666" y="1447133"/>
                </a:lnTo>
                <a:lnTo>
                  <a:pt x="11402666" y="1557957"/>
                </a:lnTo>
                <a:lnTo>
                  <a:pt x="11291841" y="1557957"/>
                </a:lnTo>
                <a:close/>
                <a:moveTo>
                  <a:pt x="2942310" y="1006607"/>
                </a:moveTo>
                <a:lnTo>
                  <a:pt x="2470820" y="1478100"/>
                </a:lnTo>
                <a:lnTo>
                  <a:pt x="2470820" y="1533556"/>
                </a:lnTo>
                <a:lnTo>
                  <a:pt x="2942310" y="2005047"/>
                </a:lnTo>
                <a:lnTo>
                  <a:pt x="3410804" y="1536556"/>
                </a:lnTo>
                <a:lnTo>
                  <a:pt x="3410804" y="1475099"/>
                </a:lnTo>
                <a:close/>
                <a:moveTo>
                  <a:pt x="1891623" y="1006607"/>
                </a:moveTo>
                <a:lnTo>
                  <a:pt x="1420008" y="1478224"/>
                </a:lnTo>
                <a:lnTo>
                  <a:pt x="1420008" y="1533431"/>
                </a:lnTo>
                <a:lnTo>
                  <a:pt x="1891623" y="2005047"/>
                </a:lnTo>
                <a:lnTo>
                  <a:pt x="2359996" y="1536681"/>
                </a:lnTo>
                <a:lnTo>
                  <a:pt x="2359996" y="1474975"/>
                </a:lnTo>
                <a:close/>
                <a:moveTo>
                  <a:pt x="840943" y="1006607"/>
                </a:moveTo>
                <a:lnTo>
                  <a:pt x="369202" y="1478351"/>
                </a:lnTo>
                <a:lnTo>
                  <a:pt x="369202" y="1533303"/>
                </a:lnTo>
                <a:lnTo>
                  <a:pt x="840944" y="2005046"/>
                </a:lnTo>
                <a:lnTo>
                  <a:pt x="1309184" y="1536806"/>
                </a:lnTo>
                <a:lnTo>
                  <a:pt x="1309184" y="1474850"/>
                </a:lnTo>
                <a:close/>
                <a:moveTo>
                  <a:pt x="3992987" y="1006606"/>
                </a:moveTo>
                <a:lnTo>
                  <a:pt x="3521631" y="1477974"/>
                </a:lnTo>
                <a:lnTo>
                  <a:pt x="3521631" y="1533680"/>
                </a:lnTo>
                <a:lnTo>
                  <a:pt x="3992986" y="2005046"/>
                </a:lnTo>
                <a:lnTo>
                  <a:pt x="4461598" y="1536423"/>
                </a:lnTo>
                <a:lnTo>
                  <a:pt x="4461598" y="1475230"/>
                </a:lnTo>
                <a:close/>
                <a:moveTo>
                  <a:pt x="6094326" y="1006605"/>
                </a:moveTo>
                <a:lnTo>
                  <a:pt x="5623230" y="1477714"/>
                </a:lnTo>
                <a:lnTo>
                  <a:pt x="5623230" y="1533934"/>
                </a:lnTo>
                <a:lnTo>
                  <a:pt x="6094328" y="2005044"/>
                </a:lnTo>
                <a:lnTo>
                  <a:pt x="6563205" y="1536166"/>
                </a:lnTo>
                <a:lnTo>
                  <a:pt x="6563205" y="1475487"/>
                </a:lnTo>
                <a:close/>
                <a:moveTo>
                  <a:pt x="9246371" y="1006604"/>
                </a:moveTo>
                <a:lnTo>
                  <a:pt x="8775646" y="1477332"/>
                </a:lnTo>
                <a:lnTo>
                  <a:pt x="8775646" y="1534319"/>
                </a:lnTo>
                <a:lnTo>
                  <a:pt x="9246371" y="2005045"/>
                </a:lnTo>
                <a:lnTo>
                  <a:pt x="9715629" y="1535786"/>
                </a:lnTo>
                <a:lnTo>
                  <a:pt x="9715629" y="1475864"/>
                </a:lnTo>
                <a:close/>
                <a:moveTo>
                  <a:pt x="5043669" y="1006604"/>
                </a:moveTo>
                <a:lnTo>
                  <a:pt x="4572422" y="1477843"/>
                </a:lnTo>
                <a:lnTo>
                  <a:pt x="4572422" y="1533811"/>
                </a:lnTo>
                <a:lnTo>
                  <a:pt x="5043664" y="2005045"/>
                </a:lnTo>
                <a:lnTo>
                  <a:pt x="5512407" y="1536296"/>
                </a:lnTo>
                <a:lnTo>
                  <a:pt x="5512407" y="1475351"/>
                </a:lnTo>
                <a:close/>
                <a:moveTo>
                  <a:pt x="11347735" y="1006604"/>
                </a:moveTo>
                <a:lnTo>
                  <a:pt x="10877262" y="1477079"/>
                </a:lnTo>
                <a:lnTo>
                  <a:pt x="10877262" y="1534567"/>
                </a:lnTo>
                <a:lnTo>
                  <a:pt x="11347736" y="2005041"/>
                </a:lnTo>
                <a:lnTo>
                  <a:pt x="11817249" y="1535528"/>
                </a:lnTo>
                <a:lnTo>
                  <a:pt x="11817249" y="1476120"/>
                </a:lnTo>
                <a:close/>
                <a:moveTo>
                  <a:pt x="8195690" y="1006604"/>
                </a:moveTo>
                <a:lnTo>
                  <a:pt x="7724838" y="1477458"/>
                </a:lnTo>
                <a:lnTo>
                  <a:pt x="7724838" y="1534191"/>
                </a:lnTo>
                <a:lnTo>
                  <a:pt x="8195691" y="2005044"/>
                </a:lnTo>
                <a:lnTo>
                  <a:pt x="8664821" y="1535914"/>
                </a:lnTo>
                <a:lnTo>
                  <a:pt x="8664821" y="1475736"/>
                </a:lnTo>
                <a:close/>
                <a:moveTo>
                  <a:pt x="7145009" y="1006604"/>
                </a:moveTo>
                <a:lnTo>
                  <a:pt x="6674030" y="1477584"/>
                </a:lnTo>
                <a:lnTo>
                  <a:pt x="6674030" y="1534069"/>
                </a:lnTo>
                <a:lnTo>
                  <a:pt x="7145007" y="2005046"/>
                </a:lnTo>
                <a:lnTo>
                  <a:pt x="7614013" y="1536039"/>
                </a:lnTo>
                <a:lnTo>
                  <a:pt x="7614013" y="1475610"/>
                </a:lnTo>
                <a:close/>
                <a:moveTo>
                  <a:pt x="10297056" y="1006603"/>
                </a:moveTo>
                <a:lnTo>
                  <a:pt x="9826454" y="1477207"/>
                </a:lnTo>
                <a:lnTo>
                  <a:pt x="9826454" y="1534445"/>
                </a:lnTo>
                <a:lnTo>
                  <a:pt x="10297053" y="2005045"/>
                </a:lnTo>
                <a:lnTo>
                  <a:pt x="10766437" y="1535660"/>
                </a:lnTo>
                <a:lnTo>
                  <a:pt x="10766437" y="1475986"/>
                </a:lnTo>
                <a:close/>
                <a:moveTo>
                  <a:pt x="258361" y="922634"/>
                </a:moveTo>
                <a:lnTo>
                  <a:pt x="369186" y="922634"/>
                </a:lnTo>
                <a:lnTo>
                  <a:pt x="369186" y="1033459"/>
                </a:lnTo>
                <a:lnTo>
                  <a:pt x="258361" y="1033459"/>
                </a:lnTo>
                <a:close/>
                <a:moveTo>
                  <a:pt x="2359977" y="922633"/>
                </a:moveTo>
                <a:lnTo>
                  <a:pt x="2470802" y="922633"/>
                </a:lnTo>
                <a:lnTo>
                  <a:pt x="2470802" y="1033458"/>
                </a:lnTo>
                <a:lnTo>
                  <a:pt x="2359977" y="1033458"/>
                </a:lnTo>
                <a:close/>
                <a:moveTo>
                  <a:pt x="1309169" y="922633"/>
                </a:moveTo>
                <a:lnTo>
                  <a:pt x="1419993" y="922633"/>
                </a:lnTo>
                <a:lnTo>
                  <a:pt x="1419993" y="1033458"/>
                </a:lnTo>
                <a:lnTo>
                  <a:pt x="1309169" y="1033458"/>
                </a:lnTo>
                <a:close/>
                <a:moveTo>
                  <a:pt x="5512398" y="922633"/>
                </a:moveTo>
                <a:lnTo>
                  <a:pt x="5623223" y="922633"/>
                </a:lnTo>
                <a:lnTo>
                  <a:pt x="5623223" y="1033458"/>
                </a:lnTo>
                <a:lnTo>
                  <a:pt x="5512398" y="1033458"/>
                </a:lnTo>
                <a:close/>
                <a:moveTo>
                  <a:pt x="4461591" y="922633"/>
                </a:moveTo>
                <a:lnTo>
                  <a:pt x="4572415" y="922633"/>
                </a:lnTo>
                <a:lnTo>
                  <a:pt x="4572415" y="1033458"/>
                </a:lnTo>
                <a:lnTo>
                  <a:pt x="4461591" y="1033458"/>
                </a:lnTo>
                <a:close/>
                <a:moveTo>
                  <a:pt x="3410785" y="922633"/>
                </a:moveTo>
                <a:lnTo>
                  <a:pt x="3521610" y="922633"/>
                </a:lnTo>
                <a:lnTo>
                  <a:pt x="3521610" y="1033458"/>
                </a:lnTo>
                <a:lnTo>
                  <a:pt x="3410785" y="1033458"/>
                </a:lnTo>
                <a:close/>
                <a:moveTo>
                  <a:pt x="7614013" y="922633"/>
                </a:moveTo>
                <a:lnTo>
                  <a:pt x="7724838" y="922633"/>
                </a:lnTo>
                <a:lnTo>
                  <a:pt x="7724838" y="1033458"/>
                </a:lnTo>
                <a:lnTo>
                  <a:pt x="7614013" y="1033458"/>
                </a:lnTo>
                <a:close/>
                <a:moveTo>
                  <a:pt x="6563205" y="922633"/>
                </a:moveTo>
                <a:lnTo>
                  <a:pt x="6674030" y="922633"/>
                </a:lnTo>
                <a:lnTo>
                  <a:pt x="6674030" y="1033458"/>
                </a:lnTo>
                <a:lnTo>
                  <a:pt x="6563205" y="1033458"/>
                </a:lnTo>
                <a:close/>
                <a:moveTo>
                  <a:pt x="10766437" y="922633"/>
                </a:moveTo>
                <a:lnTo>
                  <a:pt x="10877262" y="922633"/>
                </a:lnTo>
                <a:lnTo>
                  <a:pt x="10877262" y="1033458"/>
                </a:lnTo>
                <a:lnTo>
                  <a:pt x="10766437" y="1033458"/>
                </a:lnTo>
                <a:close/>
                <a:moveTo>
                  <a:pt x="9715629" y="922633"/>
                </a:moveTo>
                <a:lnTo>
                  <a:pt x="9826454" y="922633"/>
                </a:lnTo>
                <a:lnTo>
                  <a:pt x="9826454" y="1033458"/>
                </a:lnTo>
                <a:lnTo>
                  <a:pt x="9715629" y="1033458"/>
                </a:lnTo>
                <a:close/>
                <a:moveTo>
                  <a:pt x="8664821" y="922633"/>
                </a:moveTo>
                <a:lnTo>
                  <a:pt x="8775646" y="922633"/>
                </a:lnTo>
                <a:lnTo>
                  <a:pt x="8775646" y="1033458"/>
                </a:lnTo>
                <a:lnTo>
                  <a:pt x="8664821" y="1033458"/>
                </a:lnTo>
                <a:close/>
                <a:moveTo>
                  <a:pt x="11817249" y="922633"/>
                </a:moveTo>
                <a:lnTo>
                  <a:pt x="11928074" y="922633"/>
                </a:lnTo>
                <a:lnTo>
                  <a:pt x="11928074" y="1033458"/>
                </a:lnTo>
                <a:lnTo>
                  <a:pt x="11817249" y="1033458"/>
                </a:lnTo>
                <a:close/>
                <a:moveTo>
                  <a:pt x="1337485" y="510062"/>
                </a:moveTo>
                <a:lnTo>
                  <a:pt x="867065" y="980486"/>
                </a:lnTo>
                <a:lnTo>
                  <a:pt x="1333712" y="1447134"/>
                </a:lnTo>
                <a:lnTo>
                  <a:pt x="1398855" y="1447134"/>
                </a:lnTo>
                <a:lnTo>
                  <a:pt x="1865501" y="980486"/>
                </a:lnTo>
                <a:lnTo>
                  <a:pt x="1395081" y="510062"/>
                </a:lnTo>
                <a:close/>
                <a:moveTo>
                  <a:pt x="2388173" y="510062"/>
                </a:moveTo>
                <a:lnTo>
                  <a:pt x="1917745" y="980486"/>
                </a:lnTo>
                <a:lnTo>
                  <a:pt x="2384399" y="1447134"/>
                </a:lnTo>
                <a:lnTo>
                  <a:pt x="2449542" y="1447134"/>
                </a:lnTo>
                <a:lnTo>
                  <a:pt x="2916189" y="980486"/>
                </a:lnTo>
                <a:lnTo>
                  <a:pt x="2445767" y="510062"/>
                </a:lnTo>
                <a:close/>
                <a:moveTo>
                  <a:pt x="3438856" y="510062"/>
                </a:moveTo>
                <a:lnTo>
                  <a:pt x="2968432" y="980486"/>
                </a:lnTo>
                <a:lnTo>
                  <a:pt x="3435083" y="1447134"/>
                </a:lnTo>
                <a:lnTo>
                  <a:pt x="3500228" y="1447134"/>
                </a:lnTo>
                <a:lnTo>
                  <a:pt x="3966865" y="980485"/>
                </a:lnTo>
                <a:lnTo>
                  <a:pt x="3496454" y="510062"/>
                </a:lnTo>
                <a:close/>
                <a:moveTo>
                  <a:pt x="4489518" y="510062"/>
                </a:moveTo>
                <a:lnTo>
                  <a:pt x="4019109" y="980485"/>
                </a:lnTo>
                <a:lnTo>
                  <a:pt x="4485744" y="1447134"/>
                </a:lnTo>
                <a:lnTo>
                  <a:pt x="4550887" y="1447134"/>
                </a:lnTo>
                <a:lnTo>
                  <a:pt x="5017543" y="980483"/>
                </a:lnTo>
                <a:lnTo>
                  <a:pt x="4547118" y="510062"/>
                </a:lnTo>
                <a:close/>
                <a:moveTo>
                  <a:pt x="5540201" y="510062"/>
                </a:moveTo>
                <a:lnTo>
                  <a:pt x="5069792" y="980483"/>
                </a:lnTo>
                <a:lnTo>
                  <a:pt x="5536431" y="1447134"/>
                </a:lnTo>
                <a:lnTo>
                  <a:pt x="5601567" y="1447134"/>
                </a:lnTo>
                <a:lnTo>
                  <a:pt x="6068204" y="980484"/>
                </a:lnTo>
                <a:lnTo>
                  <a:pt x="5597797" y="510062"/>
                </a:lnTo>
                <a:close/>
                <a:moveTo>
                  <a:pt x="6590867" y="510062"/>
                </a:moveTo>
                <a:lnTo>
                  <a:pt x="6120447" y="980484"/>
                </a:lnTo>
                <a:lnTo>
                  <a:pt x="6587095" y="1447133"/>
                </a:lnTo>
                <a:lnTo>
                  <a:pt x="6652238" y="1447133"/>
                </a:lnTo>
                <a:lnTo>
                  <a:pt x="7118887" y="980483"/>
                </a:lnTo>
                <a:lnTo>
                  <a:pt x="6648468" y="510062"/>
                </a:lnTo>
                <a:close/>
                <a:moveTo>
                  <a:pt x="7641550" y="510061"/>
                </a:moveTo>
                <a:lnTo>
                  <a:pt x="7171131" y="980482"/>
                </a:lnTo>
                <a:lnTo>
                  <a:pt x="7637780" y="1447133"/>
                </a:lnTo>
                <a:lnTo>
                  <a:pt x="7702919" y="1447133"/>
                </a:lnTo>
                <a:lnTo>
                  <a:pt x="8169568" y="980483"/>
                </a:lnTo>
                <a:lnTo>
                  <a:pt x="7699149" y="510061"/>
                </a:lnTo>
                <a:close/>
                <a:moveTo>
                  <a:pt x="8692232" y="510061"/>
                </a:moveTo>
                <a:lnTo>
                  <a:pt x="8221811" y="980484"/>
                </a:lnTo>
                <a:lnTo>
                  <a:pt x="8688459" y="1447133"/>
                </a:lnTo>
                <a:lnTo>
                  <a:pt x="8753603" y="1447133"/>
                </a:lnTo>
                <a:lnTo>
                  <a:pt x="9220250" y="980484"/>
                </a:lnTo>
                <a:lnTo>
                  <a:pt x="8749829" y="510061"/>
                </a:lnTo>
                <a:close/>
                <a:moveTo>
                  <a:pt x="10793597" y="510061"/>
                </a:moveTo>
                <a:lnTo>
                  <a:pt x="10323178" y="980482"/>
                </a:lnTo>
                <a:lnTo>
                  <a:pt x="10789828" y="1447133"/>
                </a:lnTo>
                <a:lnTo>
                  <a:pt x="10854964" y="1447133"/>
                </a:lnTo>
                <a:lnTo>
                  <a:pt x="11321613" y="980483"/>
                </a:lnTo>
                <a:lnTo>
                  <a:pt x="10851193" y="510061"/>
                </a:lnTo>
                <a:close/>
                <a:moveTo>
                  <a:pt x="9742913" y="510061"/>
                </a:moveTo>
                <a:lnTo>
                  <a:pt x="9272493" y="980483"/>
                </a:lnTo>
                <a:lnTo>
                  <a:pt x="9739141" y="1447133"/>
                </a:lnTo>
                <a:lnTo>
                  <a:pt x="9804283" y="1447133"/>
                </a:lnTo>
                <a:lnTo>
                  <a:pt x="10270933" y="980481"/>
                </a:lnTo>
                <a:lnTo>
                  <a:pt x="9800515" y="510061"/>
                </a:lnTo>
                <a:close/>
                <a:moveTo>
                  <a:pt x="783785" y="399238"/>
                </a:moveTo>
                <a:lnTo>
                  <a:pt x="894609" y="399238"/>
                </a:lnTo>
                <a:lnTo>
                  <a:pt x="894609" y="510062"/>
                </a:lnTo>
                <a:lnTo>
                  <a:pt x="783785" y="510062"/>
                </a:lnTo>
                <a:close/>
                <a:moveTo>
                  <a:pt x="2885401" y="399237"/>
                </a:moveTo>
                <a:lnTo>
                  <a:pt x="2996227" y="399237"/>
                </a:lnTo>
                <a:lnTo>
                  <a:pt x="2996227" y="510062"/>
                </a:lnTo>
                <a:lnTo>
                  <a:pt x="2885401" y="510062"/>
                </a:lnTo>
                <a:close/>
                <a:moveTo>
                  <a:pt x="1834590" y="399237"/>
                </a:moveTo>
                <a:lnTo>
                  <a:pt x="1945415" y="399237"/>
                </a:lnTo>
                <a:lnTo>
                  <a:pt x="1945415" y="510062"/>
                </a:lnTo>
                <a:lnTo>
                  <a:pt x="1834590" y="510062"/>
                </a:lnTo>
                <a:close/>
                <a:moveTo>
                  <a:pt x="3936208" y="399237"/>
                </a:moveTo>
                <a:lnTo>
                  <a:pt x="4047032" y="399237"/>
                </a:lnTo>
                <a:lnTo>
                  <a:pt x="4047032" y="510062"/>
                </a:lnTo>
                <a:lnTo>
                  <a:pt x="3936208" y="510062"/>
                </a:lnTo>
                <a:close/>
                <a:moveTo>
                  <a:pt x="4987004" y="399237"/>
                </a:moveTo>
                <a:lnTo>
                  <a:pt x="5097834" y="399237"/>
                </a:lnTo>
                <a:lnTo>
                  <a:pt x="5097834" y="510062"/>
                </a:lnTo>
                <a:lnTo>
                  <a:pt x="4987004" y="510062"/>
                </a:lnTo>
                <a:close/>
                <a:moveTo>
                  <a:pt x="6037802" y="399237"/>
                </a:moveTo>
                <a:lnTo>
                  <a:pt x="6148626" y="399237"/>
                </a:lnTo>
                <a:lnTo>
                  <a:pt x="6148626" y="510062"/>
                </a:lnTo>
                <a:lnTo>
                  <a:pt x="6037802" y="510062"/>
                </a:lnTo>
                <a:close/>
                <a:moveTo>
                  <a:pt x="7088609" y="399237"/>
                </a:moveTo>
                <a:lnTo>
                  <a:pt x="7199434" y="399237"/>
                </a:lnTo>
                <a:lnTo>
                  <a:pt x="7199434" y="510061"/>
                </a:lnTo>
                <a:lnTo>
                  <a:pt x="7088609" y="510061"/>
                </a:lnTo>
                <a:close/>
                <a:moveTo>
                  <a:pt x="8139417" y="399237"/>
                </a:moveTo>
                <a:lnTo>
                  <a:pt x="8250242" y="399237"/>
                </a:lnTo>
                <a:lnTo>
                  <a:pt x="8250242" y="510061"/>
                </a:lnTo>
                <a:lnTo>
                  <a:pt x="8139417" y="510061"/>
                </a:lnTo>
                <a:close/>
                <a:moveTo>
                  <a:pt x="9190225" y="399236"/>
                </a:moveTo>
                <a:lnTo>
                  <a:pt x="9301050" y="399236"/>
                </a:lnTo>
                <a:lnTo>
                  <a:pt x="9301050" y="510061"/>
                </a:lnTo>
                <a:lnTo>
                  <a:pt x="9190225" y="510061"/>
                </a:lnTo>
                <a:close/>
                <a:moveTo>
                  <a:pt x="10241033" y="399236"/>
                </a:moveTo>
                <a:lnTo>
                  <a:pt x="10351858" y="399236"/>
                </a:lnTo>
                <a:lnTo>
                  <a:pt x="10351858" y="510061"/>
                </a:lnTo>
                <a:lnTo>
                  <a:pt x="10241033" y="510061"/>
                </a:lnTo>
                <a:close/>
                <a:moveTo>
                  <a:pt x="11291841" y="399236"/>
                </a:moveTo>
                <a:lnTo>
                  <a:pt x="11402666" y="399236"/>
                </a:lnTo>
                <a:lnTo>
                  <a:pt x="11402666" y="510061"/>
                </a:lnTo>
                <a:lnTo>
                  <a:pt x="11291841" y="510061"/>
                </a:lnTo>
                <a:close/>
                <a:moveTo>
                  <a:pt x="6138405" y="0"/>
                </a:moveTo>
                <a:lnTo>
                  <a:pt x="6190649" y="0"/>
                </a:lnTo>
                <a:lnTo>
                  <a:pt x="6589887" y="399237"/>
                </a:lnTo>
                <a:lnTo>
                  <a:pt x="6649449" y="399237"/>
                </a:lnTo>
                <a:lnTo>
                  <a:pt x="7048684" y="2"/>
                </a:lnTo>
                <a:lnTo>
                  <a:pt x="7100928" y="2"/>
                </a:lnTo>
                <a:lnTo>
                  <a:pt x="6674030" y="426899"/>
                </a:lnTo>
                <a:lnTo>
                  <a:pt x="6674030" y="483379"/>
                </a:lnTo>
                <a:lnTo>
                  <a:pt x="7145009" y="954361"/>
                </a:lnTo>
                <a:lnTo>
                  <a:pt x="7614013" y="485355"/>
                </a:lnTo>
                <a:lnTo>
                  <a:pt x="7614013" y="424926"/>
                </a:lnTo>
                <a:lnTo>
                  <a:pt x="7189086" y="0"/>
                </a:lnTo>
                <a:lnTo>
                  <a:pt x="7241329" y="0"/>
                </a:lnTo>
                <a:lnTo>
                  <a:pt x="7640566" y="399237"/>
                </a:lnTo>
                <a:lnTo>
                  <a:pt x="7700131" y="399237"/>
                </a:lnTo>
                <a:lnTo>
                  <a:pt x="8099367" y="1"/>
                </a:lnTo>
                <a:lnTo>
                  <a:pt x="8151611" y="1"/>
                </a:lnTo>
                <a:lnTo>
                  <a:pt x="7724838" y="426774"/>
                </a:lnTo>
                <a:lnTo>
                  <a:pt x="7724838" y="483508"/>
                </a:lnTo>
                <a:lnTo>
                  <a:pt x="8195689" y="954363"/>
                </a:lnTo>
                <a:lnTo>
                  <a:pt x="8664821" y="485229"/>
                </a:lnTo>
                <a:lnTo>
                  <a:pt x="8664821" y="425053"/>
                </a:lnTo>
                <a:lnTo>
                  <a:pt x="8239767" y="0"/>
                </a:lnTo>
                <a:lnTo>
                  <a:pt x="8292011" y="0"/>
                </a:lnTo>
                <a:lnTo>
                  <a:pt x="8691248" y="399236"/>
                </a:lnTo>
                <a:lnTo>
                  <a:pt x="8750812" y="399236"/>
                </a:lnTo>
                <a:lnTo>
                  <a:pt x="9150049" y="1"/>
                </a:lnTo>
                <a:lnTo>
                  <a:pt x="9202293" y="1"/>
                </a:lnTo>
                <a:lnTo>
                  <a:pt x="8775646" y="426647"/>
                </a:lnTo>
                <a:lnTo>
                  <a:pt x="8775646" y="483635"/>
                </a:lnTo>
                <a:lnTo>
                  <a:pt x="9246372" y="954363"/>
                </a:lnTo>
                <a:lnTo>
                  <a:pt x="9715629" y="485103"/>
                </a:lnTo>
                <a:lnTo>
                  <a:pt x="9715629" y="425175"/>
                </a:lnTo>
                <a:lnTo>
                  <a:pt x="9290453" y="0"/>
                </a:lnTo>
                <a:lnTo>
                  <a:pt x="9342696" y="0"/>
                </a:lnTo>
                <a:lnTo>
                  <a:pt x="9741934" y="399236"/>
                </a:lnTo>
                <a:lnTo>
                  <a:pt x="9801496" y="399236"/>
                </a:lnTo>
                <a:lnTo>
                  <a:pt x="10200732" y="1"/>
                </a:lnTo>
                <a:lnTo>
                  <a:pt x="10252974" y="1"/>
                </a:lnTo>
                <a:lnTo>
                  <a:pt x="9826454" y="426520"/>
                </a:lnTo>
                <a:lnTo>
                  <a:pt x="9826454" y="483756"/>
                </a:lnTo>
                <a:lnTo>
                  <a:pt x="10297055" y="954360"/>
                </a:lnTo>
                <a:lnTo>
                  <a:pt x="10766437" y="484975"/>
                </a:lnTo>
                <a:lnTo>
                  <a:pt x="10766437" y="425305"/>
                </a:lnTo>
                <a:lnTo>
                  <a:pt x="10341131" y="0"/>
                </a:lnTo>
                <a:lnTo>
                  <a:pt x="10393375" y="0"/>
                </a:lnTo>
                <a:lnTo>
                  <a:pt x="10792612" y="399236"/>
                </a:lnTo>
                <a:lnTo>
                  <a:pt x="10852176" y="399236"/>
                </a:lnTo>
                <a:lnTo>
                  <a:pt x="11251411" y="3"/>
                </a:lnTo>
                <a:lnTo>
                  <a:pt x="11303657" y="3"/>
                </a:lnTo>
                <a:lnTo>
                  <a:pt x="10877262" y="426397"/>
                </a:lnTo>
                <a:lnTo>
                  <a:pt x="10877262" y="483887"/>
                </a:lnTo>
                <a:lnTo>
                  <a:pt x="11347735" y="954362"/>
                </a:lnTo>
                <a:lnTo>
                  <a:pt x="11817249" y="484846"/>
                </a:lnTo>
                <a:lnTo>
                  <a:pt x="11817249" y="425436"/>
                </a:lnTo>
                <a:lnTo>
                  <a:pt x="11391812" y="0"/>
                </a:lnTo>
                <a:lnTo>
                  <a:pt x="11444056" y="0"/>
                </a:lnTo>
                <a:lnTo>
                  <a:pt x="11843293" y="399236"/>
                </a:lnTo>
                <a:lnTo>
                  <a:pt x="11902859" y="399236"/>
                </a:lnTo>
                <a:lnTo>
                  <a:pt x="12191973" y="110123"/>
                </a:lnTo>
                <a:lnTo>
                  <a:pt x="12191973" y="162366"/>
                </a:lnTo>
                <a:lnTo>
                  <a:pt x="11928074" y="426265"/>
                </a:lnTo>
                <a:lnTo>
                  <a:pt x="11928074" y="484017"/>
                </a:lnTo>
                <a:lnTo>
                  <a:pt x="12191974" y="747926"/>
                </a:lnTo>
                <a:lnTo>
                  <a:pt x="12191974" y="800166"/>
                </a:lnTo>
                <a:lnTo>
                  <a:pt x="11901874" y="510061"/>
                </a:lnTo>
                <a:lnTo>
                  <a:pt x="11844278" y="510061"/>
                </a:lnTo>
                <a:lnTo>
                  <a:pt x="11373857" y="980483"/>
                </a:lnTo>
                <a:lnTo>
                  <a:pt x="11840505" y="1447132"/>
                </a:lnTo>
                <a:lnTo>
                  <a:pt x="11905645" y="1447132"/>
                </a:lnTo>
                <a:lnTo>
                  <a:pt x="12191976" y="1160803"/>
                </a:lnTo>
                <a:lnTo>
                  <a:pt x="12191976" y="1213046"/>
                </a:lnTo>
                <a:lnTo>
                  <a:pt x="11928074" y="1476947"/>
                </a:lnTo>
                <a:lnTo>
                  <a:pt x="11928074" y="1534702"/>
                </a:lnTo>
                <a:lnTo>
                  <a:pt x="12191975" y="1798604"/>
                </a:lnTo>
                <a:lnTo>
                  <a:pt x="12191975" y="1850847"/>
                </a:lnTo>
                <a:lnTo>
                  <a:pt x="11899087" y="1557957"/>
                </a:lnTo>
                <a:lnTo>
                  <a:pt x="11847063" y="1557957"/>
                </a:lnTo>
                <a:lnTo>
                  <a:pt x="11373858" y="2031163"/>
                </a:lnTo>
                <a:lnTo>
                  <a:pt x="11842778" y="2500070"/>
                </a:lnTo>
                <a:lnTo>
                  <a:pt x="11903378" y="2500070"/>
                </a:lnTo>
                <a:lnTo>
                  <a:pt x="12191975" y="2211473"/>
                </a:lnTo>
                <a:lnTo>
                  <a:pt x="12191974" y="2263716"/>
                </a:lnTo>
                <a:lnTo>
                  <a:pt x="11928074" y="2527616"/>
                </a:lnTo>
                <a:lnTo>
                  <a:pt x="11928074" y="2585366"/>
                </a:lnTo>
                <a:lnTo>
                  <a:pt x="12191978" y="2849270"/>
                </a:lnTo>
                <a:lnTo>
                  <a:pt x="12191977" y="2901515"/>
                </a:lnTo>
                <a:lnTo>
                  <a:pt x="11901357" y="2610895"/>
                </a:lnTo>
                <a:lnTo>
                  <a:pt x="11844795" y="2610895"/>
                </a:lnTo>
                <a:lnTo>
                  <a:pt x="11373856" y="3081835"/>
                </a:lnTo>
                <a:lnTo>
                  <a:pt x="11843230" y="3551209"/>
                </a:lnTo>
                <a:lnTo>
                  <a:pt x="11902922" y="3551209"/>
                </a:lnTo>
                <a:lnTo>
                  <a:pt x="12191974" y="3262156"/>
                </a:lnTo>
                <a:lnTo>
                  <a:pt x="12191974" y="3314400"/>
                </a:lnTo>
                <a:lnTo>
                  <a:pt x="11928074" y="3578299"/>
                </a:lnTo>
                <a:lnTo>
                  <a:pt x="11928074" y="3636053"/>
                </a:lnTo>
                <a:lnTo>
                  <a:pt x="12191975" y="3899954"/>
                </a:lnTo>
                <a:lnTo>
                  <a:pt x="12191975" y="3952198"/>
                </a:lnTo>
                <a:lnTo>
                  <a:pt x="11901811" y="3662034"/>
                </a:lnTo>
                <a:lnTo>
                  <a:pt x="11844339" y="3662034"/>
                </a:lnTo>
                <a:lnTo>
                  <a:pt x="11373856" y="4132518"/>
                </a:lnTo>
                <a:lnTo>
                  <a:pt x="11813331" y="4571992"/>
                </a:lnTo>
                <a:lnTo>
                  <a:pt x="11761089" y="4571991"/>
                </a:lnTo>
                <a:lnTo>
                  <a:pt x="11347736" y="4158638"/>
                </a:lnTo>
                <a:lnTo>
                  <a:pt x="10934382" y="4571992"/>
                </a:lnTo>
                <a:lnTo>
                  <a:pt x="10882138" y="4571992"/>
                </a:lnTo>
                <a:lnTo>
                  <a:pt x="11321614" y="4132516"/>
                </a:lnTo>
                <a:lnTo>
                  <a:pt x="10851132" y="3662034"/>
                </a:lnTo>
                <a:lnTo>
                  <a:pt x="10793656" y="3662034"/>
                </a:lnTo>
                <a:lnTo>
                  <a:pt x="10323175" y="4132515"/>
                </a:lnTo>
                <a:lnTo>
                  <a:pt x="10762651" y="4571991"/>
                </a:lnTo>
                <a:lnTo>
                  <a:pt x="10710406" y="4571992"/>
                </a:lnTo>
                <a:lnTo>
                  <a:pt x="10297052" y="4158638"/>
                </a:lnTo>
                <a:lnTo>
                  <a:pt x="9883699" y="4571992"/>
                </a:lnTo>
                <a:lnTo>
                  <a:pt x="9831456" y="4571992"/>
                </a:lnTo>
                <a:lnTo>
                  <a:pt x="10270931" y="4132517"/>
                </a:lnTo>
                <a:lnTo>
                  <a:pt x="9800448" y="3662034"/>
                </a:lnTo>
                <a:lnTo>
                  <a:pt x="9742974" y="3662034"/>
                </a:lnTo>
                <a:lnTo>
                  <a:pt x="9272491" y="4132517"/>
                </a:lnTo>
                <a:lnTo>
                  <a:pt x="9711968" y="4571993"/>
                </a:lnTo>
                <a:lnTo>
                  <a:pt x="9659723" y="4571993"/>
                </a:lnTo>
                <a:lnTo>
                  <a:pt x="9246369" y="4158639"/>
                </a:lnTo>
                <a:lnTo>
                  <a:pt x="8833016" y="4571992"/>
                </a:lnTo>
                <a:lnTo>
                  <a:pt x="8780772" y="4571992"/>
                </a:lnTo>
                <a:lnTo>
                  <a:pt x="9220247" y="4132517"/>
                </a:lnTo>
                <a:lnTo>
                  <a:pt x="8749764" y="3662034"/>
                </a:lnTo>
                <a:lnTo>
                  <a:pt x="8692294" y="3662034"/>
                </a:lnTo>
                <a:lnTo>
                  <a:pt x="8221812" y="4132516"/>
                </a:lnTo>
                <a:lnTo>
                  <a:pt x="8661288" y="4571992"/>
                </a:lnTo>
                <a:lnTo>
                  <a:pt x="8609042" y="4571992"/>
                </a:lnTo>
                <a:lnTo>
                  <a:pt x="8195689" y="4158639"/>
                </a:lnTo>
                <a:lnTo>
                  <a:pt x="7782334" y="4571994"/>
                </a:lnTo>
                <a:lnTo>
                  <a:pt x="7730092" y="4571994"/>
                </a:lnTo>
                <a:lnTo>
                  <a:pt x="8169568" y="4132518"/>
                </a:lnTo>
                <a:lnTo>
                  <a:pt x="7699085" y="3662034"/>
                </a:lnTo>
                <a:lnTo>
                  <a:pt x="7641614" y="3662034"/>
                </a:lnTo>
                <a:lnTo>
                  <a:pt x="7171129" y="4132518"/>
                </a:lnTo>
                <a:lnTo>
                  <a:pt x="7610604" y="4571993"/>
                </a:lnTo>
                <a:lnTo>
                  <a:pt x="7558360" y="4571993"/>
                </a:lnTo>
                <a:lnTo>
                  <a:pt x="7145007" y="4158640"/>
                </a:lnTo>
                <a:lnTo>
                  <a:pt x="6731655" y="4571993"/>
                </a:lnTo>
                <a:lnTo>
                  <a:pt x="6679410" y="4571993"/>
                </a:lnTo>
                <a:lnTo>
                  <a:pt x="7118885" y="4132518"/>
                </a:lnTo>
                <a:lnTo>
                  <a:pt x="6648402" y="3662034"/>
                </a:lnTo>
                <a:lnTo>
                  <a:pt x="6590932" y="3662034"/>
                </a:lnTo>
                <a:lnTo>
                  <a:pt x="6120448" y="4132519"/>
                </a:lnTo>
                <a:lnTo>
                  <a:pt x="6559922" y="4571993"/>
                </a:lnTo>
                <a:lnTo>
                  <a:pt x="6507678" y="4571993"/>
                </a:lnTo>
                <a:lnTo>
                  <a:pt x="6094326" y="4158641"/>
                </a:lnTo>
                <a:lnTo>
                  <a:pt x="5680985" y="4571992"/>
                </a:lnTo>
                <a:lnTo>
                  <a:pt x="5628744" y="4571992"/>
                </a:lnTo>
                <a:lnTo>
                  <a:pt x="6068205" y="4132519"/>
                </a:lnTo>
                <a:lnTo>
                  <a:pt x="5597731" y="3662034"/>
                </a:lnTo>
                <a:lnTo>
                  <a:pt x="5540263" y="3662034"/>
                </a:lnTo>
                <a:lnTo>
                  <a:pt x="5069789" y="4132518"/>
                </a:lnTo>
                <a:lnTo>
                  <a:pt x="5509253" y="4571993"/>
                </a:lnTo>
                <a:lnTo>
                  <a:pt x="5457012" y="4571993"/>
                </a:lnTo>
                <a:lnTo>
                  <a:pt x="5043664" y="4158640"/>
                </a:lnTo>
                <a:lnTo>
                  <a:pt x="4630303" y="4571992"/>
                </a:lnTo>
                <a:lnTo>
                  <a:pt x="4578059" y="4571992"/>
                </a:lnTo>
                <a:lnTo>
                  <a:pt x="5017539" y="4132518"/>
                </a:lnTo>
                <a:lnTo>
                  <a:pt x="4547049" y="3662034"/>
                </a:lnTo>
                <a:lnTo>
                  <a:pt x="4489581" y="3662034"/>
                </a:lnTo>
                <a:lnTo>
                  <a:pt x="4019108" y="4132519"/>
                </a:lnTo>
                <a:lnTo>
                  <a:pt x="4458568" y="4571993"/>
                </a:lnTo>
                <a:lnTo>
                  <a:pt x="4406323" y="4571993"/>
                </a:lnTo>
                <a:lnTo>
                  <a:pt x="3992985" y="4158641"/>
                </a:lnTo>
                <a:lnTo>
                  <a:pt x="3579645" y="4571992"/>
                </a:lnTo>
                <a:lnTo>
                  <a:pt x="3527403" y="4571992"/>
                </a:lnTo>
                <a:lnTo>
                  <a:pt x="3966864" y="4132520"/>
                </a:lnTo>
                <a:lnTo>
                  <a:pt x="3496388" y="3662034"/>
                </a:lnTo>
                <a:lnTo>
                  <a:pt x="3438920" y="3662034"/>
                </a:lnTo>
                <a:lnTo>
                  <a:pt x="2968432" y="4132519"/>
                </a:lnTo>
                <a:lnTo>
                  <a:pt x="3407908" y="4571992"/>
                </a:lnTo>
                <a:lnTo>
                  <a:pt x="3355663" y="4571992"/>
                </a:lnTo>
                <a:lnTo>
                  <a:pt x="2942311" y="4158641"/>
                </a:lnTo>
                <a:lnTo>
                  <a:pt x="2528961" y="4571991"/>
                </a:lnTo>
                <a:lnTo>
                  <a:pt x="2476717" y="4571991"/>
                </a:lnTo>
                <a:lnTo>
                  <a:pt x="2916189" y="4132519"/>
                </a:lnTo>
                <a:lnTo>
                  <a:pt x="2445706" y="3662034"/>
                </a:lnTo>
                <a:lnTo>
                  <a:pt x="2388237" y="3662034"/>
                </a:lnTo>
                <a:lnTo>
                  <a:pt x="1917745" y="4132520"/>
                </a:lnTo>
                <a:lnTo>
                  <a:pt x="2357225" y="4571992"/>
                </a:lnTo>
                <a:lnTo>
                  <a:pt x="2304981" y="4571993"/>
                </a:lnTo>
                <a:lnTo>
                  <a:pt x="1891623" y="4158642"/>
                </a:lnTo>
                <a:lnTo>
                  <a:pt x="1478275" y="4571991"/>
                </a:lnTo>
                <a:lnTo>
                  <a:pt x="1426031" y="4571991"/>
                </a:lnTo>
                <a:lnTo>
                  <a:pt x="1865501" y="4132520"/>
                </a:lnTo>
                <a:lnTo>
                  <a:pt x="1395017" y="3662034"/>
                </a:lnTo>
                <a:lnTo>
                  <a:pt x="1337551" y="3662034"/>
                </a:lnTo>
                <a:lnTo>
                  <a:pt x="867066" y="4132521"/>
                </a:lnTo>
                <a:lnTo>
                  <a:pt x="1306536" y="4571992"/>
                </a:lnTo>
                <a:lnTo>
                  <a:pt x="1254292" y="4571992"/>
                </a:lnTo>
                <a:lnTo>
                  <a:pt x="840944" y="4158643"/>
                </a:lnTo>
                <a:lnTo>
                  <a:pt x="427595" y="4571993"/>
                </a:lnTo>
                <a:lnTo>
                  <a:pt x="375351" y="4571993"/>
                </a:lnTo>
                <a:lnTo>
                  <a:pt x="814822" y="4132521"/>
                </a:lnTo>
                <a:lnTo>
                  <a:pt x="344336" y="3662034"/>
                </a:lnTo>
                <a:lnTo>
                  <a:pt x="286870" y="3662034"/>
                </a:lnTo>
                <a:lnTo>
                  <a:pt x="5" y="3948900"/>
                </a:lnTo>
                <a:lnTo>
                  <a:pt x="5" y="3896656"/>
                </a:lnTo>
                <a:lnTo>
                  <a:pt x="258369" y="3638291"/>
                </a:lnTo>
                <a:lnTo>
                  <a:pt x="258369" y="3576066"/>
                </a:lnTo>
                <a:lnTo>
                  <a:pt x="1" y="3317698"/>
                </a:lnTo>
                <a:lnTo>
                  <a:pt x="1" y="3265454"/>
                </a:lnTo>
                <a:lnTo>
                  <a:pt x="285756" y="3551209"/>
                </a:lnTo>
                <a:lnTo>
                  <a:pt x="345451" y="3551209"/>
                </a:lnTo>
                <a:lnTo>
                  <a:pt x="814822" y="3081838"/>
                </a:lnTo>
                <a:lnTo>
                  <a:pt x="343880" y="2610895"/>
                </a:lnTo>
                <a:lnTo>
                  <a:pt x="287328" y="2610895"/>
                </a:lnTo>
                <a:lnTo>
                  <a:pt x="6" y="2898217"/>
                </a:lnTo>
                <a:lnTo>
                  <a:pt x="6" y="2845973"/>
                </a:lnTo>
                <a:lnTo>
                  <a:pt x="258373" y="2587605"/>
                </a:lnTo>
                <a:lnTo>
                  <a:pt x="258373" y="2525388"/>
                </a:lnTo>
                <a:lnTo>
                  <a:pt x="1" y="2267015"/>
                </a:lnTo>
                <a:lnTo>
                  <a:pt x="0" y="2214770"/>
                </a:lnTo>
                <a:lnTo>
                  <a:pt x="285299" y="2500070"/>
                </a:lnTo>
                <a:lnTo>
                  <a:pt x="345909" y="2500070"/>
                </a:lnTo>
                <a:lnTo>
                  <a:pt x="814822" y="2031167"/>
                </a:lnTo>
                <a:lnTo>
                  <a:pt x="341616" y="1557959"/>
                </a:lnTo>
                <a:lnTo>
                  <a:pt x="289593" y="1557959"/>
                </a:lnTo>
                <a:lnTo>
                  <a:pt x="4" y="1847551"/>
                </a:lnTo>
                <a:lnTo>
                  <a:pt x="4" y="1795307"/>
                </a:lnTo>
                <a:lnTo>
                  <a:pt x="258377" y="1536932"/>
                </a:lnTo>
                <a:lnTo>
                  <a:pt x="258377" y="1474721"/>
                </a:lnTo>
                <a:lnTo>
                  <a:pt x="2" y="1216345"/>
                </a:lnTo>
                <a:lnTo>
                  <a:pt x="2" y="1164102"/>
                </a:lnTo>
                <a:lnTo>
                  <a:pt x="283034" y="1447135"/>
                </a:lnTo>
                <a:lnTo>
                  <a:pt x="348175" y="1447135"/>
                </a:lnTo>
                <a:lnTo>
                  <a:pt x="814821" y="980486"/>
                </a:lnTo>
                <a:lnTo>
                  <a:pt x="344401" y="510062"/>
                </a:lnTo>
                <a:lnTo>
                  <a:pt x="286805" y="510062"/>
                </a:lnTo>
                <a:lnTo>
                  <a:pt x="5" y="796868"/>
                </a:lnTo>
                <a:lnTo>
                  <a:pt x="5" y="744628"/>
                </a:lnTo>
                <a:lnTo>
                  <a:pt x="258382" y="486242"/>
                </a:lnTo>
                <a:lnTo>
                  <a:pt x="258382" y="424043"/>
                </a:lnTo>
                <a:lnTo>
                  <a:pt x="3" y="165664"/>
                </a:lnTo>
                <a:lnTo>
                  <a:pt x="3" y="113420"/>
                </a:lnTo>
                <a:lnTo>
                  <a:pt x="285820" y="399237"/>
                </a:lnTo>
                <a:lnTo>
                  <a:pt x="345386" y="399237"/>
                </a:lnTo>
                <a:lnTo>
                  <a:pt x="744622" y="2"/>
                </a:lnTo>
                <a:lnTo>
                  <a:pt x="796865" y="2"/>
                </a:lnTo>
                <a:lnTo>
                  <a:pt x="369206" y="427661"/>
                </a:lnTo>
                <a:lnTo>
                  <a:pt x="369206" y="482624"/>
                </a:lnTo>
                <a:lnTo>
                  <a:pt x="840943" y="954364"/>
                </a:lnTo>
                <a:lnTo>
                  <a:pt x="1309187" y="486116"/>
                </a:lnTo>
                <a:lnTo>
                  <a:pt x="1309187" y="424169"/>
                </a:lnTo>
                <a:lnTo>
                  <a:pt x="885019" y="0"/>
                </a:lnTo>
                <a:lnTo>
                  <a:pt x="937262" y="0"/>
                </a:lnTo>
                <a:lnTo>
                  <a:pt x="1336499" y="399237"/>
                </a:lnTo>
                <a:lnTo>
                  <a:pt x="1396066" y="399237"/>
                </a:lnTo>
                <a:lnTo>
                  <a:pt x="1795300" y="3"/>
                </a:lnTo>
                <a:lnTo>
                  <a:pt x="1847544" y="3"/>
                </a:lnTo>
                <a:lnTo>
                  <a:pt x="1420012" y="427535"/>
                </a:lnTo>
                <a:lnTo>
                  <a:pt x="1420012" y="482750"/>
                </a:lnTo>
                <a:lnTo>
                  <a:pt x="1891623" y="954365"/>
                </a:lnTo>
                <a:lnTo>
                  <a:pt x="2360001" y="485992"/>
                </a:lnTo>
                <a:lnTo>
                  <a:pt x="2360001" y="424295"/>
                </a:lnTo>
                <a:lnTo>
                  <a:pt x="1935698" y="0"/>
                </a:lnTo>
                <a:lnTo>
                  <a:pt x="1987943" y="0"/>
                </a:lnTo>
                <a:lnTo>
                  <a:pt x="2387187" y="399237"/>
                </a:lnTo>
                <a:lnTo>
                  <a:pt x="2446755" y="399237"/>
                </a:lnTo>
                <a:lnTo>
                  <a:pt x="2845991" y="2"/>
                </a:lnTo>
                <a:lnTo>
                  <a:pt x="2898236" y="2"/>
                </a:lnTo>
                <a:lnTo>
                  <a:pt x="2470825" y="427411"/>
                </a:lnTo>
                <a:lnTo>
                  <a:pt x="2470825" y="482875"/>
                </a:lnTo>
                <a:lnTo>
                  <a:pt x="2942310" y="954365"/>
                </a:lnTo>
                <a:lnTo>
                  <a:pt x="3410809" y="485866"/>
                </a:lnTo>
                <a:lnTo>
                  <a:pt x="3410809" y="424419"/>
                </a:lnTo>
                <a:lnTo>
                  <a:pt x="2986386" y="0"/>
                </a:lnTo>
                <a:lnTo>
                  <a:pt x="3038626" y="0"/>
                </a:lnTo>
                <a:lnTo>
                  <a:pt x="3437870" y="399237"/>
                </a:lnTo>
                <a:lnTo>
                  <a:pt x="3497441" y="399237"/>
                </a:lnTo>
                <a:lnTo>
                  <a:pt x="3896667" y="2"/>
                </a:lnTo>
                <a:lnTo>
                  <a:pt x="3948913" y="2"/>
                </a:lnTo>
                <a:lnTo>
                  <a:pt x="3521637" y="427285"/>
                </a:lnTo>
                <a:lnTo>
                  <a:pt x="3521637" y="483001"/>
                </a:lnTo>
                <a:lnTo>
                  <a:pt x="3992987" y="954364"/>
                </a:lnTo>
                <a:lnTo>
                  <a:pt x="4461599" y="485738"/>
                </a:lnTo>
                <a:lnTo>
                  <a:pt x="4461599" y="424543"/>
                </a:lnTo>
                <a:lnTo>
                  <a:pt x="4037068" y="1"/>
                </a:lnTo>
                <a:lnTo>
                  <a:pt x="4089312" y="1"/>
                </a:lnTo>
                <a:lnTo>
                  <a:pt x="4488534" y="399237"/>
                </a:lnTo>
                <a:lnTo>
                  <a:pt x="4548100" y="399237"/>
                </a:lnTo>
                <a:lnTo>
                  <a:pt x="4947332" y="4"/>
                </a:lnTo>
                <a:lnTo>
                  <a:pt x="4999581" y="4"/>
                </a:lnTo>
                <a:lnTo>
                  <a:pt x="4572422" y="427156"/>
                </a:lnTo>
                <a:lnTo>
                  <a:pt x="4572422" y="483126"/>
                </a:lnTo>
                <a:lnTo>
                  <a:pt x="5043667" y="954362"/>
                </a:lnTo>
                <a:lnTo>
                  <a:pt x="5512409" y="485609"/>
                </a:lnTo>
                <a:lnTo>
                  <a:pt x="5512409" y="424674"/>
                </a:lnTo>
                <a:lnTo>
                  <a:pt x="5087742" y="1"/>
                </a:lnTo>
                <a:lnTo>
                  <a:pt x="5139977" y="1"/>
                </a:lnTo>
                <a:lnTo>
                  <a:pt x="5539215" y="399237"/>
                </a:lnTo>
                <a:lnTo>
                  <a:pt x="5598781" y="399237"/>
                </a:lnTo>
                <a:lnTo>
                  <a:pt x="5998007" y="2"/>
                </a:lnTo>
                <a:lnTo>
                  <a:pt x="6050249" y="2"/>
                </a:lnTo>
                <a:lnTo>
                  <a:pt x="5623232" y="427030"/>
                </a:lnTo>
                <a:lnTo>
                  <a:pt x="5623232" y="483255"/>
                </a:lnTo>
                <a:lnTo>
                  <a:pt x="6094326" y="954363"/>
                </a:lnTo>
                <a:lnTo>
                  <a:pt x="6563205" y="485481"/>
                </a:lnTo>
                <a:lnTo>
                  <a:pt x="6563205" y="424799"/>
                </a:lnTo>
                <a:close/>
              </a:path>
            </a:pathLst>
          </a:cu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457200" y="4960080"/>
            <a:ext cx="7772040" cy="1462680"/>
          </a:xfrm>
          <a:prstGeom prst="rect">
            <a:avLst/>
          </a:prstGeom>
          <a:noFill/>
          <a:ln w="0">
            <a:noFill/>
          </a:ln>
        </p:spPr>
        <p:txBody>
          <a:bodyPr anchor="ctr">
            <a:normAutofit/>
          </a:bodyPr>
          <a:p>
            <a:pPr indent="0" algn="r">
              <a:lnSpc>
                <a:spcPct val="80000"/>
              </a:lnSpc>
              <a:buNone/>
            </a:pPr>
            <a:r>
              <a:rPr b="0" lang="nl-NL" sz="5000" spc="199" strike="noStrike" cap="all">
                <a:solidFill>
                  <a:srgbClr val="0d0d0d"/>
                </a:solidFill>
                <a:latin typeface="Tw Cen MT Condensed"/>
              </a:rPr>
              <a:t>Klik om stijl te bewerken</a:t>
            </a:r>
            <a:endParaRPr b="0" lang="en-US" sz="5000" spc="-1" strike="noStrike">
              <a:solidFill>
                <a:srgbClr val="000000"/>
              </a:solidFill>
              <a:latin typeface="Tw Cen MT"/>
            </a:endParaRPr>
          </a:p>
        </p:txBody>
      </p:sp>
      <p:sp>
        <p:nvSpPr>
          <p:cNvPr id="4" name="PlaceHolder 2"/>
          <p:cNvSpPr>
            <a:spLocks noGrp="1"/>
          </p:cNvSpPr>
          <p:nvPr>
            <p:ph type="dt" idx="1"/>
          </p:nvPr>
        </p:nvSpPr>
        <p:spPr>
          <a:xfrm>
            <a:off x="1024200" y="6470640"/>
            <a:ext cx="2153880" cy="273960"/>
          </a:xfrm>
          <a:prstGeom prst="rect">
            <a:avLst/>
          </a:prstGeom>
          <a:noFill/>
          <a:ln w="0">
            <a:noFill/>
          </a:ln>
        </p:spPr>
        <p:txBody>
          <a:bodyPr anchor="ctr">
            <a:noAutofit/>
          </a:bodyPr>
          <a:lstStyle>
            <a:lvl1pPr indent="0">
              <a:lnSpc>
                <a:spcPct val="100000"/>
              </a:lnSpc>
              <a:buNone/>
              <a:defRPr b="0" lang="nl-NL" sz="1000" spc="-1" strike="noStrike">
                <a:solidFill>
                  <a:srgbClr val="0d0d0d"/>
                </a:solidFill>
                <a:latin typeface="Tw Cen MT Condensed"/>
              </a:defRPr>
            </a:lvl1pPr>
          </a:lstStyle>
          <a:p>
            <a:pPr indent="0">
              <a:lnSpc>
                <a:spcPct val="100000"/>
              </a:lnSpc>
              <a:buNone/>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5" name="PlaceHolder 3"/>
          <p:cNvSpPr>
            <a:spLocks noGrp="1"/>
          </p:cNvSpPr>
          <p:nvPr>
            <p:ph type="ftr" idx="2"/>
          </p:nvPr>
        </p:nvSpPr>
        <p:spPr>
          <a:xfrm>
            <a:off x="4843080" y="6470640"/>
            <a:ext cx="590112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10837440" y="6470640"/>
            <a:ext cx="973440" cy="273960"/>
          </a:xfrm>
          <a:prstGeom prst="rect">
            <a:avLst/>
          </a:prstGeom>
          <a:noFill/>
          <a:ln w="0">
            <a:noFill/>
          </a:ln>
        </p:spPr>
        <p:txBody>
          <a:bodyPr anchor="ctr">
            <a:noAutofit/>
          </a:bodyPr>
          <a:lstStyle>
            <a:lvl1pPr indent="0">
              <a:lnSpc>
                <a:spcPct val="100000"/>
              </a:lnSpc>
              <a:buNone/>
              <a:defRPr b="0" lang="nl-NL" sz="1000" spc="-1" strike="noStrike">
                <a:solidFill>
                  <a:srgbClr val="0d0d0d"/>
                </a:solidFill>
                <a:latin typeface="Tw Cen MT Condensed"/>
              </a:defRPr>
            </a:lvl1pPr>
          </a:lstStyle>
          <a:p>
            <a:pPr indent="0">
              <a:lnSpc>
                <a:spcPct val="100000"/>
              </a:lnSpc>
              <a:buNone/>
            </a:pPr>
            <a:fld id="{8E032189-4B9E-4A2F-8A74-2C4D57D6D19A}"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cxnSp>
        <p:nvCxnSpPr>
          <p:cNvPr id="7" name="Straight Connector 7"/>
          <p:cNvCxnSpPr/>
          <p:nvPr/>
        </p:nvCxnSpPr>
        <p:spPr>
          <a:xfrm flipV="1">
            <a:off x="8386560" y="5263920"/>
            <a:ext cx="360" cy="914760"/>
          </a:xfrm>
          <a:prstGeom prst="straightConnector1">
            <a:avLst/>
          </a:prstGeom>
          <a:ln w="19050">
            <a:solidFill>
              <a:srgbClr val="c66951"/>
            </a:solidFill>
            <a:round/>
          </a:ln>
        </p:spPr>
      </p:cxnSp>
      <p:sp>
        <p:nvSpPr>
          <p:cNvPr id="8"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200" spc="-1" strike="noStrike">
                <a:solidFill>
                  <a:srgbClr val="000000"/>
                </a:solidFill>
                <a:latin typeface="Tw Cen MT"/>
              </a:rPr>
              <a:t>Click to edit the outline text format</a:t>
            </a:r>
            <a:endParaRPr b="0" lang="en-US" sz="2200" spc="-1" strike="noStrike">
              <a:solidFill>
                <a:srgbClr val="000000"/>
              </a:solidFill>
              <a:latin typeface="Tw Cen MT"/>
            </a:endParaRPr>
          </a:p>
          <a:p>
            <a:pPr lvl="1" marL="864000" indent="-324000">
              <a:lnSpc>
                <a:spcPct val="90000"/>
              </a:lnSpc>
              <a:spcBef>
                <a:spcPts val="1134"/>
              </a:spcBef>
              <a:buClr>
                <a:srgbClr val="000000"/>
              </a:buClr>
              <a:buSzPct val="75000"/>
              <a:buFont typeface="Symbol" charset="2"/>
              <a:buChar char=""/>
            </a:pPr>
            <a:r>
              <a:rPr b="0" lang="en-US" sz="1400" spc="-1" strike="noStrike">
                <a:solidFill>
                  <a:srgbClr val="000000"/>
                </a:solidFill>
                <a:latin typeface="Tw Cen MT"/>
              </a:rPr>
              <a:t>Second Outline Level</a:t>
            </a:r>
            <a:endParaRPr b="0" lang="en-US" sz="1400" spc="-1" strike="noStrike">
              <a:solidFill>
                <a:srgbClr val="000000"/>
              </a:solidFill>
              <a:latin typeface="Tw Cen MT"/>
            </a:endParaRPr>
          </a:p>
          <a:p>
            <a:pPr lvl="2" marL="1296000" indent="-288000">
              <a:lnSpc>
                <a:spcPct val="90000"/>
              </a:lnSpc>
              <a:spcBef>
                <a:spcPts val="850"/>
              </a:spcBef>
              <a:buClr>
                <a:srgbClr val="000000"/>
              </a:buClr>
              <a:buSzPct val="45000"/>
              <a:buFont typeface="Wingdings" charset="2"/>
              <a:buChar char=""/>
            </a:pPr>
            <a:r>
              <a:rPr b="0" lang="en-US" sz="1400" spc="-1" strike="noStrike">
                <a:solidFill>
                  <a:srgbClr val="000000"/>
                </a:solidFill>
                <a:latin typeface="Tw Cen MT"/>
              </a:rPr>
              <a:t>Third Outline Level</a:t>
            </a:r>
            <a:endParaRPr b="0" lang="en-US" sz="1400" spc="-1" strike="noStrike">
              <a:solidFill>
                <a:srgbClr val="000000"/>
              </a:solidFill>
              <a:latin typeface="Tw Cen MT"/>
            </a:endParaRPr>
          </a:p>
          <a:p>
            <a:pPr lvl="3" marL="1728000" indent="-216000">
              <a:lnSpc>
                <a:spcPct val="90000"/>
              </a:lnSpc>
              <a:spcBef>
                <a:spcPts val="567"/>
              </a:spcBef>
              <a:buClr>
                <a:srgbClr val="000000"/>
              </a:buClr>
              <a:buSzPct val="75000"/>
              <a:buFont typeface="Symbol" charset="2"/>
              <a:buChar char=""/>
            </a:pPr>
            <a:r>
              <a:rPr b="0" lang="en-US" sz="1400" spc="-1" strike="noStrike">
                <a:solidFill>
                  <a:srgbClr val="000000"/>
                </a:solidFill>
                <a:latin typeface="Tw Cen MT"/>
              </a:rPr>
              <a:t>Fourth Outline Level</a:t>
            </a:r>
            <a:endParaRPr b="0" lang="en-US" sz="1400" spc="-1" strike="noStrike">
              <a:solidFill>
                <a:srgbClr val="000000"/>
              </a:solidFill>
              <a:latin typeface="Tw Cen MT"/>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45" name="Straight Connector 6"/>
          <p:cNvCxnSpPr/>
          <p:nvPr/>
        </p:nvCxnSpPr>
        <p:spPr>
          <a:xfrm flipV="1">
            <a:off x="761760" y="826200"/>
            <a:ext cx="360" cy="914760"/>
          </a:xfrm>
          <a:prstGeom prst="straightConnector1">
            <a:avLst/>
          </a:prstGeom>
          <a:ln w="19050">
            <a:solidFill>
              <a:srgbClr val="c66951"/>
            </a:solidFill>
            <a:round/>
          </a:ln>
        </p:spPr>
      </p:cxnSp>
      <p:sp>
        <p:nvSpPr>
          <p:cNvPr id="46"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Klik om stijl te bewerken</a:t>
            </a:r>
            <a:endParaRPr b="0" lang="en-US" sz="5000" spc="-1" strike="noStrike">
              <a:solidFill>
                <a:srgbClr val="000000"/>
              </a:solidFill>
              <a:latin typeface="Tw Cen MT"/>
            </a:endParaRPr>
          </a:p>
        </p:txBody>
      </p:sp>
      <p:sp>
        <p:nvSpPr>
          <p:cNvPr id="47" name="PlaceHolder 2"/>
          <p:cNvSpPr>
            <a:spLocks noGrp="1"/>
          </p:cNvSpPr>
          <p:nvPr>
            <p:ph type="body"/>
          </p:nvPr>
        </p:nvSpPr>
        <p:spPr>
          <a:xfrm>
            <a:off x="1024200" y="2286000"/>
            <a:ext cx="9719640" cy="4023000"/>
          </a:xfrm>
          <a:prstGeom prst="rect">
            <a:avLst/>
          </a:prstGeom>
          <a:noFill/>
          <a:ln w="0">
            <a:noFill/>
          </a:ln>
        </p:spPr>
        <p:txBody>
          <a:bodyPr lIns="45720" rIns="45720" anchor="t">
            <a:no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Klikken om de tekststijl van het model te bewerken</a:t>
            </a:r>
            <a:endParaRPr b="0" lang="en-US" sz="2200" spc="-1" strike="noStrike">
              <a:solidFill>
                <a:srgbClr val="000000"/>
              </a:solidFill>
              <a:latin typeface="Tw Cen MT"/>
            </a:endParaRPr>
          </a:p>
          <a:p>
            <a:pPr lvl="1" marL="265320" indent="-137160">
              <a:lnSpc>
                <a:spcPct val="90000"/>
              </a:lnSpc>
              <a:spcBef>
                <a:spcPts val="201"/>
              </a:spcBef>
              <a:spcAft>
                <a:spcPts val="400"/>
              </a:spcAft>
              <a:buClr>
                <a:srgbClr val="c66951"/>
              </a:buClr>
              <a:buFont typeface="Wingdings 3" charset="2"/>
              <a:buChar char=""/>
            </a:pPr>
            <a:r>
              <a:rPr b="0" lang="nl-NL" sz="1800" spc="-1" strike="noStrike">
                <a:solidFill>
                  <a:srgbClr val="000000"/>
                </a:solidFill>
                <a:latin typeface="Tw Cen MT"/>
              </a:rPr>
              <a:t>Tweede niveau</a:t>
            </a:r>
            <a:endParaRPr b="0" lang="en-US" sz="1800" spc="-1" strike="noStrike">
              <a:solidFill>
                <a:srgbClr val="000000"/>
              </a:solidFill>
              <a:latin typeface="Tw Cen MT"/>
            </a:endParaRPr>
          </a:p>
          <a:p>
            <a:pPr lvl="2" marL="448200" indent="-137160">
              <a:lnSpc>
                <a:spcPct val="90000"/>
              </a:lnSpc>
              <a:spcBef>
                <a:spcPts val="201"/>
              </a:spcBef>
              <a:spcAft>
                <a:spcPts val="400"/>
              </a:spcAft>
              <a:buClr>
                <a:srgbClr val="c66951"/>
              </a:buClr>
              <a:buFont typeface="Wingdings 3" charset="2"/>
              <a:buChar char=""/>
            </a:pPr>
            <a:r>
              <a:rPr b="0" lang="nl-NL" sz="1400" spc="-1" strike="noStrike">
                <a:solidFill>
                  <a:srgbClr val="000000"/>
                </a:solidFill>
                <a:latin typeface="Tw Cen MT"/>
              </a:rPr>
              <a:t>Derde niveau</a:t>
            </a:r>
            <a:endParaRPr b="0" lang="en-US" sz="1400" spc="-1" strike="noStrike">
              <a:solidFill>
                <a:srgbClr val="000000"/>
              </a:solidFill>
              <a:latin typeface="Tw Cen MT"/>
            </a:endParaRPr>
          </a:p>
          <a:p>
            <a:pPr lvl="3" marL="594360" indent="-137160">
              <a:lnSpc>
                <a:spcPct val="90000"/>
              </a:lnSpc>
              <a:spcBef>
                <a:spcPts val="201"/>
              </a:spcBef>
              <a:spcAft>
                <a:spcPts val="400"/>
              </a:spcAft>
              <a:buClr>
                <a:srgbClr val="c66951"/>
              </a:buClr>
              <a:buFont typeface="Wingdings 3" charset="2"/>
              <a:buChar char=""/>
            </a:pPr>
            <a:r>
              <a:rPr b="0" lang="nl-NL" sz="1400" spc="-1" strike="noStrike">
                <a:solidFill>
                  <a:srgbClr val="000000"/>
                </a:solidFill>
                <a:latin typeface="Tw Cen MT"/>
              </a:rPr>
              <a:t>Vierde niveau</a:t>
            </a:r>
            <a:endParaRPr b="0" lang="en-US" sz="1400" spc="-1" strike="noStrike">
              <a:solidFill>
                <a:srgbClr val="000000"/>
              </a:solidFill>
              <a:latin typeface="Tw Cen MT"/>
            </a:endParaRPr>
          </a:p>
          <a:p>
            <a:pPr lvl="4" marL="777240" indent="-137160">
              <a:lnSpc>
                <a:spcPct val="90000"/>
              </a:lnSpc>
              <a:spcBef>
                <a:spcPts val="201"/>
              </a:spcBef>
              <a:spcAft>
                <a:spcPts val="400"/>
              </a:spcAft>
              <a:buClr>
                <a:srgbClr val="c66951"/>
              </a:buClr>
              <a:buFont typeface="Wingdings 3" charset="2"/>
              <a:buChar char=""/>
            </a:pPr>
            <a:r>
              <a:rPr b="0" lang="nl-NL" sz="1400" spc="-1" strike="noStrike">
                <a:solidFill>
                  <a:srgbClr val="000000"/>
                </a:solidFill>
                <a:latin typeface="Tw Cen MT"/>
              </a:rPr>
              <a:t>Vijfde niveau</a:t>
            </a:r>
            <a:endParaRPr b="0" lang="en-US" sz="1400" spc="-1" strike="noStrike">
              <a:solidFill>
                <a:srgbClr val="000000"/>
              </a:solidFill>
              <a:latin typeface="Tw Cen MT"/>
            </a:endParaRPr>
          </a:p>
        </p:txBody>
      </p:sp>
      <p:sp>
        <p:nvSpPr>
          <p:cNvPr id="48" name="PlaceHolder 3"/>
          <p:cNvSpPr>
            <a:spLocks noGrp="1"/>
          </p:cNvSpPr>
          <p:nvPr>
            <p:ph type="dt" idx="4"/>
          </p:nvPr>
        </p:nvSpPr>
        <p:spPr>
          <a:xfrm>
            <a:off x="1024200" y="6470640"/>
            <a:ext cx="2153880" cy="273960"/>
          </a:xfrm>
          <a:prstGeom prst="rect">
            <a:avLst/>
          </a:prstGeom>
          <a:noFill/>
          <a:ln w="0">
            <a:noFill/>
          </a:ln>
        </p:spPr>
        <p:txBody>
          <a:bodyPr anchor="ctr">
            <a:noAutofit/>
          </a:bodyPr>
          <a:lstStyle>
            <a:lvl1pPr indent="0">
              <a:lnSpc>
                <a:spcPct val="100000"/>
              </a:lnSpc>
              <a:buNone/>
              <a:defRPr b="0" lang="nl-NL" sz="1000" spc="-1" strike="noStrike">
                <a:solidFill>
                  <a:srgbClr val="0d0d0d"/>
                </a:solidFill>
                <a:latin typeface="Tw Cen MT Condensed"/>
              </a:defRPr>
            </a:lvl1pPr>
          </a:lstStyle>
          <a:p>
            <a:pPr indent="0">
              <a:lnSpc>
                <a:spcPct val="100000"/>
              </a:lnSpc>
              <a:buNone/>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49" name="PlaceHolder 4"/>
          <p:cNvSpPr>
            <a:spLocks noGrp="1"/>
          </p:cNvSpPr>
          <p:nvPr>
            <p:ph type="ftr" idx="5"/>
          </p:nvPr>
        </p:nvSpPr>
        <p:spPr>
          <a:xfrm>
            <a:off x="4843080" y="6470640"/>
            <a:ext cx="590112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5"/>
          <p:cNvSpPr>
            <a:spLocks noGrp="1"/>
          </p:cNvSpPr>
          <p:nvPr>
            <p:ph type="sldNum" idx="6"/>
          </p:nvPr>
        </p:nvSpPr>
        <p:spPr>
          <a:xfrm>
            <a:off x="10837440" y="6470640"/>
            <a:ext cx="973440" cy="273960"/>
          </a:xfrm>
          <a:prstGeom prst="rect">
            <a:avLst/>
          </a:prstGeom>
          <a:noFill/>
          <a:ln w="0">
            <a:noFill/>
          </a:ln>
        </p:spPr>
        <p:txBody>
          <a:bodyPr anchor="ctr">
            <a:noAutofit/>
          </a:bodyPr>
          <a:lstStyle>
            <a:lvl1pPr indent="0">
              <a:lnSpc>
                <a:spcPct val="100000"/>
              </a:lnSpc>
              <a:buNone/>
              <a:defRPr b="0" lang="nl-NL" sz="1000" spc="-1" strike="noStrike">
                <a:solidFill>
                  <a:srgbClr val="0d0d0d"/>
                </a:solidFill>
                <a:latin typeface="Tw Cen MT Condensed"/>
              </a:defRPr>
            </a:lvl1pPr>
          </a:lstStyle>
          <a:p>
            <a:pPr indent="0">
              <a:lnSpc>
                <a:spcPct val="100000"/>
              </a:lnSpc>
              <a:buNone/>
            </a:pPr>
            <a:fld id="{520F5FF4-0919-4A9A-8D7C-5A61D351BF8D}"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935800" y="5234040"/>
            <a:ext cx="4723920" cy="914760"/>
          </a:xfrm>
          <a:prstGeom prst="rect">
            <a:avLst/>
          </a:prstGeom>
          <a:noFill/>
          <a:ln w="0">
            <a:noFill/>
          </a:ln>
        </p:spPr>
        <p:txBody>
          <a:bodyPr anchor="ctr">
            <a:noAutofit/>
          </a:bodyPr>
          <a:p>
            <a:pPr indent="0" algn="r">
              <a:lnSpc>
                <a:spcPct val="80000"/>
              </a:lnSpc>
              <a:buNone/>
            </a:pPr>
            <a:r>
              <a:rPr b="0" lang="nl-NL" sz="5000" spc="199" strike="noStrike" cap="all">
                <a:solidFill>
                  <a:srgbClr val="0d0d0d"/>
                </a:solidFill>
                <a:latin typeface="Tw Cen MT Condensed"/>
              </a:rPr>
              <a:t>Verbandmaterialen  </a:t>
            </a:r>
            <a:endParaRPr b="0" lang="en-US" sz="5000" spc="-1" strike="noStrike">
              <a:solidFill>
                <a:srgbClr val="000000"/>
              </a:solidFill>
              <a:latin typeface="Tw Cen MT"/>
            </a:endParaRPr>
          </a:p>
        </p:txBody>
      </p:sp>
      <p:sp>
        <p:nvSpPr>
          <p:cNvPr id="94" name="PlaceHolder 2"/>
          <p:cNvSpPr>
            <a:spLocks noGrp="1"/>
          </p:cNvSpPr>
          <p:nvPr>
            <p:ph type="subTitle"/>
          </p:nvPr>
        </p:nvSpPr>
        <p:spPr>
          <a:xfrm>
            <a:off x="8610480" y="4960080"/>
            <a:ext cx="3200040" cy="1462680"/>
          </a:xfrm>
          <a:prstGeom prst="rect">
            <a:avLst/>
          </a:prstGeom>
          <a:noFill/>
          <a:ln w="0">
            <a:noFill/>
          </a:ln>
        </p:spPr>
        <p:txBody>
          <a:bodyPr anchor="ctr">
            <a:noAutofit/>
          </a:bodyPr>
          <a:p>
            <a:pPr indent="0" algn="ctr">
              <a:buNone/>
            </a:pPr>
            <a:endParaRPr b="0" lang="en-US" sz="1800" spc="-1" strike="noStrike">
              <a:solidFill>
                <a:srgbClr val="0d0d0d"/>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Gazen en kompressen </a:t>
            </a:r>
            <a:endParaRPr b="0" lang="en-US" sz="5000" spc="-1" strike="noStrike">
              <a:solidFill>
                <a:srgbClr val="000000"/>
              </a:solidFill>
              <a:latin typeface="Tw Cen MT"/>
            </a:endParaRPr>
          </a:p>
        </p:txBody>
      </p:sp>
      <p:sp>
        <p:nvSpPr>
          <p:cNvPr id="96" name="PlaceHolder 2"/>
          <p:cNvSpPr>
            <a:spLocks noGrp="1"/>
          </p:cNvSpPr>
          <p:nvPr>
            <p:ph/>
          </p:nvPr>
        </p:nvSpPr>
        <p:spPr>
          <a:xfrm>
            <a:off x="1024200" y="2286000"/>
            <a:ext cx="9719640" cy="4023000"/>
          </a:xfrm>
          <a:prstGeom prst="rect">
            <a:avLst/>
          </a:prstGeom>
          <a:noFill/>
          <a:ln w="0">
            <a:noFill/>
          </a:ln>
        </p:spPr>
        <p:txBody>
          <a:bodyPr lIns="45720" rIns="45720" anchor="t">
            <a:noAutofit/>
          </a:bodyPr>
          <a:p>
            <a:pPr indent="0">
              <a:lnSpc>
                <a:spcPct val="90000"/>
              </a:lnSpc>
              <a:spcBef>
                <a:spcPts val="1199"/>
              </a:spcBef>
              <a:spcAft>
                <a:spcPts val="201"/>
              </a:spcAft>
              <a:buNone/>
              <a:tabLst>
                <a:tab algn="l" pos="0"/>
              </a:tabLst>
            </a:pPr>
            <a:r>
              <a:rPr b="0" lang="nl-NL" sz="2200" spc="-1" strike="noStrike">
                <a:solidFill>
                  <a:srgbClr val="000000"/>
                </a:solidFill>
                <a:latin typeface="Tw Cen MT"/>
              </a:rPr>
              <a:t>Hydrofiele gazen </a:t>
            </a:r>
            <a:endParaRPr b="0" lang="en-US" sz="2200" spc="-1" strike="noStrike">
              <a:solidFill>
                <a:srgbClr val="000000"/>
              </a:solidFill>
              <a:latin typeface="Tw Cen MT"/>
            </a:endParaRPr>
          </a:p>
          <a:p>
            <a:pPr indent="0">
              <a:lnSpc>
                <a:spcPct val="90000"/>
              </a:lnSpc>
              <a:spcBef>
                <a:spcPts val="1199"/>
              </a:spcBef>
              <a:spcAft>
                <a:spcPts val="201"/>
              </a:spcAft>
              <a:buNone/>
              <a:tabLst>
                <a:tab algn="l" pos="0"/>
              </a:tabLst>
            </a:pPr>
            <a:r>
              <a:rPr b="0" lang="nl-NL" sz="2200" spc="-1" strike="noStrike">
                <a:solidFill>
                  <a:srgbClr val="000000"/>
                </a:solidFill>
                <a:latin typeface="Tw Cen MT"/>
              </a:rPr>
              <a:t>Zalfgaas</a:t>
            </a:r>
            <a:endParaRPr b="0" lang="en-US" sz="2200" spc="-1" strike="noStrike">
              <a:solidFill>
                <a:srgbClr val="000000"/>
              </a:solidFill>
              <a:latin typeface="Tw Cen MT"/>
            </a:endParaRPr>
          </a:p>
          <a:p>
            <a:pPr indent="0">
              <a:lnSpc>
                <a:spcPct val="90000"/>
              </a:lnSpc>
              <a:spcBef>
                <a:spcPts val="1199"/>
              </a:spcBef>
              <a:spcAft>
                <a:spcPts val="201"/>
              </a:spcAft>
              <a:buNone/>
              <a:tabLst>
                <a:tab algn="l" pos="0"/>
              </a:tabLst>
            </a:pPr>
            <a:r>
              <a:rPr b="0" lang="nl-NL" sz="2200" spc="-1" strike="noStrike">
                <a:solidFill>
                  <a:srgbClr val="000000"/>
                </a:solidFill>
                <a:latin typeface="Tw Cen MT"/>
              </a:rPr>
              <a:t>Metallinegaas</a:t>
            </a:r>
            <a:endParaRPr b="0" lang="en-US" sz="2200" spc="-1" strike="noStrike">
              <a:solidFill>
                <a:srgbClr val="000000"/>
              </a:solidFill>
              <a:latin typeface="Tw Cen MT"/>
            </a:endParaRPr>
          </a:p>
          <a:p>
            <a:pPr indent="0">
              <a:lnSpc>
                <a:spcPct val="90000"/>
              </a:lnSpc>
              <a:spcBef>
                <a:spcPts val="1199"/>
              </a:spcBef>
              <a:spcAft>
                <a:spcPts val="201"/>
              </a:spcAft>
              <a:buNone/>
              <a:tabLst>
                <a:tab algn="l" pos="0"/>
              </a:tabLst>
            </a:pPr>
            <a:r>
              <a:rPr b="0" lang="nl-NL" sz="2200" spc="-1" strike="noStrike">
                <a:solidFill>
                  <a:srgbClr val="000000"/>
                </a:solidFill>
                <a:latin typeface="Tw Cen MT"/>
              </a:rPr>
              <a:t>Siliconen wondverband</a:t>
            </a:r>
            <a:endParaRPr b="0" lang="en-US" sz="2200" spc="-1" strike="noStrike">
              <a:solidFill>
                <a:srgbClr val="000000"/>
              </a:solidFill>
              <a:latin typeface="Tw Cen MT"/>
            </a:endParaRPr>
          </a:p>
        </p:txBody>
      </p:sp>
      <p:pic>
        <p:nvPicPr>
          <p:cNvPr id="97" name="Afbeelding 3" descr=""/>
          <p:cNvPicPr/>
          <p:nvPr/>
        </p:nvPicPr>
        <p:blipFill>
          <a:blip r:embed="rId1"/>
          <a:stretch/>
        </p:blipFill>
        <p:spPr>
          <a:xfrm>
            <a:off x="1356120" y="4254120"/>
            <a:ext cx="2216160" cy="2199600"/>
          </a:xfrm>
          <a:prstGeom prst="rect">
            <a:avLst/>
          </a:prstGeom>
          <a:ln w="0">
            <a:noFill/>
          </a:ln>
        </p:spPr>
      </p:pic>
      <p:pic>
        <p:nvPicPr>
          <p:cNvPr id="98" name="Afbeelding 4" descr=""/>
          <p:cNvPicPr/>
          <p:nvPr/>
        </p:nvPicPr>
        <p:blipFill>
          <a:blip r:embed="rId2"/>
          <a:stretch/>
        </p:blipFill>
        <p:spPr>
          <a:xfrm>
            <a:off x="4449240" y="4245840"/>
            <a:ext cx="3302640" cy="2201760"/>
          </a:xfrm>
          <a:prstGeom prst="rect">
            <a:avLst/>
          </a:prstGeom>
          <a:ln w="0">
            <a:noFill/>
          </a:ln>
        </p:spPr>
      </p:pic>
      <p:pic>
        <p:nvPicPr>
          <p:cNvPr id="99" name="Afbeelding 5" descr=""/>
          <p:cNvPicPr/>
          <p:nvPr/>
        </p:nvPicPr>
        <p:blipFill>
          <a:blip r:embed="rId3"/>
          <a:stretch/>
        </p:blipFill>
        <p:spPr>
          <a:xfrm>
            <a:off x="8450640" y="4249440"/>
            <a:ext cx="2651760" cy="219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Watten </a:t>
            </a:r>
            <a:endParaRPr b="0" lang="en-US" sz="5000" spc="-1" strike="noStrike">
              <a:solidFill>
                <a:srgbClr val="000000"/>
              </a:solidFill>
              <a:latin typeface="Tw Cen MT"/>
            </a:endParaRPr>
          </a:p>
        </p:txBody>
      </p:sp>
      <p:sp>
        <p:nvSpPr>
          <p:cNvPr id="101" name="PlaceHolder 2"/>
          <p:cNvSpPr>
            <a:spLocks noGrp="1"/>
          </p:cNvSpPr>
          <p:nvPr>
            <p:ph/>
          </p:nvPr>
        </p:nvSpPr>
        <p:spPr>
          <a:xfrm>
            <a:off x="1024200" y="2286000"/>
            <a:ext cx="9719640" cy="4023000"/>
          </a:xfrm>
          <a:prstGeom prst="rect">
            <a:avLst/>
          </a:prstGeom>
          <a:noFill/>
          <a:ln w="0">
            <a:noFill/>
          </a:ln>
        </p:spPr>
        <p:txBody>
          <a:bodyPr lIns="45720" rIns="45720" anchor="t">
            <a:no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Witte watten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Vette watten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Synthetische watten</a:t>
            </a:r>
            <a:endParaRPr b="0" lang="en-US" sz="2200" spc="-1" strike="noStrike">
              <a:solidFill>
                <a:srgbClr val="000000"/>
              </a:solidFill>
              <a:latin typeface="Tw Cen MT"/>
            </a:endParaRPr>
          </a:p>
          <a:p>
            <a:pPr indent="0">
              <a:lnSpc>
                <a:spcPct val="90000"/>
              </a:lnSpc>
              <a:spcBef>
                <a:spcPts val="1199"/>
              </a:spcBef>
              <a:spcAft>
                <a:spcPts val="201"/>
              </a:spcAft>
              <a:buNone/>
            </a:pP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Doel: vocht opnemen of druk verdelen  </a:t>
            </a:r>
            <a:endParaRPr b="0" lang="en-US" sz="2200" spc="-1" strike="noStrike">
              <a:solidFill>
                <a:srgbClr val="000000"/>
              </a:solidFill>
              <a:latin typeface="Tw Cen MT"/>
            </a:endParaRPr>
          </a:p>
        </p:txBody>
      </p:sp>
      <p:pic>
        <p:nvPicPr>
          <p:cNvPr id="102" name="Afbeelding 3" descr=""/>
          <p:cNvPicPr/>
          <p:nvPr/>
        </p:nvPicPr>
        <p:blipFill>
          <a:blip r:embed="rId1"/>
          <a:stretch/>
        </p:blipFill>
        <p:spPr>
          <a:xfrm>
            <a:off x="6900480" y="2499840"/>
            <a:ext cx="4374360" cy="342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Zwachtels </a:t>
            </a:r>
            <a:endParaRPr b="0" lang="en-US" sz="5000" spc="-1" strike="noStrike">
              <a:solidFill>
                <a:srgbClr val="000000"/>
              </a:solidFill>
              <a:latin typeface="Tw Cen MT"/>
            </a:endParaRPr>
          </a:p>
        </p:txBody>
      </p:sp>
      <p:sp>
        <p:nvSpPr>
          <p:cNvPr id="104" name="PlaceHolder 2"/>
          <p:cNvSpPr>
            <a:spLocks noGrp="1"/>
          </p:cNvSpPr>
          <p:nvPr>
            <p:ph/>
          </p:nvPr>
        </p:nvSpPr>
        <p:spPr>
          <a:xfrm>
            <a:off x="1024200" y="2286000"/>
            <a:ext cx="9719640" cy="4023000"/>
          </a:xfrm>
          <a:prstGeom prst="rect">
            <a:avLst/>
          </a:prstGeom>
          <a:noFill/>
          <a:ln w="0">
            <a:noFill/>
          </a:ln>
        </p:spPr>
        <p:txBody>
          <a:bodyPr lIns="45720" rIns="45720" anchor="t">
            <a:no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Hydrofiele zwachtels -&gt; om wondverband te fixeren</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Elastische zwachtel -&gt; om druk uit te oefenen. </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Verbanden </a:t>
            </a:r>
            <a:endParaRPr b="0" lang="en-US" sz="5000" spc="-1" strike="noStrike">
              <a:solidFill>
                <a:srgbClr val="000000"/>
              </a:solidFill>
              <a:latin typeface="Tw Cen MT"/>
            </a:endParaRPr>
          </a:p>
        </p:txBody>
      </p:sp>
      <p:sp>
        <p:nvSpPr>
          <p:cNvPr id="106" name="PlaceHolder 2"/>
          <p:cNvSpPr>
            <a:spLocks noGrp="1"/>
          </p:cNvSpPr>
          <p:nvPr>
            <p:ph/>
          </p:nvPr>
        </p:nvSpPr>
        <p:spPr>
          <a:xfrm>
            <a:off x="1024200" y="2286000"/>
            <a:ext cx="9719640" cy="4023000"/>
          </a:xfrm>
          <a:prstGeom prst="rect">
            <a:avLst/>
          </a:prstGeom>
          <a:noFill/>
          <a:ln w="0">
            <a:noFill/>
          </a:ln>
        </p:spPr>
        <p:txBody>
          <a:bodyPr lIns="45720" rIns="45720" anchor="t">
            <a:norm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Snelverband/ dekverband</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Wonddrukverband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Drukverband</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Verband om rust en steun te geven</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Onbeweeglijk makend verband</a:t>
            </a:r>
            <a:endParaRPr b="0" lang="en-US" sz="2200" spc="-1" strike="noStrike">
              <a:solidFill>
                <a:srgbClr val="000000"/>
              </a:solidFill>
              <a:latin typeface="Tw Cen MT"/>
            </a:endParaRPr>
          </a:p>
          <a:p>
            <a:pPr indent="0">
              <a:lnSpc>
                <a:spcPct val="90000"/>
              </a:lnSpc>
              <a:spcBef>
                <a:spcPts val="1199"/>
              </a:spcBef>
              <a:spcAft>
                <a:spcPts val="201"/>
              </a:spcAft>
              <a:buNone/>
              <a:tabLst>
                <a:tab algn="l" pos="0"/>
              </a:tabLst>
            </a:pPr>
            <a:endParaRPr b="0" lang="en-US" sz="2200" spc="-1" strike="noStrike">
              <a:solidFill>
                <a:srgbClr val="000000"/>
              </a:solidFill>
              <a:latin typeface="Tw Cen MT"/>
            </a:endParaRPr>
          </a:p>
        </p:txBody>
      </p:sp>
      <p:pic>
        <p:nvPicPr>
          <p:cNvPr id="107" name="Afbeelding 4" descr=""/>
          <p:cNvPicPr/>
          <p:nvPr/>
        </p:nvPicPr>
        <p:blipFill>
          <a:blip r:embed="rId1"/>
          <a:stretch/>
        </p:blipFill>
        <p:spPr>
          <a:xfrm>
            <a:off x="2395800" y="4527000"/>
            <a:ext cx="3553920" cy="2170080"/>
          </a:xfrm>
          <a:prstGeom prst="rect">
            <a:avLst/>
          </a:prstGeom>
          <a:ln w="0">
            <a:noFill/>
          </a:ln>
        </p:spPr>
      </p:pic>
      <p:pic>
        <p:nvPicPr>
          <p:cNvPr id="108" name="Afbeelding 5" descr=""/>
          <p:cNvPicPr/>
          <p:nvPr/>
        </p:nvPicPr>
        <p:blipFill>
          <a:blip r:embed="rId2"/>
          <a:stretch/>
        </p:blipFill>
        <p:spPr>
          <a:xfrm>
            <a:off x="6135120" y="4527000"/>
            <a:ext cx="2179440" cy="217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24200" y="585360"/>
            <a:ext cx="9719640" cy="1499400"/>
          </a:xfrm>
          <a:prstGeom prst="rect">
            <a:avLst/>
          </a:prstGeom>
          <a:noFill/>
          <a:ln w="0">
            <a:noFill/>
          </a:ln>
        </p:spPr>
        <p:txBody>
          <a:bodyPr anchor="ctr">
            <a:noAutofit/>
          </a:bodyPr>
          <a:p>
            <a:pPr indent="0">
              <a:lnSpc>
                <a:spcPct val="80000"/>
              </a:lnSpc>
              <a:buNone/>
            </a:pPr>
            <a:r>
              <a:rPr b="0" lang="nl-NL" sz="5000" spc="97" strike="noStrike" cap="all">
                <a:solidFill>
                  <a:srgbClr val="0d0d0d"/>
                </a:solidFill>
                <a:latin typeface="Tw Cen MT Condensed"/>
              </a:rPr>
              <a:t>Uitgangspunten bij het verbinden </a:t>
            </a:r>
            <a:endParaRPr b="0" lang="en-US" sz="5000" spc="-1" strike="noStrike">
              <a:solidFill>
                <a:srgbClr val="000000"/>
              </a:solidFill>
              <a:latin typeface="Tw Cen MT"/>
            </a:endParaRPr>
          </a:p>
        </p:txBody>
      </p:sp>
      <p:sp>
        <p:nvSpPr>
          <p:cNvPr id="110" name="PlaceHolder 2"/>
          <p:cNvSpPr>
            <a:spLocks noGrp="1"/>
          </p:cNvSpPr>
          <p:nvPr>
            <p:ph/>
          </p:nvPr>
        </p:nvSpPr>
        <p:spPr>
          <a:xfrm>
            <a:off x="1024200" y="2286000"/>
            <a:ext cx="9719640" cy="4023000"/>
          </a:xfrm>
          <a:prstGeom prst="rect">
            <a:avLst/>
          </a:prstGeom>
          <a:noFill/>
          <a:ln w="0">
            <a:noFill/>
          </a:ln>
        </p:spPr>
        <p:txBody>
          <a:bodyPr lIns="45720" rIns="45720" anchor="t">
            <a:noAutofit/>
          </a:bodyPr>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Laat het slachtoffer zitten of liggen</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Werk zo hygiënisch mogelijk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Zorg voor zelfbescherming en trek handschoenen aan</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Observeer het slachtoffer, neem een goede positie in tijdens het verbinden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Houd het lichaamsdeel tijdens het verbinden in de juiste stand</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Kies het juiste verbandmiddel</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Kijk in de rol tijdens het zwachtelen </a:t>
            </a:r>
            <a:endParaRPr b="0" lang="en-US" sz="2200" spc="-1" strike="noStrike">
              <a:solidFill>
                <a:srgbClr val="000000"/>
              </a:solidFill>
              <a:latin typeface="Tw Cen MT"/>
            </a:endParaRPr>
          </a:p>
          <a:p>
            <a:pPr marL="91440" indent="-91440">
              <a:lnSpc>
                <a:spcPct val="90000"/>
              </a:lnSpc>
              <a:spcBef>
                <a:spcPts val="1199"/>
              </a:spcBef>
              <a:spcAft>
                <a:spcPts val="201"/>
              </a:spcAft>
              <a:buClr>
                <a:srgbClr val="c66951"/>
              </a:buClr>
              <a:buFont typeface="Tw Cen MT"/>
              <a:buChar char=" "/>
            </a:pPr>
            <a:r>
              <a:rPr b="0" lang="nl-NL" sz="2200" spc="-1" strike="noStrike">
                <a:solidFill>
                  <a:srgbClr val="000000"/>
                </a:solidFill>
                <a:latin typeface="Tw Cen MT"/>
              </a:rPr>
              <a:t>Verbind het lichaamsdeel altijd richting het hart </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Integraal">
  <a:themeElements>
    <a:clrScheme name="Integraal">
      <a:dk1>
        <a:srgbClr val="000000"/>
      </a:dk1>
      <a:lt1>
        <a:srgbClr val="ffffff"/>
      </a:lt1>
      <a:dk2>
        <a:srgbClr val="534949"/>
      </a:dk2>
      <a:lt2>
        <a:srgbClr val="ccd1b9"/>
      </a:lt2>
      <a:accent1>
        <a:srgbClr val="c66951"/>
      </a:accent1>
      <a:accent2>
        <a:srgbClr val="bf974d"/>
      </a:accent2>
      <a:accent3>
        <a:srgbClr val="928b70"/>
      </a:accent3>
      <a:accent4>
        <a:srgbClr val="87706b"/>
      </a:accent4>
      <a:accent5>
        <a:srgbClr val="94734e"/>
      </a:accent5>
      <a:accent6>
        <a:srgbClr val="6f777d"/>
      </a:accent6>
      <a:hlink>
        <a:srgbClr val="cc9900"/>
      </a:hlink>
      <a:folHlink>
        <a:srgbClr val="c0c0c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Integraal">
  <a:themeElements>
    <a:clrScheme name="Integraal">
      <a:dk1>
        <a:srgbClr val="000000"/>
      </a:dk1>
      <a:lt1>
        <a:srgbClr val="ffffff"/>
      </a:lt1>
      <a:dk2>
        <a:srgbClr val="534949"/>
      </a:dk2>
      <a:lt2>
        <a:srgbClr val="ccd1b9"/>
      </a:lt2>
      <a:accent1>
        <a:srgbClr val="c66951"/>
      </a:accent1>
      <a:accent2>
        <a:srgbClr val="bf974d"/>
      </a:accent2>
      <a:accent3>
        <a:srgbClr val="928b70"/>
      </a:accent3>
      <a:accent4>
        <a:srgbClr val="87706b"/>
      </a:accent4>
      <a:accent5>
        <a:srgbClr val="94734e"/>
      </a:accent5>
      <a:accent6>
        <a:srgbClr val="6f777d"/>
      </a:accent6>
      <a:hlink>
        <a:srgbClr val="cc9900"/>
      </a:hlink>
      <a:folHlink>
        <a:srgbClr val="c0c0c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534949"/>
      </a:dk2>
      <a:lt2>
        <a:srgbClr val="ccd1b9"/>
      </a:lt2>
      <a:accent1>
        <a:srgbClr val="c66951"/>
      </a:accent1>
      <a:accent2>
        <a:srgbClr val="bf974d"/>
      </a:accent2>
      <a:accent3>
        <a:srgbClr val="928b70"/>
      </a:accent3>
      <a:accent4>
        <a:srgbClr val="87706b"/>
      </a:accent4>
      <a:accent5>
        <a:srgbClr val="94734e"/>
      </a:accent5>
      <a:accent6>
        <a:srgbClr val="6f777d"/>
      </a:accent6>
      <a:hlink>
        <a:srgbClr val="cc9900"/>
      </a:hlink>
      <a:folHlink>
        <a:srgbClr val="c0c0c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Integral</Template>
  <TotalTime>3073</TotalTime>
  <Application>LibreOffice/7.4.7.2$Linux_X86_64 LibreOffice_project/40$Build-2</Application>
  <AppVersion>15.0000</AppVersion>
  <Words>457</Words>
  <Paragraphs>59</Paragraphs>
  <Company>Vancis B.V.</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25T18:29:22Z</dcterms:created>
  <dc:creator>Siegrid Williams - Varwijk</dc:creator>
  <dc:description/>
  <dc:language>en-US</dc:language>
  <cp:lastModifiedBy>Charlotte Verhagen</cp:lastModifiedBy>
  <dcterms:modified xsi:type="dcterms:W3CDTF">2022-02-06T15:35:54Z</dcterms:modified>
  <cp:revision>25</cp:revision>
  <dc:subject/>
  <dc:title>Verbandtechniek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5</vt:r8>
  </property>
  <property fmtid="{D5CDD505-2E9C-101B-9397-08002B2CF9AE}" pid="3" name="PresentationFormat">
    <vt:lpwstr>Breedbeeld</vt:lpwstr>
  </property>
  <property fmtid="{D5CDD505-2E9C-101B-9397-08002B2CF9AE}" pid="4" name="Slides">
    <vt:r8>6</vt:r8>
  </property>
</Properties>
</file>