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2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7" name="PlaceHolder 2"/>
          <p:cNvSpPr>
            <a:spLocks noGrp="1"/>
          </p:cNvSpPr>
          <p:nvPr>
            <p:ph type="dt" idx="1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move the slide</a:t>
            </a:r>
            <a:endParaRPr b="0" lang="en-US" sz="4400" spc="-1" strike="noStrike">
              <a:solidFill>
                <a:srgbClr val="0d0d0d"/>
              </a:solidFill>
              <a:latin typeface="Tw Cen MT Condensed"/>
            </a:endParaRPr>
          </a:p>
        </p:txBody>
      </p:sp>
      <p:sp>
        <p:nvSpPr>
          <p:cNvPr id="25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60" name="PlaceHolder 5"/>
          <p:cNvSpPr>
            <a:spLocks noGrp="1"/>
          </p:cNvSpPr>
          <p:nvPr>
            <p:ph type="ftr" idx="2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1" name="PlaceHolder 6"/>
          <p:cNvSpPr>
            <a:spLocks noGrp="1"/>
          </p:cNvSpPr>
          <p:nvPr>
            <p:ph type="sldNum" idx="21"/>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55C84-75B7-43A2-96A6-FAB80DDF9C61}"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arom is het van belang om als verzorgende/ verpleegkundige kennis te hebben van EHBO</a:t>
            </a:r>
            <a:endParaRPr b="0" lang="en-US" sz="1200" spc="-1" strike="noStrike">
              <a:solidFill>
                <a:srgbClr val="000000"/>
              </a:solidFill>
              <a:latin typeface="Times New Roman"/>
            </a:endParaRPr>
          </a:p>
        </p:txBody>
      </p:sp>
      <p:sp>
        <p:nvSpPr>
          <p:cNvPr id="279"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8701FB-05D4-48AC-B305-B88C17EB3A25}"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ranje Kruis heeft als missie om in Nederland kennis en kunde van EHBO te verspreiden. Het Oranje Kruis is een onafhankelijk certificerende organisatie op het gebied van Eerste Hu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Oranje Kruis stelt eindtermen vast, stelt lesmaterialen samen en examineert en certificeert eerstehulpverleners, Instructeurs Eerste Hulp evenals Lotusslachtoffers en Instructeur Lotusslachtoff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il je dus ooit een echt EHBO diploma behalen dan kan je terecht bij het oranje kruis. De opleiding duurt gemiddeld 3 maanden. Je vaardigheden moet je op peil houden. Een EHBO diploma is 2 jaar geldig. </a:t>
            </a:r>
            <a:endParaRPr b="0" lang="en-US" sz="1200" spc="-1" strike="noStrike">
              <a:solidFill>
                <a:srgbClr val="000000"/>
              </a:solidFill>
              <a:latin typeface="Times New Roman"/>
            </a:endParaRPr>
          </a:p>
        </p:txBody>
      </p:sp>
      <p:sp>
        <p:nvSpPr>
          <p:cNvPr id="282"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DE91AC-171E-490E-9712-DDB9E5C68A09}"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edrijfshulpverlening (BHV) is de hulp die wordt verleend bij ongewenste gebeurtenissen in een organisatie, die de veiligheid en/of gezondheid van de werknemers en andere aanwezigen bedreigen (zoals brand en ongeval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taken van bedrijfshulpverleners zijn in ieder geval:</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verlenen van eerste hulp bij ongevall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beperken en het bestrijden van brand en het beperken van de gevolgen van ongevall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n noodsituaties alarmeren en evacueren van alle werknemers en andere personen in het bedrijf of de inrich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fhankelijk van de grote van de organisatie en de soort organisatie wordt het aantal BHV-ers berekend die minimaal aanwezig moeten zijn. Je kan je voorstellen dat een zorgorganisatie waar veel mensen wonen die niet mobiel zijn er meer BHV-ers nodig zijn om deze bij b.v. brand in veiligheid te kunnen brengen. </a:t>
            </a:r>
            <a:endParaRPr b="0" lang="en-US" sz="1200" spc="-1" strike="noStrike">
              <a:solidFill>
                <a:srgbClr val="000000"/>
              </a:solidFill>
              <a:latin typeface="Times New Roman"/>
            </a:endParaRPr>
          </a:p>
        </p:txBody>
      </p:sp>
      <p:sp>
        <p:nvSpPr>
          <p:cNvPr id="285"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636583-8CA7-450B-95B5-4F62F5F4BF1E}"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et op gevaar. Zorg ervoor dat je zelf, omstanders en het slachtoffer geen gevaar lopen</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a na wat er gebeurd is en daarna wat iemand mankeert. Vraag aan het slachtoffer of de omstanders wat er is gebeurd of kijk wat er is op te maken uit de situatie ter plaatse</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Stel het slachtoffer gerust en zorg voor beschutting. Een slachtoffer is vaak geschrokken en heeft iemand nodig die hem opvangt en geruststelt; wees rustig en zorgzaam maar ook kordaat. Zorg voor beschutting tegen kou of hitte</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Zorg voor professionele hulp. Laat een omstander het alarmnummer bellen en laat onderstaande punten doorgeven. Vraag de beller daarna terug te komen, zodat u zeker weet dat er is gebeld. De volgende informatie is voor de hulpdiensten van belang:</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elke hulpdienst nodig is (ambulance)</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laats waarheen de hulp moet komen</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t er gebeurd is</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antal slachtoffers</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vermoedelijke leeftijd</a:t>
            </a:r>
            <a:endParaRPr b="0" lang="en-US" sz="1200" spc="-1" strike="noStrike">
              <a:solidFill>
                <a:srgbClr val="000000"/>
              </a:solidFill>
              <a:latin typeface="Times New Roman"/>
            </a:endParaRPr>
          </a:p>
          <a:p>
            <a:pPr lvl="1" marL="6285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t het slachtoffer mankeert. Vermeld ook expliciet of er een reanimatie plaatsvindt</a:t>
            </a:r>
            <a:endParaRPr b="0" lang="en-US" sz="1200" spc="-1" strike="noStrike">
              <a:solidFill>
                <a:srgbClr val="000000"/>
              </a:solidFill>
              <a:latin typeface="Times New Roman"/>
            </a:endParaRPr>
          </a:p>
          <a:p>
            <a:pPr marL="171360" indent="-1713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lp het slachtoffer op de plaats waar deze is aangetroffen. Door een slachtoffer onnodig te verplaatsen, kan zijn toestand verslechteren. Verplaats een slachtoffer alleen, indien er sprake is van acuut gevaar.</a:t>
            </a:r>
            <a:endParaRPr b="0" lang="en-US" sz="1200" spc="-1" strike="noStrike">
              <a:solidFill>
                <a:srgbClr val="000000"/>
              </a:solidFill>
              <a:latin typeface="Times New Roman"/>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133691-3010-4A67-9910-BB38C394BC79}" type="slidenum">
              <a:rPr b="0" lang="nl-NL" sz="1200" spc="-1" strike="noStrike">
                <a:solidFill>
                  <a:srgbClr val="000000"/>
                </a:solidFill>
                <a:latin typeface="Times New Roman"/>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E73A5-C695-4EE4-B9CD-BAAD7C004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8"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78EFD-AE48-4F98-AD75-C93891E61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1"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DFCFE-2D72-4776-AF1C-5971B7BCF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6"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9FDF5-50F1-47D7-84CC-A49BF6C88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C11E87-53F3-461E-B6BF-374EEA7FB5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1"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9F27E-BAB2-4F39-95CE-A6DE76BEE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3"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C6C26-79E6-49E3-85C2-DF9A2E11D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5"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AFAD7-6302-4C4A-B729-47ED54729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45958-F8E5-4DF1-9DA4-B14B0B493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39A76-03A5-454F-958C-1B648FDA2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4B6D0-E6A4-48DB-8116-820411B2C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17A98-FC76-4836-958C-91CFE3FFE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3B15D-AA5E-47E2-A584-847649075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8"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1D325-AF1A-4DF3-8BFC-2B435BD1E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2"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7C073-8B78-4DA5-A005-2B36522E9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8"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5BF019-0F93-41D7-9387-1048939429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80"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5"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B7069E-C670-4E83-A755-0756FA028D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112664-6CEC-4B0B-9439-EF809929CF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5"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6C510E-7F0F-48F5-9A2B-F61682AB13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7"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EE3BBA-3EE4-48AA-BCF3-4D48DE6637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FDAEE1-C45D-40CF-A598-CD7AB58E81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5E8779-A767-482A-8C67-62EFE7FDD1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8B535-F886-4DE5-A075-2B27101B2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AA5A53-E48B-42D2-920C-6324DEB963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88BF51-93CC-4A14-AFD2-2F8B3D1791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8"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0"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3F20B4-01C1-40F4-8DC0-7A10426AD9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4"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009A3A-F0F9-43D5-9A07-15C2B7280F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6"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7"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498A78-6A8C-4CDA-B79A-9ADB813E3F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2"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21B83E-FCDF-4C99-9DE6-FB16DC4479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24"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8"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9"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4B6031-F980-49E2-8184-E563402492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46461C-F481-4139-8C1B-2B10A3E7D7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6"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31B8F5-12B1-41E8-B73A-5CEFA653B2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8"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9C6233-9E0E-494A-BBA6-A5EEC84F9B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628C2-5E49-4979-85DE-61312EA7C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232C84-7B2D-40DE-9B8A-724031618E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7015CA-BB41-4BE8-BBC8-11EDE684F8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B78572-11D4-4101-AFB0-8F90E662F6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F99A08-973A-4AC9-BD8E-D73B759396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D26934-6F7C-45CF-BB2D-354BCEA919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3"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3387A2-5A66-422C-B723-589AA2E8C6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7"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76C4C2-09DF-490A-9503-B31D79C358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92A49C-051D-4B69-BF03-3D4AC041AD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5"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9D38CC-83D2-4F57-9A81-2CAD4A5AC8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B19E08-F4BC-42D4-B8EF-22CD339FDD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425FC-D7CF-4E00-9464-ED2F44F1A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78"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2F1F67-1C39-445E-A9ED-0F1A172D8A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0"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35F892-6DC4-4479-AFDD-6C95771698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2"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3"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497BC9-65AF-4CEE-BC71-B2D42D61EC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0AF96F-5B96-41C9-A712-C92C3AEEAD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064623-E2D6-441D-83AC-DBA6DD8478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8"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F9DD02-6C7B-43BC-9964-B8C52D5144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C1B560-DC67-4CCD-9AAA-1DE944FB76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E90A78-7F48-4394-BC1D-8653B602BF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9"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0"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3A9891-3EDC-4DDE-932A-32E4A111F1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B5876E-B9DA-48C0-BDF6-C0C44BF92E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74F36-9DDE-4039-B894-7C822B1BA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7"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8"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6F41CC-B1FF-4C2A-880D-BCA50E21B1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30AE5A-B756-4540-B523-93528ADAB6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0"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FCF74F-98A5-401B-A16A-F8EE96E511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2"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2CA1EE-74E6-4810-9981-2BDEA3040D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B1DA9B-3D97-4457-8504-3A99649FE1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E1CF85-13B2-406C-B995-07AAA3934D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E2FF84-3E8C-480B-A63F-88892EC001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DA7163-A548-4CD7-88D1-6F36AE1D46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3"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5"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2AD1EC-871A-4831-BF81-C8B609294C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8"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9"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9BB98B-95DB-44EF-86D8-C21F2D1995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7DD78-01C5-4646-B3A8-FFB15A6F2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1"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2"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ABC06E-002C-456B-B9B0-625A925EFA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44A44B-97BE-43E5-A968-4C27FD6BDD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9"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0"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1"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E2D977-DDBF-40D2-A7E3-AB5E46F1E9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E973B-7DC2-4D7A-B407-992911CF1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9DE3F-FD48-44A7-AC42-4B3E5CC06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 name="PlaceHolder 3"/>
          <p:cNvSpPr>
            <a:spLocks noGrp="1"/>
          </p:cNvSpPr>
          <p:nvPr>
            <p:ph type="dt" idx="1"/>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 name="PlaceHolder 4"/>
          <p:cNvSpPr>
            <a:spLocks noGrp="1"/>
          </p:cNvSpPr>
          <p:nvPr>
            <p:ph type="ftr" idx="2"/>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F2CC72-3979-4430-A3D2-FAAED7479B63}"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
        <p:nvSpPr>
          <p:cNvPr id="5" name="Straight Connector 6"/>
          <p:cNvSpPr/>
          <p:nvPr/>
        </p:nvSpPr>
        <p:spPr>
          <a:xfrm flipV="1">
            <a:off x="571680" y="82692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0"/>
            <a:ext cx="9144000" cy="4572000"/>
          </a:xfrm>
          <a:prstGeom prst="rect">
            <a:avLst/>
          </a:prstGeom>
          <a:solidFill>
            <a:srgbClr val="9e49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46"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 name="PlaceHolder 3"/>
          <p:cNvSpPr>
            <a:spLocks noGrp="1"/>
          </p:cNvSpPr>
          <p:nvPr>
            <p:ph type="dt" idx="4"/>
          </p:nvPr>
        </p:nvSpPr>
        <p:spPr>
          <a:xfrm>
            <a:off x="767880" y="6470280"/>
            <a:ext cx="161604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53345B-E645-4B5D-A6DC-9F7CE2D57BD0}" type="datetime">
              <a:rPr b="0" lang="nl-NL" sz="1000" spc="-1" strike="noStrike">
                <a:solidFill>
                  <a:srgbClr val="0d0d0d"/>
                </a:solidFill>
                <a:latin typeface="Tw Cen MT Condensed"/>
              </a:rPr>
              <a:t>28-07-26</a:t>
            </a:fld>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631680" y="6470280"/>
            <a:ext cx="442620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d0d0d"/>
                </a:solidFill>
                <a:latin typeface="Tw Cen MT Condensed"/>
              </a:rPr>
              <a:t>VUL HIER EEN TEKST IN</a:t>
            </a:r>
            <a:endParaRPr b="0" lang="en-US" sz="1000" spc="-1" strike="noStrike">
              <a:solidFill>
                <a:srgbClr val="000000"/>
              </a:solidFill>
              <a:latin typeface="Times New Roman"/>
            </a:endParaRPr>
          </a:p>
        </p:txBody>
      </p:sp>
      <p:sp>
        <p:nvSpPr>
          <p:cNvPr id="49" name="PlaceHolder 5"/>
          <p:cNvSpPr>
            <a:spLocks noGrp="1"/>
          </p:cNvSpPr>
          <p:nvPr>
            <p:ph type="sldNum" idx="6"/>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5B1BD1-3493-439F-AC4A-E29D0896758E}" type="slidenum">
              <a:rPr b="0" lang="nl-NL"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traight Connector 7"/>
          <p:cNvSpPr/>
          <p:nvPr/>
        </p:nvSpPr>
        <p:spPr>
          <a:xfrm flipV="1">
            <a:off x="6289560" y="5264280"/>
            <a:ext cx="0" cy="914400"/>
          </a:xfrm>
          <a:prstGeom prst="line">
            <a:avLst/>
          </a:prstGeom>
          <a:ln w="19080">
            <a:solidFill>
              <a:srgbClr val="928b7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Rectangle 8"/>
          <p:cNvSpPr/>
          <p:nvPr/>
        </p:nvSpPr>
        <p:spPr>
          <a:xfrm>
            <a:off x="0" y="0"/>
            <a:ext cx="9144000" cy="4572000"/>
          </a:xfrm>
          <a:prstGeom prst="rect">
            <a:avLst/>
          </a:prstGeom>
          <a:solidFill>
            <a:srgbClr val="6e68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Freeform 9"/>
          <p:cNvSpPr/>
          <p:nvPr/>
        </p:nvSpPr>
        <p:spPr>
          <a:xfrm>
            <a:off x="0" y="0"/>
            <a:ext cx="9144000" cy="4572000"/>
          </a:xfrm>
          <a:custGeom>
            <a:avLst/>
            <a:gdLst/>
            <a:ahLst/>
            <a:rect l="l" t="t" r="r" b="b"/>
            <a:pathLst>
              <a:path w="9143987" h="4571997">
                <a:moveTo>
                  <a:pt x="1" y="4316132"/>
                </a:moveTo>
                <a:lnTo>
                  <a:pt x="255863" y="4571994"/>
                </a:lnTo>
                <a:lnTo>
                  <a:pt x="203619" y="4571994"/>
                </a:lnTo>
                <a:lnTo>
                  <a:pt x="1" y="4368376"/>
                </a:lnTo>
                <a:lnTo>
                  <a:pt x="1" y="4316132"/>
                </a:lnTo>
                <a:close/>
                <a:moveTo>
                  <a:pt x="9143985" y="4208793"/>
                </a:moveTo>
                <a:lnTo>
                  <a:pt x="9143985" y="4261037"/>
                </a:lnTo>
                <a:lnTo>
                  <a:pt x="8833027" y="4571996"/>
                </a:lnTo>
                <a:lnTo>
                  <a:pt x="8780783" y="4571996"/>
                </a:lnTo>
                <a:lnTo>
                  <a:pt x="9143985" y="4208793"/>
                </a:lnTo>
                <a:close/>
                <a:moveTo>
                  <a:pt x="8664832" y="4076819"/>
                </a:moveTo>
                <a:lnTo>
                  <a:pt x="8775657" y="4076819"/>
                </a:lnTo>
                <a:lnTo>
                  <a:pt x="8775657" y="4187644"/>
                </a:lnTo>
                <a:lnTo>
                  <a:pt x="8664832" y="4187644"/>
                </a:lnTo>
                <a:lnTo>
                  <a:pt x="8664832" y="4076819"/>
                </a:lnTo>
                <a:close/>
                <a:moveTo>
                  <a:pt x="7614024" y="4076819"/>
                </a:moveTo>
                <a:lnTo>
                  <a:pt x="7724849" y="4076819"/>
                </a:lnTo>
                <a:lnTo>
                  <a:pt x="7724849" y="4187644"/>
                </a:lnTo>
                <a:lnTo>
                  <a:pt x="7614024" y="4187644"/>
                </a:lnTo>
                <a:lnTo>
                  <a:pt x="7614024" y="4076819"/>
                </a:lnTo>
                <a:close/>
                <a:moveTo>
                  <a:pt x="6563216" y="4076819"/>
                </a:moveTo>
                <a:lnTo>
                  <a:pt x="6674041" y="4076819"/>
                </a:lnTo>
                <a:lnTo>
                  <a:pt x="6674041" y="4187644"/>
                </a:lnTo>
                <a:lnTo>
                  <a:pt x="6563216" y="4187644"/>
                </a:lnTo>
                <a:lnTo>
                  <a:pt x="6563216" y="4076819"/>
                </a:lnTo>
                <a:close/>
                <a:moveTo>
                  <a:pt x="5512408" y="4076819"/>
                </a:moveTo>
                <a:lnTo>
                  <a:pt x="5623233" y="4076819"/>
                </a:lnTo>
                <a:lnTo>
                  <a:pt x="5623233" y="4187644"/>
                </a:lnTo>
                <a:lnTo>
                  <a:pt x="5512408" y="4187644"/>
                </a:lnTo>
                <a:lnTo>
                  <a:pt x="5512408" y="4076819"/>
                </a:lnTo>
                <a:close/>
                <a:moveTo>
                  <a:pt x="4461600" y="4076819"/>
                </a:moveTo>
                <a:lnTo>
                  <a:pt x="4572425" y="4076819"/>
                </a:lnTo>
                <a:lnTo>
                  <a:pt x="4572425" y="4187644"/>
                </a:lnTo>
                <a:lnTo>
                  <a:pt x="4461600" y="4187644"/>
                </a:lnTo>
                <a:lnTo>
                  <a:pt x="4461600" y="4076819"/>
                </a:lnTo>
                <a:close/>
                <a:moveTo>
                  <a:pt x="3410793" y="4076819"/>
                </a:moveTo>
                <a:lnTo>
                  <a:pt x="3521618" y="4076819"/>
                </a:lnTo>
                <a:lnTo>
                  <a:pt x="3521618" y="4187644"/>
                </a:lnTo>
                <a:lnTo>
                  <a:pt x="3410793" y="4187644"/>
                </a:lnTo>
                <a:lnTo>
                  <a:pt x="3410793" y="4076819"/>
                </a:lnTo>
                <a:close/>
                <a:moveTo>
                  <a:pt x="2359985" y="4076819"/>
                </a:moveTo>
                <a:lnTo>
                  <a:pt x="2470810" y="4076819"/>
                </a:lnTo>
                <a:lnTo>
                  <a:pt x="2470810" y="4187644"/>
                </a:lnTo>
                <a:lnTo>
                  <a:pt x="2359985" y="4187644"/>
                </a:lnTo>
                <a:lnTo>
                  <a:pt x="2359985" y="4076819"/>
                </a:lnTo>
                <a:close/>
                <a:moveTo>
                  <a:pt x="1309177" y="4076819"/>
                </a:moveTo>
                <a:lnTo>
                  <a:pt x="1420002" y="4076819"/>
                </a:lnTo>
                <a:lnTo>
                  <a:pt x="1420002" y="4187644"/>
                </a:lnTo>
                <a:lnTo>
                  <a:pt x="1309177" y="4187644"/>
                </a:lnTo>
                <a:lnTo>
                  <a:pt x="1309177" y="4076819"/>
                </a:lnTo>
                <a:close/>
                <a:moveTo>
                  <a:pt x="258369" y="4076819"/>
                </a:moveTo>
                <a:lnTo>
                  <a:pt x="369194" y="4076819"/>
                </a:lnTo>
                <a:lnTo>
                  <a:pt x="369194" y="4187644"/>
                </a:lnTo>
                <a:lnTo>
                  <a:pt x="258369" y="4187644"/>
                </a:lnTo>
                <a:lnTo>
                  <a:pt x="258369" y="4076819"/>
                </a:lnTo>
                <a:close/>
                <a:moveTo>
                  <a:pt x="8139428" y="3551212"/>
                </a:moveTo>
                <a:lnTo>
                  <a:pt x="8250253" y="3551212"/>
                </a:lnTo>
                <a:lnTo>
                  <a:pt x="8250253" y="3662037"/>
                </a:lnTo>
                <a:lnTo>
                  <a:pt x="8139428" y="3662037"/>
                </a:lnTo>
                <a:lnTo>
                  <a:pt x="8139428" y="3551212"/>
                </a:lnTo>
                <a:close/>
                <a:moveTo>
                  <a:pt x="7088620" y="3551212"/>
                </a:moveTo>
                <a:lnTo>
                  <a:pt x="7199445" y="3551212"/>
                </a:lnTo>
                <a:lnTo>
                  <a:pt x="7199445" y="3662037"/>
                </a:lnTo>
                <a:lnTo>
                  <a:pt x="7088620" y="3662037"/>
                </a:lnTo>
                <a:lnTo>
                  <a:pt x="7088620" y="3551212"/>
                </a:lnTo>
                <a:close/>
                <a:moveTo>
                  <a:pt x="6037812" y="3551212"/>
                </a:moveTo>
                <a:lnTo>
                  <a:pt x="6148637" y="3551212"/>
                </a:lnTo>
                <a:lnTo>
                  <a:pt x="6148637" y="3662037"/>
                </a:lnTo>
                <a:lnTo>
                  <a:pt x="6037812" y="3662037"/>
                </a:lnTo>
                <a:lnTo>
                  <a:pt x="6037812" y="3551212"/>
                </a:lnTo>
                <a:close/>
                <a:moveTo>
                  <a:pt x="4987004" y="3551212"/>
                </a:moveTo>
                <a:lnTo>
                  <a:pt x="5097829" y="3551212"/>
                </a:lnTo>
                <a:lnTo>
                  <a:pt x="5097829" y="3662037"/>
                </a:lnTo>
                <a:lnTo>
                  <a:pt x="4987004" y="3662037"/>
                </a:lnTo>
                <a:lnTo>
                  <a:pt x="4987004" y="3551212"/>
                </a:lnTo>
                <a:close/>
                <a:moveTo>
                  <a:pt x="3936204" y="3551212"/>
                </a:moveTo>
                <a:lnTo>
                  <a:pt x="4047028" y="3551212"/>
                </a:lnTo>
                <a:lnTo>
                  <a:pt x="4047028" y="3662037"/>
                </a:lnTo>
                <a:lnTo>
                  <a:pt x="3936204" y="3662037"/>
                </a:lnTo>
                <a:lnTo>
                  <a:pt x="3936204" y="3551212"/>
                </a:lnTo>
                <a:close/>
                <a:moveTo>
                  <a:pt x="2885395" y="3551212"/>
                </a:moveTo>
                <a:lnTo>
                  <a:pt x="2996220" y="3551212"/>
                </a:lnTo>
                <a:lnTo>
                  <a:pt x="2996220" y="3662037"/>
                </a:lnTo>
                <a:lnTo>
                  <a:pt x="2885395" y="3662037"/>
                </a:lnTo>
                <a:lnTo>
                  <a:pt x="2885395" y="3551212"/>
                </a:lnTo>
                <a:close/>
                <a:moveTo>
                  <a:pt x="1834587" y="3551212"/>
                </a:moveTo>
                <a:lnTo>
                  <a:pt x="1945412" y="3551212"/>
                </a:lnTo>
                <a:lnTo>
                  <a:pt x="1945412" y="3662037"/>
                </a:lnTo>
                <a:lnTo>
                  <a:pt x="1834587" y="3662037"/>
                </a:lnTo>
                <a:lnTo>
                  <a:pt x="1834587" y="3551212"/>
                </a:lnTo>
                <a:close/>
                <a:moveTo>
                  <a:pt x="783778" y="3551212"/>
                </a:moveTo>
                <a:lnTo>
                  <a:pt x="894603" y="3551212"/>
                </a:lnTo>
                <a:lnTo>
                  <a:pt x="894603" y="3662037"/>
                </a:lnTo>
                <a:lnTo>
                  <a:pt x="783778" y="3662037"/>
                </a:lnTo>
                <a:lnTo>
                  <a:pt x="783778" y="3551212"/>
                </a:lnTo>
                <a:close/>
                <a:moveTo>
                  <a:pt x="2942310" y="3107962"/>
                </a:moveTo>
                <a:lnTo>
                  <a:pt x="2470818" y="3579456"/>
                </a:lnTo>
                <a:lnTo>
                  <a:pt x="2470818" y="3634904"/>
                </a:lnTo>
                <a:lnTo>
                  <a:pt x="2942310" y="4106399"/>
                </a:lnTo>
                <a:lnTo>
                  <a:pt x="3410800" y="3637911"/>
                </a:lnTo>
                <a:lnTo>
                  <a:pt x="3410800" y="3576450"/>
                </a:lnTo>
                <a:lnTo>
                  <a:pt x="2942310" y="3107962"/>
                </a:lnTo>
                <a:close/>
                <a:moveTo>
                  <a:pt x="8195700" y="3107962"/>
                </a:moveTo>
                <a:lnTo>
                  <a:pt x="7724849" y="3578813"/>
                </a:lnTo>
                <a:lnTo>
                  <a:pt x="7724849" y="3635545"/>
                </a:lnTo>
                <a:lnTo>
                  <a:pt x="8195702" y="4106398"/>
                </a:lnTo>
                <a:lnTo>
                  <a:pt x="8664832" y="3637268"/>
                </a:lnTo>
                <a:lnTo>
                  <a:pt x="8664832" y="3577094"/>
                </a:lnTo>
                <a:lnTo>
                  <a:pt x="8195700" y="3107962"/>
                </a:lnTo>
                <a:close/>
                <a:moveTo>
                  <a:pt x="5043655" y="3107962"/>
                </a:moveTo>
                <a:lnTo>
                  <a:pt x="4572425" y="3579192"/>
                </a:lnTo>
                <a:lnTo>
                  <a:pt x="4572425" y="3635169"/>
                </a:lnTo>
                <a:lnTo>
                  <a:pt x="5043654" y="4106399"/>
                </a:lnTo>
                <a:lnTo>
                  <a:pt x="5512408" y="3637645"/>
                </a:lnTo>
                <a:lnTo>
                  <a:pt x="5512408" y="3576714"/>
                </a:lnTo>
                <a:lnTo>
                  <a:pt x="5043655" y="3107962"/>
                </a:lnTo>
                <a:close/>
                <a:moveTo>
                  <a:pt x="840943" y="3107962"/>
                </a:moveTo>
                <a:lnTo>
                  <a:pt x="369199" y="3579705"/>
                </a:lnTo>
                <a:lnTo>
                  <a:pt x="369199" y="3634656"/>
                </a:lnTo>
                <a:lnTo>
                  <a:pt x="840943" y="4106401"/>
                </a:lnTo>
                <a:lnTo>
                  <a:pt x="1309186" y="3638165"/>
                </a:lnTo>
                <a:lnTo>
                  <a:pt x="1309186" y="3576196"/>
                </a:lnTo>
                <a:lnTo>
                  <a:pt x="840943" y="3107962"/>
                </a:lnTo>
                <a:close/>
                <a:moveTo>
                  <a:pt x="3992991" y="3107961"/>
                </a:moveTo>
                <a:lnTo>
                  <a:pt x="3521625" y="3579327"/>
                </a:lnTo>
                <a:lnTo>
                  <a:pt x="3521625" y="3635034"/>
                </a:lnTo>
                <a:lnTo>
                  <a:pt x="3992992" y="4106400"/>
                </a:lnTo>
                <a:lnTo>
                  <a:pt x="4461600" y="3637773"/>
                </a:lnTo>
                <a:lnTo>
                  <a:pt x="4461600" y="3576588"/>
                </a:lnTo>
                <a:lnTo>
                  <a:pt x="3992991" y="3107961"/>
                </a:lnTo>
                <a:close/>
                <a:moveTo>
                  <a:pt x="1891629" y="3107961"/>
                </a:moveTo>
                <a:lnTo>
                  <a:pt x="1420011" y="3579585"/>
                </a:lnTo>
                <a:lnTo>
                  <a:pt x="1420011" y="3634777"/>
                </a:lnTo>
                <a:lnTo>
                  <a:pt x="1891629" y="4106400"/>
                </a:lnTo>
                <a:lnTo>
                  <a:pt x="2359993" y="3638038"/>
                </a:lnTo>
                <a:lnTo>
                  <a:pt x="2359993" y="3576322"/>
                </a:lnTo>
                <a:lnTo>
                  <a:pt x="1891629" y="3107961"/>
                </a:lnTo>
                <a:close/>
                <a:moveTo>
                  <a:pt x="6094336" y="3107961"/>
                </a:moveTo>
                <a:lnTo>
                  <a:pt x="5623233" y="3579064"/>
                </a:lnTo>
                <a:lnTo>
                  <a:pt x="5623233" y="3635295"/>
                </a:lnTo>
                <a:lnTo>
                  <a:pt x="6094336" y="4106399"/>
                </a:lnTo>
                <a:lnTo>
                  <a:pt x="6563216" y="3637520"/>
                </a:lnTo>
                <a:lnTo>
                  <a:pt x="6563216" y="3576841"/>
                </a:lnTo>
                <a:lnTo>
                  <a:pt x="6094336" y="3107961"/>
                </a:lnTo>
                <a:close/>
                <a:moveTo>
                  <a:pt x="7145019" y="3107960"/>
                </a:moveTo>
                <a:lnTo>
                  <a:pt x="6674041" y="3578938"/>
                </a:lnTo>
                <a:lnTo>
                  <a:pt x="6674041" y="3635421"/>
                </a:lnTo>
                <a:lnTo>
                  <a:pt x="7145018" y="4106399"/>
                </a:lnTo>
                <a:lnTo>
                  <a:pt x="7614024" y="3637394"/>
                </a:lnTo>
                <a:lnTo>
                  <a:pt x="7614024" y="3576965"/>
                </a:lnTo>
                <a:lnTo>
                  <a:pt x="7145019" y="3107960"/>
                </a:lnTo>
                <a:close/>
                <a:moveTo>
                  <a:pt x="8664832" y="3027337"/>
                </a:moveTo>
                <a:lnTo>
                  <a:pt x="8775657" y="3027337"/>
                </a:lnTo>
                <a:lnTo>
                  <a:pt x="8775657" y="3138162"/>
                </a:lnTo>
                <a:lnTo>
                  <a:pt x="8664832" y="3138162"/>
                </a:lnTo>
                <a:lnTo>
                  <a:pt x="8664832" y="3027337"/>
                </a:lnTo>
                <a:close/>
                <a:moveTo>
                  <a:pt x="7614024" y="3027337"/>
                </a:moveTo>
                <a:lnTo>
                  <a:pt x="7724849" y="3027337"/>
                </a:lnTo>
                <a:lnTo>
                  <a:pt x="7724849" y="3138162"/>
                </a:lnTo>
                <a:lnTo>
                  <a:pt x="7614024" y="3138162"/>
                </a:lnTo>
                <a:lnTo>
                  <a:pt x="7614024" y="3027337"/>
                </a:lnTo>
                <a:close/>
                <a:moveTo>
                  <a:pt x="6563216" y="3027337"/>
                </a:moveTo>
                <a:lnTo>
                  <a:pt x="6674041" y="3027337"/>
                </a:lnTo>
                <a:lnTo>
                  <a:pt x="6674041" y="3138162"/>
                </a:lnTo>
                <a:lnTo>
                  <a:pt x="6563216" y="3138162"/>
                </a:lnTo>
                <a:lnTo>
                  <a:pt x="6563216" y="3027337"/>
                </a:lnTo>
                <a:close/>
                <a:moveTo>
                  <a:pt x="5512408" y="3027337"/>
                </a:moveTo>
                <a:lnTo>
                  <a:pt x="5623233" y="3027337"/>
                </a:lnTo>
                <a:lnTo>
                  <a:pt x="5623233" y="3138162"/>
                </a:lnTo>
                <a:lnTo>
                  <a:pt x="5512408" y="3138162"/>
                </a:lnTo>
                <a:lnTo>
                  <a:pt x="5512408" y="3027337"/>
                </a:lnTo>
                <a:close/>
                <a:moveTo>
                  <a:pt x="4461600" y="3027337"/>
                </a:moveTo>
                <a:lnTo>
                  <a:pt x="4572425" y="3027337"/>
                </a:lnTo>
                <a:lnTo>
                  <a:pt x="4572425" y="3138162"/>
                </a:lnTo>
                <a:lnTo>
                  <a:pt x="4461600" y="3138162"/>
                </a:lnTo>
                <a:lnTo>
                  <a:pt x="4461600" y="3027337"/>
                </a:lnTo>
                <a:close/>
                <a:moveTo>
                  <a:pt x="3410798" y="3027337"/>
                </a:moveTo>
                <a:lnTo>
                  <a:pt x="3521622" y="3027337"/>
                </a:lnTo>
                <a:lnTo>
                  <a:pt x="3521622" y="3138162"/>
                </a:lnTo>
                <a:lnTo>
                  <a:pt x="3410798" y="3138162"/>
                </a:lnTo>
                <a:lnTo>
                  <a:pt x="3410798" y="3027337"/>
                </a:lnTo>
                <a:close/>
                <a:moveTo>
                  <a:pt x="2359990" y="3027337"/>
                </a:moveTo>
                <a:lnTo>
                  <a:pt x="2470815" y="3027337"/>
                </a:lnTo>
                <a:lnTo>
                  <a:pt x="2470815" y="3138162"/>
                </a:lnTo>
                <a:lnTo>
                  <a:pt x="2359990" y="3138162"/>
                </a:lnTo>
                <a:lnTo>
                  <a:pt x="2359990" y="3027337"/>
                </a:lnTo>
                <a:close/>
                <a:moveTo>
                  <a:pt x="1309183" y="3027337"/>
                </a:moveTo>
                <a:lnTo>
                  <a:pt x="1420008" y="3027337"/>
                </a:lnTo>
                <a:lnTo>
                  <a:pt x="1420008" y="3138162"/>
                </a:lnTo>
                <a:lnTo>
                  <a:pt x="1309183" y="3138162"/>
                </a:lnTo>
                <a:lnTo>
                  <a:pt x="1309183" y="3027337"/>
                </a:lnTo>
                <a:close/>
                <a:moveTo>
                  <a:pt x="258373" y="3027337"/>
                </a:moveTo>
                <a:lnTo>
                  <a:pt x="369197" y="3027337"/>
                </a:lnTo>
                <a:lnTo>
                  <a:pt x="369197" y="3138162"/>
                </a:lnTo>
                <a:lnTo>
                  <a:pt x="258373" y="3138162"/>
                </a:lnTo>
                <a:lnTo>
                  <a:pt x="258373" y="3027337"/>
                </a:lnTo>
                <a:close/>
                <a:moveTo>
                  <a:pt x="7642081" y="2610898"/>
                </a:moveTo>
                <a:lnTo>
                  <a:pt x="7171142" y="3081837"/>
                </a:lnTo>
                <a:lnTo>
                  <a:pt x="7640516" y="3551212"/>
                </a:lnTo>
                <a:lnTo>
                  <a:pt x="7700206" y="3551212"/>
                </a:lnTo>
                <a:lnTo>
                  <a:pt x="8169578" y="3081840"/>
                </a:lnTo>
                <a:lnTo>
                  <a:pt x="7698636" y="2610898"/>
                </a:lnTo>
                <a:lnTo>
                  <a:pt x="7642081" y="2610898"/>
                </a:lnTo>
                <a:close/>
                <a:moveTo>
                  <a:pt x="6591400" y="2610898"/>
                </a:moveTo>
                <a:lnTo>
                  <a:pt x="6120458" y="3081839"/>
                </a:lnTo>
                <a:lnTo>
                  <a:pt x="6589831" y="3551212"/>
                </a:lnTo>
                <a:lnTo>
                  <a:pt x="6649523" y="3551212"/>
                </a:lnTo>
                <a:lnTo>
                  <a:pt x="7118897" y="3081838"/>
                </a:lnTo>
                <a:lnTo>
                  <a:pt x="6647958" y="2610898"/>
                </a:lnTo>
                <a:lnTo>
                  <a:pt x="6591400" y="2610898"/>
                </a:lnTo>
                <a:close/>
                <a:moveTo>
                  <a:pt x="5540719" y="2610898"/>
                </a:moveTo>
                <a:lnTo>
                  <a:pt x="5069777" y="3081840"/>
                </a:lnTo>
                <a:lnTo>
                  <a:pt x="5539149" y="3551212"/>
                </a:lnTo>
                <a:lnTo>
                  <a:pt x="5598841" y="3551212"/>
                </a:lnTo>
                <a:lnTo>
                  <a:pt x="6068214" y="3081839"/>
                </a:lnTo>
                <a:lnTo>
                  <a:pt x="5597273" y="2610898"/>
                </a:lnTo>
                <a:lnTo>
                  <a:pt x="5540719" y="2610898"/>
                </a:lnTo>
                <a:close/>
                <a:moveTo>
                  <a:pt x="4490037" y="2610898"/>
                </a:moveTo>
                <a:lnTo>
                  <a:pt x="4019113" y="3081839"/>
                </a:lnTo>
                <a:lnTo>
                  <a:pt x="4488468" y="3551212"/>
                </a:lnTo>
                <a:lnTo>
                  <a:pt x="4548161" y="3551212"/>
                </a:lnTo>
                <a:lnTo>
                  <a:pt x="5017533" y="3081840"/>
                </a:lnTo>
                <a:lnTo>
                  <a:pt x="4546591" y="2610898"/>
                </a:lnTo>
                <a:lnTo>
                  <a:pt x="4490037" y="2610898"/>
                </a:lnTo>
                <a:close/>
                <a:moveTo>
                  <a:pt x="3439375" y="2610898"/>
                </a:moveTo>
                <a:lnTo>
                  <a:pt x="2968432" y="3081840"/>
                </a:lnTo>
                <a:lnTo>
                  <a:pt x="3437804" y="3551212"/>
                </a:lnTo>
                <a:lnTo>
                  <a:pt x="3497496" y="3551212"/>
                </a:lnTo>
                <a:lnTo>
                  <a:pt x="3966869" y="3081840"/>
                </a:lnTo>
                <a:lnTo>
                  <a:pt x="3495925" y="2610898"/>
                </a:lnTo>
                <a:lnTo>
                  <a:pt x="3439375" y="2610898"/>
                </a:lnTo>
                <a:close/>
                <a:moveTo>
                  <a:pt x="2388694" y="2610898"/>
                </a:moveTo>
                <a:lnTo>
                  <a:pt x="1917751" y="3081839"/>
                </a:lnTo>
                <a:lnTo>
                  <a:pt x="2387125" y="3551212"/>
                </a:lnTo>
                <a:lnTo>
                  <a:pt x="2446818" y="3551212"/>
                </a:lnTo>
                <a:lnTo>
                  <a:pt x="2916188" y="3081841"/>
                </a:lnTo>
                <a:lnTo>
                  <a:pt x="2445246" y="2610898"/>
                </a:lnTo>
                <a:lnTo>
                  <a:pt x="2388694" y="2610898"/>
                </a:lnTo>
                <a:close/>
                <a:moveTo>
                  <a:pt x="1338016" y="2610898"/>
                </a:moveTo>
                <a:lnTo>
                  <a:pt x="867065" y="3081840"/>
                </a:lnTo>
                <a:lnTo>
                  <a:pt x="1336446" y="3551212"/>
                </a:lnTo>
                <a:lnTo>
                  <a:pt x="1396142" y="3551212"/>
                </a:lnTo>
                <a:lnTo>
                  <a:pt x="1865507" y="3081839"/>
                </a:lnTo>
                <a:lnTo>
                  <a:pt x="1394572" y="2610898"/>
                </a:lnTo>
                <a:lnTo>
                  <a:pt x="1338016" y="2610898"/>
                </a:lnTo>
                <a:close/>
                <a:moveTo>
                  <a:pt x="8139428" y="2500073"/>
                </a:moveTo>
                <a:lnTo>
                  <a:pt x="8250253" y="2500073"/>
                </a:lnTo>
                <a:lnTo>
                  <a:pt x="8250253" y="2610898"/>
                </a:lnTo>
                <a:lnTo>
                  <a:pt x="8139428" y="2610898"/>
                </a:lnTo>
                <a:lnTo>
                  <a:pt x="8139428" y="2500073"/>
                </a:lnTo>
                <a:close/>
                <a:moveTo>
                  <a:pt x="7088620" y="2500073"/>
                </a:moveTo>
                <a:lnTo>
                  <a:pt x="7199445" y="2500073"/>
                </a:lnTo>
                <a:lnTo>
                  <a:pt x="7199445" y="2610898"/>
                </a:lnTo>
                <a:lnTo>
                  <a:pt x="7088620" y="2610898"/>
                </a:lnTo>
                <a:lnTo>
                  <a:pt x="7088620" y="2500073"/>
                </a:lnTo>
                <a:close/>
                <a:moveTo>
                  <a:pt x="6037812" y="2500073"/>
                </a:moveTo>
                <a:lnTo>
                  <a:pt x="6148637" y="2500073"/>
                </a:lnTo>
                <a:lnTo>
                  <a:pt x="6148637" y="2610898"/>
                </a:lnTo>
                <a:lnTo>
                  <a:pt x="6037812" y="2610898"/>
                </a:lnTo>
                <a:lnTo>
                  <a:pt x="6037812" y="2500073"/>
                </a:lnTo>
                <a:close/>
                <a:moveTo>
                  <a:pt x="4987004" y="2500073"/>
                </a:moveTo>
                <a:lnTo>
                  <a:pt x="5097829" y="2500073"/>
                </a:lnTo>
                <a:lnTo>
                  <a:pt x="5097829" y="2610898"/>
                </a:lnTo>
                <a:lnTo>
                  <a:pt x="4987004" y="2610898"/>
                </a:lnTo>
                <a:lnTo>
                  <a:pt x="4987004" y="2500073"/>
                </a:lnTo>
                <a:close/>
                <a:moveTo>
                  <a:pt x="3936207" y="2500073"/>
                </a:moveTo>
                <a:lnTo>
                  <a:pt x="4047031" y="2500073"/>
                </a:lnTo>
                <a:lnTo>
                  <a:pt x="4047031" y="2610898"/>
                </a:lnTo>
                <a:lnTo>
                  <a:pt x="3936207" y="2610898"/>
                </a:lnTo>
                <a:lnTo>
                  <a:pt x="3936207" y="2500073"/>
                </a:lnTo>
                <a:close/>
                <a:moveTo>
                  <a:pt x="2885399" y="2500073"/>
                </a:moveTo>
                <a:lnTo>
                  <a:pt x="2996223" y="2500073"/>
                </a:lnTo>
                <a:lnTo>
                  <a:pt x="2996223" y="2610898"/>
                </a:lnTo>
                <a:lnTo>
                  <a:pt x="2885399" y="2610898"/>
                </a:lnTo>
                <a:lnTo>
                  <a:pt x="2885399" y="2500073"/>
                </a:lnTo>
                <a:close/>
                <a:moveTo>
                  <a:pt x="1834589" y="2500073"/>
                </a:moveTo>
                <a:lnTo>
                  <a:pt x="1945415" y="2500073"/>
                </a:lnTo>
                <a:lnTo>
                  <a:pt x="1945415" y="2610898"/>
                </a:lnTo>
                <a:lnTo>
                  <a:pt x="1834589" y="2610898"/>
                </a:lnTo>
                <a:lnTo>
                  <a:pt x="1834589" y="2500073"/>
                </a:lnTo>
                <a:close/>
                <a:moveTo>
                  <a:pt x="783780" y="2500073"/>
                </a:moveTo>
                <a:lnTo>
                  <a:pt x="894605" y="2500073"/>
                </a:lnTo>
                <a:lnTo>
                  <a:pt x="894605" y="2610898"/>
                </a:lnTo>
                <a:lnTo>
                  <a:pt x="783780" y="2610898"/>
                </a:lnTo>
                <a:lnTo>
                  <a:pt x="783780" y="2500073"/>
                </a:lnTo>
                <a:close/>
                <a:moveTo>
                  <a:pt x="1891628" y="2057290"/>
                </a:moveTo>
                <a:lnTo>
                  <a:pt x="1420016" y="2528900"/>
                </a:lnTo>
                <a:lnTo>
                  <a:pt x="1420016" y="2584097"/>
                </a:lnTo>
                <a:lnTo>
                  <a:pt x="1891629" y="3055718"/>
                </a:lnTo>
                <a:lnTo>
                  <a:pt x="2359995" y="2587353"/>
                </a:lnTo>
                <a:lnTo>
                  <a:pt x="2359995" y="2525647"/>
                </a:lnTo>
                <a:lnTo>
                  <a:pt x="1891628" y="2057290"/>
                </a:lnTo>
                <a:close/>
                <a:moveTo>
                  <a:pt x="2942310" y="2057290"/>
                </a:moveTo>
                <a:lnTo>
                  <a:pt x="2470820" y="2528772"/>
                </a:lnTo>
                <a:lnTo>
                  <a:pt x="2470820" y="2584228"/>
                </a:lnTo>
                <a:lnTo>
                  <a:pt x="2942310" y="3055719"/>
                </a:lnTo>
                <a:lnTo>
                  <a:pt x="3410803" y="2587227"/>
                </a:lnTo>
                <a:lnTo>
                  <a:pt x="3410803" y="2525772"/>
                </a:lnTo>
                <a:lnTo>
                  <a:pt x="2942310" y="2057290"/>
                </a:lnTo>
                <a:close/>
                <a:moveTo>
                  <a:pt x="3992992" y="2057289"/>
                </a:moveTo>
                <a:lnTo>
                  <a:pt x="3521627" y="2528644"/>
                </a:lnTo>
                <a:lnTo>
                  <a:pt x="3521627" y="2584355"/>
                </a:lnTo>
                <a:lnTo>
                  <a:pt x="3992992" y="3055718"/>
                </a:lnTo>
                <a:lnTo>
                  <a:pt x="4461600" y="2587092"/>
                </a:lnTo>
                <a:lnTo>
                  <a:pt x="4461600" y="2525906"/>
                </a:lnTo>
                <a:lnTo>
                  <a:pt x="3992992" y="2057289"/>
                </a:lnTo>
                <a:close/>
                <a:moveTo>
                  <a:pt x="7145018" y="2057289"/>
                </a:moveTo>
                <a:lnTo>
                  <a:pt x="6674041" y="2528257"/>
                </a:lnTo>
                <a:lnTo>
                  <a:pt x="6674041" y="2584737"/>
                </a:lnTo>
                <a:lnTo>
                  <a:pt x="7145020" y="3055716"/>
                </a:lnTo>
                <a:lnTo>
                  <a:pt x="7614024" y="2586712"/>
                </a:lnTo>
                <a:lnTo>
                  <a:pt x="7614024" y="2526286"/>
                </a:lnTo>
                <a:lnTo>
                  <a:pt x="7145018" y="2057289"/>
                </a:lnTo>
                <a:close/>
                <a:moveTo>
                  <a:pt x="5043655" y="2057288"/>
                </a:moveTo>
                <a:lnTo>
                  <a:pt x="4572425" y="2528510"/>
                </a:lnTo>
                <a:lnTo>
                  <a:pt x="4572425" y="2584487"/>
                </a:lnTo>
                <a:lnTo>
                  <a:pt x="5043655" y="3055718"/>
                </a:lnTo>
                <a:lnTo>
                  <a:pt x="5512408" y="2586964"/>
                </a:lnTo>
                <a:lnTo>
                  <a:pt x="5512408" y="2526033"/>
                </a:lnTo>
                <a:lnTo>
                  <a:pt x="5043655" y="2057288"/>
                </a:lnTo>
                <a:close/>
                <a:moveTo>
                  <a:pt x="840943" y="2057288"/>
                </a:moveTo>
                <a:lnTo>
                  <a:pt x="369202" y="2529021"/>
                </a:lnTo>
                <a:lnTo>
                  <a:pt x="369202" y="2583976"/>
                </a:lnTo>
                <a:lnTo>
                  <a:pt x="840943" y="3055718"/>
                </a:lnTo>
                <a:lnTo>
                  <a:pt x="1309190" y="2587479"/>
                </a:lnTo>
                <a:lnTo>
                  <a:pt x="1309190" y="2525518"/>
                </a:lnTo>
                <a:lnTo>
                  <a:pt x="840943" y="2057288"/>
                </a:lnTo>
                <a:close/>
                <a:moveTo>
                  <a:pt x="8195701" y="2057287"/>
                </a:moveTo>
                <a:lnTo>
                  <a:pt x="7724849" y="2528130"/>
                </a:lnTo>
                <a:lnTo>
                  <a:pt x="7724849" y="2584867"/>
                </a:lnTo>
                <a:lnTo>
                  <a:pt x="8195700" y="3055717"/>
                </a:lnTo>
                <a:lnTo>
                  <a:pt x="8664832" y="2586585"/>
                </a:lnTo>
                <a:lnTo>
                  <a:pt x="8664832" y="2526410"/>
                </a:lnTo>
                <a:lnTo>
                  <a:pt x="8195701" y="2057287"/>
                </a:lnTo>
                <a:close/>
                <a:moveTo>
                  <a:pt x="6094339" y="2057287"/>
                </a:moveTo>
                <a:lnTo>
                  <a:pt x="5623233" y="2528385"/>
                </a:lnTo>
                <a:lnTo>
                  <a:pt x="5623233" y="2584613"/>
                </a:lnTo>
                <a:lnTo>
                  <a:pt x="6094336" y="3055717"/>
                </a:lnTo>
                <a:lnTo>
                  <a:pt x="6563216" y="2586838"/>
                </a:lnTo>
                <a:lnTo>
                  <a:pt x="6563216" y="2526156"/>
                </a:lnTo>
                <a:lnTo>
                  <a:pt x="6094339" y="2057287"/>
                </a:lnTo>
                <a:close/>
                <a:moveTo>
                  <a:pt x="1309181" y="1973451"/>
                </a:moveTo>
                <a:lnTo>
                  <a:pt x="1420005" y="1973451"/>
                </a:lnTo>
                <a:lnTo>
                  <a:pt x="1420005" y="2084276"/>
                </a:lnTo>
                <a:lnTo>
                  <a:pt x="1309181" y="2084276"/>
                </a:lnTo>
                <a:lnTo>
                  <a:pt x="1309181" y="1973451"/>
                </a:lnTo>
                <a:close/>
                <a:moveTo>
                  <a:pt x="258371" y="1973451"/>
                </a:moveTo>
                <a:lnTo>
                  <a:pt x="369196" y="1973451"/>
                </a:lnTo>
                <a:lnTo>
                  <a:pt x="369196" y="2084276"/>
                </a:lnTo>
                <a:lnTo>
                  <a:pt x="258371" y="2084276"/>
                </a:lnTo>
                <a:lnTo>
                  <a:pt x="258371" y="1973451"/>
                </a:lnTo>
                <a:close/>
                <a:moveTo>
                  <a:pt x="3410796" y="1973451"/>
                </a:moveTo>
                <a:lnTo>
                  <a:pt x="3521621" y="1973451"/>
                </a:lnTo>
                <a:lnTo>
                  <a:pt x="3521621" y="2084276"/>
                </a:lnTo>
                <a:lnTo>
                  <a:pt x="3410796" y="2084276"/>
                </a:lnTo>
                <a:lnTo>
                  <a:pt x="3410796" y="1973451"/>
                </a:lnTo>
                <a:close/>
                <a:moveTo>
                  <a:pt x="2359988" y="1973451"/>
                </a:moveTo>
                <a:lnTo>
                  <a:pt x="2470813" y="1973451"/>
                </a:lnTo>
                <a:lnTo>
                  <a:pt x="2470813" y="2084276"/>
                </a:lnTo>
                <a:lnTo>
                  <a:pt x="2359988" y="2084276"/>
                </a:lnTo>
                <a:lnTo>
                  <a:pt x="2359988" y="1973451"/>
                </a:lnTo>
                <a:close/>
                <a:moveTo>
                  <a:pt x="4461600" y="1973451"/>
                </a:moveTo>
                <a:lnTo>
                  <a:pt x="4572425" y="1973451"/>
                </a:lnTo>
                <a:lnTo>
                  <a:pt x="4572425" y="2084276"/>
                </a:lnTo>
                <a:lnTo>
                  <a:pt x="4461600" y="2084276"/>
                </a:lnTo>
                <a:lnTo>
                  <a:pt x="4461600" y="1973451"/>
                </a:lnTo>
                <a:close/>
                <a:moveTo>
                  <a:pt x="6563216" y="1973451"/>
                </a:moveTo>
                <a:lnTo>
                  <a:pt x="6674041" y="1973451"/>
                </a:lnTo>
                <a:lnTo>
                  <a:pt x="6674041" y="2084276"/>
                </a:lnTo>
                <a:lnTo>
                  <a:pt x="6563216" y="2084276"/>
                </a:lnTo>
                <a:lnTo>
                  <a:pt x="6563216" y="1973451"/>
                </a:lnTo>
                <a:close/>
                <a:moveTo>
                  <a:pt x="5512408" y="1973451"/>
                </a:moveTo>
                <a:lnTo>
                  <a:pt x="5623233" y="1973451"/>
                </a:lnTo>
                <a:lnTo>
                  <a:pt x="5623233" y="2084276"/>
                </a:lnTo>
                <a:lnTo>
                  <a:pt x="5512408" y="2084276"/>
                </a:lnTo>
                <a:lnTo>
                  <a:pt x="5512408" y="1973451"/>
                </a:lnTo>
                <a:close/>
                <a:moveTo>
                  <a:pt x="8664832" y="1973450"/>
                </a:moveTo>
                <a:lnTo>
                  <a:pt x="8775657" y="1973450"/>
                </a:lnTo>
                <a:lnTo>
                  <a:pt x="8775657" y="2084275"/>
                </a:lnTo>
                <a:lnTo>
                  <a:pt x="8664832" y="2084275"/>
                </a:lnTo>
                <a:lnTo>
                  <a:pt x="8664832" y="1973450"/>
                </a:lnTo>
                <a:close/>
                <a:moveTo>
                  <a:pt x="7614024" y="1973450"/>
                </a:moveTo>
                <a:lnTo>
                  <a:pt x="7724849" y="1973450"/>
                </a:lnTo>
                <a:lnTo>
                  <a:pt x="7724849" y="2084275"/>
                </a:lnTo>
                <a:lnTo>
                  <a:pt x="7614024" y="2084275"/>
                </a:lnTo>
                <a:lnTo>
                  <a:pt x="7614024" y="1973450"/>
                </a:lnTo>
                <a:close/>
                <a:moveTo>
                  <a:pt x="1340281" y="1557960"/>
                </a:moveTo>
                <a:lnTo>
                  <a:pt x="867065" y="2031167"/>
                </a:lnTo>
                <a:lnTo>
                  <a:pt x="1335989" y="2500073"/>
                </a:lnTo>
                <a:lnTo>
                  <a:pt x="1396599" y="2500073"/>
                </a:lnTo>
                <a:lnTo>
                  <a:pt x="1865505" y="2031168"/>
                </a:lnTo>
                <a:lnTo>
                  <a:pt x="1392304" y="1557960"/>
                </a:lnTo>
                <a:lnTo>
                  <a:pt x="1340281" y="1557960"/>
                </a:lnTo>
                <a:close/>
                <a:moveTo>
                  <a:pt x="3441642" y="1557959"/>
                </a:moveTo>
                <a:lnTo>
                  <a:pt x="2968432" y="2031168"/>
                </a:lnTo>
                <a:lnTo>
                  <a:pt x="3437347" y="2500073"/>
                </a:lnTo>
                <a:lnTo>
                  <a:pt x="3497954" y="2500073"/>
                </a:lnTo>
                <a:lnTo>
                  <a:pt x="3966871" y="2031167"/>
                </a:lnTo>
                <a:lnTo>
                  <a:pt x="3493660" y="1557959"/>
                </a:lnTo>
                <a:lnTo>
                  <a:pt x="3441642" y="1557959"/>
                </a:lnTo>
                <a:close/>
                <a:moveTo>
                  <a:pt x="2390960" y="1557959"/>
                </a:moveTo>
                <a:lnTo>
                  <a:pt x="1917749" y="2031168"/>
                </a:lnTo>
                <a:lnTo>
                  <a:pt x="2386666" y="2500073"/>
                </a:lnTo>
                <a:lnTo>
                  <a:pt x="2447276" y="2500073"/>
                </a:lnTo>
                <a:lnTo>
                  <a:pt x="2916188" y="2031168"/>
                </a:lnTo>
                <a:lnTo>
                  <a:pt x="2442982" y="1557959"/>
                </a:lnTo>
                <a:lnTo>
                  <a:pt x="2390960" y="1557959"/>
                </a:lnTo>
                <a:close/>
                <a:moveTo>
                  <a:pt x="5542984" y="1557959"/>
                </a:moveTo>
                <a:lnTo>
                  <a:pt x="5069777" y="2031166"/>
                </a:lnTo>
                <a:lnTo>
                  <a:pt x="5538692" y="2500073"/>
                </a:lnTo>
                <a:lnTo>
                  <a:pt x="5599300" y="2500073"/>
                </a:lnTo>
                <a:lnTo>
                  <a:pt x="6068216" y="2031165"/>
                </a:lnTo>
                <a:lnTo>
                  <a:pt x="5595011" y="1557959"/>
                </a:lnTo>
                <a:lnTo>
                  <a:pt x="5542984" y="1557959"/>
                </a:lnTo>
                <a:close/>
                <a:moveTo>
                  <a:pt x="4492304" y="1557959"/>
                </a:moveTo>
                <a:lnTo>
                  <a:pt x="4019114" y="2031167"/>
                </a:lnTo>
                <a:lnTo>
                  <a:pt x="4488010" y="2500073"/>
                </a:lnTo>
                <a:lnTo>
                  <a:pt x="4548618" y="2500073"/>
                </a:lnTo>
                <a:lnTo>
                  <a:pt x="5017533" y="2031166"/>
                </a:lnTo>
                <a:lnTo>
                  <a:pt x="4544326" y="1557959"/>
                </a:lnTo>
                <a:lnTo>
                  <a:pt x="4492304" y="1557959"/>
                </a:lnTo>
                <a:close/>
                <a:moveTo>
                  <a:pt x="7644348" y="1557959"/>
                </a:moveTo>
                <a:lnTo>
                  <a:pt x="7171139" y="2031167"/>
                </a:lnTo>
                <a:lnTo>
                  <a:pt x="7640054" y="2500073"/>
                </a:lnTo>
                <a:lnTo>
                  <a:pt x="7700663" y="2500073"/>
                </a:lnTo>
                <a:lnTo>
                  <a:pt x="8169579" y="2031166"/>
                </a:lnTo>
                <a:lnTo>
                  <a:pt x="7696373" y="1557959"/>
                </a:lnTo>
                <a:lnTo>
                  <a:pt x="7644348" y="1557959"/>
                </a:lnTo>
                <a:close/>
                <a:moveTo>
                  <a:pt x="6593666" y="1557959"/>
                </a:moveTo>
                <a:lnTo>
                  <a:pt x="6120461" y="2031165"/>
                </a:lnTo>
                <a:lnTo>
                  <a:pt x="6589377" y="2500073"/>
                </a:lnTo>
                <a:lnTo>
                  <a:pt x="6649981" y="2500073"/>
                </a:lnTo>
                <a:lnTo>
                  <a:pt x="7118896" y="2031167"/>
                </a:lnTo>
                <a:lnTo>
                  <a:pt x="6645688" y="1557959"/>
                </a:lnTo>
                <a:lnTo>
                  <a:pt x="6593666" y="1557959"/>
                </a:lnTo>
                <a:close/>
                <a:moveTo>
                  <a:pt x="783783" y="1447135"/>
                </a:moveTo>
                <a:lnTo>
                  <a:pt x="894607" y="1447135"/>
                </a:lnTo>
                <a:lnTo>
                  <a:pt x="894607" y="1557960"/>
                </a:lnTo>
                <a:lnTo>
                  <a:pt x="783783" y="1557960"/>
                </a:lnTo>
                <a:lnTo>
                  <a:pt x="783783" y="1447135"/>
                </a:lnTo>
                <a:close/>
                <a:moveTo>
                  <a:pt x="3936210" y="1447134"/>
                </a:moveTo>
                <a:lnTo>
                  <a:pt x="4047034" y="1447134"/>
                </a:lnTo>
                <a:lnTo>
                  <a:pt x="4047034" y="1557959"/>
                </a:lnTo>
                <a:lnTo>
                  <a:pt x="3936210" y="1557959"/>
                </a:lnTo>
                <a:lnTo>
                  <a:pt x="3936210" y="1447134"/>
                </a:lnTo>
                <a:close/>
                <a:moveTo>
                  <a:pt x="2885402" y="1447134"/>
                </a:moveTo>
                <a:lnTo>
                  <a:pt x="2996226" y="1447134"/>
                </a:lnTo>
                <a:lnTo>
                  <a:pt x="2996226" y="1557959"/>
                </a:lnTo>
                <a:lnTo>
                  <a:pt x="2885402" y="1557959"/>
                </a:lnTo>
                <a:lnTo>
                  <a:pt x="2885402" y="1447134"/>
                </a:lnTo>
                <a:close/>
                <a:moveTo>
                  <a:pt x="1834592" y="1447134"/>
                </a:moveTo>
                <a:lnTo>
                  <a:pt x="1945417" y="1447134"/>
                </a:lnTo>
                <a:lnTo>
                  <a:pt x="1945417" y="1557959"/>
                </a:lnTo>
                <a:lnTo>
                  <a:pt x="1834592" y="1557959"/>
                </a:lnTo>
                <a:lnTo>
                  <a:pt x="1834592" y="1447134"/>
                </a:lnTo>
                <a:close/>
                <a:moveTo>
                  <a:pt x="6037812" y="1447134"/>
                </a:moveTo>
                <a:lnTo>
                  <a:pt x="6148637" y="1447134"/>
                </a:lnTo>
                <a:lnTo>
                  <a:pt x="6148637" y="1557959"/>
                </a:lnTo>
                <a:lnTo>
                  <a:pt x="6037812" y="1557959"/>
                </a:lnTo>
                <a:lnTo>
                  <a:pt x="6037812" y="1447134"/>
                </a:lnTo>
                <a:close/>
                <a:moveTo>
                  <a:pt x="4987004" y="1447134"/>
                </a:moveTo>
                <a:lnTo>
                  <a:pt x="5097829" y="1447134"/>
                </a:lnTo>
                <a:lnTo>
                  <a:pt x="5097829" y="1557959"/>
                </a:lnTo>
                <a:lnTo>
                  <a:pt x="4987004" y="1557959"/>
                </a:lnTo>
                <a:lnTo>
                  <a:pt x="4987004" y="1447134"/>
                </a:lnTo>
                <a:close/>
                <a:moveTo>
                  <a:pt x="8139428" y="1447134"/>
                </a:moveTo>
                <a:lnTo>
                  <a:pt x="8250253" y="1447134"/>
                </a:lnTo>
                <a:lnTo>
                  <a:pt x="8250253" y="1557959"/>
                </a:lnTo>
                <a:lnTo>
                  <a:pt x="8139428" y="1557959"/>
                </a:lnTo>
                <a:lnTo>
                  <a:pt x="8139428" y="1447134"/>
                </a:lnTo>
                <a:close/>
                <a:moveTo>
                  <a:pt x="7088620" y="1447134"/>
                </a:moveTo>
                <a:lnTo>
                  <a:pt x="7199445" y="1447134"/>
                </a:lnTo>
                <a:lnTo>
                  <a:pt x="7199445" y="1557959"/>
                </a:lnTo>
                <a:lnTo>
                  <a:pt x="7088620" y="1557959"/>
                </a:lnTo>
                <a:lnTo>
                  <a:pt x="7088620" y="1447134"/>
                </a:lnTo>
                <a:close/>
                <a:moveTo>
                  <a:pt x="2942311" y="1006606"/>
                </a:moveTo>
                <a:lnTo>
                  <a:pt x="2470823" y="1478096"/>
                </a:lnTo>
                <a:lnTo>
                  <a:pt x="2470823" y="1533557"/>
                </a:lnTo>
                <a:lnTo>
                  <a:pt x="2942310" y="2005046"/>
                </a:lnTo>
                <a:lnTo>
                  <a:pt x="3410807" y="1536551"/>
                </a:lnTo>
                <a:lnTo>
                  <a:pt x="3410807" y="1475102"/>
                </a:lnTo>
                <a:lnTo>
                  <a:pt x="2942311" y="1006606"/>
                </a:lnTo>
                <a:close/>
                <a:moveTo>
                  <a:pt x="1891628" y="1006606"/>
                </a:moveTo>
                <a:lnTo>
                  <a:pt x="1420020" y="1478222"/>
                </a:lnTo>
                <a:lnTo>
                  <a:pt x="1420020" y="1533430"/>
                </a:lnTo>
                <a:lnTo>
                  <a:pt x="1891628" y="2005046"/>
                </a:lnTo>
                <a:lnTo>
                  <a:pt x="2359999" y="1536677"/>
                </a:lnTo>
                <a:lnTo>
                  <a:pt x="2359999" y="1474976"/>
                </a:lnTo>
                <a:lnTo>
                  <a:pt x="1891628" y="1006606"/>
                </a:lnTo>
                <a:close/>
                <a:moveTo>
                  <a:pt x="840942" y="1006606"/>
                </a:moveTo>
                <a:lnTo>
                  <a:pt x="369204" y="1478346"/>
                </a:lnTo>
                <a:lnTo>
                  <a:pt x="369204" y="1533304"/>
                </a:lnTo>
                <a:lnTo>
                  <a:pt x="840943" y="2005045"/>
                </a:lnTo>
                <a:lnTo>
                  <a:pt x="1309193" y="1536802"/>
                </a:lnTo>
                <a:lnTo>
                  <a:pt x="1309193" y="1474850"/>
                </a:lnTo>
                <a:lnTo>
                  <a:pt x="840942" y="1006606"/>
                </a:lnTo>
                <a:close/>
                <a:moveTo>
                  <a:pt x="3992992" y="1006606"/>
                </a:moveTo>
                <a:lnTo>
                  <a:pt x="3521631" y="1477968"/>
                </a:lnTo>
                <a:lnTo>
                  <a:pt x="3521631" y="1533684"/>
                </a:lnTo>
                <a:lnTo>
                  <a:pt x="3992992" y="2005046"/>
                </a:lnTo>
                <a:lnTo>
                  <a:pt x="4461600" y="1536420"/>
                </a:lnTo>
                <a:lnTo>
                  <a:pt x="4461600" y="1475233"/>
                </a:lnTo>
                <a:lnTo>
                  <a:pt x="3992992" y="1006606"/>
                </a:lnTo>
                <a:close/>
                <a:moveTo>
                  <a:pt x="6094336" y="1006605"/>
                </a:moveTo>
                <a:lnTo>
                  <a:pt x="5623233" y="1477710"/>
                </a:lnTo>
                <a:lnTo>
                  <a:pt x="5623233" y="1533937"/>
                </a:lnTo>
                <a:lnTo>
                  <a:pt x="6094338" y="2005043"/>
                </a:lnTo>
                <a:lnTo>
                  <a:pt x="6563216" y="1536165"/>
                </a:lnTo>
                <a:lnTo>
                  <a:pt x="6563216" y="1475486"/>
                </a:lnTo>
                <a:lnTo>
                  <a:pt x="6094336" y="1006605"/>
                </a:lnTo>
                <a:close/>
                <a:moveTo>
                  <a:pt x="7145020" y="1006604"/>
                </a:moveTo>
                <a:lnTo>
                  <a:pt x="6674041" y="1477584"/>
                </a:lnTo>
                <a:lnTo>
                  <a:pt x="6674041" y="1534069"/>
                </a:lnTo>
                <a:lnTo>
                  <a:pt x="7145018" y="2005045"/>
                </a:lnTo>
                <a:lnTo>
                  <a:pt x="7614024" y="1536039"/>
                </a:lnTo>
                <a:lnTo>
                  <a:pt x="7614024" y="1475610"/>
                </a:lnTo>
                <a:lnTo>
                  <a:pt x="7145020" y="1006604"/>
                </a:lnTo>
                <a:close/>
                <a:moveTo>
                  <a:pt x="8195701" y="1006604"/>
                </a:moveTo>
                <a:lnTo>
                  <a:pt x="7724849" y="1477457"/>
                </a:lnTo>
                <a:lnTo>
                  <a:pt x="7724849" y="1534190"/>
                </a:lnTo>
                <a:lnTo>
                  <a:pt x="8195702" y="2005044"/>
                </a:lnTo>
                <a:lnTo>
                  <a:pt x="8664832" y="1535914"/>
                </a:lnTo>
                <a:lnTo>
                  <a:pt x="8664832" y="1475735"/>
                </a:lnTo>
                <a:lnTo>
                  <a:pt x="8195701" y="1006604"/>
                </a:lnTo>
                <a:close/>
                <a:moveTo>
                  <a:pt x="5043657" y="1006604"/>
                </a:moveTo>
                <a:lnTo>
                  <a:pt x="4572425" y="1477838"/>
                </a:lnTo>
                <a:lnTo>
                  <a:pt x="4572425" y="1533814"/>
                </a:lnTo>
                <a:lnTo>
                  <a:pt x="5043655" y="2005045"/>
                </a:lnTo>
                <a:lnTo>
                  <a:pt x="5512408" y="1536292"/>
                </a:lnTo>
                <a:lnTo>
                  <a:pt x="5512408" y="1475356"/>
                </a:lnTo>
                <a:lnTo>
                  <a:pt x="5043657" y="1006604"/>
                </a:lnTo>
                <a:close/>
                <a:moveTo>
                  <a:pt x="2359987" y="922636"/>
                </a:moveTo>
                <a:lnTo>
                  <a:pt x="2470812" y="922636"/>
                </a:lnTo>
                <a:lnTo>
                  <a:pt x="2470812" y="1033461"/>
                </a:lnTo>
                <a:lnTo>
                  <a:pt x="2359987" y="1033461"/>
                </a:lnTo>
                <a:lnTo>
                  <a:pt x="2359987" y="922636"/>
                </a:lnTo>
                <a:close/>
                <a:moveTo>
                  <a:pt x="1309178" y="922636"/>
                </a:moveTo>
                <a:lnTo>
                  <a:pt x="1420004" y="922636"/>
                </a:lnTo>
                <a:lnTo>
                  <a:pt x="1420004" y="1033461"/>
                </a:lnTo>
                <a:lnTo>
                  <a:pt x="1309178" y="1033461"/>
                </a:lnTo>
                <a:lnTo>
                  <a:pt x="1309178" y="922636"/>
                </a:lnTo>
                <a:close/>
                <a:moveTo>
                  <a:pt x="258370" y="922636"/>
                </a:moveTo>
                <a:lnTo>
                  <a:pt x="369195" y="922636"/>
                </a:lnTo>
                <a:lnTo>
                  <a:pt x="369195" y="1033461"/>
                </a:lnTo>
                <a:lnTo>
                  <a:pt x="258370" y="1033461"/>
                </a:lnTo>
                <a:lnTo>
                  <a:pt x="258370" y="922636"/>
                </a:lnTo>
                <a:close/>
                <a:moveTo>
                  <a:pt x="4461600" y="922636"/>
                </a:moveTo>
                <a:lnTo>
                  <a:pt x="4572425" y="922636"/>
                </a:lnTo>
                <a:lnTo>
                  <a:pt x="4572425" y="1033461"/>
                </a:lnTo>
                <a:lnTo>
                  <a:pt x="4461600" y="1033461"/>
                </a:lnTo>
                <a:lnTo>
                  <a:pt x="4461600" y="922636"/>
                </a:lnTo>
                <a:close/>
                <a:moveTo>
                  <a:pt x="3410794" y="922636"/>
                </a:moveTo>
                <a:lnTo>
                  <a:pt x="3521620" y="922636"/>
                </a:lnTo>
                <a:lnTo>
                  <a:pt x="3521620" y="1033461"/>
                </a:lnTo>
                <a:lnTo>
                  <a:pt x="3410794" y="1033461"/>
                </a:lnTo>
                <a:lnTo>
                  <a:pt x="3410794" y="922636"/>
                </a:lnTo>
                <a:close/>
                <a:moveTo>
                  <a:pt x="7614024" y="922636"/>
                </a:moveTo>
                <a:lnTo>
                  <a:pt x="7724849" y="922636"/>
                </a:lnTo>
                <a:lnTo>
                  <a:pt x="7724849" y="1033461"/>
                </a:lnTo>
                <a:lnTo>
                  <a:pt x="7614024" y="1033461"/>
                </a:lnTo>
                <a:lnTo>
                  <a:pt x="7614024" y="922636"/>
                </a:lnTo>
                <a:close/>
                <a:moveTo>
                  <a:pt x="6563216" y="922636"/>
                </a:moveTo>
                <a:lnTo>
                  <a:pt x="6674041" y="922636"/>
                </a:lnTo>
                <a:lnTo>
                  <a:pt x="6674041" y="1033461"/>
                </a:lnTo>
                <a:lnTo>
                  <a:pt x="6563216" y="1033461"/>
                </a:lnTo>
                <a:lnTo>
                  <a:pt x="6563216" y="922636"/>
                </a:lnTo>
                <a:close/>
                <a:moveTo>
                  <a:pt x="5512408" y="922636"/>
                </a:moveTo>
                <a:lnTo>
                  <a:pt x="5623233" y="922636"/>
                </a:lnTo>
                <a:lnTo>
                  <a:pt x="5623233" y="1033461"/>
                </a:lnTo>
                <a:lnTo>
                  <a:pt x="5512408" y="1033461"/>
                </a:lnTo>
                <a:lnTo>
                  <a:pt x="5512408" y="922636"/>
                </a:lnTo>
                <a:close/>
                <a:moveTo>
                  <a:pt x="8664832" y="922635"/>
                </a:moveTo>
                <a:lnTo>
                  <a:pt x="8775657" y="922635"/>
                </a:lnTo>
                <a:lnTo>
                  <a:pt x="8775657" y="1033460"/>
                </a:lnTo>
                <a:lnTo>
                  <a:pt x="8664832" y="1033460"/>
                </a:lnTo>
                <a:lnTo>
                  <a:pt x="8664832" y="922635"/>
                </a:lnTo>
                <a:close/>
                <a:moveTo>
                  <a:pt x="1337494" y="510063"/>
                </a:moveTo>
                <a:lnTo>
                  <a:pt x="867064" y="980485"/>
                </a:lnTo>
                <a:lnTo>
                  <a:pt x="1333721" y="1447135"/>
                </a:lnTo>
                <a:lnTo>
                  <a:pt x="1398862" y="1447135"/>
                </a:lnTo>
                <a:lnTo>
                  <a:pt x="1865505" y="980485"/>
                </a:lnTo>
                <a:lnTo>
                  <a:pt x="1395091" y="510063"/>
                </a:lnTo>
                <a:lnTo>
                  <a:pt x="1337494" y="510063"/>
                </a:lnTo>
                <a:close/>
                <a:moveTo>
                  <a:pt x="2388172" y="510063"/>
                </a:moveTo>
                <a:lnTo>
                  <a:pt x="1917749" y="980485"/>
                </a:lnTo>
                <a:lnTo>
                  <a:pt x="2384400" y="1447135"/>
                </a:lnTo>
                <a:lnTo>
                  <a:pt x="2449540" y="1447135"/>
                </a:lnTo>
                <a:lnTo>
                  <a:pt x="2916188" y="980485"/>
                </a:lnTo>
                <a:lnTo>
                  <a:pt x="2445768" y="510063"/>
                </a:lnTo>
                <a:lnTo>
                  <a:pt x="2388172" y="510063"/>
                </a:lnTo>
                <a:close/>
                <a:moveTo>
                  <a:pt x="3438854" y="510063"/>
                </a:moveTo>
                <a:lnTo>
                  <a:pt x="2968432" y="980485"/>
                </a:lnTo>
                <a:lnTo>
                  <a:pt x="3435082" y="1447134"/>
                </a:lnTo>
                <a:lnTo>
                  <a:pt x="3500221" y="1447134"/>
                </a:lnTo>
                <a:lnTo>
                  <a:pt x="3966871" y="980485"/>
                </a:lnTo>
                <a:lnTo>
                  <a:pt x="3496446" y="510063"/>
                </a:lnTo>
                <a:lnTo>
                  <a:pt x="3438854" y="510063"/>
                </a:lnTo>
                <a:close/>
                <a:moveTo>
                  <a:pt x="4489516" y="510063"/>
                </a:moveTo>
                <a:lnTo>
                  <a:pt x="4019114" y="980485"/>
                </a:lnTo>
                <a:lnTo>
                  <a:pt x="4485745" y="1447134"/>
                </a:lnTo>
                <a:lnTo>
                  <a:pt x="4550885" y="1447134"/>
                </a:lnTo>
                <a:lnTo>
                  <a:pt x="5017536" y="980482"/>
                </a:lnTo>
                <a:lnTo>
                  <a:pt x="4547117" y="510063"/>
                </a:lnTo>
                <a:lnTo>
                  <a:pt x="4489516" y="510063"/>
                </a:lnTo>
                <a:close/>
                <a:moveTo>
                  <a:pt x="5540197" y="510063"/>
                </a:moveTo>
                <a:lnTo>
                  <a:pt x="5069779" y="980483"/>
                </a:lnTo>
                <a:lnTo>
                  <a:pt x="5536430" y="1447134"/>
                </a:lnTo>
                <a:lnTo>
                  <a:pt x="5601565" y="1447134"/>
                </a:lnTo>
                <a:lnTo>
                  <a:pt x="6068214" y="980484"/>
                </a:lnTo>
                <a:lnTo>
                  <a:pt x="5597794" y="510063"/>
                </a:lnTo>
                <a:lnTo>
                  <a:pt x="5540197" y="510063"/>
                </a:lnTo>
                <a:close/>
                <a:moveTo>
                  <a:pt x="6590878" y="510062"/>
                </a:moveTo>
                <a:lnTo>
                  <a:pt x="6120457" y="980484"/>
                </a:lnTo>
                <a:lnTo>
                  <a:pt x="6587106" y="1447134"/>
                </a:lnTo>
                <a:lnTo>
                  <a:pt x="6652247" y="1447134"/>
                </a:lnTo>
                <a:lnTo>
                  <a:pt x="7118898" y="980483"/>
                </a:lnTo>
                <a:lnTo>
                  <a:pt x="6648479" y="510062"/>
                </a:lnTo>
                <a:lnTo>
                  <a:pt x="6590878" y="510062"/>
                </a:lnTo>
                <a:close/>
                <a:moveTo>
                  <a:pt x="7641560" y="510062"/>
                </a:moveTo>
                <a:lnTo>
                  <a:pt x="7171142" y="980482"/>
                </a:lnTo>
                <a:lnTo>
                  <a:pt x="7637793" y="1447134"/>
                </a:lnTo>
                <a:lnTo>
                  <a:pt x="7702929" y="1447134"/>
                </a:lnTo>
                <a:lnTo>
                  <a:pt x="8169579" y="980483"/>
                </a:lnTo>
                <a:lnTo>
                  <a:pt x="7699160" y="510062"/>
                </a:lnTo>
                <a:lnTo>
                  <a:pt x="7641560" y="510062"/>
                </a:lnTo>
                <a:close/>
                <a:moveTo>
                  <a:pt x="783785" y="399238"/>
                </a:moveTo>
                <a:lnTo>
                  <a:pt x="894609" y="399238"/>
                </a:lnTo>
                <a:lnTo>
                  <a:pt x="894609" y="510063"/>
                </a:lnTo>
                <a:lnTo>
                  <a:pt x="783785" y="510063"/>
                </a:lnTo>
                <a:lnTo>
                  <a:pt x="783785" y="399238"/>
                </a:lnTo>
                <a:close/>
                <a:moveTo>
                  <a:pt x="1834594" y="399238"/>
                </a:moveTo>
                <a:lnTo>
                  <a:pt x="1945420" y="399238"/>
                </a:lnTo>
                <a:lnTo>
                  <a:pt x="1945420" y="510063"/>
                </a:lnTo>
                <a:lnTo>
                  <a:pt x="1834594" y="510063"/>
                </a:lnTo>
                <a:lnTo>
                  <a:pt x="1834594" y="399238"/>
                </a:lnTo>
                <a:close/>
                <a:moveTo>
                  <a:pt x="3936212" y="399238"/>
                </a:moveTo>
                <a:lnTo>
                  <a:pt x="4047037" y="399238"/>
                </a:lnTo>
                <a:lnTo>
                  <a:pt x="4047037" y="510063"/>
                </a:lnTo>
                <a:lnTo>
                  <a:pt x="3936212" y="510063"/>
                </a:lnTo>
                <a:lnTo>
                  <a:pt x="3936212" y="399238"/>
                </a:lnTo>
                <a:close/>
                <a:moveTo>
                  <a:pt x="2885405" y="399238"/>
                </a:moveTo>
                <a:lnTo>
                  <a:pt x="2996229" y="399238"/>
                </a:lnTo>
                <a:lnTo>
                  <a:pt x="2996229" y="510063"/>
                </a:lnTo>
                <a:lnTo>
                  <a:pt x="2885405" y="510063"/>
                </a:lnTo>
                <a:lnTo>
                  <a:pt x="2885405" y="399238"/>
                </a:lnTo>
                <a:close/>
                <a:moveTo>
                  <a:pt x="4987004" y="399238"/>
                </a:moveTo>
                <a:lnTo>
                  <a:pt x="5097829" y="399238"/>
                </a:lnTo>
                <a:lnTo>
                  <a:pt x="5097829" y="510063"/>
                </a:lnTo>
                <a:lnTo>
                  <a:pt x="4987004" y="510063"/>
                </a:lnTo>
                <a:lnTo>
                  <a:pt x="4987004" y="399238"/>
                </a:lnTo>
                <a:close/>
                <a:moveTo>
                  <a:pt x="6037812" y="399238"/>
                </a:moveTo>
                <a:lnTo>
                  <a:pt x="6148637" y="399238"/>
                </a:lnTo>
                <a:lnTo>
                  <a:pt x="6148637" y="510062"/>
                </a:lnTo>
                <a:lnTo>
                  <a:pt x="6037812" y="510062"/>
                </a:lnTo>
                <a:lnTo>
                  <a:pt x="6037812" y="399238"/>
                </a:lnTo>
                <a:close/>
                <a:moveTo>
                  <a:pt x="7088620" y="399237"/>
                </a:moveTo>
                <a:lnTo>
                  <a:pt x="7199445" y="399237"/>
                </a:lnTo>
                <a:lnTo>
                  <a:pt x="7199445" y="510062"/>
                </a:lnTo>
                <a:lnTo>
                  <a:pt x="7088620" y="510062"/>
                </a:lnTo>
                <a:lnTo>
                  <a:pt x="7088620" y="399237"/>
                </a:lnTo>
                <a:close/>
                <a:moveTo>
                  <a:pt x="8139428" y="399237"/>
                </a:moveTo>
                <a:lnTo>
                  <a:pt x="8250253" y="399237"/>
                </a:lnTo>
                <a:lnTo>
                  <a:pt x="8250253" y="510062"/>
                </a:lnTo>
                <a:lnTo>
                  <a:pt x="8139428" y="510062"/>
                </a:lnTo>
                <a:lnTo>
                  <a:pt x="8139428" y="399237"/>
                </a:lnTo>
                <a:close/>
                <a:moveTo>
                  <a:pt x="6138416" y="0"/>
                </a:moveTo>
                <a:lnTo>
                  <a:pt x="6190660" y="0"/>
                </a:lnTo>
                <a:lnTo>
                  <a:pt x="6589898" y="399238"/>
                </a:lnTo>
                <a:lnTo>
                  <a:pt x="6649459" y="399238"/>
                </a:lnTo>
                <a:lnTo>
                  <a:pt x="7048695" y="2"/>
                </a:lnTo>
                <a:lnTo>
                  <a:pt x="7100939" y="2"/>
                </a:lnTo>
                <a:lnTo>
                  <a:pt x="6674041" y="426899"/>
                </a:lnTo>
                <a:lnTo>
                  <a:pt x="6674041" y="483380"/>
                </a:lnTo>
                <a:lnTo>
                  <a:pt x="7145020" y="954361"/>
                </a:lnTo>
                <a:lnTo>
                  <a:pt x="7614024" y="485355"/>
                </a:lnTo>
                <a:lnTo>
                  <a:pt x="7614024" y="424926"/>
                </a:lnTo>
                <a:lnTo>
                  <a:pt x="7189097" y="1"/>
                </a:lnTo>
                <a:lnTo>
                  <a:pt x="7241340" y="1"/>
                </a:lnTo>
                <a:lnTo>
                  <a:pt x="7640577" y="399237"/>
                </a:lnTo>
                <a:lnTo>
                  <a:pt x="7700142" y="399237"/>
                </a:lnTo>
                <a:lnTo>
                  <a:pt x="8099378" y="1"/>
                </a:lnTo>
                <a:lnTo>
                  <a:pt x="8151622" y="1"/>
                </a:lnTo>
                <a:lnTo>
                  <a:pt x="7724849" y="426774"/>
                </a:lnTo>
                <a:lnTo>
                  <a:pt x="7724849" y="483509"/>
                </a:lnTo>
                <a:lnTo>
                  <a:pt x="8195700" y="954363"/>
                </a:lnTo>
                <a:lnTo>
                  <a:pt x="8664832" y="485228"/>
                </a:lnTo>
                <a:lnTo>
                  <a:pt x="8664832" y="425054"/>
                </a:lnTo>
                <a:lnTo>
                  <a:pt x="8239778" y="1"/>
                </a:lnTo>
                <a:lnTo>
                  <a:pt x="8292022" y="1"/>
                </a:lnTo>
                <a:lnTo>
                  <a:pt x="8691259" y="399237"/>
                </a:lnTo>
                <a:lnTo>
                  <a:pt x="8750823" y="399237"/>
                </a:lnTo>
                <a:lnTo>
                  <a:pt x="9143986" y="6075"/>
                </a:lnTo>
                <a:lnTo>
                  <a:pt x="9143986" y="58319"/>
                </a:lnTo>
                <a:lnTo>
                  <a:pt x="8775657" y="426647"/>
                </a:lnTo>
                <a:lnTo>
                  <a:pt x="8775657" y="483635"/>
                </a:lnTo>
                <a:lnTo>
                  <a:pt x="9143986" y="851966"/>
                </a:lnTo>
                <a:lnTo>
                  <a:pt x="9143986" y="904210"/>
                </a:lnTo>
                <a:lnTo>
                  <a:pt x="8749840" y="510062"/>
                </a:lnTo>
                <a:lnTo>
                  <a:pt x="8692242" y="510062"/>
                </a:lnTo>
                <a:lnTo>
                  <a:pt x="8221822" y="980484"/>
                </a:lnTo>
                <a:lnTo>
                  <a:pt x="8688471" y="1447133"/>
                </a:lnTo>
                <a:lnTo>
                  <a:pt x="8753611" y="1447133"/>
                </a:lnTo>
                <a:lnTo>
                  <a:pt x="9143986" y="1056762"/>
                </a:lnTo>
                <a:lnTo>
                  <a:pt x="9143986" y="1109003"/>
                </a:lnTo>
                <a:lnTo>
                  <a:pt x="8775657" y="1477331"/>
                </a:lnTo>
                <a:lnTo>
                  <a:pt x="8775657" y="1534319"/>
                </a:lnTo>
                <a:lnTo>
                  <a:pt x="9143986" y="1902649"/>
                </a:lnTo>
                <a:lnTo>
                  <a:pt x="9143987" y="1954891"/>
                </a:lnTo>
                <a:lnTo>
                  <a:pt x="8747055" y="1557959"/>
                </a:lnTo>
                <a:lnTo>
                  <a:pt x="8695029" y="1557959"/>
                </a:lnTo>
                <a:lnTo>
                  <a:pt x="8221823" y="2031165"/>
                </a:lnTo>
                <a:lnTo>
                  <a:pt x="8690741" y="2500073"/>
                </a:lnTo>
                <a:lnTo>
                  <a:pt x="8751345" y="2500073"/>
                </a:lnTo>
                <a:lnTo>
                  <a:pt x="9143986" y="2107432"/>
                </a:lnTo>
                <a:lnTo>
                  <a:pt x="9143986" y="2159677"/>
                </a:lnTo>
                <a:lnTo>
                  <a:pt x="8775657" y="2528005"/>
                </a:lnTo>
                <a:lnTo>
                  <a:pt x="8775657" y="2584989"/>
                </a:lnTo>
                <a:lnTo>
                  <a:pt x="9143987" y="2953319"/>
                </a:lnTo>
                <a:lnTo>
                  <a:pt x="9143987" y="3005564"/>
                </a:lnTo>
                <a:lnTo>
                  <a:pt x="8749321" y="2610898"/>
                </a:lnTo>
                <a:lnTo>
                  <a:pt x="8692765" y="2610898"/>
                </a:lnTo>
                <a:lnTo>
                  <a:pt x="8221822" y="3081840"/>
                </a:lnTo>
                <a:lnTo>
                  <a:pt x="8691194" y="3551212"/>
                </a:lnTo>
                <a:lnTo>
                  <a:pt x="8750888" y="3551212"/>
                </a:lnTo>
                <a:lnTo>
                  <a:pt x="9143986" y="3158114"/>
                </a:lnTo>
                <a:lnTo>
                  <a:pt x="9143986" y="3210356"/>
                </a:lnTo>
                <a:lnTo>
                  <a:pt x="8775657" y="3578686"/>
                </a:lnTo>
                <a:lnTo>
                  <a:pt x="8775657" y="3635674"/>
                </a:lnTo>
                <a:lnTo>
                  <a:pt x="9143986" y="4004003"/>
                </a:lnTo>
                <a:lnTo>
                  <a:pt x="9143986" y="4056248"/>
                </a:lnTo>
                <a:lnTo>
                  <a:pt x="8749774" y="3662037"/>
                </a:lnTo>
                <a:lnTo>
                  <a:pt x="8692306" y="3662037"/>
                </a:lnTo>
                <a:lnTo>
                  <a:pt x="8221823" y="4132519"/>
                </a:lnTo>
                <a:lnTo>
                  <a:pt x="8661299" y="4571995"/>
                </a:lnTo>
                <a:lnTo>
                  <a:pt x="8609053" y="4571995"/>
                </a:lnTo>
                <a:lnTo>
                  <a:pt x="8195700" y="4158642"/>
                </a:lnTo>
                <a:lnTo>
                  <a:pt x="7782346" y="4571997"/>
                </a:lnTo>
                <a:lnTo>
                  <a:pt x="7730103" y="4571997"/>
                </a:lnTo>
                <a:lnTo>
                  <a:pt x="8169579" y="4132521"/>
                </a:lnTo>
                <a:lnTo>
                  <a:pt x="7699096" y="3662037"/>
                </a:lnTo>
                <a:lnTo>
                  <a:pt x="7641624" y="3662037"/>
                </a:lnTo>
                <a:lnTo>
                  <a:pt x="7171140" y="4132521"/>
                </a:lnTo>
                <a:lnTo>
                  <a:pt x="7610615" y="4571996"/>
                </a:lnTo>
                <a:lnTo>
                  <a:pt x="7558371" y="4571996"/>
                </a:lnTo>
                <a:lnTo>
                  <a:pt x="7145018" y="4158643"/>
                </a:lnTo>
                <a:lnTo>
                  <a:pt x="6731665" y="4571996"/>
                </a:lnTo>
                <a:lnTo>
                  <a:pt x="6679421" y="4571997"/>
                </a:lnTo>
                <a:lnTo>
                  <a:pt x="7118896" y="4132521"/>
                </a:lnTo>
                <a:lnTo>
                  <a:pt x="6648412" y="3662037"/>
                </a:lnTo>
                <a:lnTo>
                  <a:pt x="6590942" y="3662037"/>
                </a:lnTo>
                <a:lnTo>
                  <a:pt x="6120458" y="4132521"/>
                </a:lnTo>
                <a:lnTo>
                  <a:pt x="6559933" y="4571996"/>
                </a:lnTo>
                <a:lnTo>
                  <a:pt x="6507689" y="4571996"/>
                </a:lnTo>
                <a:lnTo>
                  <a:pt x="6094336" y="4158643"/>
                </a:lnTo>
                <a:lnTo>
                  <a:pt x="5680986" y="4571994"/>
                </a:lnTo>
                <a:lnTo>
                  <a:pt x="5628742" y="4571994"/>
                </a:lnTo>
                <a:lnTo>
                  <a:pt x="6068215" y="4132521"/>
                </a:lnTo>
                <a:lnTo>
                  <a:pt x="5597730" y="3662037"/>
                </a:lnTo>
                <a:lnTo>
                  <a:pt x="5540260" y="3662037"/>
                </a:lnTo>
                <a:lnTo>
                  <a:pt x="5069776" y="4132521"/>
                </a:lnTo>
                <a:lnTo>
                  <a:pt x="5509251" y="4571996"/>
                </a:lnTo>
                <a:lnTo>
                  <a:pt x="5457007" y="4571996"/>
                </a:lnTo>
                <a:lnTo>
                  <a:pt x="5043654" y="4158643"/>
                </a:lnTo>
                <a:lnTo>
                  <a:pt x="4630302" y="4571995"/>
                </a:lnTo>
                <a:lnTo>
                  <a:pt x="4578058" y="4571995"/>
                </a:lnTo>
                <a:lnTo>
                  <a:pt x="5017532" y="4132521"/>
                </a:lnTo>
                <a:lnTo>
                  <a:pt x="4547048" y="3662037"/>
                </a:lnTo>
                <a:lnTo>
                  <a:pt x="4489581" y="3662037"/>
                </a:lnTo>
                <a:lnTo>
                  <a:pt x="4019114" y="4132522"/>
                </a:lnTo>
                <a:lnTo>
                  <a:pt x="4458569" y="4571996"/>
                </a:lnTo>
                <a:lnTo>
                  <a:pt x="4406325" y="4571996"/>
                </a:lnTo>
                <a:lnTo>
                  <a:pt x="3992992" y="4158644"/>
                </a:lnTo>
                <a:lnTo>
                  <a:pt x="3579640" y="4571995"/>
                </a:lnTo>
                <a:lnTo>
                  <a:pt x="3527396" y="4571995"/>
                </a:lnTo>
                <a:lnTo>
                  <a:pt x="3966870" y="4132522"/>
                </a:lnTo>
                <a:lnTo>
                  <a:pt x="3496383" y="3662037"/>
                </a:lnTo>
                <a:lnTo>
                  <a:pt x="3438916" y="3662037"/>
                </a:lnTo>
                <a:lnTo>
                  <a:pt x="2968432" y="4132520"/>
                </a:lnTo>
                <a:lnTo>
                  <a:pt x="3407909" y="4571995"/>
                </a:lnTo>
                <a:lnTo>
                  <a:pt x="3355664" y="4571995"/>
                </a:lnTo>
                <a:lnTo>
                  <a:pt x="2942310" y="4158642"/>
                </a:lnTo>
                <a:lnTo>
                  <a:pt x="2528960" y="4571994"/>
                </a:lnTo>
                <a:lnTo>
                  <a:pt x="2476716" y="4571994"/>
                </a:lnTo>
                <a:lnTo>
                  <a:pt x="2916189" y="4132521"/>
                </a:lnTo>
                <a:lnTo>
                  <a:pt x="2445706" y="3662037"/>
                </a:lnTo>
                <a:lnTo>
                  <a:pt x="2388237" y="3662037"/>
                </a:lnTo>
                <a:lnTo>
                  <a:pt x="1917750" y="4132522"/>
                </a:lnTo>
                <a:lnTo>
                  <a:pt x="2357226" y="4571995"/>
                </a:lnTo>
                <a:lnTo>
                  <a:pt x="2304983" y="4571996"/>
                </a:lnTo>
                <a:lnTo>
                  <a:pt x="1891628" y="4158644"/>
                </a:lnTo>
                <a:lnTo>
                  <a:pt x="1478287" y="4571994"/>
                </a:lnTo>
                <a:lnTo>
                  <a:pt x="1426043" y="4571994"/>
                </a:lnTo>
                <a:lnTo>
                  <a:pt x="1865506" y="4132522"/>
                </a:lnTo>
                <a:lnTo>
                  <a:pt x="1395028" y="3662037"/>
                </a:lnTo>
                <a:lnTo>
                  <a:pt x="1337560" y="3662037"/>
                </a:lnTo>
                <a:lnTo>
                  <a:pt x="867065" y="4132523"/>
                </a:lnTo>
                <a:lnTo>
                  <a:pt x="1306545" y="4571995"/>
                </a:lnTo>
                <a:lnTo>
                  <a:pt x="1254301" y="4571995"/>
                </a:lnTo>
                <a:lnTo>
                  <a:pt x="840943" y="4158645"/>
                </a:lnTo>
                <a:lnTo>
                  <a:pt x="427592" y="4571996"/>
                </a:lnTo>
                <a:lnTo>
                  <a:pt x="375348" y="4571996"/>
                </a:lnTo>
                <a:lnTo>
                  <a:pt x="814821" y="4132522"/>
                </a:lnTo>
                <a:lnTo>
                  <a:pt x="344336" y="3662037"/>
                </a:lnTo>
                <a:lnTo>
                  <a:pt x="286868" y="3662037"/>
                </a:lnTo>
                <a:lnTo>
                  <a:pt x="2" y="3948903"/>
                </a:lnTo>
                <a:lnTo>
                  <a:pt x="2" y="3896659"/>
                </a:lnTo>
                <a:lnTo>
                  <a:pt x="258375" y="3638287"/>
                </a:lnTo>
                <a:lnTo>
                  <a:pt x="258375" y="3576075"/>
                </a:lnTo>
                <a:lnTo>
                  <a:pt x="1" y="3317701"/>
                </a:lnTo>
                <a:lnTo>
                  <a:pt x="1" y="3265457"/>
                </a:lnTo>
                <a:lnTo>
                  <a:pt x="285755" y="3551212"/>
                </a:lnTo>
                <a:lnTo>
                  <a:pt x="345449" y="3551212"/>
                </a:lnTo>
                <a:lnTo>
                  <a:pt x="814821" y="3081840"/>
                </a:lnTo>
                <a:lnTo>
                  <a:pt x="343879" y="2610898"/>
                </a:lnTo>
                <a:lnTo>
                  <a:pt x="287325" y="2610898"/>
                </a:lnTo>
                <a:lnTo>
                  <a:pt x="4" y="2898220"/>
                </a:lnTo>
                <a:lnTo>
                  <a:pt x="4" y="2845976"/>
                </a:lnTo>
                <a:lnTo>
                  <a:pt x="258377" y="2587602"/>
                </a:lnTo>
                <a:lnTo>
                  <a:pt x="258377" y="2525395"/>
                </a:lnTo>
                <a:lnTo>
                  <a:pt x="1" y="2267018"/>
                </a:lnTo>
                <a:lnTo>
                  <a:pt x="0" y="2214773"/>
                </a:lnTo>
                <a:lnTo>
                  <a:pt x="285299" y="2500073"/>
                </a:lnTo>
                <a:lnTo>
                  <a:pt x="345906" y="2500073"/>
                </a:lnTo>
                <a:lnTo>
                  <a:pt x="814821" y="2031167"/>
                </a:lnTo>
                <a:lnTo>
                  <a:pt x="341615" y="1557960"/>
                </a:lnTo>
                <a:lnTo>
                  <a:pt x="289591" y="1557960"/>
                </a:lnTo>
                <a:lnTo>
                  <a:pt x="1" y="1847551"/>
                </a:lnTo>
                <a:lnTo>
                  <a:pt x="1" y="1795307"/>
                </a:lnTo>
                <a:lnTo>
                  <a:pt x="258379" y="1536928"/>
                </a:lnTo>
                <a:lnTo>
                  <a:pt x="258379" y="1474723"/>
                </a:lnTo>
                <a:lnTo>
                  <a:pt x="1" y="1216345"/>
                </a:lnTo>
                <a:lnTo>
                  <a:pt x="1" y="1164102"/>
                </a:lnTo>
                <a:lnTo>
                  <a:pt x="283034" y="1447135"/>
                </a:lnTo>
                <a:lnTo>
                  <a:pt x="348172" y="1447135"/>
                </a:lnTo>
                <a:lnTo>
                  <a:pt x="814820" y="980485"/>
                </a:lnTo>
                <a:lnTo>
                  <a:pt x="344400" y="510063"/>
                </a:lnTo>
                <a:lnTo>
                  <a:pt x="286802" y="510063"/>
                </a:lnTo>
                <a:lnTo>
                  <a:pt x="2" y="796868"/>
                </a:lnTo>
                <a:lnTo>
                  <a:pt x="2" y="744627"/>
                </a:lnTo>
                <a:lnTo>
                  <a:pt x="258382" y="486240"/>
                </a:lnTo>
                <a:lnTo>
                  <a:pt x="258382" y="424044"/>
                </a:lnTo>
                <a:lnTo>
                  <a:pt x="2" y="165665"/>
                </a:lnTo>
                <a:lnTo>
                  <a:pt x="2" y="113421"/>
                </a:lnTo>
                <a:lnTo>
                  <a:pt x="285819" y="399238"/>
                </a:lnTo>
                <a:lnTo>
                  <a:pt x="345383" y="399238"/>
                </a:lnTo>
                <a:lnTo>
                  <a:pt x="744619" y="2"/>
                </a:lnTo>
                <a:lnTo>
                  <a:pt x="796863" y="2"/>
                </a:lnTo>
                <a:lnTo>
                  <a:pt x="369206" y="427659"/>
                </a:lnTo>
                <a:lnTo>
                  <a:pt x="369206" y="482625"/>
                </a:lnTo>
                <a:lnTo>
                  <a:pt x="840942" y="954363"/>
                </a:lnTo>
                <a:lnTo>
                  <a:pt x="1309198" y="486115"/>
                </a:lnTo>
                <a:lnTo>
                  <a:pt x="1309198" y="424170"/>
                </a:lnTo>
                <a:lnTo>
                  <a:pt x="885018" y="1"/>
                </a:lnTo>
                <a:lnTo>
                  <a:pt x="937262" y="1"/>
                </a:lnTo>
                <a:lnTo>
                  <a:pt x="1336510" y="399238"/>
                </a:lnTo>
                <a:lnTo>
                  <a:pt x="1396075" y="399238"/>
                </a:lnTo>
                <a:lnTo>
                  <a:pt x="1795305" y="3"/>
                </a:lnTo>
                <a:lnTo>
                  <a:pt x="1847547" y="3"/>
                </a:lnTo>
                <a:lnTo>
                  <a:pt x="1420024" y="427535"/>
                </a:lnTo>
                <a:lnTo>
                  <a:pt x="1420024" y="482750"/>
                </a:lnTo>
                <a:lnTo>
                  <a:pt x="1891628" y="954364"/>
                </a:lnTo>
                <a:lnTo>
                  <a:pt x="2360002" y="485990"/>
                </a:lnTo>
                <a:lnTo>
                  <a:pt x="2360002" y="424295"/>
                </a:lnTo>
                <a:lnTo>
                  <a:pt x="1935703" y="1"/>
                </a:lnTo>
                <a:lnTo>
                  <a:pt x="1987946" y="1"/>
                </a:lnTo>
                <a:lnTo>
                  <a:pt x="2387188" y="399238"/>
                </a:lnTo>
                <a:lnTo>
                  <a:pt x="2446753" y="399238"/>
                </a:lnTo>
                <a:lnTo>
                  <a:pt x="2845989" y="2"/>
                </a:lnTo>
                <a:lnTo>
                  <a:pt x="2898233" y="2"/>
                </a:lnTo>
                <a:lnTo>
                  <a:pt x="2470826" y="427409"/>
                </a:lnTo>
                <a:lnTo>
                  <a:pt x="2470826" y="482876"/>
                </a:lnTo>
                <a:lnTo>
                  <a:pt x="2942310" y="954364"/>
                </a:lnTo>
                <a:lnTo>
                  <a:pt x="3410810" y="485864"/>
                </a:lnTo>
                <a:lnTo>
                  <a:pt x="3410810" y="424421"/>
                </a:lnTo>
                <a:lnTo>
                  <a:pt x="2986387" y="1"/>
                </a:lnTo>
                <a:lnTo>
                  <a:pt x="3038634" y="1"/>
                </a:lnTo>
                <a:lnTo>
                  <a:pt x="3437870" y="399238"/>
                </a:lnTo>
                <a:lnTo>
                  <a:pt x="3497432" y="399238"/>
                </a:lnTo>
                <a:lnTo>
                  <a:pt x="3896671" y="2"/>
                </a:lnTo>
                <a:lnTo>
                  <a:pt x="3948916" y="2"/>
                </a:lnTo>
                <a:lnTo>
                  <a:pt x="3521633" y="427284"/>
                </a:lnTo>
                <a:lnTo>
                  <a:pt x="3521633" y="483002"/>
                </a:lnTo>
                <a:lnTo>
                  <a:pt x="3992992" y="954363"/>
                </a:lnTo>
                <a:lnTo>
                  <a:pt x="4461600" y="485736"/>
                </a:lnTo>
                <a:lnTo>
                  <a:pt x="4461600" y="424545"/>
                </a:lnTo>
                <a:lnTo>
                  <a:pt x="4037073" y="1"/>
                </a:lnTo>
                <a:lnTo>
                  <a:pt x="4089316" y="1"/>
                </a:lnTo>
                <a:lnTo>
                  <a:pt x="4488536" y="399238"/>
                </a:lnTo>
                <a:lnTo>
                  <a:pt x="4548098" y="399238"/>
                </a:lnTo>
                <a:lnTo>
                  <a:pt x="4947332" y="4"/>
                </a:lnTo>
                <a:lnTo>
                  <a:pt x="4999576" y="4"/>
                </a:lnTo>
                <a:lnTo>
                  <a:pt x="4572425" y="427154"/>
                </a:lnTo>
                <a:lnTo>
                  <a:pt x="4572425" y="483127"/>
                </a:lnTo>
                <a:lnTo>
                  <a:pt x="5043657" y="954361"/>
                </a:lnTo>
                <a:lnTo>
                  <a:pt x="5512408" y="485609"/>
                </a:lnTo>
                <a:lnTo>
                  <a:pt x="5512408" y="424676"/>
                </a:lnTo>
                <a:lnTo>
                  <a:pt x="5087732" y="1"/>
                </a:lnTo>
                <a:lnTo>
                  <a:pt x="5139975" y="1"/>
                </a:lnTo>
                <a:lnTo>
                  <a:pt x="5539212" y="399238"/>
                </a:lnTo>
                <a:lnTo>
                  <a:pt x="5598779" y="399238"/>
                </a:lnTo>
                <a:lnTo>
                  <a:pt x="5998015" y="2"/>
                </a:lnTo>
                <a:lnTo>
                  <a:pt x="6050259" y="2"/>
                </a:lnTo>
                <a:lnTo>
                  <a:pt x="5623233" y="427027"/>
                </a:lnTo>
                <a:lnTo>
                  <a:pt x="5623233" y="483258"/>
                </a:lnTo>
                <a:lnTo>
                  <a:pt x="6094336" y="954363"/>
                </a:lnTo>
                <a:lnTo>
                  <a:pt x="6563216" y="485481"/>
                </a:lnTo>
                <a:lnTo>
                  <a:pt x="6563216" y="424799"/>
                </a:lnTo>
                <a:lnTo>
                  <a:pt x="613841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90"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91" name="PlaceHolder 3"/>
          <p:cNvSpPr>
            <a:spLocks noGrp="1"/>
          </p:cNvSpPr>
          <p:nvPr>
            <p:ph type="dt" idx="7"/>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2" name="PlaceHolder 4"/>
          <p:cNvSpPr>
            <a:spLocks noGrp="1"/>
          </p:cNvSpPr>
          <p:nvPr>
            <p:ph type="ftr" idx="8"/>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 name="PlaceHolder 5"/>
          <p:cNvSpPr>
            <a:spLocks noGrp="1"/>
          </p:cNvSpPr>
          <p:nvPr>
            <p:ph type="sldNum" idx="9"/>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740354-CFA7-468D-BB95-7EEDCEE36C09}"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3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3" name="PlaceHolder 4"/>
          <p:cNvSpPr>
            <a:spLocks noGrp="1"/>
          </p:cNvSpPr>
          <p:nvPr>
            <p:ph type="ftr" idx="11"/>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2DB092-DC81-4C1B-8B5A-951243FEA461}"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7"/>
          <p:cNvSpPr/>
          <p:nvPr/>
        </p:nvSpPr>
        <p:spPr>
          <a:xfrm flipV="1">
            <a:off x="6289560" y="5264280"/>
            <a:ext cx="0" cy="91440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73"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4" name="PlaceHolder 3"/>
          <p:cNvSpPr>
            <a:spLocks noGrp="1"/>
          </p:cNvSpPr>
          <p:nvPr>
            <p:ph type="dt" idx="13"/>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5" name="PlaceHolder 4"/>
          <p:cNvSpPr>
            <a:spLocks noGrp="1"/>
          </p:cNvSpPr>
          <p:nvPr>
            <p:ph type="ftr" idx="14"/>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5"/>
          <p:cNvSpPr>
            <a:spLocks noGrp="1"/>
          </p:cNvSpPr>
          <p:nvPr>
            <p:ph type="sldNum" idx="15"/>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14F372-758D-4883-92E7-DCC91B919DD9}"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traight Connector 6"/>
          <p:cNvSpPr/>
          <p:nvPr/>
        </p:nvSpPr>
        <p:spPr>
          <a:xfrm>
            <a:off x="7201080" y="515880"/>
            <a:ext cx="685800" cy="0"/>
          </a:xfrm>
          <a:prstGeom prst="line">
            <a:avLst/>
          </a:prstGeom>
          <a:ln w="19080">
            <a:solidFill>
              <a:srgbClr val="c669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215"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c669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6" name="PlaceHolder 3"/>
          <p:cNvSpPr>
            <a:spLocks noGrp="1"/>
          </p:cNvSpPr>
          <p:nvPr>
            <p:ph type="dt" idx="16"/>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7" name="PlaceHolder 4"/>
          <p:cNvSpPr>
            <a:spLocks noGrp="1"/>
          </p:cNvSpPr>
          <p:nvPr>
            <p:ph type="ftr" idx="17"/>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8" name="PlaceHolder 5"/>
          <p:cNvSpPr>
            <a:spLocks noGrp="1"/>
          </p:cNvSpPr>
          <p:nvPr>
            <p:ph type="sldNum" idx="18"/>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32A2D0-D215-467D-AFF1-5CEBB20A6A16}" type="slidenum">
              <a:rPr b="0" lang="en-US" sz="1000" spc="-1" strike="noStrike">
                <a:solidFill>
                  <a:srgbClr val="0d0d0d"/>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11"/>
          <p:cNvSpPr/>
          <p:nvPr/>
        </p:nvSpPr>
        <p:spPr>
          <a:xfrm>
            <a:off x="6095880" y="441972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63" name="Text Box 14"/>
          <p:cNvSpPr/>
          <p:nvPr/>
        </p:nvSpPr>
        <p:spPr>
          <a:xfrm>
            <a:off x="611280" y="5105520"/>
            <a:ext cx="6624720" cy="1068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4000" spc="-1" strike="noStrike">
                <a:solidFill>
                  <a:srgbClr val="000000"/>
                </a:solidFill>
                <a:latin typeface="Times New Roman"/>
              </a:rPr>
              <a:t>Zorgen voor veiligheid EHBO </a:t>
            </a:r>
            <a:endParaRPr b="0" lang="en-US" sz="4000" spc="-1" strike="noStrike">
              <a:solidFill>
                <a:srgbClr val="000000"/>
              </a:solidFill>
              <a:latin typeface="Tw Cen MT"/>
            </a:endParaRPr>
          </a:p>
        </p:txBody>
      </p:sp>
      <p:sp>
        <p:nvSpPr>
          <p:cNvPr id="264" name="Text Box 15"/>
          <p:cNvSpPr/>
          <p:nvPr/>
        </p:nvSpPr>
        <p:spPr>
          <a:xfrm>
            <a:off x="5105520" y="510552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WAT IS EERSTE HULP?</a:t>
            </a:r>
            <a:endParaRPr b="0" lang="en-US" sz="4400" spc="-1" strike="noStrike">
              <a:solidFill>
                <a:srgbClr val="0d0d0d"/>
              </a:solidFill>
              <a:latin typeface="Tw Cen MT Condensed"/>
            </a:endParaRPr>
          </a:p>
        </p:txBody>
      </p:sp>
      <p:sp>
        <p:nvSpPr>
          <p:cNvPr id="266"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Eerste hulp is de noodzakelijke hulp die naar het oordeel van de eerstehulpverlener aan het slachtoffer moet worden verleend op een wijze die aansluit bij de professionele hulpverlening</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TAAK EERSTE HULP VERLENER </a:t>
            </a:r>
            <a:endParaRPr b="0" lang="en-US" sz="4400" spc="-1" strike="noStrike">
              <a:solidFill>
                <a:srgbClr val="0d0d0d"/>
              </a:solidFill>
              <a:latin typeface="Tw Cen MT Condensed"/>
            </a:endParaRPr>
          </a:p>
        </p:txBody>
      </p:sp>
      <p:sp>
        <p:nvSpPr>
          <p:cNvPr id="268"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Het slachtoffer in leven te houden als diens leven wordt bedreigd</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Te voorkomen dat stoornissen of het letsel van het slachtoffer  </a:t>
            </a:r>
            <a:endParaRPr b="0" lang="en-US" sz="20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vererger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De situatie zo comfortabel mogelijk te maken voor het slachtoffer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Te zorgen voor alarmering van professionele hulp</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DE GESCHIEDENIS VAN DE EHBO</a:t>
            </a:r>
            <a:endParaRPr b="0" lang="en-US" sz="4400" spc="-1" strike="noStrike">
              <a:solidFill>
                <a:srgbClr val="0d0d0d"/>
              </a:solidFill>
              <a:latin typeface="Tw Cen MT Condensed"/>
            </a:endParaRPr>
          </a:p>
        </p:txBody>
      </p:sp>
      <p:sp>
        <p:nvSpPr>
          <p:cNvPr id="270" name=""/>
          <p:cNvSpPr txBox="1"/>
          <p:nvPr/>
        </p:nvSpPr>
        <p:spPr>
          <a:xfrm>
            <a:off x="603000" y="2276640"/>
            <a:ext cx="7289640" cy="402408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Dr. Tilanus brengt rond 1890 de EHBO-cursus van Engeland naar Nederland</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893 werd de Nederlandse Vereniging EHBO opgerich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909 oprichting van "Het Oranje Kruis”</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912 verscheen de eerste druk van het Oranje Kruis Boekje.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1951 verscheen het eenheidsdiploma EHBO.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271" name="Picture 14" descr="oranje kruis 1"/>
          <p:cNvPicPr/>
          <p:nvPr/>
        </p:nvPicPr>
        <p:blipFill>
          <a:blip r:embed="rId1"/>
          <a:stretch/>
        </p:blipFill>
        <p:spPr>
          <a:xfrm>
            <a:off x="6454800" y="4883040"/>
            <a:ext cx="1295280" cy="10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DE BHV’ER (BEDRIJFSHULPVERLENER)</a:t>
            </a:r>
            <a:endParaRPr b="0" lang="en-US" sz="4400" spc="-1" strike="noStrike">
              <a:solidFill>
                <a:srgbClr val="0d0d0d"/>
              </a:solidFill>
              <a:latin typeface="Tw Cen MT Condensed"/>
            </a:endParaRPr>
          </a:p>
        </p:txBody>
      </p:sp>
      <p:pic>
        <p:nvPicPr>
          <p:cNvPr id="273" name="Picture 21" descr="BHV"/>
          <p:cNvPicPr/>
          <p:nvPr/>
        </p:nvPicPr>
        <p:blipFill>
          <a:blip r:embed="rId1"/>
          <a:stretch/>
        </p:blipFill>
        <p:spPr>
          <a:xfrm>
            <a:off x="2700360" y="2781360"/>
            <a:ext cx="2879640" cy="241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68240" y="585360"/>
            <a:ext cx="729000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d0d0d"/>
                </a:solidFill>
                <a:latin typeface="Tw Cen MT Condensed"/>
              </a:rPr>
              <a:t>BASISREGELS EHBO </a:t>
            </a:r>
            <a:endParaRPr b="0" lang="en-US" sz="4400" spc="-1" strike="noStrike">
              <a:solidFill>
                <a:srgbClr val="0d0d0d"/>
              </a:solidFill>
              <a:latin typeface="Tw Cen MT Condensed"/>
            </a:endParaRPr>
          </a:p>
        </p:txBody>
      </p:sp>
      <p:sp>
        <p:nvSpPr>
          <p:cNvPr id="275" name=""/>
          <p:cNvSpPr txBox="1"/>
          <p:nvPr/>
        </p:nvSpPr>
        <p:spPr>
          <a:xfrm>
            <a:off x="768240" y="2286000"/>
            <a:ext cx="729000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Let op gevaar. Zorg ervoor dat je zelf, omstanders en het         </a:t>
            </a:r>
            <a:endParaRPr b="0" lang="en-US" sz="2000" spc="-1" strike="noStrike">
              <a:solidFill>
                <a:srgbClr val="000000"/>
              </a:solidFill>
              <a:latin typeface="Tw Cen MT"/>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slachtoffer geen gevaar lopen</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Ga na wat er gebeurd is en daarna wat iemand mankeert.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Stel het slachtoffer gerust en zorg voor beschutting.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Zorg voor professionele hulp. </a:t>
            </a:r>
            <a:endParaRPr b="0" lang="en-US" sz="2000" spc="-1" strike="noStrike">
              <a:solidFill>
                <a:srgbClr val="000000"/>
              </a:solidFill>
              <a:latin typeface="Tw Cen MT"/>
            </a:endParaRPr>
          </a:p>
          <a:p>
            <a:pPr marL="90360" indent="-90360">
              <a:lnSpc>
                <a:spcPct val="90000"/>
              </a:lnSpc>
              <a:spcBef>
                <a:spcPts val="1199"/>
              </a:spcBef>
              <a:spcAft>
                <a:spcPts val="201"/>
              </a:spcAft>
              <a:buClr>
                <a:srgbClr val="c669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w Cen MT"/>
              </a:rPr>
              <a:t> </a:t>
            </a:r>
            <a:r>
              <a:rPr b="0" lang="nl-NL" sz="2000" spc="-1" strike="noStrike">
                <a:solidFill>
                  <a:srgbClr val="000000"/>
                </a:solidFill>
                <a:latin typeface="Tw Cen MT"/>
              </a:rPr>
              <a:t>Help het slachtoffer op de plaats waar deze is aangetroffen. </a:t>
            </a:r>
            <a:endParaRPr b="0" lang="en-US" sz="2000" spc="-1" strike="noStrike">
              <a:solidFill>
                <a:srgbClr val="000000"/>
              </a:solidFill>
              <a:latin typeface="Tw Cen MT"/>
            </a:endParaRPr>
          </a:p>
        </p:txBody>
      </p:sp>
      <p:pic>
        <p:nvPicPr>
          <p:cNvPr id="276" name="Afbeelding 3" descr=""/>
          <p:cNvPicPr/>
          <p:nvPr/>
        </p:nvPicPr>
        <p:blipFill>
          <a:blip r:embed="rId1"/>
          <a:stretch/>
        </p:blipFill>
        <p:spPr>
          <a:xfrm>
            <a:off x="6516720" y="5013360"/>
            <a:ext cx="1728720" cy="160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09:15:34Z</dcterms:created>
  <dc:creator>Jesse Skolnik</dc:creator>
  <dc:description/>
  <dc:language>en-US</dc:language>
  <cp:lastModifiedBy>Charlotte Verhagen</cp:lastModifiedBy>
  <dcterms:modified xsi:type="dcterms:W3CDTF">2022-02-06T11:01:59Z</dcterms:modified>
  <cp:revision>69</cp:revision>
  <dc:subject/>
  <dc:title>No Slide Title</dc:title>
</cp:coreProperties>
</file>