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104A8-5BB9-45C5-9D2D-039CABEBF5C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CA2FF-F3CF-484E-A0AC-86F2C9F0CE26}"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EFDCE-46E5-43C8-A3AD-F2F8AB9486C8}"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5344D-8AB0-4CF5-B406-E563E558E965}"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7386D-0022-4781-9A89-74F742673C2F}"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4554-B0B6-41DA-8A43-BE3E28C22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48C5-4ABB-476A-B101-858831FA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E2B9B-66D9-4F24-856D-1F9A58726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FF623-DE1F-4C7B-AECD-79F4739AD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23AEE-E78F-464E-B034-6EAB87BDD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E3B92-E2A9-4DA0-85BB-9DF1F9A06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A81FD-5B29-44C4-B583-DA59CECC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92758-D7DA-471C-8A60-78FB4CA8C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08B6C-D28B-4552-A3DB-56D8DF0D1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52FEE-FAB4-4CC6-AB42-89C639745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EB78-1A88-4B31-88FD-166BB3EA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2390-760C-4EE3-B406-CC0BD0CAA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6B1A9-972B-48B9-B265-5EC39F76A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3A911-934D-44E8-95ED-60B7E97D6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69BE-9B53-4F17-8DCE-24D0E8DF7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4A488-72F0-46A2-9983-3BD4E93E0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2F698-D906-4FDD-8F6B-1A1ABAEE3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D6ABF-B8DC-489F-8DE5-B44A5C4E35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90B8E-BAA5-4FEF-911E-6E01DFC03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EFB5E-7D1C-4149-8BF8-ED9172923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39C75-81C5-4901-924A-AFCEBBFA4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57D90-C684-45EF-B9FA-DD9243540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A147-BEE4-432C-AFC2-8BBE4135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FD5AF-24D1-414A-BF74-19EA41759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0D372-4FCE-4CB1-A1C3-EC12B9B64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FF995-11DE-4D18-BF59-F0D0014B0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A1E58-1E65-4995-834F-AAD8FD908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5F190-1C64-47E9-9590-7C075250A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4364E3-624A-48B2-B773-580898A892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83C93-AA31-4A07-B1A0-0D3E1FE06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4E40CF-B0D1-4DBB-9FC3-88A626FAC6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CA60C-E7EA-4567-AF9A-C5382D8CE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6A305-091D-4E4F-8356-157CF3625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C49A-92C9-4548-8B7E-DDD7D33F4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B6892-456A-42CE-963F-D6B20AC39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582F3-BAA9-4902-9D5E-7770AACBE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D1FB2-763C-4807-9D6B-A42E5E156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B5D3D-8476-44DA-BAD1-853A9F754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991B-5F82-4CD9-980A-D19749609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85F4D-FA9A-4321-8373-53FA65ABA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9C6D0-93C9-4AB0-AD9B-EB555538A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F8676-7D5B-413D-939B-6BDB6CEE36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8B58D3-86AD-4426-8FD2-060AD5B6F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D4C368-D8DE-40B3-B830-54061EB0E6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9A82B-F65E-43D1-BC7C-0092CC15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67795-0E20-4A6F-93EF-3D0069C10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6117B-4E72-4F58-964B-DF41A19D3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0D849-FEAE-4DFA-9773-EC1904AF5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4F307-9C03-4EEB-99F9-C28E0BB59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E5039-C903-4A25-AA6B-5213C8C91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37E39-51B1-4B54-ADDA-B68853781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590B8-28E4-4600-B98A-21C0A07EC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5A192-E747-4CA3-9CD2-0469AB69E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7FC43-11D1-48A9-A391-72E50BF2B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8D2E56-6AAF-49A5-8405-D2B46AB4B5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E6C0-0E80-453A-9C5F-4F73A0F4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E356A4-6AB5-4D6D-AD8B-DE3031BA31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E63D7-1E37-487A-8C1F-607FF3635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09802-342F-43FF-A157-C1A68888C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40306-8583-4B3D-A7C5-16A943D29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21E83-F3D6-4322-BF41-CAF56162C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A8B64-7A66-4883-BE14-F8B4FD1FC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D892E-5A35-4EB5-BE29-010E034B6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866D0-1588-4A9E-9ECD-B152786B9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91179-295D-44E3-BCFC-C1ED26C59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BA63B-824F-420D-8314-A59D81792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60C8-FF34-4D77-A6D5-FEA2FD96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82086-FB87-43DB-BEBB-6F8DD2635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9FA24D-A3D6-4E07-9F36-B9F63BBE0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4778E-2ECD-4706-85AB-A741D21B21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4771-FE41-4C40-A093-3F64AB9F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6879-9ABE-4013-8EBF-812096380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0F942-C36C-4458-A1CA-990E49AE3DCC}"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B34B4-DAEA-4F6D-B87D-B9AED6A0272C}" type="datetime">
              <a:rPr b="0" lang="nl-NL" sz="1000" spc="-1" strike="noStrike">
                <a:solidFill>
                  <a:srgbClr val="0d0d0d"/>
                </a:solidFill>
                <a:latin typeface="Tw Cen MT Condensed"/>
              </a:rPr>
              <a:t>31-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F76A8-2CB0-4AFE-A091-696AB0609713}"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B90A3-D12C-424D-8AAE-3B87BB2ADD13}"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8DFC5-43FB-429B-949F-8E3ABCBF714C}"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B339D-33C7-4C93-8313-38B036F5AD78}"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0A309-95DA-46C1-9AEF-545EA574A19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