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44F33-C040-4B39-8FDA-8045915DCAB2}"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80D29-AB0E-4C9D-AB6F-E165F896AA19}"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576D4-DA68-466D-985A-0C31F62D0EA3}"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C1154-1F8E-4A8D-BA96-C0AF168B1DA2}"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0C731-FC21-4F8A-B020-DA559259A534}"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93ADA-C2AD-49B3-B4AF-C041F1BBA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A55E-EFFD-4E1C-AE77-1EB345A90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BC370-3C6D-4A00-BD0C-42629FD85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E3D05-694A-4C1D-8700-2B0BDE12E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5E616-CCC1-4CDF-B9F4-87A678BD0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B76DD-4A0B-40A0-8FD1-5BC25CFF5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0F9D5-0DC3-4CEB-A325-638393D04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EB368-A791-4500-B48A-A773B724A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9DCD-C43D-4939-9383-7424046F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2DB7C-AF93-4A69-BCA8-1462EA90E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27B15-CC6F-4AEA-99ED-B78F057C6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B0090-01FB-4511-A054-2B2AEC769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EB7B8-CD58-41BE-B0D7-8ECB1E84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6F0A8-5273-4B60-8ACE-266F29BD0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A6DC3-20BC-4F57-8BFA-671B55C74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61C8F-391C-4E31-9FAB-E2911611E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A1A42-464D-4EE6-BEDE-0CF9C80CB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359E4-89E7-437C-8B72-2B341BCA0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6A3D6-C5EF-4AE5-ACCB-66E17BEFB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00821-3122-4E07-AD9B-0B0C90E35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28DE7-D2F6-40FB-8945-81DF57F78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264C7-FF51-4DF2-AB55-4E770D7A3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99598-CA8B-440E-97C0-E45F9678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4CF4D-9081-4AD0-B577-84A794D1A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1811C-6838-4AA8-A579-CCBB16400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D4B8D-8595-4BB5-9F6D-62A230A25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0D691-F4BA-49B6-9978-2E17DDE64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F2BF5-0FEF-4E49-9C53-0BC32CE09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024CF8-3C08-4E53-B746-A96BCCD47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299B34-053D-4795-9C85-4C777D531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14FD95-5BF3-48DB-B138-F933854919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0AFDE-0BD7-40B4-BB90-AA66B89EC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6E2DE-E897-49FE-BA2B-772876A04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B3AB-EE75-49F9-A890-4BEA1A30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15497-F6EA-4023-A796-BFDEE8468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927D9-BA5D-43EC-A992-1CF6BF057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62291-0BF1-49AB-820A-A3CA2FA00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4567D-F483-4BF6-94A2-108D1F607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42903-77CD-4040-82A4-8F95501DF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19505-DFFD-47FA-8744-4E7285E97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D442A-4EAD-4781-9FE5-546DC9482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041FF-F657-4C69-93A1-E9C314701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64D69-106E-47DD-B88C-3C8C48724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1E539A-1C57-47E9-ACD8-D211FFC2FF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A5831-2E06-458F-8BD7-D5A010C4D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79E94-49FE-4725-B4C8-942C14E6C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22AC7-1B46-4309-9E87-9899F2488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2E24B6-5A2A-4C93-BC95-D779CA3D4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2BE07-74FE-4C86-9D63-B1508345C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0C4846-1309-45D3-AD98-5C908348E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0A779-4443-4982-8B73-7940D35BF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79C11-900E-44F7-BA32-DC7717BA8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83D6E5-BA92-44E2-B4F2-59491B23D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6C7CF-356A-4C7A-99F4-FAED623F87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D672F-D25D-4155-9DE0-3F94656D29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99D2-1286-4598-9AE3-9FACB8D7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A80CDA-79DA-4F34-A50E-0742CD9568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23FBE0-FBC2-45B8-B814-24799E5E57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7DA22-4A30-47F6-A1C5-2E970A3B7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0E66B-304E-4DE6-9180-99FECF1A2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78B54-1C60-4002-956B-45EB8608F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616C0-3510-4C51-A539-9207C7C166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033C3-9E26-492F-A751-B21B58861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2C483-D872-4ECF-8CB7-DDBB1C460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1DE57-952F-4A05-B093-3C2C74163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9AF5B-F86A-4A20-BDB6-48A8A909D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974E-C238-49D3-A1CC-B0A1D49E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20B42-AFD2-4D9F-B2DA-10BFA7507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7503E-BC9D-4623-A4EB-FCFC906CF1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4528E-73B6-4A90-B573-449FEB9CB8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8943-F769-4F9E-ABB5-4A5DFB29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C0374-FFBB-4ECB-8E83-7FA756DA4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0C3069-F821-465D-AAE2-5A9CA5E5B9B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64798-A40A-40D7-BBC1-836F58BE0266}" type="datetime">
              <a:rPr b="0" lang="nl-NL" sz="1000" spc="-1" strike="noStrike">
                <a:solidFill>
                  <a:srgbClr val="0d0d0d"/>
                </a:solidFill>
                <a:latin typeface="Tw Cen MT Condensed"/>
              </a:rPr>
              <a:t>29-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40133-D008-4AEA-B3A8-5EDD1E0D97B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337AD-70D3-4A6A-A174-D782E851637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1D0FC-CF53-4EB8-BF17-55F6D289577B}"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744DE-5FF8-4359-9938-BB1BF5EE212D}"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6ACDD-CDFE-4CE5-B2BB-6B9C64BE8E74}"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