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1.jpeg" ContentType="image/jpeg"/>
  <Override PartName="/ppt/media/image2.jpeg" ContentType="image/jpe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w Cen MT"/>
            </a:endParaRPr>
          </a:p>
        </p:txBody>
      </p:sp>
      <p:sp>
        <p:nvSpPr>
          <p:cNvPr id="25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57" name="PlaceHolder 2"/>
          <p:cNvSpPr>
            <a:spLocks noGrp="1"/>
          </p:cNvSpPr>
          <p:nvPr>
            <p:ph type="dt" idx="19"/>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5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0d0d"/>
                </a:solidFill>
                <a:latin typeface="Tw Cen MT Condensed"/>
              </a:rPr>
              <a:t>Click to move the slide</a:t>
            </a:r>
            <a:endParaRPr b="0" lang="en-US" sz="4400" spc="-1" strike="noStrike">
              <a:solidFill>
                <a:srgbClr val="0d0d0d"/>
              </a:solidFill>
              <a:latin typeface="Tw Cen MT Condensed"/>
            </a:endParaRPr>
          </a:p>
        </p:txBody>
      </p:sp>
      <p:sp>
        <p:nvSpPr>
          <p:cNvPr id="25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60" name="PlaceHolder 5"/>
          <p:cNvSpPr>
            <a:spLocks noGrp="1"/>
          </p:cNvSpPr>
          <p:nvPr>
            <p:ph type="ftr" idx="20"/>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61" name="PlaceHolder 6"/>
          <p:cNvSpPr>
            <a:spLocks noGrp="1"/>
          </p:cNvSpPr>
          <p:nvPr>
            <p:ph type="sldNum" idx="21"/>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2DC6B9B-0D28-451E-9619-45A7DED78CCF}" type="slidenum">
              <a:rPr b="0" lang="nl-NL"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Waarom is het van belang om als verzorgende/ verpleegkundige kennis te hebben van EHBO</a:t>
            </a:r>
            <a:endParaRPr b="0" lang="en-US" sz="1200" spc="-1" strike="noStrike">
              <a:solidFill>
                <a:srgbClr val="000000"/>
              </a:solidFill>
              <a:latin typeface="Times New Roman"/>
            </a:endParaRPr>
          </a:p>
        </p:txBody>
      </p:sp>
      <p:sp>
        <p:nvSpPr>
          <p:cNvPr id="279" name="Tijdelijke aanduiding voor dianumm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6DEF118-4995-40F9-B933-52714883EE1E}" type="slidenum">
              <a:rPr b="0" lang="nl-NL" sz="1200" spc="-1" strike="noStrike">
                <a:solidFill>
                  <a:srgbClr val="000000"/>
                </a:solidFill>
                <a:latin typeface="Times New Roman"/>
              </a:rPr>
              <a:t>&lt;number&gt;</a:t>
            </a:fld>
            <a:endParaRPr b="0" lang="en-US" sz="1200" spc="-1" strike="noStrike">
              <a:solidFill>
                <a:srgbClr val="000000"/>
              </a:solidFill>
              <a:latin typeface="Tw Cen M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Oranje Kruis heeft als missie om in Nederland kennis en kunde van EHBO te verspreiden. Het Oranje Kruis is een onafhankelijk certificerende organisatie op het gebied van Eerste Hul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Het Oranje Kruis stelt eindtermen vast, stelt lesmaterialen samen en examineert en certificeert eerstehulpverleners, Instructeurs Eerste Hulp evenals Lotusslachtoffers en Instructeur Lotusslachtoff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Wil je dus ooit een echt EHBO diploma behalen dan kan je terecht bij het oranje kruis. De opleiding duurt gemiddeld 3 maanden. Je vaardigheden moet je op peil houden. Een EHBO diploma is 2 jaar geldig. </a:t>
            </a:r>
            <a:endParaRPr b="0" lang="en-US" sz="1200" spc="-1" strike="noStrike">
              <a:solidFill>
                <a:srgbClr val="000000"/>
              </a:solidFill>
              <a:latin typeface="Times New Roman"/>
            </a:endParaRPr>
          </a:p>
        </p:txBody>
      </p:sp>
      <p:sp>
        <p:nvSpPr>
          <p:cNvPr id="282" name="Tijdelijke aanduiding voor dianumm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D062539-DC96-4EC9-98C0-0CCBC7007594}" type="slidenum">
              <a:rPr b="0" lang="nl-NL" sz="1200" spc="-1" strike="noStrike">
                <a:solidFill>
                  <a:srgbClr val="000000"/>
                </a:solidFill>
                <a:latin typeface="Times New Roman"/>
              </a:rPr>
              <a:t>&lt;number&gt;</a:t>
            </a:fld>
            <a:endParaRPr b="0" lang="en-US" sz="1200" spc="-1" strike="noStrike">
              <a:solidFill>
                <a:srgbClr val="000000"/>
              </a:solidFill>
              <a:latin typeface="Tw Cen M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Bedrijfshulpverlening (BHV) is de hulp die wordt verleend bij ongewenste gebeurtenissen in een organisatie, die de veiligheid en/of gezondheid van de werknemers en andere aanwezigen bedreigen (zoals brand en ongevall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De taken van bedrijfshulpverleners zijn in ieder geval:</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het verlenen van eerste hulp bij ongevallen;</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het beperken en het bestrijden van brand en het beperken van de gevolgen van ongevallen;</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het in noodsituaties alarmeren en evacueren van alle werknemers en andere personen in het bedrijf of de inrich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Afhankelijk van de grote van de organisatie en de soort organisatie wordt het aantal BHV-ers berekend die minimaal aanwezig moeten zijn. Je kan je voorstellen dat een zorgorganisatie waar veel mensen wonen die niet mobiel zijn er meer BHV-ers nodig zijn om deze bij b.v. brand in veiligheid te kunnen brengen. </a:t>
            </a:r>
            <a:endParaRPr b="0" lang="en-US" sz="1200" spc="-1" strike="noStrike">
              <a:solidFill>
                <a:srgbClr val="000000"/>
              </a:solidFill>
              <a:latin typeface="Times New Roman"/>
            </a:endParaRPr>
          </a:p>
        </p:txBody>
      </p:sp>
      <p:sp>
        <p:nvSpPr>
          <p:cNvPr id="285" name="Tijdelijke aanduiding voor dianumm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6648317-96CB-43D4-9155-18EB98156E99}" type="slidenum">
              <a:rPr b="0" lang="nl-NL" sz="1200" spc="-1" strike="noStrike">
                <a:solidFill>
                  <a:srgbClr val="000000"/>
                </a:solidFill>
                <a:latin typeface="Times New Roman"/>
              </a:rPr>
              <a:t>&lt;number&gt;</a:t>
            </a:fld>
            <a:endParaRPr b="0" lang="en-US" sz="1200" spc="-1" strike="noStrike">
              <a:solidFill>
                <a:srgbClr val="000000"/>
              </a:solidFill>
              <a:latin typeface="Tw Cen M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914400" y="4343400"/>
            <a:ext cx="5029200" cy="4114800"/>
          </a:xfrm>
          <a:prstGeom prst="rect">
            <a:avLst/>
          </a:prstGeom>
          <a:noFill/>
          <a:ln w="0">
            <a:noFill/>
          </a:ln>
        </p:spPr>
        <p:txBody>
          <a:bodyPr anchor="t">
            <a:noAutofit/>
          </a:bodyPr>
          <a:p>
            <a:pPr marL="171360" indent="-1713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Let op gevaar. Zorg ervoor dat je zelf, omstanders en het slachtoffer geen gevaar lopen</a:t>
            </a:r>
            <a:endParaRPr b="0" lang="en-US" sz="1200" spc="-1" strike="noStrike">
              <a:solidFill>
                <a:srgbClr val="000000"/>
              </a:solidFill>
              <a:latin typeface="Times New Roman"/>
            </a:endParaRPr>
          </a:p>
          <a:p>
            <a:pPr marL="171360" indent="-1713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Ga na wat er gebeurd is en daarna wat iemand mankeert. Vraag aan het slachtoffer of de omstanders wat er is gebeurd of kijk wat er is op te maken uit de situatie ter plaatse</a:t>
            </a:r>
            <a:endParaRPr b="0" lang="en-US" sz="1200" spc="-1" strike="noStrike">
              <a:solidFill>
                <a:srgbClr val="000000"/>
              </a:solidFill>
              <a:latin typeface="Times New Roman"/>
            </a:endParaRPr>
          </a:p>
          <a:p>
            <a:pPr marL="171360" indent="-1713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Stel het slachtoffer gerust en zorg voor beschutting. Een slachtoffer is vaak geschrokken en heeft iemand nodig die hem opvangt en geruststelt; wees rustig en zorgzaam maar ook kordaat. Zorg voor beschutting tegen kou of hitte</a:t>
            </a:r>
            <a:endParaRPr b="0" lang="en-US" sz="1200" spc="-1" strike="noStrike">
              <a:solidFill>
                <a:srgbClr val="000000"/>
              </a:solidFill>
              <a:latin typeface="Times New Roman"/>
            </a:endParaRPr>
          </a:p>
          <a:p>
            <a:pPr marL="171360" indent="-1713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Zorg voor professionele hulp. Laat een omstander het alarmnummer bellen en laat onderstaande punten doorgeven. Vraag de beller daarna terug te komen, zodat u zeker weet dat er is gebeld. De volgende informatie is voor de hulpdiensten van belang:</a:t>
            </a:r>
            <a:endParaRPr b="0" lang="en-US" sz="1200" spc="-1" strike="noStrike">
              <a:solidFill>
                <a:srgbClr val="000000"/>
              </a:solidFill>
              <a:latin typeface="Times New Roman"/>
            </a:endParaRPr>
          </a:p>
          <a:p>
            <a:pPr lvl="1" marL="628560" indent="-1713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welke hulpdienst nodig is (ambulance)</a:t>
            </a:r>
            <a:endParaRPr b="0" lang="en-US" sz="1200" spc="-1" strike="noStrike">
              <a:solidFill>
                <a:srgbClr val="000000"/>
              </a:solidFill>
              <a:latin typeface="Times New Roman"/>
            </a:endParaRPr>
          </a:p>
          <a:p>
            <a:pPr lvl="1" marL="628560" indent="-1713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plaats waarheen de hulp moet komen</a:t>
            </a:r>
            <a:endParaRPr b="0" lang="en-US" sz="1200" spc="-1" strike="noStrike">
              <a:solidFill>
                <a:srgbClr val="000000"/>
              </a:solidFill>
              <a:latin typeface="Times New Roman"/>
            </a:endParaRPr>
          </a:p>
          <a:p>
            <a:pPr lvl="1" marL="628560" indent="-1713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wat er gebeurd is</a:t>
            </a:r>
            <a:endParaRPr b="0" lang="en-US" sz="1200" spc="-1" strike="noStrike">
              <a:solidFill>
                <a:srgbClr val="000000"/>
              </a:solidFill>
              <a:latin typeface="Times New Roman"/>
            </a:endParaRPr>
          </a:p>
          <a:p>
            <a:pPr lvl="1" marL="628560" indent="-1713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aantal slachtoffers</a:t>
            </a:r>
            <a:endParaRPr b="0" lang="en-US" sz="1200" spc="-1" strike="noStrike">
              <a:solidFill>
                <a:srgbClr val="000000"/>
              </a:solidFill>
              <a:latin typeface="Times New Roman"/>
            </a:endParaRPr>
          </a:p>
          <a:p>
            <a:pPr lvl="1" marL="628560" indent="-1713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de vermoedelijke leeftijd</a:t>
            </a:r>
            <a:endParaRPr b="0" lang="en-US" sz="1200" spc="-1" strike="noStrike">
              <a:solidFill>
                <a:srgbClr val="000000"/>
              </a:solidFill>
              <a:latin typeface="Times New Roman"/>
            </a:endParaRPr>
          </a:p>
          <a:p>
            <a:pPr lvl="1" marL="628560" indent="-1713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wat het slachtoffer mankeert. Vermeld ook expliciet of er een reanimatie plaatsvindt</a:t>
            </a:r>
            <a:endParaRPr b="0" lang="en-US" sz="1200" spc="-1" strike="noStrike">
              <a:solidFill>
                <a:srgbClr val="000000"/>
              </a:solidFill>
              <a:latin typeface="Times New Roman"/>
            </a:endParaRPr>
          </a:p>
          <a:p>
            <a:pPr marL="171360" indent="-1713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Help het slachtoffer op de plaats waar deze is aangetroffen. Door een slachtoffer onnodig te verplaatsen, kan zijn toestand verslechteren. Verplaats een slachtoffer alleen, indien er sprake is van acuut gevaar.</a:t>
            </a:r>
            <a:endParaRPr b="0" lang="en-US" sz="1200" spc="-1" strike="noStrike">
              <a:solidFill>
                <a:srgbClr val="000000"/>
              </a:solidFill>
              <a:latin typeface="Times New Roman"/>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8" name="Tijdelijke aanduiding voor dianumm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08CEE68-5B36-4398-8367-CB082FA82782}" type="slidenum">
              <a:rPr b="0" lang="nl-NL" sz="1200" spc="-1" strike="noStrike">
                <a:solidFill>
                  <a:srgbClr val="000000"/>
                </a:solidFill>
                <a:latin typeface="Times New Roman"/>
              </a:rPr>
              <a:t>&lt;number&gt;</a:t>
            </a:fld>
            <a:endParaRPr b="0" lang="en-US" sz="1200" spc="-1" strike="noStrike">
              <a:solidFill>
                <a:srgbClr val="000000"/>
              </a:solidFill>
              <a:latin typeface="Tw Cen M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A16D7B-9A9A-4097-A167-DEA5CC3D0B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28" name="PlaceHolder 2"/>
          <p:cNvSpPr>
            <a:spLocks noGrp="1"/>
          </p:cNvSpPr>
          <p:nvPr>
            <p:ph/>
          </p:nvPr>
        </p:nvSpPr>
        <p:spPr>
          <a:xfrm>
            <a:off x="768240" y="2286000"/>
            <a:ext cx="72900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9" name="PlaceHolder 3"/>
          <p:cNvSpPr>
            <a:spLocks noGrp="1"/>
          </p:cNvSpPr>
          <p:nvPr>
            <p:ph/>
          </p:nvPr>
        </p:nvSpPr>
        <p:spPr>
          <a:xfrm>
            <a:off x="768240" y="4386960"/>
            <a:ext cx="72900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5A503D-1D76-48EF-A2C7-294BA281B0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31" name="PlaceHolder 2"/>
          <p:cNvSpPr>
            <a:spLocks noGrp="1"/>
          </p:cNvSpPr>
          <p:nvPr>
            <p:ph/>
          </p:nvPr>
        </p:nvSpPr>
        <p:spPr>
          <a:xfrm>
            <a:off x="76824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2" name="PlaceHolder 3"/>
          <p:cNvSpPr>
            <a:spLocks noGrp="1"/>
          </p:cNvSpPr>
          <p:nvPr>
            <p:ph/>
          </p:nvPr>
        </p:nvSpPr>
        <p:spPr>
          <a:xfrm>
            <a:off x="450360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3" name="PlaceHolder 4"/>
          <p:cNvSpPr>
            <a:spLocks noGrp="1"/>
          </p:cNvSpPr>
          <p:nvPr>
            <p:ph/>
          </p:nvPr>
        </p:nvSpPr>
        <p:spPr>
          <a:xfrm>
            <a:off x="76824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4" name="PlaceHolder 5"/>
          <p:cNvSpPr>
            <a:spLocks noGrp="1"/>
          </p:cNvSpPr>
          <p:nvPr>
            <p:ph/>
          </p:nvPr>
        </p:nvSpPr>
        <p:spPr>
          <a:xfrm>
            <a:off x="450360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980217-4826-466A-B25E-7F86EDF99D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36" name="PlaceHolder 2"/>
          <p:cNvSpPr>
            <a:spLocks noGrp="1"/>
          </p:cNvSpPr>
          <p:nvPr>
            <p:ph/>
          </p:nvPr>
        </p:nvSpPr>
        <p:spPr>
          <a:xfrm>
            <a:off x="768240" y="228600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7" name="PlaceHolder 3"/>
          <p:cNvSpPr>
            <a:spLocks noGrp="1"/>
          </p:cNvSpPr>
          <p:nvPr>
            <p:ph/>
          </p:nvPr>
        </p:nvSpPr>
        <p:spPr>
          <a:xfrm>
            <a:off x="3233160" y="228600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8" name="PlaceHolder 4"/>
          <p:cNvSpPr>
            <a:spLocks noGrp="1"/>
          </p:cNvSpPr>
          <p:nvPr>
            <p:ph/>
          </p:nvPr>
        </p:nvSpPr>
        <p:spPr>
          <a:xfrm>
            <a:off x="5698080" y="228600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9" name="PlaceHolder 5"/>
          <p:cNvSpPr>
            <a:spLocks noGrp="1"/>
          </p:cNvSpPr>
          <p:nvPr>
            <p:ph/>
          </p:nvPr>
        </p:nvSpPr>
        <p:spPr>
          <a:xfrm>
            <a:off x="768240" y="438696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0" name="PlaceHolder 6"/>
          <p:cNvSpPr>
            <a:spLocks noGrp="1"/>
          </p:cNvSpPr>
          <p:nvPr>
            <p:ph/>
          </p:nvPr>
        </p:nvSpPr>
        <p:spPr>
          <a:xfrm>
            <a:off x="3233160" y="438696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1" name="PlaceHolder 7"/>
          <p:cNvSpPr>
            <a:spLocks noGrp="1"/>
          </p:cNvSpPr>
          <p:nvPr>
            <p:ph/>
          </p:nvPr>
        </p:nvSpPr>
        <p:spPr>
          <a:xfrm>
            <a:off x="5698080" y="438696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14C9FB-BEBB-4A7F-95E8-0F14C44DBA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2F8052D-85CC-4B98-ABDF-64AE8DF5075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51" name="PlaceHolder 2"/>
          <p:cNvSpPr>
            <a:spLocks noGrp="1"/>
          </p:cNvSpPr>
          <p:nvPr>
            <p:ph type="subTitle"/>
          </p:nvPr>
        </p:nvSpPr>
        <p:spPr>
          <a:xfrm>
            <a:off x="768240" y="2286000"/>
            <a:ext cx="72900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4A076D-97AE-4F4D-AE52-7F37D97FFC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53" name="PlaceHolder 2"/>
          <p:cNvSpPr>
            <a:spLocks noGrp="1"/>
          </p:cNvSpPr>
          <p:nvPr>
            <p:ph/>
          </p:nvPr>
        </p:nvSpPr>
        <p:spPr>
          <a:xfrm>
            <a:off x="768240" y="2286000"/>
            <a:ext cx="729000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A79894-E71E-4457-80A3-0DBD659ED3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55" name="PlaceHolder 2"/>
          <p:cNvSpPr>
            <a:spLocks noGrp="1"/>
          </p:cNvSpPr>
          <p:nvPr>
            <p:ph/>
          </p:nvPr>
        </p:nvSpPr>
        <p:spPr>
          <a:xfrm>
            <a:off x="76824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6" name="PlaceHolder 3"/>
          <p:cNvSpPr>
            <a:spLocks noGrp="1"/>
          </p:cNvSpPr>
          <p:nvPr>
            <p:ph/>
          </p:nvPr>
        </p:nvSpPr>
        <p:spPr>
          <a:xfrm>
            <a:off x="450360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EC6E2A-ACAA-43E4-BF48-9C4C41F202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0E4828-0E04-4C5C-9A13-83D27102A2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768240" y="585360"/>
            <a:ext cx="7290000" cy="69483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44A623-EE8F-4A81-8AC6-330A6F9C2C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60" name="PlaceHolder 2"/>
          <p:cNvSpPr>
            <a:spLocks noGrp="1"/>
          </p:cNvSpPr>
          <p:nvPr>
            <p:ph/>
          </p:nvPr>
        </p:nvSpPr>
        <p:spPr>
          <a:xfrm>
            <a:off x="76824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1" name="PlaceHolder 3"/>
          <p:cNvSpPr>
            <a:spLocks noGrp="1"/>
          </p:cNvSpPr>
          <p:nvPr>
            <p:ph/>
          </p:nvPr>
        </p:nvSpPr>
        <p:spPr>
          <a:xfrm>
            <a:off x="450360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2" name="PlaceHolder 4"/>
          <p:cNvSpPr>
            <a:spLocks noGrp="1"/>
          </p:cNvSpPr>
          <p:nvPr>
            <p:ph/>
          </p:nvPr>
        </p:nvSpPr>
        <p:spPr>
          <a:xfrm>
            <a:off x="76824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17817B-4A39-4C05-89F9-6CD305C62F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7" name="PlaceHolder 2"/>
          <p:cNvSpPr>
            <a:spLocks noGrp="1"/>
          </p:cNvSpPr>
          <p:nvPr>
            <p:ph type="subTitle"/>
          </p:nvPr>
        </p:nvSpPr>
        <p:spPr>
          <a:xfrm>
            <a:off x="768240" y="2286000"/>
            <a:ext cx="72900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7BD606-E992-46FC-8997-E3255133D2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64" name="PlaceHolder 2"/>
          <p:cNvSpPr>
            <a:spLocks noGrp="1"/>
          </p:cNvSpPr>
          <p:nvPr>
            <p:ph/>
          </p:nvPr>
        </p:nvSpPr>
        <p:spPr>
          <a:xfrm>
            <a:off x="76824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5" name="PlaceHolder 3"/>
          <p:cNvSpPr>
            <a:spLocks noGrp="1"/>
          </p:cNvSpPr>
          <p:nvPr>
            <p:ph/>
          </p:nvPr>
        </p:nvSpPr>
        <p:spPr>
          <a:xfrm>
            <a:off x="450360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6" name="PlaceHolder 4"/>
          <p:cNvSpPr>
            <a:spLocks noGrp="1"/>
          </p:cNvSpPr>
          <p:nvPr>
            <p:ph/>
          </p:nvPr>
        </p:nvSpPr>
        <p:spPr>
          <a:xfrm>
            <a:off x="450360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9AB342-5A7E-46D3-92DD-EDB1E2BB75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68" name="PlaceHolder 2"/>
          <p:cNvSpPr>
            <a:spLocks noGrp="1"/>
          </p:cNvSpPr>
          <p:nvPr>
            <p:ph/>
          </p:nvPr>
        </p:nvSpPr>
        <p:spPr>
          <a:xfrm>
            <a:off x="76824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9" name="PlaceHolder 3"/>
          <p:cNvSpPr>
            <a:spLocks noGrp="1"/>
          </p:cNvSpPr>
          <p:nvPr>
            <p:ph/>
          </p:nvPr>
        </p:nvSpPr>
        <p:spPr>
          <a:xfrm>
            <a:off x="450360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0" name="PlaceHolder 4"/>
          <p:cNvSpPr>
            <a:spLocks noGrp="1"/>
          </p:cNvSpPr>
          <p:nvPr>
            <p:ph/>
          </p:nvPr>
        </p:nvSpPr>
        <p:spPr>
          <a:xfrm>
            <a:off x="768240" y="4386960"/>
            <a:ext cx="72900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51CC75-E515-49EB-9922-1530B84BAD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72" name="PlaceHolder 2"/>
          <p:cNvSpPr>
            <a:spLocks noGrp="1"/>
          </p:cNvSpPr>
          <p:nvPr>
            <p:ph/>
          </p:nvPr>
        </p:nvSpPr>
        <p:spPr>
          <a:xfrm>
            <a:off x="768240" y="2286000"/>
            <a:ext cx="72900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3" name="PlaceHolder 3"/>
          <p:cNvSpPr>
            <a:spLocks noGrp="1"/>
          </p:cNvSpPr>
          <p:nvPr>
            <p:ph/>
          </p:nvPr>
        </p:nvSpPr>
        <p:spPr>
          <a:xfrm>
            <a:off x="768240" y="4386960"/>
            <a:ext cx="72900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B3AEA3-2EA2-4709-884A-FF2C42220C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75" name="PlaceHolder 2"/>
          <p:cNvSpPr>
            <a:spLocks noGrp="1"/>
          </p:cNvSpPr>
          <p:nvPr>
            <p:ph/>
          </p:nvPr>
        </p:nvSpPr>
        <p:spPr>
          <a:xfrm>
            <a:off x="76824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6" name="PlaceHolder 3"/>
          <p:cNvSpPr>
            <a:spLocks noGrp="1"/>
          </p:cNvSpPr>
          <p:nvPr>
            <p:ph/>
          </p:nvPr>
        </p:nvSpPr>
        <p:spPr>
          <a:xfrm>
            <a:off x="450360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7" name="PlaceHolder 4"/>
          <p:cNvSpPr>
            <a:spLocks noGrp="1"/>
          </p:cNvSpPr>
          <p:nvPr>
            <p:ph/>
          </p:nvPr>
        </p:nvSpPr>
        <p:spPr>
          <a:xfrm>
            <a:off x="76824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8" name="PlaceHolder 5"/>
          <p:cNvSpPr>
            <a:spLocks noGrp="1"/>
          </p:cNvSpPr>
          <p:nvPr>
            <p:ph/>
          </p:nvPr>
        </p:nvSpPr>
        <p:spPr>
          <a:xfrm>
            <a:off x="450360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8A3E4B8-A4D7-4265-B872-1A719CEDB96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80" name="PlaceHolder 2"/>
          <p:cNvSpPr>
            <a:spLocks noGrp="1"/>
          </p:cNvSpPr>
          <p:nvPr>
            <p:ph/>
          </p:nvPr>
        </p:nvSpPr>
        <p:spPr>
          <a:xfrm>
            <a:off x="768240" y="228600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81" name="PlaceHolder 3"/>
          <p:cNvSpPr>
            <a:spLocks noGrp="1"/>
          </p:cNvSpPr>
          <p:nvPr>
            <p:ph/>
          </p:nvPr>
        </p:nvSpPr>
        <p:spPr>
          <a:xfrm>
            <a:off x="3233160" y="228600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82" name="PlaceHolder 4"/>
          <p:cNvSpPr>
            <a:spLocks noGrp="1"/>
          </p:cNvSpPr>
          <p:nvPr>
            <p:ph/>
          </p:nvPr>
        </p:nvSpPr>
        <p:spPr>
          <a:xfrm>
            <a:off x="5698080" y="228600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83" name="PlaceHolder 5"/>
          <p:cNvSpPr>
            <a:spLocks noGrp="1"/>
          </p:cNvSpPr>
          <p:nvPr>
            <p:ph/>
          </p:nvPr>
        </p:nvSpPr>
        <p:spPr>
          <a:xfrm>
            <a:off x="768240" y="438696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84" name="PlaceHolder 6"/>
          <p:cNvSpPr>
            <a:spLocks noGrp="1"/>
          </p:cNvSpPr>
          <p:nvPr>
            <p:ph/>
          </p:nvPr>
        </p:nvSpPr>
        <p:spPr>
          <a:xfrm>
            <a:off x="3233160" y="438696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85" name="PlaceHolder 7"/>
          <p:cNvSpPr>
            <a:spLocks noGrp="1"/>
          </p:cNvSpPr>
          <p:nvPr>
            <p:ph/>
          </p:nvPr>
        </p:nvSpPr>
        <p:spPr>
          <a:xfrm>
            <a:off x="5698080" y="438696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3F2D3CF-BFD7-4D52-8F62-8FB3765E656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615B901-302A-40AD-AB78-C2E9EE51688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95" name="PlaceHolder 2"/>
          <p:cNvSpPr>
            <a:spLocks noGrp="1"/>
          </p:cNvSpPr>
          <p:nvPr>
            <p:ph type="subTitle"/>
          </p:nvPr>
        </p:nvSpPr>
        <p:spPr>
          <a:xfrm>
            <a:off x="768240" y="2286000"/>
            <a:ext cx="72900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DA74FDD-C31A-4F2E-A03C-BC0CE2CFA91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97" name="PlaceHolder 2"/>
          <p:cNvSpPr>
            <a:spLocks noGrp="1"/>
          </p:cNvSpPr>
          <p:nvPr>
            <p:ph/>
          </p:nvPr>
        </p:nvSpPr>
        <p:spPr>
          <a:xfrm>
            <a:off x="768240" y="2286000"/>
            <a:ext cx="729000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1E29526-9A63-4A77-AE26-CF79EE567A7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99" name="PlaceHolder 2"/>
          <p:cNvSpPr>
            <a:spLocks noGrp="1"/>
          </p:cNvSpPr>
          <p:nvPr>
            <p:ph/>
          </p:nvPr>
        </p:nvSpPr>
        <p:spPr>
          <a:xfrm>
            <a:off x="76824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00" name="PlaceHolder 3"/>
          <p:cNvSpPr>
            <a:spLocks noGrp="1"/>
          </p:cNvSpPr>
          <p:nvPr>
            <p:ph/>
          </p:nvPr>
        </p:nvSpPr>
        <p:spPr>
          <a:xfrm>
            <a:off x="450360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94C47F3-00AF-42E1-BE6F-76D6387E3F4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15BAC31-59D5-4329-8086-132960A08FE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9" name="PlaceHolder 2"/>
          <p:cNvSpPr>
            <a:spLocks noGrp="1"/>
          </p:cNvSpPr>
          <p:nvPr>
            <p:ph/>
          </p:nvPr>
        </p:nvSpPr>
        <p:spPr>
          <a:xfrm>
            <a:off x="768240" y="2286000"/>
            <a:ext cx="729000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204010-7F77-40D0-A9BD-93AC046D93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 name="PlaceHolder 1"/>
          <p:cNvSpPr>
            <a:spLocks noGrp="1"/>
          </p:cNvSpPr>
          <p:nvPr>
            <p:ph type="subTitle"/>
          </p:nvPr>
        </p:nvSpPr>
        <p:spPr>
          <a:xfrm>
            <a:off x="768240" y="585360"/>
            <a:ext cx="7290000" cy="69483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1390002-CCA6-4932-AA5F-92D818A2206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04" name="PlaceHolder 2"/>
          <p:cNvSpPr>
            <a:spLocks noGrp="1"/>
          </p:cNvSpPr>
          <p:nvPr>
            <p:ph/>
          </p:nvPr>
        </p:nvSpPr>
        <p:spPr>
          <a:xfrm>
            <a:off x="76824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05" name="PlaceHolder 3"/>
          <p:cNvSpPr>
            <a:spLocks noGrp="1"/>
          </p:cNvSpPr>
          <p:nvPr>
            <p:ph/>
          </p:nvPr>
        </p:nvSpPr>
        <p:spPr>
          <a:xfrm>
            <a:off x="450360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06" name="PlaceHolder 4"/>
          <p:cNvSpPr>
            <a:spLocks noGrp="1"/>
          </p:cNvSpPr>
          <p:nvPr>
            <p:ph/>
          </p:nvPr>
        </p:nvSpPr>
        <p:spPr>
          <a:xfrm>
            <a:off x="76824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438B18A-1A6C-4D2F-AF86-03343A32E64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08" name="PlaceHolder 2"/>
          <p:cNvSpPr>
            <a:spLocks noGrp="1"/>
          </p:cNvSpPr>
          <p:nvPr>
            <p:ph/>
          </p:nvPr>
        </p:nvSpPr>
        <p:spPr>
          <a:xfrm>
            <a:off x="76824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09" name="PlaceHolder 3"/>
          <p:cNvSpPr>
            <a:spLocks noGrp="1"/>
          </p:cNvSpPr>
          <p:nvPr>
            <p:ph/>
          </p:nvPr>
        </p:nvSpPr>
        <p:spPr>
          <a:xfrm>
            <a:off x="450360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10" name="PlaceHolder 4"/>
          <p:cNvSpPr>
            <a:spLocks noGrp="1"/>
          </p:cNvSpPr>
          <p:nvPr>
            <p:ph/>
          </p:nvPr>
        </p:nvSpPr>
        <p:spPr>
          <a:xfrm>
            <a:off x="450360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9B63F23-B3FD-4C57-BC9D-4D6C7D15FEC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12" name="PlaceHolder 2"/>
          <p:cNvSpPr>
            <a:spLocks noGrp="1"/>
          </p:cNvSpPr>
          <p:nvPr>
            <p:ph/>
          </p:nvPr>
        </p:nvSpPr>
        <p:spPr>
          <a:xfrm>
            <a:off x="76824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13" name="PlaceHolder 3"/>
          <p:cNvSpPr>
            <a:spLocks noGrp="1"/>
          </p:cNvSpPr>
          <p:nvPr>
            <p:ph/>
          </p:nvPr>
        </p:nvSpPr>
        <p:spPr>
          <a:xfrm>
            <a:off x="450360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14" name="PlaceHolder 4"/>
          <p:cNvSpPr>
            <a:spLocks noGrp="1"/>
          </p:cNvSpPr>
          <p:nvPr>
            <p:ph/>
          </p:nvPr>
        </p:nvSpPr>
        <p:spPr>
          <a:xfrm>
            <a:off x="768240" y="4386960"/>
            <a:ext cx="72900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85F32C7-2EE2-4424-B5A9-87EAF9D1F66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16" name="PlaceHolder 2"/>
          <p:cNvSpPr>
            <a:spLocks noGrp="1"/>
          </p:cNvSpPr>
          <p:nvPr>
            <p:ph/>
          </p:nvPr>
        </p:nvSpPr>
        <p:spPr>
          <a:xfrm>
            <a:off x="768240" y="2286000"/>
            <a:ext cx="72900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17" name="PlaceHolder 3"/>
          <p:cNvSpPr>
            <a:spLocks noGrp="1"/>
          </p:cNvSpPr>
          <p:nvPr>
            <p:ph/>
          </p:nvPr>
        </p:nvSpPr>
        <p:spPr>
          <a:xfrm>
            <a:off x="768240" y="4386960"/>
            <a:ext cx="72900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2CB8FDC-858B-4B87-B5BA-092A4A0F6DB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19" name="PlaceHolder 2"/>
          <p:cNvSpPr>
            <a:spLocks noGrp="1"/>
          </p:cNvSpPr>
          <p:nvPr>
            <p:ph/>
          </p:nvPr>
        </p:nvSpPr>
        <p:spPr>
          <a:xfrm>
            <a:off x="76824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20" name="PlaceHolder 3"/>
          <p:cNvSpPr>
            <a:spLocks noGrp="1"/>
          </p:cNvSpPr>
          <p:nvPr>
            <p:ph/>
          </p:nvPr>
        </p:nvSpPr>
        <p:spPr>
          <a:xfrm>
            <a:off x="450360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21" name="PlaceHolder 4"/>
          <p:cNvSpPr>
            <a:spLocks noGrp="1"/>
          </p:cNvSpPr>
          <p:nvPr>
            <p:ph/>
          </p:nvPr>
        </p:nvSpPr>
        <p:spPr>
          <a:xfrm>
            <a:off x="76824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22" name="PlaceHolder 5"/>
          <p:cNvSpPr>
            <a:spLocks noGrp="1"/>
          </p:cNvSpPr>
          <p:nvPr>
            <p:ph/>
          </p:nvPr>
        </p:nvSpPr>
        <p:spPr>
          <a:xfrm>
            <a:off x="450360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79CE69B-2F56-49F4-BA58-A2F7CAFF1FE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24" name="PlaceHolder 2"/>
          <p:cNvSpPr>
            <a:spLocks noGrp="1"/>
          </p:cNvSpPr>
          <p:nvPr>
            <p:ph/>
          </p:nvPr>
        </p:nvSpPr>
        <p:spPr>
          <a:xfrm>
            <a:off x="768240" y="228600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25" name="PlaceHolder 3"/>
          <p:cNvSpPr>
            <a:spLocks noGrp="1"/>
          </p:cNvSpPr>
          <p:nvPr>
            <p:ph/>
          </p:nvPr>
        </p:nvSpPr>
        <p:spPr>
          <a:xfrm>
            <a:off x="3233160" y="228600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26" name="PlaceHolder 4"/>
          <p:cNvSpPr>
            <a:spLocks noGrp="1"/>
          </p:cNvSpPr>
          <p:nvPr>
            <p:ph/>
          </p:nvPr>
        </p:nvSpPr>
        <p:spPr>
          <a:xfrm>
            <a:off x="5698080" y="228600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27" name="PlaceHolder 5"/>
          <p:cNvSpPr>
            <a:spLocks noGrp="1"/>
          </p:cNvSpPr>
          <p:nvPr>
            <p:ph/>
          </p:nvPr>
        </p:nvSpPr>
        <p:spPr>
          <a:xfrm>
            <a:off x="768240" y="438696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28" name="PlaceHolder 6"/>
          <p:cNvSpPr>
            <a:spLocks noGrp="1"/>
          </p:cNvSpPr>
          <p:nvPr>
            <p:ph/>
          </p:nvPr>
        </p:nvSpPr>
        <p:spPr>
          <a:xfrm>
            <a:off x="3233160" y="438696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29" name="PlaceHolder 7"/>
          <p:cNvSpPr>
            <a:spLocks noGrp="1"/>
          </p:cNvSpPr>
          <p:nvPr>
            <p:ph/>
          </p:nvPr>
        </p:nvSpPr>
        <p:spPr>
          <a:xfrm>
            <a:off x="5698080" y="438696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DBD467E-379F-4894-AE6B-2E5D8EF1C58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8A61387-818B-40CA-9CEC-BD17CCB528D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36" name="PlaceHolder 2"/>
          <p:cNvSpPr>
            <a:spLocks noGrp="1"/>
          </p:cNvSpPr>
          <p:nvPr>
            <p:ph type="subTitle"/>
          </p:nvPr>
        </p:nvSpPr>
        <p:spPr>
          <a:xfrm>
            <a:off x="768240" y="2286000"/>
            <a:ext cx="72900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67C423E-D03A-422D-8BC3-4CBA8541807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38" name="PlaceHolder 2"/>
          <p:cNvSpPr>
            <a:spLocks noGrp="1"/>
          </p:cNvSpPr>
          <p:nvPr>
            <p:ph/>
          </p:nvPr>
        </p:nvSpPr>
        <p:spPr>
          <a:xfrm>
            <a:off x="768240" y="2286000"/>
            <a:ext cx="729000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5C88A2A-144F-4D24-B70C-4670C26046B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1" name="PlaceHolder 2"/>
          <p:cNvSpPr>
            <a:spLocks noGrp="1"/>
          </p:cNvSpPr>
          <p:nvPr>
            <p:ph/>
          </p:nvPr>
        </p:nvSpPr>
        <p:spPr>
          <a:xfrm>
            <a:off x="76824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2" name="PlaceHolder 3"/>
          <p:cNvSpPr>
            <a:spLocks noGrp="1"/>
          </p:cNvSpPr>
          <p:nvPr>
            <p:ph/>
          </p:nvPr>
        </p:nvSpPr>
        <p:spPr>
          <a:xfrm>
            <a:off x="450360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F46B1D-BE6C-4394-9A53-F90311976E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40" name="PlaceHolder 2"/>
          <p:cNvSpPr>
            <a:spLocks noGrp="1"/>
          </p:cNvSpPr>
          <p:nvPr>
            <p:ph/>
          </p:nvPr>
        </p:nvSpPr>
        <p:spPr>
          <a:xfrm>
            <a:off x="76824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41" name="PlaceHolder 3"/>
          <p:cNvSpPr>
            <a:spLocks noGrp="1"/>
          </p:cNvSpPr>
          <p:nvPr>
            <p:ph/>
          </p:nvPr>
        </p:nvSpPr>
        <p:spPr>
          <a:xfrm>
            <a:off x="450360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9667959-9999-4843-8F95-20AAA9F3EFE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A58D9EC-5230-4520-A61C-8B39FF71203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768240" y="585360"/>
            <a:ext cx="7290000" cy="69483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C931EB7-1F8F-4B84-AC7C-A531A769E87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45" name="PlaceHolder 2"/>
          <p:cNvSpPr>
            <a:spLocks noGrp="1"/>
          </p:cNvSpPr>
          <p:nvPr>
            <p:ph/>
          </p:nvPr>
        </p:nvSpPr>
        <p:spPr>
          <a:xfrm>
            <a:off x="76824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46" name="PlaceHolder 3"/>
          <p:cNvSpPr>
            <a:spLocks noGrp="1"/>
          </p:cNvSpPr>
          <p:nvPr>
            <p:ph/>
          </p:nvPr>
        </p:nvSpPr>
        <p:spPr>
          <a:xfrm>
            <a:off x="450360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47" name="PlaceHolder 4"/>
          <p:cNvSpPr>
            <a:spLocks noGrp="1"/>
          </p:cNvSpPr>
          <p:nvPr>
            <p:ph/>
          </p:nvPr>
        </p:nvSpPr>
        <p:spPr>
          <a:xfrm>
            <a:off x="76824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67CAD3C-8CA8-4BB9-AB89-92A62E80F48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49" name="PlaceHolder 2"/>
          <p:cNvSpPr>
            <a:spLocks noGrp="1"/>
          </p:cNvSpPr>
          <p:nvPr>
            <p:ph/>
          </p:nvPr>
        </p:nvSpPr>
        <p:spPr>
          <a:xfrm>
            <a:off x="76824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50" name="PlaceHolder 3"/>
          <p:cNvSpPr>
            <a:spLocks noGrp="1"/>
          </p:cNvSpPr>
          <p:nvPr>
            <p:ph/>
          </p:nvPr>
        </p:nvSpPr>
        <p:spPr>
          <a:xfrm>
            <a:off x="450360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51" name="PlaceHolder 4"/>
          <p:cNvSpPr>
            <a:spLocks noGrp="1"/>
          </p:cNvSpPr>
          <p:nvPr>
            <p:ph/>
          </p:nvPr>
        </p:nvSpPr>
        <p:spPr>
          <a:xfrm>
            <a:off x="450360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870B0C7-4A8B-4120-B5C7-521403654BF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53" name="PlaceHolder 2"/>
          <p:cNvSpPr>
            <a:spLocks noGrp="1"/>
          </p:cNvSpPr>
          <p:nvPr>
            <p:ph/>
          </p:nvPr>
        </p:nvSpPr>
        <p:spPr>
          <a:xfrm>
            <a:off x="76824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54" name="PlaceHolder 3"/>
          <p:cNvSpPr>
            <a:spLocks noGrp="1"/>
          </p:cNvSpPr>
          <p:nvPr>
            <p:ph/>
          </p:nvPr>
        </p:nvSpPr>
        <p:spPr>
          <a:xfrm>
            <a:off x="450360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55" name="PlaceHolder 4"/>
          <p:cNvSpPr>
            <a:spLocks noGrp="1"/>
          </p:cNvSpPr>
          <p:nvPr>
            <p:ph/>
          </p:nvPr>
        </p:nvSpPr>
        <p:spPr>
          <a:xfrm>
            <a:off x="768240" y="4386960"/>
            <a:ext cx="72900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EFB01D1-1ED0-454A-B455-DA681767467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57" name="PlaceHolder 2"/>
          <p:cNvSpPr>
            <a:spLocks noGrp="1"/>
          </p:cNvSpPr>
          <p:nvPr>
            <p:ph/>
          </p:nvPr>
        </p:nvSpPr>
        <p:spPr>
          <a:xfrm>
            <a:off x="768240" y="2286000"/>
            <a:ext cx="72900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58" name="PlaceHolder 3"/>
          <p:cNvSpPr>
            <a:spLocks noGrp="1"/>
          </p:cNvSpPr>
          <p:nvPr>
            <p:ph/>
          </p:nvPr>
        </p:nvSpPr>
        <p:spPr>
          <a:xfrm>
            <a:off x="768240" y="4386960"/>
            <a:ext cx="72900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9F8994B-3AFF-4E35-93AF-49E556959C2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60" name="PlaceHolder 2"/>
          <p:cNvSpPr>
            <a:spLocks noGrp="1"/>
          </p:cNvSpPr>
          <p:nvPr>
            <p:ph/>
          </p:nvPr>
        </p:nvSpPr>
        <p:spPr>
          <a:xfrm>
            <a:off x="76824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61" name="PlaceHolder 3"/>
          <p:cNvSpPr>
            <a:spLocks noGrp="1"/>
          </p:cNvSpPr>
          <p:nvPr>
            <p:ph/>
          </p:nvPr>
        </p:nvSpPr>
        <p:spPr>
          <a:xfrm>
            <a:off x="450360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62" name="PlaceHolder 4"/>
          <p:cNvSpPr>
            <a:spLocks noGrp="1"/>
          </p:cNvSpPr>
          <p:nvPr>
            <p:ph/>
          </p:nvPr>
        </p:nvSpPr>
        <p:spPr>
          <a:xfrm>
            <a:off x="76824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63" name="PlaceHolder 5"/>
          <p:cNvSpPr>
            <a:spLocks noGrp="1"/>
          </p:cNvSpPr>
          <p:nvPr>
            <p:ph/>
          </p:nvPr>
        </p:nvSpPr>
        <p:spPr>
          <a:xfrm>
            <a:off x="450360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CA32209-E08D-44A5-A94D-72A9187E5CB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65" name="PlaceHolder 2"/>
          <p:cNvSpPr>
            <a:spLocks noGrp="1"/>
          </p:cNvSpPr>
          <p:nvPr>
            <p:ph/>
          </p:nvPr>
        </p:nvSpPr>
        <p:spPr>
          <a:xfrm>
            <a:off x="768240" y="228600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66" name="PlaceHolder 3"/>
          <p:cNvSpPr>
            <a:spLocks noGrp="1"/>
          </p:cNvSpPr>
          <p:nvPr>
            <p:ph/>
          </p:nvPr>
        </p:nvSpPr>
        <p:spPr>
          <a:xfrm>
            <a:off x="3233160" y="228600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67" name="PlaceHolder 4"/>
          <p:cNvSpPr>
            <a:spLocks noGrp="1"/>
          </p:cNvSpPr>
          <p:nvPr>
            <p:ph/>
          </p:nvPr>
        </p:nvSpPr>
        <p:spPr>
          <a:xfrm>
            <a:off x="5698080" y="228600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68" name="PlaceHolder 5"/>
          <p:cNvSpPr>
            <a:spLocks noGrp="1"/>
          </p:cNvSpPr>
          <p:nvPr>
            <p:ph/>
          </p:nvPr>
        </p:nvSpPr>
        <p:spPr>
          <a:xfrm>
            <a:off x="768240" y="438696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69" name="PlaceHolder 6"/>
          <p:cNvSpPr>
            <a:spLocks noGrp="1"/>
          </p:cNvSpPr>
          <p:nvPr>
            <p:ph/>
          </p:nvPr>
        </p:nvSpPr>
        <p:spPr>
          <a:xfrm>
            <a:off x="3233160" y="438696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70" name="PlaceHolder 7"/>
          <p:cNvSpPr>
            <a:spLocks noGrp="1"/>
          </p:cNvSpPr>
          <p:nvPr>
            <p:ph/>
          </p:nvPr>
        </p:nvSpPr>
        <p:spPr>
          <a:xfrm>
            <a:off x="5698080" y="438696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955A6B3-00F2-4AF1-B5AE-65F6F272540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0CCD2CF-374B-4D5B-BD9C-E317A2C8CAF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8D8FC8-424C-4727-A10E-AE3F53CF8E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78" name="PlaceHolder 2"/>
          <p:cNvSpPr>
            <a:spLocks noGrp="1"/>
          </p:cNvSpPr>
          <p:nvPr>
            <p:ph type="subTitle"/>
          </p:nvPr>
        </p:nvSpPr>
        <p:spPr>
          <a:xfrm>
            <a:off x="768240" y="2286000"/>
            <a:ext cx="72900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881AB88-31A0-4AE6-80A1-B5A579382C1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80" name="PlaceHolder 2"/>
          <p:cNvSpPr>
            <a:spLocks noGrp="1"/>
          </p:cNvSpPr>
          <p:nvPr>
            <p:ph/>
          </p:nvPr>
        </p:nvSpPr>
        <p:spPr>
          <a:xfrm>
            <a:off x="768240" y="2286000"/>
            <a:ext cx="729000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5F2426F-38B6-4483-8834-27C06847DDC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82" name="PlaceHolder 2"/>
          <p:cNvSpPr>
            <a:spLocks noGrp="1"/>
          </p:cNvSpPr>
          <p:nvPr>
            <p:ph/>
          </p:nvPr>
        </p:nvSpPr>
        <p:spPr>
          <a:xfrm>
            <a:off x="76824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83" name="PlaceHolder 3"/>
          <p:cNvSpPr>
            <a:spLocks noGrp="1"/>
          </p:cNvSpPr>
          <p:nvPr>
            <p:ph/>
          </p:nvPr>
        </p:nvSpPr>
        <p:spPr>
          <a:xfrm>
            <a:off x="450360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7468A84-AD8C-4F01-9820-FDE0365ECB6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ECD070D-05A5-42F5-92DB-908D9692538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768240" y="585360"/>
            <a:ext cx="7290000" cy="69483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5AB6A2D-8B90-4E8E-993D-C47FAB2374F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87" name="PlaceHolder 2"/>
          <p:cNvSpPr>
            <a:spLocks noGrp="1"/>
          </p:cNvSpPr>
          <p:nvPr>
            <p:ph/>
          </p:nvPr>
        </p:nvSpPr>
        <p:spPr>
          <a:xfrm>
            <a:off x="76824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88" name="PlaceHolder 3"/>
          <p:cNvSpPr>
            <a:spLocks noGrp="1"/>
          </p:cNvSpPr>
          <p:nvPr>
            <p:ph/>
          </p:nvPr>
        </p:nvSpPr>
        <p:spPr>
          <a:xfrm>
            <a:off x="450360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89" name="PlaceHolder 4"/>
          <p:cNvSpPr>
            <a:spLocks noGrp="1"/>
          </p:cNvSpPr>
          <p:nvPr>
            <p:ph/>
          </p:nvPr>
        </p:nvSpPr>
        <p:spPr>
          <a:xfrm>
            <a:off x="76824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E5C8140-C4C7-4A19-A6A8-84B0332C8BA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91" name="PlaceHolder 2"/>
          <p:cNvSpPr>
            <a:spLocks noGrp="1"/>
          </p:cNvSpPr>
          <p:nvPr>
            <p:ph/>
          </p:nvPr>
        </p:nvSpPr>
        <p:spPr>
          <a:xfrm>
            <a:off x="76824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92" name="PlaceHolder 3"/>
          <p:cNvSpPr>
            <a:spLocks noGrp="1"/>
          </p:cNvSpPr>
          <p:nvPr>
            <p:ph/>
          </p:nvPr>
        </p:nvSpPr>
        <p:spPr>
          <a:xfrm>
            <a:off x="450360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93" name="PlaceHolder 4"/>
          <p:cNvSpPr>
            <a:spLocks noGrp="1"/>
          </p:cNvSpPr>
          <p:nvPr>
            <p:ph/>
          </p:nvPr>
        </p:nvSpPr>
        <p:spPr>
          <a:xfrm>
            <a:off x="450360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0DB1FD0-20B6-4424-A209-17E0BF0FC36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95" name="PlaceHolder 2"/>
          <p:cNvSpPr>
            <a:spLocks noGrp="1"/>
          </p:cNvSpPr>
          <p:nvPr>
            <p:ph/>
          </p:nvPr>
        </p:nvSpPr>
        <p:spPr>
          <a:xfrm>
            <a:off x="76824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96" name="PlaceHolder 3"/>
          <p:cNvSpPr>
            <a:spLocks noGrp="1"/>
          </p:cNvSpPr>
          <p:nvPr>
            <p:ph/>
          </p:nvPr>
        </p:nvSpPr>
        <p:spPr>
          <a:xfrm>
            <a:off x="450360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97" name="PlaceHolder 4"/>
          <p:cNvSpPr>
            <a:spLocks noGrp="1"/>
          </p:cNvSpPr>
          <p:nvPr>
            <p:ph/>
          </p:nvPr>
        </p:nvSpPr>
        <p:spPr>
          <a:xfrm>
            <a:off x="768240" y="4386960"/>
            <a:ext cx="72900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21857B8-4D6E-412E-B50C-23E32FA9013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99" name="PlaceHolder 2"/>
          <p:cNvSpPr>
            <a:spLocks noGrp="1"/>
          </p:cNvSpPr>
          <p:nvPr>
            <p:ph/>
          </p:nvPr>
        </p:nvSpPr>
        <p:spPr>
          <a:xfrm>
            <a:off x="768240" y="2286000"/>
            <a:ext cx="72900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00" name="PlaceHolder 3"/>
          <p:cNvSpPr>
            <a:spLocks noGrp="1"/>
          </p:cNvSpPr>
          <p:nvPr>
            <p:ph/>
          </p:nvPr>
        </p:nvSpPr>
        <p:spPr>
          <a:xfrm>
            <a:off x="768240" y="4386960"/>
            <a:ext cx="72900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40975F9-17EC-499F-BE00-9B841A1684E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202" name="PlaceHolder 2"/>
          <p:cNvSpPr>
            <a:spLocks noGrp="1"/>
          </p:cNvSpPr>
          <p:nvPr>
            <p:ph/>
          </p:nvPr>
        </p:nvSpPr>
        <p:spPr>
          <a:xfrm>
            <a:off x="76824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03" name="PlaceHolder 3"/>
          <p:cNvSpPr>
            <a:spLocks noGrp="1"/>
          </p:cNvSpPr>
          <p:nvPr>
            <p:ph/>
          </p:nvPr>
        </p:nvSpPr>
        <p:spPr>
          <a:xfrm>
            <a:off x="450360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04" name="PlaceHolder 4"/>
          <p:cNvSpPr>
            <a:spLocks noGrp="1"/>
          </p:cNvSpPr>
          <p:nvPr>
            <p:ph/>
          </p:nvPr>
        </p:nvSpPr>
        <p:spPr>
          <a:xfrm>
            <a:off x="76824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05" name="PlaceHolder 5"/>
          <p:cNvSpPr>
            <a:spLocks noGrp="1"/>
          </p:cNvSpPr>
          <p:nvPr>
            <p:ph/>
          </p:nvPr>
        </p:nvSpPr>
        <p:spPr>
          <a:xfrm>
            <a:off x="450360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9C0D193-C173-4720-840B-07E7EA77072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68240" y="585360"/>
            <a:ext cx="7290000" cy="69483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86D4D9-7132-470C-A244-8F0FDAD5CF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207" name="PlaceHolder 2"/>
          <p:cNvSpPr>
            <a:spLocks noGrp="1"/>
          </p:cNvSpPr>
          <p:nvPr>
            <p:ph/>
          </p:nvPr>
        </p:nvSpPr>
        <p:spPr>
          <a:xfrm>
            <a:off x="768240" y="228600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08" name="PlaceHolder 3"/>
          <p:cNvSpPr>
            <a:spLocks noGrp="1"/>
          </p:cNvSpPr>
          <p:nvPr>
            <p:ph/>
          </p:nvPr>
        </p:nvSpPr>
        <p:spPr>
          <a:xfrm>
            <a:off x="3233160" y="228600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09" name="PlaceHolder 4"/>
          <p:cNvSpPr>
            <a:spLocks noGrp="1"/>
          </p:cNvSpPr>
          <p:nvPr>
            <p:ph/>
          </p:nvPr>
        </p:nvSpPr>
        <p:spPr>
          <a:xfrm>
            <a:off x="5698080" y="228600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10" name="PlaceHolder 5"/>
          <p:cNvSpPr>
            <a:spLocks noGrp="1"/>
          </p:cNvSpPr>
          <p:nvPr>
            <p:ph/>
          </p:nvPr>
        </p:nvSpPr>
        <p:spPr>
          <a:xfrm>
            <a:off x="768240" y="438696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11" name="PlaceHolder 6"/>
          <p:cNvSpPr>
            <a:spLocks noGrp="1"/>
          </p:cNvSpPr>
          <p:nvPr>
            <p:ph/>
          </p:nvPr>
        </p:nvSpPr>
        <p:spPr>
          <a:xfrm>
            <a:off x="3233160" y="438696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12" name="PlaceHolder 7"/>
          <p:cNvSpPr>
            <a:spLocks noGrp="1"/>
          </p:cNvSpPr>
          <p:nvPr>
            <p:ph/>
          </p:nvPr>
        </p:nvSpPr>
        <p:spPr>
          <a:xfrm>
            <a:off x="5698080" y="438696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110AD61-D22B-4CF6-A106-AC3B9137BA2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6321F24-46D3-4E66-A9B0-86CD3BE38B7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220" name="PlaceHolder 2"/>
          <p:cNvSpPr>
            <a:spLocks noGrp="1"/>
          </p:cNvSpPr>
          <p:nvPr>
            <p:ph type="subTitle"/>
          </p:nvPr>
        </p:nvSpPr>
        <p:spPr>
          <a:xfrm>
            <a:off x="768240" y="2286000"/>
            <a:ext cx="72900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A791E82-ECC3-4E70-B186-65C6A9CD53F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222" name="PlaceHolder 2"/>
          <p:cNvSpPr>
            <a:spLocks noGrp="1"/>
          </p:cNvSpPr>
          <p:nvPr>
            <p:ph/>
          </p:nvPr>
        </p:nvSpPr>
        <p:spPr>
          <a:xfrm>
            <a:off x="768240" y="2286000"/>
            <a:ext cx="729000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D2E258F-B3BB-4FC0-8D62-A9423B92E0C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224" name="PlaceHolder 2"/>
          <p:cNvSpPr>
            <a:spLocks noGrp="1"/>
          </p:cNvSpPr>
          <p:nvPr>
            <p:ph/>
          </p:nvPr>
        </p:nvSpPr>
        <p:spPr>
          <a:xfrm>
            <a:off x="76824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25" name="PlaceHolder 3"/>
          <p:cNvSpPr>
            <a:spLocks noGrp="1"/>
          </p:cNvSpPr>
          <p:nvPr>
            <p:ph/>
          </p:nvPr>
        </p:nvSpPr>
        <p:spPr>
          <a:xfrm>
            <a:off x="450360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9C6C5B9-4619-4A42-8B5D-976D98ED04D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185CB9B-C079-4ED9-B889-360181FC6C0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768240" y="585360"/>
            <a:ext cx="7290000" cy="69483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6E5D67A-671A-47B8-B028-2F5BB93E8C8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229" name="PlaceHolder 2"/>
          <p:cNvSpPr>
            <a:spLocks noGrp="1"/>
          </p:cNvSpPr>
          <p:nvPr>
            <p:ph/>
          </p:nvPr>
        </p:nvSpPr>
        <p:spPr>
          <a:xfrm>
            <a:off x="76824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30" name="PlaceHolder 3"/>
          <p:cNvSpPr>
            <a:spLocks noGrp="1"/>
          </p:cNvSpPr>
          <p:nvPr>
            <p:ph/>
          </p:nvPr>
        </p:nvSpPr>
        <p:spPr>
          <a:xfrm>
            <a:off x="450360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31" name="PlaceHolder 4"/>
          <p:cNvSpPr>
            <a:spLocks noGrp="1"/>
          </p:cNvSpPr>
          <p:nvPr>
            <p:ph/>
          </p:nvPr>
        </p:nvSpPr>
        <p:spPr>
          <a:xfrm>
            <a:off x="76824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DF7D0A2-C1E6-4C2E-B7F6-1DB8EB17BC0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233" name="PlaceHolder 2"/>
          <p:cNvSpPr>
            <a:spLocks noGrp="1"/>
          </p:cNvSpPr>
          <p:nvPr>
            <p:ph/>
          </p:nvPr>
        </p:nvSpPr>
        <p:spPr>
          <a:xfrm>
            <a:off x="76824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34" name="PlaceHolder 3"/>
          <p:cNvSpPr>
            <a:spLocks noGrp="1"/>
          </p:cNvSpPr>
          <p:nvPr>
            <p:ph/>
          </p:nvPr>
        </p:nvSpPr>
        <p:spPr>
          <a:xfrm>
            <a:off x="450360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35" name="PlaceHolder 4"/>
          <p:cNvSpPr>
            <a:spLocks noGrp="1"/>
          </p:cNvSpPr>
          <p:nvPr>
            <p:ph/>
          </p:nvPr>
        </p:nvSpPr>
        <p:spPr>
          <a:xfrm>
            <a:off x="450360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9EC856C-1622-4D68-9A9B-A7930734C87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237" name="PlaceHolder 2"/>
          <p:cNvSpPr>
            <a:spLocks noGrp="1"/>
          </p:cNvSpPr>
          <p:nvPr>
            <p:ph/>
          </p:nvPr>
        </p:nvSpPr>
        <p:spPr>
          <a:xfrm>
            <a:off x="76824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38" name="PlaceHolder 3"/>
          <p:cNvSpPr>
            <a:spLocks noGrp="1"/>
          </p:cNvSpPr>
          <p:nvPr>
            <p:ph/>
          </p:nvPr>
        </p:nvSpPr>
        <p:spPr>
          <a:xfrm>
            <a:off x="450360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39" name="PlaceHolder 4"/>
          <p:cNvSpPr>
            <a:spLocks noGrp="1"/>
          </p:cNvSpPr>
          <p:nvPr>
            <p:ph/>
          </p:nvPr>
        </p:nvSpPr>
        <p:spPr>
          <a:xfrm>
            <a:off x="768240" y="4386960"/>
            <a:ext cx="72900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1E5A1FE-4353-460D-85B0-467E5343EDD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6" name="PlaceHolder 2"/>
          <p:cNvSpPr>
            <a:spLocks noGrp="1"/>
          </p:cNvSpPr>
          <p:nvPr>
            <p:ph/>
          </p:nvPr>
        </p:nvSpPr>
        <p:spPr>
          <a:xfrm>
            <a:off x="76824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7" name="PlaceHolder 3"/>
          <p:cNvSpPr>
            <a:spLocks noGrp="1"/>
          </p:cNvSpPr>
          <p:nvPr>
            <p:ph/>
          </p:nvPr>
        </p:nvSpPr>
        <p:spPr>
          <a:xfrm>
            <a:off x="450360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8" name="PlaceHolder 4"/>
          <p:cNvSpPr>
            <a:spLocks noGrp="1"/>
          </p:cNvSpPr>
          <p:nvPr>
            <p:ph/>
          </p:nvPr>
        </p:nvSpPr>
        <p:spPr>
          <a:xfrm>
            <a:off x="76824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A70699-9F65-40DE-A15E-64425C87EF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241" name="PlaceHolder 2"/>
          <p:cNvSpPr>
            <a:spLocks noGrp="1"/>
          </p:cNvSpPr>
          <p:nvPr>
            <p:ph/>
          </p:nvPr>
        </p:nvSpPr>
        <p:spPr>
          <a:xfrm>
            <a:off x="768240" y="2286000"/>
            <a:ext cx="72900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42" name="PlaceHolder 3"/>
          <p:cNvSpPr>
            <a:spLocks noGrp="1"/>
          </p:cNvSpPr>
          <p:nvPr>
            <p:ph/>
          </p:nvPr>
        </p:nvSpPr>
        <p:spPr>
          <a:xfrm>
            <a:off x="768240" y="4386960"/>
            <a:ext cx="72900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C66237D-77BD-4BFF-BC08-1986E0099CF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244" name="PlaceHolder 2"/>
          <p:cNvSpPr>
            <a:spLocks noGrp="1"/>
          </p:cNvSpPr>
          <p:nvPr>
            <p:ph/>
          </p:nvPr>
        </p:nvSpPr>
        <p:spPr>
          <a:xfrm>
            <a:off x="76824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45" name="PlaceHolder 3"/>
          <p:cNvSpPr>
            <a:spLocks noGrp="1"/>
          </p:cNvSpPr>
          <p:nvPr>
            <p:ph/>
          </p:nvPr>
        </p:nvSpPr>
        <p:spPr>
          <a:xfrm>
            <a:off x="450360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46" name="PlaceHolder 4"/>
          <p:cNvSpPr>
            <a:spLocks noGrp="1"/>
          </p:cNvSpPr>
          <p:nvPr>
            <p:ph/>
          </p:nvPr>
        </p:nvSpPr>
        <p:spPr>
          <a:xfrm>
            <a:off x="76824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47" name="PlaceHolder 5"/>
          <p:cNvSpPr>
            <a:spLocks noGrp="1"/>
          </p:cNvSpPr>
          <p:nvPr>
            <p:ph/>
          </p:nvPr>
        </p:nvSpPr>
        <p:spPr>
          <a:xfrm>
            <a:off x="450360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EA42D6C-236E-40AA-A428-751243AC2C3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249" name="PlaceHolder 2"/>
          <p:cNvSpPr>
            <a:spLocks noGrp="1"/>
          </p:cNvSpPr>
          <p:nvPr>
            <p:ph/>
          </p:nvPr>
        </p:nvSpPr>
        <p:spPr>
          <a:xfrm>
            <a:off x="768240" y="228600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50" name="PlaceHolder 3"/>
          <p:cNvSpPr>
            <a:spLocks noGrp="1"/>
          </p:cNvSpPr>
          <p:nvPr>
            <p:ph/>
          </p:nvPr>
        </p:nvSpPr>
        <p:spPr>
          <a:xfrm>
            <a:off x="3233160" y="228600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51" name="PlaceHolder 4"/>
          <p:cNvSpPr>
            <a:spLocks noGrp="1"/>
          </p:cNvSpPr>
          <p:nvPr>
            <p:ph/>
          </p:nvPr>
        </p:nvSpPr>
        <p:spPr>
          <a:xfrm>
            <a:off x="5698080" y="228600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52" name="PlaceHolder 5"/>
          <p:cNvSpPr>
            <a:spLocks noGrp="1"/>
          </p:cNvSpPr>
          <p:nvPr>
            <p:ph/>
          </p:nvPr>
        </p:nvSpPr>
        <p:spPr>
          <a:xfrm>
            <a:off x="768240" y="438696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53" name="PlaceHolder 6"/>
          <p:cNvSpPr>
            <a:spLocks noGrp="1"/>
          </p:cNvSpPr>
          <p:nvPr>
            <p:ph/>
          </p:nvPr>
        </p:nvSpPr>
        <p:spPr>
          <a:xfrm>
            <a:off x="3233160" y="438696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54" name="PlaceHolder 7"/>
          <p:cNvSpPr>
            <a:spLocks noGrp="1"/>
          </p:cNvSpPr>
          <p:nvPr>
            <p:ph/>
          </p:nvPr>
        </p:nvSpPr>
        <p:spPr>
          <a:xfrm>
            <a:off x="5698080" y="438696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5C9A2EE-C868-4F0A-92EF-03CC1C8CD1D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20" name="PlaceHolder 2"/>
          <p:cNvSpPr>
            <a:spLocks noGrp="1"/>
          </p:cNvSpPr>
          <p:nvPr>
            <p:ph/>
          </p:nvPr>
        </p:nvSpPr>
        <p:spPr>
          <a:xfrm>
            <a:off x="76824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1" name="PlaceHolder 3"/>
          <p:cNvSpPr>
            <a:spLocks noGrp="1"/>
          </p:cNvSpPr>
          <p:nvPr>
            <p:ph/>
          </p:nvPr>
        </p:nvSpPr>
        <p:spPr>
          <a:xfrm>
            <a:off x="450360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2" name="PlaceHolder 4"/>
          <p:cNvSpPr>
            <a:spLocks noGrp="1"/>
          </p:cNvSpPr>
          <p:nvPr>
            <p:ph/>
          </p:nvPr>
        </p:nvSpPr>
        <p:spPr>
          <a:xfrm>
            <a:off x="450360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E963DF-4F2D-4FED-A3EC-0713B0270C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24" name="PlaceHolder 2"/>
          <p:cNvSpPr>
            <a:spLocks noGrp="1"/>
          </p:cNvSpPr>
          <p:nvPr>
            <p:ph/>
          </p:nvPr>
        </p:nvSpPr>
        <p:spPr>
          <a:xfrm>
            <a:off x="76824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5" name="PlaceHolder 3"/>
          <p:cNvSpPr>
            <a:spLocks noGrp="1"/>
          </p:cNvSpPr>
          <p:nvPr>
            <p:ph/>
          </p:nvPr>
        </p:nvSpPr>
        <p:spPr>
          <a:xfrm>
            <a:off x="450360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6" name="PlaceHolder 4"/>
          <p:cNvSpPr>
            <a:spLocks noGrp="1"/>
          </p:cNvSpPr>
          <p:nvPr>
            <p:ph/>
          </p:nvPr>
        </p:nvSpPr>
        <p:spPr>
          <a:xfrm>
            <a:off x="768240" y="4386960"/>
            <a:ext cx="72900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317833-1127-48D2-BC02-C43DBF852E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0d0d"/>
                </a:solidFill>
                <a:latin typeface="Tw Cen MT Condensed"/>
              </a:rPr>
              <a:t>Click to edit the title text format</a:t>
            </a:r>
            <a:endParaRPr b="0" lang="en-US" sz="4400" spc="-1" strike="noStrike">
              <a:solidFill>
                <a:srgbClr val="0d0d0d"/>
              </a:solidFill>
              <a:latin typeface="Tw Cen MT Condensed"/>
            </a:endParaRPr>
          </a:p>
        </p:txBody>
      </p:sp>
      <p:sp>
        <p:nvSpPr>
          <p:cNvPr id="1" name="PlaceHolder 2"/>
          <p:cNvSpPr>
            <a:spLocks noGrp="1"/>
          </p:cNvSpPr>
          <p:nvPr>
            <p:ph type="body"/>
          </p:nvPr>
        </p:nvSpPr>
        <p:spPr>
          <a:xfrm>
            <a:off x="768240" y="2286000"/>
            <a:ext cx="7290000" cy="4022640"/>
          </a:xfrm>
          <a:prstGeom prst="rect">
            <a:avLst/>
          </a:prstGeom>
          <a:noFill/>
          <a:ln w="0">
            <a:noFill/>
          </a:ln>
        </p:spPr>
        <p:txBody>
          <a:bodyPr lIns="45720" rIns="45720" tIns="46800" bIns="46800" anchor="t">
            <a:normAutofit/>
          </a:bodyPr>
          <a:p>
            <a:pPr marL="90360" indent="-90360">
              <a:lnSpc>
                <a:spcPct val="90000"/>
              </a:lnSpc>
              <a:spcBef>
                <a:spcPts val="1199"/>
              </a:spcBef>
              <a:spcAft>
                <a:spcPts val="201"/>
              </a:spcAft>
              <a:buClr>
                <a:srgbClr val="c66951"/>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264960" indent="-136440">
              <a:lnSpc>
                <a:spcPct val="90000"/>
              </a:lnSpc>
              <a:spcBef>
                <a:spcPts val="1199"/>
              </a:spcBef>
              <a:spcAft>
                <a:spcPts val="201"/>
              </a:spcAft>
              <a:buClr>
                <a:srgbClr val="c669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447840" indent="-136800">
              <a:lnSpc>
                <a:spcPct val="90000"/>
              </a:lnSpc>
              <a:spcBef>
                <a:spcPts val="1199"/>
              </a:spcBef>
              <a:spcAft>
                <a:spcPts val="201"/>
              </a:spcAft>
              <a:buClr>
                <a:srgbClr val="c669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593640" indent="-136440">
              <a:lnSpc>
                <a:spcPct val="90000"/>
              </a:lnSpc>
              <a:spcBef>
                <a:spcPts val="1199"/>
              </a:spcBef>
              <a:spcAft>
                <a:spcPts val="201"/>
              </a:spcAft>
              <a:buClr>
                <a:srgbClr val="c669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776160" indent="-136440">
              <a:lnSpc>
                <a:spcPct val="90000"/>
              </a:lnSpc>
              <a:spcBef>
                <a:spcPts val="1199"/>
              </a:spcBef>
              <a:spcAft>
                <a:spcPts val="201"/>
              </a:spcAft>
              <a:buClr>
                <a:srgbClr val="c669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2" name="PlaceHolder 3"/>
          <p:cNvSpPr>
            <a:spLocks noGrp="1"/>
          </p:cNvSpPr>
          <p:nvPr>
            <p:ph type="dt" idx="1"/>
          </p:nvPr>
        </p:nvSpPr>
        <p:spPr>
          <a:xfrm>
            <a:off x="767880" y="6470280"/>
            <a:ext cx="1616040" cy="2746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3" name="PlaceHolder 4"/>
          <p:cNvSpPr>
            <a:spLocks noGrp="1"/>
          </p:cNvSpPr>
          <p:nvPr>
            <p:ph type="ftr" idx="2"/>
          </p:nvPr>
        </p:nvSpPr>
        <p:spPr>
          <a:xfrm>
            <a:off x="3631680" y="6470280"/>
            <a:ext cx="4426200" cy="2746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4" name="PlaceHolder 5"/>
          <p:cNvSpPr>
            <a:spLocks noGrp="1"/>
          </p:cNvSpPr>
          <p:nvPr>
            <p:ph type="sldNum" idx="3"/>
          </p:nvPr>
        </p:nvSpPr>
        <p:spPr>
          <a:xfrm>
            <a:off x="8128080" y="6470280"/>
            <a:ext cx="730080" cy="27468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d0d0d"/>
                </a:solidFill>
                <a:latin typeface="Tw Cen MT Condensed"/>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680F3EB-2119-4508-80CD-E0E7AA072B10}" type="slidenum">
              <a:rPr b="0" lang="en-US" sz="1000" spc="-1" strike="noStrike">
                <a:solidFill>
                  <a:srgbClr val="0d0d0d"/>
                </a:solidFill>
                <a:latin typeface="Tw Cen MT Condensed"/>
              </a:rPr>
              <a:t>&lt;number&gt;</a:t>
            </a:fld>
            <a:endParaRPr b="0" lang="en-US" sz="1000" spc="-1" strike="noStrike">
              <a:solidFill>
                <a:srgbClr val="000000"/>
              </a:solidFill>
              <a:latin typeface="Times New Roman"/>
            </a:endParaRPr>
          </a:p>
        </p:txBody>
      </p:sp>
      <p:sp>
        <p:nvSpPr>
          <p:cNvPr id="5" name="Straight Connector 6"/>
          <p:cNvSpPr/>
          <p:nvPr/>
        </p:nvSpPr>
        <p:spPr>
          <a:xfrm flipV="1">
            <a:off x="571680" y="826920"/>
            <a:ext cx="0" cy="914400"/>
          </a:xfrm>
          <a:prstGeom prst="line">
            <a:avLst/>
          </a:prstGeom>
          <a:ln w="19080">
            <a:solidFill>
              <a:srgbClr val="c6695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Rectangle 8"/>
          <p:cNvSpPr/>
          <p:nvPr/>
        </p:nvSpPr>
        <p:spPr>
          <a:xfrm>
            <a:off x="0" y="0"/>
            <a:ext cx="9144000" cy="4572000"/>
          </a:xfrm>
          <a:prstGeom prst="rect">
            <a:avLst/>
          </a:prstGeom>
          <a:solidFill>
            <a:srgbClr val="9e493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43" name="Freeform 9"/>
          <p:cNvSpPr/>
          <p:nvPr/>
        </p:nvSpPr>
        <p:spPr>
          <a:xfrm>
            <a:off x="0" y="0"/>
            <a:ext cx="9144000" cy="4572000"/>
          </a:xfrm>
          <a:custGeom>
            <a:avLst/>
            <a:gdLst/>
            <a:ahLst/>
            <a:rect l="l" t="t" r="r" b="b"/>
            <a:pathLst>
              <a:path w="9143987" h="4571997">
                <a:moveTo>
                  <a:pt x="1" y="4316132"/>
                </a:moveTo>
                <a:lnTo>
                  <a:pt x="255863" y="4571994"/>
                </a:lnTo>
                <a:lnTo>
                  <a:pt x="203619" y="4571994"/>
                </a:lnTo>
                <a:lnTo>
                  <a:pt x="1" y="4368376"/>
                </a:lnTo>
                <a:lnTo>
                  <a:pt x="1" y="4316132"/>
                </a:lnTo>
                <a:close/>
                <a:moveTo>
                  <a:pt x="9143985" y="4208793"/>
                </a:moveTo>
                <a:lnTo>
                  <a:pt x="9143985" y="4261037"/>
                </a:lnTo>
                <a:lnTo>
                  <a:pt x="8833027" y="4571996"/>
                </a:lnTo>
                <a:lnTo>
                  <a:pt x="8780783" y="4571996"/>
                </a:lnTo>
                <a:lnTo>
                  <a:pt x="9143985" y="4208793"/>
                </a:lnTo>
                <a:close/>
                <a:moveTo>
                  <a:pt x="8664832" y="4076819"/>
                </a:moveTo>
                <a:lnTo>
                  <a:pt x="8775657" y="4076819"/>
                </a:lnTo>
                <a:lnTo>
                  <a:pt x="8775657" y="4187644"/>
                </a:lnTo>
                <a:lnTo>
                  <a:pt x="8664832" y="4187644"/>
                </a:lnTo>
                <a:lnTo>
                  <a:pt x="8664832" y="4076819"/>
                </a:lnTo>
                <a:close/>
                <a:moveTo>
                  <a:pt x="7614024" y="4076819"/>
                </a:moveTo>
                <a:lnTo>
                  <a:pt x="7724849" y="4076819"/>
                </a:lnTo>
                <a:lnTo>
                  <a:pt x="7724849" y="4187644"/>
                </a:lnTo>
                <a:lnTo>
                  <a:pt x="7614024" y="4187644"/>
                </a:lnTo>
                <a:lnTo>
                  <a:pt x="7614024" y="4076819"/>
                </a:lnTo>
                <a:close/>
                <a:moveTo>
                  <a:pt x="6563216" y="4076819"/>
                </a:moveTo>
                <a:lnTo>
                  <a:pt x="6674041" y="4076819"/>
                </a:lnTo>
                <a:lnTo>
                  <a:pt x="6674041" y="4187644"/>
                </a:lnTo>
                <a:lnTo>
                  <a:pt x="6563216" y="4187644"/>
                </a:lnTo>
                <a:lnTo>
                  <a:pt x="6563216" y="4076819"/>
                </a:lnTo>
                <a:close/>
                <a:moveTo>
                  <a:pt x="5512408" y="4076819"/>
                </a:moveTo>
                <a:lnTo>
                  <a:pt x="5623233" y="4076819"/>
                </a:lnTo>
                <a:lnTo>
                  <a:pt x="5623233" y="4187644"/>
                </a:lnTo>
                <a:lnTo>
                  <a:pt x="5512408" y="4187644"/>
                </a:lnTo>
                <a:lnTo>
                  <a:pt x="5512408" y="4076819"/>
                </a:lnTo>
                <a:close/>
                <a:moveTo>
                  <a:pt x="4461600" y="4076819"/>
                </a:moveTo>
                <a:lnTo>
                  <a:pt x="4572425" y="4076819"/>
                </a:lnTo>
                <a:lnTo>
                  <a:pt x="4572425" y="4187644"/>
                </a:lnTo>
                <a:lnTo>
                  <a:pt x="4461600" y="4187644"/>
                </a:lnTo>
                <a:lnTo>
                  <a:pt x="4461600" y="4076819"/>
                </a:lnTo>
                <a:close/>
                <a:moveTo>
                  <a:pt x="3410793" y="4076819"/>
                </a:moveTo>
                <a:lnTo>
                  <a:pt x="3521618" y="4076819"/>
                </a:lnTo>
                <a:lnTo>
                  <a:pt x="3521618" y="4187644"/>
                </a:lnTo>
                <a:lnTo>
                  <a:pt x="3410793" y="4187644"/>
                </a:lnTo>
                <a:lnTo>
                  <a:pt x="3410793" y="4076819"/>
                </a:lnTo>
                <a:close/>
                <a:moveTo>
                  <a:pt x="2359985" y="4076819"/>
                </a:moveTo>
                <a:lnTo>
                  <a:pt x="2470810" y="4076819"/>
                </a:lnTo>
                <a:lnTo>
                  <a:pt x="2470810" y="4187644"/>
                </a:lnTo>
                <a:lnTo>
                  <a:pt x="2359985" y="4187644"/>
                </a:lnTo>
                <a:lnTo>
                  <a:pt x="2359985" y="4076819"/>
                </a:lnTo>
                <a:close/>
                <a:moveTo>
                  <a:pt x="1309177" y="4076819"/>
                </a:moveTo>
                <a:lnTo>
                  <a:pt x="1420002" y="4076819"/>
                </a:lnTo>
                <a:lnTo>
                  <a:pt x="1420002" y="4187644"/>
                </a:lnTo>
                <a:lnTo>
                  <a:pt x="1309177" y="4187644"/>
                </a:lnTo>
                <a:lnTo>
                  <a:pt x="1309177" y="4076819"/>
                </a:lnTo>
                <a:close/>
                <a:moveTo>
                  <a:pt x="258369" y="4076819"/>
                </a:moveTo>
                <a:lnTo>
                  <a:pt x="369194" y="4076819"/>
                </a:lnTo>
                <a:lnTo>
                  <a:pt x="369194" y="4187644"/>
                </a:lnTo>
                <a:lnTo>
                  <a:pt x="258369" y="4187644"/>
                </a:lnTo>
                <a:lnTo>
                  <a:pt x="258369" y="4076819"/>
                </a:lnTo>
                <a:close/>
                <a:moveTo>
                  <a:pt x="8139428" y="3551212"/>
                </a:moveTo>
                <a:lnTo>
                  <a:pt x="8250253" y="3551212"/>
                </a:lnTo>
                <a:lnTo>
                  <a:pt x="8250253" y="3662037"/>
                </a:lnTo>
                <a:lnTo>
                  <a:pt x="8139428" y="3662037"/>
                </a:lnTo>
                <a:lnTo>
                  <a:pt x="8139428" y="3551212"/>
                </a:lnTo>
                <a:close/>
                <a:moveTo>
                  <a:pt x="7088620" y="3551212"/>
                </a:moveTo>
                <a:lnTo>
                  <a:pt x="7199445" y="3551212"/>
                </a:lnTo>
                <a:lnTo>
                  <a:pt x="7199445" y="3662037"/>
                </a:lnTo>
                <a:lnTo>
                  <a:pt x="7088620" y="3662037"/>
                </a:lnTo>
                <a:lnTo>
                  <a:pt x="7088620" y="3551212"/>
                </a:lnTo>
                <a:close/>
                <a:moveTo>
                  <a:pt x="6037812" y="3551212"/>
                </a:moveTo>
                <a:lnTo>
                  <a:pt x="6148637" y="3551212"/>
                </a:lnTo>
                <a:lnTo>
                  <a:pt x="6148637" y="3662037"/>
                </a:lnTo>
                <a:lnTo>
                  <a:pt x="6037812" y="3662037"/>
                </a:lnTo>
                <a:lnTo>
                  <a:pt x="6037812" y="3551212"/>
                </a:lnTo>
                <a:close/>
                <a:moveTo>
                  <a:pt x="4987004" y="3551212"/>
                </a:moveTo>
                <a:lnTo>
                  <a:pt x="5097829" y="3551212"/>
                </a:lnTo>
                <a:lnTo>
                  <a:pt x="5097829" y="3662037"/>
                </a:lnTo>
                <a:lnTo>
                  <a:pt x="4987004" y="3662037"/>
                </a:lnTo>
                <a:lnTo>
                  <a:pt x="4987004" y="3551212"/>
                </a:lnTo>
                <a:close/>
                <a:moveTo>
                  <a:pt x="3936204" y="3551212"/>
                </a:moveTo>
                <a:lnTo>
                  <a:pt x="4047028" y="3551212"/>
                </a:lnTo>
                <a:lnTo>
                  <a:pt x="4047028" y="3662037"/>
                </a:lnTo>
                <a:lnTo>
                  <a:pt x="3936204" y="3662037"/>
                </a:lnTo>
                <a:lnTo>
                  <a:pt x="3936204" y="3551212"/>
                </a:lnTo>
                <a:close/>
                <a:moveTo>
                  <a:pt x="2885395" y="3551212"/>
                </a:moveTo>
                <a:lnTo>
                  <a:pt x="2996220" y="3551212"/>
                </a:lnTo>
                <a:lnTo>
                  <a:pt x="2996220" y="3662037"/>
                </a:lnTo>
                <a:lnTo>
                  <a:pt x="2885395" y="3662037"/>
                </a:lnTo>
                <a:lnTo>
                  <a:pt x="2885395" y="3551212"/>
                </a:lnTo>
                <a:close/>
                <a:moveTo>
                  <a:pt x="1834587" y="3551212"/>
                </a:moveTo>
                <a:lnTo>
                  <a:pt x="1945412" y="3551212"/>
                </a:lnTo>
                <a:lnTo>
                  <a:pt x="1945412" y="3662037"/>
                </a:lnTo>
                <a:lnTo>
                  <a:pt x="1834587" y="3662037"/>
                </a:lnTo>
                <a:lnTo>
                  <a:pt x="1834587" y="3551212"/>
                </a:lnTo>
                <a:close/>
                <a:moveTo>
                  <a:pt x="783778" y="3551212"/>
                </a:moveTo>
                <a:lnTo>
                  <a:pt x="894603" y="3551212"/>
                </a:lnTo>
                <a:lnTo>
                  <a:pt x="894603" y="3662037"/>
                </a:lnTo>
                <a:lnTo>
                  <a:pt x="783778" y="3662037"/>
                </a:lnTo>
                <a:lnTo>
                  <a:pt x="783778" y="3551212"/>
                </a:lnTo>
                <a:close/>
                <a:moveTo>
                  <a:pt x="2942310" y="3107962"/>
                </a:moveTo>
                <a:lnTo>
                  <a:pt x="2470818" y="3579456"/>
                </a:lnTo>
                <a:lnTo>
                  <a:pt x="2470818" y="3634904"/>
                </a:lnTo>
                <a:lnTo>
                  <a:pt x="2942310" y="4106399"/>
                </a:lnTo>
                <a:lnTo>
                  <a:pt x="3410800" y="3637911"/>
                </a:lnTo>
                <a:lnTo>
                  <a:pt x="3410800" y="3576450"/>
                </a:lnTo>
                <a:lnTo>
                  <a:pt x="2942310" y="3107962"/>
                </a:lnTo>
                <a:close/>
                <a:moveTo>
                  <a:pt x="8195700" y="3107962"/>
                </a:moveTo>
                <a:lnTo>
                  <a:pt x="7724849" y="3578813"/>
                </a:lnTo>
                <a:lnTo>
                  <a:pt x="7724849" y="3635545"/>
                </a:lnTo>
                <a:lnTo>
                  <a:pt x="8195702" y="4106398"/>
                </a:lnTo>
                <a:lnTo>
                  <a:pt x="8664832" y="3637268"/>
                </a:lnTo>
                <a:lnTo>
                  <a:pt x="8664832" y="3577094"/>
                </a:lnTo>
                <a:lnTo>
                  <a:pt x="8195700" y="3107962"/>
                </a:lnTo>
                <a:close/>
                <a:moveTo>
                  <a:pt x="5043655" y="3107962"/>
                </a:moveTo>
                <a:lnTo>
                  <a:pt x="4572425" y="3579192"/>
                </a:lnTo>
                <a:lnTo>
                  <a:pt x="4572425" y="3635169"/>
                </a:lnTo>
                <a:lnTo>
                  <a:pt x="5043654" y="4106399"/>
                </a:lnTo>
                <a:lnTo>
                  <a:pt x="5512408" y="3637645"/>
                </a:lnTo>
                <a:lnTo>
                  <a:pt x="5512408" y="3576714"/>
                </a:lnTo>
                <a:lnTo>
                  <a:pt x="5043655" y="3107962"/>
                </a:lnTo>
                <a:close/>
                <a:moveTo>
                  <a:pt x="840943" y="3107962"/>
                </a:moveTo>
                <a:lnTo>
                  <a:pt x="369199" y="3579705"/>
                </a:lnTo>
                <a:lnTo>
                  <a:pt x="369199" y="3634656"/>
                </a:lnTo>
                <a:lnTo>
                  <a:pt x="840943" y="4106401"/>
                </a:lnTo>
                <a:lnTo>
                  <a:pt x="1309186" y="3638165"/>
                </a:lnTo>
                <a:lnTo>
                  <a:pt x="1309186" y="3576196"/>
                </a:lnTo>
                <a:lnTo>
                  <a:pt x="840943" y="3107962"/>
                </a:lnTo>
                <a:close/>
                <a:moveTo>
                  <a:pt x="3992991" y="3107961"/>
                </a:moveTo>
                <a:lnTo>
                  <a:pt x="3521625" y="3579327"/>
                </a:lnTo>
                <a:lnTo>
                  <a:pt x="3521625" y="3635034"/>
                </a:lnTo>
                <a:lnTo>
                  <a:pt x="3992992" y="4106400"/>
                </a:lnTo>
                <a:lnTo>
                  <a:pt x="4461600" y="3637773"/>
                </a:lnTo>
                <a:lnTo>
                  <a:pt x="4461600" y="3576588"/>
                </a:lnTo>
                <a:lnTo>
                  <a:pt x="3992991" y="3107961"/>
                </a:lnTo>
                <a:close/>
                <a:moveTo>
                  <a:pt x="1891629" y="3107961"/>
                </a:moveTo>
                <a:lnTo>
                  <a:pt x="1420011" y="3579585"/>
                </a:lnTo>
                <a:lnTo>
                  <a:pt x="1420011" y="3634777"/>
                </a:lnTo>
                <a:lnTo>
                  <a:pt x="1891629" y="4106400"/>
                </a:lnTo>
                <a:lnTo>
                  <a:pt x="2359993" y="3638038"/>
                </a:lnTo>
                <a:lnTo>
                  <a:pt x="2359993" y="3576322"/>
                </a:lnTo>
                <a:lnTo>
                  <a:pt x="1891629" y="3107961"/>
                </a:lnTo>
                <a:close/>
                <a:moveTo>
                  <a:pt x="6094336" y="3107961"/>
                </a:moveTo>
                <a:lnTo>
                  <a:pt x="5623233" y="3579064"/>
                </a:lnTo>
                <a:lnTo>
                  <a:pt x="5623233" y="3635295"/>
                </a:lnTo>
                <a:lnTo>
                  <a:pt x="6094336" y="4106399"/>
                </a:lnTo>
                <a:lnTo>
                  <a:pt x="6563216" y="3637520"/>
                </a:lnTo>
                <a:lnTo>
                  <a:pt x="6563216" y="3576841"/>
                </a:lnTo>
                <a:lnTo>
                  <a:pt x="6094336" y="3107961"/>
                </a:lnTo>
                <a:close/>
                <a:moveTo>
                  <a:pt x="7145019" y="3107960"/>
                </a:moveTo>
                <a:lnTo>
                  <a:pt x="6674041" y="3578938"/>
                </a:lnTo>
                <a:lnTo>
                  <a:pt x="6674041" y="3635421"/>
                </a:lnTo>
                <a:lnTo>
                  <a:pt x="7145018" y="4106399"/>
                </a:lnTo>
                <a:lnTo>
                  <a:pt x="7614024" y="3637394"/>
                </a:lnTo>
                <a:lnTo>
                  <a:pt x="7614024" y="3576965"/>
                </a:lnTo>
                <a:lnTo>
                  <a:pt x="7145019" y="3107960"/>
                </a:lnTo>
                <a:close/>
                <a:moveTo>
                  <a:pt x="8664832" y="3027337"/>
                </a:moveTo>
                <a:lnTo>
                  <a:pt x="8775657" y="3027337"/>
                </a:lnTo>
                <a:lnTo>
                  <a:pt x="8775657" y="3138162"/>
                </a:lnTo>
                <a:lnTo>
                  <a:pt x="8664832" y="3138162"/>
                </a:lnTo>
                <a:lnTo>
                  <a:pt x="8664832" y="3027337"/>
                </a:lnTo>
                <a:close/>
                <a:moveTo>
                  <a:pt x="7614024" y="3027337"/>
                </a:moveTo>
                <a:lnTo>
                  <a:pt x="7724849" y="3027337"/>
                </a:lnTo>
                <a:lnTo>
                  <a:pt x="7724849" y="3138162"/>
                </a:lnTo>
                <a:lnTo>
                  <a:pt x="7614024" y="3138162"/>
                </a:lnTo>
                <a:lnTo>
                  <a:pt x="7614024" y="3027337"/>
                </a:lnTo>
                <a:close/>
                <a:moveTo>
                  <a:pt x="6563216" y="3027337"/>
                </a:moveTo>
                <a:lnTo>
                  <a:pt x="6674041" y="3027337"/>
                </a:lnTo>
                <a:lnTo>
                  <a:pt x="6674041" y="3138162"/>
                </a:lnTo>
                <a:lnTo>
                  <a:pt x="6563216" y="3138162"/>
                </a:lnTo>
                <a:lnTo>
                  <a:pt x="6563216" y="3027337"/>
                </a:lnTo>
                <a:close/>
                <a:moveTo>
                  <a:pt x="5512408" y="3027337"/>
                </a:moveTo>
                <a:lnTo>
                  <a:pt x="5623233" y="3027337"/>
                </a:lnTo>
                <a:lnTo>
                  <a:pt x="5623233" y="3138162"/>
                </a:lnTo>
                <a:lnTo>
                  <a:pt x="5512408" y="3138162"/>
                </a:lnTo>
                <a:lnTo>
                  <a:pt x="5512408" y="3027337"/>
                </a:lnTo>
                <a:close/>
                <a:moveTo>
                  <a:pt x="4461600" y="3027337"/>
                </a:moveTo>
                <a:lnTo>
                  <a:pt x="4572425" y="3027337"/>
                </a:lnTo>
                <a:lnTo>
                  <a:pt x="4572425" y="3138162"/>
                </a:lnTo>
                <a:lnTo>
                  <a:pt x="4461600" y="3138162"/>
                </a:lnTo>
                <a:lnTo>
                  <a:pt x="4461600" y="3027337"/>
                </a:lnTo>
                <a:close/>
                <a:moveTo>
                  <a:pt x="3410798" y="3027337"/>
                </a:moveTo>
                <a:lnTo>
                  <a:pt x="3521622" y="3027337"/>
                </a:lnTo>
                <a:lnTo>
                  <a:pt x="3521622" y="3138162"/>
                </a:lnTo>
                <a:lnTo>
                  <a:pt x="3410798" y="3138162"/>
                </a:lnTo>
                <a:lnTo>
                  <a:pt x="3410798" y="3027337"/>
                </a:lnTo>
                <a:close/>
                <a:moveTo>
                  <a:pt x="2359990" y="3027337"/>
                </a:moveTo>
                <a:lnTo>
                  <a:pt x="2470815" y="3027337"/>
                </a:lnTo>
                <a:lnTo>
                  <a:pt x="2470815" y="3138162"/>
                </a:lnTo>
                <a:lnTo>
                  <a:pt x="2359990" y="3138162"/>
                </a:lnTo>
                <a:lnTo>
                  <a:pt x="2359990" y="3027337"/>
                </a:lnTo>
                <a:close/>
                <a:moveTo>
                  <a:pt x="1309183" y="3027337"/>
                </a:moveTo>
                <a:lnTo>
                  <a:pt x="1420008" y="3027337"/>
                </a:lnTo>
                <a:lnTo>
                  <a:pt x="1420008" y="3138162"/>
                </a:lnTo>
                <a:lnTo>
                  <a:pt x="1309183" y="3138162"/>
                </a:lnTo>
                <a:lnTo>
                  <a:pt x="1309183" y="3027337"/>
                </a:lnTo>
                <a:close/>
                <a:moveTo>
                  <a:pt x="258373" y="3027337"/>
                </a:moveTo>
                <a:lnTo>
                  <a:pt x="369197" y="3027337"/>
                </a:lnTo>
                <a:lnTo>
                  <a:pt x="369197" y="3138162"/>
                </a:lnTo>
                <a:lnTo>
                  <a:pt x="258373" y="3138162"/>
                </a:lnTo>
                <a:lnTo>
                  <a:pt x="258373" y="3027337"/>
                </a:lnTo>
                <a:close/>
                <a:moveTo>
                  <a:pt x="7642081" y="2610898"/>
                </a:moveTo>
                <a:lnTo>
                  <a:pt x="7171142" y="3081837"/>
                </a:lnTo>
                <a:lnTo>
                  <a:pt x="7640516" y="3551212"/>
                </a:lnTo>
                <a:lnTo>
                  <a:pt x="7700206" y="3551212"/>
                </a:lnTo>
                <a:lnTo>
                  <a:pt x="8169578" y="3081840"/>
                </a:lnTo>
                <a:lnTo>
                  <a:pt x="7698636" y="2610898"/>
                </a:lnTo>
                <a:lnTo>
                  <a:pt x="7642081" y="2610898"/>
                </a:lnTo>
                <a:close/>
                <a:moveTo>
                  <a:pt x="6591400" y="2610898"/>
                </a:moveTo>
                <a:lnTo>
                  <a:pt x="6120458" y="3081839"/>
                </a:lnTo>
                <a:lnTo>
                  <a:pt x="6589831" y="3551212"/>
                </a:lnTo>
                <a:lnTo>
                  <a:pt x="6649523" y="3551212"/>
                </a:lnTo>
                <a:lnTo>
                  <a:pt x="7118897" y="3081838"/>
                </a:lnTo>
                <a:lnTo>
                  <a:pt x="6647958" y="2610898"/>
                </a:lnTo>
                <a:lnTo>
                  <a:pt x="6591400" y="2610898"/>
                </a:lnTo>
                <a:close/>
                <a:moveTo>
                  <a:pt x="5540719" y="2610898"/>
                </a:moveTo>
                <a:lnTo>
                  <a:pt x="5069777" y="3081840"/>
                </a:lnTo>
                <a:lnTo>
                  <a:pt x="5539149" y="3551212"/>
                </a:lnTo>
                <a:lnTo>
                  <a:pt x="5598841" y="3551212"/>
                </a:lnTo>
                <a:lnTo>
                  <a:pt x="6068214" y="3081839"/>
                </a:lnTo>
                <a:lnTo>
                  <a:pt x="5597273" y="2610898"/>
                </a:lnTo>
                <a:lnTo>
                  <a:pt x="5540719" y="2610898"/>
                </a:lnTo>
                <a:close/>
                <a:moveTo>
                  <a:pt x="4490037" y="2610898"/>
                </a:moveTo>
                <a:lnTo>
                  <a:pt x="4019113" y="3081839"/>
                </a:lnTo>
                <a:lnTo>
                  <a:pt x="4488468" y="3551212"/>
                </a:lnTo>
                <a:lnTo>
                  <a:pt x="4548161" y="3551212"/>
                </a:lnTo>
                <a:lnTo>
                  <a:pt x="5017533" y="3081840"/>
                </a:lnTo>
                <a:lnTo>
                  <a:pt x="4546591" y="2610898"/>
                </a:lnTo>
                <a:lnTo>
                  <a:pt x="4490037" y="2610898"/>
                </a:lnTo>
                <a:close/>
                <a:moveTo>
                  <a:pt x="3439375" y="2610898"/>
                </a:moveTo>
                <a:lnTo>
                  <a:pt x="2968432" y="3081840"/>
                </a:lnTo>
                <a:lnTo>
                  <a:pt x="3437804" y="3551212"/>
                </a:lnTo>
                <a:lnTo>
                  <a:pt x="3497496" y="3551212"/>
                </a:lnTo>
                <a:lnTo>
                  <a:pt x="3966869" y="3081840"/>
                </a:lnTo>
                <a:lnTo>
                  <a:pt x="3495925" y="2610898"/>
                </a:lnTo>
                <a:lnTo>
                  <a:pt x="3439375" y="2610898"/>
                </a:lnTo>
                <a:close/>
                <a:moveTo>
                  <a:pt x="2388694" y="2610898"/>
                </a:moveTo>
                <a:lnTo>
                  <a:pt x="1917751" y="3081839"/>
                </a:lnTo>
                <a:lnTo>
                  <a:pt x="2387125" y="3551212"/>
                </a:lnTo>
                <a:lnTo>
                  <a:pt x="2446818" y="3551212"/>
                </a:lnTo>
                <a:lnTo>
                  <a:pt x="2916188" y="3081841"/>
                </a:lnTo>
                <a:lnTo>
                  <a:pt x="2445246" y="2610898"/>
                </a:lnTo>
                <a:lnTo>
                  <a:pt x="2388694" y="2610898"/>
                </a:lnTo>
                <a:close/>
                <a:moveTo>
                  <a:pt x="1338016" y="2610898"/>
                </a:moveTo>
                <a:lnTo>
                  <a:pt x="867065" y="3081840"/>
                </a:lnTo>
                <a:lnTo>
                  <a:pt x="1336446" y="3551212"/>
                </a:lnTo>
                <a:lnTo>
                  <a:pt x="1396142" y="3551212"/>
                </a:lnTo>
                <a:lnTo>
                  <a:pt x="1865507" y="3081839"/>
                </a:lnTo>
                <a:lnTo>
                  <a:pt x="1394572" y="2610898"/>
                </a:lnTo>
                <a:lnTo>
                  <a:pt x="1338016" y="2610898"/>
                </a:lnTo>
                <a:close/>
                <a:moveTo>
                  <a:pt x="8139428" y="2500073"/>
                </a:moveTo>
                <a:lnTo>
                  <a:pt x="8250253" y="2500073"/>
                </a:lnTo>
                <a:lnTo>
                  <a:pt x="8250253" y="2610898"/>
                </a:lnTo>
                <a:lnTo>
                  <a:pt x="8139428" y="2610898"/>
                </a:lnTo>
                <a:lnTo>
                  <a:pt x="8139428" y="2500073"/>
                </a:lnTo>
                <a:close/>
                <a:moveTo>
                  <a:pt x="7088620" y="2500073"/>
                </a:moveTo>
                <a:lnTo>
                  <a:pt x="7199445" y="2500073"/>
                </a:lnTo>
                <a:lnTo>
                  <a:pt x="7199445" y="2610898"/>
                </a:lnTo>
                <a:lnTo>
                  <a:pt x="7088620" y="2610898"/>
                </a:lnTo>
                <a:lnTo>
                  <a:pt x="7088620" y="2500073"/>
                </a:lnTo>
                <a:close/>
                <a:moveTo>
                  <a:pt x="6037812" y="2500073"/>
                </a:moveTo>
                <a:lnTo>
                  <a:pt x="6148637" y="2500073"/>
                </a:lnTo>
                <a:lnTo>
                  <a:pt x="6148637" y="2610898"/>
                </a:lnTo>
                <a:lnTo>
                  <a:pt x="6037812" y="2610898"/>
                </a:lnTo>
                <a:lnTo>
                  <a:pt x="6037812" y="2500073"/>
                </a:lnTo>
                <a:close/>
                <a:moveTo>
                  <a:pt x="4987004" y="2500073"/>
                </a:moveTo>
                <a:lnTo>
                  <a:pt x="5097829" y="2500073"/>
                </a:lnTo>
                <a:lnTo>
                  <a:pt x="5097829" y="2610898"/>
                </a:lnTo>
                <a:lnTo>
                  <a:pt x="4987004" y="2610898"/>
                </a:lnTo>
                <a:lnTo>
                  <a:pt x="4987004" y="2500073"/>
                </a:lnTo>
                <a:close/>
                <a:moveTo>
                  <a:pt x="3936207" y="2500073"/>
                </a:moveTo>
                <a:lnTo>
                  <a:pt x="4047031" y="2500073"/>
                </a:lnTo>
                <a:lnTo>
                  <a:pt x="4047031" y="2610898"/>
                </a:lnTo>
                <a:lnTo>
                  <a:pt x="3936207" y="2610898"/>
                </a:lnTo>
                <a:lnTo>
                  <a:pt x="3936207" y="2500073"/>
                </a:lnTo>
                <a:close/>
                <a:moveTo>
                  <a:pt x="2885399" y="2500073"/>
                </a:moveTo>
                <a:lnTo>
                  <a:pt x="2996223" y="2500073"/>
                </a:lnTo>
                <a:lnTo>
                  <a:pt x="2996223" y="2610898"/>
                </a:lnTo>
                <a:lnTo>
                  <a:pt x="2885399" y="2610898"/>
                </a:lnTo>
                <a:lnTo>
                  <a:pt x="2885399" y="2500073"/>
                </a:lnTo>
                <a:close/>
                <a:moveTo>
                  <a:pt x="1834589" y="2500073"/>
                </a:moveTo>
                <a:lnTo>
                  <a:pt x="1945415" y="2500073"/>
                </a:lnTo>
                <a:lnTo>
                  <a:pt x="1945415" y="2610898"/>
                </a:lnTo>
                <a:lnTo>
                  <a:pt x="1834589" y="2610898"/>
                </a:lnTo>
                <a:lnTo>
                  <a:pt x="1834589" y="2500073"/>
                </a:lnTo>
                <a:close/>
                <a:moveTo>
                  <a:pt x="783780" y="2500073"/>
                </a:moveTo>
                <a:lnTo>
                  <a:pt x="894605" y="2500073"/>
                </a:lnTo>
                <a:lnTo>
                  <a:pt x="894605" y="2610898"/>
                </a:lnTo>
                <a:lnTo>
                  <a:pt x="783780" y="2610898"/>
                </a:lnTo>
                <a:lnTo>
                  <a:pt x="783780" y="2500073"/>
                </a:lnTo>
                <a:close/>
                <a:moveTo>
                  <a:pt x="1891628" y="2057290"/>
                </a:moveTo>
                <a:lnTo>
                  <a:pt x="1420016" y="2528900"/>
                </a:lnTo>
                <a:lnTo>
                  <a:pt x="1420016" y="2584097"/>
                </a:lnTo>
                <a:lnTo>
                  <a:pt x="1891629" y="3055718"/>
                </a:lnTo>
                <a:lnTo>
                  <a:pt x="2359995" y="2587353"/>
                </a:lnTo>
                <a:lnTo>
                  <a:pt x="2359995" y="2525647"/>
                </a:lnTo>
                <a:lnTo>
                  <a:pt x="1891628" y="2057290"/>
                </a:lnTo>
                <a:close/>
                <a:moveTo>
                  <a:pt x="2942310" y="2057290"/>
                </a:moveTo>
                <a:lnTo>
                  <a:pt x="2470820" y="2528772"/>
                </a:lnTo>
                <a:lnTo>
                  <a:pt x="2470820" y="2584228"/>
                </a:lnTo>
                <a:lnTo>
                  <a:pt x="2942310" y="3055719"/>
                </a:lnTo>
                <a:lnTo>
                  <a:pt x="3410803" y="2587227"/>
                </a:lnTo>
                <a:lnTo>
                  <a:pt x="3410803" y="2525772"/>
                </a:lnTo>
                <a:lnTo>
                  <a:pt x="2942310" y="2057290"/>
                </a:lnTo>
                <a:close/>
                <a:moveTo>
                  <a:pt x="3992992" y="2057289"/>
                </a:moveTo>
                <a:lnTo>
                  <a:pt x="3521627" y="2528644"/>
                </a:lnTo>
                <a:lnTo>
                  <a:pt x="3521627" y="2584355"/>
                </a:lnTo>
                <a:lnTo>
                  <a:pt x="3992992" y="3055718"/>
                </a:lnTo>
                <a:lnTo>
                  <a:pt x="4461600" y="2587092"/>
                </a:lnTo>
                <a:lnTo>
                  <a:pt x="4461600" y="2525906"/>
                </a:lnTo>
                <a:lnTo>
                  <a:pt x="3992992" y="2057289"/>
                </a:lnTo>
                <a:close/>
                <a:moveTo>
                  <a:pt x="7145018" y="2057289"/>
                </a:moveTo>
                <a:lnTo>
                  <a:pt x="6674041" y="2528257"/>
                </a:lnTo>
                <a:lnTo>
                  <a:pt x="6674041" y="2584737"/>
                </a:lnTo>
                <a:lnTo>
                  <a:pt x="7145020" y="3055716"/>
                </a:lnTo>
                <a:lnTo>
                  <a:pt x="7614024" y="2586712"/>
                </a:lnTo>
                <a:lnTo>
                  <a:pt x="7614024" y="2526286"/>
                </a:lnTo>
                <a:lnTo>
                  <a:pt x="7145018" y="2057289"/>
                </a:lnTo>
                <a:close/>
                <a:moveTo>
                  <a:pt x="5043655" y="2057288"/>
                </a:moveTo>
                <a:lnTo>
                  <a:pt x="4572425" y="2528510"/>
                </a:lnTo>
                <a:lnTo>
                  <a:pt x="4572425" y="2584487"/>
                </a:lnTo>
                <a:lnTo>
                  <a:pt x="5043655" y="3055718"/>
                </a:lnTo>
                <a:lnTo>
                  <a:pt x="5512408" y="2586964"/>
                </a:lnTo>
                <a:lnTo>
                  <a:pt x="5512408" y="2526033"/>
                </a:lnTo>
                <a:lnTo>
                  <a:pt x="5043655" y="2057288"/>
                </a:lnTo>
                <a:close/>
                <a:moveTo>
                  <a:pt x="840943" y="2057288"/>
                </a:moveTo>
                <a:lnTo>
                  <a:pt x="369202" y="2529021"/>
                </a:lnTo>
                <a:lnTo>
                  <a:pt x="369202" y="2583976"/>
                </a:lnTo>
                <a:lnTo>
                  <a:pt x="840943" y="3055718"/>
                </a:lnTo>
                <a:lnTo>
                  <a:pt x="1309190" y="2587479"/>
                </a:lnTo>
                <a:lnTo>
                  <a:pt x="1309190" y="2525518"/>
                </a:lnTo>
                <a:lnTo>
                  <a:pt x="840943" y="2057288"/>
                </a:lnTo>
                <a:close/>
                <a:moveTo>
                  <a:pt x="8195701" y="2057287"/>
                </a:moveTo>
                <a:lnTo>
                  <a:pt x="7724849" y="2528130"/>
                </a:lnTo>
                <a:lnTo>
                  <a:pt x="7724849" y="2584867"/>
                </a:lnTo>
                <a:lnTo>
                  <a:pt x="8195700" y="3055717"/>
                </a:lnTo>
                <a:lnTo>
                  <a:pt x="8664832" y="2586585"/>
                </a:lnTo>
                <a:lnTo>
                  <a:pt x="8664832" y="2526410"/>
                </a:lnTo>
                <a:lnTo>
                  <a:pt x="8195701" y="2057287"/>
                </a:lnTo>
                <a:close/>
                <a:moveTo>
                  <a:pt x="6094339" y="2057287"/>
                </a:moveTo>
                <a:lnTo>
                  <a:pt x="5623233" y="2528385"/>
                </a:lnTo>
                <a:lnTo>
                  <a:pt x="5623233" y="2584613"/>
                </a:lnTo>
                <a:lnTo>
                  <a:pt x="6094336" y="3055717"/>
                </a:lnTo>
                <a:lnTo>
                  <a:pt x="6563216" y="2586838"/>
                </a:lnTo>
                <a:lnTo>
                  <a:pt x="6563216" y="2526156"/>
                </a:lnTo>
                <a:lnTo>
                  <a:pt x="6094339" y="2057287"/>
                </a:lnTo>
                <a:close/>
                <a:moveTo>
                  <a:pt x="1309181" y="1973451"/>
                </a:moveTo>
                <a:lnTo>
                  <a:pt x="1420005" y="1973451"/>
                </a:lnTo>
                <a:lnTo>
                  <a:pt x="1420005" y="2084276"/>
                </a:lnTo>
                <a:lnTo>
                  <a:pt x="1309181" y="2084276"/>
                </a:lnTo>
                <a:lnTo>
                  <a:pt x="1309181" y="1973451"/>
                </a:lnTo>
                <a:close/>
                <a:moveTo>
                  <a:pt x="258371" y="1973451"/>
                </a:moveTo>
                <a:lnTo>
                  <a:pt x="369196" y="1973451"/>
                </a:lnTo>
                <a:lnTo>
                  <a:pt x="369196" y="2084276"/>
                </a:lnTo>
                <a:lnTo>
                  <a:pt x="258371" y="2084276"/>
                </a:lnTo>
                <a:lnTo>
                  <a:pt x="258371" y="1973451"/>
                </a:lnTo>
                <a:close/>
                <a:moveTo>
                  <a:pt x="3410796" y="1973451"/>
                </a:moveTo>
                <a:lnTo>
                  <a:pt x="3521621" y="1973451"/>
                </a:lnTo>
                <a:lnTo>
                  <a:pt x="3521621" y="2084276"/>
                </a:lnTo>
                <a:lnTo>
                  <a:pt x="3410796" y="2084276"/>
                </a:lnTo>
                <a:lnTo>
                  <a:pt x="3410796" y="1973451"/>
                </a:lnTo>
                <a:close/>
                <a:moveTo>
                  <a:pt x="2359988" y="1973451"/>
                </a:moveTo>
                <a:lnTo>
                  <a:pt x="2470813" y="1973451"/>
                </a:lnTo>
                <a:lnTo>
                  <a:pt x="2470813" y="2084276"/>
                </a:lnTo>
                <a:lnTo>
                  <a:pt x="2359988" y="2084276"/>
                </a:lnTo>
                <a:lnTo>
                  <a:pt x="2359988" y="1973451"/>
                </a:lnTo>
                <a:close/>
                <a:moveTo>
                  <a:pt x="4461600" y="1973451"/>
                </a:moveTo>
                <a:lnTo>
                  <a:pt x="4572425" y="1973451"/>
                </a:lnTo>
                <a:lnTo>
                  <a:pt x="4572425" y="2084276"/>
                </a:lnTo>
                <a:lnTo>
                  <a:pt x="4461600" y="2084276"/>
                </a:lnTo>
                <a:lnTo>
                  <a:pt x="4461600" y="1973451"/>
                </a:lnTo>
                <a:close/>
                <a:moveTo>
                  <a:pt x="6563216" y="1973451"/>
                </a:moveTo>
                <a:lnTo>
                  <a:pt x="6674041" y="1973451"/>
                </a:lnTo>
                <a:lnTo>
                  <a:pt x="6674041" y="2084276"/>
                </a:lnTo>
                <a:lnTo>
                  <a:pt x="6563216" y="2084276"/>
                </a:lnTo>
                <a:lnTo>
                  <a:pt x="6563216" y="1973451"/>
                </a:lnTo>
                <a:close/>
                <a:moveTo>
                  <a:pt x="5512408" y="1973451"/>
                </a:moveTo>
                <a:lnTo>
                  <a:pt x="5623233" y="1973451"/>
                </a:lnTo>
                <a:lnTo>
                  <a:pt x="5623233" y="2084276"/>
                </a:lnTo>
                <a:lnTo>
                  <a:pt x="5512408" y="2084276"/>
                </a:lnTo>
                <a:lnTo>
                  <a:pt x="5512408" y="1973451"/>
                </a:lnTo>
                <a:close/>
                <a:moveTo>
                  <a:pt x="8664832" y="1973450"/>
                </a:moveTo>
                <a:lnTo>
                  <a:pt x="8775657" y="1973450"/>
                </a:lnTo>
                <a:lnTo>
                  <a:pt x="8775657" y="2084275"/>
                </a:lnTo>
                <a:lnTo>
                  <a:pt x="8664832" y="2084275"/>
                </a:lnTo>
                <a:lnTo>
                  <a:pt x="8664832" y="1973450"/>
                </a:lnTo>
                <a:close/>
                <a:moveTo>
                  <a:pt x="7614024" y="1973450"/>
                </a:moveTo>
                <a:lnTo>
                  <a:pt x="7724849" y="1973450"/>
                </a:lnTo>
                <a:lnTo>
                  <a:pt x="7724849" y="2084275"/>
                </a:lnTo>
                <a:lnTo>
                  <a:pt x="7614024" y="2084275"/>
                </a:lnTo>
                <a:lnTo>
                  <a:pt x="7614024" y="1973450"/>
                </a:lnTo>
                <a:close/>
                <a:moveTo>
                  <a:pt x="1340281" y="1557960"/>
                </a:moveTo>
                <a:lnTo>
                  <a:pt x="867065" y="2031167"/>
                </a:lnTo>
                <a:lnTo>
                  <a:pt x="1335989" y="2500073"/>
                </a:lnTo>
                <a:lnTo>
                  <a:pt x="1396599" y="2500073"/>
                </a:lnTo>
                <a:lnTo>
                  <a:pt x="1865505" y="2031168"/>
                </a:lnTo>
                <a:lnTo>
                  <a:pt x="1392304" y="1557960"/>
                </a:lnTo>
                <a:lnTo>
                  <a:pt x="1340281" y="1557960"/>
                </a:lnTo>
                <a:close/>
                <a:moveTo>
                  <a:pt x="3441642" y="1557959"/>
                </a:moveTo>
                <a:lnTo>
                  <a:pt x="2968432" y="2031168"/>
                </a:lnTo>
                <a:lnTo>
                  <a:pt x="3437347" y="2500073"/>
                </a:lnTo>
                <a:lnTo>
                  <a:pt x="3497954" y="2500073"/>
                </a:lnTo>
                <a:lnTo>
                  <a:pt x="3966871" y="2031167"/>
                </a:lnTo>
                <a:lnTo>
                  <a:pt x="3493660" y="1557959"/>
                </a:lnTo>
                <a:lnTo>
                  <a:pt x="3441642" y="1557959"/>
                </a:lnTo>
                <a:close/>
                <a:moveTo>
                  <a:pt x="2390960" y="1557959"/>
                </a:moveTo>
                <a:lnTo>
                  <a:pt x="1917749" y="2031168"/>
                </a:lnTo>
                <a:lnTo>
                  <a:pt x="2386666" y="2500073"/>
                </a:lnTo>
                <a:lnTo>
                  <a:pt x="2447276" y="2500073"/>
                </a:lnTo>
                <a:lnTo>
                  <a:pt x="2916188" y="2031168"/>
                </a:lnTo>
                <a:lnTo>
                  <a:pt x="2442982" y="1557959"/>
                </a:lnTo>
                <a:lnTo>
                  <a:pt x="2390960" y="1557959"/>
                </a:lnTo>
                <a:close/>
                <a:moveTo>
                  <a:pt x="5542984" y="1557959"/>
                </a:moveTo>
                <a:lnTo>
                  <a:pt x="5069777" y="2031166"/>
                </a:lnTo>
                <a:lnTo>
                  <a:pt x="5538692" y="2500073"/>
                </a:lnTo>
                <a:lnTo>
                  <a:pt x="5599300" y="2500073"/>
                </a:lnTo>
                <a:lnTo>
                  <a:pt x="6068216" y="2031165"/>
                </a:lnTo>
                <a:lnTo>
                  <a:pt x="5595011" y="1557959"/>
                </a:lnTo>
                <a:lnTo>
                  <a:pt x="5542984" y="1557959"/>
                </a:lnTo>
                <a:close/>
                <a:moveTo>
                  <a:pt x="4492304" y="1557959"/>
                </a:moveTo>
                <a:lnTo>
                  <a:pt x="4019114" y="2031167"/>
                </a:lnTo>
                <a:lnTo>
                  <a:pt x="4488010" y="2500073"/>
                </a:lnTo>
                <a:lnTo>
                  <a:pt x="4548618" y="2500073"/>
                </a:lnTo>
                <a:lnTo>
                  <a:pt x="5017533" y="2031166"/>
                </a:lnTo>
                <a:lnTo>
                  <a:pt x="4544326" y="1557959"/>
                </a:lnTo>
                <a:lnTo>
                  <a:pt x="4492304" y="1557959"/>
                </a:lnTo>
                <a:close/>
                <a:moveTo>
                  <a:pt x="7644348" y="1557959"/>
                </a:moveTo>
                <a:lnTo>
                  <a:pt x="7171139" y="2031167"/>
                </a:lnTo>
                <a:lnTo>
                  <a:pt x="7640054" y="2500073"/>
                </a:lnTo>
                <a:lnTo>
                  <a:pt x="7700663" y="2500073"/>
                </a:lnTo>
                <a:lnTo>
                  <a:pt x="8169579" y="2031166"/>
                </a:lnTo>
                <a:lnTo>
                  <a:pt x="7696373" y="1557959"/>
                </a:lnTo>
                <a:lnTo>
                  <a:pt x="7644348" y="1557959"/>
                </a:lnTo>
                <a:close/>
                <a:moveTo>
                  <a:pt x="6593666" y="1557959"/>
                </a:moveTo>
                <a:lnTo>
                  <a:pt x="6120461" y="2031165"/>
                </a:lnTo>
                <a:lnTo>
                  <a:pt x="6589377" y="2500073"/>
                </a:lnTo>
                <a:lnTo>
                  <a:pt x="6649981" y="2500073"/>
                </a:lnTo>
                <a:lnTo>
                  <a:pt x="7118896" y="2031167"/>
                </a:lnTo>
                <a:lnTo>
                  <a:pt x="6645688" y="1557959"/>
                </a:lnTo>
                <a:lnTo>
                  <a:pt x="6593666" y="1557959"/>
                </a:lnTo>
                <a:close/>
                <a:moveTo>
                  <a:pt x="783783" y="1447135"/>
                </a:moveTo>
                <a:lnTo>
                  <a:pt x="894607" y="1447135"/>
                </a:lnTo>
                <a:lnTo>
                  <a:pt x="894607" y="1557960"/>
                </a:lnTo>
                <a:lnTo>
                  <a:pt x="783783" y="1557960"/>
                </a:lnTo>
                <a:lnTo>
                  <a:pt x="783783" y="1447135"/>
                </a:lnTo>
                <a:close/>
                <a:moveTo>
                  <a:pt x="3936210" y="1447134"/>
                </a:moveTo>
                <a:lnTo>
                  <a:pt x="4047034" y="1447134"/>
                </a:lnTo>
                <a:lnTo>
                  <a:pt x="4047034" y="1557959"/>
                </a:lnTo>
                <a:lnTo>
                  <a:pt x="3936210" y="1557959"/>
                </a:lnTo>
                <a:lnTo>
                  <a:pt x="3936210" y="1447134"/>
                </a:lnTo>
                <a:close/>
                <a:moveTo>
                  <a:pt x="2885402" y="1447134"/>
                </a:moveTo>
                <a:lnTo>
                  <a:pt x="2996226" y="1447134"/>
                </a:lnTo>
                <a:lnTo>
                  <a:pt x="2996226" y="1557959"/>
                </a:lnTo>
                <a:lnTo>
                  <a:pt x="2885402" y="1557959"/>
                </a:lnTo>
                <a:lnTo>
                  <a:pt x="2885402" y="1447134"/>
                </a:lnTo>
                <a:close/>
                <a:moveTo>
                  <a:pt x="1834592" y="1447134"/>
                </a:moveTo>
                <a:lnTo>
                  <a:pt x="1945417" y="1447134"/>
                </a:lnTo>
                <a:lnTo>
                  <a:pt x="1945417" y="1557959"/>
                </a:lnTo>
                <a:lnTo>
                  <a:pt x="1834592" y="1557959"/>
                </a:lnTo>
                <a:lnTo>
                  <a:pt x="1834592" y="1447134"/>
                </a:lnTo>
                <a:close/>
                <a:moveTo>
                  <a:pt x="6037812" y="1447134"/>
                </a:moveTo>
                <a:lnTo>
                  <a:pt x="6148637" y="1447134"/>
                </a:lnTo>
                <a:lnTo>
                  <a:pt x="6148637" y="1557959"/>
                </a:lnTo>
                <a:lnTo>
                  <a:pt x="6037812" y="1557959"/>
                </a:lnTo>
                <a:lnTo>
                  <a:pt x="6037812" y="1447134"/>
                </a:lnTo>
                <a:close/>
                <a:moveTo>
                  <a:pt x="4987004" y="1447134"/>
                </a:moveTo>
                <a:lnTo>
                  <a:pt x="5097829" y="1447134"/>
                </a:lnTo>
                <a:lnTo>
                  <a:pt x="5097829" y="1557959"/>
                </a:lnTo>
                <a:lnTo>
                  <a:pt x="4987004" y="1557959"/>
                </a:lnTo>
                <a:lnTo>
                  <a:pt x="4987004" y="1447134"/>
                </a:lnTo>
                <a:close/>
                <a:moveTo>
                  <a:pt x="8139428" y="1447134"/>
                </a:moveTo>
                <a:lnTo>
                  <a:pt x="8250253" y="1447134"/>
                </a:lnTo>
                <a:lnTo>
                  <a:pt x="8250253" y="1557959"/>
                </a:lnTo>
                <a:lnTo>
                  <a:pt x="8139428" y="1557959"/>
                </a:lnTo>
                <a:lnTo>
                  <a:pt x="8139428" y="1447134"/>
                </a:lnTo>
                <a:close/>
                <a:moveTo>
                  <a:pt x="7088620" y="1447134"/>
                </a:moveTo>
                <a:lnTo>
                  <a:pt x="7199445" y="1447134"/>
                </a:lnTo>
                <a:lnTo>
                  <a:pt x="7199445" y="1557959"/>
                </a:lnTo>
                <a:lnTo>
                  <a:pt x="7088620" y="1557959"/>
                </a:lnTo>
                <a:lnTo>
                  <a:pt x="7088620" y="1447134"/>
                </a:lnTo>
                <a:close/>
                <a:moveTo>
                  <a:pt x="2942311" y="1006606"/>
                </a:moveTo>
                <a:lnTo>
                  <a:pt x="2470823" y="1478096"/>
                </a:lnTo>
                <a:lnTo>
                  <a:pt x="2470823" y="1533557"/>
                </a:lnTo>
                <a:lnTo>
                  <a:pt x="2942310" y="2005046"/>
                </a:lnTo>
                <a:lnTo>
                  <a:pt x="3410807" y="1536551"/>
                </a:lnTo>
                <a:lnTo>
                  <a:pt x="3410807" y="1475102"/>
                </a:lnTo>
                <a:lnTo>
                  <a:pt x="2942311" y="1006606"/>
                </a:lnTo>
                <a:close/>
                <a:moveTo>
                  <a:pt x="1891628" y="1006606"/>
                </a:moveTo>
                <a:lnTo>
                  <a:pt x="1420020" y="1478222"/>
                </a:lnTo>
                <a:lnTo>
                  <a:pt x="1420020" y="1533430"/>
                </a:lnTo>
                <a:lnTo>
                  <a:pt x="1891628" y="2005046"/>
                </a:lnTo>
                <a:lnTo>
                  <a:pt x="2359999" y="1536677"/>
                </a:lnTo>
                <a:lnTo>
                  <a:pt x="2359999" y="1474976"/>
                </a:lnTo>
                <a:lnTo>
                  <a:pt x="1891628" y="1006606"/>
                </a:lnTo>
                <a:close/>
                <a:moveTo>
                  <a:pt x="840942" y="1006606"/>
                </a:moveTo>
                <a:lnTo>
                  <a:pt x="369204" y="1478346"/>
                </a:lnTo>
                <a:lnTo>
                  <a:pt x="369204" y="1533304"/>
                </a:lnTo>
                <a:lnTo>
                  <a:pt x="840943" y="2005045"/>
                </a:lnTo>
                <a:lnTo>
                  <a:pt x="1309193" y="1536802"/>
                </a:lnTo>
                <a:lnTo>
                  <a:pt x="1309193" y="1474850"/>
                </a:lnTo>
                <a:lnTo>
                  <a:pt x="840942" y="1006606"/>
                </a:lnTo>
                <a:close/>
                <a:moveTo>
                  <a:pt x="3992992" y="1006606"/>
                </a:moveTo>
                <a:lnTo>
                  <a:pt x="3521631" y="1477968"/>
                </a:lnTo>
                <a:lnTo>
                  <a:pt x="3521631" y="1533684"/>
                </a:lnTo>
                <a:lnTo>
                  <a:pt x="3992992" y="2005046"/>
                </a:lnTo>
                <a:lnTo>
                  <a:pt x="4461600" y="1536420"/>
                </a:lnTo>
                <a:lnTo>
                  <a:pt x="4461600" y="1475233"/>
                </a:lnTo>
                <a:lnTo>
                  <a:pt x="3992992" y="1006606"/>
                </a:lnTo>
                <a:close/>
                <a:moveTo>
                  <a:pt x="6094336" y="1006605"/>
                </a:moveTo>
                <a:lnTo>
                  <a:pt x="5623233" y="1477710"/>
                </a:lnTo>
                <a:lnTo>
                  <a:pt x="5623233" y="1533937"/>
                </a:lnTo>
                <a:lnTo>
                  <a:pt x="6094338" y="2005043"/>
                </a:lnTo>
                <a:lnTo>
                  <a:pt x="6563216" y="1536165"/>
                </a:lnTo>
                <a:lnTo>
                  <a:pt x="6563216" y="1475486"/>
                </a:lnTo>
                <a:lnTo>
                  <a:pt x="6094336" y="1006605"/>
                </a:lnTo>
                <a:close/>
                <a:moveTo>
                  <a:pt x="7145020" y="1006604"/>
                </a:moveTo>
                <a:lnTo>
                  <a:pt x="6674041" y="1477584"/>
                </a:lnTo>
                <a:lnTo>
                  <a:pt x="6674041" y="1534069"/>
                </a:lnTo>
                <a:lnTo>
                  <a:pt x="7145018" y="2005045"/>
                </a:lnTo>
                <a:lnTo>
                  <a:pt x="7614024" y="1536039"/>
                </a:lnTo>
                <a:lnTo>
                  <a:pt x="7614024" y="1475610"/>
                </a:lnTo>
                <a:lnTo>
                  <a:pt x="7145020" y="1006604"/>
                </a:lnTo>
                <a:close/>
                <a:moveTo>
                  <a:pt x="8195701" y="1006604"/>
                </a:moveTo>
                <a:lnTo>
                  <a:pt x="7724849" y="1477457"/>
                </a:lnTo>
                <a:lnTo>
                  <a:pt x="7724849" y="1534190"/>
                </a:lnTo>
                <a:lnTo>
                  <a:pt x="8195702" y="2005044"/>
                </a:lnTo>
                <a:lnTo>
                  <a:pt x="8664832" y="1535914"/>
                </a:lnTo>
                <a:lnTo>
                  <a:pt x="8664832" y="1475735"/>
                </a:lnTo>
                <a:lnTo>
                  <a:pt x="8195701" y="1006604"/>
                </a:lnTo>
                <a:close/>
                <a:moveTo>
                  <a:pt x="5043657" y="1006604"/>
                </a:moveTo>
                <a:lnTo>
                  <a:pt x="4572425" y="1477838"/>
                </a:lnTo>
                <a:lnTo>
                  <a:pt x="4572425" y="1533814"/>
                </a:lnTo>
                <a:lnTo>
                  <a:pt x="5043655" y="2005045"/>
                </a:lnTo>
                <a:lnTo>
                  <a:pt x="5512408" y="1536292"/>
                </a:lnTo>
                <a:lnTo>
                  <a:pt x="5512408" y="1475356"/>
                </a:lnTo>
                <a:lnTo>
                  <a:pt x="5043657" y="1006604"/>
                </a:lnTo>
                <a:close/>
                <a:moveTo>
                  <a:pt x="2359987" y="922636"/>
                </a:moveTo>
                <a:lnTo>
                  <a:pt x="2470812" y="922636"/>
                </a:lnTo>
                <a:lnTo>
                  <a:pt x="2470812" y="1033461"/>
                </a:lnTo>
                <a:lnTo>
                  <a:pt x="2359987" y="1033461"/>
                </a:lnTo>
                <a:lnTo>
                  <a:pt x="2359987" y="922636"/>
                </a:lnTo>
                <a:close/>
                <a:moveTo>
                  <a:pt x="1309178" y="922636"/>
                </a:moveTo>
                <a:lnTo>
                  <a:pt x="1420004" y="922636"/>
                </a:lnTo>
                <a:lnTo>
                  <a:pt x="1420004" y="1033461"/>
                </a:lnTo>
                <a:lnTo>
                  <a:pt x="1309178" y="1033461"/>
                </a:lnTo>
                <a:lnTo>
                  <a:pt x="1309178" y="922636"/>
                </a:lnTo>
                <a:close/>
                <a:moveTo>
                  <a:pt x="258370" y="922636"/>
                </a:moveTo>
                <a:lnTo>
                  <a:pt x="369195" y="922636"/>
                </a:lnTo>
                <a:lnTo>
                  <a:pt x="369195" y="1033461"/>
                </a:lnTo>
                <a:lnTo>
                  <a:pt x="258370" y="1033461"/>
                </a:lnTo>
                <a:lnTo>
                  <a:pt x="258370" y="922636"/>
                </a:lnTo>
                <a:close/>
                <a:moveTo>
                  <a:pt x="4461600" y="922636"/>
                </a:moveTo>
                <a:lnTo>
                  <a:pt x="4572425" y="922636"/>
                </a:lnTo>
                <a:lnTo>
                  <a:pt x="4572425" y="1033461"/>
                </a:lnTo>
                <a:lnTo>
                  <a:pt x="4461600" y="1033461"/>
                </a:lnTo>
                <a:lnTo>
                  <a:pt x="4461600" y="922636"/>
                </a:lnTo>
                <a:close/>
                <a:moveTo>
                  <a:pt x="3410794" y="922636"/>
                </a:moveTo>
                <a:lnTo>
                  <a:pt x="3521620" y="922636"/>
                </a:lnTo>
                <a:lnTo>
                  <a:pt x="3521620" y="1033461"/>
                </a:lnTo>
                <a:lnTo>
                  <a:pt x="3410794" y="1033461"/>
                </a:lnTo>
                <a:lnTo>
                  <a:pt x="3410794" y="922636"/>
                </a:lnTo>
                <a:close/>
                <a:moveTo>
                  <a:pt x="7614024" y="922636"/>
                </a:moveTo>
                <a:lnTo>
                  <a:pt x="7724849" y="922636"/>
                </a:lnTo>
                <a:lnTo>
                  <a:pt x="7724849" y="1033461"/>
                </a:lnTo>
                <a:lnTo>
                  <a:pt x="7614024" y="1033461"/>
                </a:lnTo>
                <a:lnTo>
                  <a:pt x="7614024" y="922636"/>
                </a:lnTo>
                <a:close/>
                <a:moveTo>
                  <a:pt x="6563216" y="922636"/>
                </a:moveTo>
                <a:lnTo>
                  <a:pt x="6674041" y="922636"/>
                </a:lnTo>
                <a:lnTo>
                  <a:pt x="6674041" y="1033461"/>
                </a:lnTo>
                <a:lnTo>
                  <a:pt x="6563216" y="1033461"/>
                </a:lnTo>
                <a:lnTo>
                  <a:pt x="6563216" y="922636"/>
                </a:lnTo>
                <a:close/>
                <a:moveTo>
                  <a:pt x="5512408" y="922636"/>
                </a:moveTo>
                <a:lnTo>
                  <a:pt x="5623233" y="922636"/>
                </a:lnTo>
                <a:lnTo>
                  <a:pt x="5623233" y="1033461"/>
                </a:lnTo>
                <a:lnTo>
                  <a:pt x="5512408" y="1033461"/>
                </a:lnTo>
                <a:lnTo>
                  <a:pt x="5512408" y="922636"/>
                </a:lnTo>
                <a:close/>
                <a:moveTo>
                  <a:pt x="8664832" y="922635"/>
                </a:moveTo>
                <a:lnTo>
                  <a:pt x="8775657" y="922635"/>
                </a:lnTo>
                <a:lnTo>
                  <a:pt x="8775657" y="1033460"/>
                </a:lnTo>
                <a:lnTo>
                  <a:pt x="8664832" y="1033460"/>
                </a:lnTo>
                <a:lnTo>
                  <a:pt x="8664832" y="922635"/>
                </a:lnTo>
                <a:close/>
                <a:moveTo>
                  <a:pt x="1337494" y="510063"/>
                </a:moveTo>
                <a:lnTo>
                  <a:pt x="867064" y="980485"/>
                </a:lnTo>
                <a:lnTo>
                  <a:pt x="1333721" y="1447135"/>
                </a:lnTo>
                <a:lnTo>
                  <a:pt x="1398862" y="1447135"/>
                </a:lnTo>
                <a:lnTo>
                  <a:pt x="1865505" y="980485"/>
                </a:lnTo>
                <a:lnTo>
                  <a:pt x="1395091" y="510063"/>
                </a:lnTo>
                <a:lnTo>
                  <a:pt x="1337494" y="510063"/>
                </a:lnTo>
                <a:close/>
                <a:moveTo>
                  <a:pt x="2388172" y="510063"/>
                </a:moveTo>
                <a:lnTo>
                  <a:pt x="1917749" y="980485"/>
                </a:lnTo>
                <a:lnTo>
                  <a:pt x="2384400" y="1447135"/>
                </a:lnTo>
                <a:lnTo>
                  <a:pt x="2449540" y="1447135"/>
                </a:lnTo>
                <a:lnTo>
                  <a:pt x="2916188" y="980485"/>
                </a:lnTo>
                <a:lnTo>
                  <a:pt x="2445768" y="510063"/>
                </a:lnTo>
                <a:lnTo>
                  <a:pt x="2388172" y="510063"/>
                </a:lnTo>
                <a:close/>
                <a:moveTo>
                  <a:pt x="3438854" y="510063"/>
                </a:moveTo>
                <a:lnTo>
                  <a:pt x="2968432" y="980485"/>
                </a:lnTo>
                <a:lnTo>
                  <a:pt x="3435082" y="1447134"/>
                </a:lnTo>
                <a:lnTo>
                  <a:pt x="3500221" y="1447134"/>
                </a:lnTo>
                <a:lnTo>
                  <a:pt x="3966871" y="980485"/>
                </a:lnTo>
                <a:lnTo>
                  <a:pt x="3496446" y="510063"/>
                </a:lnTo>
                <a:lnTo>
                  <a:pt x="3438854" y="510063"/>
                </a:lnTo>
                <a:close/>
                <a:moveTo>
                  <a:pt x="4489516" y="510063"/>
                </a:moveTo>
                <a:lnTo>
                  <a:pt x="4019114" y="980485"/>
                </a:lnTo>
                <a:lnTo>
                  <a:pt x="4485745" y="1447134"/>
                </a:lnTo>
                <a:lnTo>
                  <a:pt x="4550885" y="1447134"/>
                </a:lnTo>
                <a:lnTo>
                  <a:pt x="5017536" y="980482"/>
                </a:lnTo>
                <a:lnTo>
                  <a:pt x="4547117" y="510063"/>
                </a:lnTo>
                <a:lnTo>
                  <a:pt x="4489516" y="510063"/>
                </a:lnTo>
                <a:close/>
                <a:moveTo>
                  <a:pt x="5540197" y="510063"/>
                </a:moveTo>
                <a:lnTo>
                  <a:pt x="5069779" y="980483"/>
                </a:lnTo>
                <a:lnTo>
                  <a:pt x="5536430" y="1447134"/>
                </a:lnTo>
                <a:lnTo>
                  <a:pt x="5601565" y="1447134"/>
                </a:lnTo>
                <a:lnTo>
                  <a:pt x="6068214" y="980484"/>
                </a:lnTo>
                <a:lnTo>
                  <a:pt x="5597794" y="510063"/>
                </a:lnTo>
                <a:lnTo>
                  <a:pt x="5540197" y="510063"/>
                </a:lnTo>
                <a:close/>
                <a:moveTo>
                  <a:pt x="6590878" y="510062"/>
                </a:moveTo>
                <a:lnTo>
                  <a:pt x="6120457" y="980484"/>
                </a:lnTo>
                <a:lnTo>
                  <a:pt x="6587106" y="1447134"/>
                </a:lnTo>
                <a:lnTo>
                  <a:pt x="6652247" y="1447134"/>
                </a:lnTo>
                <a:lnTo>
                  <a:pt x="7118898" y="980483"/>
                </a:lnTo>
                <a:lnTo>
                  <a:pt x="6648479" y="510062"/>
                </a:lnTo>
                <a:lnTo>
                  <a:pt x="6590878" y="510062"/>
                </a:lnTo>
                <a:close/>
                <a:moveTo>
                  <a:pt x="7641560" y="510062"/>
                </a:moveTo>
                <a:lnTo>
                  <a:pt x="7171142" y="980482"/>
                </a:lnTo>
                <a:lnTo>
                  <a:pt x="7637793" y="1447134"/>
                </a:lnTo>
                <a:lnTo>
                  <a:pt x="7702929" y="1447134"/>
                </a:lnTo>
                <a:lnTo>
                  <a:pt x="8169579" y="980483"/>
                </a:lnTo>
                <a:lnTo>
                  <a:pt x="7699160" y="510062"/>
                </a:lnTo>
                <a:lnTo>
                  <a:pt x="7641560" y="510062"/>
                </a:lnTo>
                <a:close/>
                <a:moveTo>
                  <a:pt x="783785" y="399238"/>
                </a:moveTo>
                <a:lnTo>
                  <a:pt x="894609" y="399238"/>
                </a:lnTo>
                <a:lnTo>
                  <a:pt x="894609" y="510063"/>
                </a:lnTo>
                <a:lnTo>
                  <a:pt x="783785" y="510063"/>
                </a:lnTo>
                <a:lnTo>
                  <a:pt x="783785" y="399238"/>
                </a:lnTo>
                <a:close/>
                <a:moveTo>
                  <a:pt x="1834594" y="399238"/>
                </a:moveTo>
                <a:lnTo>
                  <a:pt x="1945420" y="399238"/>
                </a:lnTo>
                <a:lnTo>
                  <a:pt x="1945420" y="510063"/>
                </a:lnTo>
                <a:lnTo>
                  <a:pt x="1834594" y="510063"/>
                </a:lnTo>
                <a:lnTo>
                  <a:pt x="1834594" y="399238"/>
                </a:lnTo>
                <a:close/>
                <a:moveTo>
                  <a:pt x="3936212" y="399238"/>
                </a:moveTo>
                <a:lnTo>
                  <a:pt x="4047037" y="399238"/>
                </a:lnTo>
                <a:lnTo>
                  <a:pt x="4047037" y="510063"/>
                </a:lnTo>
                <a:lnTo>
                  <a:pt x="3936212" y="510063"/>
                </a:lnTo>
                <a:lnTo>
                  <a:pt x="3936212" y="399238"/>
                </a:lnTo>
                <a:close/>
                <a:moveTo>
                  <a:pt x="2885405" y="399238"/>
                </a:moveTo>
                <a:lnTo>
                  <a:pt x="2996229" y="399238"/>
                </a:lnTo>
                <a:lnTo>
                  <a:pt x="2996229" y="510063"/>
                </a:lnTo>
                <a:lnTo>
                  <a:pt x="2885405" y="510063"/>
                </a:lnTo>
                <a:lnTo>
                  <a:pt x="2885405" y="399238"/>
                </a:lnTo>
                <a:close/>
                <a:moveTo>
                  <a:pt x="4987004" y="399238"/>
                </a:moveTo>
                <a:lnTo>
                  <a:pt x="5097829" y="399238"/>
                </a:lnTo>
                <a:lnTo>
                  <a:pt x="5097829" y="510063"/>
                </a:lnTo>
                <a:lnTo>
                  <a:pt x="4987004" y="510063"/>
                </a:lnTo>
                <a:lnTo>
                  <a:pt x="4987004" y="399238"/>
                </a:lnTo>
                <a:close/>
                <a:moveTo>
                  <a:pt x="6037812" y="399238"/>
                </a:moveTo>
                <a:lnTo>
                  <a:pt x="6148637" y="399238"/>
                </a:lnTo>
                <a:lnTo>
                  <a:pt x="6148637" y="510062"/>
                </a:lnTo>
                <a:lnTo>
                  <a:pt x="6037812" y="510062"/>
                </a:lnTo>
                <a:lnTo>
                  <a:pt x="6037812" y="399238"/>
                </a:lnTo>
                <a:close/>
                <a:moveTo>
                  <a:pt x="7088620" y="399237"/>
                </a:moveTo>
                <a:lnTo>
                  <a:pt x="7199445" y="399237"/>
                </a:lnTo>
                <a:lnTo>
                  <a:pt x="7199445" y="510062"/>
                </a:lnTo>
                <a:lnTo>
                  <a:pt x="7088620" y="510062"/>
                </a:lnTo>
                <a:lnTo>
                  <a:pt x="7088620" y="399237"/>
                </a:lnTo>
                <a:close/>
                <a:moveTo>
                  <a:pt x="8139428" y="399237"/>
                </a:moveTo>
                <a:lnTo>
                  <a:pt x="8250253" y="399237"/>
                </a:lnTo>
                <a:lnTo>
                  <a:pt x="8250253" y="510062"/>
                </a:lnTo>
                <a:lnTo>
                  <a:pt x="8139428" y="510062"/>
                </a:lnTo>
                <a:lnTo>
                  <a:pt x="8139428" y="399237"/>
                </a:lnTo>
                <a:close/>
                <a:moveTo>
                  <a:pt x="6138416" y="0"/>
                </a:moveTo>
                <a:lnTo>
                  <a:pt x="6190660" y="0"/>
                </a:lnTo>
                <a:lnTo>
                  <a:pt x="6589898" y="399238"/>
                </a:lnTo>
                <a:lnTo>
                  <a:pt x="6649459" y="399238"/>
                </a:lnTo>
                <a:lnTo>
                  <a:pt x="7048695" y="2"/>
                </a:lnTo>
                <a:lnTo>
                  <a:pt x="7100939" y="2"/>
                </a:lnTo>
                <a:lnTo>
                  <a:pt x="6674041" y="426899"/>
                </a:lnTo>
                <a:lnTo>
                  <a:pt x="6674041" y="483380"/>
                </a:lnTo>
                <a:lnTo>
                  <a:pt x="7145020" y="954361"/>
                </a:lnTo>
                <a:lnTo>
                  <a:pt x="7614024" y="485355"/>
                </a:lnTo>
                <a:lnTo>
                  <a:pt x="7614024" y="424926"/>
                </a:lnTo>
                <a:lnTo>
                  <a:pt x="7189097" y="1"/>
                </a:lnTo>
                <a:lnTo>
                  <a:pt x="7241340" y="1"/>
                </a:lnTo>
                <a:lnTo>
                  <a:pt x="7640577" y="399237"/>
                </a:lnTo>
                <a:lnTo>
                  <a:pt x="7700142" y="399237"/>
                </a:lnTo>
                <a:lnTo>
                  <a:pt x="8099378" y="1"/>
                </a:lnTo>
                <a:lnTo>
                  <a:pt x="8151622" y="1"/>
                </a:lnTo>
                <a:lnTo>
                  <a:pt x="7724849" y="426774"/>
                </a:lnTo>
                <a:lnTo>
                  <a:pt x="7724849" y="483509"/>
                </a:lnTo>
                <a:lnTo>
                  <a:pt x="8195700" y="954363"/>
                </a:lnTo>
                <a:lnTo>
                  <a:pt x="8664832" y="485228"/>
                </a:lnTo>
                <a:lnTo>
                  <a:pt x="8664832" y="425054"/>
                </a:lnTo>
                <a:lnTo>
                  <a:pt x="8239778" y="1"/>
                </a:lnTo>
                <a:lnTo>
                  <a:pt x="8292022" y="1"/>
                </a:lnTo>
                <a:lnTo>
                  <a:pt x="8691259" y="399237"/>
                </a:lnTo>
                <a:lnTo>
                  <a:pt x="8750823" y="399237"/>
                </a:lnTo>
                <a:lnTo>
                  <a:pt x="9143986" y="6075"/>
                </a:lnTo>
                <a:lnTo>
                  <a:pt x="9143986" y="58319"/>
                </a:lnTo>
                <a:lnTo>
                  <a:pt x="8775657" y="426647"/>
                </a:lnTo>
                <a:lnTo>
                  <a:pt x="8775657" y="483635"/>
                </a:lnTo>
                <a:lnTo>
                  <a:pt x="9143986" y="851966"/>
                </a:lnTo>
                <a:lnTo>
                  <a:pt x="9143986" y="904210"/>
                </a:lnTo>
                <a:lnTo>
                  <a:pt x="8749840" y="510062"/>
                </a:lnTo>
                <a:lnTo>
                  <a:pt x="8692242" y="510062"/>
                </a:lnTo>
                <a:lnTo>
                  <a:pt x="8221822" y="980484"/>
                </a:lnTo>
                <a:lnTo>
                  <a:pt x="8688471" y="1447133"/>
                </a:lnTo>
                <a:lnTo>
                  <a:pt x="8753611" y="1447133"/>
                </a:lnTo>
                <a:lnTo>
                  <a:pt x="9143986" y="1056762"/>
                </a:lnTo>
                <a:lnTo>
                  <a:pt x="9143986" y="1109003"/>
                </a:lnTo>
                <a:lnTo>
                  <a:pt x="8775657" y="1477331"/>
                </a:lnTo>
                <a:lnTo>
                  <a:pt x="8775657" y="1534319"/>
                </a:lnTo>
                <a:lnTo>
                  <a:pt x="9143986" y="1902649"/>
                </a:lnTo>
                <a:lnTo>
                  <a:pt x="9143987" y="1954891"/>
                </a:lnTo>
                <a:lnTo>
                  <a:pt x="8747055" y="1557959"/>
                </a:lnTo>
                <a:lnTo>
                  <a:pt x="8695029" y="1557959"/>
                </a:lnTo>
                <a:lnTo>
                  <a:pt x="8221823" y="2031165"/>
                </a:lnTo>
                <a:lnTo>
                  <a:pt x="8690741" y="2500073"/>
                </a:lnTo>
                <a:lnTo>
                  <a:pt x="8751345" y="2500073"/>
                </a:lnTo>
                <a:lnTo>
                  <a:pt x="9143986" y="2107432"/>
                </a:lnTo>
                <a:lnTo>
                  <a:pt x="9143986" y="2159677"/>
                </a:lnTo>
                <a:lnTo>
                  <a:pt x="8775657" y="2528005"/>
                </a:lnTo>
                <a:lnTo>
                  <a:pt x="8775657" y="2584989"/>
                </a:lnTo>
                <a:lnTo>
                  <a:pt x="9143987" y="2953319"/>
                </a:lnTo>
                <a:lnTo>
                  <a:pt x="9143987" y="3005564"/>
                </a:lnTo>
                <a:lnTo>
                  <a:pt x="8749321" y="2610898"/>
                </a:lnTo>
                <a:lnTo>
                  <a:pt x="8692765" y="2610898"/>
                </a:lnTo>
                <a:lnTo>
                  <a:pt x="8221822" y="3081840"/>
                </a:lnTo>
                <a:lnTo>
                  <a:pt x="8691194" y="3551212"/>
                </a:lnTo>
                <a:lnTo>
                  <a:pt x="8750888" y="3551212"/>
                </a:lnTo>
                <a:lnTo>
                  <a:pt x="9143986" y="3158114"/>
                </a:lnTo>
                <a:lnTo>
                  <a:pt x="9143986" y="3210356"/>
                </a:lnTo>
                <a:lnTo>
                  <a:pt x="8775657" y="3578686"/>
                </a:lnTo>
                <a:lnTo>
                  <a:pt x="8775657" y="3635674"/>
                </a:lnTo>
                <a:lnTo>
                  <a:pt x="9143986" y="4004003"/>
                </a:lnTo>
                <a:lnTo>
                  <a:pt x="9143986" y="4056248"/>
                </a:lnTo>
                <a:lnTo>
                  <a:pt x="8749774" y="3662037"/>
                </a:lnTo>
                <a:lnTo>
                  <a:pt x="8692306" y="3662037"/>
                </a:lnTo>
                <a:lnTo>
                  <a:pt x="8221823" y="4132519"/>
                </a:lnTo>
                <a:lnTo>
                  <a:pt x="8661299" y="4571995"/>
                </a:lnTo>
                <a:lnTo>
                  <a:pt x="8609053" y="4571995"/>
                </a:lnTo>
                <a:lnTo>
                  <a:pt x="8195700" y="4158642"/>
                </a:lnTo>
                <a:lnTo>
                  <a:pt x="7782346" y="4571997"/>
                </a:lnTo>
                <a:lnTo>
                  <a:pt x="7730103" y="4571997"/>
                </a:lnTo>
                <a:lnTo>
                  <a:pt x="8169579" y="4132521"/>
                </a:lnTo>
                <a:lnTo>
                  <a:pt x="7699096" y="3662037"/>
                </a:lnTo>
                <a:lnTo>
                  <a:pt x="7641624" y="3662037"/>
                </a:lnTo>
                <a:lnTo>
                  <a:pt x="7171140" y="4132521"/>
                </a:lnTo>
                <a:lnTo>
                  <a:pt x="7610615" y="4571996"/>
                </a:lnTo>
                <a:lnTo>
                  <a:pt x="7558371" y="4571996"/>
                </a:lnTo>
                <a:lnTo>
                  <a:pt x="7145018" y="4158643"/>
                </a:lnTo>
                <a:lnTo>
                  <a:pt x="6731665" y="4571996"/>
                </a:lnTo>
                <a:lnTo>
                  <a:pt x="6679421" y="4571997"/>
                </a:lnTo>
                <a:lnTo>
                  <a:pt x="7118896" y="4132521"/>
                </a:lnTo>
                <a:lnTo>
                  <a:pt x="6648412" y="3662037"/>
                </a:lnTo>
                <a:lnTo>
                  <a:pt x="6590942" y="3662037"/>
                </a:lnTo>
                <a:lnTo>
                  <a:pt x="6120458" y="4132521"/>
                </a:lnTo>
                <a:lnTo>
                  <a:pt x="6559933" y="4571996"/>
                </a:lnTo>
                <a:lnTo>
                  <a:pt x="6507689" y="4571996"/>
                </a:lnTo>
                <a:lnTo>
                  <a:pt x="6094336" y="4158643"/>
                </a:lnTo>
                <a:lnTo>
                  <a:pt x="5680986" y="4571994"/>
                </a:lnTo>
                <a:lnTo>
                  <a:pt x="5628742" y="4571994"/>
                </a:lnTo>
                <a:lnTo>
                  <a:pt x="6068215" y="4132521"/>
                </a:lnTo>
                <a:lnTo>
                  <a:pt x="5597730" y="3662037"/>
                </a:lnTo>
                <a:lnTo>
                  <a:pt x="5540260" y="3662037"/>
                </a:lnTo>
                <a:lnTo>
                  <a:pt x="5069776" y="4132521"/>
                </a:lnTo>
                <a:lnTo>
                  <a:pt x="5509251" y="4571996"/>
                </a:lnTo>
                <a:lnTo>
                  <a:pt x="5457007" y="4571996"/>
                </a:lnTo>
                <a:lnTo>
                  <a:pt x="5043654" y="4158643"/>
                </a:lnTo>
                <a:lnTo>
                  <a:pt x="4630302" y="4571995"/>
                </a:lnTo>
                <a:lnTo>
                  <a:pt x="4578058" y="4571995"/>
                </a:lnTo>
                <a:lnTo>
                  <a:pt x="5017532" y="4132521"/>
                </a:lnTo>
                <a:lnTo>
                  <a:pt x="4547048" y="3662037"/>
                </a:lnTo>
                <a:lnTo>
                  <a:pt x="4489581" y="3662037"/>
                </a:lnTo>
                <a:lnTo>
                  <a:pt x="4019114" y="4132522"/>
                </a:lnTo>
                <a:lnTo>
                  <a:pt x="4458569" y="4571996"/>
                </a:lnTo>
                <a:lnTo>
                  <a:pt x="4406325" y="4571996"/>
                </a:lnTo>
                <a:lnTo>
                  <a:pt x="3992992" y="4158644"/>
                </a:lnTo>
                <a:lnTo>
                  <a:pt x="3579640" y="4571995"/>
                </a:lnTo>
                <a:lnTo>
                  <a:pt x="3527396" y="4571995"/>
                </a:lnTo>
                <a:lnTo>
                  <a:pt x="3966870" y="4132522"/>
                </a:lnTo>
                <a:lnTo>
                  <a:pt x="3496383" y="3662037"/>
                </a:lnTo>
                <a:lnTo>
                  <a:pt x="3438916" y="3662037"/>
                </a:lnTo>
                <a:lnTo>
                  <a:pt x="2968432" y="4132520"/>
                </a:lnTo>
                <a:lnTo>
                  <a:pt x="3407909" y="4571995"/>
                </a:lnTo>
                <a:lnTo>
                  <a:pt x="3355664" y="4571995"/>
                </a:lnTo>
                <a:lnTo>
                  <a:pt x="2942310" y="4158642"/>
                </a:lnTo>
                <a:lnTo>
                  <a:pt x="2528960" y="4571994"/>
                </a:lnTo>
                <a:lnTo>
                  <a:pt x="2476716" y="4571994"/>
                </a:lnTo>
                <a:lnTo>
                  <a:pt x="2916189" y="4132521"/>
                </a:lnTo>
                <a:lnTo>
                  <a:pt x="2445706" y="3662037"/>
                </a:lnTo>
                <a:lnTo>
                  <a:pt x="2388237" y="3662037"/>
                </a:lnTo>
                <a:lnTo>
                  <a:pt x="1917750" y="4132522"/>
                </a:lnTo>
                <a:lnTo>
                  <a:pt x="2357226" y="4571995"/>
                </a:lnTo>
                <a:lnTo>
                  <a:pt x="2304983" y="4571996"/>
                </a:lnTo>
                <a:lnTo>
                  <a:pt x="1891628" y="4158644"/>
                </a:lnTo>
                <a:lnTo>
                  <a:pt x="1478287" y="4571994"/>
                </a:lnTo>
                <a:lnTo>
                  <a:pt x="1426043" y="4571994"/>
                </a:lnTo>
                <a:lnTo>
                  <a:pt x="1865506" y="4132522"/>
                </a:lnTo>
                <a:lnTo>
                  <a:pt x="1395028" y="3662037"/>
                </a:lnTo>
                <a:lnTo>
                  <a:pt x="1337560" y="3662037"/>
                </a:lnTo>
                <a:lnTo>
                  <a:pt x="867065" y="4132523"/>
                </a:lnTo>
                <a:lnTo>
                  <a:pt x="1306545" y="4571995"/>
                </a:lnTo>
                <a:lnTo>
                  <a:pt x="1254301" y="4571995"/>
                </a:lnTo>
                <a:lnTo>
                  <a:pt x="840943" y="4158645"/>
                </a:lnTo>
                <a:lnTo>
                  <a:pt x="427592" y="4571996"/>
                </a:lnTo>
                <a:lnTo>
                  <a:pt x="375348" y="4571996"/>
                </a:lnTo>
                <a:lnTo>
                  <a:pt x="814821" y="4132522"/>
                </a:lnTo>
                <a:lnTo>
                  <a:pt x="344336" y="3662037"/>
                </a:lnTo>
                <a:lnTo>
                  <a:pt x="286868" y="3662037"/>
                </a:lnTo>
                <a:lnTo>
                  <a:pt x="2" y="3948903"/>
                </a:lnTo>
                <a:lnTo>
                  <a:pt x="2" y="3896659"/>
                </a:lnTo>
                <a:lnTo>
                  <a:pt x="258375" y="3638287"/>
                </a:lnTo>
                <a:lnTo>
                  <a:pt x="258375" y="3576075"/>
                </a:lnTo>
                <a:lnTo>
                  <a:pt x="1" y="3317701"/>
                </a:lnTo>
                <a:lnTo>
                  <a:pt x="1" y="3265457"/>
                </a:lnTo>
                <a:lnTo>
                  <a:pt x="285755" y="3551212"/>
                </a:lnTo>
                <a:lnTo>
                  <a:pt x="345449" y="3551212"/>
                </a:lnTo>
                <a:lnTo>
                  <a:pt x="814821" y="3081840"/>
                </a:lnTo>
                <a:lnTo>
                  <a:pt x="343879" y="2610898"/>
                </a:lnTo>
                <a:lnTo>
                  <a:pt x="287325" y="2610898"/>
                </a:lnTo>
                <a:lnTo>
                  <a:pt x="4" y="2898220"/>
                </a:lnTo>
                <a:lnTo>
                  <a:pt x="4" y="2845976"/>
                </a:lnTo>
                <a:lnTo>
                  <a:pt x="258377" y="2587602"/>
                </a:lnTo>
                <a:lnTo>
                  <a:pt x="258377" y="2525395"/>
                </a:lnTo>
                <a:lnTo>
                  <a:pt x="1" y="2267018"/>
                </a:lnTo>
                <a:lnTo>
                  <a:pt x="0" y="2214773"/>
                </a:lnTo>
                <a:lnTo>
                  <a:pt x="285299" y="2500073"/>
                </a:lnTo>
                <a:lnTo>
                  <a:pt x="345906" y="2500073"/>
                </a:lnTo>
                <a:lnTo>
                  <a:pt x="814821" y="2031167"/>
                </a:lnTo>
                <a:lnTo>
                  <a:pt x="341615" y="1557960"/>
                </a:lnTo>
                <a:lnTo>
                  <a:pt x="289591" y="1557960"/>
                </a:lnTo>
                <a:lnTo>
                  <a:pt x="1" y="1847551"/>
                </a:lnTo>
                <a:lnTo>
                  <a:pt x="1" y="1795307"/>
                </a:lnTo>
                <a:lnTo>
                  <a:pt x="258379" y="1536928"/>
                </a:lnTo>
                <a:lnTo>
                  <a:pt x="258379" y="1474723"/>
                </a:lnTo>
                <a:lnTo>
                  <a:pt x="1" y="1216345"/>
                </a:lnTo>
                <a:lnTo>
                  <a:pt x="1" y="1164102"/>
                </a:lnTo>
                <a:lnTo>
                  <a:pt x="283034" y="1447135"/>
                </a:lnTo>
                <a:lnTo>
                  <a:pt x="348172" y="1447135"/>
                </a:lnTo>
                <a:lnTo>
                  <a:pt x="814820" y="980485"/>
                </a:lnTo>
                <a:lnTo>
                  <a:pt x="344400" y="510063"/>
                </a:lnTo>
                <a:lnTo>
                  <a:pt x="286802" y="510063"/>
                </a:lnTo>
                <a:lnTo>
                  <a:pt x="2" y="796868"/>
                </a:lnTo>
                <a:lnTo>
                  <a:pt x="2" y="744627"/>
                </a:lnTo>
                <a:lnTo>
                  <a:pt x="258382" y="486240"/>
                </a:lnTo>
                <a:lnTo>
                  <a:pt x="258382" y="424044"/>
                </a:lnTo>
                <a:lnTo>
                  <a:pt x="2" y="165665"/>
                </a:lnTo>
                <a:lnTo>
                  <a:pt x="2" y="113421"/>
                </a:lnTo>
                <a:lnTo>
                  <a:pt x="285819" y="399238"/>
                </a:lnTo>
                <a:lnTo>
                  <a:pt x="345383" y="399238"/>
                </a:lnTo>
                <a:lnTo>
                  <a:pt x="744619" y="2"/>
                </a:lnTo>
                <a:lnTo>
                  <a:pt x="796863" y="2"/>
                </a:lnTo>
                <a:lnTo>
                  <a:pt x="369206" y="427659"/>
                </a:lnTo>
                <a:lnTo>
                  <a:pt x="369206" y="482625"/>
                </a:lnTo>
                <a:lnTo>
                  <a:pt x="840942" y="954363"/>
                </a:lnTo>
                <a:lnTo>
                  <a:pt x="1309198" y="486115"/>
                </a:lnTo>
                <a:lnTo>
                  <a:pt x="1309198" y="424170"/>
                </a:lnTo>
                <a:lnTo>
                  <a:pt x="885018" y="1"/>
                </a:lnTo>
                <a:lnTo>
                  <a:pt x="937262" y="1"/>
                </a:lnTo>
                <a:lnTo>
                  <a:pt x="1336510" y="399238"/>
                </a:lnTo>
                <a:lnTo>
                  <a:pt x="1396075" y="399238"/>
                </a:lnTo>
                <a:lnTo>
                  <a:pt x="1795305" y="3"/>
                </a:lnTo>
                <a:lnTo>
                  <a:pt x="1847547" y="3"/>
                </a:lnTo>
                <a:lnTo>
                  <a:pt x="1420024" y="427535"/>
                </a:lnTo>
                <a:lnTo>
                  <a:pt x="1420024" y="482750"/>
                </a:lnTo>
                <a:lnTo>
                  <a:pt x="1891628" y="954364"/>
                </a:lnTo>
                <a:lnTo>
                  <a:pt x="2360002" y="485990"/>
                </a:lnTo>
                <a:lnTo>
                  <a:pt x="2360002" y="424295"/>
                </a:lnTo>
                <a:lnTo>
                  <a:pt x="1935703" y="1"/>
                </a:lnTo>
                <a:lnTo>
                  <a:pt x="1987946" y="1"/>
                </a:lnTo>
                <a:lnTo>
                  <a:pt x="2387188" y="399238"/>
                </a:lnTo>
                <a:lnTo>
                  <a:pt x="2446753" y="399238"/>
                </a:lnTo>
                <a:lnTo>
                  <a:pt x="2845989" y="2"/>
                </a:lnTo>
                <a:lnTo>
                  <a:pt x="2898233" y="2"/>
                </a:lnTo>
                <a:lnTo>
                  <a:pt x="2470826" y="427409"/>
                </a:lnTo>
                <a:lnTo>
                  <a:pt x="2470826" y="482876"/>
                </a:lnTo>
                <a:lnTo>
                  <a:pt x="2942310" y="954364"/>
                </a:lnTo>
                <a:lnTo>
                  <a:pt x="3410810" y="485864"/>
                </a:lnTo>
                <a:lnTo>
                  <a:pt x="3410810" y="424421"/>
                </a:lnTo>
                <a:lnTo>
                  <a:pt x="2986387" y="1"/>
                </a:lnTo>
                <a:lnTo>
                  <a:pt x="3038634" y="1"/>
                </a:lnTo>
                <a:lnTo>
                  <a:pt x="3437870" y="399238"/>
                </a:lnTo>
                <a:lnTo>
                  <a:pt x="3497432" y="399238"/>
                </a:lnTo>
                <a:lnTo>
                  <a:pt x="3896671" y="2"/>
                </a:lnTo>
                <a:lnTo>
                  <a:pt x="3948916" y="2"/>
                </a:lnTo>
                <a:lnTo>
                  <a:pt x="3521633" y="427284"/>
                </a:lnTo>
                <a:lnTo>
                  <a:pt x="3521633" y="483002"/>
                </a:lnTo>
                <a:lnTo>
                  <a:pt x="3992992" y="954363"/>
                </a:lnTo>
                <a:lnTo>
                  <a:pt x="4461600" y="485736"/>
                </a:lnTo>
                <a:lnTo>
                  <a:pt x="4461600" y="424545"/>
                </a:lnTo>
                <a:lnTo>
                  <a:pt x="4037073" y="1"/>
                </a:lnTo>
                <a:lnTo>
                  <a:pt x="4089316" y="1"/>
                </a:lnTo>
                <a:lnTo>
                  <a:pt x="4488536" y="399238"/>
                </a:lnTo>
                <a:lnTo>
                  <a:pt x="4548098" y="399238"/>
                </a:lnTo>
                <a:lnTo>
                  <a:pt x="4947332" y="4"/>
                </a:lnTo>
                <a:lnTo>
                  <a:pt x="4999576" y="4"/>
                </a:lnTo>
                <a:lnTo>
                  <a:pt x="4572425" y="427154"/>
                </a:lnTo>
                <a:lnTo>
                  <a:pt x="4572425" y="483127"/>
                </a:lnTo>
                <a:lnTo>
                  <a:pt x="5043657" y="954361"/>
                </a:lnTo>
                <a:lnTo>
                  <a:pt x="5512408" y="485609"/>
                </a:lnTo>
                <a:lnTo>
                  <a:pt x="5512408" y="424676"/>
                </a:lnTo>
                <a:lnTo>
                  <a:pt x="5087732" y="1"/>
                </a:lnTo>
                <a:lnTo>
                  <a:pt x="5139975" y="1"/>
                </a:lnTo>
                <a:lnTo>
                  <a:pt x="5539212" y="399238"/>
                </a:lnTo>
                <a:lnTo>
                  <a:pt x="5598779" y="399238"/>
                </a:lnTo>
                <a:lnTo>
                  <a:pt x="5998015" y="2"/>
                </a:lnTo>
                <a:lnTo>
                  <a:pt x="6050259" y="2"/>
                </a:lnTo>
                <a:lnTo>
                  <a:pt x="5623233" y="427027"/>
                </a:lnTo>
                <a:lnTo>
                  <a:pt x="5623233" y="483258"/>
                </a:lnTo>
                <a:lnTo>
                  <a:pt x="6094336" y="954363"/>
                </a:lnTo>
                <a:lnTo>
                  <a:pt x="6563216" y="485481"/>
                </a:lnTo>
                <a:lnTo>
                  <a:pt x="6563216" y="424799"/>
                </a:lnTo>
                <a:lnTo>
                  <a:pt x="613841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44" name="Straight Connector 7"/>
          <p:cNvSpPr/>
          <p:nvPr/>
        </p:nvSpPr>
        <p:spPr>
          <a:xfrm flipV="1">
            <a:off x="6289560" y="5264280"/>
            <a:ext cx="0" cy="914400"/>
          </a:xfrm>
          <a:prstGeom prst="line">
            <a:avLst/>
          </a:prstGeom>
          <a:ln w="19080">
            <a:solidFill>
              <a:srgbClr val="c6695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45"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0d0d"/>
                </a:solidFill>
                <a:latin typeface="Tw Cen MT Condensed"/>
              </a:rPr>
              <a:t>Click to edit the title text format</a:t>
            </a:r>
            <a:endParaRPr b="0" lang="en-US" sz="4400" spc="-1" strike="noStrike">
              <a:solidFill>
                <a:srgbClr val="0d0d0d"/>
              </a:solidFill>
              <a:latin typeface="Tw Cen MT Condensed"/>
            </a:endParaRPr>
          </a:p>
        </p:txBody>
      </p:sp>
      <p:sp>
        <p:nvSpPr>
          <p:cNvPr id="46" name="PlaceHolder 2"/>
          <p:cNvSpPr>
            <a:spLocks noGrp="1"/>
          </p:cNvSpPr>
          <p:nvPr>
            <p:ph type="body"/>
          </p:nvPr>
        </p:nvSpPr>
        <p:spPr>
          <a:xfrm>
            <a:off x="768240" y="2286000"/>
            <a:ext cx="7290000" cy="4022640"/>
          </a:xfrm>
          <a:prstGeom prst="rect">
            <a:avLst/>
          </a:prstGeom>
          <a:noFill/>
          <a:ln w="0">
            <a:noFill/>
          </a:ln>
        </p:spPr>
        <p:txBody>
          <a:bodyPr lIns="45720" rIns="45720" tIns="46800" bIns="46800" anchor="t">
            <a:normAutofit/>
          </a:bodyPr>
          <a:p>
            <a:pPr marL="90360" indent="-90360">
              <a:lnSpc>
                <a:spcPct val="90000"/>
              </a:lnSpc>
              <a:spcBef>
                <a:spcPts val="1199"/>
              </a:spcBef>
              <a:spcAft>
                <a:spcPts val="201"/>
              </a:spcAft>
              <a:buClr>
                <a:srgbClr val="c66951"/>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264960" indent="-136440">
              <a:lnSpc>
                <a:spcPct val="90000"/>
              </a:lnSpc>
              <a:spcBef>
                <a:spcPts val="1199"/>
              </a:spcBef>
              <a:spcAft>
                <a:spcPts val="201"/>
              </a:spcAft>
              <a:buClr>
                <a:srgbClr val="c669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447840" indent="-136800">
              <a:lnSpc>
                <a:spcPct val="90000"/>
              </a:lnSpc>
              <a:spcBef>
                <a:spcPts val="1199"/>
              </a:spcBef>
              <a:spcAft>
                <a:spcPts val="201"/>
              </a:spcAft>
              <a:buClr>
                <a:srgbClr val="c669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593640" indent="-136440">
              <a:lnSpc>
                <a:spcPct val="90000"/>
              </a:lnSpc>
              <a:spcBef>
                <a:spcPts val="1199"/>
              </a:spcBef>
              <a:spcAft>
                <a:spcPts val="201"/>
              </a:spcAft>
              <a:buClr>
                <a:srgbClr val="c669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776160" indent="-136440">
              <a:lnSpc>
                <a:spcPct val="90000"/>
              </a:lnSpc>
              <a:spcBef>
                <a:spcPts val="1199"/>
              </a:spcBef>
              <a:spcAft>
                <a:spcPts val="201"/>
              </a:spcAft>
              <a:buClr>
                <a:srgbClr val="c669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47" name="PlaceHolder 3"/>
          <p:cNvSpPr>
            <a:spLocks noGrp="1"/>
          </p:cNvSpPr>
          <p:nvPr>
            <p:ph type="dt" idx="4"/>
          </p:nvPr>
        </p:nvSpPr>
        <p:spPr>
          <a:xfrm>
            <a:off x="767880" y="6470280"/>
            <a:ext cx="1616040" cy="27468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000" spc="-1" strike="noStrike">
                <a:solidFill>
                  <a:srgbClr val="0d0d0d"/>
                </a:solidFill>
                <a:latin typeface="Tw Cen MT Condensed"/>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199E005-2073-4D48-AE87-4FDBE456B091}" type="datetime">
              <a:rPr b="0" lang="nl-NL" sz="1000" spc="-1" strike="noStrike">
                <a:solidFill>
                  <a:srgbClr val="0d0d0d"/>
                </a:solidFill>
                <a:latin typeface="Tw Cen MT Condensed"/>
              </a:rPr>
              <a:t>31-07-26</a:t>
            </a:fld>
            <a:endParaRPr b="0" lang="en-US" sz="1000" spc="-1" strike="noStrike">
              <a:solidFill>
                <a:srgbClr val="000000"/>
              </a:solidFill>
              <a:latin typeface="Times New Roman"/>
            </a:endParaRPr>
          </a:p>
        </p:txBody>
      </p:sp>
      <p:sp>
        <p:nvSpPr>
          <p:cNvPr id="48" name="PlaceHolder 4"/>
          <p:cNvSpPr>
            <a:spLocks noGrp="1"/>
          </p:cNvSpPr>
          <p:nvPr>
            <p:ph type="ftr" idx="5"/>
          </p:nvPr>
        </p:nvSpPr>
        <p:spPr>
          <a:xfrm>
            <a:off x="3631680" y="6470280"/>
            <a:ext cx="4426200" cy="27468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000" spc="-1" strike="noStrike">
                <a:solidFill>
                  <a:srgbClr val="0d0d0d"/>
                </a:solidFill>
                <a:latin typeface="Tw Cen MT Condensed"/>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000" spc="-1" strike="noStrike">
                <a:solidFill>
                  <a:srgbClr val="0d0d0d"/>
                </a:solidFill>
                <a:latin typeface="Tw Cen MT Condensed"/>
              </a:rPr>
              <a:t>VUL HIER EEN TEKST IN</a:t>
            </a:r>
            <a:endParaRPr b="0" lang="en-US" sz="1000" spc="-1" strike="noStrike">
              <a:solidFill>
                <a:srgbClr val="000000"/>
              </a:solidFill>
              <a:latin typeface="Times New Roman"/>
            </a:endParaRPr>
          </a:p>
        </p:txBody>
      </p:sp>
      <p:sp>
        <p:nvSpPr>
          <p:cNvPr id="49" name="PlaceHolder 5"/>
          <p:cNvSpPr>
            <a:spLocks noGrp="1"/>
          </p:cNvSpPr>
          <p:nvPr>
            <p:ph type="sldNum" idx="6"/>
          </p:nvPr>
        </p:nvSpPr>
        <p:spPr>
          <a:xfrm>
            <a:off x="8128080" y="6470280"/>
            <a:ext cx="730080" cy="27468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000" spc="-1" strike="noStrike">
                <a:solidFill>
                  <a:srgbClr val="0d0d0d"/>
                </a:solidFill>
                <a:latin typeface="Tw Cen MT Condensed"/>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7A7EC1A-273E-4620-A714-B89BC6D36B39}" type="slidenum">
              <a:rPr b="0" lang="nl-NL" sz="1000" spc="-1" strike="noStrike">
                <a:solidFill>
                  <a:srgbClr val="0d0d0d"/>
                </a:solidFill>
                <a:latin typeface="Tw Cen MT Condensed"/>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Straight Connector 7"/>
          <p:cNvSpPr/>
          <p:nvPr/>
        </p:nvSpPr>
        <p:spPr>
          <a:xfrm flipV="1">
            <a:off x="6289560" y="5264280"/>
            <a:ext cx="0" cy="914400"/>
          </a:xfrm>
          <a:prstGeom prst="line">
            <a:avLst/>
          </a:prstGeom>
          <a:ln w="19080">
            <a:solidFill>
              <a:srgbClr val="928b7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87" name="Rectangle 8"/>
          <p:cNvSpPr/>
          <p:nvPr/>
        </p:nvSpPr>
        <p:spPr>
          <a:xfrm>
            <a:off x="0" y="0"/>
            <a:ext cx="9144000" cy="4572000"/>
          </a:xfrm>
          <a:prstGeom prst="rect">
            <a:avLst/>
          </a:prstGeom>
          <a:solidFill>
            <a:srgbClr val="6e68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88" name="Freeform 9"/>
          <p:cNvSpPr/>
          <p:nvPr/>
        </p:nvSpPr>
        <p:spPr>
          <a:xfrm>
            <a:off x="0" y="0"/>
            <a:ext cx="9144000" cy="4572000"/>
          </a:xfrm>
          <a:custGeom>
            <a:avLst/>
            <a:gdLst/>
            <a:ahLst/>
            <a:rect l="l" t="t" r="r" b="b"/>
            <a:pathLst>
              <a:path w="9143987" h="4571997">
                <a:moveTo>
                  <a:pt x="1" y="4316132"/>
                </a:moveTo>
                <a:lnTo>
                  <a:pt x="255863" y="4571994"/>
                </a:lnTo>
                <a:lnTo>
                  <a:pt x="203619" y="4571994"/>
                </a:lnTo>
                <a:lnTo>
                  <a:pt x="1" y="4368376"/>
                </a:lnTo>
                <a:lnTo>
                  <a:pt x="1" y="4316132"/>
                </a:lnTo>
                <a:close/>
                <a:moveTo>
                  <a:pt x="9143985" y="4208793"/>
                </a:moveTo>
                <a:lnTo>
                  <a:pt x="9143985" y="4261037"/>
                </a:lnTo>
                <a:lnTo>
                  <a:pt x="8833027" y="4571996"/>
                </a:lnTo>
                <a:lnTo>
                  <a:pt x="8780783" y="4571996"/>
                </a:lnTo>
                <a:lnTo>
                  <a:pt x="9143985" y="4208793"/>
                </a:lnTo>
                <a:close/>
                <a:moveTo>
                  <a:pt x="8664832" y="4076819"/>
                </a:moveTo>
                <a:lnTo>
                  <a:pt x="8775657" y="4076819"/>
                </a:lnTo>
                <a:lnTo>
                  <a:pt x="8775657" y="4187644"/>
                </a:lnTo>
                <a:lnTo>
                  <a:pt x="8664832" y="4187644"/>
                </a:lnTo>
                <a:lnTo>
                  <a:pt x="8664832" y="4076819"/>
                </a:lnTo>
                <a:close/>
                <a:moveTo>
                  <a:pt x="7614024" y="4076819"/>
                </a:moveTo>
                <a:lnTo>
                  <a:pt x="7724849" y="4076819"/>
                </a:lnTo>
                <a:lnTo>
                  <a:pt x="7724849" y="4187644"/>
                </a:lnTo>
                <a:lnTo>
                  <a:pt x="7614024" y="4187644"/>
                </a:lnTo>
                <a:lnTo>
                  <a:pt x="7614024" y="4076819"/>
                </a:lnTo>
                <a:close/>
                <a:moveTo>
                  <a:pt x="6563216" y="4076819"/>
                </a:moveTo>
                <a:lnTo>
                  <a:pt x="6674041" y="4076819"/>
                </a:lnTo>
                <a:lnTo>
                  <a:pt x="6674041" y="4187644"/>
                </a:lnTo>
                <a:lnTo>
                  <a:pt x="6563216" y="4187644"/>
                </a:lnTo>
                <a:lnTo>
                  <a:pt x="6563216" y="4076819"/>
                </a:lnTo>
                <a:close/>
                <a:moveTo>
                  <a:pt x="5512408" y="4076819"/>
                </a:moveTo>
                <a:lnTo>
                  <a:pt x="5623233" y="4076819"/>
                </a:lnTo>
                <a:lnTo>
                  <a:pt x="5623233" y="4187644"/>
                </a:lnTo>
                <a:lnTo>
                  <a:pt x="5512408" y="4187644"/>
                </a:lnTo>
                <a:lnTo>
                  <a:pt x="5512408" y="4076819"/>
                </a:lnTo>
                <a:close/>
                <a:moveTo>
                  <a:pt x="4461600" y="4076819"/>
                </a:moveTo>
                <a:lnTo>
                  <a:pt x="4572425" y="4076819"/>
                </a:lnTo>
                <a:lnTo>
                  <a:pt x="4572425" y="4187644"/>
                </a:lnTo>
                <a:lnTo>
                  <a:pt x="4461600" y="4187644"/>
                </a:lnTo>
                <a:lnTo>
                  <a:pt x="4461600" y="4076819"/>
                </a:lnTo>
                <a:close/>
                <a:moveTo>
                  <a:pt x="3410793" y="4076819"/>
                </a:moveTo>
                <a:lnTo>
                  <a:pt x="3521618" y="4076819"/>
                </a:lnTo>
                <a:lnTo>
                  <a:pt x="3521618" y="4187644"/>
                </a:lnTo>
                <a:lnTo>
                  <a:pt x="3410793" y="4187644"/>
                </a:lnTo>
                <a:lnTo>
                  <a:pt x="3410793" y="4076819"/>
                </a:lnTo>
                <a:close/>
                <a:moveTo>
                  <a:pt x="2359985" y="4076819"/>
                </a:moveTo>
                <a:lnTo>
                  <a:pt x="2470810" y="4076819"/>
                </a:lnTo>
                <a:lnTo>
                  <a:pt x="2470810" y="4187644"/>
                </a:lnTo>
                <a:lnTo>
                  <a:pt x="2359985" y="4187644"/>
                </a:lnTo>
                <a:lnTo>
                  <a:pt x="2359985" y="4076819"/>
                </a:lnTo>
                <a:close/>
                <a:moveTo>
                  <a:pt x="1309177" y="4076819"/>
                </a:moveTo>
                <a:lnTo>
                  <a:pt x="1420002" y="4076819"/>
                </a:lnTo>
                <a:lnTo>
                  <a:pt x="1420002" y="4187644"/>
                </a:lnTo>
                <a:lnTo>
                  <a:pt x="1309177" y="4187644"/>
                </a:lnTo>
                <a:lnTo>
                  <a:pt x="1309177" y="4076819"/>
                </a:lnTo>
                <a:close/>
                <a:moveTo>
                  <a:pt x="258369" y="4076819"/>
                </a:moveTo>
                <a:lnTo>
                  <a:pt x="369194" y="4076819"/>
                </a:lnTo>
                <a:lnTo>
                  <a:pt x="369194" y="4187644"/>
                </a:lnTo>
                <a:lnTo>
                  <a:pt x="258369" y="4187644"/>
                </a:lnTo>
                <a:lnTo>
                  <a:pt x="258369" y="4076819"/>
                </a:lnTo>
                <a:close/>
                <a:moveTo>
                  <a:pt x="8139428" y="3551212"/>
                </a:moveTo>
                <a:lnTo>
                  <a:pt x="8250253" y="3551212"/>
                </a:lnTo>
                <a:lnTo>
                  <a:pt x="8250253" y="3662037"/>
                </a:lnTo>
                <a:lnTo>
                  <a:pt x="8139428" y="3662037"/>
                </a:lnTo>
                <a:lnTo>
                  <a:pt x="8139428" y="3551212"/>
                </a:lnTo>
                <a:close/>
                <a:moveTo>
                  <a:pt x="7088620" y="3551212"/>
                </a:moveTo>
                <a:lnTo>
                  <a:pt x="7199445" y="3551212"/>
                </a:lnTo>
                <a:lnTo>
                  <a:pt x="7199445" y="3662037"/>
                </a:lnTo>
                <a:lnTo>
                  <a:pt x="7088620" y="3662037"/>
                </a:lnTo>
                <a:lnTo>
                  <a:pt x="7088620" y="3551212"/>
                </a:lnTo>
                <a:close/>
                <a:moveTo>
                  <a:pt x="6037812" y="3551212"/>
                </a:moveTo>
                <a:lnTo>
                  <a:pt x="6148637" y="3551212"/>
                </a:lnTo>
                <a:lnTo>
                  <a:pt x="6148637" y="3662037"/>
                </a:lnTo>
                <a:lnTo>
                  <a:pt x="6037812" y="3662037"/>
                </a:lnTo>
                <a:lnTo>
                  <a:pt x="6037812" y="3551212"/>
                </a:lnTo>
                <a:close/>
                <a:moveTo>
                  <a:pt x="4987004" y="3551212"/>
                </a:moveTo>
                <a:lnTo>
                  <a:pt x="5097829" y="3551212"/>
                </a:lnTo>
                <a:lnTo>
                  <a:pt x="5097829" y="3662037"/>
                </a:lnTo>
                <a:lnTo>
                  <a:pt x="4987004" y="3662037"/>
                </a:lnTo>
                <a:lnTo>
                  <a:pt x="4987004" y="3551212"/>
                </a:lnTo>
                <a:close/>
                <a:moveTo>
                  <a:pt x="3936204" y="3551212"/>
                </a:moveTo>
                <a:lnTo>
                  <a:pt x="4047028" y="3551212"/>
                </a:lnTo>
                <a:lnTo>
                  <a:pt x="4047028" y="3662037"/>
                </a:lnTo>
                <a:lnTo>
                  <a:pt x="3936204" y="3662037"/>
                </a:lnTo>
                <a:lnTo>
                  <a:pt x="3936204" y="3551212"/>
                </a:lnTo>
                <a:close/>
                <a:moveTo>
                  <a:pt x="2885395" y="3551212"/>
                </a:moveTo>
                <a:lnTo>
                  <a:pt x="2996220" y="3551212"/>
                </a:lnTo>
                <a:lnTo>
                  <a:pt x="2996220" y="3662037"/>
                </a:lnTo>
                <a:lnTo>
                  <a:pt x="2885395" y="3662037"/>
                </a:lnTo>
                <a:lnTo>
                  <a:pt x="2885395" y="3551212"/>
                </a:lnTo>
                <a:close/>
                <a:moveTo>
                  <a:pt x="1834587" y="3551212"/>
                </a:moveTo>
                <a:lnTo>
                  <a:pt x="1945412" y="3551212"/>
                </a:lnTo>
                <a:lnTo>
                  <a:pt x="1945412" y="3662037"/>
                </a:lnTo>
                <a:lnTo>
                  <a:pt x="1834587" y="3662037"/>
                </a:lnTo>
                <a:lnTo>
                  <a:pt x="1834587" y="3551212"/>
                </a:lnTo>
                <a:close/>
                <a:moveTo>
                  <a:pt x="783778" y="3551212"/>
                </a:moveTo>
                <a:lnTo>
                  <a:pt x="894603" y="3551212"/>
                </a:lnTo>
                <a:lnTo>
                  <a:pt x="894603" y="3662037"/>
                </a:lnTo>
                <a:lnTo>
                  <a:pt x="783778" y="3662037"/>
                </a:lnTo>
                <a:lnTo>
                  <a:pt x="783778" y="3551212"/>
                </a:lnTo>
                <a:close/>
                <a:moveTo>
                  <a:pt x="2942310" y="3107962"/>
                </a:moveTo>
                <a:lnTo>
                  <a:pt x="2470818" y="3579456"/>
                </a:lnTo>
                <a:lnTo>
                  <a:pt x="2470818" y="3634904"/>
                </a:lnTo>
                <a:lnTo>
                  <a:pt x="2942310" y="4106399"/>
                </a:lnTo>
                <a:lnTo>
                  <a:pt x="3410800" y="3637911"/>
                </a:lnTo>
                <a:lnTo>
                  <a:pt x="3410800" y="3576450"/>
                </a:lnTo>
                <a:lnTo>
                  <a:pt x="2942310" y="3107962"/>
                </a:lnTo>
                <a:close/>
                <a:moveTo>
                  <a:pt x="8195700" y="3107962"/>
                </a:moveTo>
                <a:lnTo>
                  <a:pt x="7724849" y="3578813"/>
                </a:lnTo>
                <a:lnTo>
                  <a:pt x="7724849" y="3635545"/>
                </a:lnTo>
                <a:lnTo>
                  <a:pt x="8195702" y="4106398"/>
                </a:lnTo>
                <a:lnTo>
                  <a:pt x="8664832" y="3637268"/>
                </a:lnTo>
                <a:lnTo>
                  <a:pt x="8664832" y="3577094"/>
                </a:lnTo>
                <a:lnTo>
                  <a:pt x="8195700" y="3107962"/>
                </a:lnTo>
                <a:close/>
                <a:moveTo>
                  <a:pt x="5043655" y="3107962"/>
                </a:moveTo>
                <a:lnTo>
                  <a:pt x="4572425" y="3579192"/>
                </a:lnTo>
                <a:lnTo>
                  <a:pt x="4572425" y="3635169"/>
                </a:lnTo>
                <a:lnTo>
                  <a:pt x="5043654" y="4106399"/>
                </a:lnTo>
                <a:lnTo>
                  <a:pt x="5512408" y="3637645"/>
                </a:lnTo>
                <a:lnTo>
                  <a:pt x="5512408" y="3576714"/>
                </a:lnTo>
                <a:lnTo>
                  <a:pt x="5043655" y="3107962"/>
                </a:lnTo>
                <a:close/>
                <a:moveTo>
                  <a:pt x="840943" y="3107962"/>
                </a:moveTo>
                <a:lnTo>
                  <a:pt x="369199" y="3579705"/>
                </a:lnTo>
                <a:lnTo>
                  <a:pt x="369199" y="3634656"/>
                </a:lnTo>
                <a:lnTo>
                  <a:pt x="840943" y="4106401"/>
                </a:lnTo>
                <a:lnTo>
                  <a:pt x="1309186" y="3638165"/>
                </a:lnTo>
                <a:lnTo>
                  <a:pt x="1309186" y="3576196"/>
                </a:lnTo>
                <a:lnTo>
                  <a:pt x="840943" y="3107962"/>
                </a:lnTo>
                <a:close/>
                <a:moveTo>
                  <a:pt x="3992991" y="3107961"/>
                </a:moveTo>
                <a:lnTo>
                  <a:pt x="3521625" y="3579327"/>
                </a:lnTo>
                <a:lnTo>
                  <a:pt x="3521625" y="3635034"/>
                </a:lnTo>
                <a:lnTo>
                  <a:pt x="3992992" y="4106400"/>
                </a:lnTo>
                <a:lnTo>
                  <a:pt x="4461600" y="3637773"/>
                </a:lnTo>
                <a:lnTo>
                  <a:pt x="4461600" y="3576588"/>
                </a:lnTo>
                <a:lnTo>
                  <a:pt x="3992991" y="3107961"/>
                </a:lnTo>
                <a:close/>
                <a:moveTo>
                  <a:pt x="1891629" y="3107961"/>
                </a:moveTo>
                <a:lnTo>
                  <a:pt x="1420011" y="3579585"/>
                </a:lnTo>
                <a:lnTo>
                  <a:pt x="1420011" y="3634777"/>
                </a:lnTo>
                <a:lnTo>
                  <a:pt x="1891629" y="4106400"/>
                </a:lnTo>
                <a:lnTo>
                  <a:pt x="2359993" y="3638038"/>
                </a:lnTo>
                <a:lnTo>
                  <a:pt x="2359993" y="3576322"/>
                </a:lnTo>
                <a:lnTo>
                  <a:pt x="1891629" y="3107961"/>
                </a:lnTo>
                <a:close/>
                <a:moveTo>
                  <a:pt x="6094336" y="3107961"/>
                </a:moveTo>
                <a:lnTo>
                  <a:pt x="5623233" y="3579064"/>
                </a:lnTo>
                <a:lnTo>
                  <a:pt x="5623233" y="3635295"/>
                </a:lnTo>
                <a:lnTo>
                  <a:pt x="6094336" y="4106399"/>
                </a:lnTo>
                <a:lnTo>
                  <a:pt x="6563216" y="3637520"/>
                </a:lnTo>
                <a:lnTo>
                  <a:pt x="6563216" y="3576841"/>
                </a:lnTo>
                <a:lnTo>
                  <a:pt x="6094336" y="3107961"/>
                </a:lnTo>
                <a:close/>
                <a:moveTo>
                  <a:pt x="7145019" y="3107960"/>
                </a:moveTo>
                <a:lnTo>
                  <a:pt x="6674041" y="3578938"/>
                </a:lnTo>
                <a:lnTo>
                  <a:pt x="6674041" y="3635421"/>
                </a:lnTo>
                <a:lnTo>
                  <a:pt x="7145018" y="4106399"/>
                </a:lnTo>
                <a:lnTo>
                  <a:pt x="7614024" y="3637394"/>
                </a:lnTo>
                <a:lnTo>
                  <a:pt x="7614024" y="3576965"/>
                </a:lnTo>
                <a:lnTo>
                  <a:pt x="7145019" y="3107960"/>
                </a:lnTo>
                <a:close/>
                <a:moveTo>
                  <a:pt x="8664832" y="3027337"/>
                </a:moveTo>
                <a:lnTo>
                  <a:pt x="8775657" y="3027337"/>
                </a:lnTo>
                <a:lnTo>
                  <a:pt x="8775657" y="3138162"/>
                </a:lnTo>
                <a:lnTo>
                  <a:pt x="8664832" y="3138162"/>
                </a:lnTo>
                <a:lnTo>
                  <a:pt x="8664832" y="3027337"/>
                </a:lnTo>
                <a:close/>
                <a:moveTo>
                  <a:pt x="7614024" y="3027337"/>
                </a:moveTo>
                <a:lnTo>
                  <a:pt x="7724849" y="3027337"/>
                </a:lnTo>
                <a:lnTo>
                  <a:pt x="7724849" y="3138162"/>
                </a:lnTo>
                <a:lnTo>
                  <a:pt x="7614024" y="3138162"/>
                </a:lnTo>
                <a:lnTo>
                  <a:pt x="7614024" y="3027337"/>
                </a:lnTo>
                <a:close/>
                <a:moveTo>
                  <a:pt x="6563216" y="3027337"/>
                </a:moveTo>
                <a:lnTo>
                  <a:pt x="6674041" y="3027337"/>
                </a:lnTo>
                <a:lnTo>
                  <a:pt x="6674041" y="3138162"/>
                </a:lnTo>
                <a:lnTo>
                  <a:pt x="6563216" y="3138162"/>
                </a:lnTo>
                <a:lnTo>
                  <a:pt x="6563216" y="3027337"/>
                </a:lnTo>
                <a:close/>
                <a:moveTo>
                  <a:pt x="5512408" y="3027337"/>
                </a:moveTo>
                <a:lnTo>
                  <a:pt x="5623233" y="3027337"/>
                </a:lnTo>
                <a:lnTo>
                  <a:pt x="5623233" y="3138162"/>
                </a:lnTo>
                <a:lnTo>
                  <a:pt x="5512408" y="3138162"/>
                </a:lnTo>
                <a:lnTo>
                  <a:pt x="5512408" y="3027337"/>
                </a:lnTo>
                <a:close/>
                <a:moveTo>
                  <a:pt x="4461600" y="3027337"/>
                </a:moveTo>
                <a:lnTo>
                  <a:pt x="4572425" y="3027337"/>
                </a:lnTo>
                <a:lnTo>
                  <a:pt x="4572425" y="3138162"/>
                </a:lnTo>
                <a:lnTo>
                  <a:pt x="4461600" y="3138162"/>
                </a:lnTo>
                <a:lnTo>
                  <a:pt x="4461600" y="3027337"/>
                </a:lnTo>
                <a:close/>
                <a:moveTo>
                  <a:pt x="3410798" y="3027337"/>
                </a:moveTo>
                <a:lnTo>
                  <a:pt x="3521622" y="3027337"/>
                </a:lnTo>
                <a:lnTo>
                  <a:pt x="3521622" y="3138162"/>
                </a:lnTo>
                <a:lnTo>
                  <a:pt x="3410798" y="3138162"/>
                </a:lnTo>
                <a:lnTo>
                  <a:pt x="3410798" y="3027337"/>
                </a:lnTo>
                <a:close/>
                <a:moveTo>
                  <a:pt x="2359990" y="3027337"/>
                </a:moveTo>
                <a:lnTo>
                  <a:pt x="2470815" y="3027337"/>
                </a:lnTo>
                <a:lnTo>
                  <a:pt x="2470815" y="3138162"/>
                </a:lnTo>
                <a:lnTo>
                  <a:pt x="2359990" y="3138162"/>
                </a:lnTo>
                <a:lnTo>
                  <a:pt x="2359990" y="3027337"/>
                </a:lnTo>
                <a:close/>
                <a:moveTo>
                  <a:pt x="1309183" y="3027337"/>
                </a:moveTo>
                <a:lnTo>
                  <a:pt x="1420008" y="3027337"/>
                </a:lnTo>
                <a:lnTo>
                  <a:pt x="1420008" y="3138162"/>
                </a:lnTo>
                <a:lnTo>
                  <a:pt x="1309183" y="3138162"/>
                </a:lnTo>
                <a:lnTo>
                  <a:pt x="1309183" y="3027337"/>
                </a:lnTo>
                <a:close/>
                <a:moveTo>
                  <a:pt x="258373" y="3027337"/>
                </a:moveTo>
                <a:lnTo>
                  <a:pt x="369197" y="3027337"/>
                </a:lnTo>
                <a:lnTo>
                  <a:pt x="369197" y="3138162"/>
                </a:lnTo>
                <a:lnTo>
                  <a:pt x="258373" y="3138162"/>
                </a:lnTo>
                <a:lnTo>
                  <a:pt x="258373" y="3027337"/>
                </a:lnTo>
                <a:close/>
                <a:moveTo>
                  <a:pt x="7642081" y="2610898"/>
                </a:moveTo>
                <a:lnTo>
                  <a:pt x="7171142" y="3081837"/>
                </a:lnTo>
                <a:lnTo>
                  <a:pt x="7640516" y="3551212"/>
                </a:lnTo>
                <a:lnTo>
                  <a:pt x="7700206" y="3551212"/>
                </a:lnTo>
                <a:lnTo>
                  <a:pt x="8169578" y="3081840"/>
                </a:lnTo>
                <a:lnTo>
                  <a:pt x="7698636" y="2610898"/>
                </a:lnTo>
                <a:lnTo>
                  <a:pt x="7642081" y="2610898"/>
                </a:lnTo>
                <a:close/>
                <a:moveTo>
                  <a:pt x="6591400" y="2610898"/>
                </a:moveTo>
                <a:lnTo>
                  <a:pt x="6120458" y="3081839"/>
                </a:lnTo>
                <a:lnTo>
                  <a:pt x="6589831" y="3551212"/>
                </a:lnTo>
                <a:lnTo>
                  <a:pt x="6649523" y="3551212"/>
                </a:lnTo>
                <a:lnTo>
                  <a:pt x="7118897" y="3081838"/>
                </a:lnTo>
                <a:lnTo>
                  <a:pt x="6647958" y="2610898"/>
                </a:lnTo>
                <a:lnTo>
                  <a:pt x="6591400" y="2610898"/>
                </a:lnTo>
                <a:close/>
                <a:moveTo>
                  <a:pt x="5540719" y="2610898"/>
                </a:moveTo>
                <a:lnTo>
                  <a:pt x="5069777" y="3081840"/>
                </a:lnTo>
                <a:lnTo>
                  <a:pt x="5539149" y="3551212"/>
                </a:lnTo>
                <a:lnTo>
                  <a:pt x="5598841" y="3551212"/>
                </a:lnTo>
                <a:lnTo>
                  <a:pt x="6068214" y="3081839"/>
                </a:lnTo>
                <a:lnTo>
                  <a:pt x="5597273" y="2610898"/>
                </a:lnTo>
                <a:lnTo>
                  <a:pt x="5540719" y="2610898"/>
                </a:lnTo>
                <a:close/>
                <a:moveTo>
                  <a:pt x="4490037" y="2610898"/>
                </a:moveTo>
                <a:lnTo>
                  <a:pt x="4019113" y="3081839"/>
                </a:lnTo>
                <a:lnTo>
                  <a:pt x="4488468" y="3551212"/>
                </a:lnTo>
                <a:lnTo>
                  <a:pt x="4548161" y="3551212"/>
                </a:lnTo>
                <a:lnTo>
                  <a:pt x="5017533" y="3081840"/>
                </a:lnTo>
                <a:lnTo>
                  <a:pt x="4546591" y="2610898"/>
                </a:lnTo>
                <a:lnTo>
                  <a:pt x="4490037" y="2610898"/>
                </a:lnTo>
                <a:close/>
                <a:moveTo>
                  <a:pt x="3439375" y="2610898"/>
                </a:moveTo>
                <a:lnTo>
                  <a:pt x="2968432" y="3081840"/>
                </a:lnTo>
                <a:lnTo>
                  <a:pt x="3437804" y="3551212"/>
                </a:lnTo>
                <a:lnTo>
                  <a:pt x="3497496" y="3551212"/>
                </a:lnTo>
                <a:lnTo>
                  <a:pt x="3966869" y="3081840"/>
                </a:lnTo>
                <a:lnTo>
                  <a:pt x="3495925" y="2610898"/>
                </a:lnTo>
                <a:lnTo>
                  <a:pt x="3439375" y="2610898"/>
                </a:lnTo>
                <a:close/>
                <a:moveTo>
                  <a:pt x="2388694" y="2610898"/>
                </a:moveTo>
                <a:lnTo>
                  <a:pt x="1917751" y="3081839"/>
                </a:lnTo>
                <a:lnTo>
                  <a:pt x="2387125" y="3551212"/>
                </a:lnTo>
                <a:lnTo>
                  <a:pt x="2446818" y="3551212"/>
                </a:lnTo>
                <a:lnTo>
                  <a:pt x="2916188" y="3081841"/>
                </a:lnTo>
                <a:lnTo>
                  <a:pt x="2445246" y="2610898"/>
                </a:lnTo>
                <a:lnTo>
                  <a:pt x="2388694" y="2610898"/>
                </a:lnTo>
                <a:close/>
                <a:moveTo>
                  <a:pt x="1338016" y="2610898"/>
                </a:moveTo>
                <a:lnTo>
                  <a:pt x="867065" y="3081840"/>
                </a:lnTo>
                <a:lnTo>
                  <a:pt x="1336446" y="3551212"/>
                </a:lnTo>
                <a:lnTo>
                  <a:pt x="1396142" y="3551212"/>
                </a:lnTo>
                <a:lnTo>
                  <a:pt x="1865507" y="3081839"/>
                </a:lnTo>
                <a:lnTo>
                  <a:pt x="1394572" y="2610898"/>
                </a:lnTo>
                <a:lnTo>
                  <a:pt x="1338016" y="2610898"/>
                </a:lnTo>
                <a:close/>
                <a:moveTo>
                  <a:pt x="8139428" y="2500073"/>
                </a:moveTo>
                <a:lnTo>
                  <a:pt x="8250253" y="2500073"/>
                </a:lnTo>
                <a:lnTo>
                  <a:pt x="8250253" y="2610898"/>
                </a:lnTo>
                <a:lnTo>
                  <a:pt x="8139428" y="2610898"/>
                </a:lnTo>
                <a:lnTo>
                  <a:pt x="8139428" y="2500073"/>
                </a:lnTo>
                <a:close/>
                <a:moveTo>
                  <a:pt x="7088620" y="2500073"/>
                </a:moveTo>
                <a:lnTo>
                  <a:pt x="7199445" y="2500073"/>
                </a:lnTo>
                <a:lnTo>
                  <a:pt x="7199445" y="2610898"/>
                </a:lnTo>
                <a:lnTo>
                  <a:pt x="7088620" y="2610898"/>
                </a:lnTo>
                <a:lnTo>
                  <a:pt x="7088620" y="2500073"/>
                </a:lnTo>
                <a:close/>
                <a:moveTo>
                  <a:pt x="6037812" y="2500073"/>
                </a:moveTo>
                <a:lnTo>
                  <a:pt x="6148637" y="2500073"/>
                </a:lnTo>
                <a:lnTo>
                  <a:pt x="6148637" y="2610898"/>
                </a:lnTo>
                <a:lnTo>
                  <a:pt x="6037812" y="2610898"/>
                </a:lnTo>
                <a:lnTo>
                  <a:pt x="6037812" y="2500073"/>
                </a:lnTo>
                <a:close/>
                <a:moveTo>
                  <a:pt x="4987004" y="2500073"/>
                </a:moveTo>
                <a:lnTo>
                  <a:pt x="5097829" y="2500073"/>
                </a:lnTo>
                <a:lnTo>
                  <a:pt x="5097829" y="2610898"/>
                </a:lnTo>
                <a:lnTo>
                  <a:pt x="4987004" y="2610898"/>
                </a:lnTo>
                <a:lnTo>
                  <a:pt x="4987004" y="2500073"/>
                </a:lnTo>
                <a:close/>
                <a:moveTo>
                  <a:pt x="3936207" y="2500073"/>
                </a:moveTo>
                <a:lnTo>
                  <a:pt x="4047031" y="2500073"/>
                </a:lnTo>
                <a:lnTo>
                  <a:pt x="4047031" y="2610898"/>
                </a:lnTo>
                <a:lnTo>
                  <a:pt x="3936207" y="2610898"/>
                </a:lnTo>
                <a:lnTo>
                  <a:pt x="3936207" y="2500073"/>
                </a:lnTo>
                <a:close/>
                <a:moveTo>
                  <a:pt x="2885399" y="2500073"/>
                </a:moveTo>
                <a:lnTo>
                  <a:pt x="2996223" y="2500073"/>
                </a:lnTo>
                <a:lnTo>
                  <a:pt x="2996223" y="2610898"/>
                </a:lnTo>
                <a:lnTo>
                  <a:pt x="2885399" y="2610898"/>
                </a:lnTo>
                <a:lnTo>
                  <a:pt x="2885399" y="2500073"/>
                </a:lnTo>
                <a:close/>
                <a:moveTo>
                  <a:pt x="1834589" y="2500073"/>
                </a:moveTo>
                <a:lnTo>
                  <a:pt x="1945415" y="2500073"/>
                </a:lnTo>
                <a:lnTo>
                  <a:pt x="1945415" y="2610898"/>
                </a:lnTo>
                <a:lnTo>
                  <a:pt x="1834589" y="2610898"/>
                </a:lnTo>
                <a:lnTo>
                  <a:pt x="1834589" y="2500073"/>
                </a:lnTo>
                <a:close/>
                <a:moveTo>
                  <a:pt x="783780" y="2500073"/>
                </a:moveTo>
                <a:lnTo>
                  <a:pt x="894605" y="2500073"/>
                </a:lnTo>
                <a:lnTo>
                  <a:pt x="894605" y="2610898"/>
                </a:lnTo>
                <a:lnTo>
                  <a:pt x="783780" y="2610898"/>
                </a:lnTo>
                <a:lnTo>
                  <a:pt x="783780" y="2500073"/>
                </a:lnTo>
                <a:close/>
                <a:moveTo>
                  <a:pt x="1891628" y="2057290"/>
                </a:moveTo>
                <a:lnTo>
                  <a:pt x="1420016" y="2528900"/>
                </a:lnTo>
                <a:lnTo>
                  <a:pt x="1420016" y="2584097"/>
                </a:lnTo>
                <a:lnTo>
                  <a:pt x="1891629" y="3055718"/>
                </a:lnTo>
                <a:lnTo>
                  <a:pt x="2359995" y="2587353"/>
                </a:lnTo>
                <a:lnTo>
                  <a:pt x="2359995" y="2525647"/>
                </a:lnTo>
                <a:lnTo>
                  <a:pt x="1891628" y="2057290"/>
                </a:lnTo>
                <a:close/>
                <a:moveTo>
                  <a:pt x="2942310" y="2057290"/>
                </a:moveTo>
                <a:lnTo>
                  <a:pt x="2470820" y="2528772"/>
                </a:lnTo>
                <a:lnTo>
                  <a:pt x="2470820" y="2584228"/>
                </a:lnTo>
                <a:lnTo>
                  <a:pt x="2942310" y="3055719"/>
                </a:lnTo>
                <a:lnTo>
                  <a:pt x="3410803" y="2587227"/>
                </a:lnTo>
                <a:lnTo>
                  <a:pt x="3410803" y="2525772"/>
                </a:lnTo>
                <a:lnTo>
                  <a:pt x="2942310" y="2057290"/>
                </a:lnTo>
                <a:close/>
                <a:moveTo>
                  <a:pt x="3992992" y="2057289"/>
                </a:moveTo>
                <a:lnTo>
                  <a:pt x="3521627" y="2528644"/>
                </a:lnTo>
                <a:lnTo>
                  <a:pt x="3521627" y="2584355"/>
                </a:lnTo>
                <a:lnTo>
                  <a:pt x="3992992" y="3055718"/>
                </a:lnTo>
                <a:lnTo>
                  <a:pt x="4461600" y="2587092"/>
                </a:lnTo>
                <a:lnTo>
                  <a:pt x="4461600" y="2525906"/>
                </a:lnTo>
                <a:lnTo>
                  <a:pt x="3992992" y="2057289"/>
                </a:lnTo>
                <a:close/>
                <a:moveTo>
                  <a:pt x="7145018" y="2057289"/>
                </a:moveTo>
                <a:lnTo>
                  <a:pt x="6674041" y="2528257"/>
                </a:lnTo>
                <a:lnTo>
                  <a:pt x="6674041" y="2584737"/>
                </a:lnTo>
                <a:lnTo>
                  <a:pt x="7145020" y="3055716"/>
                </a:lnTo>
                <a:lnTo>
                  <a:pt x="7614024" y="2586712"/>
                </a:lnTo>
                <a:lnTo>
                  <a:pt x="7614024" y="2526286"/>
                </a:lnTo>
                <a:lnTo>
                  <a:pt x="7145018" y="2057289"/>
                </a:lnTo>
                <a:close/>
                <a:moveTo>
                  <a:pt x="5043655" y="2057288"/>
                </a:moveTo>
                <a:lnTo>
                  <a:pt x="4572425" y="2528510"/>
                </a:lnTo>
                <a:lnTo>
                  <a:pt x="4572425" y="2584487"/>
                </a:lnTo>
                <a:lnTo>
                  <a:pt x="5043655" y="3055718"/>
                </a:lnTo>
                <a:lnTo>
                  <a:pt x="5512408" y="2586964"/>
                </a:lnTo>
                <a:lnTo>
                  <a:pt x="5512408" y="2526033"/>
                </a:lnTo>
                <a:lnTo>
                  <a:pt x="5043655" y="2057288"/>
                </a:lnTo>
                <a:close/>
                <a:moveTo>
                  <a:pt x="840943" y="2057288"/>
                </a:moveTo>
                <a:lnTo>
                  <a:pt x="369202" y="2529021"/>
                </a:lnTo>
                <a:lnTo>
                  <a:pt x="369202" y="2583976"/>
                </a:lnTo>
                <a:lnTo>
                  <a:pt x="840943" y="3055718"/>
                </a:lnTo>
                <a:lnTo>
                  <a:pt x="1309190" y="2587479"/>
                </a:lnTo>
                <a:lnTo>
                  <a:pt x="1309190" y="2525518"/>
                </a:lnTo>
                <a:lnTo>
                  <a:pt x="840943" y="2057288"/>
                </a:lnTo>
                <a:close/>
                <a:moveTo>
                  <a:pt x="8195701" y="2057287"/>
                </a:moveTo>
                <a:lnTo>
                  <a:pt x="7724849" y="2528130"/>
                </a:lnTo>
                <a:lnTo>
                  <a:pt x="7724849" y="2584867"/>
                </a:lnTo>
                <a:lnTo>
                  <a:pt x="8195700" y="3055717"/>
                </a:lnTo>
                <a:lnTo>
                  <a:pt x="8664832" y="2586585"/>
                </a:lnTo>
                <a:lnTo>
                  <a:pt x="8664832" y="2526410"/>
                </a:lnTo>
                <a:lnTo>
                  <a:pt x="8195701" y="2057287"/>
                </a:lnTo>
                <a:close/>
                <a:moveTo>
                  <a:pt x="6094339" y="2057287"/>
                </a:moveTo>
                <a:lnTo>
                  <a:pt x="5623233" y="2528385"/>
                </a:lnTo>
                <a:lnTo>
                  <a:pt x="5623233" y="2584613"/>
                </a:lnTo>
                <a:lnTo>
                  <a:pt x="6094336" y="3055717"/>
                </a:lnTo>
                <a:lnTo>
                  <a:pt x="6563216" y="2586838"/>
                </a:lnTo>
                <a:lnTo>
                  <a:pt x="6563216" y="2526156"/>
                </a:lnTo>
                <a:lnTo>
                  <a:pt x="6094339" y="2057287"/>
                </a:lnTo>
                <a:close/>
                <a:moveTo>
                  <a:pt x="1309181" y="1973451"/>
                </a:moveTo>
                <a:lnTo>
                  <a:pt x="1420005" y="1973451"/>
                </a:lnTo>
                <a:lnTo>
                  <a:pt x="1420005" y="2084276"/>
                </a:lnTo>
                <a:lnTo>
                  <a:pt x="1309181" y="2084276"/>
                </a:lnTo>
                <a:lnTo>
                  <a:pt x="1309181" y="1973451"/>
                </a:lnTo>
                <a:close/>
                <a:moveTo>
                  <a:pt x="258371" y="1973451"/>
                </a:moveTo>
                <a:lnTo>
                  <a:pt x="369196" y="1973451"/>
                </a:lnTo>
                <a:lnTo>
                  <a:pt x="369196" y="2084276"/>
                </a:lnTo>
                <a:lnTo>
                  <a:pt x="258371" y="2084276"/>
                </a:lnTo>
                <a:lnTo>
                  <a:pt x="258371" y="1973451"/>
                </a:lnTo>
                <a:close/>
                <a:moveTo>
                  <a:pt x="3410796" y="1973451"/>
                </a:moveTo>
                <a:lnTo>
                  <a:pt x="3521621" y="1973451"/>
                </a:lnTo>
                <a:lnTo>
                  <a:pt x="3521621" y="2084276"/>
                </a:lnTo>
                <a:lnTo>
                  <a:pt x="3410796" y="2084276"/>
                </a:lnTo>
                <a:lnTo>
                  <a:pt x="3410796" y="1973451"/>
                </a:lnTo>
                <a:close/>
                <a:moveTo>
                  <a:pt x="2359988" y="1973451"/>
                </a:moveTo>
                <a:lnTo>
                  <a:pt x="2470813" y="1973451"/>
                </a:lnTo>
                <a:lnTo>
                  <a:pt x="2470813" y="2084276"/>
                </a:lnTo>
                <a:lnTo>
                  <a:pt x="2359988" y="2084276"/>
                </a:lnTo>
                <a:lnTo>
                  <a:pt x="2359988" y="1973451"/>
                </a:lnTo>
                <a:close/>
                <a:moveTo>
                  <a:pt x="4461600" y="1973451"/>
                </a:moveTo>
                <a:lnTo>
                  <a:pt x="4572425" y="1973451"/>
                </a:lnTo>
                <a:lnTo>
                  <a:pt x="4572425" y="2084276"/>
                </a:lnTo>
                <a:lnTo>
                  <a:pt x="4461600" y="2084276"/>
                </a:lnTo>
                <a:lnTo>
                  <a:pt x="4461600" y="1973451"/>
                </a:lnTo>
                <a:close/>
                <a:moveTo>
                  <a:pt x="6563216" y="1973451"/>
                </a:moveTo>
                <a:lnTo>
                  <a:pt x="6674041" y="1973451"/>
                </a:lnTo>
                <a:lnTo>
                  <a:pt x="6674041" y="2084276"/>
                </a:lnTo>
                <a:lnTo>
                  <a:pt x="6563216" y="2084276"/>
                </a:lnTo>
                <a:lnTo>
                  <a:pt x="6563216" y="1973451"/>
                </a:lnTo>
                <a:close/>
                <a:moveTo>
                  <a:pt x="5512408" y="1973451"/>
                </a:moveTo>
                <a:lnTo>
                  <a:pt x="5623233" y="1973451"/>
                </a:lnTo>
                <a:lnTo>
                  <a:pt x="5623233" y="2084276"/>
                </a:lnTo>
                <a:lnTo>
                  <a:pt x="5512408" y="2084276"/>
                </a:lnTo>
                <a:lnTo>
                  <a:pt x="5512408" y="1973451"/>
                </a:lnTo>
                <a:close/>
                <a:moveTo>
                  <a:pt x="8664832" y="1973450"/>
                </a:moveTo>
                <a:lnTo>
                  <a:pt x="8775657" y="1973450"/>
                </a:lnTo>
                <a:lnTo>
                  <a:pt x="8775657" y="2084275"/>
                </a:lnTo>
                <a:lnTo>
                  <a:pt x="8664832" y="2084275"/>
                </a:lnTo>
                <a:lnTo>
                  <a:pt x="8664832" y="1973450"/>
                </a:lnTo>
                <a:close/>
                <a:moveTo>
                  <a:pt x="7614024" y="1973450"/>
                </a:moveTo>
                <a:lnTo>
                  <a:pt x="7724849" y="1973450"/>
                </a:lnTo>
                <a:lnTo>
                  <a:pt x="7724849" y="2084275"/>
                </a:lnTo>
                <a:lnTo>
                  <a:pt x="7614024" y="2084275"/>
                </a:lnTo>
                <a:lnTo>
                  <a:pt x="7614024" y="1973450"/>
                </a:lnTo>
                <a:close/>
                <a:moveTo>
                  <a:pt x="1340281" y="1557960"/>
                </a:moveTo>
                <a:lnTo>
                  <a:pt x="867065" y="2031167"/>
                </a:lnTo>
                <a:lnTo>
                  <a:pt x="1335989" y="2500073"/>
                </a:lnTo>
                <a:lnTo>
                  <a:pt x="1396599" y="2500073"/>
                </a:lnTo>
                <a:lnTo>
                  <a:pt x="1865505" y="2031168"/>
                </a:lnTo>
                <a:lnTo>
                  <a:pt x="1392304" y="1557960"/>
                </a:lnTo>
                <a:lnTo>
                  <a:pt x="1340281" y="1557960"/>
                </a:lnTo>
                <a:close/>
                <a:moveTo>
                  <a:pt x="3441642" y="1557959"/>
                </a:moveTo>
                <a:lnTo>
                  <a:pt x="2968432" y="2031168"/>
                </a:lnTo>
                <a:lnTo>
                  <a:pt x="3437347" y="2500073"/>
                </a:lnTo>
                <a:lnTo>
                  <a:pt x="3497954" y="2500073"/>
                </a:lnTo>
                <a:lnTo>
                  <a:pt x="3966871" y="2031167"/>
                </a:lnTo>
                <a:lnTo>
                  <a:pt x="3493660" y="1557959"/>
                </a:lnTo>
                <a:lnTo>
                  <a:pt x="3441642" y="1557959"/>
                </a:lnTo>
                <a:close/>
                <a:moveTo>
                  <a:pt x="2390960" y="1557959"/>
                </a:moveTo>
                <a:lnTo>
                  <a:pt x="1917749" y="2031168"/>
                </a:lnTo>
                <a:lnTo>
                  <a:pt x="2386666" y="2500073"/>
                </a:lnTo>
                <a:lnTo>
                  <a:pt x="2447276" y="2500073"/>
                </a:lnTo>
                <a:lnTo>
                  <a:pt x="2916188" y="2031168"/>
                </a:lnTo>
                <a:lnTo>
                  <a:pt x="2442982" y="1557959"/>
                </a:lnTo>
                <a:lnTo>
                  <a:pt x="2390960" y="1557959"/>
                </a:lnTo>
                <a:close/>
                <a:moveTo>
                  <a:pt x="5542984" y="1557959"/>
                </a:moveTo>
                <a:lnTo>
                  <a:pt x="5069777" y="2031166"/>
                </a:lnTo>
                <a:lnTo>
                  <a:pt x="5538692" y="2500073"/>
                </a:lnTo>
                <a:lnTo>
                  <a:pt x="5599300" y="2500073"/>
                </a:lnTo>
                <a:lnTo>
                  <a:pt x="6068216" y="2031165"/>
                </a:lnTo>
                <a:lnTo>
                  <a:pt x="5595011" y="1557959"/>
                </a:lnTo>
                <a:lnTo>
                  <a:pt x="5542984" y="1557959"/>
                </a:lnTo>
                <a:close/>
                <a:moveTo>
                  <a:pt x="4492304" y="1557959"/>
                </a:moveTo>
                <a:lnTo>
                  <a:pt x="4019114" y="2031167"/>
                </a:lnTo>
                <a:lnTo>
                  <a:pt x="4488010" y="2500073"/>
                </a:lnTo>
                <a:lnTo>
                  <a:pt x="4548618" y="2500073"/>
                </a:lnTo>
                <a:lnTo>
                  <a:pt x="5017533" y="2031166"/>
                </a:lnTo>
                <a:lnTo>
                  <a:pt x="4544326" y="1557959"/>
                </a:lnTo>
                <a:lnTo>
                  <a:pt x="4492304" y="1557959"/>
                </a:lnTo>
                <a:close/>
                <a:moveTo>
                  <a:pt x="7644348" y="1557959"/>
                </a:moveTo>
                <a:lnTo>
                  <a:pt x="7171139" y="2031167"/>
                </a:lnTo>
                <a:lnTo>
                  <a:pt x="7640054" y="2500073"/>
                </a:lnTo>
                <a:lnTo>
                  <a:pt x="7700663" y="2500073"/>
                </a:lnTo>
                <a:lnTo>
                  <a:pt x="8169579" y="2031166"/>
                </a:lnTo>
                <a:lnTo>
                  <a:pt x="7696373" y="1557959"/>
                </a:lnTo>
                <a:lnTo>
                  <a:pt x="7644348" y="1557959"/>
                </a:lnTo>
                <a:close/>
                <a:moveTo>
                  <a:pt x="6593666" y="1557959"/>
                </a:moveTo>
                <a:lnTo>
                  <a:pt x="6120461" y="2031165"/>
                </a:lnTo>
                <a:lnTo>
                  <a:pt x="6589377" y="2500073"/>
                </a:lnTo>
                <a:lnTo>
                  <a:pt x="6649981" y="2500073"/>
                </a:lnTo>
                <a:lnTo>
                  <a:pt x="7118896" y="2031167"/>
                </a:lnTo>
                <a:lnTo>
                  <a:pt x="6645688" y="1557959"/>
                </a:lnTo>
                <a:lnTo>
                  <a:pt x="6593666" y="1557959"/>
                </a:lnTo>
                <a:close/>
                <a:moveTo>
                  <a:pt x="783783" y="1447135"/>
                </a:moveTo>
                <a:lnTo>
                  <a:pt x="894607" y="1447135"/>
                </a:lnTo>
                <a:lnTo>
                  <a:pt x="894607" y="1557960"/>
                </a:lnTo>
                <a:lnTo>
                  <a:pt x="783783" y="1557960"/>
                </a:lnTo>
                <a:lnTo>
                  <a:pt x="783783" y="1447135"/>
                </a:lnTo>
                <a:close/>
                <a:moveTo>
                  <a:pt x="3936210" y="1447134"/>
                </a:moveTo>
                <a:lnTo>
                  <a:pt x="4047034" y="1447134"/>
                </a:lnTo>
                <a:lnTo>
                  <a:pt x="4047034" y="1557959"/>
                </a:lnTo>
                <a:lnTo>
                  <a:pt x="3936210" y="1557959"/>
                </a:lnTo>
                <a:lnTo>
                  <a:pt x="3936210" y="1447134"/>
                </a:lnTo>
                <a:close/>
                <a:moveTo>
                  <a:pt x="2885402" y="1447134"/>
                </a:moveTo>
                <a:lnTo>
                  <a:pt x="2996226" y="1447134"/>
                </a:lnTo>
                <a:lnTo>
                  <a:pt x="2996226" y="1557959"/>
                </a:lnTo>
                <a:lnTo>
                  <a:pt x="2885402" y="1557959"/>
                </a:lnTo>
                <a:lnTo>
                  <a:pt x="2885402" y="1447134"/>
                </a:lnTo>
                <a:close/>
                <a:moveTo>
                  <a:pt x="1834592" y="1447134"/>
                </a:moveTo>
                <a:lnTo>
                  <a:pt x="1945417" y="1447134"/>
                </a:lnTo>
                <a:lnTo>
                  <a:pt x="1945417" y="1557959"/>
                </a:lnTo>
                <a:lnTo>
                  <a:pt x="1834592" y="1557959"/>
                </a:lnTo>
                <a:lnTo>
                  <a:pt x="1834592" y="1447134"/>
                </a:lnTo>
                <a:close/>
                <a:moveTo>
                  <a:pt x="6037812" y="1447134"/>
                </a:moveTo>
                <a:lnTo>
                  <a:pt x="6148637" y="1447134"/>
                </a:lnTo>
                <a:lnTo>
                  <a:pt x="6148637" y="1557959"/>
                </a:lnTo>
                <a:lnTo>
                  <a:pt x="6037812" y="1557959"/>
                </a:lnTo>
                <a:lnTo>
                  <a:pt x="6037812" y="1447134"/>
                </a:lnTo>
                <a:close/>
                <a:moveTo>
                  <a:pt x="4987004" y="1447134"/>
                </a:moveTo>
                <a:lnTo>
                  <a:pt x="5097829" y="1447134"/>
                </a:lnTo>
                <a:lnTo>
                  <a:pt x="5097829" y="1557959"/>
                </a:lnTo>
                <a:lnTo>
                  <a:pt x="4987004" y="1557959"/>
                </a:lnTo>
                <a:lnTo>
                  <a:pt x="4987004" y="1447134"/>
                </a:lnTo>
                <a:close/>
                <a:moveTo>
                  <a:pt x="8139428" y="1447134"/>
                </a:moveTo>
                <a:lnTo>
                  <a:pt x="8250253" y="1447134"/>
                </a:lnTo>
                <a:lnTo>
                  <a:pt x="8250253" y="1557959"/>
                </a:lnTo>
                <a:lnTo>
                  <a:pt x="8139428" y="1557959"/>
                </a:lnTo>
                <a:lnTo>
                  <a:pt x="8139428" y="1447134"/>
                </a:lnTo>
                <a:close/>
                <a:moveTo>
                  <a:pt x="7088620" y="1447134"/>
                </a:moveTo>
                <a:lnTo>
                  <a:pt x="7199445" y="1447134"/>
                </a:lnTo>
                <a:lnTo>
                  <a:pt x="7199445" y="1557959"/>
                </a:lnTo>
                <a:lnTo>
                  <a:pt x="7088620" y="1557959"/>
                </a:lnTo>
                <a:lnTo>
                  <a:pt x="7088620" y="1447134"/>
                </a:lnTo>
                <a:close/>
                <a:moveTo>
                  <a:pt x="2942311" y="1006606"/>
                </a:moveTo>
                <a:lnTo>
                  <a:pt x="2470823" y="1478096"/>
                </a:lnTo>
                <a:lnTo>
                  <a:pt x="2470823" y="1533557"/>
                </a:lnTo>
                <a:lnTo>
                  <a:pt x="2942310" y="2005046"/>
                </a:lnTo>
                <a:lnTo>
                  <a:pt x="3410807" y="1536551"/>
                </a:lnTo>
                <a:lnTo>
                  <a:pt x="3410807" y="1475102"/>
                </a:lnTo>
                <a:lnTo>
                  <a:pt x="2942311" y="1006606"/>
                </a:lnTo>
                <a:close/>
                <a:moveTo>
                  <a:pt x="1891628" y="1006606"/>
                </a:moveTo>
                <a:lnTo>
                  <a:pt x="1420020" y="1478222"/>
                </a:lnTo>
                <a:lnTo>
                  <a:pt x="1420020" y="1533430"/>
                </a:lnTo>
                <a:lnTo>
                  <a:pt x="1891628" y="2005046"/>
                </a:lnTo>
                <a:lnTo>
                  <a:pt x="2359999" y="1536677"/>
                </a:lnTo>
                <a:lnTo>
                  <a:pt x="2359999" y="1474976"/>
                </a:lnTo>
                <a:lnTo>
                  <a:pt x="1891628" y="1006606"/>
                </a:lnTo>
                <a:close/>
                <a:moveTo>
                  <a:pt x="840942" y="1006606"/>
                </a:moveTo>
                <a:lnTo>
                  <a:pt x="369204" y="1478346"/>
                </a:lnTo>
                <a:lnTo>
                  <a:pt x="369204" y="1533304"/>
                </a:lnTo>
                <a:lnTo>
                  <a:pt x="840943" y="2005045"/>
                </a:lnTo>
                <a:lnTo>
                  <a:pt x="1309193" y="1536802"/>
                </a:lnTo>
                <a:lnTo>
                  <a:pt x="1309193" y="1474850"/>
                </a:lnTo>
                <a:lnTo>
                  <a:pt x="840942" y="1006606"/>
                </a:lnTo>
                <a:close/>
                <a:moveTo>
                  <a:pt x="3992992" y="1006606"/>
                </a:moveTo>
                <a:lnTo>
                  <a:pt x="3521631" y="1477968"/>
                </a:lnTo>
                <a:lnTo>
                  <a:pt x="3521631" y="1533684"/>
                </a:lnTo>
                <a:lnTo>
                  <a:pt x="3992992" y="2005046"/>
                </a:lnTo>
                <a:lnTo>
                  <a:pt x="4461600" y="1536420"/>
                </a:lnTo>
                <a:lnTo>
                  <a:pt x="4461600" y="1475233"/>
                </a:lnTo>
                <a:lnTo>
                  <a:pt x="3992992" y="1006606"/>
                </a:lnTo>
                <a:close/>
                <a:moveTo>
                  <a:pt x="6094336" y="1006605"/>
                </a:moveTo>
                <a:lnTo>
                  <a:pt x="5623233" y="1477710"/>
                </a:lnTo>
                <a:lnTo>
                  <a:pt x="5623233" y="1533937"/>
                </a:lnTo>
                <a:lnTo>
                  <a:pt x="6094338" y="2005043"/>
                </a:lnTo>
                <a:lnTo>
                  <a:pt x="6563216" y="1536165"/>
                </a:lnTo>
                <a:lnTo>
                  <a:pt x="6563216" y="1475486"/>
                </a:lnTo>
                <a:lnTo>
                  <a:pt x="6094336" y="1006605"/>
                </a:lnTo>
                <a:close/>
                <a:moveTo>
                  <a:pt x="7145020" y="1006604"/>
                </a:moveTo>
                <a:lnTo>
                  <a:pt x="6674041" y="1477584"/>
                </a:lnTo>
                <a:lnTo>
                  <a:pt x="6674041" y="1534069"/>
                </a:lnTo>
                <a:lnTo>
                  <a:pt x="7145018" y="2005045"/>
                </a:lnTo>
                <a:lnTo>
                  <a:pt x="7614024" y="1536039"/>
                </a:lnTo>
                <a:lnTo>
                  <a:pt x="7614024" y="1475610"/>
                </a:lnTo>
                <a:lnTo>
                  <a:pt x="7145020" y="1006604"/>
                </a:lnTo>
                <a:close/>
                <a:moveTo>
                  <a:pt x="8195701" y="1006604"/>
                </a:moveTo>
                <a:lnTo>
                  <a:pt x="7724849" y="1477457"/>
                </a:lnTo>
                <a:lnTo>
                  <a:pt x="7724849" y="1534190"/>
                </a:lnTo>
                <a:lnTo>
                  <a:pt x="8195702" y="2005044"/>
                </a:lnTo>
                <a:lnTo>
                  <a:pt x="8664832" y="1535914"/>
                </a:lnTo>
                <a:lnTo>
                  <a:pt x="8664832" y="1475735"/>
                </a:lnTo>
                <a:lnTo>
                  <a:pt x="8195701" y="1006604"/>
                </a:lnTo>
                <a:close/>
                <a:moveTo>
                  <a:pt x="5043657" y="1006604"/>
                </a:moveTo>
                <a:lnTo>
                  <a:pt x="4572425" y="1477838"/>
                </a:lnTo>
                <a:lnTo>
                  <a:pt x="4572425" y="1533814"/>
                </a:lnTo>
                <a:lnTo>
                  <a:pt x="5043655" y="2005045"/>
                </a:lnTo>
                <a:lnTo>
                  <a:pt x="5512408" y="1536292"/>
                </a:lnTo>
                <a:lnTo>
                  <a:pt x="5512408" y="1475356"/>
                </a:lnTo>
                <a:lnTo>
                  <a:pt x="5043657" y="1006604"/>
                </a:lnTo>
                <a:close/>
                <a:moveTo>
                  <a:pt x="2359987" y="922636"/>
                </a:moveTo>
                <a:lnTo>
                  <a:pt x="2470812" y="922636"/>
                </a:lnTo>
                <a:lnTo>
                  <a:pt x="2470812" y="1033461"/>
                </a:lnTo>
                <a:lnTo>
                  <a:pt x="2359987" y="1033461"/>
                </a:lnTo>
                <a:lnTo>
                  <a:pt x="2359987" y="922636"/>
                </a:lnTo>
                <a:close/>
                <a:moveTo>
                  <a:pt x="1309178" y="922636"/>
                </a:moveTo>
                <a:lnTo>
                  <a:pt x="1420004" y="922636"/>
                </a:lnTo>
                <a:lnTo>
                  <a:pt x="1420004" y="1033461"/>
                </a:lnTo>
                <a:lnTo>
                  <a:pt x="1309178" y="1033461"/>
                </a:lnTo>
                <a:lnTo>
                  <a:pt x="1309178" y="922636"/>
                </a:lnTo>
                <a:close/>
                <a:moveTo>
                  <a:pt x="258370" y="922636"/>
                </a:moveTo>
                <a:lnTo>
                  <a:pt x="369195" y="922636"/>
                </a:lnTo>
                <a:lnTo>
                  <a:pt x="369195" y="1033461"/>
                </a:lnTo>
                <a:lnTo>
                  <a:pt x="258370" y="1033461"/>
                </a:lnTo>
                <a:lnTo>
                  <a:pt x="258370" y="922636"/>
                </a:lnTo>
                <a:close/>
                <a:moveTo>
                  <a:pt x="4461600" y="922636"/>
                </a:moveTo>
                <a:lnTo>
                  <a:pt x="4572425" y="922636"/>
                </a:lnTo>
                <a:lnTo>
                  <a:pt x="4572425" y="1033461"/>
                </a:lnTo>
                <a:lnTo>
                  <a:pt x="4461600" y="1033461"/>
                </a:lnTo>
                <a:lnTo>
                  <a:pt x="4461600" y="922636"/>
                </a:lnTo>
                <a:close/>
                <a:moveTo>
                  <a:pt x="3410794" y="922636"/>
                </a:moveTo>
                <a:lnTo>
                  <a:pt x="3521620" y="922636"/>
                </a:lnTo>
                <a:lnTo>
                  <a:pt x="3521620" y="1033461"/>
                </a:lnTo>
                <a:lnTo>
                  <a:pt x="3410794" y="1033461"/>
                </a:lnTo>
                <a:lnTo>
                  <a:pt x="3410794" y="922636"/>
                </a:lnTo>
                <a:close/>
                <a:moveTo>
                  <a:pt x="7614024" y="922636"/>
                </a:moveTo>
                <a:lnTo>
                  <a:pt x="7724849" y="922636"/>
                </a:lnTo>
                <a:lnTo>
                  <a:pt x="7724849" y="1033461"/>
                </a:lnTo>
                <a:lnTo>
                  <a:pt x="7614024" y="1033461"/>
                </a:lnTo>
                <a:lnTo>
                  <a:pt x="7614024" y="922636"/>
                </a:lnTo>
                <a:close/>
                <a:moveTo>
                  <a:pt x="6563216" y="922636"/>
                </a:moveTo>
                <a:lnTo>
                  <a:pt x="6674041" y="922636"/>
                </a:lnTo>
                <a:lnTo>
                  <a:pt x="6674041" y="1033461"/>
                </a:lnTo>
                <a:lnTo>
                  <a:pt x="6563216" y="1033461"/>
                </a:lnTo>
                <a:lnTo>
                  <a:pt x="6563216" y="922636"/>
                </a:lnTo>
                <a:close/>
                <a:moveTo>
                  <a:pt x="5512408" y="922636"/>
                </a:moveTo>
                <a:lnTo>
                  <a:pt x="5623233" y="922636"/>
                </a:lnTo>
                <a:lnTo>
                  <a:pt x="5623233" y="1033461"/>
                </a:lnTo>
                <a:lnTo>
                  <a:pt x="5512408" y="1033461"/>
                </a:lnTo>
                <a:lnTo>
                  <a:pt x="5512408" y="922636"/>
                </a:lnTo>
                <a:close/>
                <a:moveTo>
                  <a:pt x="8664832" y="922635"/>
                </a:moveTo>
                <a:lnTo>
                  <a:pt x="8775657" y="922635"/>
                </a:lnTo>
                <a:lnTo>
                  <a:pt x="8775657" y="1033460"/>
                </a:lnTo>
                <a:lnTo>
                  <a:pt x="8664832" y="1033460"/>
                </a:lnTo>
                <a:lnTo>
                  <a:pt x="8664832" y="922635"/>
                </a:lnTo>
                <a:close/>
                <a:moveTo>
                  <a:pt x="1337494" y="510063"/>
                </a:moveTo>
                <a:lnTo>
                  <a:pt x="867064" y="980485"/>
                </a:lnTo>
                <a:lnTo>
                  <a:pt x="1333721" y="1447135"/>
                </a:lnTo>
                <a:lnTo>
                  <a:pt x="1398862" y="1447135"/>
                </a:lnTo>
                <a:lnTo>
                  <a:pt x="1865505" y="980485"/>
                </a:lnTo>
                <a:lnTo>
                  <a:pt x="1395091" y="510063"/>
                </a:lnTo>
                <a:lnTo>
                  <a:pt x="1337494" y="510063"/>
                </a:lnTo>
                <a:close/>
                <a:moveTo>
                  <a:pt x="2388172" y="510063"/>
                </a:moveTo>
                <a:lnTo>
                  <a:pt x="1917749" y="980485"/>
                </a:lnTo>
                <a:lnTo>
                  <a:pt x="2384400" y="1447135"/>
                </a:lnTo>
                <a:lnTo>
                  <a:pt x="2449540" y="1447135"/>
                </a:lnTo>
                <a:lnTo>
                  <a:pt x="2916188" y="980485"/>
                </a:lnTo>
                <a:lnTo>
                  <a:pt x="2445768" y="510063"/>
                </a:lnTo>
                <a:lnTo>
                  <a:pt x="2388172" y="510063"/>
                </a:lnTo>
                <a:close/>
                <a:moveTo>
                  <a:pt x="3438854" y="510063"/>
                </a:moveTo>
                <a:lnTo>
                  <a:pt x="2968432" y="980485"/>
                </a:lnTo>
                <a:lnTo>
                  <a:pt x="3435082" y="1447134"/>
                </a:lnTo>
                <a:lnTo>
                  <a:pt x="3500221" y="1447134"/>
                </a:lnTo>
                <a:lnTo>
                  <a:pt x="3966871" y="980485"/>
                </a:lnTo>
                <a:lnTo>
                  <a:pt x="3496446" y="510063"/>
                </a:lnTo>
                <a:lnTo>
                  <a:pt x="3438854" y="510063"/>
                </a:lnTo>
                <a:close/>
                <a:moveTo>
                  <a:pt x="4489516" y="510063"/>
                </a:moveTo>
                <a:lnTo>
                  <a:pt x="4019114" y="980485"/>
                </a:lnTo>
                <a:lnTo>
                  <a:pt x="4485745" y="1447134"/>
                </a:lnTo>
                <a:lnTo>
                  <a:pt x="4550885" y="1447134"/>
                </a:lnTo>
                <a:lnTo>
                  <a:pt x="5017536" y="980482"/>
                </a:lnTo>
                <a:lnTo>
                  <a:pt x="4547117" y="510063"/>
                </a:lnTo>
                <a:lnTo>
                  <a:pt x="4489516" y="510063"/>
                </a:lnTo>
                <a:close/>
                <a:moveTo>
                  <a:pt x="5540197" y="510063"/>
                </a:moveTo>
                <a:lnTo>
                  <a:pt x="5069779" y="980483"/>
                </a:lnTo>
                <a:lnTo>
                  <a:pt x="5536430" y="1447134"/>
                </a:lnTo>
                <a:lnTo>
                  <a:pt x="5601565" y="1447134"/>
                </a:lnTo>
                <a:lnTo>
                  <a:pt x="6068214" y="980484"/>
                </a:lnTo>
                <a:lnTo>
                  <a:pt x="5597794" y="510063"/>
                </a:lnTo>
                <a:lnTo>
                  <a:pt x="5540197" y="510063"/>
                </a:lnTo>
                <a:close/>
                <a:moveTo>
                  <a:pt x="6590878" y="510062"/>
                </a:moveTo>
                <a:lnTo>
                  <a:pt x="6120457" y="980484"/>
                </a:lnTo>
                <a:lnTo>
                  <a:pt x="6587106" y="1447134"/>
                </a:lnTo>
                <a:lnTo>
                  <a:pt x="6652247" y="1447134"/>
                </a:lnTo>
                <a:lnTo>
                  <a:pt x="7118898" y="980483"/>
                </a:lnTo>
                <a:lnTo>
                  <a:pt x="6648479" y="510062"/>
                </a:lnTo>
                <a:lnTo>
                  <a:pt x="6590878" y="510062"/>
                </a:lnTo>
                <a:close/>
                <a:moveTo>
                  <a:pt x="7641560" y="510062"/>
                </a:moveTo>
                <a:lnTo>
                  <a:pt x="7171142" y="980482"/>
                </a:lnTo>
                <a:lnTo>
                  <a:pt x="7637793" y="1447134"/>
                </a:lnTo>
                <a:lnTo>
                  <a:pt x="7702929" y="1447134"/>
                </a:lnTo>
                <a:lnTo>
                  <a:pt x="8169579" y="980483"/>
                </a:lnTo>
                <a:lnTo>
                  <a:pt x="7699160" y="510062"/>
                </a:lnTo>
                <a:lnTo>
                  <a:pt x="7641560" y="510062"/>
                </a:lnTo>
                <a:close/>
                <a:moveTo>
                  <a:pt x="783785" y="399238"/>
                </a:moveTo>
                <a:lnTo>
                  <a:pt x="894609" y="399238"/>
                </a:lnTo>
                <a:lnTo>
                  <a:pt x="894609" y="510063"/>
                </a:lnTo>
                <a:lnTo>
                  <a:pt x="783785" y="510063"/>
                </a:lnTo>
                <a:lnTo>
                  <a:pt x="783785" y="399238"/>
                </a:lnTo>
                <a:close/>
                <a:moveTo>
                  <a:pt x="1834594" y="399238"/>
                </a:moveTo>
                <a:lnTo>
                  <a:pt x="1945420" y="399238"/>
                </a:lnTo>
                <a:lnTo>
                  <a:pt x="1945420" y="510063"/>
                </a:lnTo>
                <a:lnTo>
                  <a:pt x="1834594" y="510063"/>
                </a:lnTo>
                <a:lnTo>
                  <a:pt x="1834594" y="399238"/>
                </a:lnTo>
                <a:close/>
                <a:moveTo>
                  <a:pt x="3936212" y="399238"/>
                </a:moveTo>
                <a:lnTo>
                  <a:pt x="4047037" y="399238"/>
                </a:lnTo>
                <a:lnTo>
                  <a:pt x="4047037" y="510063"/>
                </a:lnTo>
                <a:lnTo>
                  <a:pt x="3936212" y="510063"/>
                </a:lnTo>
                <a:lnTo>
                  <a:pt x="3936212" y="399238"/>
                </a:lnTo>
                <a:close/>
                <a:moveTo>
                  <a:pt x="2885405" y="399238"/>
                </a:moveTo>
                <a:lnTo>
                  <a:pt x="2996229" y="399238"/>
                </a:lnTo>
                <a:lnTo>
                  <a:pt x="2996229" y="510063"/>
                </a:lnTo>
                <a:lnTo>
                  <a:pt x="2885405" y="510063"/>
                </a:lnTo>
                <a:lnTo>
                  <a:pt x="2885405" y="399238"/>
                </a:lnTo>
                <a:close/>
                <a:moveTo>
                  <a:pt x="4987004" y="399238"/>
                </a:moveTo>
                <a:lnTo>
                  <a:pt x="5097829" y="399238"/>
                </a:lnTo>
                <a:lnTo>
                  <a:pt x="5097829" y="510063"/>
                </a:lnTo>
                <a:lnTo>
                  <a:pt x="4987004" y="510063"/>
                </a:lnTo>
                <a:lnTo>
                  <a:pt x="4987004" y="399238"/>
                </a:lnTo>
                <a:close/>
                <a:moveTo>
                  <a:pt x="6037812" y="399238"/>
                </a:moveTo>
                <a:lnTo>
                  <a:pt x="6148637" y="399238"/>
                </a:lnTo>
                <a:lnTo>
                  <a:pt x="6148637" y="510062"/>
                </a:lnTo>
                <a:lnTo>
                  <a:pt x="6037812" y="510062"/>
                </a:lnTo>
                <a:lnTo>
                  <a:pt x="6037812" y="399238"/>
                </a:lnTo>
                <a:close/>
                <a:moveTo>
                  <a:pt x="7088620" y="399237"/>
                </a:moveTo>
                <a:lnTo>
                  <a:pt x="7199445" y="399237"/>
                </a:lnTo>
                <a:lnTo>
                  <a:pt x="7199445" y="510062"/>
                </a:lnTo>
                <a:lnTo>
                  <a:pt x="7088620" y="510062"/>
                </a:lnTo>
                <a:lnTo>
                  <a:pt x="7088620" y="399237"/>
                </a:lnTo>
                <a:close/>
                <a:moveTo>
                  <a:pt x="8139428" y="399237"/>
                </a:moveTo>
                <a:lnTo>
                  <a:pt x="8250253" y="399237"/>
                </a:lnTo>
                <a:lnTo>
                  <a:pt x="8250253" y="510062"/>
                </a:lnTo>
                <a:lnTo>
                  <a:pt x="8139428" y="510062"/>
                </a:lnTo>
                <a:lnTo>
                  <a:pt x="8139428" y="399237"/>
                </a:lnTo>
                <a:close/>
                <a:moveTo>
                  <a:pt x="6138416" y="0"/>
                </a:moveTo>
                <a:lnTo>
                  <a:pt x="6190660" y="0"/>
                </a:lnTo>
                <a:lnTo>
                  <a:pt x="6589898" y="399238"/>
                </a:lnTo>
                <a:lnTo>
                  <a:pt x="6649459" y="399238"/>
                </a:lnTo>
                <a:lnTo>
                  <a:pt x="7048695" y="2"/>
                </a:lnTo>
                <a:lnTo>
                  <a:pt x="7100939" y="2"/>
                </a:lnTo>
                <a:lnTo>
                  <a:pt x="6674041" y="426899"/>
                </a:lnTo>
                <a:lnTo>
                  <a:pt x="6674041" y="483380"/>
                </a:lnTo>
                <a:lnTo>
                  <a:pt x="7145020" y="954361"/>
                </a:lnTo>
                <a:lnTo>
                  <a:pt x="7614024" y="485355"/>
                </a:lnTo>
                <a:lnTo>
                  <a:pt x="7614024" y="424926"/>
                </a:lnTo>
                <a:lnTo>
                  <a:pt x="7189097" y="1"/>
                </a:lnTo>
                <a:lnTo>
                  <a:pt x="7241340" y="1"/>
                </a:lnTo>
                <a:lnTo>
                  <a:pt x="7640577" y="399237"/>
                </a:lnTo>
                <a:lnTo>
                  <a:pt x="7700142" y="399237"/>
                </a:lnTo>
                <a:lnTo>
                  <a:pt x="8099378" y="1"/>
                </a:lnTo>
                <a:lnTo>
                  <a:pt x="8151622" y="1"/>
                </a:lnTo>
                <a:lnTo>
                  <a:pt x="7724849" y="426774"/>
                </a:lnTo>
                <a:lnTo>
                  <a:pt x="7724849" y="483509"/>
                </a:lnTo>
                <a:lnTo>
                  <a:pt x="8195700" y="954363"/>
                </a:lnTo>
                <a:lnTo>
                  <a:pt x="8664832" y="485228"/>
                </a:lnTo>
                <a:lnTo>
                  <a:pt x="8664832" y="425054"/>
                </a:lnTo>
                <a:lnTo>
                  <a:pt x="8239778" y="1"/>
                </a:lnTo>
                <a:lnTo>
                  <a:pt x="8292022" y="1"/>
                </a:lnTo>
                <a:lnTo>
                  <a:pt x="8691259" y="399237"/>
                </a:lnTo>
                <a:lnTo>
                  <a:pt x="8750823" y="399237"/>
                </a:lnTo>
                <a:lnTo>
                  <a:pt x="9143986" y="6075"/>
                </a:lnTo>
                <a:lnTo>
                  <a:pt x="9143986" y="58319"/>
                </a:lnTo>
                <a:lnTo>
                  <a:pt x="8775657" y="426647"/>
                </a:lnTo>
                <a:lnTo>
                  <a:pt x="8775657" y="483635"/>
                </a:lnTo>
                <a:lnTo>
                  <a:pt x="9143986" y="851966"/>
                </a:lnTo>
                <a:lnTo>
                  <a:pt x="9143986" y="904210"/>
                </a:lnTo>
                <a:lnTo>
                  <a:pt x="8749840" y="510062"/>
                </a:lnTo>
                <a:lnTo>
                  <a:pt x="8692242" y="510062"/>
                </a:lnTo>
                <a:lnTo>
                  <a:pt x="8221822" y="980484"/>
                </a:lnTo>
                <a:lnTo>
                  <a:pt x="8688471" y="1447133"/>
                </a:lnTo>
                <a:lnTo>
                  <a:pt x="8753611" y="1447133"/>
                </a:lnTo>
                <a:lnTo>
                  <a:pt x="9143986" y="1056762"/>
                </a:lnTo>
                <a:lnTo>
                  <a:pt x="9143986" y="1109003"/>
                </a:lnTo>
                <a:lnTo>
                  <a:pt x="8775657" y="1477331"/>
                </a:lnTo>
                <a:lnTo>
                  <a:pt x="8775657" y="1534319"/>
                </a:lnTo>
                <a:lnTo>
                  <a:pt x="9143986" y="1902649"/>
                </a:lnTo>
                <a:lnTo>
                  <a:pt x="9143987" y="1954891"/>
                </a:lnTo>
                <a:lnTo>
                  <a:pt x="8747055" y="1557959"/>
                </a:lnTo>
                <a:lnTo>
                  <a:pt x="8695029" y="1557959"/>
                </a:lnTo>
                <a:lnTo>
                  <a:pt x="8221823" y="2031165"/>
                </a:lnTo>
                <a:lnTo>
                  <a:pt x="8690741" y="2500073"/>
                </a:lnTo>
                <a:lnTo>
                  <a:pt x="8751345" y="2500073"/>
                </a:lnTo>
                <a:lnTo>
                  <a:pt x="9143986" y="2107432"/>
                </a:lnTo>
                <a:lnTo>
                  <a:pt x="9143986" y="2159677"/>
                </a:lnTo>
                <a:lnTo>
                  <a:pt x="8775657" y="2528005"/>
                </a:lnTo>
                <a:lnTo>
                  <a:pt x="8775657" y="2584989"/>
                </a:lnTo>
                <a:lnTo>
                  <a:pt x="9143987" y="2953319"/>
                </a:lnTo>
                <a:lnTo>
                  <a:pt x="9143987" y="3005564"/>
                </a:lnTo>
                <a:lnTo>
                  <a:pt x="8749321" y="2610898"/>
                </a:lnTo>
                <a:lnTo>
                  <a:pt x="8692765" y="2610898"/>
                </a:lnTo>
                <a:lnTo>
                  <a:pt x="8221822" y="3081840"/>
                </a:lnTo>
                <a:lnTo>
                  <a:pt x="8691194" y="3551212"/>
                </a:lnTo>
                <a:lnTo>
                  <a:pt x="8750888" y="3551212"/>
                </a:lnTo>
                <a:lnTo>
                  <a:pt x="9143986" y="3158114"/>
                </a:lnTo>
                <a:lnTo>
                  <a:pt x="9143986" y="3210356"/>
                </a:lnTo>
                <a:lnTo>
                  <a:pt x="8775657" y="3578686"/>
                </a:lnTo>
                <a:lnTo>
                  <a:pt x="8775657" y="3635674"/>
                </a:lnTo>
                <a:lnTo>
                  <a:pt x="9143986" y="4004003"/>
                </a:lnTo>
                <a:lnTo>
                  <a:pt x="9143986" y="4056248"/>
                </a:lnTo>
                <a:lnTo>
                  <a:pt x="8749774" y="3662037"/>
                </a:lnTo>
                <a:lnTo>
                  <a:pt x="8692306" y="3662037"/>
                </a:lnTo>
                <a:lnTo>
                  <a:pt x="8221823" y="4132519"/>
                </a:lnTo>
                <a:lnTo>
                  <a:pt x="8661299" y="4571995"/>
                </a:lnTo>
                <a:lnTo>
                  <a:pt x="8609053" y="4571995"/>
                </a:lnTo>
                <a:lnTo>
                  <a:pt x="8195700" y="4158642"/>
                </a:lnTo>
                <a:lnTo>
                  <a:pt x="7782346" y="4571997"/>
                </a:lnTo>
                <a:lnTo>
                  <a:pt x="7730103" y="4571997"/>
                </a:lnTo>
                <a:lnTo>
                  <a:pt x="8169579" y="4132521"/>
                </a:lnTo>
                <a:lnTo>
                  <a:pt x="7699096" y="3662037"/>
                </a:lnTo>
                <a:lnTo>
                  <a:pt x="7641624" y="3662037"/>
                </a:lnTo>
                <a:lnTo>
                  <a:pt x="7171140" y="4132521"/>
                </a:lnTo>
                <a:lnTo>
                  <a:pt x="7610615" y="4571996"/>
                </a:lnTo>
                <a:lnTo>
                  <a:pt x="7558371" y="4571996"/>
                </a:lnTo>
                <a:lnTo>
                  <a:pt x="7145018" y="4158643"/>
                </a:lnTo>
                <a:lnTo>
                  <a:pt x="6731665" y="4571996"/>
                </a:lnTo>
                <a:lnTo>
                  <a:pt x="6679421" y="4571997"/>
                </a:lnTo>
                <a:lnTo>
                  <a:pt x="7118896" y="4132521"/>
                </a:lnTo>
                <a:lnTo>
                  <a:pt x="6648412" y="3662037"/>
                </a:lnTo>
                <a:lnTo>
                  <a:pt x="6590942" y="3662037"/>
                </a:lnTo>
                <a:lnTo>
                  <a:pt x="6120458" y="4132521"/>
                </a:lnTo>
                <a:lnTo>
                  <a:pt x="6559933" y="4571996"/>
                </a:lnTo>
                <a:lnTo>
                  <a:pt x="6507689" y="4571996"/>
                </a:lnTo>
                <a:lnTo>
                  <a:pt x="6094336" y="4158643"/>
                </a:lnTo>
                <a:lnTo>
                  <a:pt x="5680986" y="4571994"/>
                </a:lnTo>
                <a:lnTo>
                  <a:pt x="5628742" y="4571994"/>
                </a:lnTo>
                <a:lnTo>
                  <a:pt x="6068215" y="4132521"/>
                </a:lnTo>
                <a:lnTo>
                  <a:pt x="5597730" y="3662037"/>
                </a:lnTo>
                <a:lnTo>
                  <a:pt x="5540260" y="3662037"/>
                </a:lnTo>
                <a:lnTo>
                  <a:pt x="5069776" y="4132521"/>
                </a:lnTo>
                <a:lnTo>
                  <a:pt x="5509251" y="4571996"/>
                </a:lnTo>
                <a:lnTo>
                  <a:pt x="5457007" y="4571996"/>
                </a:lnTo>
                <a:lnTo>
                  <a:pt x="5043654" y="4158643"/>
                </a:lnTo>
                <a:lnTo>
                  <a:pt x="4630302" y="4571995"/>
                </a:lnTo>
                <a:lnTo>
                  <a:pt x="4578058" y="4571995"/>
                </a:lnTo>
                <a:lnTo>
                  <a:pt x="5017532" y="4132521"/>
                </a:lnTo>
                <a:lnTo>
                  <a:pt x="4547048" y="3662037"/>
                </a:lnTo>
                <a:lnTo>
                  <a:pt x="4489581" y="3662037"/>
                </a:lnTo>
                <a:lnTo>
                  <a:pt x="4019114" y="4132522"/>
                </a:lnTo>
                <a:lnTo>
                  <a:pt x="4458569" y="4571996"/>
                </a:lnTo>
                <a:lnTo>
                  <a:pt x="4406325" y="4571996"/>
                </a:lnTo>
                <a:lnTo>
                  <a:pt x="3992992" y="4158644"/>
                </a:lnTo>
                <a:lnTo>
                  <a:pt x="3579640" y="4571995"/>
                </a:lnTo>
                <a:lnTo>
                  <a:pt x="3527396" y="4571995"/>
                </a:lnTo>
                <a:lnTo>
                  <a:pt x="3966870" y="4132522"/>
                </a:lnTo>
                <a:lnTo>
                  <a:pt x="3496383" y="3662037"/>
                </a:lnTo>
                <a:lnTo>
                  <a:pt x="3438916" y="3662037"/>
                </a:lnTo>
                <a:lnTo>
                  <a:pt x="2968432" y="4132520"/>
                </a:lnTo>
                <a:lnTo>
                  <a:pt x="3407909" y="4571995"/>
                </a:lnTo>
                <a:lnTo>
                  <a:pt x="3355664" y="4571995"/>
                </a:lnTo>
                <a:lnTo>
                  <a:pt x="2942310" y="4158642"/>
                </a:lnTo>
                <a:lnTo>
                  <a:pt x="2528960" y="4571994"/>
                </a:lnTo>
                <a:lnTo>
                  <a:pt x="2476716" y="4571994"/>
                </a:lnTo>
                <a:lnTo>
                  <a:pt x="2916189" y="4132521"/>
                </a:lnTo>
                <a:lnTo>
                  <a:pt x="2445706" y="3662037"/>
                </a:lnTo>
                <a:lnTo>
                  <a:pt x="2388237" y="3662037"/>
                </a:lnTo>
                <a:lnTo>
                  <a:pt x="1917750" y="4132522"/>
                </a:lnTo>
                <a:lnTo>
                  <a:pt x="2357226" y="4571995"/>
                </a:lnTo>
                <a:lnTo>
                  <a:pt x="2304983" y="4571996"/>
                </a:lnTo>
                <a:lnTo>
                  <a:pt x="1891628" y="4158644"/>
                </a:lnTo>
                <a:lnTo>
                  <a:pt x="1478287" y="4571994"/>
                </a:lnTo>
                <a:lnTo>
                  <a:pt x="1426043" y="4571994"/>
                </a:lnTo>
                <a:lnTo>
                  <a:pt x="1865506" y="4132522"/>
                </a:lnTo>
                <a:lnTo>
                  <a:pt x="1395028" y="3662037"/>
                </a:lnTo>
                <a:lnTo>
                  <a:pt x="1337560" y="3662037"/>
                </a:lnTo>
                <a:lnTo>
                  <a:pt x="867065" y="4132523"/>
                </a:lnTo>
                <a:lnTo>
                  <a:pt x="1306545" y="4571995"/>
                </a:lnTo>
                <a:lnTo>
                  <a:pt x="1254301" y="4571995"/>
                </a:lnTo>
                <a:lnTo>
                  <a:pt x="840943" y="4158645"/>
                </a:lnTo>
                <a:lnTo>
                  <a:pt x="427592" y="4571996"/>
                </a:lnTo>
                <a:lnTo>
                  <a:pt x="375348" y="4571996"/>
                </a:lnTo>
                <a:lnTo>
                  <a:pt x="814821" y="4132522"/>
                </a:lnTo>
                <a:lnTo>
                  <a:pt x="344336" y="3662037"/>
                </a:lnTo>
                <a:lnTo>
                  <a:pt x="286868" y="3662037"/>
                </a:lnTo>
                <a:lnTo>
                  <a:pt x="2" y="3948903"/>
                </a:lnTo>
                <a:lnTo>
                  <a:pt x="2" y="3896659"/>
                </a:lnTo>
                <a:lnTo>
                  <a:pt x="258375" y="3638287"/>
                </a:lnTo>
                <a:lnTo>
                  <a:pt x="258375" y="3576075"/>
                </a:lnTo>
                <a:lnTo>
                  <a:pt x="1" y="3317701"/>
                </a:lnTo>
                <a:lnTo>
                  <a:pt x="1" y="3265457"/>
                </a:lnTo>
                <a:lnTo>
                  <a:pt x="285755" y="3551212"/>
                </a:lnTo>
                <a:lnTo>
                  <a:pt x="345449" y="3551212"/>
                </a:lnTo>
                <a:lnTo>
                  <a:pt x="814821" y="3081840"/>
                </a:lnTo>
                <a:lnTo>
                  <a:pt x="343879" y="2610898"/>
                </a:lnTo>
                <a:lnTo>
                  <a:pt x="287325" y="2610898"/>
                </a:lnTo>
                <a:lnTo>
                  <a:pt x="4" y="2898220"/>
                </a:lnTo>
                <a:lnTo>
                  <a:pt x="4" y="2845976"/>
                </a:lnTo>
                <a:lnTo>
                  <a:pt x="258377" y="2587602"/>
                </a:lnTo>
                <a:lnTo>
                  <a:pt x="258377" y="2525395"/>
                </a:lnTo>
                <a:lnTo>
                  <a:pt x="1" y="2267018"/>
                </a:lnTo>
                <a:lnTo>
                  <a:pt x="0" y="2214773"/>
                </a:lnTo>
                <a:lnTo>
                  <a:pt x="285299" y="2500073"/>
                </a:lnTo>
                <a:lnTo>
                  <a:pt x="345906" y="2500073"/>
                </a:lnTo>
                <a:lnTo>
                  <a:pt x="814821" y="2031167"/>
                </a:lnTo>
                <a:lnTo>
                  <a:pt x="341615" y="1557960"/>
                </a:lnTo>
                <a:lnTo>
                  <a:pt x="289591" y="1557960"/>
                </a:lnTo>
                <a:lnTo>
                  <a:pt x="1" y="1847551"/>
                </a:lnTo>
                <a:lnTo>
                  <a:pt x="1" y="1795307"/>
                </a:lnTo>
                <a:lnTo>
                  <a:pt x="258379" y="1536928"/>
                </a:lnTo>
                <a:lnTo>
                  <a:pt x="258379" y="1474723"/>
                </a:lnTo>
                <a:lnTo>
                  <a:pt x="1" y="1216345"/>
                </a:lnTo>
                <a:lnTo>
                  <a:pt x="1" y="1164102"/>
                </a:lnTo>
                <a:lnTo>
                  <a:pt x="283034" y="1447135"/>
                </a:lnTo>
                <a:lnTo>
                  <a:pt x="348172" y="1447135"/>
                </a:lnTo>
                <a:lnTo>
                  <a:pt x="814820" y="980485"/>
                </a:lnTo>
                <a:lnTo>
                  <a:pt x="344400" y="510063"/>
                </a:lnTo>
                <a:lnTo>
                  <a:pt x="286802" y="510063"/>
                </a:lnTo>
                <a:lnTo>
                  <a:pt x="2" y="796868"/>
                </a:lnTo>
                <a:lnTo>
                  <a:pt x="2" y="744627"/>
                </a:lnTo>
                <a:lnTo>
                  <a:pt x="258382" y="486240"/>
                </a:lnTo>
                <a:lnTo>
                  <a:pt x="258382" y="424044"/>
                </a:lnTo>
                <a:lnTo>
                  <a:pt x="2" y="165665"/>
                </a:lnTo>
                <a:lnTo>
                  <a:pt x="2" y="113421"/>
                </a:lnTo>
                <a:lnTo>
                  <a:pt x="285819" y="399238"/>
                </a:lnTo>
                <a:lnTo>
                  <a:pt x="345383" y="399238"/>
                </a:lnTo>
                <a:lnTo>
                  <a:pt x="744619" y="2"/>
                </a:lnTo>
                <a:lnTo>
                  <a:pt x="796863" y="2"/>
                </a:lnTo>
                <a:lnTo>
                  <a:pt x="369206" y="427659"/>
                </a:lnTo>
                <a:lnTo>
                  <a:pt x="369206" y="482625"/>
                </a:lnTo>
                <a:lnTo>
                  <a:pt x="840942" y="954363"/>
                </a:lnTo>
                <a:lnTo>
                  <a:pt x="1309198" y="486115"/>
                </a:lnTo>
                <a:lnTo>
                  <a:pt x="1309198" y="424170"/>
                </a:lnTo>
                <a:lnTo>
                  <a:pt x="885018" y="1"/>
                </a:lnTo>
                <a:lnTo>
                  <a:pt x="937262" y="1"/>
                </a:lnTo>
                <a:lnTo>
                  <a:pt x="1336510" y="399238"/>
                </a:lnTo>
                <a:lnTo>
                  <a:pt x="1396075" y="399238"/>
                </a:lnTo>
                <a:lnTo>
                  <a:pt x="1795305" y="3"/>
                </a:lnTo>
                <a:lnTo>
                  <a:pt x="1847547" y="3"/>
                </a:lnTo>
                <a:lnTo>
                  <a:pt x="1420024" y="427535"/>
                </a:lnTo>
                <a:lnTo>
                  <a:pt x="1420024" y="482750"/>
                </a:lnTo>
                <a:lnTo>
                  <a:pt x="1891628" y="954364"/>
                </a:lnTo>
                <a:lnTo>
                  <a:pt x="2360002" y="485990"/>
                </a:lnTo>
                <a:lnTo>
                  <a:pt x="2360002" y="424295"/>
                </a:lnTo>
                <a:lnTo>
                  <a:pt x="1935703" y="1"/>
                </a:lnTo>
                <a:lnTo>
                  <a:pt x="1987946" y="1"/>
                </a:lnTo>
                <a:lnTo>
                  <a:pt x="2387188" y="399238"/>
                </a:lnTo>
                <a:lnTo>
                  <a:pt x="2446753" y="399238"/>
                </a:lnTo>
                <a:lnTo>
                  <a:pt x="2845989" y="2"/>
                </a:lnTo>
                <a:lnTo>
                  <a:pt x="2898233" y="2"/>
                </a:lnTo>
                <a:lnTo>
                  <a:pt x="2470826" y="427409"/>
                </a:lnTo>
                <a:lnTo>
                  <a:pt x="2470826" y="482876"/>
                </a:lnTo>
                <a:lnTo>
                  <a:pt x="2942310" y="954364"/>
                </a:lnTo>
                <a:lnTo>
                  <a:pt x="3410810" y="485864"/>
                </a:lnTo>
                <a:lnTo>
                  <a:pt x="3410810" y="424421"/>
                </a:lnTo>
                <a:lnTo>
                  <a:pt x="2986387" y="1"/>
                </a:lnTo>
                <a:lnTo>
                  <a:pt x="3038634" y="1"/>
                </a:lnTo>
                <a:lnTo>
                  <a:pt x="3437870" y="399238"/>
                </a:lnTo>
                <a:lnTo>
                  <a:pt x="3497432" y="399238"/>
                </a:lnTo>
                <a:lnTo>
                  <a:pt x="3896671" y="2"/>
                </a:lnTo>
                <a:lnTo>
                  <a:pt x="3948916" y="2"/>
                </a:lnTo>
                <a:lnTo>
                  <a:pt x="3521633" y="427284"/>
                </a:lnTo>
                <a:lnTo>
                  <a:pt x="3521633" y="483002"/>
                </a:lnTo>
                <a:lnTo>
                  <a:pt x="3992992" y="954363"/>
                </a:lnTo>
                <a:lnTo>
                  <a:pt x="4461600" y="485736"/>
                </a:lnTo>
                <a:lnTo>
                  <a:pt x="4461600" y="424545"/>
                </a:lnTo>
                <a:lnTo>
                  <a:pt x="4037073" y="1"/>
                </a:lnTo>
                <a:lnTo>
                  <a:pt x="4089316" y="1"/>
                </a:lnTo>
                <a:lnTo>
                  <a:pt x="4488536" y="399238"/>
                </a:lnTo>
                <a:lnTo>
                  <a:pt x="4548098" y="399238"/>
                </a:lnTo>
                <a:lnTo>
                  <a:pt x="4947332" y="4"/>
                </a:lnTo>
                <a:lnTo>
                  <a:pt x="4999576" y="4"/>
                </a:lnTo>
                <a:lnTo>
                  <a:pt x="4572425" y="427154"/>
                </a:lnTo>
                <a:lnTo>
                  <a:pt x="4572425" y="483127"/>
                </a:lnTo>
                <a:lnTo>
                  <a:pt x="5043657" y="954361"/>
                </a:lnTo>
                <a:lnTo>
                  <a:pt x="5512408" y="485609"/>
                </a:lnTo>
                <a:lnTo>
                  <a:pt x="5512408" y="424676"/>
                </a:lnTo>
                <a:lnTo>
                  <a:pt x="5087732" y="1"/>
                </a:lnTo>
                <a:lnTo>
                  <a:pt x="5139975" y="1"/>
                </a:lnTo>
                <a:lnTo>
                  <a:pt x="5539212" y="399238"/>
                </a:lnTo>
                <a:lnTo>
                  <a:pt x="5598779" y="399238"/>
                </a:lnTo>
                <a:lnTo>
                  <a:pt x="5998015" y="2"/>
                </a:lnTo>
                <a:lnTo>
                  <a:pt x="6050259" y="2"/>
                </a:lnTo>
                <a:lnTo>
                  <a:pt x="5623233" y="427027"/>
                </a:lnTo>
                <a:lnTo>
                  <a:pt x="5623233" y="483258"/>
                </a:lnTo>
                <a:lnTo>
                  <a:pt x="6094336" y="954363"/>
                </a:lnTo>
                <a:lnTo>
                  <a:pt x="6563216" y="485481"/>
                </a:lnTo>
                <a:lnTo>
                  <a:pt x="6563216" y="424799"/>
                </a:lnTo>
                <a:lnTo>
                  <a:pt x="613841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89"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0d0d"/>
                </a:solidFill>
                <a:latin typeface="Tw Cen MT Condensed"/>
              </a:rPr>
              <a:t>Click to edit the title text format</a:t>
            </a:r>
            <a:endParaRPr b="0" lang="en-US" sz="4400" spc="-1" strike="noStrike">
              <a:solidFill>
                <a:srgbClr val="0d0d0d"/>
              </a:solidFill>
              <a:latin typeface="Tw Cen MT Condensed"/>
            </a:endParaRPr>
          </a:p>
        </p:txBody>
      </p:sp>
      <p:sp>
        <p:nvSpPr>
          <p:cNvPr id="90" name="PlaceHolder 2"/>
          <p:cNvSpPr>
            <a:spLocks noGrp="1"/>
          </p:cNvSpPr>
          <p:nvPr>
            <p:ph type="body"/>
          </p:nvPr>
        </p:nvSpPr>
        <p:spPr>
          <a:xfrm>
            <a:off x="768240" y="2286000"/>
            <a:ext cx="7290000" cy="4022640"/>
          </a:xfrm>
          <a:prstGeom prst="rect">
            <a:avLst/>
          </a:prstGeom>
          <a:noFill/>
          <a:ln w="0">
            <a:noFill/>
          </a:ln>
        </p:spPr>
        <p:txBody>
          <a:bodyPr lIns="45720" rIns="45720" tIns="46800" bIns="46800" anchor="t">
            <a:normAutofit/>
          </a:bodyPr>
          <a:p>
            <a:pPr marL="90360" indent="-90360">
              <a:lnSpc>
                <a:spcPct val="90000"/>
              </a:lnSpc>
              <a:spcBef>
                <a:spcPts val="1199"/>
              </a:spcBef>
              <a:spcAft>
                <a:spcPts val="201"/>
              </a:spcAft>
              <a:buClr>
                <a:srgbClr val="c66951"/>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264960" indent="-136440">
              <a:lnSpc>
                <a:spcPct val="90000"/>
              </a:lnSpc>
              <a:spcBef>
                <a:spcPts val="1199"/>
              </a:spcBef>
              <a:spcAft>
                <a:spcPts val="201"/>
              </a:spcAft>
              <a:buClr>
                <a:srgbClr val="c669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447840" indent="-136800">
              <a:lnSpc>
                <a:spcPct val="90000"/>
              </a:lnSpc>
              <a:spcBef>
                <a:spcPts val="1199"/>
              </a:spcBef>
              <a:spcAft>
                <a:spcPts val="201"/>
              </a:spcAft>
              <a:buClr>
                <a:srgbClr val="c669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593640" indent="-136440">
              <a:lnSpc>
                <a:spcPct val="90000"/>
              </a:lnSpc>
              <a:spcBef>
                <a:spcPts val="1199"/>
              </a:spcBef>
              <a:spcAft>
                <a:spcPts val="201"/>
              </a:spcAft>
              <a:buClr>
                <a:srgbClr val="c669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776160" indent="-136440">
              <a:lnSpc>
                <a:spcPct val="90000"/>
              </a:lnSpc>
              <a:spcBef>
                <a:spcPts val="1199"/>
              </a:spcBef>
              <a:spcAft>
                <a:spcPts val="201"/>
              </a:spcAft>
              <a:buClr>
                <a:srgbClr val="c669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91" name="PlaceHolder 3"/>
          <p:cNvSpPr>
            <a:spLocks noGrp="1"/>
          </p:cNvSpPr>
          <p:nvPr>
            <p:ph type="dt" idx="7"/>
          </p:nvPr>
        </p:nvSpPr>
        <p:spPr>
          <a:xfrm>
            <a:off x="767880" y="6470280"/>
            <a:ext cx="1616040" cy="2746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92" name="PlaceHolder 4"/>
          <p:cNvSpPr>
            <a:spLocks noGrp="1"/>
          </p:cNvSpPr>
          <p:nvPr>
            <p:ph type="ftr" idx="8"/>
          </p:nvPr>
        </p:nvSpPr>
        <p:spPr>
          <a:xfrm>
            <a:off x="3631680" y="6470280"/>
            <a:ext cx="4426200" cy="2746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93" name="PlaceHolder 5"/>
          <p:cNvSpPr>
            <a:spLocks noGrp="1"/>
          </p:cNvSpPr>
          <p:nvPr>
            <p:ph type="sldNum" idx="9"/>
          </p:nvPr>
        </p:nvSpPr>
        <p:spPr>
          <a:xfrm>
            <a:off x="8128080" y="6470280"/>
            <a:ext cx="730080" cy="27468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d0d0d"/>
                </a:solidFill>
                <a:latin typeface="Tw Cen MT Condensed"/>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051D7E2-9C64-46FE-BD9F-D54778254D38}" type="slidenum">
              <a:rPr b="0" lang="en-US" sz="1000" spc="-1" strike="noStrike">
                <a:solidFill>
                  <a:srgbClr val="0d0d0d"/>
                </a:solidFill>
                <a:latin typeface="Tw Cen MT Condensed"/>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0d0d"/>
                </a:solidFill>
                <a:latin typeface="Tw Cen MT Condensed"/>
              </a:rPr>
              <a:t>Click to edit the title text format</a:t>
            </a:r>
            <a:endParaRPr b="0" lang="en-US" sz="4400" spc="-1" strike="noStrike">
              <a:solidFill>
                <a:srgbClr val="0d0d0d"/>
              </a:solidFill>
              <a:latin typeface="Tw Cen MT Condensed"/>
            </a:endParaRPr>
          </a:p>
        </p:txBody>
      </p:sp>
      <p:sp>
        <p:nvSpPr>
          <p:cNvPr id="131" name="PlaceHolder 2"/>
          <p:cNvSpPr>
            <a:spLocks noGrp="1"/>
          </p:cNvSpPr>
          <p:nvPr>
            <p:ph type="body"/>
          </p:nvPr>
        </p:nvSpPr>
        <p:spPr>
          <a:xfrm>
            <a:off x="768240" y="2286000"/>
            <a:ext cx="7290000" cy="4022640"/>
          </a:xfrm>
          <a:prstGeom prst="rect">
            <a:avLst/>
          </a:prstGeom>
          <a:noFill/>
          <a:ln w="0">
            <a:noFill/>
          </a:ln>
        </p:spPr>
        <p:txBody>
          <a:bodyPr lIns="45720" rIns="45720" tIns="46800" bIns="46800" anchor="t">
            <a:normAutofit/>
          </a:bodyPr>
          <a:p>
            <a:pPr marL="90360" indent="-90360">
              <a:lnSpc>
                <a:spcPct val="90000"/>
              </a:lnSpc>
              <a:spcBef>
                <a:spcPts val="1199"/>
              </a:spcBef>
              <a:spcAft>
                <a:spcPts val="201"/>
              </a:spcAft>
              <a:buClr>
                <a:srgbClr val="c66951"/>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264960" indent="-136440">
              <a:lnSpc>
                <a:spcPct val="90000"/>
              </a:lnSpc>
              <a:spcBef>
                <a:spcPts val="1199"/>
              </a:spcBef>
              <a:spcAft>
                <a:spcPts val="201"/>
              </a:spcAft>
              <a:buClr>
                <a:srgbClr val="c669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447840" indent="-136800">
              <a:lnSpc>
                <a:spcPct val="90000"/>
              </a:lnSpc>
              <a:spcBef>
                <a:spcPts val="1199"/>
              </a:spcBef>
              <a:spcAft>
                <a:spcPts val="201"/>
              </a:spcAft>
              <a:buClr>
                <a:srgbClr val="c669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593640" indent="-136440">
              <a:lnSpc>
                <a:spcPct val="90000"/>
              </a:lnSpc>
              <a:spcBef>
                <a:spcPts val="1199"/>
              </a:spcBef>
              <a:spcAft>
                <a:spcPts val="201"/>
              </a:spcAft>
              <a:buClr>
                <a:srgbClr val="c669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776160" indent="-136440">
              <a:lnSpc>
                <a:spcPct val="90000"/>
              </a:lnSpc>
              <a:spcBef>
                <a:spcPts val="1199"/>
              </a:spcBef>
              <a:spcAft>
                <a:spcPts val="201"/>
              </a:spcAft>
              <a:buClr>
                <a:srgbClr val="c669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132" name="PlaceHolder 3"/>
          <p:cNvSpPr>
            <a:spLocks noGrp="1"/>
          </p:cNvSpPr>
          <p:nvPr>
            <p:ph type="dt" idx="10"/>
          </p:nvPr>
        </p:nvSpPr>
        <p:spPr>
          <a:xfrm>
            <a:off x="767880" y="6470280"/>
            <a:ext cx="1616040" cy="2746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133" name="PlaceHolder 4"/>
          <p:cNvSpPr>
            <a:spLocks noGrp="1"/>
          </p:cNvSpPr>
          <p:nvPr>
            <p:ph type="ftr" idx="11"/>
          </p:nvPr>
        </p:nvSpPr>
        <p:spPr>
          <a:xfrm>
            <a:off x="3631680" y="6470280"/>
            <a:ext cx="4426200" cy="2746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134" name="PlaceHolder 5"/>
          <p:cNvSpPr>
            <a:spLocks noGrp="1"/>
          </p:cNvSpPr>
          <p:nvPr>
            <p:ph type="sldNum" idx="12"/>
          </p:nvPr>
        </p:nvSpPr>
        <p:spPr>
          <a:xfrm>
            <a:off x="8128080" y="6470280"/>
            <a:ext cx="730080" cy="27468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d0d0d"/>
                </a:solidFill>
                <a:latin typeface="Tw Cen MT Condensed"/>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B79FBB5-E292-40CD-AAC9-E64BD3C0B70B}" type="slidenum">
              <a:rPr b="0" lang="en-US" sz="1000" spc="-1" strike="noStrike">
                <a:solidFill>
                  <a:srgbClr val="0d0d0d"/>
                </a:solidFill>
                <a:latin typeface="Tw Cen MT Condensed"/>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Straight Connector 7"/>
          <p:cNvSpPr/>
          <p:nvPr/>
        </p:nvSpPr>
        <p:spPr>
          <a:xfrm flipV="1">
            <a:off x="6289560" y="5264280"/>
            <a:ext cx="0" cy="914400"/>
          </a:xfrm>
          <a:prstGeom prst="line">
            <a:avLst/>
          </a:prstGeom>
          <a:ln w="19080">
            <a:solidFill>
              <a:srgbClr val="c6695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172"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0d0d"/>
                </a:solidFill>
                <a:latin typeface="Tw Cen MT Condensed"/>
              </a:rPr>
              <a:t>Click to edit the title text format</a:t>
            </a:r>
            <a:endParaRPr b="0" lang="en-US" sz="4400" spc="-1" strike="noStrike">
              <a:solidFill>
                <a:srgbClr val="0d0d0d"/>
              </a:solidFill>
              <a:latin typeface="Tw Cen MT Condensed"/>
            </a:endParaRPr>
          </a:p>
        </p:txBody>
      </p:sp>
      <p:sp>
        <p:nvSpPr>
          <p:cNvPr id="173" name="PlaceHolder 2"/>
          <p:cNvSpPr>
            <a:spLocks noGrp="1"/>
          </p:cNvSpPr>
          <p:nvPr>
            <p:ph type="body"/>
          </p:nvPr>
        </p:nvSpPr>
        <p:spPr>
          <a:xfrm>
            <a:off x="768240" y="2286000"/>
            <a:ext cx="7290000" cy="4022640"/>
          </a:xfrm>
          <a:prstGeom prst="rect">
            <a:avLst/>
          </a:prstGeom>
          <a:noFill/>
          <a:ln w="0">
            <a:noFill/>
          </a:ln>
        </p:spPr>
        <p:txBody>
          <a:bodyPr lIns="45720" rIns="45720" tIns="46800" bIns="46800" anchor="t">
            <a:normAutofit/>
          </a:bodyPr>
          <a:p>
            <a:pPr marL="90360" indent="-90360">
              <a:lnSpc>
                <a:spcPct val="90000"/>
              </a:lnSpc>
              <a:spcBef>
                <a:spcPts val="1199"/>
              </a:spcBef>
              <a:spcAft>
                <a:spcPts val="201"/>
              </a:spcAft>
              <a:buClr>
                <a:srgbClr val="c66951"/>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264960" indent="-136440">
              <a:lnSpc>
                <a:spcPct val="90000"/>
              </a:lnSpc>
              <a:spcBef>
                <a:spcPts val="1199"/>
              </a:spcBef>
              <a:spcAft>
                <a:spcPts val="201"/>
              </a:spcAft>
              <a:buClr>
                <a:srgbClr val="c669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447840" indent="-136800">
              <a:lnSpc>
                <a:spcPct val="90000"/>
              </a:lnSpc>
              <a:spcBef>
                <a:spcPts val="1199"/>
              </a:spcBef>
              <a:spcAft>
                <a:spcPts val="201"/>
              </a:spcAft>
              <a:buClr>
                <a:srgbClr val="c669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593640" indent="-136440">
              <a:lnSpc>
                <a:spcPct val="90000"/>
              </a:lnSpc>
              <a:spcBef>
                <a:spcPts val="1199"/>
              </a:spcBef>
              <a:spcAft>
                <a:spcPts val="201"/>
              </a:spcAft>
              <a:buClr>
                <a:srgbClr val="c669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776160" indent="-136440">
              <a:lnSpc>
                <a:spcPct val="90000"/>
              </a:lnSpc>
              <a:spcBef>
                <a:spcPts val="1199"/>
              </a:spcBef>
              <a:spcAft>
                <a:spcPts val="201"/>
              </a:spcAft>
              <a:buClr>
                <a:srgbClr val="c669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174" name="PlaceHolder 3"/>
          <p:cNvSpPr>
            <a:spLocks noGrp="1"/>
          </p:cNvSpPr>
          <p:nvPr>
            <p:ph type="dt" idx="13"/>
          </p:nvPr>
        </p:nvSpPr>
        <p:spPr>
          <a:xfrm>
            <a:off x="767880" y="6470280"/>
            <a:ext cx="1616040" cy="2746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175" name="PlaceHolder 4"/>
          <p:cNvSpPr>
            <a:spLocks noGrp="1"/>
          </p:cNvSpPr>
          <p:nvPr>
            <p:ph type="ftr" idx="14"/>
          </p:nvPr>
        </p:nvSpPr>
        <p:spPr>
          <a:xfrm>
            <a:off x="3631680" y="6470280"/>
            <a:ext cx="4426200" cy="2746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176" name="PlaceHolder 5"/>
          <p:cNvSpPr>
            <a:spLocks noGrp="1"/>
          </p:cNvSpPr>
          <p:nvPr>
            <p:ph type="sldNum" idx="15"/>
          </p:nvPr>
        </p:nvSpPr>
        <p:spPr>
          <a:xfrm>
            <a:off x="8128080" y="6470280"/>
            <a:ext cx="730080" cy="27468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d0d0d"/>
                </a:solidFill>
                <a:latin typeface="Tw Cen MT Condensed"/>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20367D2-E5D4-4DE3-9D02-C81F6740D5AE}" type="slidenum">
              <a:rPr b="0" lang="en-US" sz="1000" spc="-1" strike="noStrike">
                <a:solidFill>
                  <a:srgbClr val="0d0d0d"/>
                </a:solidFill>
                <a:latin typeface="Tw Cen MT Condensed"/>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Straight Connector 6"/>
          <p:cNvSpPr/>
          <p:nvPr/>
        </p:nvSpPr>
        <p:spPr>
          <a:xfrm>
            <a:off x="7201080" y="515880"/>
            <a:ext cx="685800" cy="0"/>
          </a:xfrm>
          <a:prstGeom prst="line">
            <a:avLst/>
          </a:prstGeom>
          <a:ln w="19080">
            <a:solidFill>
              <a:srgbClr val="c6695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214"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0d0d"/>
                </a:solidFill>
                <a:latin typeface="Tw Cen MT Condensed"/>
              </a:rPr>
              <a:t>Click to edit the title text format</a:t>
            </a:r>
            <a:endParaRPr b="0" lang="en-US" sz="4400" spc="-1" strike="noStrike">
              <a:solidFill>
                <a:srgbClr val="0d0d0d"/>
              </a:solidFill>
              <a:latin typeface="Tw Cen MT Condensed"/>
            </a:endParaRPr>
          </a:p>
        </p:txBody>
      </p:sp>
      <p:sp>
        <p:nvSpPr>
          <p:cNvPr id="215" name="PlaceHolder 2"/>
          <p:cNvSpPr>
            <a:spLocks noGrp="1"/>
          </p:cNvSpPr>
          <p:nvPr>
            <p:ph type="body"/>
          </p:nvPr>
        </p:nvSpPr>
        <p:spPr>
          <a:xfrm>
            <a:off x="768240" y="2286000"/>
            <a:ext cx="7290000" cy="4022640"/>
          </a:xfrm>
          <a:prstGeom prst="rect">
            <a:avLst/>
          </a:prstGeom>
          <a:noFill/>
          <a:ln w="0">
            <a:noFill/>
          </a:ln>
        </p:spPr>
        <p:txBody>
          <a:bodyPr lIns="45720" rIns="45720" tIns="46800" bIns="46800" anchor="t">
            <a:normAutofit/>
          </a:bodyPr>
          <a:p>
            <a:pPr marL="90360" indent="-90360">
              <a:lnSpc>
                <a:spcPct val="90000"/>
              </a:lnSpc>
              <a:spcBef>
                <a:spcPts val="1199"/>
              </a:spcBef>
              <a:spcAft>
                <a:spcPts val="201"/>
              </a:spcAft>
              <a:buClr>
                <a:srgbClr val="c66951"/>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264960" indent="-136440">
              <a:lnSpc>
                <a:spcPct val="90000"/>
              </a:lnSpc>
              <a:spcBef>
                <a:spcPts val="1199"/>
              </a:spcBef>
              <a:spcAft>
                <a:spcPts val="201"/>
              </a:spcAft>
              <a:buClr>
                <a:srgbClr val="c669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447840" indent="-136800">
              <a:lnSpc>
                <a:spcPct val="90000"/>
              </a:lnSpc>
              <a:spcBef>
                <a:spcPts val="1199"/>
              </a:spcBef>
              <a:spcAft>
                <a:spcPts val="201"/>
              </a:spcAft>
              <a:buClr>
                <a:srgbClr val="c669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593640" indent="-136440">
              <a:lnSpc>
                <a:spcPct val="90000"/>
              </a:lnSpc>
              <a:spcBef>
                <a:spcPts val="1199"/>
              </a:spcBef>
              <a:spcAft>
                <a:spcPts val="201"/>
              </a:spcAft>
              <a:buClr>
                <a:srgbClr val="c669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776160" indent="-136440">
              <a:lnSpc>
                <a:spcPct val="90000"/>
              </a:lnSpc>
              <a:spcBef>
                <a:spcPts val="1199"/>
              </a:spcBef>
              <a:spcAft>
                <a:spcPts val="201"/>
              </a:spcAft>
              <a:buClr>
                <a:srgbClr val="c669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216" name="PlaceHolder 3"/>
          <p:cNvSpPr>
            <a:spLocks noGrp="1"/>
          </p:cNvSpPr>
          <p:nvPr>
            <p:ph type="dt" idx="16"/>
          </p:nvPr>
        </p:nvSpPr>
        <p:spPr>
          <a:xfrm>
            <a:off x="767880" y="6470280"/>
            <a:ext cx="1616040" cy="2746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217" name="PlaceHolder 4"/>
          <p:cNvSpPr>
            <a:spLocks noGrp="1"/>
          </p:cNvSpPr>
          <p:nvPr>
            <p:ph type="ftr" idx="17"/>
          </p:nvPr>
        </p:nvSpPr>
        <p:spPr>
          <a:xfrm>
            <a:off x="3631680" y="6470280"/>
            <a:ext cx="4426200" cy="2746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218" name="PlaceHolder 5"/>
          <p:cNvSpPr>
            <a:spLocks noGrp="1"/>
          </p:cNvSpPr>
          <p:nvPr>
            <p:ph type="sldNum" idx="18"/>
          </p:nvPr>
        </p:nvSpPr>
        <p:spPr>
          <a:xfrm>
            <a:off x="8128080" y="6470280"/>
            <a:ext cx="730080" cy="27468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d0d0d"/>
                </a:solidFill>
                <a:latin typeface="Tw Cen MT Condensed"/>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3C2D87D-5A86-4690-8DD8-8EAA1D754CF4}" type="slidenum">
              <a:rPr b="0" lang="en-US" sz="1000" spc="-1" strike="noStrike">
                <a:solidFill>
                  <a:srgbClr val="0d0d0d"/>
                </a:solidFill>
                <a:latin typeface="Tw Cen MT Condensed"/>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Text Box 11"/>
          <p:cNvSpPr/>
          <p:nvPr/>
        </p:nvSpPr>
        <p:spPr>
          <a:xfrm>
            <a:off x="6095880" y="4419720"/>
            <a:ext cx="184320" cy="641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263" name="Text Box 14"/>
          <p:cNvSpPr/>
          <p:nvPr/>
        </p:nvSpPr>
        <p:spPr>
          <a:xfrm>
            <a:off x="611280" y="5105520"/>
            <a:ext cx="6624720" cy="10688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4000" spc="-1" strike="noStrike">
                <a:solidFill>
                  <a:srgbClr val="000000"/>
                </a:solidFill>
                <a:latin typeface="Times New Roman"/>
              </a:rPr>
              <a:t>Zorgen voor veiligheid EHBO </a:t>
            </a:r>
            <a:endParaRPr b="0" lang="en-US" sz="4000" spc="-1" strike="noStrike">
              <a:solidFill>
                <a:srgbClr val="000000"/>
              </a:solidFill>
              <a:latin typeface="Tw Cen MT"/>
            </a:endParaRPr>
          </a:p>
        </p:txBody>
      </p:sp>
      <p:sp>
        <p:nvSpPr>
          <p:cNvPr id="264" name="Text Box 15"/>
          <p:cNvSpPr/>
          <p:nvPr/>
        </p:nvSpPr>
        <p:spPr>
          <a:xfrm>
            <a:off x="5105520" y="510552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768240" y="585360"/>
            <a:ext cx="7290000" cy="149868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d0d0d"/>
                </a:solidFill>
                <a:latin typeface="Tw Cen MT Condensed"/>
              </a:rPr>
              <a:t>WAT IS EERSTE HULP?</a:t>
            </a:r>
            <a:endParaRPr b="0" lang="en-US" sz="4400" spc="-1" strike="noStrike">
              <a:solidFill>
                <a:srgbClr val="0d0d0d"/>
              </a:solidFill>
              <a:latin typeface="Tw Cen MT Condensed"/>
            </a:endParaRPr>
          </a:p>
        </p:txBody>
      </p:sp>
      <p:sp>
        <p:nvSpPr>
          <p:cNvPr id="266" name=""/>
          <p:cNvSpPr txBox="1"/>
          <p:nvPr/>
        </p:nvSpPr>
        <p:spPr>
          <a:xfrm>
            <a:off x="768240" y="2286000"/>
            <a:ext cx="7290000" cy="4022640"/>
          </a:xfrm>
          <a:prstGeom prst="rect">
            <a:avLst/>
          </a:prstGeom>
          <a:noFill/>
          <a:ln w="0">
            <a:noFill/>
          </a:ln>
        </p:spPr>
        <p:txBody>
          <a:bodyPr lIns="45720" rIns="45720" anchor="t">
            <a:normAutofit/>
          </a:bodyPr>
          <a:p>
            <a:pPr marL="90360" indent="-90360">
              <a:lnSpc>
                <a:spcPct val="90000"/>
              </a:lnSpc>
              <a:spcBef>
                <a:spcPts val="1199"/>
              </a:spcBef>
              <a:spcAft>
                <a:spcPts val="201"/>
              </a:spcAft>
              <a:buClr>
                <a:srgbClr val="c66951"/>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Eerste hulp is de noodzakelijke hulp die naar het oordeel van de eerstehulpverlener aan het slachtoffer moet worden verleend op een wijze die aansluit bij de professionele hulpverlening</a:t>
            </a:r>
            <a:endParaRPr b="0" lang="en-US" sz="20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768240" y="585360"/>
            <a:ext cx="7290000" cy="149868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d0d0d"/>
                </a:solidFill>
                <a:latin typeface="Tw Cen MT Condensed"/>
              </a:rPr>
              <a:t>TAAK EERSTE HULP VERLENER </a:t>
            </a:r>
            <a:endParaRPr b="0" lang="en-US" sz="4400" spc="-1" strike="noStrike">
              <a:solidFill>
                <a:srgbClr val="0d0d0d"/>
              </a:solidFill>
              <a:latin typeface="Tw Cen MT Condensed"/>
            </a:endParaRPr>
          </a:p>
        </p:txBody>
      </p:sp>
      <p:sp>
        <p:nvSpPr>
          <p:cNvPr id="268" name=""/>
          <p:cNvSpPr txBox="1"/>
          <p:nvPr/>
        </p:nvSpPr>
        <p:spPr>
          <a:xfrm>
            <a:off x="768240" y="2286000"/>
            <a:ext cx="7290000" cy="4022640"/>
          </a:xfrm>
          <a:prstGeom prst="rect">
            <a:avLst/>
          </a:prstGeom>
          <a:noFill/>
          <a:ln w="0">
            <a:noFill/>
          </a:ln>
        </p:spPr>
        <p:txBody>
          <a:bodyPr lIns="45720" rIns="45720" anchor="t">
            <a:normAutofit/>
          </a:bodyPr>
          <a:p>
            <a:pPr marL="90360" indent="-90360">
              <a:lnSpc>
                <a:spcPct val="90000"/>
              </a:lnSpc>
              <a:spcBef>
                <a:spcPts val="1199"/>
              </a:spcBef>
              <a:spcAft>
                <a:spcPts val="201"/>
              </a:spcAft>
              <a:buClr>
                <a:srgbClr val="c6695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 </a:t>
            </a:r>
            <a:r>
              <a:rPr b="0" lang="nl-NL" sz="2000" spc="-1" strike="noStrike">
                <a:solidFill>
                  <a:srgbClr val="000000"/>
                </a:solidFill>
                <a:latin typeface="Tw Cen MT"/>
              </a:rPr>
              <a:t>Het slachtoffer in leven te houden als diens leven wordt bedreigd</a:t>
            </a:r>
            <a:endParaRPr b="0" lang="en-US" sz="2000" spc="-1" strike="noStrike">
              <a:solidFill>
                <a:srgbClr val="000000"/>
              </a:solidFill>
              <a:latin typeface="Tw Cen MT"/>
            </a:endParaRPr>
          </a:p>
          <a:p>
            <a:pPr marL="90360" indent="-90360">
              <a:lnSpc>
                <a:spcPct val="90000"/>
              </a:lnSpc>
              <a:spcBef>
                <a:spcPts val="1199"/>
              </a:spcBef>
              <a:spcAft>
                <a:spcPts val="201"/>
              </a:spcAft>
              <a:buClr>
                <a:srgbClr val="c6695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 </a:t>
            </a:r>
            <a:r>
              <a:rPr b="0" lang="nl-NL" sz="2000" spc="-1" strike="noStrike">
                <a:solidFill>
                  <a:srgbClr val="000000"/>
                </a:solidFill>
                <a:latin typeface="Tw Cen MT"/>
              </a:rPr>
              <a:t>Te voorkomen dat stoornissen of het letsel van het slachtoffer  </a:t>
            </a:r>
            <a:endParaRPr b="0" lang="en-US" sz="2000" spc="-1" strike="noStrike">
              <a:solidFill>
                <a:srgbClr val="000000"/>
              </a:solidFill>
              <a:latin typeface="Tw Cen MT"/>
            </a:endParaRPr>
          </a:p>
          <a:p>
            <a:pPr marL="90360" indent="-90360">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    </a:t>
            </a:r>
            <a:r>
              <a:rPr b="0" lang="nl-NL" sz="2000" spc="-1" strike="noStrike">
                <a:solidFill>
                  <a:srgbClr val="000000"/>
                </a:solidFill>
                <a:latin typeface="Tw Cen MT"/>
              </a:rPr>
              <a:t>verergert </a:t>
            </a:r>
            <a:endParaRPr b="0" lang="en-US" sz="2000" spc="-1" strike="noStrike">
              <a:solidFill>
                <a:srgbClr val="000000"/>
              </a:solidFill>
              <a:latin typeface="Tw Cen MT"/>
            </a:endParaRPr>
          </a:p>
          <a:p>
            <a:pPr marL="90360" indent="-90360">
              <a:lnSpc>
                <a:spcPct val="90000"/>
              </a:lnSpc>
              <a:spcBef>
                <a:spcPts val="1199"/>
              </a:spcBef>
              <a:spcAft>
                <a:spcPts val="201"/>
              </a:spcAft>
              <a:buClr>
                <a:srgbClr val="c6695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 </a:t>
            </a:r>
            <a:r>
              <a:rPr b="0" lang="nl-NL" sz="2000" spc="-1" strike="noStrike">
                <a:solidFill>
                  <a:srgbClr val="000000"/>
                </a:solidFill>
                <a:latin typeface="Tw Cen MT"/>
              </a:rPr>
              <a:t>De situatie zo comfortabel mogelijk te maken voor het slachtoffer </a:t>
            </a:r>
            <a:endParaRPr b="0" lang="en-US" sz="2000" spc="-1" strike="noStrike">
              <a:solidFill>
                <a:srgbClr val="000000"/>
              </a:solidFill>
              <a:latin typeface="Tw Cen MT"/>
            </a:endParaRPr>
          </a:p>
          <a:p>
            <a:pPr marL="90360" indent="-90360">
              <a:lnSpc>
                <a:spcPct val="90000"/>
              </a:lnSpc>
              <a:spcBef>
                <a:spcPts val="1199"/>
              </a:spcBef>
              <a:spcAft>
                <a:spcPts val="201"/>
              </a:spcAft>
              <a:buClr>
                <a:srgbClr val="c6695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 </a:t>
            </a:r>
            <a:r>
              <a:rPr b="0" lang="nl-NL" sz="2000" spc="-1" strike="noStrike">
                <a:solidFill>
                  <a:srgbClr val="000000"/>
                </a:solidFill>
                <a:latin typeface="Tw Cen MT"/>
              </a:rPr>
              <a:t>Te zorgen voor alarmering van professionele hulp</a:t>
            </a:r>
            <a:endParaRPr b="0" lang="en-US" sz="20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768240" y="585360"/>
            <a:ext cx="7290000" cy="149868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d0d0d"/>
                </a:solidFill>
                <a:latin typeface="Tw Cen MT Condensed"/>
              </a:rPr>
              <a:t>DE GESCHIEDENIS VAN DE EHBO</a:t>
            </a:r>
            <a:endParaRPr b="0" lang="en-US" sz="4400" spc="-1" strike="noStrike">
              <a:solidFill>
                <a:srgbClr val="0d0d0d"/>
              </a:solidFill>
              <a:latin typeface="Tw Cen MT Condensed"/>
            </a:endParaRPr>
          </a:p>
        </p:txBody>
      </p:sp>
      <p:sp>
        <p:nvSpPr>
          <p:cNvPr id="270" name=""/>
          <p:cNvSpPr txBox="1"/>
          <p:nvPr/>
        </p:nvSpPr>
        <p:spPr>
          <a:xfrm>
            <a:off x="603000" y="2276640"/>
            <a:ext cx="7289640" cy="4024080"/>
          </a:xfrm>
          <a:prstGeom prst="rect">
            <a:avLst/>
          </a:prstGeom>
          <a:noFill/>
          <a:ln w="0">
            <a:noFill/>
          </a:ln>
        </p:spPr>
        <p:txBody>
          <a:bodyPr lIns="45720" rIns="45720" anchor="t">
            <a:normAutofit/>
          </a:bodyPr>
          <a:p>
            <a:pPr marL="90360" indent="-90360">
              <a:lnSpc>
                <a:spcPct val="90000"/>
              </a:lnSpc>
              <a:spcBef>
                <a:spcPts val="1199"/>
              </a:spcBef>
              <a:spcAft>
                <a:spcPts val="201"/>
              </a:spcAft>
              <a:buClr>
                <a:srgbClr val="c66951"/>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Dr. Tilanus brengt rond 1890 de EHBO-cursus van Engeland naar Nederland</a:t>
            </a:r>
            <a:endParaRPr b="0" lang="en-US" sz="2000" spc="-1" strike="noStrike">
              <a:solidFill>
                <a:srgbClr val="000000"/>
              </a:solidFill>
              <a:latin typeface="Tw Cen MT"/>
            </a:endParaRPr>
          </a:p>
          <a:p>
            <a:pPr marL="90360" indent="-90360">
              <a:lnSpc>
                <a:spcPct val="90000"/>
              </a:lnSpc>
              <a:spcBef>
                <a:spcPts val="1199"/>
              </a:spcBef>
              <a:spcAft>
                <a:spcPts val="201"/>
              </a:spcAft>
              <a:buClr>
                <a:srgbClr val="c66951"/>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1893 werd de Nederlandse Vereniging EHBO opgericht </a:t>
            </a:r>
            <a:endParaRPr b="0" lang="en-US" sz="2000" spc="-1" strike="noStrike">
              <a:solidFill>
                <a:srgbClr val="000000"/>
              </a:solidFill>
              <a:latin typeface="Tw Cen MT"/>
            </a:endParaRPr>
          </a:p>
          <a:p>
            <a:pPr marL="90360" indent="-90360">
              <a:lnSpc>
                <a:spcPct val="90000"/>
              </a:lnSpc>
              <a:spcBef>
                <a:spcPts val="1199"/>
              </a:spcBef>
              <a:spcAft>
                <a:spcPts val="201"/>
              </a:spcAft>
              <a:buClr>
                <a:srgbClr val="c66951"/>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1909 oprichting van "Het Oranje Kruis”</a:t>
            </a:r>
            <a:endParaRPr b="0" lang="en-US" sz="2000" spc="-1" strike="noStrike">
              <a:solidFill>
                <a:srgbClr val="000000"/>
              </a:solidFill>
              <a:latin typeface="Tw Cen MT"/>
            </a:endParaRPr>
          </a:p>
          <a:p>
            <a:pPr marL="90360" indent="-90360">
              <a:lnSpc>
                <a:spcPct val="90000"/>
              </a:lnSpc>
              <a:spcBef>
                <a:spcPts val="1199"/>
              </a:spcBef>
              <a:spcAft>
                <a:spcPts val="201"/>
              </a:spcAft>
              <a:buClr>
                <a:srgbClr val="c66951"/>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1912 verscheen de eerste druk van het Oranje Kruis Boekje. </a:t>
            </a:r>
            <a:endParaRPr b="0" lang="en-US" sz="2000" spc="-1" strike="noStrike">
              <a:solidFill>
                <a:srgbClr val="000000"/>
              </a:solidFill>
              <a:latin typeface="Tw Cen MT"/>
            </a:endParaRPr>
          </a:p>
          <a:p>
            <a:pPr marL="90360" indent="-90360">
              <a:lnSpc>
                <a:spcPct val="90000"/>
              </a:lnSpc>
              <a:spcBef>
                <a:spcPts val="1199"/>
              </a:spcBef>
              <a:spcAft>
                <a:spcPts val="201"/>
              </a:spcAft>
              <a:buClr>
                <a:srgbClr val="c66951"/>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1951 verscheen het eenheidsdiploma EHBO. </a:t>
            </a:r>
            <a:endParaRPr b="0" lang="en-US" sz="2000" spc="-1" strike="noStrike">
              <a:solidFill>
                <a:srgbClr val="000000"/>
              </a:solidFill>
              <a:latin typeface="Tw Cen MT"/>
            </a:endParaRPr>
          </a:p>
          <a:p>
            <a:pPr marL="90360" indent="-90360">
              <a:lnSpc>
                <a:spcPct val="90000"/>
              </a:lnSpc>
              <a:spcBef>
                <a:spcPts val="1199"/>
              </a:spcBef>
              <a:spcAft>
                <a:spcPts val="201"/>
              </a:spcAft>
              <a:buClr>
                <a:srgbClr val="c66951"/>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pic>
        <p:nvPicPr>
          <p:cNvPr id="271" name="Picture 14" descr="oranje kruis 1"/>
          <p:cNvPicPr/>
          <p:nvPr/>
        </p:nvPicPr>
        <p:blipFill>
          <a:blip r:embed="rId1"/>
          <a:stretch/>
        </p:blipFill>
        <p:spPr>
          <a:xfrm>
            <a:off x="6454800" y="4883040"/>
            <a:ext cx="1295280" cy="10670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768240" y="585360"/>
            <a:ext cx="7290000" cy="149868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d0d0d"/>
                </a:solidFill>
                <a:latin typeface="Tw Cen MT Condensed"/>
              </a:rPr>
              <a:t>DE BHV’ER (BEDRIJFSHULPVERLENER)</a:t>
            </a:r>
            <a:endParaRPr b="0" lang="en-US" sz="4400" spc="-1" strike="noStrike">
              <a:solidFill>
                <a:srgbClr val="0d0d0d"/>
              </a:solidFill>
              <a:latin typeface="Tw Cen MT Condensed"/>
            </a:endParaRPr>
          </a:p>
        </p:txBody>
      </p:sp>
      <p:pic>
        <p:nvPicPr>
          <p:cNvPr id="273" name="Picture 21" descr="BHV"/>
          <p:cNvPicPr/>
          <p:nvPr/>
        </p:nvPicPr>
        <p:blipFill>
          <a:blip r:embed="rId1"/>
          <a:stretch/>
        </p:blipFill>
        <p:spPr>
          <a:xfrm>
            <a:off x="2700360" y="2781360"/>
            <a:ext cx="2879640" cy="2411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768240" y="585360"/>
            <a:ext cx="7290000" cy="149868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d0d0d"/>
                </a:solidFill>
                <a:latin typeface="Tw Cen MT Condensed"/>
              </a:rPr>
              <a:t>BASISREGELS EHBO </a:t>
            </a:r>
            <a:endParaRPr b="0" lang="en-US" sz="4400" spc="-1" strike="noStrike">
              <a:solidFill>
                <a:srgbClr val="0d0d0d"/>
              </a:solidFill>
              <a:latin typeface="Tw Cen MT Condensed"/>
            </a:endParaRPr>
          </a:p>
        </p:txBody>
      </p:sp>
      <p:sp>
        <p:nvSpPr>
          <p:cNvPr id="275" name=""/>
          <p:cNvSpPr txBox="1"/>
          <p:nvPr/>
        </p:nvSpPr>
        <p:spPr>
          <a:xfrm>
            <a:off x="768240" y="2286000"/>
            <a:ext cx="7290000" cy="4022640"/>
          </a:xfrm>
          <a:prstGeom prst="rect">
            <a:avLst/>
          </a:prstGeom>
          <a:noFill/>
          <a:ln w="0">
            <a:noFill/>
          </a:ln>
        </p:spPr>
        <p:txBody>
          <a:bodyPr lIns="45720" rIns="45720" anchor="t">
            <a:normAutofit/>
          </a:bodyPr>
          <a:p>
            <a:pPr marL="90360" indent="-90360">
              <a:lnSpc>
                <a:spcPct val="90000"/>
              </a:lnSpc>
              <a:spcBef>
                <a:spcPts val="1199"/>
              </a:spcBef>
              <a:spcAft>
                <a:spcPts val="201"/>
              </a:spcAft>
              <a:buClr>
                <a:srgbClr val="c6695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 </a:t>
            </a:r>
            <a:r>
              <a:rPr b="0" lang="nl-NL" sz="2000" spc="-1" strike="noStrike">
                <a:solidFill>
                  <a:srgbClr val="000000"/>
                </a:solidFill>
                <a:latin typeface="Tw Cen MT"/>
              </a:rPr>
              <a:t>Let op gevaar. Zorg ervoor dat je zelf, omstanders en het         </a:t>
            </a:r>
            <a:endParaRPr b="0" lang="en-US" sz="2000" spc="-1" strike="noStrike">
              <a:solidFill>
                <a:srgbClr val="000000"/>
              </a:solidFill>
              <a:latin typeface="Tw Cen MT"/>
            </a:endParaRPr>
          </a:p>
          <a:p>
            <a:pPr marL="90360" indent="-90360">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    </a:t>
            </a:r>
            <a:r>
              <a:rPr b="0" lang="nl-NL" sz="2000" spc="-1" strike="noStrike">
                <a:solidFill>
                  <a:srgbClr val="000000"/>
                </a:solidFill>
                <a:latin typeface="Tw Cen MT"/>
              </a:rPr>
              <a:t>slachtoffer geen gevaar lopen</a:t>
            </a:r>
            <a:endParaRPr b="0" lang="en-US" sz="2000" spc="-1" strike="noStrike">
              <a:solidFill>
                <a:srgbClr val="000000"/>
              </a:solidFill>
              <a:latin typeface="Tw Cen MT"/>
            </a:endParaRPr>
          </a:p>
          <a:p>
            <a:pPr marL="90360" indent="-90360">
              <a:lnSpc>
                <a:spcPct val="90000"/>
              </a:lnSpc>
              <a:spcBef>
                <a:spcPts val="1199"/>
              </a:spcBef>
              <a:spcAft>
                <a:spcPts val="201"/>
              </a:spcAft>
              <a:buClr>
                <a:srgbClr val="c6695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 </a:t>
            </a:r>
            <a:r>
              <a:rPr b="0" lang="nl-NL" sz="2000" spc="-1" strike="noStrike">
                <a:solidFill>
                  <a:srgbClr val="000000"/>
                </a:solidFill>
                <a:latin typeface="Tw Cen MT"/>
              </a:rPr>
              <a:t>Ga na wat er gebeurd is en daarna wat iemand mankeert. </a:t>
            </a:r>
            <a:endParaRPr b="0" lang="en-US" sz="2000" spc="-1" strike="noStrike">
              <a:solidFill>
                <a:srgbClr val="000000"/>
              </a:solidFill>
              <a:latin typeface="Tw Cen MT"/>
            </a:endParaRPr>
          </a:p>
          <a:p>
            <a:pPr marL="90360" indent="-90360">
              <a:lnSpc>
                <a:spcPct val="90000"/>
              </a:lnSpc>
              <a:spcBef>
                <a:spcPts val="1199"/>
              </a:spcBef>
              <a:spcAft>
                <a:spcPts val="201"/>
              </a:spcAft>
              <a:buClr>
                <a:srgbClr val="c6695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 </a:t>
            </a:r>
            <a:r>
              <a:rPr b="0" lang="nl-NL" sz="2000" spc="-1" strike="noStrike">
                <a:solidFill>
                  <a:srgbClr val="000000"/>
                </a:solidFill>
                <a:latin typeface="Tw Cen MT"/>
              </a:rPr>
              <a:t>Stel het slachtoffer gerust en zorg voor beschutting. </a:t>
            </a:r>
            <a:endParaRPr b="0" lang="en-US" sz="2000" spc="-1" strike="noStrike">
              <a:solidFill>
                <a:srgbClr val="000000"/>
              </a:solidFill>
              <a:latin typeface="Tw Cen MT"/>
            </a:endParaRPr>
          </a:p>
          <a:p>
            <a:pPr marL="90360" indent="-90360">
              <a:lnSpc>
                <a:spcPct val="90000"/>
              </a:lnSpc>
              <a:spcBef>
                <a:spcPts val="1199"/>
              </a:spcBef>
              <a:spcAft>
                <a:spcPts val="201"/>
              </a:spcAft>
              <a:buClr>
                <a:srgbClr val="c6695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 </a:t>
            </a:r>
            <a:r>
              <a:rPr b="0" lang="nl-NL" sz="2000" spc="-1" strike="noStrike">
                <a:solidFill>
                  <a:srgbClr val="000000"/>
                </a:solidFill>
                <a:latin typeface="Tw Cen MT"/>
              </a:rPr>
              <a:t>Zorg voor professionele hulp. </a:t>
            </a:r>
            <a:endParaRPr b="0" lang="en-US" sz="2000" spc="-1" strike="noStrike">
              <a:solidFill>
                <a:srgbClr val="000000"/>
              </a:solidFill>
              <a:latin typeface="Tw Cen MT"/>
            </a:endParaRPr>
          </a:p>
          <a:p>
            <a:pPr marL="90360" indent="-90360">
              <a:lnSpc>
                <a:spcPct val="90000"/>
              </a:lnSpc>
              <a:spcBef>
                <a:spcPts val="1199"/>
              </a:spcBef>
              <a:spcAft>
                <a:spcPts val="201"/>
              </a:spcAft>
              <a:buClr>
                <a:srgbClr val="c6695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 </a:t>
            </a:r>
            <a:r>
              <a:rPr b="0" lang="nl-NL" sz="2000" spc="-1" strike="noStrike">
                <a:solidFill>
                  <a:srgbClr val="000000"/>
                </a:solidFill>
                <a:latin typeface="Tw Cen MT"/>
              </a:rPr>
              <a:t>Help het slachtoffer op de plaats waar deze is aangetroffen. </a:t>
            </a:r>
            <a:endParaRPr b="0" lang="en-US" sz="2000" spc="-1" strike="noStrike">
              <a:solidFill>
                <a:srgbClr val="000000"/>
              </a:solidFill>
              <a:latin typeface="Tw Cen MT"/>
            </a:endParaRPr>
          </a:p>
        </p:txBody>
      </p:sp>
      <p:pic>
        <p:nvPicPr>
          <p:cNvPr id="276" name="Afbeelding 3" descr=""/>
          <p:cNvPicPr/>
          <p:nvPr/>
        </p:nvPicPr>
        <p:blipFill>
          <a:blip r:embed="rId1"/>
          <a:stretch/>
        </p:blipFill>
        <p:spPr>
          <a:xfrm>
            <a:off x="6516720" y="5013360"/>
            <a:ext cx="1728720" cy="1606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14T09:15:34Z</dcterms:created>
  <dc:creator>Jesse Skolnik</dc:creator>
  <dc:description/>
  <dc:language>en-US</dc:language>
  <cp:lastModifiedBy>Charlotte Verhagen</cp:lastModifiedBy>
  <dcterms:modified xsi:type="dcterms:W3CDTF">2022-02-06T11:01:59Z</dcterms:modified>
  <cp:revision>69</cp:revision>
  <dc:subject/>
  <dc:title>No Slide Title</dc:title>
</cp:coreProperties>
</file>