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D00D9-D741-426D-AE0E-672F17C58978}"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D79C5-96D6-432F-978C-1FC902E763E2}"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7D86F-919D-426E-8914-2A34F9E1DE31}"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E321F-72E2-4DBA-9DCD-D74AB2DB16AB}"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2E145-1A88-4FDD-AC6B-338EDF165406}"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27E98-7196-4E66-B3AD-35D83C45E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9EBD9-4580-45A7-9D66-595DC0661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67749-30E9-48BD-992D-26C7957D7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23E30-AF95-4738-85B7-0B330C71A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8660C-F3BE-4D10-B862-4825F80EA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5C073-C6AA-480B-8455-A4D8F86E2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DE9F5-6733-4712-BC0D-FBA256AD0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9D78D-3F6F-4D94-B0C8-CBA3582BA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21109-0D3A-4CBC-823F-3FA0694BA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45802-5C78-46F1-ADA4-11C312CE1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62EC6-F00E-4F87-9A4B-8D62EC1E6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3C916-B193-4C97-9C8B-B14FBF087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3B282-1D65-4A75-903A-5360C59C4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A0DBF-1A3E-466E-9416-04D00BBB9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63097-A223-4AEB-9F7B-01EA59356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5E897-4ADA-4702-8982-BEF45EEAE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43304-8311-4DC7-9377-0844E8630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0838F-897A-4B63-AD70-62C05ADAC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683D94-CFCB-45F7-92B3-0BE5D3EFC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86103-A20C-41AB-9A62-A5D6F555F6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31A719-8FE6-4CBA-BD39-6A363761ED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ABF3B-51D9-4B83-8AC7-1046EBB82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5DDD-FF7D-49B7-9F15-40D941490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8E6D65-6C13-4F24-8C25-04CC6D0F5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294EE-66A1-4642-A1C4-5591E4216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3B978-D0C4-42D2-8346-A5DC14975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5609B-974A-4635-8F1A-3A153791C1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ABB68-C378-4308-8606-371D2AE03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96E285-BB61-4005-84CA-8CA8D5A870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A6C4E7-57E8-4557-9648-5D7BF97F6A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EB916A-1DD6-46D6-9916-1C0D6F52C1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BCD62-8B8F-4F1F-A6D4-EBEE2FB18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D0467B-7470-4A80-AA31-D9DC0D9B6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E33D6-04C2-498C-AABE-5F2BD3F4C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F796A-1CC9-4E23-B783-02245EC18D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5160D-81A1-45B1-ACE2-2C0A855B3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DD217-8FCD-4149-8406-B0F255368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E2235-FFA6-4F54-A1A1-813C7D2AF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A1F51A-3556-46BB-B688-33EC11421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46E51-9F3D-4313-907B-0A8724503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7C68B-47D4-496F-9824-B759C8DA3D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0F8BE4-CEED-4CE9-8C4C-998324DFBC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148A20-DBC9-4BA0-9836-C0C61F5AB3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43B7AF-2771-4536-A105-257B2AE63A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0E657-B811-4C84-9216-AED138972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9BB8A1-54B2-484C-A311-B05905170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282DFD-E5E1-4A5F-90BE-27EBD8F5C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48D6A7-E524-4EB6-9C64-6AFD1369E0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D873F1-91EC-48C8-8B5D-819B280869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BBB3A6-B8B7-47F4-A7D2-061DE80DDB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18BB8-F279-4674-8BBB-CB6D7D363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7A5A1D-F662-4B1F-B291-05C3727E69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037B67-5635-40F4-A4CB-06AE5E19C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2469B-BD5A-430D-A5BF-B63507E414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DB664C-343B-4FD0-A24D-D2F4BE9C93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9B35-A612-42A0-972B-0DA2203A0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C49612-49D4-491C-8A3D-A67FE6CDA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BBE71D-C9B6-464C-A471-89B9011559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E02EB1-829D-44B7-9D1E-54898ADF4D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7522AA-85BA-417A-8001-8FB927E06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2D4DCD-A0AC-4A4C-AE3D-0A60770DB5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3292FE-90BE-49E0-A83D-68879ECFB6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3DA344-762F-4646-BC9B-B2FDB56930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1F233-279A-45CB-B0D1-40E0C2B45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ADB07D-3BC9-4C9C-99F8-B268AFABF0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C7F60-21FA-4C64-81A3-89BFB7A157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3BB30-B0AD-4C9D-9458-E54645E2E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7CA64C-DAAC-42BD-BEF2-6AF1CDF8E0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52F21F-A034-47D6-8824-429E38D262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CD5CBE-9000-4842-B43E-8EFF1ED78D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E34D0-13E8-4D05-B093-0DF8F9C2E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B79D1-F2E6-442D-A8AE-05A40C281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1BBAA-3BC9-4128-A7D4-CBCE24369267}"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51989-A77F-4550-9334-3D3F2AB3C72D}" type="datetime">
              <a:rPr b="0" lang="nl-NL" sz="1000" spc="-1" strike="noStrike">
                <a:solidFill>
                  <a:srgbClr val="0d0d0d"/>
                </a:solidFill>
                <a:latin typeface="Tw Cen MT Condensed"/>
              </a:rPr>
              <a:t>28-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D5BCC-24DC-4658-91B5-5E99687F1C4C}"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44644-0062-43AE-B08E-CD3E529708CF}"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63F80-8D51-4041-B7E1-680A3EE6B9AD}"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F4B6D-FA65-4A17-A875-BDA730954B09}"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181A6-7615-416F-AD1E-F49DF78A225A}"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