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FE593-AFA1-491B-9B35-3C541F238865}"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489D8-3CD9-442A-964A-E5976F32A5AF}"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919E9-14D3-4F97-A863-3A01822D2B3E}"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11D9F-DF81-4269-B912-128537299ECE}"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E3835-4132-46A1-980A-09F676C3369F}"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689EC-D4E6-4BFB-820E-D2C8B7FC6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321E-5A80-4A9F-B88F-3187A229A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891DC-BA30-40EA-A520-7BAE75CA2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4862B-1A76-4EB0-9C34-C0D1F3C73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A4353-6138-402B-9A02-837392549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D9285-F869-4D5C-891C-E07F71997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F6E65-3A5E-477F-BF00-94701EC07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B6465-74F0-4873-B629-99BD6BBF6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07ADB-1B74-4026-911F-7B27A24AD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4251B-FB41-412B-8DE5-305EF951A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12F5-4F28-4F41-8AA7-04E1C3BA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C8884-F0DD-4607-8EE3-499FF13E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C8DBE-C22F-427D-9F3B-FB1E277B8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95AE-6F9F-4C9B-B9B9-A1E7C5EF1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CE8CF-E70E-4D77-B875-354DBAD71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E2003-4C1B-4121-A6A9-8B469D70D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99125-9A4D-4B71-835F-C16EFFE2B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6BA45C-F19E-4968-A5DA-E77D14086C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25D75-B067-4417-81F5-A93261CAE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1284E-CAEC-430E-ADB1-7955FA3CD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CEEDF-D165-4E74-9E09-74F381D4B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97372-BE53-4A39-8870-04A77BD80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026B-38BF-4507-8C1E-BDF14A83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E388D-98A4-4EDC-8894-B811AAACC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352AF-B748-44EE-820C-8EC92B47F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F153C-0ADE-4B71-8BBA-7B096A187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F0AC7-1269-4FD4-8189-A0EC624A9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A7B5D-E918-43FB-8A5E-5C8B0B27B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3CDF82-4979-405F-A758-B864BCF10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ECFDA-6991-4B5F-8101-2CB50E0FA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F379F-EBF0-44D3-82B4-DFFC1C7982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F3A60-DB58-4216-925A-94107D055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60EF9-D8C2-4078-961E-77BC61BDC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23762-C4F7-40C9-87DA-0FF307118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AC4C5-D526-4495-B0E5-DC7D2EB74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C296D-B91E-41C8-B268-5DCADA242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E625B-A13A-463F-BCCA-257F9F63C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755B0-A9AD-4E6D-8DF7-A66B186C5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96A2B-61E6-4E48-9B94-B8E2B9418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5A426-190E-4B48-8B4F-AA1D7D542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AD854-93F3-41FE-B429-08613D2DD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AB7AA5-C9D4-4129-B848-2236E7E505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BA249C-DF00-4BAA-8E8F-B5CEE07EB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466F1F-2789-442C-AF32-64756E2030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4BF2E-FAFA-414A-997C-52B5E527D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7D749-26F7-4BEC-9339-336CC854D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4695E-F926-40AC-A248-33BE9E0E7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B649E5-EA4E-4FED-8AD6-37AAD75D0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C44E7-592C-45C3-A7BA-423D03AF6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551C1-E917-40EB-8A16-B7B9F9510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9AE3C-0B33-45EA-AB28-9AC9F76AD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569DC-D43C-4260-9CD1-D8108FEC6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68FCD-FBC1-4311-9AA3-39581073C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94416-8CC4-4762-BB36-51F1F2922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54E64F-677C-4072-B622-AE9EF6FA0C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F9B6E-764C-4ED1-80DF-95A99144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BF2F2-995C-4682-98AE-B9304014EE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4A0855-302F-45A6-AC05-AE1442453B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CCDC8-6B2E-4AA3-82A0-424FCDFFF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19148-6149-4734-91C4-D5A863A8B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B7363-FD0F-4C4B-BD68-4F28E9130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33208-EC92-4E86-B735-BF692F9309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AC1B9-A02F-4918-8336-D264F363F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46D46-6E9B-4086-A6F2-DACF0EFE1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D7D7A-CF70-4F38-8B66-E410C3204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88A4A-CDB1-4A11-A9A9-583C882EF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B34E-21E1-449B-B132-380DEBFD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7276D-52B9-4BC8-AD37-D13B8C343A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7C22A-3637-49FC-BA5D-E65A7EE4E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D53B1D-CACD-4DEC-8D41-5E89FFCA0B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C3F3-C91F-43B7-8504-26F88FCB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3FC9-FB01-44D4-A319-0BB10BFAD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5AD1B-BF10-4D40-9F1B-9697FAF949E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4157C-5889-4F01-AAE1-EFB52829E370}" type="datetime">
              <a:rPr b="0" lang="nl-NL" sz="1000" spc="-1" strike="noStrike">
                <a:solidFill>
                  <a:srgbClr val="0d0d0d"/>
                </a:solidFill>
                <a:latin typeface="Tw Cen MT Condensed"/>
              </a:rPr>
              <a:t>30-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38CA2-3FF2-43E1-8D89-AC4C7DBA3EA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83C85-E280-4EBD-83D9-A253E72C1614}"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0F2DE-ACA8-44DD-8C17-03058196D053}"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2A4FF-ADEC-4E8B-B156-54485691B570}"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E1770-4DF0-4494-8237-ECE433C836C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