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2.wmf" ContentType="image/x-wmf"/>
  <Override PartName="/ppt/media/image3.wmf" ContentType="image/x-wmf"/>
  <Override PartName="/ppt/media/image4.png" ContentType="image/png"/>
  <Override PartName="/ppt/media/image5.wmf" ContentType="image/x-wmf"/>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w Cen MT"/>
            </a:endParaRPr>
          </a:p>
        </p:txBody>
      </p:sp>
      <p:sp>
        <p:nvSpPr>
          <p:cNvPr id="25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7" name="PlaceHolder 2"/>
          <p:cNvSpPr>
            <a:spLocks noGrp="1"/>
          </p:cNvSpPr>
          <p:nvPr>
            <p:ph type="dt" idx="19"/>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8"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move the slide</a:t>
            </a:r>
            <a:endParaRPr b="0" lang="en-US" sz="4400" spc="-1" strike="noStrike">
              <a:solidFill>
                <a:srgbClr val="0d0d0d"/>
              </a:solidFill>
              <a:latin typeface="Tw Cen MT Condensed"/>
            </a:endParaRPr>
          </a:p>
        </p:txBody>
      </p:sp>
      <p:sp>
        <p:nvSpPr>
          <p:cNvPr id="259"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0" name="PlaceHolder 5"/>
          <p:cNvSpPr>
            <a:spLocks noGrp="1"/>
          </p:cNvSpPr>
          <p:nvPr>
            <p:ph type="ftr" idx="20"/>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61" name="PlaceHolder 6"/>
          <p:cNvSpPr>
            <a:spLocks noGrp="1"/>
          </p:cNvSpPr>
          <p:nvPr>
            <p:ph type="sldNum" idx="21"/>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000000"/>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89C787-54E2-4144-BDE7-511A021A61DA}" type="slidenum">
              <a:rPr b="0" lang="nl-NL"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17640" y="744480"/>
            <a:ext cx="4962600" cy="3722760"/>
          </a:xfrm>
          <a:prstGeom prst="rect">
            <a:avLst/>
          </a:prstGeom>
          <a:ln w="0">
            <a:noFill/>
          </a:ln>
        </p:spPr>
      </p:sp>
      <p:sp>
        <p:nvSpPr>
          <p:cNvPr id="30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765CC7-E01C-4797-B7D8-755C693D68D1}"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7A8376-DBA6-4232-9356-43FCD292AF67}"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33" name="PlaceHolder 1"/>
          <p:cNvSpPr>
            <a:spLocks noGrp="1"/>
          </p:cNvSpPr>
          <p:nvPr>
            <p:ph type="sldImg"/>
          </p:nvPr>
        </p:nvSpPr>
        <p:spPr>
          <a:xfrm>
            <a:off x="917640" y="744480"/>
            <a:ext cx="4962600" cy="3722760"/>
          </a:xfrm>
          <a:prstGeom prst="rect">
            <a:avLst/>
          </a:prstGeom>
          <a:ln w="0">
            <a:noFill/>
          </a:ln>
        </p:spPr>
      </p:sp>
      <p:sp>
        <p:nvSpPr>
          <p:cNvPr id="33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oel minimaal 10 min bij voorkeur met lauw water, dit houdt de doorbloeding instant zodat de warmte afgevoerd kan worden. Op deze manier kan verdere uitbreiding van de warmte voorkomen worden. Gebruik zacht stromend water. Smeer geen zalfjes op de wo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chemische verbranding 30 min spoelen en kleding verwijderen! Zorg wel voor je eigen veiligheid en kom niet in aanraking met de chemische stof gebruik dus handschoenen. Denk ook dat je de gassen niet inademt. Dek de wonden na het koelen af met steriele gaz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es bij verbranding in het gezicht op verbranding van de luchtweg-&gt; let op ademhalingsproblemen.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E74167-4F7E-4E45-9C20-D0C11757348B}"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36" name="PlaceHolder 1"/>
          <p:cNvSpPr>
            <a:spLocks noGrp="1"/>
          </p:cNvSpPr>
          <p:nvPr>
            <p:ph type="sldImg"/>
          </p:nvPr>
        </p:nvSpPr>
        <p:spPr>
          <a:xfrm>
            <a:off x="917640" y="744480"/>
            <a:ext cx="4962600" cy="3722760"/>
          </a:xfrm>
          <a:prstGeom prst="rect">
            <a:avLst/>
          </a:prstGeom>
          <a:ln w="0">
            <a:noFill/>
          </a:ln>
        </p:spPr>
      </p:sp>
      <p:sp>
        <p:nvSpPr>
          <p:cNvPr id="33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AD9837-4954-4BCE-B320-4640D2B153CD}"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39" name="PlaceHolder 1"/>
          <p:cNvSpPr>
            <a:spLocks noGrp="1"/>
          </p:cNvSpPr>
          <p:nvPr>
            <p:ph type="sldImg"/>
          </p:nvPr>
        </p:nvSpPr>
        <p:spPr>
          <a:xfrm>
            <a:off x="917640" y="744480"/>
            <a:ext cx="4962600" cy="3722760"/>
          </a:xfrm>
          <a:prstGeom prst="rect">
            <a:avLst/>
          </a:prstGeom>
          <a:ln w="0">
            <a:noFill/>
          </a:ln>
        </p:spPr>
      </p:sp>
      <p:sp>
        <p:nvSpPr>
          <p:cNvPr id="34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48B4F8-9B8E-4CCF-B1AB-C01975421B4A}"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42" name="PlaceHolder 1"/>
          <p:cNvSpPr>
            <a:spLocks noGrp="1"/>
          </p:cNvSpPr>
          <p:nvPr>
            <p:ph type="sldImg"/>
          </p:nvPr>
        </p:nvSpPr>
        <p:spPr>
          <a:xfrm>
            <a:off x="917640" y="744480"/>
            <a:ext cx="4962600" cy="3722760"/>
          </a:xfrm>
          <a:prstGeom prst="rect">
            <a:avLst/>
          </a:prstGeom>
          <a:ln w="0">
            <a:noFill/>
          </a:ln>
        </p:spPr>
      </p:sp>
      <p:sp>
        <p:nvSpPr>
          <p:cNvPr id="34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regel van 9 is een goede manier om te meten hoeveel procent van het oppervlak van het lichaam verbrand is. Hierbij staat ieder lichaamsdeel voor 9% of een meervoud daarvan behalve het geslachtsde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eten met hand van het slachtoff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dat het lastig kan zijn het oppervlak te berekenen als delen van lichaamsdelen verbrand zijn kun je ook meten met de hand van het slachtoffer. De oppervlakte van de hand met gesloten vingers staat daarbij voor 1%. Het is belangrijk om te weten hoeveel procent van het lichaam ongeveer verbrand is omdat dit gevraagd zal worden bij het bellen van 112.</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F2FF48-ECBD-4189-AD7F-CEC236A19AF7}"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45" name="PlaceHolder 1"/>
          <p:cNvSpPr>
            <a:spLocks noGrp="1"/>
          </p:cNvSpPr>
          <p:nvPr>
            <p:ph type="sldImg"/>
          </p:nvPr>
        </p:nvSpPr>
        <p:spPr>
          <a:xfrm>
            <a:off x="917640" y="744480"/>
            <a:ext cx="4962600" cy="3722760"/>
          </a:xfrm>
          <a:prstGeom prst="rect">
            <a:avLst/>
          </a:prstGeom>
          <a:ln w="0">
            <a:noFill/>
          </a:ln>
        </p:spPr>
      </p:sp>
      <p:sp>
        <p:nvSpPr>
          <p:cNvPr id="34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00FA12-6D41-40F3-9F47-1B0E75767239}"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48" name="PlaceHolder 1"/>
          <p:cNvSpPr>
            <a:spLocks noGrp="1"/>
          </p:cNvSpPr>
          <p:nvPr>
            <p:ph type="sldImg"/>
          </p:nvPr>
        </p:nvSpPr>
        <p:spPr>
          <a:xfrm>
            <a:off x="917640" y="744480"/>
            <a:ext cx="4962600" cy="3722760"/>
          </a:xfrm>
          <a:prstGeom prst="rect">
            <a:avLst/>
          </a:prstGeom>
          <a:ln w="0">
            <a:noFill/>
          </a:ln>
        </p:spPr>
      </p:sp>
      <p:sp>
        <p:nvSpPr>
          <p:cNvPr id="34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ndere symptomen naarmate de temperatuur daalt rillen, vermoeidheid, verwardheid, spierstijfheid, bewustzijnsdaling, pupilverwijding, ventrikelfibrilleren, de d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handeling: slachtoffer niet laten bewegen en inpakken in aluminiumfolie of dekens. Geen alcohol laten drinken. Niet roken, niet wrijve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17640" y="744480"/>
            <a:ext cx="4962600" cy="3722760"/>
          </a:xfrm>
          <a:prstGeom prst="rect">
            <a:avLst/>
          </a:prstGeom>
          <a:ln w="0">
            <a:noFill/>
          </a:ln>
        </p:spPr>
      </p:sp>
      <p:sp>
        <p:nvSpPr>
          <p:cNvPr id="35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lachtoffer niet laten bewegen anders stroomt het sterk onderkoelde bloed direct naar de vitale organen waardoor een acute stilstand van de bloedsomloop kan ontst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 is om het slachtoffer geen alcoholische dranken te geven. Alcohol geeft namelijk een vasodilatatie (verwijding van de vaten) in de huid waardoor het slachtoffer wel een warmer gevoel krijgt, maar in werkelijkheid nog sneller afkoelt! Het geven van warme dranken als thee of soep zijn (mits het slachtoffer aanspreekbaar is en het zelf tot zich kan nemen) wel aan te bev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et een onderkoeld slachtoffer niet onder een warme douche of in een warm bad, hierdoor gaan alle vaten in de huid openstaan en zal de bloeddruk vrij plotseling dalen, er kan dan een collaps met bewustzijnsverlies optreden. Wrijf het slachtoffer niet warm, dit kan leiden tot beschadiging van de huid en verder warmteverlies omdat de vaten in de huid gaan openstaan en er nog meer warmte wordt afgevoerd. Wees voorzichtig met gebruik van kruiken, dit leidt gemakkelijk tot brandwonden omdat het slachtoffer de temperatuur niet goed kan waarne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speciale houding om warmteverlies tegen te gaan in het water is de HELP-houding (foetushouding) </a:t>
            </a:r>
            <a:endParaRPr b="0" lang="en-US" sz="1200" spc="-1" strike="noStrike">
              <a:solidFill>
                <a:srgbClr val="000000"/>
              </a:solidFill>
              <a:latin typeface="Arial"/>
            </a:endParaRPr>
          </a:p>
        </p:txBody>
      </p:sp>
      <p:sp>
        <p:nvSpPr>
          <p:cNvPr id="352"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5F7AF6-6657-4371-B305-C5CECB9EE26B}"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D8A447-E739-48C1-A1F0-30CD2D6A85E8}"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12" name="PlaceHolder 1"/>
          <p:cNvSpPr>
            <a:spLocks noGrp="1"/>
          </p:cNvSpPr>
          <p:nvPr>
            <p:ph type="sldImg"/>
          </p:nvPr>
        </p:nvSpPr>
        <p:spPr>
          <a:xfrm>
            <a:off x="917640" y="744480"/>
            <a:ext cx="4962600" cy="3722760"/>
          </a:xfrm>
          <a:prstGeom prst="rect">
            <a:avLst/>
          </a:prstGeom>
          <a:ln w="0">
            <a:noFill/>
          </a:ln>
        </p:spPr>
      </p:sp>
      <p:sp>
        <p:nvSpPr>
          <p:cNvPr id="31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708F63-664E-4531-8EFF-6A7D7389D63B}"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15" name="PlaceHolder 1"/>
          <p:cNvSpPr>
            <a:spLocks noGrp="1"/>
          </p:cNvSpPr>
          <p:nvPr>
            <p:ph type="sldImg"/>
          </p:nvPr>
        </p:nvSpPr>
        <p:spPr>
          <a:xfrm>
            <a:off x="917640" y="744480"/>
            <a:ext cx="4962600" cy="3722760"/>
          </a:xfrm>
          <a:prstGeom prst="rect">
            <a:avLst/>
          </a:prstGeom>
          <a:ln w="0">
            <a:noFill/>
          </a:ln>
        </p:spPr>
      </p:sp>
      <p:sp>
        <p:nvSpPr>
          <p:cNvPr id="31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62485E-87FC-4288-9214-662FE0CAC00A}"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18" name="PlaceHolder 1"/>
          <p:cNvSpPr>
            <a:spLocks noGrp="1"/>
          </p:cNvSpPr>
          <p:nvPr>
            <p:ph type="sldImg"/>
          </p:nvPr>
        </p:nvSpPr>
        <p:spPr>
          <a:xfrm>
            <a:off x="917640" y="744480"/>
            <a:ext cx="4962600" cy="3722760"/>
          </a:xfrm>
          <a:prstGeom prst="rect">
            <a:avLst/>
          </a:prstGeom>
          <a:ln w="0">
            <a:noFill/>
          </a:ln>
        </p:spPr>
      </p:sp>
      <p:sp>
        <p:nvSpPr>
          <p:cNvPr id="31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ernst van een brandwond is afhankelijk van de diepte van de beschadiging van de huid, de grootte van de brandwond, de plaats van de brandwond en de leeftijd van het slachtoffer en bijkomend lets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ernst van de brandwond (omvang en diepte) wordt bepaalt doo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oort hittebr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emperatuu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uur van blootstellin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laa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bloed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chtigheidsgraa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ikte van de hu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zelfde blootstelling geeft aan b.v. de handpalm ernstigere brandwonden dan aan de voetzool.  (meer eelt, geringere doorbloeding en lagere vochtigheidsgra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randwonden worden in gradaties aangegeven te wet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1e graads: Epidermis (opperhu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a:t>
            </a:r>
            <a:r>
              <a:rPr b="0" lang="nl-NL" sz="1200" spc="-1" strike="noStrike" baseline="30000">
                <a:solidFill>
                  <a:srgbClr val="000000"/>
                </a:solidFill>
                <a:latin typeface="Arial"/>
              </a:rPr>
              <a:t>e</a:t>
            </a:r>
            <a:r>
              <a:rPr b="0" lang="nl-NL" sz="1200" spc="-1" strike="noStrike">
                <a:solidFill>
                  <a:srgbClr val="000000"/>
                </a:solidFill>
                <a:latin typeface="Arial"/>
              </a:rPr>
              <a:t> graads: Epidermis (opperhuid) en de dermis (lederhuid) gedeeltelij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3</a:t>
            </a:r>
            <a:r>
              <a:rPr b="0" lang="nl-NL" sz="1200" spc="-1" strike="noStrike" baseline="30000">
                <a:solidFill>
                  <a:srgbClr val="000000"/>
                </a:solidFill>
                <a:latin typeface="Arial"/>
              </a:rPr>
              <a:t>e</a:t>
            </a:r>
            <a:r>
              <a:rPr b="0" lang="nl-NL" sz="1200" spc="-1" strike="noStrike">
                <a:solidFill>
                  <a:srgbClr val="000000"/>
                </a:solidFill>
                <a:latin typeface="Arial"/>
              </a:rPr>
              <a:t> graads: Epidermis, dermis, hypodermis (bindweefsel) gedeeltelij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871134-D919-433F-8E04-0D84EA8051EC}"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21" name="PlaceHolder 1"/>
          <p:cNvSpPr>
            <a:spLocks noGrp="1"/>
          </p:cNvSpPr>
          <p:nvPr>
            <p:ph type="sldImg"/>
          </p:nvPr>
        </p:nvSpPr>
        <p:spPr>
          <a:xfrm>
            <a:off x="917640" y="744480"/>
            <a:ext cx="4962600" cy="3722760"/>
          </a:xfrm>
          <a:prstGeom prst="rect">
            <a:avLst/>
          </a:prstGeom>
          <a:ln w="0">
            <a:noFill/>
          </a:ln>
        </p:spPr>
      </p:sp>
      <p:sp>
        <p:nvSpPr>
          <p:cNvPr id="32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1</a:t>
            </a:r>
            <a:r>
              <a:rPr b="0" lang="nl-NL" sz="1200" spc="-1" strike="noStrike" baseline="30000">
                <a:solidFill>
                  <a:srgbClr val="000000"/>
                </a:solidFill>
                <a:latin typeface="Arial"/>
              </a:rPr>
              <a:t>e</a:t>
            </a:r>
            <a:r>
              <a:rPr b="0" lang="nl-NL" sz="1200" spc="-1" strike="noStrike">
                <a:solidFill>
                  <a:srgbClr val="000000"/>
                </a:solidFill>
                <a:latin typeface="Arial"/>
              </a:rPr>
              <a:t> graads verbranding gaat meestal snel over en hoeft niet in het ziekenhuis te worden behandeld. </a:t>
            </a:r>
            <a:endParaRPr b="0" lang="en-US" sz="1200" spc="-1" strike="noStrike">
              <a:solidFill>
                <a:srgbClr val="000000"/>
              </a:solidFill>
              <a:latin typeface="Arial"/>
            </a:endParaRPr>
          </a:p>
          <a:p>
            <a:pPr>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Roodheid, </a:t>
            </a:r>
            <a:endParaRPr b="0" lang="en-US" sz="2000" spc="-1" strike="noStrike">
              <a:solidFill>
                <a:srgbClr val="000000"/>
              </a:solidFill>
              <a:latin typeface="Arial"/>
            </a:endParaRPr>
          </a:p>
          <a:p>
            <a:pPr>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Droog, </a:t>
            </a:r>
            <a:endParaRPr b="0" lang="en-US" sz="2000" spc="-1" strike="noStrike">
              <a:solidFill>
                <a:srgbClr val="000000"/>
              </a:solidFill>
              <a:latin typeface="Arial"/>
            </a:endParaRPr>
          </a:p>
          <a:p>
            <a:pPr>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Pijnlijk, </a:t>
            </a:r>
            <a:endParaRPr b="0" lang="en-US" sz="2000" spc="-1" strike="noStrike">
              <a:solidFill>
                <a:srgbClr val="000000"/>
              </a:solidFill>
              <a:latin typeface="Arial"/>
            </a:endParaRPr>
          </a:p>
          <a:p>
            <a:pPr>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Soms wat opgezwollen</a:t>
            </a:r>
            <a:endParaRPr b="0" lang="en-US" sz="2000" spc="-1" strike="noStrike">
              <a:solidFill>
                <a:srgbClr val="000000"/>
              </a:solidFill>
              <a:latin typeface="Arial"/>
            </a:endParaRPr>
          </a:p>
          <a:p>
            <a:pPr>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Positieve capillaire refill -&gt; De haarvaten vullen zich weer met bloed nadat de huid is ingedrukt</a:t>
            </a:r>
            <a:endParaRPr b="0" lang="en-US" sz="2000" spc="-1" strike="noStrike">
              <a:solidFill>
                <a:srgbClr val="000000"/>
              </a:solidFill>
              <a:latin typeface="Arial"/>
            </a:endParaRPr>
          </a:p>
          <a:p>
            <a:pPr>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Sensibiliteit bij priktest -&gt; de gevoelszenuwen zijn nog in takt. </a:t>
            </a:r>
            <a:endParaRPr b="0" lang="en-US" sz="2000" spc="-1" strike="noStrike">
              <a:solidFill>
                <a:srgbClr val="000000"/>
              </a:solidFill>
              <a:latin typeface="Arial"/>
            </a:endParaRPr>
          </a:p>
          <a:p>
            <a:pPr>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Eigenlijk geen wond </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9FF1AC-AD4D-4C37-A7B3-AF5D72664C58}"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24" name="PlaceHolder 1"/>
          <p:cNvSpPr>
            <a:spLocks noGrp="1"/>
          </p:cNvSpPr>
          <p:nvPr>
            <p:ph type="sldImg"/>
          </p:nvPr>
        </p:nvSpPr>
        <p:spPr>
          <a:xfrm>
            <a:off x="917640" y="744480"/>
            <a:ext cx="4962600" cy="3722760"/>
          </a:xfrm>
          <a:prstGeom prst="rect">
            <a:avLst/>
          </a:prstGeom>
          <a:ln w="0">
            <a:noFill/>
          </a:ln>
        </p:spPr>
      </p:sp>
      <p:sp>
        <p:nvSpPr>
          <p:cNvPr id="32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r is een verschil tussen een </a:t>
            </a:r>
            <a:r>
              <a:rPr b="0" i="1" lang="nl-NL" sz="1200" spc="-1" strike="noStrike">
                <a:solidFill>
                  <a:srgbClr val="000000"/>
                </a:solidFill>
                <a:latin typeface="Arial"/>
              </a:rPr>
              <a:t>oppervlakkige</a:t>
            </a:r>
            <a:r>
              <a:rPr b="0" lang="nl-NL" sz="1200" spc="-1" strike="noStrike">
                <a:solidFill>
                  <a:srgbClr val="000000"/>
                </a:solidFill>
                <a:latin typeface="Arial"/>
              </a:rPr>
              <a:t> tweedegraads brandwond en een </a:t>
            </a:r>
            <a:r>
              <a:rPr b="0" i="1" lang="nl-NL" sz="1200" spc="-1" strike="noStrike">
                <a:solidFill>
                  <a:srgbClr val="000000"/>
                </a:solidFill>
                <a:latin typeface="Arial"/>
              </a:rPr>
              <a:t>diepe</a:t>
            </a:r>
            <a:r>
              <a:rPr b="0" lang="nl-NL" sz="1200" spc="-1" strike="noStrike">
                <a:solidFill>
                  <a:srgbClr val="000000"/>
                </a:solidFill>
                <a:latin typeface="Arial"/>
              </a:rPr>
              <a:t> tweedegraads brandwond. Voor mensen die niet in de zorg werken, is het verschil moeilijk te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een oppervlakkige tweedegraads brandwond is de huid beschadigd, de huid is rood, nat en pijnlijk en er kan blaarvorming optreden.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852B64-D6C6-4E30-B39A-1FE741D65E71}"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27" name="PlaceHolder 1"/>
          <p:cNvSpPr>
            <a:spLocks noGrp="1"/>
          </p:cNvSpPr>
          <p:nvPr>
            <p:ph type="sldImg"/>
          </p:nvPr>
        </p:nvSpPr>
        <p:spPr>
          <a:xfrm>
            <a:off x="917640" y="744480"/>
            <a:ext cx="4962600" cy="3722760"/>
          </a:xfrm>
          <a:prstGeom prst="rect">
            <a:avLst/>
          </a:prstGeom>
          <a:ln w="0">
            <a:noFill/>
          </a:ln>
        </p:spPr>
      </p:sp>
      <p:sp>
        <p:nvSpPr>
          <p:cNvPr id="32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wand van de huidhaarvaten wordt poreus waardoor er vocht tussen de cellen komt. Het vocht dringt door naar de opperhuid, hierdoor kan er blaarvorming optred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een diepe tweedegraads brandwond is de dermis beschadigd, de wond is roodachtig/wit, nat en zeer pijnlij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cellen in de opperhuid en lederhuid zijn beschadigd, maar kunnen wel herstellen mits er geen infectie optreed. Prik nooit blaren door. Hierdoor ontstaat er een verhoogd risico op infecti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245AF2-13BC-4776-95E6-BA2FEFA1A980}"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30" name="PlaceHolder 1"/>
          <p:cNvSpPr>
            <a:spLocks noGrp="1"/>
          </p:cNvSpPr>
          <p:nvPr>
            <p:ph type="sldImg"/>
          </p:nvPr>
        </p:nvSpPr>
        <p:spPr>
          <a:xfrm>
            <a:off x="917640" y="744480"/>
            <a:ext cx="4962600" cy="3722760"/>
          </a:xfrm>
          <a:prstGeom prst="rect">
            <a:avLst/>
          </a:prstGeom>
          <a:ln w="0">
            <a:noFill/>
          </a:ln>
        </p:spPr>
      </p:sp>
      <p:sp>
        <p:nvSpPr>
          <p:cNvPr id="33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een derdegraads brandwond is de hele huid tot aan het onderhuidse vetweefsel aangetast, de wond is wit of zwart, droog, leerachtig en nauwelijks pijnlijk (de huidzenuwen werken niet me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ED1484-7ACE-4BCD-907C-9F5463C1B7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8"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725C49-8A85-4775-A05E-E911F268C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1"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02B5CB-EE15-4A2A-B477-3270B93FFD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6"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C38A90-A3E6-4C99-97E9-DD4C5D1D6F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68DFF1-B1D5-410C-ACF4-41E8591FCB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51"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DFB998-A93B-406E-96A1-CB501B1EF0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53"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1B4FF8-FD2D-485B-81F1-737008D170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55"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6"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EE3843-EB3B-4E40-AE98-CC46C4CEF4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54ED63-A916-4127-8F9F-80B0D04BCE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DB4D26-ACF8-44C4-BA08-1D134A15CC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60"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1"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F30137-EF32-4068-BF68-5A3255EA78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7"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D882D0-92F3-4E66-8CA9-6FB25B839E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64"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5"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4F917A-A2C5-4622-BB8F-D30858A990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68"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9"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C4302B-4D1F-40D8-B0CB-088E6C9E3A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72"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3"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AEB87E-F5C0-4250-A0F6-19261250E7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75"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8"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DD3A2B-AD4A-4A51-BAD3-1897D86D6F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80"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1"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2"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3"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4"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5"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31AB26-DE74-4616-9A70-4562CF4D02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F7D442D-14D3-44F4-B898-A31183D1A21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95"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461D42-5B46-4033-8DF9-9FB007E4BD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97"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26959D-F4DE-4BDA-9177-95F47B77F0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99"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0"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A000DB-6B3C-4FDF-B547-6DAA0DA346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2B4513-F05A-41D4-999A-645216EAF8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9"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D4B3D-9D1F-49E5-80E3-4B7DF6551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385EA4-4BCD-4000-8C2B-D21CDED847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04"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5"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6"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E7BBFC-4976-458E-8ECB-CCA346BC55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08"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9"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0"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40CE1F-DC9A-4B28-9A43-0073BB031F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12"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3"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4"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19CDFA-3C86-41BC-8E76-1A4B88E50A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16"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7"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87A7DA-6B57-4757-9719-B1EF9E477C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19"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0"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1"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2"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A1D76F6-516E-45D5-B2B5-0F7D3969050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24"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5"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6"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7"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8"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9"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30BEA24-FA7E-4F86-983F-1DA27232821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4216063-968D-4F18-9BF9-A6718E6D51F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36"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F328BC-C30C-454B-9F4C-59592DA372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38"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FFFA6A-B7A7-4351-92E1-0CE30BDD6C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1"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DA2CFE-4AC1-4FC9-AF34-ADCF20968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40"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1"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3603CB-D115-426E-8067-A1C48D435D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FC37FC-2553-4ADE-BB2A-903D4838A9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3B8B6F-ADFE-4690-ABFA-3BDA9D0C63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45"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6"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7"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846562-B03E-417F-A715-8CE450203D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49"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0"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1"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BDA464-F744-426B-9B43-ECCD3C100F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53"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4"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5"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D287DD-0EF4-4B51-BBF3-62782C9413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57"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8"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D19741-9D7A-417D-B408-2CC32D6990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60"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1"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2"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3"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0A6A8EF-AEC1-4572-BFA6-6DBF08127E1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65"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6"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7"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8"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9"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0"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F71519B-CA5C-4CB0-A823-ED46AC5382F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2CDEFF2-2AD5-4E39-8963-E5323E361D7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3D1A35-F493-4FF9-9D57-A15B1546A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78"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0D2480-3871-4D77-BC27-E4C46AFCF4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80"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0419A4-7B5E-4BDF-B752-6837AC68F5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82"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3"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AC5B0B-48B2-4284-905F-60DA6E71AA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EFE79F-687A-4144-A366-EBFBE8D224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015C2E-0D35-4504-B40B-3F993A5C2D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87"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8"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9"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CAFA3B-5268-499F-A5CA-3FAD86AAC5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91"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2"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3"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7C37E2-C322-46EA-BE8D-DE98F68FC3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95"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6"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7"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830DAE-EC40-4214-978B-ACF5DEC842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99"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0"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80B85B-51E6-4959-A9AA-2BF134F21D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02"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3"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4"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5"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F5218E0-584F-4DC1-B57C-927A6890F2F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EFE2E1-1E36-499C-9C17-6CA591D7FD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07"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8"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9"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0"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1"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2"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B506CBC-8C40-4568-B620-D863C9B3C49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BC672E8-BD58-4E28-9495-4F2269C163E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20"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2154CD-0414-4FF5-BE57-11C2B028B5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22"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84DF47-9093-489B-8735-FB827EEBD0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24"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5"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261DCB-86B8-4FFE-91A4-41802A211C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86BE20-2DEE-4C12-8105-2B1C4D89DF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7DBAA6-04CF-43C0-AF60-1433CCA49E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29"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0"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1"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0EE0B8-5E77-44A8-B9AF-76E25B9829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33"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4"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5"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AE00BB-B67C-4BEE-9116-7F916F9E50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37"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8"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9"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ADC0F4-F889-4A29-A58F-1A2E40CEF0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6"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8D62D-8DA9-49F5-9B7C-2CD3E0914E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41"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2"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1077CAF-4941-4191-A0DF-D4E173BD2D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44"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5"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6"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7"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071A607-F1CB-48F2-80F7-9628423F2B3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49"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0"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1"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2"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3"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4"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29C9B59-5390-4868-846D-306BC4977D3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0"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C1AE0-2B8D-4640-85D2-C912A82DE8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4"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6"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FC1F8-F243-436E-A71E-3CEA271BDC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1"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 name="PlaceHolder 3"/>
          <p:cNvSpPr>
            <a:spLocks noGrp="1"/>
          </p:cNvSpPr>
          <p:nvPr>
            <p:ph type="dt" idx="1"/>
          </p:nvPr>
        </p:nvSpPr>
        <p:spPr>
          <a:xfrm>
            <a:off x="767880" y="6470280"/>
            <a:ext cx="161604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 name="PlaceHolder 5"/>
          <p:cNvSpPr>
            <a:spLocks noGrp="1"/>
          </p:cNvSpPr>
          <p:nvPr>
            <p:ph type="sldNum" idx="3"/>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EC26D1-E58B-461B-9F78-59C61520FFE4}" type="slidenum">
              <a:rPr b="0" lang="nl-NL"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
        <p:nvSpPr>
          <p:cNvPr id="5" name="Straight Connector 6"/>
          <p:cNvSpPr/>
          <p:nvPr/>
        </p:nvSpPr>
        <p:spPr>
          <a:xfrm flipV="1">
            <a:off x="571680" y="826920"/>
            <a:ext cx="0" cy="914400"/>
          </a:xfrm>
          <a:prstGeom prst="line">
            <a:avLst/>
          </a:prstGeom>
          <a:ln w="19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8"/>
          <p:cNvSpPr/>
          <p:nvPr/>
        </p:nvSpPr>
        <p:spPr>
          <a:xfrm>
            <a:off x="0" y="0"/>
            <a:ext cx="9144000" cy="4572000"/>
          </a:xfrm>
          <a:prstGeom prst="rect">
            <a:avLst/>
          </a:prstGeom>
          <a:solidFill>
            <a:srgbClr val="9e493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3" name="Freeform 9"/>
          <p:cNvSpPr/>
          <p:nvPr/>
        </p:nvSpPr>
        <p:spPr>
          <a:xfrm>
            <a:off x="0" y="0"/>
            <a:ext cx="9144000" cy="4572000"/>
          </a:xfrm>
          <a:custGeom>
            <a:avLst/>
            <a:gdLst/>
            <a:ahLst/>
            <a:rect l="l" t="t" r="r" b="b"/>
            <a:pathLst>
              <a:path w="9143987" h="4571997">
                <a:moveTo>
                  <a:pt x="1" y="4316132"/>
                </a:moveTo>
                <a:lnTo>
                  <a:pt x="255863" y="4571994"/>
                </a:lnTo>
                <a:lnTo>
                  <a:pt x="203619" y="4571994"/>
                </a:lnTo>
                <a:lnTo>
                  <a:pt x="1" y="4368376"/>
                </a:lnTo>
                <a:lnTo>
                  <a:pt x="1" y="4316132"/>
                </a:lnTo>
                <a:close/>
                <a:moveTo>
                  <a:pt x="9143985" y="4208793"/>
                </a:moveTo>
                <a:lnTo>
                  <a:pt x="9143985" y="4261037"/>
                </a:lnTo>
                <a:lnTo>
                  <a:pt x="8833027" y="4571996"/>
                </a:lnTo>
                <a:lnTo>
                  <a:pt x="8780783" y="4571996"/>
                </a:lnTo>
                <a:lnTo>
                  <a:pt x="9143985" y="4208793"/>
                </a:lnTo>
                <a:close/>
                <a:moveTo>
                  <a:pt x="8664832" y="4076819"/>
                </a:moveTo>
                <a:lnTo>
                  <a:pt x="8775657" y="4076819"/>
                </a:lnTo>
                <a:lnTo>
                  <a:pt x="8775657" y="4187644"/>
                </a:lnTo>
                <a:lnTo>
                  <a:pt x="8664832" y="4187644"/>
                </a:lnTo>
                <a:lnTo>
                  <a:pt x="8664832" y="4076819"/>
                </a:lnTo>
                <a:close/>
                <a:moveTo>
                  <a:pt x="7614024" y="4076819"/>
                </a:moveTo>
                <a:lnTo>
                  <a:pt x="7724849" y="4076819"/>
                </a:lnTo>
                <a:lnTo>
                  <a:pt x="7724849" y="4187644"/>
                </a:lnTo>
                <a:lnTo>
                  <a:pt x="7614024" y="4187644"/>
                </a:lnTo>
                <a:lnTo>
                  <a:pt x="7614024" y="4076819"/>
                </a:lnTo>
                <a:close/>
                <a:moveTo>
                  <a:pt x="6563216" y="4076819"/>
                </a:moveTo>
                <a:lnTo>
                  <a:pt x="6674041" y="4076819"/>
                </a:lnTo>
                <a:lnTo>
                  <a:pt x="6674041" y="4187644"/>
                </a:lnTo>
                <a:lnTo>
                  <a:pt x="6563216" y="4187644"/>
                </a:lnTo>
                <a:lnTo>
                  <a:pt x="6563216" y="4076819"/>
                </a:lnTo>
                <a:close/>
                <a:moveTo>
                  <a:pt x="5512408" y="4076819"/>
                </a:moveTo>
                <a:lnTo>
                  <a:pt x="5623233" y="4076819"/>
                </a:lnTo>
                <a:lnTo>
                  <a:pt x="5623233" y="4187644"/>
                </a:lnTo>
                <a:lnTo>
                  <a:pt x="5512408" y="4187644"/>
                </a:lnTo>
                <a:lnTo>
                  <a:pt x="5512408" y="4076819"/>
                </a:lnTo>
                <a:close/>
                <a:moveTo>
                  <a:pt x="4461600" y="4076819"/>
                </a:moveTo>
                <a:lnTo>
                  <a:pt x="4572425" y="4076819"/>
                </a:lnTo>
                <a:lnTo>
                  <a:pt x="4572425" y="4187644"/>
                </a:lnTo>
                <a:lnTo>
                  <a:pt x="4461600" y="4187644"/>
                </a:lnTo>
                <a:lnTo>
                  <a:pt x="4461600" y="4076819"/>
                </a:lnTo>
                <a:close/>
                <a:moveTo>
                  <a:pt x="3410793" y="4076819"/>
                </a:moveTo>
                <a:lnTo>
                  <a:pt x="3521618" y="4076819"/>
                </a:lnTo>
                <a:lnTo>
                  <a:pt x="3521618" y="4187644"/>
                </a:lnTo>
                <a:lnTo>
                  <a:pt x="3410793" y="4187644"/>
                </a:lnTo>
                <a:lnTo>
                  <a:pt x="3410793" y="4076819"/>
                </a:lnTo>
                <a:close/>
                <a:moveTo>
                  <a:pt x="2359985" y="4076819"/>
                </a:moveTo>
                <a:lnTo>
                  <a:pt x="2470810" y="4076819"/>
                </a:lnTo>
                <a:lnTo>
                  <a:pt x="2470810" y="4187644"/>
                </a:lnTo>
                <a:lnTo>
                  <a:pt x="2359985" y="4187644"/>
                </a:lnTo>
                <a:lnTo>
                  <a:pt x="2359985" y="4076819"/>
                </a:lnTo>
                <a:close/>
                <a:moveTo>
                  <a:pt x="1309177" y="4076819"/>
                </a:moveTo>
                <a:lnTo>
                  <a:pt x="1420002" y="4076819"/>
                </a:lnTo>
                <a:lnTo>
                  <a:pt x="1420002" y="4187644"/>
                </a:lnTo>
                <a:lnTo>
                  <a:pt x="1309177" y="4187644"/>
                </a:lnTo>
                <a:lnTo>
                  <a:pt x="1309177" y="4076819"/>
                </a:lnTo>
                <a:close/>
                <a:moveTo>
                  <a:pt x="258369" y="4076819"/>
                </a:moveTo>
                <a:lnTo>
                  <a:pt x="369194" y="4076819"/>
                </a:lnTo>
                <a:lnTo>
                  <a:pt x="369194" y="4187644"/>
                </a:lnTo>
                <a:lnTo>
                  <a:pt x="258369" y="4187644"/>
                </a:lnTo>
                <a:lnTo>
                  <a:pt x="258369" y="4076819"/>
                </a:lnTo>
                <a:close/>
                <a:moveTo>
                  <a:pt x="8139428" y="3551212"/>
                </a:moveTo>
                <a:lnTo>
                  <a:pt x="8250253" y="3551212"/>
                </a:lnTo>
                <a:lnTo>
                  <a:pt x="8250253" y="3662037"/>
                </a:lnTo>
                <a:lnTo>
                  <a:pt x="8139428" y="3662037"/>
                </a:lnTo>
                <a:lnTo>
                  <a:pt x="8139428" y="3551212"/>
                </a:lnTo>
                <a:close/>
                <a:moveTo>
                  <a:pt x="7088620" y="3551212"/>
                </a:moveTo>
                <a:lnTo>
                  <a:pt x="7199445" y="3551212"/>
                </a:lnTo>
                <a:lnTo>
                  <a:pt x="7199445" y="3662037"/>
                </a:lnTo>
                <a:lnTo>
                  <a:pt x="7088620" y="3662037"/>
                </a:lnTo>
                <a:lnTo>
                  <a:pt x="7088620" y="3551212"/>
                </a:lnTo>
                <a:close/>
                <a:moveTo>
                  <a:pt x="6037812" y="3551212"/>
                </a:moveTo>
                <a:lnTo>
                  <a:pt x="6148637" y="3551212"/>
                </a:lnTo>
                <a:lnTo>
                  <a:pt x="6148637" y="3662037"/>
                </a:lnTo>
                <a:lnTo>
                  <a:pt x="6037812" y="3662037"/>
                </a:lnTo>
                <a:lnTo>
                  <a:pt x="6037812" y="3551212"/>
                </a:lnTo>
                <a:close/>
                <a:moveTo>
                  <a:pt x="4987004" y="3551212"/>
                </a:moveTo>
                <a:lnTo>
                  <a:pt x="5097829" y="3551212"/>
                </a:lnTo>
                <a:lnTo>
                  <a:pt x="5097829" y="3662037"/>
                </a:lnTo>
                <a:lnTo>
                  <a:pt x="4987004" y="3662037"/>
                </a:lnTo>
                <a:lnTo>
                  <a:pt x="4987004" y="3551212"/>
                </a:lnTo>
                <a:close/>
                <a:moveTo>
                  <a:pt x="3936204" y="3551212"/>
                </a:moveTo>
                <a:lnTo>
                  <a:pt x="4047028" y="3551212"/>
                </a:lnTo>
                <a:lnTo>
                  <a:pt x="4047028" y="3662037"/>
                </a:lnTo>
                <a:lnTo>
                  <a:pt x="3936204" y="3662037"/>
                </a:lnTo>
                <a:lnTo>
                  <a:pt x="3936204" y="3551212"/>
                </a:lnTo>
                <a:close/>
                <a:moveTo>
                  <a:pt x="2885395" y="3551212"/>
                </a:moveTo>
                <a:lnTo>
                  <a:pt x="2996220" y="3551212"/>
                </a:lnTo>
                <a:lnTo>
                  <a:pt x="2996220" y="3662037"/>
                </a:lnTo>
                <a:lnTo>
                  <a:pt x="2885395" y="3662037"/>
                </a:lnTo>
                <a:lnTo>
                  <a:pt x="2885395" y="3551212"/>
                </a:lnTo>
                <a:close/>
                <a:moveTo>
                  <a:pt x="1834587" y="3551212"/>
                </a:moveTo>
                <a:lnTo>
                  <a:pt x="1945412" y="3551212"/>
                </a:lnTo>
                <a:lnTo>
                  <a:pt x="1945412" y="3662037"/>
                </a:lnTo>
                <a:lnTo>
                  <a:pt x="1834587" y="3662037"/>
                </a:lnTo>
                <a:lnTo>
                  <a:pt x="1834587" y="3551212"/>
                </a:lnTo>
                <a:close/>
                <a:moveTo>
                  <a:pt x="783778" y="3551212"/>
                </a:moveTo>
                <a:lnTo>
                  <a:pt x="894603" y="3551212"/>
                </a:lnTo>
                <a:lnTo>
                  <a:pt x="894603" y="3662037"/>
                </a:lnTo>
                <a:lnTo>
                  <a:pt x="783778" y="3662037"/>
                </a:lnTo>
                <a:lnTo>
                  <a:pt x="783778" y="3551212"/>
                </a:lnTo>
                <a:close/>
                <a:moveTo>
                  <a:pt x="2942310" y="3107962"/>
                </a:moveTo>
                <a:lnTo>
                  <a:pt x="2470818" y="3579456"/>
                </a:lnTo>
                <a:lnTo>
                  <a:pt x="2470818" y="3634904"/>
                </a:lnTo>
                <a:lnTo>
                  <a:pt x="2942310" y="4106399"/>
                </a:lnTo>
                <a:lnTo>
                  <a:pt x="3410800" y="3637911"/>
                </a:lnTo>
                <a:lnTo>
                  <a:pt x="3410800" y="3576450"/>
                </a:lnTo>
                <a:lnTo>
                  <a:pt x="2942310" y="3107962"/>
                </a:lnTo>
                <a:close/>
                <a:moveTo>
                  <a:pt x="8195700" y="3107962"/>
                </a:moveTo>
                <a:lnTo>
                  <a:pt x="7724849" y="3578813"/>
                </a:lnTo>
                <a:lnTo>
                  <a:pt x="7724849" y="3635545"/>
                </a:lnTo>
                <a:lnTo>
                  <a:pt x="8195702" y="4106398"/>
                </a:lnTo>
                <a:lnTo>
                  <a:pt x="8664832" y="3637268"/>
                </a:lnTo>
                <a:lnTo>
                  <a:pt x="8664832" y="3577094"/>
                </a:lnTo>
                <a:lnTo>
                  <a:pt x="8195700" y="3107962"/>
                </a:lnTo>
                <a:close/>
                <a:moveTo>
                  <a:pt x="5043655" y="3107962"/>
                </a:moveTo>
                <a:lnTo>
                  <a:pt x="4572425" y="3579192"/>
                </a:lnTo>
                <a:lnTo>
                  <a:pt x="4572425" y="3635169"/>
                </a:lnTo>
                <a:lnTo>
                  <a:pt x="5043654" y="4106399"/>
                </a:lnTo>
                <a:lnTo>
                  <a:pt x="5512408" y="3637645"/>
                </a:lnTo>
                <a:lnTo>
                  <a:pt x="5512408" y="3576714"/>
                </a:lnTo>
                <a:lnTo>
                  <a:pt x="5043655" y="3107962"/>
                </a:lnTo>
                <a:close/>
                <a:moveTo>
                  <a:pt x="840943" y="3107962"/>
                </a:moveTo>
                <a:lnTo>
                  <a:pt x="369199" y="3579705"/>
                </a:lnTo>
                <a:lnTo>
                  <a:pt x="369199" y="3634656"/>
                </a:lnTo>
                <a:lnTo>
                  <a:pt x="840943" y="4106401"/>
                </a:lnTo>
                <a:lnTo>
                  <a:pt x="1309186" y="3638165"/>
                </a:lnTo>
                <a:lnTo>
                  <a:pt x="1309186" y="3576196"/>
                </a:lnTo>
                <a:lnTo>
                  <a:pt x="840943" y="3107962"/>
                </a:lnTo>
                <a:close/>
                <a:moveTo>
                  <a:pt x="3992991" y="3107961"/>
                </a:moveTo>
                <a:lnTo>
                  <a:pt x="3521625" y="3579327"/>
                </a:lnTo>
                <a:lnTo>
                  <a:pt x="3521625" y="3635034"/>
                </a:lnTo>
                <a:lnTo>
                  <a:pt x="3992992" y="4106400"/>
                </a:lnTo>
                <a:lnTo>
                  <a:pt x="4461600" y="3637773"/>
                </a:lnTo>
                <a:lnTo>
                  <a:pt x="4461600" y="3576588"/>
                </a:lnTo>
                <a:lnTo>
                  <a:pt x="3992991" y="3107961"/>
                </a:lnTo>
                <a:close/>
                <a:moveTo>
                  <a:pt x="1891629" y="3107961"/>
                </a:moveTo>
                <a:lnTo>
                  <a:pt x="1420011" y="3579585"/>
                </a:lnTo>
                <a:lnTo>
                  <a:pt x="1420011" y="3634777"/>
                </a:lnTo>
                <a:lnTo>
                  <a:pt x="1891629" y="4106400"/>
                </a:lnTo>
                <a:lnTo>
                  <a:pt x="2359993" y="3638038"/>
                </a:lnTo>
                <a:lnTo>
                  <a:pt x="2359993" y="3576322"/>
                </a:lnTo>
                <a:lnTo>
                  <a:pt x="1891629" y="3107961"/>
                </a:lnTo>
                <a:close/>
                <a:moveTo>
                  <a:pt x="6094336" y="3107961"/>
                </a:moveTo>
                <a:lnTo>
                  <a:pt x="5623233" y="3579064"/>
                </a:lnTo>
                <a:lnTo>
                  <a:pt x="5623233" y="3635295"/>
                </a:lnTo>
                <a:lnTo>
                  <a:pt x="6094336" y="4106399"/>
                </a:lnTo>
                <a:lnTo>
                  <a:pt x="6563216" y="3637520"/>
                </a:lnTo>
                <a:lnTo>
                  <a:pt x="6563216" y="3576841"/>
                </a:lnTo>
                <a:lnTo>
                  <a:pt x="6094336" y="3107961"/>
                </a:lnTo>
                <a:close/>
                <a:moveTo>
                  <a:pt x="7145019" y="3107960"/>
                </a:moveTo>
                <a:lnTo>
                  <a:pt x="6674041" y="3578938"/>
                </a:lnTo>
                <a:lnTo>
                  <a:pt x="6674041" y="3635421"/>
                </a:lnTo>
                <a:lnTo>
                  <a:pt x="7145018" y="4106399"/>
                </a:lnTo>
                <a:lnTo>
                  <a:pt x="7614024" y="3637394"/>
                </a:lnTo>
                <a:lnTo>
                  <a:pt x="7614024" y="3576965"/>
                </a:lnTo>
                <a:lnTo>
                  <a:pt x="7145019" y="3107960"/>
                </a:lnTo>
                <a:close/>
                <a:moveTo>
                  <a:pt x="8664832" y="3027337"/>
                </a:moveTo>
                <a:lnTo>
                  <a:pt x="8775657" y="3027337"/>
                </a:lnTo>
                <a:lnTo>
                  <a:pt x="8775657" y="3138162"/>
                </a:lnTo>
                <a:lnTo>
                  <a:pt x="8664832" y="3138162"/>
                </a:lnTo>
                <a:lnTo>
                  <a:pt x="8664832" y="3027337"/>
                </a:lnTo>
                <a:close/>
                <a:moveTo>
                  <a:pt x="7614024" y="3027337"/>
                </a:moveTo>
                <a:lnTo>
                  <a:pt x="7724849" y="3027337"/>
                </a:lnTo>
                <a:lnTo>
                  <a:pt x="7724849" y="3138162"/>
                </a:lnTo>
                <a:lnTo>
                  <a:pt x="7614024" y="3138162"/>
                </a:lnTo>
                <a:lnTo>
                  <a:pt x="7614024" y="3027337"/>
                </a:lnTo>
                <a:close/>
                <a:moveTo>
                  <a:pt x="6563216" y="3027337"/>
                </a:moveTo>
                <a:lnTo>
                  <a:pt x="6674041" y="3027337"/>
                </a:lnTo>
                <a:lnTo>
                  <a:pt x="6674041" y="3138162"/>
                </a:lnTo>
                <a:lnTo>
                  <a:pt x="6563216" y="3138162"/>
                </a:lnTo>
                <a:lnTo>
                  <a:pt x="6563216" y="3027337"/>
                </a:lnTo>
                <a:close/>
                <a:moveTo>
                  <a:pt x="5512408" y="3027337"/>
                </a:moveTo>
                <a:lnTo>
                  <a:pt x="5623233" y="3027337"/>
                </a:lnTo>
                <a:lnTo>
                  <a:pt x="5623233" y="3138162"/>
                </a:lnTo>
                <a:lnTo>
                  <a:pt x="5512408" y="3138162"/>
                </a:lnTo>
                <a:lnTo>
                  <a:pt x="5512408" y="3027337"/>
                </a:lnTo>
                <a:close/>
                <a:moveTo>
                  <a:pt x="4461600" y="3027337"/>
                </a:moveTo>
                <a:lnTo>
                  <a:pt x="4572425" y="3027337"/>
                </a:lnTo>
                <a:lnTo>
                  <a:pt x="4572425" y="3138162"/>
                </a:lnTo>
                <a:lnTo>
                  <a:pt x="4461600" y="3138162"/>
                </a:lnTo>
                <a:lnTo>
                  <a:pt x="4461600" y="3027337"/>
                </a:lnTo>
                <a:close/>
                <a:moveTo>
                  <a:pt x="3410798" y="3027337"/>
                </a:moveTo>
                <a:lnTo>
                  <a:pt x="3521622" y="3027337"/>
                </a:lnTo>
                <a:lnTo>
                  <a:pt x="3521622" y="3138162"/>
                </a:lnTo>
                <a:lnTo>
                  <a:pt x="3410798" y="3138162"/>
                </a:lnTo>
                <a:lnTo>
                  <a:pt x="3410798" y="3027337"/>
                </a:lnTo>
                <a:close/>
                <a:moveTo>
                  <a:pt x="2359990" y="3027337"/>
                </a:moveTo>
                <a:lnTo>
                  <a:pt x="2470815" y="3027337"/>
                </a:lnTo>
                <a:lnTo>
                  <a:pt x="2470815" y="3138162"/>
                </a:lnTo>
                <a:lnTo>
                  <a:pt x="2359990" y="3138162"/>
                </a:lnTo>
                <a:lnTo>
                  <a:pt x="2359990" y="3027337"/>
                </a:lnTo>
                <a:close/>
                <a:moveTo>
                  <a:pt x="1309183" y="3027337"/>
                </a:moveTo>
                <a:lnTo>
                  <a:pt x="1420008" y="3027337"/>
                </a:lnTo>
                <a:lnTo>
                  <a:pt x="1420008" y="3138162"/>
                </a:lnTo>
                <a:lnTo>
                  <a:pt x="1309183" y="3138162"/>
                </a:lnTo>
                <a:lnTo>
                  <a:pt x="1309183" y="3027337"/>
                </a:lnTo>
                <a:close/>
                <a:moveTo>
                  <a:pt x="258373" y="3027337"/>
                </a:moveTo>
                <a:lnTo>
                  <a:pt x="369197" y="3027337"/>
                </a:lnTo>
                <a:lnTo>
                  <a:pt x="369197" y="3138162"/>
                </a:lnTo>
                <a:lnTo>
                  <a:pt x="258373" y="3138162"/>
                </a:lnTo>
                <a:lnTo>
                  <a:pt x="258373" y="3027337"/>
                </a:lnTo>
                <a:close/>
                <a:moveTo>
                  <a:pt x="7642081" y="2610898"/>
                </a:moveTo>
                <a:lnTo>
                  <a:pt x="7171142" y="3081837"/>
                </a:lnTo>
                <a:lnTo>
                  <a:pt x="7640516" y="3551212"/>
                </a:lnTo>
                <a:lnTo>
                  <a:pt x="7700206" y="3551212"/>
                </a:lnTo>
                <a:lnTo>
                  <a:pt x="8169578" y="3081840"/>
                </a:lnTo>
                <a:lnTo>
                  <a:pt x="7698636" y="2610898"/>
                </a:lnTo>
                <a:lnTo>
                  <a:pt x="7642081" y="2610898"/>
                </a:lnTo>
                <a:close/>
                <a:moveTo>
                  <a:pt x="6591400" y="2610898"/>
                </a:moveTo>
                <a:lnTo>
                  <a:pt x="6120458" y="3081839"/>
                </a:lnTo>
                <a:lnTo>
                  <a:pt x="6589831" y="3551212"/>
                </a:lnTo>
                <a:lnTo>
                  <a:pt x="6649523" y="3551212"/>
                </a:lnTo>
                <a:lnTo>
                  <a:pt x="7118897" y="3081838"/>
                </a:lnTo>
                <a:lnTo>
                  <a:pt x="6647958" y="2610898"/>
                </a:lnTo>
                <a:lnTo>
                  <a:pt x="6591400" y="2610898"/>
                </a:lnTo>
                <a:close/>
                <a:moveTo>
                  <a:pt x="5540719" y="2610898"/>
                </a:moveTo>
                <a:lnTo>
                  <a:pt x="5069777" y="3081840"/>
                </a:lnTo>
                <a:lnTo>
                  <a:pt x="5539149" y="3551212"/>
                </a:lnTo>
                <a:lnTo>
                  <a:pt x="5598841" y="3551212"/>
                </a:lnTo>
                <a:lnTo>
                  <a:pt x="6068214" y="3081839"/>
                </a:lnTo>
                <a:lnTo>
                  <a:pt x="5597273" y="2610898"/>
                </a:lnTo>
                <a:lnTo>
                  <a:pt x="5540719" y="2610898"/>
                </a:lnTo>
                <a:close/>
                <a:moveTo>
                  <a:pt x="4490037" y="2610898"/>
                </a:moveTo>
                <a:lnTo>
                  <a:pt x="4019113" y="3081839"/>
                </a:lnTo>
                <a:lnTo>
                  <a:pt x="4488468" y="3551212"/>
                </a:lnTo>
                <a:lnTo>
                  <a:pt x="4548161" y="3551212"/>
                </a:lnTo>
                <a:lnTo>
                  <a:pt x="5017533" y="3081840"/>
                </a:lnTo>
                <a:lnTo>
                  <a:pt x="4546591" y="2610898"/>
                </a:lnTo>
                <a:lnTo>
                  <a:pt x="4490037" y="2610898"/>
                </a:lnTo>
                <a:close/>
                <a:moveTo>
                  <a:pt x="3439375" y="2610898"/>
                </a:moveTo>
                <a:lnTo>
                  <a:pt x="2968432" y="3081840"/>
                </a:lnTo>
                <a:lnTo>
                  <a:pt x="3437804" y="3551212"/>
                </a:lnTo>
                <a:lnTo>
                  <a:pt x="3497496" y="3551212"/>
                </a:lnTo>
                <a:lnTo>
                  <a:pt x="3966869" y="3081840"/>
                </a:lnTo>
                <a:lnTo>
                  <a:pt x="3495925" y="2610898"/>
                </a:lnTo>
                <a:lnTo>
                  <a:pt x="3439375" y="2610898"/>
                </a:lnTo>
                <a:close/>
                <a:moveTo>
                  <a:pt x="2388694" y="2610898"/>
                </a:moveTo>
                <a:lnTo>
                  <a:pt x="1917751" y="3081839"/>
                </a:lnTo>
                <a:lnTo>
                  <a:pt x="2387125" y="3551212"/>
                </a:lnTo>
                <a:lnTo>
                  <a:pt x="2446818" y="3551212"/>
                </a:lnTo>
                <a:lnTo>
                  <a:pt x="2916188" y="3081841"/>
                </a:lnTo>
                <a:lnTo>
                  <a:pt x="2445246" y="2610898"/>
                </a:lnTo>
                <a:lnTo>
                  <a:pt x="2388694" y="2610898"/>
                </a:lnTo>
                <a:close/>
                <a:moveTo>
                  <a:pt x="1338016" y="2610898"/>
                </a:moveTo>
                <a:lnTo>
                  <a:pt x="867065" y="3081840"/>
                </a:lnTo>
                <a:lnTo>
                  <a:pt x="1336446" y="3551212"/>
                </a:lnTo>
                <a:lnTo>
                  <a:pt x="1396142" y="3551212"/>
                </a:lnTo>
                <a:lnTo>
                  <a:pt x="1865507" y="3081839"/>
                </a:lnTo>
                <a:lnTo>
                  <a:pt x="1394572" y="2610898"/>
                </a:lnTo>
                <a:lnTo>
                  <a:pt x="1338016" y="2610898"/>
                </a:lnTo>
                <a:close/>
                <a:moveTo>
                  <a:pt x="8139428" y="2500073"/>
                </a:moveTo>
                <a:lnTo>
                  <a:pt x="8250253" y="2500073"/>
                </a:lnTo>
                <a:lnTo>
                  <a:pt x="8250253" y="2610898"/>
                </a:lnTo>
                <a:lnTo>
                  <a:pt x="8139428" y="2610898"/>
                </a:lnTo>
                <a:lnTo>
                  <a:pt x="8139428" y="2500073"/>
                </a:lnTo>
                <a:close/>
                <a:moveTo>
                  <a:pt x="7088620" y="2500073"/>
                </a:moveTo>
                <a:lnTo>
                  <a:pt x="7199445" y="2500073"/>
                </a:lnTo>
                <a:lnTo>
                  <a:pt x="7199445" y="2610898"/>
                </a:lnTo>
                <a:lnTo>
                  <a:pt x="7088620" y="2610898"/>
                </a:lnTo>
                <a:lnTo>
                  <a:pt x="7088620" y="2500073"/>
                </a:lnTo>
                <a:close/>
                <a:moveTo>
                  <a:pt x="6037812" y="2500073"/>
                </a:moveTo>
                <a:lnTo>
                  <a:pt x="6148637" y="2500073"/>
                </a:lnTo>
                <a:lnTo>
                  <a:pt x="6148637" y="2610898"/>
                </a:lnTo>
                <a:lnTo>
                  <a:pt x="6037812" y="2610898"/>
                </a:lnTo>
                <a:lnTo>
                  <a:pt x="6037812" y="2500073"/>
                </a:lnTo>
                <a:close/>
                <a:moveTo>
                  <a:pt x="4987004" y="2500073"/>
                </a:moveTo>
                <a:lnTo>
                  <a:pt x="5097829" y="2500073"/>
                </a:lnTo>
                <a:lnTo>
                  <a:pt x="5097829" y="2610898"/>
                </a:lnTo>
                <a:lnTo>
                  <a:pt x="4987004" y="2610898"/>
                </a:lnTo>
                <a:lnTo>
                  <a:pt x="4987004" y="2500073"/>
                </a:lnTo>
                <a:close/>
                <a:moveTo>
                  <a:pt x="3936207" y="2500073"/>
                </a:moveTo>
                <a:lnTo>
                  <a:pt x="4047031" y="2500073"/>
                </a:lnTo>
                <a:lnTo>
                  <a:pt x="4047031" y="2610898"/>
                </a:lnTo>
                <a:lnTo>
                  <a:pt x="3936207" y="2610898"/>
                </a:lnTo>
                <a:lnTo>
                  <a:pt x="3936207" y="2500073"/>
                </a:lnTo>
                <a:close/>
                <a:moveTo>
                  <a:pt x="2885399" y="2500073"/>
                </a:moveTo>
                <a:lnTo>
                  <a:pt x="2996223" y="2500073"/>
                </a:lnTo>
                <a:lnTo>
                  <a:pt x="2996223" y="2610898"/>
                </a:lnTo>
                <a:lnTo>
                  <a:pt x="2885399" y="2610898"/>
                </a:lnTo>
                <a:lnTo>
                  <a:pt x="2885399" y="2500073"/>
                </a:lnTo>
                <a:close/>
                <a:moveTo>
                  <a:pt x="1834589" y="2500073"/>
                </a:moveTo>
                <a:lnTo>
                  <a:pt x="1945415" y="2500073"/>
                </a:lnTo>
                <a:lnTo>
                  <a:pt x="1945415" y="2610898"/>
                </a:lnTo>
                <a:lnTo>
                  <a:pt x="1834589" y="2610898"/>
                </a:lnTo>
                <a:lnTo>
                  <a:pt x="1834589" y="2500073"/>
                </a:lnTo>
                <a:close/>
                <a:moveTo>
                  <a:pt x="783780" y="2500073"/>
                </a:moveTo>
                <a:lnTo>
                  <a:pt x="894605" y="2500073"/>
                </a:lnTo>
                <a:lnTo>
                  <a:pt x="894605" y="2610898"/>
                </a:lnTo>
                <a:lnTo>
                  <a:pt x="783780" y="2610898"/>
                </a:lnTo>
                <a:lnTo>
                  <a:pt x="783780" y="2500073"/>
                </a:lnTo>
                <a:close/>
                <a:moveTo>
                  <a:pt x="1891628" y="2057290"/>
                </a:moveTo>
                <a:lnTo>
                  <a:pt x="1420016" y="2528900"/>
                </a:lnTo>
                <a:lnTo>
                  <a:pt x="1420016" y="2584097"/>
                </a:lnTo>
                <a:lnTo>
                  <a:pt x="1891629" y="3055718"/>
                </a:lnTo>
                <a:lnTo>
                  <a:pt x="2359995" y="2587353"/>
                </a:lnTo>
                <a:lnTo>
                  <a:pt x="2359995" y="2525647"/>
                </a:lnTo>
                <a:lnTo>
                  <a:pt x="1891628" y="2057290"/>
                </a:lnTo>
                <a:close/>
                <a:moveTo>
                  <a:pt x="2942310" y="2057290"/>
                </a:moveTo>
                <a:lnTo>
                  <a:pt x="2470820" y="2528772"/>
                </a:lnTo>
                <a:lnTo>
                  <a:pt x="2470820" y="2584228"/>
                </a:lnTo>
                <a:lnTo>
                  <a:pt x="2942310" y="3055719"/>
                </a:lnTo>
                <a:lnTo>
                  <a:pt x="3410803" y="2587227"/>
                </a:lnTo>
                <a:lnTo>
                  <a:pt x="3410803" y="2525772"/>
                </a:lnTo>
                <a:lnTo>
                  <a:pt x="2942310" y="2057290"/>
                </a:lnTo>
                <a:close/>
                <a:moveTo>
                  <a:pt x="3992992" y="2057289"/>
                </a:moveTo>
                <a:lnTo>
                  <a:pt x="3521627" y="2528644"/>
                </a:lnTo>
                <a:lnTo>
                  <a:pt x="3521627" y="2584355"/>
                </a:lnTo>
                <a:lnTo>
                  <a:pt x="3992992" y="3055718"/>
                </a:lnTo>
                <a:lnTo>
                  <a:pt x="4461600" y="2587092"/>
                </a:lnTo>
                <a:lnTo>
                  <a:pt x="4461600" y="2525906"/>
                </a:lnTo>
                <a:lnTo>
                  <a:pt x="3992992" y="2057289"/>
                </a:lnTo>
                <a:close/>
                <a:moveTo>
                  <a:pt x="7145018" y="2057289"/>
                </a:moveTo>
                <a:lnTo>
                  <a:pt x="6674041" y="2528257"/>
                </a:lnTo>
                <a:lnTo>
                  <a:pt x="6674041" y="2584737"/>
                </a:lnTo>
                <a:lnTo>
                  <a:pt x="7145020" y="3055716"/>
                </a:lnTo>
                <a:lnTo>
                  <a:pt x="7614024" y="2586712"/>
                </a:lnTo>
                <a:lnTo>
                  <a:pt x="7614024" y="2526286"/>
                </a:lnTo>
                <a:lnTo>
                  <a:pt x="7145018" y="2057289"/>
                </a:lnTo>
                <a:close/>
                <a:moveTo>
                  <a:pt x="5043655" y="2057288"/>
                </a:moveTo>
                <a:lnTo>
                  <a:pt x="4572425" y="2528510"/>
                </a:lnTo>
                <a:lnTo>
                  <a:pt x="4572425" y="2584487"/>
                </a:lnTo>
                <a:lnTo>
                  <a:pt x="5043655" y="3055718"/>
                </a:lnTo>
                <a:lnTo>
                  <a:pt x="5512408" y="2586964"/>
                </a:lnTo>
                <a:lnTo>
                  <a:pt x="5512408" y="2526033"/>
                </a:lnTo>
                <a:lnTo>
                  <a:pt x="5043655" y="2057288"/>
                </a:lnTo>
                <a:close/>
                <a:moveTo>
                  <a:pt x="840943" y="2057288"/>
                </a:moveTo>
                <a:lnTo>
                  <a:pt x="369202" y="2529021"/>
                </a:lnTo>
                <a:lnTo>
                  <a:pt x="369202" y="2583976"/>
                </a:lnTo>
                <a:lnTo>
                  <a:pt x="840943" y="3055718"/>
                </a:lnTo>
                <a:lnTo>
                  <a:pt x="1309190" y="2587479"/>
                </a:lnTo>
                <a:lnTo>
                  <a:pt x="1309190" y="2525518"/>
                </a:lnTo>
                <a:lnTo>
                  <a:pt x="840943" y="2057288"/>
                </a:lnTo>
                <a:close/>
                <a:moveTo>
                  <a:pt x="8195701" y="2057287"/>
                </a:moveTo>
                <a:lnTo>
                  <a:pt x="7724849" y="2528130"/>
                </a:lnTo>
                <a:lnTo>
                  <a:pt x="7724849" y="2584867"/>
                </a:lnTo>
                <a:lnTo>
                  <a:pt x="8195700" y="3055717"/>
                </a:lnTo>
                <a:lnTo>
                  <a:pt x="8664832" y="2586585"/>
                </a:lnTo>
                <a:lnTo>
                  <a:pt x="8664832" y="2526410"/>
                </a:lnTo>
                <a:lnTo>
                  <a:pt x="8195701" y="2057287"/>
                </a:lnTo>
                <a:close/>
                <a:moveTo>
                  <a:pt x="6094339" y="2057287"/>
                </a:moveTo>
                <a:lnTo>
                  <a:pt x="5623233" y="2528385"/>
                </a:lnTo>
                <a:lnTo>
                  <a:pt x="5623233" y="2584613"/>
                </a:lnTo>
                <a:lnTo>
                  <a:pt x="6094336" y="3055717"/>
                </a:lnTo>
                <a:lnTo>
                  <a:pt x="6563216" y="2586838"/>
                </a:lnTo>
                <a:lnTo>
                  <a:pt x="6563216" y="2526156"/>
                </a:lnTo>
                <a:lnTo>
                  <a:pt x="6094339" y="2057287"/>
                </a:lnTo>
                <a:close/>
                <a:moveTo>
                  <a:pt x="1309181" y="1973451"/>
                </a:moveTo>
                <a:lnTo>
                  <a:pt x="1420005" y="1973451"/>
                </a:lnTo>
                <a:lnTo>
                  <a:pt x="1420005" y="2084276"/>
                </a:lnTo>
                <a:lnTo>
                  <a:pt x="1309181" y="2084276"/>
                </a:lnTo>
                <a:lnTo>
                  <a:pt x="1309181" y="1973451"/>
                </a:lnTo>
                <a:close/>
                <a:moveTo>
                  <a:pt x="258371" y="1973451"/>
                </a:moveTo>
                <a:lnTo>
                  <a:pt x="369196" y="1973451"/>
                </a:lnTo>
                <a:lnTo>
                  <a:pt x="369196" y="2084276"/>
                </a:lnTo>
                <a:lnTo>
                  <a:pt x="258371" y="2084276"/>
                </a:lnTo>
                <a:lnTo>
                  <a:pt x="258371" y="1973451"/>
                </a:lnTo>
                <a:close/>
                <a:moveTo>
                  <a:pt x="3410796" y="1973451"/>
                </a:moveTo>
                <a:lnTo>
                  <a:pt x="3521621" y="1973451"/>
                </a:lnTo>
                <a:lnTo>
                  <a:pt x="3521621" y="2084276"/>
                </a:lnTo>
                <a:lnTo>
                  <a:pt x="3410796" y="2084276"/>
                </a:lnTo>
                <a:lnTo>
                  <a:pt x="3410796" y="1973451"/>
                </a:lnTo>
                <a:close/>
                <a:moveTo>
                  <a:pt x="2359988" y="1973451"/>
                </a:moveTo>
                <a:lnTo>
                  <a:pt x="2470813" y="1973451"/>
                </a:lnTo>
                <a:lnTo>
                  <a:pt x="2470813" y="2084276"/>
                </a:lnTo>
                <a:lnTo>
                  <a:pt x="2359988" y="2084276"/>
                </a:lnTo>
                <a:lnTo>
                  <a:pt x="2359988" y="1973451"/>
                </a:lnTo>
                <a:close/>
                <a:moveTo>
                  <a:pt x="4461600" y="1973451"/>
                </a:moveTo>
                <a:lnTo>
                  <a:pt x="4572425" y="1973451"/>
                </a:lnTo>
                <a:lnTo>
                  <a:pt x="4572425" y="2084276"/>
                </a:lnTo>
                <a:lnTo>
                  <a:pt x="4461600" y="2084276"/>
                </a:lnTo>
                <a:lnTo>
                  <a:pt x="4461600" y="1973451"/>
                </a:lnTo>
                <a:close/>
                <a:moveTo>
                  <a:pt x="6563216" y="1973451"/>
                </a:moveTo>
                <a:lnTo>
                  <a:pt x="6674041" y="1973451"/>
                </a:lnTo>
                <a:lnTo>
                  <a:pt x="6674041" y="2084276"/>
                </a:lnTo>
                <a:lnTo>
                  <a:pt x="6563216" y="2084276"/>
                </a:lnTo>
                <a:lnTo>
                  <a:pt x="6563216" y="1973451"/>
                </a:lnTo>
                <a:close/>
                <a:moveTo>
                  <a:pt x="5512408" y="1973451"/>
                </a:moveTo>
                <a:lnTo>
                  <a:pt x="5623233" y="1973451"/>
                </a:lnTo>
                <a:lnTo>
                  <a:pt x="5623233" y="2084276"/>
                </a:lnTo>
                <a:lnTo>
                  <a:pt x="5512408" y="2084276"/>
                </a:lnTo>
                <a:lnTo>
                  <a:pt x="5512408" y="1973451"/>
                </a:lnTo>
                <a:close/>
                <a:moveTo>
                  <a:pt x="8664832" y="1973450"/>
                </a:moveTo>
                <a:lnTo>
                  <a:pt x="8775657" y="1973450"/>
                </a:lnTo>
                <a:lnTo>
                  <a:pt x="8775657" y="2084275"/>
                </a:lnTo>
                <a:lnTo>
                  <a:pt x="8664832" y="2084275"/>
                </a:lnTo>
                <a:lnTo>
                  <a:pt x="8664832" y="1973450"/>
                </a:lnTo>
                <a:close/>
                <a:moveTo>
                  <a:pt x="7614024" y="1973450"/>
                </a:moveTo>
                <a:lnTo>
                  <a:pt x="7724849" y="1973450"/>
                </a:lnTo>
                <a:lnTo>
                  <a:pt x="7724849" y="2084275"/>
                </a:lnTo>
                <a:lnTo>
                  <a:pt x="7614024" y="2084275"/>
                </a:lnTo>
                <a:lnTo>
                  <a:pt x="7614024" y="1973450"/>
                </a:lnTo>
                <a:close/>
                <a:moveTo>
                  <a:pt x="1340281" y="1557960"/>
                </a:moveTo>
                <a:lnTo>
                  <a:pt x="867065" y="2031167"/>
                </a:lnTo>
                <a:lnTo>
                  <a:pt x="1335989" y="2500073"/>
                </a:lnTo>
                <a:lnTo>
                  <a:pt x="1396599" y="2500073"/>
                </a:lnTo>
                <a:lnTo>
                  <a:pt x="1865505" y="2031168"/>
                </a:lnTo>
                <a:lnTo>
                  <a:pt x="1392304" y="1557960"/>
                </a:lnTo>
                <a:lnTo>
                  <a:pt x="1340281" y="1557960"/>
                </a:lnTo>
                <a:close/>
                <a:moveTo>
                  <a:pt x="3441642" y="1557959"/>
                </a:moveTo>
                <a:lnTo>
                  <a:pt x="2968432" y="2031168"/>
                </a:lnTo>
                <a:lnTo>
                  <a:pt x="3437347" y="2500073"/>
                </a:lnTo>
                <a:lnTo>
                  <a:pt x="3497954" y="2500073"/>
                </a:lnTo>
                <a:lnTo>
                  <a:pt x="3966871" y="2031167"/>
                </a:lnTo>
                <a:lnTo>
                  <a:pt x="3493660" y="1557959"/>
                </a:lnTo>
                <a:lnTo>
                  <a:pt x="3441642" y="1557959"/>
                </a:lnTo>
                <a:close/>
                <a:moveTo>
                  <a:pt x="2390960" y="1557959"/>
                </a:moveTo>
                <a:lnTo>
                  <a:pt x="1917749" y="2031168"/>
                </a:lnTo>
                <a:lnTo>
                  <a:pt x="2386666" y="2500073"/>
                </a:lnTo>
                <a:lnTo>
                  <a:pt x="2447276" y="2500073"/>
                </a:lnTo>
                <a:lnTo>
                  <a:pt x="2916188" y="2031168"/>
                </a:lnTo>
                <a:lnTo>
                  <a:pt x="2442982" y="1557959"/>
                </a:lnTo>
                <a:lnTo>
                  <a:pt x="2390960" y="1557959"/>
                </a:lnTo>
                <a:close/>
                <a:moveTo>
                  <a:pt x="5542984" y="1557959"/>
                </a:moveTo>
                <a:lnTo>
                  <a:pt x="5069777" y="2031166"/>
                </a:lnTo>
                <a:lnTo>
                  <a:pt x="5538692" y="2500073"/>
                </a:lnTo>
                <a:lnTo>
                  <a:pt x="5599300" y="2500073"/>
                </a:lnTo>
                <a:lnTo>
                  <a:pt x="6068216" y="2031165"/>
                </a:lnTo>
                <a:lnTo>
                  <a:pt x="5595011" y="1557959"/>
                </a:lnTo>
                <a:lnTo>
                  <a:pt x="5542984" y="1557959"/>
                </a:lnTo>
                <a:close/>
                <a:moveTo>
                  <a:pt x="4492304" y="1557959"/>
                </a:moveTo>
                <a:lnTo>
                  <a:pt x="4019114" y="2031167"/>
                </a:lnTo>
                <a:lnTo>
                  <a:pt x="4488010" y="2500073"/>
                </a:lnTo>
                <a:lnTo>
                  <a:pt x="4548618" y="2500073"/>
                </a:lnTo>
                <a:lnTo>
                  <a:pt x="5017533" y="2031166"/>
                </a:lnTo>
                <a:lnTo>
                  <a:pt x="4544326" y="1557959"/>
                </a:lnTo>
                <a:lnTo>
                  <a:pt x="4492304" y="1557959"/>
                </a:lnTo>
                <a:close/>
                <a:moveTo>
                  <a:pt x="7644348" y="1557959"/>
                </a:moveTo>
                <a:lnTo>
                  <a:pt x="7171139" y="2031167"/>
                </a:lnTo>
                <a:lnTo>
                  <a:pt x="7640054" y="2500073"/>
                </a:lnTo>
                <a:lnTo>
                  <a:pt x="7700663" y="2500073"/>
                </a:lnTo>
                <a:lnTo>
                  <a:pt x="8169579" y="2031166"/>
                </a:lnTo>
                <a:lnTo>
                  <a:pt x="7696373" y="1557959"/>
                </a:lnTo>
                <a:lnTo>
                  <a:pt x="7644348" y="1557959"/>
                </a:lnTo>
                <a:close/>
                <a:moveTo>
                  <a:pt x="6593666" y="1557959"/>
                </a:moveTo>
                <a:lnTo>
                  <a:pt x="6120461" y="2031165"/>
                </a:lnTo>
                <a:lnTo>
                  <a:pt x="6589377" y="2500073"/>
                </a:lnTo>
                <a:lnTo>
                  <a:pt x="6649981" y="2500073"/>
                </a:lnTo>
                <a:lnTo>
                  <a:pt x="7118896" y="2031167"/>
                </a:lnTo>
                <a:lnTo>
                  <a:pt x="6645688" y="1557959"/>
                </a:lnTo>
                <a:lnTo>
                  <a:pt x="6593666" y="1557959"/>
                </a:lnTo>
                <a:close/>
                <a:moveTo>
                  <a:pt x="783783" y="1447135"/>
                </a:moveTo>
                <a:lnTo>
                  <a:pt x="894607" y="1447135"/>
                </a:lnTo>
                <a:lnTo>
                  <a:pt x="894607" y="1557960"/>
                </a:lnTo>
                <a:lnTo>
                  <a:pt x="783783" y="1557960"/>
                </a:lnTo>
                <a:lnTo>
                  <a:pt x="783783" y="1447135"/>
                </a:lnTo>
                <a:close/>
                <a:moveTo>
                  <a:pt x="3936210" y="1447134"/>
                </a:moveTo>
                <a:lnTo>
                  <a:pt x="4047034" y="1447134"/>
                </a:lnTo>
                <a:lnTo>
                  <a:pt x="4047034" y="1557959"/>
                </a:lnTo>
                <a:lnTo>
                  <a:pt x="3936210" y="1557959"/>
                </a:lnTo>
                <a:lnTo>
                  <a:pt x="3936210" y="1447134"/>
                </a:lnTo>
                <a:close/>
                <a:moveTo>
                  <a:pt x="2885402" y="1447134"/>
                </a:moveTo>
                <a:lnTo>
                  <a:pt x="2996226" y="1447134"/>
                </a:lnTo>
                <a:lnTo>
                  <a:pt x="2996226" y="1557959"/>
                </a:lnTo>
                <a:lnTo>
                  <a:pt x="2885402" y="1557959"/>
                </a:lnTo>
                <a:lnTo>
                  <a:pt x="2885402" y="1447134"/>
                </a:lnTo>
                <a:close/>
                <a:moveTo>
                  <a:pt x="1834592" y="1447134"/>
                </a:moveTo>
                <a:lnTo>
                  <a:pt x="1945417" y="1447134"/>
                </a:lnTo>
                <a:lnTo>
                  <a:pt x="1945417" y="1557959"/>
                </a:lnTo>
                <a:lnTo>
                  <a:pt x="1834592" y="1557959"/>
                </a:lnTo>
                <a:lnTo>
                  <a:pt x="1834592" y="1447134"/>
                </a:lnTo>
                <a:close/>
                <a:moveTo>
                  <a:pt x="6037812" y="1447134"/>
                </a:moveTo>
                <a:lnTo>
                  <a:pt x="6148637" y="1447134"/>
                </a:lnTo>
                <a:lnTo>
                  <a:pt x="6148637" y="1557959"/>
                </a:lnTo>
                <a:lnTo>
                  <a:pt x="6037812" y="1557959"/>
                </a:lnTo>
                <a:lnTo>
                  <a:pt x="6037812" y="1447134"/>
                </a:lnTo>
                <a:close/>
                <a:moveTo>
                  <a:pt x="4987004" y="1447134"/>
                </a:moveTo>
                <a:lnTo>
                  <a:pt x="5097829" y="1447134"/>
                </a:lnTo>
                <a:lnTo>
                  <a:pt x="5097829" y="1557959"/>
                </a:lnTo>
                <a:lnTo>
                  <a:pt x="4987004" y="1557959"/>
                </a:lnTo>
                <a:lnTo>
                  <a:pt x="4987004" y="1447134"/>
                </a:lnTo>
                <a:close/>
                <a:moveTo>
                  <a:pt x="8139428" y="1447134"/>
                </a:moveTo>
                <a:lnTo>
                  <a:pt x="8250253" y="1447134"/>
                </a:lnTo>
                <a:lnTo>
                  <a:pt x="8250253" y="1557959"/>
                </a:lnTo>
                <a:lnTo>
                  <a:pt x="8139428" y="1557959"/>
                </a:lnTo>
                <a:lnTo>
                  <a:pt x="8139428" y="1447134"/>
                </a:lnTo>
                <a:close/>
                <a:moveTo>
                  <a:pt x="7088620" y="1447134"/>
                </a:moveTo>
                <a:lnTo>
                  <a:pt x="7199445" y="1447134"/>
                </a:lnTo>
                <a:lnTo>
                  <a:pt x="7199445" y="1557959"/>
                </a:lnTo>
                <a:lnTo>
                  <a:pt x="7088620" y="1557959"/>
                </a:lnTo>
                <a:lnTo>
                  <a:pt x="7088620" y="1447134"/>
                </a:lnTo>
                <a:close/>
                <a:moveTo>
                  <a:pt x="2942311" y="1006606"/>
                </a:moveTo>
                <a:lnTo>
                  <a:pt x="2470823" y="1478096"/>
                </a:lnTo>
                <a:lnTo>
                  <a:pt x="2470823" y="1533557"/>
                </a:lnTo>
                <a:lnTo>
                  <a:pt x="2942310" y="2005046"/>
                </a:lnTo>
                <a:lnTo>
                  <a:pt x="3410807" y="1536551"/>
                </a:lnTo>
                <a:lnTo>
                  <a:pt x="3410807" y="1475102"/>
                </a:lnTo>
                <a:lnTo>
                  <a:pt x="2942311" y="1006606"/>
                </a:lnTo>
                <a:close/>
                <a:moveTo>
                  <a:pt x="1891628" y="1006606"/>
                </a:moveTo>
                <a:lnTo>
                  <a:pt x="1420020" y="1478222"/>
                </a:lnTo>
                <a:lnTo>
                  <a:pt x="1420020" y="1533430"/>
                </a:lnTo>
                <a:lnTo>
                  <a:pt x="1891628" y="2005046"/>
                </a:lnTo>
                <a:lnTo>
                  <a:pt x="2359999" y="1536677"/>
                </a:lnTo>
                <a:lnTo>
                  <a:pt x="2359999" y="1474976"/>
                </a:lnTo>
                <a:lnTo>
                  <a:pt x="1891628" y="1006606"/>
                </a:lnTo>
                <a:close/>
                <a:moveTo>
                  <a:pt x="840942" y="1006606"/>
                </a:moveTo>
                <a:lnTo>
                  <a:pt x="369204" y="1478346"/>
                </a:lnTo>
                <a:lnTo>
                  <a:pt x="369204" y="1533304"/>
                </a:lnTo>
                <a:lnTo>
                  <a:pt x="840943" y="2005045"/>
                </a:lnTo>
                <a:lnTo>
                  <a:pt x="1309193" y="1536802"/>
                </a:lnTo>
                <a:lnTo>
                  <a:pt x="1309193" y="1474850"/>
                </a:lnTo>
                <a:lnTo>
                  <a:pt x="840942" y="1006606"/>
                </a:lnTo>
                <a:close/>
                <a:moveTo>
                  <a:pt x="3992992" y="1006606"/>
                </a:moveTo>
                <a:lnTo>
                  <a:pt x="3521631" y="1477968"/>
                </a:lnTo>
                <a:lnTo>
                  <a:pt x="3521631" y="1533684"/>
                </a:lnTo>
                <a:lnTo>
                  <a:pt x="3992992" y="2005046"/>
                </a:lnTo>
                <a:lnTo>
                  <a:pt x="4461600" y="1536420"/>
                </a:lnTo>
                <a:lnTo>
                  <a:pt x="4461600" y="1475233"/>
                </a:lnTo>
                <a:lnTo>
                  <a:pt x="3992992" y="1006606"/>
                </a:lnTo>
                <a:close/>
                <a:moveTo>
                  <a:pt x="6094336" y="1006605"/>
                </a:moveTo>
                <a:lnTo>
                  <a:pt x="5623233" y="1477710"/>
                </a:lnTo>
                <a:lnTo>
                  <a:pt x="5623233" y="1533937"/>
                </a:lnTo>
                <a:lnTo>
                  <a:pt x="6094338" y="2005043"/>
                </a:lnTo>
                <a:lnTo>
                  <a:pt x="6563216" y="1536165"/>
                </a:lnTo>
                <a:lnTo>
                  <a:pt x="6563216" y="1475486"/>
                </a:lnTo>
                <a:lnTo>
                  <a:pt x="6094336" y="1006605"/>
                </a:lnTo>
                <a:close/>
                <a:moveTo>
                  <a:pt x="7145020" y="1006604"/>
                </a:moveTo>
                <a:lnTo>
                  <a:pt x="6674041" y="1477584"/>
                </a:lnTo>
                <a:lnTo>
                  <a:pt x="6674041" y="1534069"/>
                </a:lnTo>
                <a:lnTo>
                  <a:pt x="7145018" y="2005045"/>
                </a:lnTo>
                <a:lnTo>
                  <a:pt x="7614024" y="1536039"/>
                </a:lnTo>
                <a:lnTo>
                  <a:pt x="7614024" y="1475610"/>
                </a:lnTo>
                <a:lnTo>
                  <a:pt x="7145020" y="1006604"/>
                </a:lnTo>
                <a:close/>
                <a:moveTo>
                  <a:pt x="8195701" y="1006604"/>
                </a:moveTo>
                <a:lnTo>
                  <a:pt x="7724849" y="1477457"/>
                </a:lnTo>
                <a:lnTo>
                  <a:pt x="7724849" y="1534190"/>
                </a:lnTo>
                <a:lnTo>
                  <a:pt x="8195702" y="2005044"/>
                </a:lnTo>
                <a:lnTo>
                  <a:pt x="8664832" y="1535914"/>
                </a:lnTo>
                <a:lnTo>
                  <a:pt x="8664832" y="1475735"/>
                </a:lnTo>
                <a:lnTo>
                  <a:pt x="8195701" y="1006604"/>
                </a:lnTo>
                <a:close/>
                <a:moveTo>
                  <a:pt x="5043657" y="1006604"/>
                </a:moveTo>
                <a:lnTo>
                  <a:pt x="4572425" y="1477838"/>
                </a:lnTo>
                <a:lnTo>
                  <a:pt x="4572425" y="1533814"/>
                </a:lnTo>
                <a:lnTo>
                  <a:pt x="5043655" y="2005045"/>
                </a:lnTo>
                <a:lnTo>
                  <a:pt x="5512408" y="1536292"/>
                </a:lnTo>
                <a:lnTo>
                  <a:pt x="5512408" y="1475356"/>
                </a:lnTo>
                <a:lnTo>
                  <a:pt x="5043657" y="1006604"/>
                </a:lnTo>
                <a:close/>
                <a:moveTo>
                  <a:pt x="2359987" y="922636"/>
                </a:moveTo>
                <a:lnTo>
                  <a:pt x="2470812" y="922636"/>
                </a:lnTo>
                <a:lnTo>
                  <a:pt x="2470812" y="1033461"/>
                </a:lnTo>
                <a:lnTo>
                  <a:pt x="2359987" y="1033461"/>
                </a:lnTo>
                <a:lnTo>
                  <a:pt x="2359987" y="922636"/>
                </a:lnTo>
                <a:close/>
                <a:moveTo>
                  <a:pt x="1309178" y="922636"/>
                </a:moveTo>
                <a:lnTo>
                  <a:pt x="1420004" y="922636"/>
                </a:lnTo>
                <a:lnTo>
                  <a:pt x="1420004" y="1033461"/>
                </a:lnTo>
                <a:lnTo>
                  <a:pt x="1309178" y="1033461"/>
                </a:lnTo>
                <a:lnTo>
                  <a:pt x="1309178" y="922636"/>
                </a:lnTo>
                <a:close/>
                <a:moveTo>
                  <a:pt x="258370" y="922636"/>
                </a:moveTo>
                <a:lnTo>
                  <a:pt x="369195" y="922636"/>
                </a:lnTo>
                <a:lnTo>
                  <a:pt x="369195" y="1033461"/>
                </a:lnTo>
                <a:lnTo>
                  <a:pt x="258370" y="1033461"/>
                </a:lnTo>
                <a:lnTo>
                  <a:pt x="258370" y="922636"/>
                </a:lnTo>
                <a:close/>
                <a:moveTo>
                  <a:pt x="4461600" y="922636"/>
                </a:moveTo>
                <a:lnTo>
                  <a:pt x="4572425" y="922636"/>
                </a:lnTo>
                <a:lnTo>
                  <a:pt x="4572425" y="1033461"/>
                </a:lnTo>
                <a:lnTo>
                  <a:pt x="4461600" y="1033461"/>
                </a:lnTo>
                <a:lnTo>
                  <a:pt x="4461600" y="922636"/>
                </a:lnTo>
                <a:close/>
                <a:moveTo>
                  <a:pt x="3410794" y="922636"/>
                </a:moveTo>
                <a:lnTo>
                  <a:pt x="3521620" y="922636"/>
                </a:lnTo>
                <a:lnTo>
                  <a:pt x="3521620" y="1033461"/>
                </a:lnTo>
                <a:lnTo>
                  <a:pt x="3410794" y="1033461"/>
                </a:lnTo>
                <a:lnTo>
                  <a:pt x="3410794" y="922636"/>
                </a:lnTo>
                <a:close/>
                <a:moveTo>
                  <a:pt x="7614024" y="922636"/>
                </a:moveTo>
                <a:lnTo>
                  <a:pt x="7724849" y="922636"/>
                </a:lnTo>
                <a:lnTo>
                  <a:pt x="7724849" y="1033461"/>
                </a:lnTo>
                <a:lnTo>
                  <a:pt x="7614024" y="1033461"/>
                </a:lnTo>
                <a:lnTo>
                  <a:pt x="7614024" y="922636"/>
                </a:lnTo>
                <a:close/>
                <a:moveTo>
                  <a:pt x="6563216" y="922636"/>
                </a:moveTo>
                <a:lnTo>
                  <a:pt x="6674041" y="922636"/>
                </a:lnTo>
                <a:lnTo>
                  <a:pt x="6674041" y="1033461"/>
                </a:lnTo>
                <a:lnTo>
                  <a:pt x="6563216" y="1033461"/>
                </a:lnTo>
                <a:lnTo>
                  <a:pt x="6563216" y="922636"/>
                </a:lnTo>
                <a:close/>
                <a:moveTo>
                  <a:pt x="5512408" y="922636"/>
                </a:moveTo>
                <a:lnTo>
                  <a:pt x="5623233" y="922636"/>
                </a:lnTo>
                <a:lnTo>
                  <a:pt x="5623233" y="1033461"/>
                </a:lnTo>
                <a:lnTo>
                  <a:pt x="5512408" y="1033461"/>
                </a:lnTo>
                <a:lnTo>
                  <a:pt x="5512408" y="922636"/>
                </a:lnTo>
                <a:close/>
                <a:moveTo>
                  <a:pt x="8664832" y="922635"/>
                </a:moveTo>
                <a:lnTo>
                  <a:pt x="8775657" y="922635"/>
                </a:lnTo>
                <a:lnTo>
                  <a:pt x="8775657" y="1033460"/>
                </a:lnTo>
                <a:lnTo>
                  <a:pt x="8664832" y="1033460"/>
                </a:lnTo>
                <a:lnTo>
                  <a:pt x="8664832" y="922635"/>
                </a:lnTo>
                <a:close/>
                <a:moveTo>
                  <a:pt x="1337494" y="510063"/>
                </a:moveTo>
                <a:lnTo>
                  <a:pt x="867064" y="980485"/>
                </a:lnTo>
                <a:lnTo>
                  <a:pt x="1333721" y="1447135"/>
                </a:lnTo>
                <a:lnTo>
                  <a:pt x="1398862" y="1447135"/>
                </a:lnTo>
                <a:lnTo>
                  <a:pt x="1865505" y="980485"/>
                </a:lnTo>
                <a:lnTo>
                  <a:pt x="1395091" y="510063"/>
                </a:lnTo>
                <a:lnTo>
                  <a:pt x="1337494" y="510063"/>
                </a:lnTo>
                <a:close/>
                <a:moveTo>
                  <a:pt x="2388172" y="510063"/>
                </a:moveTo>
                <a:lnTo>
                  <a:pt x="1917749" y="980485"/>
                </a:lnTo>
                <a:lnTo>
                  <a:pt x="2384400" y="1447135"/>
                </a:lnTo>
                <a:lnTo>
                  <a:pt x="2449540" y="1447135"/>
                </a:lnTo>
                <a:lnTo>
                  <a:pt x="2916188" y="980485"/>
                </a:lnTo>
                <a:lnTo>
                  <a:pt x="2445768" y="510063"/>
                </a:lnTo>
                <a:lnTo>
                  <a:pt x="2388172" y="510063"/>
                </a:lnTo>
                <a:close/>
                <a:moveTo>
                  <a:pt x="3438854" y="510063"/>
                </a:moveTo>
                <a:lnTo>
                  <a:pt x="2968432" y="980485"/>
                </a:lnTo>
                <a:lnTo>
                  <a:pt x="3435082" y="1447134"/>
                </a:lnTo>
                <a:lnTo>
                  <a:pt x="3500221" y="1447134"/>
                </a:lnTo>
                <a:lnTo>
                  <a:pt x="3966871" y="980485"/>
                </a:lnTo>
                <a:lnTo>
                  <a:pt x="3496446" y="510063"/>
                </a:lnTo>
                <a:lnTo>
                  <a:pt x="3438854" y="510063"/>
                </a:lnTo>
                <a:close/>
                <a:moveTo>
                  <a:pt x="4489516" y="510063"/>
                </a:moveTo>
                <a:lnTo>
                  <a:pt x="4019114" y="980485"/>
                </a:lnTo>
                <a:lnTo>
                  <a:pt x="4485745" y="1447134"/>
                </a:lnTo>
                <a:lnTo>
                  <a:pt x="4550885" y="1447134"/>
                </a:lnTo>
                <a:lnTo>
                  <a:pt x="5017536" y="980482"/>
                </a:lnTo>
                <a:lnTo>
                  <a:pt x="4547117" y="510063"/>
                </a:lnTo>
                <a:lnTo>
                  <a:pt x="4489516" y="510063"/>
                </a:lnTo>
                <a:close/>
                <a:moveTo>
                  <a:pt x="5540197" y="510063"/>
                </a:moveTo>
                <a:lnTo>
                  <a:pt x="5069779" y="980483"/>
                </a:lnTo>
                <a:lnTo>
                  <a:pt x="5536430" y="1447134"/>
                </a:lnTo>
                <a:lnTo>
                  <a:pt x="5601565" y="1447134"/>
                </a:lnTo>
                <a:lnTo>
                  <a:pt x="6068214" y="980484"/>
                </a:lnTo>
                <a:lnTo>
                  <a:pt x="5597794" y="510063"/>
                </a:lnTo>
                <a:lnTo>
                  <a:pt x="5540197" y="510063"/>
                </a:lnTo>
                <a:close/>
                <a:moveTo>
                  <a:pt x="6590878" y="510062"/>
                </a:moveTo>
                <a:lnTo>
                  <a:pt x="6120457" y="980484"/>
                </a:lnTo>
                <a:lnTo>
                  <a:pt x="6587106" y="1447134"/>
                </a:lnTo>
                <a:lnTo>
                  <a:pt x="6652247" y="1447134"/>
                </a:lnTo>
                <a:lnTo>
                  <a:pt x="7118898" y="980483"/>
                </a:lnTo>
                <a:lnTo>
                  <a:pt x="6648479" y="510062"/>
                </a:lnTo>
                <a:lnTo>
                  <a:pt x="6590878" y="510062"/>
                </a:lnTo>
                <a:close/>
                <a:moveTo>
                  <a:pt x="7641560" y="510062"/>
                </a:moveTo>
                <a:lnTo>
                  <a:pt x="7171142" y="980482"/>
                </a:lnTo>
                <a:lnTo>
                  <a:pt x="7637793" y="1447134"/>
                </a:lnTo>
                <a:lnTo>
                  <a:pt x="7702929" y="1447134"/>
                </a:lnTo>
                <a:lnTo>
                  <a:pt x="8169579" y="980483"/>
                </a:lnTo>
                <a:lnTo>
                  <a:pt x="7699160" y="510062"/>
                </a:lnTo>
                <a:lnTo>
                  <a:pt x="7641560" y="510062"/>
                </a:lnTo>
                <a:close/>
                <a:moveTo>
                  <a:pt x="783785" y="399238"/>
                </a:moveTo>
                <a:lnTo>
                  <a:pt x="894609" y="399238"/>
                </a:lnTo>
                <a:lnTo>
                  <a:pt x="894609" y="510063"/>
                </a:lnTo>
                <a:lnTo>
                  <a:pt x="783785" y="510063"/>
                </a:lnTo>
                <a:lnTo>
                  <a:pt x="783785" y="399238"/>
                </a:lnTo>
                <a:close/>
                <a:moveTo>
                  <a:pt x="1834594" y="399238"/>
                </a:moveTo>
                <a:lnTo>
                  <a:pt x="1945420" y="399238"/>
                </a:lnTo>
                <a:lnTo>
                  <a:pt x="1945420" y="510063"/>
                </a:lnTo>
                <a:lnTo>
                  <a:pt x="1834594" y="510063"/>
                </a:lnTo>
                <a:lnTo>
                  <a:pt x="1834594" y="399238"/>
                </a:lnTo>
                <a:close/>
                <a:moveTo>
                  <a:pt x="3936212" y="399238"/>
                </a:moveTo>
                <a:lnTo>
                  <a:pt x="4047037" y="399238"/>
                </a:lnTo>
                <a:lnTo>
                  <a:pt x="4047037" y="510063"/>
                </a:lnTo>
                <a:lnTo>
                  <a:pt x="3936212" y="510063"/>
                </a:lnTo>
                <a:lnTo>
                  <a:pt x="3936212" y="399238"/>
                </a:lnTo>
                <a:close/>
                <a:moveTo>
                  <a:pt x="2885405" y="399238"/>
                </a:moveTo>
                <a:lnTo>
                  <a:pt x="2996229" y="399238"/>
                </a:lnTo>
                <a:lnTo>
                  <a:pt x="2996229" y="510063"/>
                </a:lnTo>
                <a:lnTo>
                  <a:pt x="2885405" y="510063"/>
                </a:lnTo>
                <a:lnTo>
                  <a:pt x="2885405" y="399238"/>
                </a:lnTo>
                <a:close/>
                <a:moveTo>
                  <a:pt x="4987004" y="399238"/>
                </a:moveTo>
                <a:lnTo>
                  <a:pt x="5097829" y="399238"/>
                </a:lnTo>
                <a:lnTo>
                  <a:pt x="5097829" y="510063"/>
                </a:lnTo>
                <a:lnTo>
                  <a:pt x="4987004" y="510063"/>
                </a:lnTo>
                <a:lnTo>
                  <a:pt x="4987004" y="399238"/>
                </a:lnTo>
                <a:close/>
                <a:moveTo>
                  <a:pt x="6037812" y="399238"/>
                </a:moveTo>
                <a:lnTo>
                  <a:pt x="6148637" y="399238"/>
                </a:lnTo>
                <a:lnTo>
                  <a:pt x="6148637" y="510062"/>
                </a:lnTo>
                <a:lnTo>
                  <a:pt x="6037812" y="510062"/>
                </a:lnTo>
                <a:lnTo>
                  <a:pt x="6037812" y="399238"/>
                </a:lnTo>
                <a:close/>
                <a:moveTo>
                  <a:pt x="7088620" y="399237"/>
                </a:moveTo>
                <a:lnTo>
                  <a:pt x="7199445" y="399237"/>
                </a:lnTo>
                <a:lnTo>
                  <a:pt x="7199445" y="510062"/>
                </a:lnTo>
                <a:lnTo>
                  <a:pt x="7088620" y="510062"/>
                </a:lnTo>
                <a:lnTo>
                  <a:pt x="7088620" y="399237"/>
                </a:lnTo>
                <a:close/>
                <a:moveTo>
                  <a:pt x="8139428" y="399237"/>
                </a:moveTo>
                <a:lnTo>
                  <a:pt x="8250253" y="399237"/>
                </a:lnTo>
                <a:lnTo>
                  <a:pt x="8250253" y="510062"/>
                </a:lnTo>
                <a:lnTo>
                  <a:pt x="8139428" y="510062"/>
                </a:lnTo>
                <a:lnTo>
                  <a:pt x="8139428" y="399237"/>
                </a:lnTo>
                <a:close/>
                <a:moveTo>
                  <a:pt x="6138416" y="0"/>
                </a:moveTo>
                <a:lnTo>
                  <a:pt x="6190660" y="0"/>
                </a:lnTo>
                <a:lnTo>
                  <a:pt x="6589898" y="399238"/>
                </a:lnTo>
                <a:lnTo>
                  <a:pt x="6649459" y="399238"/>
                </a:lnTo>
                <a:lnTo>
                  <a:pt x="7048695" y="2"/>
                </a:lnTo>
                <a:lnTo>
                  <a:pt x="7100939" y="2"/>
                </a:lnTo>
                <a:lnTo>
                  <a:pt x="6674041" y="426899"/>
                </a:lnTo>
                <a:lnTo>
                  <a:pt x="6674041" y="483380"/>
                </a:lnTo>
                <a:lnTo>
                  <a:pt x="7145020" y="954361"/>
                </a:lnTo>
                <a:lnTo>
                  <a:pt x="7614024" y="485355"/>
                </a:lnTo>
                <a:lnTo>
                  <a:pt x="7614024" y="424926"/>
                </a:lnTo>
                <a:lnTo>
                  <a:pt x="7189097" y="1"/>
                </a:lnTo>
                <a:lnTo>
                  <a:pt x="7241340" y="1"/>
                </a:lnTo>
                <a:lnTo>
                  <a:pt x="7640577" y="399237"/>
                </a:lnTo>
                <a:lnTo>
                  <a:pt x="7700142" y="399237"/>
                </a:lnTo>
                <a:lnTo>
                  <a:pt x="8099378" y="1"/>
                </a:lnTo>
                <a:lnTo>
                  <a:pt x="8151622" y="1"/>
                </a:lnTo>
                <a:lnTo>
                  <a:pt x="7724849" y="426774"/>
                </a:lnTo>
                <a:lnTo>
                  <a:pt x="7724849" y="483509"/>
                </a:lnTo>
                <a:lnTo>
                  <a:pt x="8195700" y="954363"/>
                </a:lnTo>
                <a:lnTo>
                  <a:pt x="8664832" y="485228"/>
                </a:lnTo>
                <a:lnTo>
                  <a:pt x="8664832" y="425054"/>
                </a:lnTo>
                <a:lnTo>
                  <a:pt x="8239778" y="1"/>
                </a:lnTo>
                <a:lnTo>
                  <a:pt x="8292022" y="1"/>
                </a:lnTo>
                <a:lnTo>
                  <a:pt x="8691259" y="399237"/>
                </a:lnTo>
                <a:lnTo>
                  <a:pt x="8750823" y="399237"/>
                </a:lnTo>
                <a:lnTo>
                  <a:pt x="9143986" y="6075"/>
                </a:lnTo>
                <a:lnTo>
                  <a:pt x="9143986" y="58319"/>
                </a:lnTo>
                <a:lnTo>
                  <a:pt x="8775657" y="426647"/>
                </a:lnTo>
                <a:lnTo>
                  <a:pt x="8775657" y="483635"/>
                </a:lnTo>
                <a:lnTo>
                  <a:pt x="9143986" y="851966"/>
                </a:lnTo>
                <a:lnTo>
                  <a:pt x="9143986" y="904210"/>
                </a:lnTo>
                <a:lnTo>
                  <a:pt x="8749840" y="510062"/>
                </a:lnTo>
                <a:lnTo>
                  <a:pt x="8692242" y="510062"/>
                </a:lnTo>
                <a:lnTo>
                  <a:pt x="8221822" y="980484"/>
                </a:lnTo>
                <a:lnTo>
                  <a:pt x="8688471" y="1447133"/>
                </a:lnTo>
                <a:lnTo>
                  <a:pt x="8753611" y="1447133"/>
                </a:lnTo>
                <a:lnTo>
                  <a:pt x="9143986" y="1056762"/>
                </a:lnTo>
                <a:lnTo>
                  <a:pt x="9143986" y="1109003"/>
                </a:lnTo>
                <a:lnTo>
                  <a:pt x="8775657" y="1477331"/>
                </a:lnTo>
                <a:lnTo>
                  <a:pt x="8775657" y="1534319"/>
                </a:lnTo>
                <a:lnTo>
                  <a:pt x="9143986" y="1902649"/>
                </a:lnTo>
                <a:lnTo>
                  <a:pt x="9143987" y="1954891"/>
                </a:lnTo>
                <a:lnTo>
                  <a:pt x="8747055" y="1557959"/>
                </a:lnTo>
                <a:lnTo>
                  <a:pt x="8695029" y="1557959"/>
                </a:lnTo>
                <a:lnTo>
                  <a:pt x="8221823" y="2031165"/>
                </a:lnTo>
                <a:lnTo>
                  <a:pt x="8690741" y="2500073"/>
                </a:lnTo>
                <a:lnTo>
                  <a:pt x="8751345" y="2500073"/>
                </a:lnTo>
                <a:lnTo>
                  <a:pt x="9143986" y="2107432"/>
                </a:lnTo>
                <a:lnTo>
                  <a:pt x="9143986" y="2159677"/>
                </a:lnTo>
                <a:lnTo>
                  <a:pt x="8775657" y="2528005"/>
                </a:lnTo>
                <a:lnTo>
                  <a:pt x="8775657" y="2584989"/>
                </a:lnTo>
                <a:lnTo>
                  <a:pt x="9143987" y="2953319"/>
                </a:lnTo>
                <a:lnTo>
                  <a:pt x="9143987" y="3005564"/>
                </a:lnTo>
                <a:lnTo>
                  <a:pt x="8749321" y="2610898"/>
                </a:lnTo>
                <a:lnTo>
                  <a:pt x="8692765" y="2610898"/>
                </a:lnTo>
                <a:lnTo>
                  <a:pt x="8221822" y="3081840"/>
                </a:lnTo>
                <a:lnTo>
                  <a:pt x="8691194" y="3551212"/>
                </a:lnTo>
                <a:lnTo>
                  <a:pt x="8750888" y="3551212"/>
                </a:lnTo>
                <a:lnTo>
                  <a:pt x="9143986" y="3158114"/>
                </a:lnTo>
                <a:lnTo>
                  <a:pt x="9143986" y="3210356"/>
                </a:lnTo>
                <a:lnTo>
                  <a:pt x="8775657" y="3578686"/>
                </a:lnTo>
                <a:lnTo>
                  <a:pt x="8775657" y="3635674"/>
                </a:lnTo>
                <a:lnTo>
                  <a:pt x="9143986" y="4004003"/>
                </a:lnTo>
                <a:lnTo>
                  <a:pt x="9143986" y="4056248"/>
                </a:lnTo>
                <a:lnTo>
                  <a:pt x="8749774" y="3662037"/>
                </a:lnTo>
                <a:lnTo>
                  <a:pt x="8692306" y="3662037"/>
                </a:lnTo>
                <a:lnTo>
                  <a:pt x="8221823" y="4132519"/>
                </a:lnTo>
                <a:lnTo>
                  <a:pt x="8661299" y="4571995"/>
                </a:lnTo>
                <a:lnTo>
                  <a:pt x="8609053" y="4571995"/>
                </a:lnTo>
                <a:lnTo>
                  <a:pt x="8195700" y="4158642"/>
                </a:lnTo>
                <a:lnTo>
                  <a:pt x="7782346" y="4571997"/>
                </a:lnTo>
                <a:lnTo>
                  <a:pt x="7730103" y="4571997"/>
                </a:lnTo>
                <a:lnTo>
                  <a:pt x="8169579" y="4132521"/>
                </a:lnTo>
                <a:lnTo>
                  <a:pt x="7699096" y="3662037"/>
                </a:lnTo>
                <a:lnTo>
                  <a:pt x="7641624" y="3662037"/>
                </a:lnTo>
                <a:lnTo>
                  <a:pt x="7171140" y="4132521"/>
                </a:lnTo>
                <a:lnTo>
                  <a:pt x="7610615" y="4571996"/>
                </a:lnTo>
                <a:lnTo>
                  <a:pt x="7558371" y="4571996"/>
                </a:lnTo>
                <a:lnTo>
                  <a:pt x="7145018" y="4158643"/>
                </a:lnTo>
                <a:lnTo>
                  <a:pt x="6731665" y="4571996"/>
                </a:lnTo>
                <a:lnTo>
                  <a:pt x="6679421" y="4571997"/>
                </a:lnTo>
                <a:lnTo>
                  <a:pt x="7118896" y="4132521"/>
                </a:lnTo>
                <a:lnTo>
                  <a:pt x="6648412" y="3662037"/>
                </a:lnTo>
                <a:lnTo>
                  <a:pt x="6590942" y="3662037"/>
                </a:lnTo>
                <a:lnTo>
                  <a:pt x="6120458" y="4132521"/>
                </a:lnTo>
                <a:lnTo>
                  <a:pt x="6559933" y="4571996"/>
                </a:lnTo>
                <a:lnTo>
                  <a:pt x="6507689" y="4571996"/>
                </a:lnTo>
                <a:lnTo>
                  <a:pt x="6094336" y="4158643"/>
                </a:lnTo>
                <a:lnTo>
                  <a:pt x="5680986" y="4571994"/>
                </a:lnTo>
                <a:lnTo>
                  <a:pt x="5628742" y="4571994"/>
                </a:lnTo>
                <a:lnTo>
                  <a:pt x="6068215" y="4132521"/>
                </a:lnTo>
                <a:lnTo>
                  <a:pt x="5597730" y="3662037"/>
                </a:lnTo>
                <a:lnTo>
                  <a:pt x="5540260" y="3662037"/>
                </a:lnTo>
                <a:lnTo>
                  <a:pt x="5069776" y="4132521"/>
                </a:lnTo>
                <a:lnTo>
                  <a:pt x="5509251" y="4571996"/>
                </a:lnTo>
                <a:lnTo>
                  <a:pt x="5457007" y="4571996"/>
                </a:lnTo>
                <a:lnTo>
                  <a:pt x="5043654" y="4158643"/>
                </a:lnTo>
                <a:lnTo>
                  <a:pt x="4630302" y="4571995"/>
                </a:lnTo>
                <a:lnTo>
                  <a:pt x="4578058" y="4571995"/>
                </a:lnTo>
                <a:lnTo>
                  <a:pt x="5017532" y="4132521"/>
                </a:lnTo>
                <a:lnTo>
                  <a:pt x="4547048" y="3662037"/>
                </a:lnTo>
                <a:lnTo>
                  <a:pt x="4489581" y="3662037"/>
                </a:lnTo>
                <a:lnTo>
                  <a:pt x="4019114" y="4132522"/>
                </a:lnTo>
                <a:lnTo>
                  <a:pt x="4458569" y="4571996"/>
                </a:lnTo>
                <a:lnTo>
                  <a:pt x="4406325" y="4571996"/>
                </a:lnTo>
                <a:lnTo>
                  <a:pt x="3992992" y="4158644"/>
                </a:lnTo>
                <a:lnTo>
                  <a:pt x="3579640" y="4571995"/>
                </a:lnTo>
                <a:lnTo>
                  <a:pt x="3527396" y="4571995"/>
                </a:lnTo>
                <a:lnTo>
                  <a:pt x="3966870" y="4132522"/>
                </a:lnTo>
                <a:lnTo>
                  <a:pt x="3496383" y="3662037"/>
                </a:lnTo>
                <a:lnTo>
                  <a:pt x="3438916" y="3662037"/>
                </a:lnTo>
                <a:lnTo>
                  <a:pt x="2968432" y="4132520"/>
                </a:lnTo>
                <a:lnTo>
                  <a:pt x="3407909" y="4571995"/>
                </a:lnTo>
                <a:lnTo>
                  <a:pt x="3355664" y="4571995"/>
                </a:lnTo>
                <a:lnTo>
                  <a:pt x="2942310" y="4158642"/>
                </a:lnTo>
                <a:lnTo>
                  <a:pt x="2528960" y="4571994"/>
                </a:lnTo>
                <a:lnTo>
                  <a:pt x="2476716" y="4571994"/>
                </a:lnTo>
                <a:lnTo>
                  <a:pt x="2916189" y="4132521"/>
                </a:lnTo>
                <a:lnTo>
                  <a:pt x="2445706" y="3662037"/>
                </a:lnTo>
                <a:lnTo>
                  <a:pt x="2388237" y="3662037"/>
                </a:lnTo>
                <a:lnTo>
                  <a:pt x="1917750" y="4132522"/>
                </a:lnTo>
                <a:lnTo>
                  <a:pt x="2357226" y="4571995"/>
                </a:lnTo>
                <a:lnTo>
                  <a:pt x="2304983" y="4571996"/>
                </a:lnTo>
                <a:lnTo>
                  <a:pt x="1891628" y="4158644"/>
                </a:lnTo>
                <a:lnTo>
                  <a:pt x="1478287" y="4571994"/>
                </a:lnTo>
                <a:lnTo>
                  <a:pt x="1426043" y="4571994"/>
                </a:lnTo>
                <a:lnTo>
                  <a:pt x="1865506" y="4132522"/>
                </a:lnTo>
                <a:lnTo>
                  <a:pt x="1395028" y="3662037"/>
                </a:lnTo>
                <a:lnTo>
                  <a:pt x="1337560" y="3662037"/>
                </a:lnTo>
                <a:lnTo>
                  <a:pt x="867065" y="4132523"/>
                </a:lnTo>
                <a:lnTo>
                  <a:pt x="1306545" y="4571995"/>
                </a:lnTo>
                <a:lnTo>
                  <a:pt x="1254301" y="4571995"/>
                </a:lnTo>
                <a:lnTo>
                  <a:pt x="840943" y="4158645"/>
                </a:lnTo>
                <a:lnTo>
                  <a:pt x="427592" y="4571996"/>
                </a:lnTo>
                <a:lnTo>
                  <a:pt x="375348" y="4571996"/>
                </a:lnTo>
                <a:lnTo>
                  <a:pt x="814821" y="4132522"/>
                </a:lnTo>
                <a:lnTo>
                  <a:pt x="344336" y="3662037"/>
                </a:lnTo>
                <a:lnTo>
                  <a:pt x="286868" y="3662037"/>
                </a:lnTo>
                <a:lnTo>
                  <a:pt x="2" y="3948903"/>
                </a:lnTo>
                <a:lnTo>
                  <a:pt x="2" y="3896659"/>
                </a:lnTo>
                <a:lnTo>
                  <a:pt x="258375" y="3638287"/>
                </a:lnTo>
                <a:lnTo>
                  <a:pt x="258375" y="3576075"/>
                </a:lnTo>
                <a:lnTo>
                  <a:pt x="1" y="3317701"/>
                </a:lnTo>
                <a:lnTo>
                  <a:pt x="1" y="3265457"/>
                </a:lnTo>
                <a:lnTo>
                  <a:pt x="285755" y="3551212"/>
                </a:lnTo>
                <a:lnTo>
                  <a:pt x="345449" y="3551212"/>
                </a:lnTo>
                <a:lnTo>
                  <a:pt x="814821" y="3081840"/>
                </a:lnTo>
                <a:lnTo>
                  <a:pt x="343879" y="2610898"/>
                </a:lnTo>
                <a:lnTo>
                  <a:pt x="287325" y="2610898"/>
                </a:lnTo>
                <a:lnTo>
                  <a:pt x="4" y="2898220"/>
                </a:lnTo>
                <a:lnTo>
                  <a:pt x="4" y="2845976"/>
                </a:lnTo>
                <a:lnTo>
                  <a:pt x="258377" y="2587602"/>
                </a:lnTo>
                <a:lnTo>
                  <a:pt x="258377" y="2525395"/>
                </a:lnTo>
                <a:lnTo>
                  <a:pt x="1" y="2267018"/>
                </a:lnTo>
                <a:lnTo>
                  <a:pt x="0" y="2214773"/>
                </a:lnTo>
                <a:lnTo>
                  <a:pt x="285299" y="2500073"/>
                </a:lnTo>
                <a:lnTo>
                  <a:pt x="345906" y="2500073"/>
                </a:lnTo>
                <a:lnTo>
                  <a:pt x="814821" y="2031167"/>
                </a:lnTo>
                <a:lnTo>
                  <a:pt x="341615" y="1557960"/>
                </a:lnTo>
                <a:lnTo>
                  <a:pt x="289591" y="1557960"/>
                </a:lnTo>
                <a:lnTo>
                  <a:pt x="1" y="1847551"/>
                </a:lnTo>
                <a:lnTo>
                  <a:pt x="1" y="1795307"/>
                </a:lnTo>
                <a:lnTo>
                  <a:pt x="258379" y="1536928"/>
                </a:lnTo>
                <a:lnTo>
                  <a:pt x="258379" y="1474723"/>
                </a:lnTo>
                <a:lnTo>
                  <a:pt x="1" y="1216345"/>
                </a:lnTo>
                <a:lnTo>
                  <a:pt x="1" y="1164102"/>
                </a:lnTo>
                <a:lnTo>
                  <a:pt x="283034" y="1447135"/>
                </a:lnTo>
                <a:lnTo>
                  <a:pt x="348172" y="1447135"/>
                </a:lnTo>
                <a:lnTo>
                  <a:pt x="814820" y="980485"/>
                </a:lnTo>
                <a:lnTo>
                  <a:pt x="344400" y="510063"/>
                </a:lnTo>
                <a:lnTo>
                  <a:pt x="286802" y="510063"/>
                </a:lnTo>
                <a:lnTo>
                  <a:pt x="2" y="796868"/>
                </a:lnTo>
                <a:lnTo>
                  <a:pt x="2" y="744627"/>
                </a:lnTo>
                <a:lnTo>
                  <a:pt x="258382" y="486240"/>
                </a:lnTo>
                <a:lnTo>
                  <a:pt x="258382" y="424044"/>
                </a:lnTo>
                <a:lnTo>
                  <a:pt x="2" y="165665"/>
                </a:lnTo>
                <a:lnTo>
                  <a:pt x="2" y="113421"/>
                </a:lnTo>
                <a:lnTo>
                  <a:pt x="285819" y="399238"/>
                </a:lnTo>
                <a:lnTo>
                  <a:pt x="345383" y="399238"/>
                </a:lnTo>
                <a:lnTo>
                  <a:pt x="744619" y="2"/>
                </a:lnTo>
                <a:lnTo>
                  <a:pt x="796863" y="2"/>
                </a:lnTo>
                <a:lnTo>
                  <a:pt x="369206" y="427659"/>
                </a:lnTo>
                <a:lnTo>
                  <a:pt x="369206" y="482625"/>
                </a:lnTo>
                <a:lnTo>
                  <a:pt x="840942" y="954363"/>
                </a:lnTo>
                <a:lnTo>
                  <a:pt x="1309198" y="486115"/>
                </a:lnTo>
                <a:lnTo>
                  <a:pt x="1309198" y="424170"/>
                </a:lnTo>
                <a:lnTo>
                  <a:pt x="885018" y="1"/>
                </a:lnTo>
                <a:lnTo>
                  <a:pt x="937262" y="1"/>
                </a:lnTo>
                <a:lnTo>
                  <a:pt x="1336510" y="399238"/>
                </a:lnTo>
                <a:lnTo>
                  <a:pt x="1396075" y="399238"/>
                </a:lnTo>
                <a:lnTo>
                  <a:pt x="1795305" y="3"/>
                </a:lnTo>
                <a:lnTo>
                  <a:pt x="1847547" y="3"/>
                </a:lnTo>
                <a:lnTo>
                  <a:pt x="1420024" y="427535"/>
                </a:lnTo>
                <a:lnTo>
                  <a:pt x="1420024" y="482750"/>
                </a:lnTo>
                <a:lnTo>
                  <a:pt x="1891628" y="954364"/>
                </a:lnTo>
                <a:lnTo>
                  <a:pt x="2360002" y="485990"/>
                </a:lnTo>
                <a:lnTo>
                  <a:pt x="2360002" y="424295"/>
                </a:lnTo>
                <a:lnTo>
                  <a:pt x="1935703" y="1"/>
                </a:lnTo>
                <a:lnTo>
                  <a:pt x="1987946" y="1"/>
                </a:lnTo>
                <a:lnTo>
                  <a:pt x="2387188" y="399238"/>
                </a:lnTo>
                <a:lnTo>
                  <a:pt x="2446753" y="399238"/>
                </a:lnTo>
                <a:lnTo>
                  <a:pt x="2845989" y="2"/>
                </a:lnTo>
                <a:lnTo>
                  <a:pt x="2898233" y="2"/>
                </a:lnTo>
                <a:lnTo>
                  <a:pt x="2470826" y="427409"/>
                </a:lnTo>
                <a:lnTo>
                  <a:pt x="2470826" y="482876"/>
                </a:lnTo>
                <a:lnTo>
                  <a:pt x="2942310" y="954364"/>
                </a:lnTo>
                <a:lnTo>
                  <a:pt x="3410810" y="485864"/>
                </a:lnTo>
                <a:lnTo>
                  <a:pt x="3410810" y="424421"/>
                </a:lnTo>
                <a:lnTo>
                  <a:pt x="2986387" y="1"/>
                </a:lnTo>
                <a:lnTo>
                  <a:pt x="3038634" y="1"/>
                </a:lnTo>
                <a:lnTo>
                  <a:pt x="3437870" y="399238"/>
                </a:lnTo>
                <a:lnTo>
                  <a:pt x="3497432" y="399238"/>
                </a:lnTo>
                <a:lnTo>
                  <a:pt x="3896671" y="2"/>
                </a:lnTo>
                <a:lnTo>
                  <a:pt x="3948916" y="2"/>
                </a:lnTo>
                <a:lnTo>
                  <a:pt x="3521633" y="427284"/>
                </a:lnTo>
                <a:lnTo>
                  <a:pt x="3521633" y="483002"/>
                </a:lnTo>
                <a:lnTo>
                  <a:pt x="3992992" y="954363"/>
                </a:lnTo>
                <a:lnTo>
                  <a:pt x="4461600" y="485736"/>
                </a:lnTo>
                <a:lnTo>
                  <a:pt x="4461600" y="424545"/>
                </a:lnTo>
                <a:lnTo>
                  <a:pt x="4037073" y="1"/>
                </a:lnTo>
                <a:lnTo>
                  <a:pt x="4089316" y="1"/>
                </a:lnTo>
                <a:lnTo>
                  <a:pt x="4488536" y="399238"/>
                </a:lnTo>
                <a:lnTo>
                  <a:pt x="4548098" y="399238"/>
                </a:lnTo>
                <a:lnTo>
                  <a:pt x="4947332" y="4"/>
                </a:lnTo>
                <a:lnTo>
                  <a:pt x="4999576" y="4"/>
                </a:lnTo>
                <a:lnTo>
                  <a:pt x="4572425" y="427154"/>
                </a:lnTo>
                <a:lnTo>
                  <a:pt x="4572425" y="483127"/>
                </a:lnTo>
                <a:lnTo>
                  <a:pt x="5043657" y="954361"/>
                </a:lnTo>
                <a:lnTo>
                  <a:pt x="5512408" y="485609"/>
                </a:lnTo>
                <a:lnTo>
                  <a:pt x="5512408" y="424676"/>
                </a:lnTo>
                <a:lnTo>
                  <a:pt x="5087732" y="1"/>
                </a:lnTo>
                <a:lnTo>
                  <a:pt x="5139975" y="1"/>
                </a:lnTo>
                <a:lnTo>
                  <a:pt x="5539212" y="399238"/>
                </a:lnTo>
                <a:lnTo>
                  <a:pt x="5598779" y="399238"/>
                </a:lnTo>
                <a:lnTo>
                  <a:pt x="5998015" y="2"/>
                </a:lnTo>
                <a:lnTo>
                  <a:pt x="6050259" y="2"/>
                </a:lnTo>
                <a:lnTo>
                  <a:pt x="5623233" y="427027"/>
                </a:lnTo>
                <a:lnTo>
                  <a:pt x="5623233" y="483258"/>
                </a:lnTo>
                <a:lnTo>
                  <a:pt x="6094336" y="954363"/>
                </a:lnTo>
                <a:lnTo>
                  <a:pt x="6563216" y="485481"/>
                </a:lnTo>
                <a:lnTo>
                  <a:pt x="6563216" y="424799"/>
                </a:lnTo>
                <a:lnTo>
                  <a:pt x="613841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4" name="Straight Connector 7"/>
          <p:cNvSpPr/>
          <p:nvPr/>
        </p:nvSpPr>
        <p:spPr>
          <a:xfrm flipV="1">
            <a:off x="6289560" y="5264280"/>
            <a:ext cx="0" cy="914400"/>
          </a:xfrm>
          <a:prstGeom prst="line">
            <a:avLst/>
          </a:prstGeom>
          <a:ln w="19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46"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7" name="PlaceHolder 3"/>
          <p:cNvSpPr>
            <a:spLocks noGrp="1"/>
          </p:cNvSpPr>
          <p:nvPr>
            <p:ph type="dt" idx="4"/>
          </p:nvPr>
        </p:nvSpPr>
        <p:spPr>
          <a:xfrm>
            <a:off x="767880" y="6470280"/>
            <a:ext cx="161604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9" name="PlaceHolder 5"/>
          <p:cNvSpPr>
            <a:spLocks noGrp="1"/>
          </p:cNvSpPr>
          <p:nvPr>
            <p:ph type="sldNum" idx="6"/>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9F6454-4CD0-4997-AF32-126B8FCE37B7}" type="slidenum">
              <a:rPr b="0" lang="nl-NL"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Straight Connector 7"/>
          <p:cNvSpPr/>
          <p:nvPr/>
        </p:nvSpPr>
        <p:spPr>
          <a:xfrm flipV="1">
            <a:off x="6289560" y="5264280"/>
            <a:ext cx="0" cy="914400"/>
          </a:xfrm>
          <a:prstGeom prst="line">
            <a:avLst/>
          </a:prstGeom>
          <a:ln w="19080">
            <a:solidFill>
              <a:srgbClr val="928b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7" name="Rectangle 8"/>
          <p:cNvSpPr/>
          <p:nvPr/>
        </p:nvSpPr>
        <p:spPr>
          <a:xfrm>
            <a:off x="0" y="0"/>
            <a:ext cx="9144000" cy="4572000"/>
          </a:xfrm>
          <a:prstGeom prst="rect">
            <a:avLst/>
          </a:prstGeom>
          <a:solidFill>
            <a:srgbClr val="6e68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8" name="Freeform 9"/>
          <p:cNvSpPr/>
          <p:nvPr/>
        </p:nvSpPr>
        <p:spPr>
          <a:xfrm>
            <a:off x="0" y="0"/>
            <a:ext cx="9144000" cy="4572000"/>
          </a:xfrm>
          <a:custGeom>
            <a:avLst/>
            <a:gdLst/>
            <a:ahLst/>
            <a:rect l="l" t="t" r="r" b="b"/>
            <a:pathLst>
              <a:path w="9143987" h="4571997">
                <a:moveTo>
                  <a:pt x="1" y="4316132"/>
                </a:moveTo>
                <a:lnTo>
                  <a:pt x="255863" y="4571994"/>
                </a:lnTo>
                <a:lnTo>
                  <a:pt x="203619" y="4571994"/>
                </a:lnTo>
                <a:lnTo>
                  <a:pt x="1" y="4368376"/>
                </a:lnTo>
                <a:lnTo>
                  <a:pt x="1" y="4316132"/>
                </a:lnTo>
                <a:close/>
                <a:moveTo>
                  <a:pt x="9143985" y="4208793"/>
                </a:moveTo>
                <a:lnTo>
                  <a:pt x="9143985" y="4261037"/>
                </a:lnTo>
                <a:lnTo>
                  <a:pt x="8833027" y="4571996"/>
                </a:lnTo>
                <a:lnTo>
                  <a:pt x="8780783" y="4571996"/>
                </a:lnTo>
                <a:lnTo>
                  <a:pt x="9143985" y="4208793"/>
                </a:lnTo>
                <a:close/>
                <a:moveTo>
                  <a:pt x="8664832" y="4076819"/>
                </a:moveTo>
                <a:lnTo>
                  <a:pt x="8775657" y="4076819"/>
                </a:lnTo>
                <a:lnTo>
                  <a:pt x="8775657" y="4187644"/>
                </a:lnTo>
                <a:lnTo>
                  <a:pt x="8664832" y="4187644"/>
                </a:lnTo>
                <a:lnTo>
                  <a:pt x="8664832" y="4076819"/>
                </a:lnTo>
                <a:close/>
                <a:moveTo>
                  <a:pt x="7614024" y="4076819"/>
                </a:moveTo>
                <a:lnTo>
                  <a:pt x="7724849" y="4076819"/>
                </a:lnTo>
                <a:lnTo>
                  <a:pt x="7724849" y="4187644"/>
                </a:lnTo>
                <a:lnTo>
                  <a:pt x="7614024" y="4187644"/>
                </a:lnTo>
                <a:lnTo>
                  <a:pt x="7614024" y="4076819"/>
                </a:lnTo>
                <a:close/>
                <a:moveTo>
                  <a:pt x="6563216" y="4076819"/>
                </a:moveTo>
                <a:lnTo>
                  <a:pt x="6674041" y="4076819"/>
                </a:lnTo>
                <a:lnTo>
                  <a:pt x="6674041" y="4187644"/>
                </a:lnTo>
                <a:lnTo>
                  <a:pt x="6563216" y="4187644"/>
                </a:lnTo>
                <a:lnTo>
                  <a:pt x="6563216" y="4076819"/>
                </a:lnTo>
                <a:close/>
                <a:moveTo>
                  <a:pt x="5512408" y="4076819"/>
                </a:moveTo>
                <a:lnTo>
                  <a:pt x="5623233" y="4076819"/>
                </a:lnTo>
                <a:lnTo>
                  <a:pt x="5623233" y="4187644"/>
                </a:lnTo>
                <a:lnTo>
                  <a:pt x="5512408" y="4187644"/>
                </a:lnTo>
                <a:lnTo>
                  <a:pt x="5512408" y="4076819"/>
                </a:lnTo>
                <a:close/>
                <a:moveTo>
                  <a:pt x="4461600" y="4076819"/>
                </a:moveTo>
                <a:lnTo>
                  <a:pt x="4572425" y="4076819"/>
                </a:lnTo>
                <a:lnTo>
                  <a:pt x="4572425" y="4187644"/>
                </a:lnTo>
                <a:lnTo>
                  <a:pt x="4461600" y="4187644"/>
                </a:lnTo>
                <a:lnTo>
                  <a:pt x="4461600" y="4076819"/>
                </a:lnTo>
                <a:close/>
                <a:moveTo>
                  <a:pt x="3410793" y="4076819"/>
                </a:moveTo>
                <a:lnTo>
                  <a:pt x="3521618" y="4076819"/>
                </a:lnTo>
                <a:lnTo>
                  <a:pt x="3521618" y="4187644"/>
                </a:lnTo>
                <a:lnTo>
                  <a:pt x="3410793" y="4187644"/>
                </a:lnTo>
                <a:lnTo>
                  <a:pt x="3410793" y="4076819"/>
                </a:lnTo>
                <a:close/>
                <a:moveTo>
                  <a:pt x="2359985" y="4076819"/>
                </a:moveTo>
                <a:lnTo>
                  <a:pt x="2470810" y="4076819"/>
                </a:lnTo>
                <a:lnTo>
                  <a:pt x="2470810" y="4187644"/>
                </a:lnTo>
                <a:lnTo>
                  <a:pt x="2359985" y="4187644"/>
                </a:lnTo>
                <a:lnTo>
                  <a:pt x="2359985" y="4076819"/>
                </a:lnTo>
                <a:close/>
                <a:moveTo>
                  <a:pt x="1309177" y="4076819"/>
                </a:moveTo>
                <a:lnTo>
                  <a:pt x="1420002" y="4076819"/>
                </a:lnTo>
                <a:lnTo>
                  <a:pt x="1420002" y="4187644"/>
                </a:lnTo>
                <a:lnTo>
                  <a:pt x="1309177" y="4187644"/>
                </a:lnTo>
                <a:lnTo>
                  <a:pt x="1309177" y="4076819"/>
                </a:lnTo>
                <a:close/>
                <a:moveTo>
                  <a:pt x="258369" y="4076819"/>
                </a:moveTo>
                <a:lnTo>
                  <a:pt x="369194" y="4076819"/>
                </a:lnTo>
                <a:lnTo>
                  <a:pt x="369194" y="4187644"/>
                </a:lnTo>
                <a:lnTo>
                  <a:pt x="258369" y="4187644"/>
                </a:lnTo>
                <a:lnTo>
                  <a:pt x="258369" y="4076819"/>
                </a:lnTo>
                <a:close/>
                <a:moveTo>
                  <a:pt x="8139428" y="3551212"/>
                </a:moveTo>
                <a:lnTo>
                  <a:pt x="8250253" y="3551212"/>
                </a:lnTo>
                <a:lnTo>
                  <a:pt x="8250253" y="3662037"/>
                </a:lnTo>
                <a:lnTo>
                  <a:pt x="8139428" y="3662037"/>
                </a:lnTo>
                <a:lnTo>
                  <a:pt x="8139428" y="3551212"/>
                </a:lnTo>
                <a:close/>
                <a:moveTo>
                  <a:pt x="7088620" y="3551212"/>
                </a:moveTo>
                <a:lnTo>
                  <a:pt x="7199445" y="3551212"/>
                </a:lnTo>
                <a:lnTo>
                  <a:pt x="7199445" y="3662037"/>
                </a:lnTo>
                <a:lnTo>
                  <a:pt x="7088620" y="3662037"/>
                </a:lnTo>
                <a:lnTo>
                  <a:pt x="7088620" y="3551212"/>
                </a:lnTo>
                <a:close/>
                <a:moveTo>
                  <a:pt x="6037812" y="3551212"/>
                </a:moveTo>
                <a:lnTo>
                  <a:pt x="6148637" y="3551212"/>
                </a:lnTo>
                <a:lnTo>
                  <a:pt x="6148637" y="3662037"/>
                </a:lnTo>
                <a:lnTo>
                  <a:pt x="6037812" y="3662037"/>
                </a:lnTo>
                <a:lnTo>
                  <a:pt x="6037812" y="3551212"/>
                </a:lnTo>
                <a:close/>
                <a:moveTo>
                  <a:pt x="4987004" y="3551212"/>
                </a:moveTo>
                <a:lnTo>
                  <a:pt x="5097829" y="3551212"/>
                </a:lnTo>
                <a:lnTo>
                  <a:pt x="5097829" y="3662037"/>
                </a:lnTo>
                <a:lnTo>
                  <a:pt x="4987004" y="3662037"/>
                </a:lnTo>
                <a:lnTo>
                  <a:pt x="4987004" y="3551212"/>
                </a:lnTo>
                <a:close/>
                <a:moveTo>
                  <a:pt x="3936204" y="3551212"/>
                </a:moveTo>
                <a:lnTo>
                  <a:pt x="4047028" y="3551212"/>
                </a:lnTo>
                <a:lnTo>
                  <a:pt x="4047028" y="3662037"/>
                </a:lnTo>
                <a:lnTo>
                  <a:pt x="3936204" y="3662037"/>
                </a:lnTo>
                <a:lnTo>
                  <a:pt x="3936204" y="3551212"/>
                </a:lnTo>
                <a:close/>
                <a:moveTo>
                  <a:pt x="2885395" y="3551212"/>
                </a:moveTo>
                <a:lnTo>
                  <a:pt x="2996220" y="3551212"/>
                </a:lnTo>
                <a:lnTo>
                  <a:pt x="2996220" y="3662037"/>
                </a:lnTo>
                <a:lnTo>
                  <a:pt x="2885395" y="3662037"/>
                </a:lnTo>
                <a:lnTo>
                  <a:pt x="2885395" y="3551212"/>
                </a:lnTo>
                <a:close/>
                <a:moveTo>
                  <a:pt x="1834587" y="3551212"/>
                </a:moveTo>
                <a:lnTo>
                  <a:pt x="1945412" y="3551212"/>
                </a:lnTo>
                <a:lnTo>
                  <a:pt x="1945412" y="3662037"/>
                </a:lnTo>
                <a:lnTo>
                  <a:pt x="1834587" y="3662037"/>
                </a:lnTo>
                <a:lnTo>
                  <a:pt x="1834587" y="3551212"/>
                </a:lnTo>
                <a:close/>
                <a:moveTo>
                  <a:pt x="783778" y="3551212"/>
                </a:moveTo>
                <a:lnTo>
                  <a:pt x="894603" y="3551212"/>
                </a:lnTo>
                <a:lnTo>
                  <a:pt x="894603" y="3662037"/>
                </a:lnTo>
                <a:lnTo>
                  <a:pt x="783778" y="3662037"/>
                </a:lnTo>
                <a:lnTo>
                  <a:pt x="783778" y="3551212"/>
                </a:lnTo>
                <a:close/>
                <a:moveTo>
                  <a:pt x="2942310" y="3107962"/>
                </a:moveTo>
                <a:lnTo>
                  <a:pt x="2470818" y="3579456"/>
                </a:lnTo>
                <a:lnTo>
                  <a:pt x="2470818" y="3634904"/>
                </a:lnTo>
                <a:lnTo>
                  <a:pt x="2942310" y="4106399"/>
                </a:lnTo>
                <a:lnTo>
                  <a:pt x="3410800" y="3637911"/>
                </a:lnTo>
                <a:lnTo>
                  <a:pt x="3410800" y="3576450"/>
                </a:lnTo>
                <a:lnTo>
                  <a:pt x="2942310" y="3107962"/>
                </a:lnTo>
                <a:close/>
                <a:moveTo>
                  <a:pt x="8195700" y="3107962"/>
                </a:moveTo>
                <a:lnTo>
                  <a:pt x="7724849" y="3578813"/>
                </a:lnTo>
                <a:lnTo>
                  <a:pt x="7724849" y="3635545"/>
                </a:lnTo>
                <a:lnTo>
                  <a:pt x="8195702" y="4106398"/>
                </a:lnTo>
                <a:lnTo>
                  <a:pt x="8664832" y="3637268"/>
                </a:lnTo>
                <a:lnTo>
                  <a:pt x="8664832" y="3577094"/>
                </a:lnTo>
                <a:lnTo>
                  <a:pt x="8195700" y="3107962"/>
                </a:lnTo>
                <a:close/>
                <a:moveTo>
                  <a:pt x="5043655" y="3107962"/>
                </a:moveTo>
                <a:lnTo>
                  <a:pt x="4572425" y="3579192"/>
                </a:lnTo>
                <a:lnTo>
                  <a:pt x="4572425" y="3635169"/>
                </a:lnTo>
                <a:lnTo>
                  <a:pt x="5043654" y="4106399"/>
                </a:lnTo>
                <a:lnTo>
                  <a:pt x="5512408" y="3637645"/>
                </a:lnTo>
                <a:lnTo>
                  <a:pt x="5512408" y="3576714"/>
                </a:lnTo>
                <a:lnTo>
                  <a:pt x="5043655" y="3107962"/>
                </a:lnTo>
                <a:close/>
                <a:moveTo>
                  <a:pt x="840943" y="3107962"/>
                </a:moveTo>
                <a:lnTo>
                  <a:pt x="369199" y="3579705"/>
                </a:lnTo>
                <a:lnTo>
                  <a:pt x="369199" y="3634656"/>
                </a:lnTo>
                <a:lnTo>
                  <a:pt x="840943" y="4106401"/>
                </a:lnTo>
                <a:lnTo>
                  <a:pt x="1309186" y="3638165"/>
                </a:lnTo>
                <a:lnTo>
                  <a:pt x="1309186" y="3576196"/>
                </a:lnTo>
                <a:lnTo>
                  <a:pt x="840943" y="3107962"/>
                </a:lnTo>
                <a:close/>
                <a:moveTo>
                  <a:pt x="3992991" y="3107961"/>
                </a:moveTo>
                <a:lnTo>
                  <a:pt x="3521625" y="3579327"/>
                </a:lnTo>
                <a:lnTo>
                  <a:pt x="3521625" y="3635034"/>
                </a:lnTo>
                <a:lnTo>
                  <a:pt x="3992992" y="4106400"/>
                </a:lnTo>
                <a:lnTo>
                  <a:pt x="4461600" y="3637773"/>
                </a:lnTo>
                <a:lnTo>
                  <a:pt x="4461600" y="3576588"/>
                </a:lnTo>
                <a:lnTo>
                  <a:pt x="3992991" y="3107961"/>
                </a:lnTo>
                <a:close/>
                <a:moveTo>
                  <a:pt x="1891629" y="3107961"/>
                </a:moveTo>
                <a:lnTo>
                  <a:pt x="1420011" y="3579585"/>
                </a:lnTo>
                <a:lnTo>
                  <a:pt x="1420011" y="3634777"/>
                </a:lnTo>
                <a:lnTo>
                  <a:pt x="1891629" y="4106400"/>
                </a:lnTo>
                <a:lnTo>
                  <a:pt x="2359993" y="3638038"/>
                </a:lnTo>
                <a:lnTo>
                  <a:pt x="2359993" y="3576322"/>
                </a:lnTo>
                <a:lnTo>
                  <a:pt x="1891629" y="3107961"/>
                </a:lnTo>
                <a:close/>
                <a:moveTo>
                  <a:pt x="6094336" y="3107961"/>
                </a:moveTo>
                <a:lnTo>
                  <a:pt x="5623233" y="3579064"/>
                </a:lnTo>
                <a:lnTo>
                  <a:pt x="5623233" y="3635295"/>
                </a:lnTo>
                <a:lnTo>
                  <a:pt x="6094336" y="4106399"/>
                </a:lnTo>
                <a:lnTo>
                  <a:pt x="6563216" y="3637520"/>
                </a:lnTo>
                <a:lnTo>
                  <a:pt x="6563216" y="3576841"/>
                </a:lnTo>
                <a:lnTo>
                  <a:pt x="6094336" y="3107961"/>
                </a:lnTo>
                <a:close/>
                <a:moveTo>
                  <a:pt x="7145019" y="3107960"/>
                </a:moveTo>
                <a:lnTo>
                  <a:pt x="6674041" y="3578938"/>
                </a:lnTo>
                <a:lnTo>
                  <a:pt x="6674041" y="3635421"/>
                </a:lnTo>
                <a:lnTo>
                  <a:pt x="7145018" y="4106399"/>
                </a:lnTo>
                <a:lnTo>
                  <a:pt x="7614024" y="3637394"/>
                </a:lnTo>
                <a:lnTo>
                  <a:pt x="7614024" y="3576965"/>
                </a:lnTo>
                <a:lnTo>
                  <a:pt x="7145019" y="3107960"/>
                </a:lnTo>
                <a:close/>
                <a:moveTo>
                  <a:pt x="8664832" y="3027337"/>
                </a:moveTo>
                <a:lnTo>
                  <a:pt x="8775657" y="3027337"/>
                </a:lnTo>
                <a:lnTo>
                  <a:pt x="8775657" y="3138162"/>
                </a:lnTo>
                <a:lnTo>
                  <a:pt x="8664832" y="3138162"/>
                </a:lnTo>
                <a:lnTo>
                  <a:pt x="8664832" y="3027337"/>
                </a:lnTo>
                <a:close/>
                <a:moveTo>
                  <a:pt x="7614024" y="3027337"/>
                </a:moveTo>
                <a:lnTo>
                  <a:pt x="7724849" y="3027337"/>
                </a:lnTo>
                <a:lnTo>
                  <a:pt x="7724849" y="3138162"/>
                </a:lnTo>
                <a:lnTo>
                  <a:pt x="7614024" y="3138162"/>
                </a:lnTo>
                <a:lnTo>
                  <a:pt x="7614024" y="3027337"/>
                </a:lnTo>
                <a:close/>
                <a:moveTo>
                  <a:pt x="6563216" y="3027337"/>
                </a:moveTo>
                <a:lnTo>
                  <a:pt x="6674041" y="3027337"/>
                </a:lnTo>
                <a:lnTo>
                  <a:pt x="6674041" y="3138162"/>
                </a:lnTo>
                <a:lnTo>
                  <a:pt x="6563216" y="3138162"/>
                </a:lnTo>
                <a:lnTo>
                  <a:pt x="6563216" y="3027337"/>
                </a:lnTo>
                <a:close/>
                <a:moveTo>
                  <a:pt x="5512408" y="3027337"/>
                </a:moveTo>
                <a:lnTo>
                  <a:pt x="5623233" y="3027337"/>
                </a:lnTo>
                <a:lnTo>
                  <a:pt x="5623233" y="3138162"/>
                </a:lnTo>
                <a:lnTo>
                  <a:pt x="5512408" y="3138162"/>
                </a:lnTo>
                <a:lnTo>
                  <a:pt x="5512408" y="3027337"/>
                </a:lnTo>
                <a:close/>
                <a:moveTo>
                  <a:pt x="4461600" y="3027337"/>
                </a:moveTo>
                <a:lnTo>
                  <a:pt x="4572425" y="3027337"/>
                </a:lnTo>
                <a:lnTo>
                  <a:pt x="4572425" y="3138162"/>
                </a:lnTo>
                <a:lnTo>
                  <a:pt x="4461600" y="3138162"/>
                </a:lnTo>
                <a:lnTo>
                  <a:pt x="4461600" y="3027337"/>
                </a:lnTo>
                <a:close/>
                <a:moveTo>
                  <a:pt x="3410798" y="3027337"/>
                </a:moveTo>
                <a:lnTo>
                  <a:pt x="3521622" y="3027337"/>
                </a:lnTo>
                <a:lnTo>
                  <a:pt x="3521622" y="3138162"/>
                </a:lnTo>
                <a:lnTo>
                  <a:pt x="3410798" y="3138162"/>
                </a:lnTo>
                <a:lnTo>
                  <a:pt x="3410798" y="3027337"/>
                </a:lnTo>
                <a:close/>
                <a:moveTo>
                  <a:pt x="2359990" y="3027337"/>
                </a:moveTo>
                <a:lnTo>
                  <a:pt x="2470815" y="3027337"/>
                </a:lnTo>
                <a:lnTo>
                  <a:pt x="2470815" y="3138162"/>
                </a:lnTo>
                <a:lnTo>
                  <a:pt x="2359990" y="3138162"/>
                </a:lnTo>
                <a:lnTo>
                  <a:pt x="2359990" y="3027337"/>
                </a:lnTo>
                <a:close/>
                <a:moveTo>
                  <a:pt x="1309183" y="3027337"/>
                </a:moveTo>
                <a:lnTo>
                  <a:pt x="1420008" y="3027337"/>
                </a:lnTo>
                <a:lnTo>
                  <a:pt x="1420008" y="3138162"/>
                </a:lnTo>
                <a:lnTo>
                  <a:pt x="1309183" y="3138162"/>
                </a:lnTo>
                <a:lnTo>
                  <a:pt x="1309183" y="3027337"/>
                </a:lnTo>
                <a:close/>
                <a:moveTo>
                  <a:pt x="258373" y="3027337"/>
                </a:moveTo>
                <a:lnTo>
                  <a:pt x="369197" y="3027337"/>
                </a:lnTo>
                <a:lnTo>
                  <a:pt x="369197" y="3138162"/>
                </a:lnTo>
                <a:lnTo>
                  <a:pt x="258373" y="3138162"/>
                </a:lnTo>
                <a:lnTo>
                  <a:pt x="258373" y="3027337"/>
                </a:lnTo>
                <a:close/>
                <a:moveTo>
                  <a:pt x="7642081" y="2610898"/>
                </a:moveTo>
                <a:lnTo>
                  <a:pt x="7171142" y="3081837"/>
                </a:lnTo>
                <a:lnTo>
                  <a:pt x="7640516" y="3551212"/>
                </a:lnTo>
                <a:lnTo>
                  <a:pt x="7700206" y="3551212"/>
                </a:lnTo>
                <a:lnTo>
                  <a:pt x="8169578" y="3081840"/>
                </a:lnTo>
                <a:lnTo>
                  <a:pt x="7698636" y="2610898"/>
                </a:lnTo>
                <a:lnTo>
                  <a:pt x="7642081" y="2610898"/>
                </a:lnTo>
                <a:close/>
                <a:moveTo>
                  <a:pt x="6591400" y="2610898"/>
                </a:moveTo>
                <a:lnTo>
                  <a:pt x="6120458" y="3081839"/>
                </a:lnTo>
                <a:lnTo>
                  <a:pt x="6589831" y="3551212"/>
                </a:lnTo>
                <a:lnTo>
                  <a:pt x="6649523" y="3551212"/>
                </a:lnTo>
                <a:lnTo>
                  <a:pt x="7118897" y="3081838"/>
                </a:lnTo>
                <a:lnTo>
                  <a:pt x="6647958" y="2610898"/>
                </a:lnTo>
                <a:lnTo>
                  <a:pt x="6591400" y="2610898"/>
                </a:lnTo>
                <a:close/>
                <a:moveTo>
                  <a:pt x="5540719" y="2610898"/>
                </a:moveTo>
                <a:lnTo>
                  <a:pt x="5069777" y="3081840"/>
                </a:lnTo>
                <a:lnTo>
                  <a:pt x="5539149" y="3551212"/>
                </a:lnTo>
                <a:lnTo>
                  <a:pt x="5598841" y="3551212"/>
                </a:lnTo>
                <a:lnTo>
                  <a:pt x="6068214" y="3081839"/>
                </a:lnTo>
                <a:lnTo>
                  <a:pt x="5597273" y="2610898"/>
                </a:lnTo>
                <a:lnTo>
                  <a:pt x="5540719" y="2610898"/>
                </a:lnTo>
                <a:close/>
                <a:moveTo>
                  <a:pt x="4490037" y="2610898"/>
                </a:moveTo>
                <a:lnTo>
                  <a:pt x="4019113" y="3081839"/>
                </a:lnTo>
                <a:lnTo>
                  <a:pt x="4488468" y="3551212"/>
                </a:lnTo>
                <a:lnTo>
                  <a:pt x="4548161" y="3551212"/>
                </a:lnTo>
                <a:lnTo>
                  <a:pt x="5017533" y="3081840"/>
                </a:lnTo>
                <a:lnTo>
                  <a:pt x="4546591" y="2610898"/>
                </a:lnTo>
                <a:lnTo>
                  <a:pt x="4490037" y="2610898"/>
                </a:lnTo>
                <a:close/>
                <a:moveTo>
                  <a:pt x="3439375" y="2610898"/>
                </a:moveTo>
                <a:lnTo>
                  <a:pt x="2968432" y="3081840"/>
                </a:lnTo>
                <a:lnTo>
                  <a:pt x="3437804" y="3551212"/>
                </a:lnTo>
                <a:lnTo>
                  <a:pt x="3497496" y="3551212"/>
                </a:lnTo>
                <a:lnTo>
                  <a:pt x="3966869" y="3081840"/>
                </a:lnTo>
                <a:lnTo>
                  <a:pt x="3495925" y="2610898"/>
                </a:lnTo>
                <a:lnTo>
                  <a:pt x="3439375" y="2610898"/>
                </a:lnTo>
                <a:close/>
                <a:moveTo>
                  <a:pt x="2388694" y="2610898"/>
                </a:moveTo>
                <a:lnTo>
                  <a:pt x="1917751" y="3081839"/>
                </a:lnTo>
                <a:lnTo>
                  <a:pt x="2387125" y="3551212"/>
                </a:lnTo>
                <a:lnTo>
                  <a:pt x="2446818" y="3551212"/>
                </a:lnTo>
                <a:lnTo>
                  <a:pt x="2916188" y="3081841"/>
                </a:lnTo>
                <a:lnTo>
                  <a:pt x="2445246" y="2610898"/>
                </a:lnTo>
                <a:lnTo>
                  <a:pt x="2388694" y="2610898"/>
                </a:lnTo>
                <a:close/>
                <a:moveTo>
                  <a:pt x="1338016" y="2610898"/>
                </a:moveTo>
                <a:lnTo>
                  <a:pt x="867065" y="3081840"/>
                </a:lnTo>
                <a:lnTo>
                  <a:pt x="1336446" y="3551212"/>
                </a:lnTo>
                <a:lnTo>
                  <a:pt x="1396142" y="3551212"/>
                </a:lnTo>
                <a:lnTo>
                  <a:pt x="1865507" y="3081839"/>
                </a:lnTo>
                <a:lnTo>
                  <a:pt x="1394572" y="2610898"/>
                </a:lnTo>
                <a:lnTo>
                  <a:pt x="1338016" y="2610898"/>
                </a:lnTo>
                <a:close/>
                <a:moveTo>
                  <a:pt x="8139428" y="2500073"/>
                </a:moveTo>
                <a:lnTo>
                  <a:pt x="8250253" y="2500073"/>
                </a:lnTo>
                <a:lnTo>
                  <a:pt x="8250253" y="2610898"/>
                </a:lnTo>
                <a:lnTo>
                  <a:pt x="8139428" y="2610898"/>
                </a:lnTo>
                <a:lnTo>
                  <a:pt x="8139428" y="2500073"/>
                </a:lnTo>
                <a:close/>
                <a:moveTo>
                  <a:pt x="7088620" y="2500073"/>
                </a:moveTo>
                <a:lnTo>
                  <a:pt x="7199445" y="2500073"/>
                </a:lnTo>
                <a:lnTo>
                  <a:pt x="7199445" y="2610898"/>
                </a:lnTo>
                <a:lnTo>
                  <a:pt x="7088620" y="2610898"/>
                </a:lnTo>
                <a:lnTo>
                  <a:pt x="7088620" y="2500073"/>
                </a:lnTo>
                <a:close/>
                <a:moveTo>
                  <a:pt x="6037812" y="2500073"/>
                </a:moveTo>
                <a:lnTo>
                  <a:pt x="6148637" y="2500073"/>
                </a:lnTo>
                <a:lnTo>
                  <a:pt x="6148637" y="2610898"/>
                </a:lnTo>
                <a:lnTo>
                  <a:pt x="6037812" y="2610898"/>
                </a:lnTo>
                <a:lnTo>
                  <a:pt x="6037812" y="2500073"/>
                </a:lnTo>
                <a:close/>
                <a:moveTo>
                  <a:pt x="4987004" y="2500073"/>
                </a:moveTo>
                <a:lnTo>
                  <a:pt x="5097829" y="2500073"/>
                </a:lnTo>
                <a:lnTo>
                  <a:pt x="5097829" y="2610898"/>
                </a:lnTo>
                <a:lnTo>
                  <a:pt x="4987004" y="2610898"/>
                </a:lnTo>
                <a:lnTo>
                  <a:pt x="4987004" y="2500073"/>
                </a:lnTo>
                <a:close/>
                <a:moveTo>
                  <a:pt x="3936207" y="2500073"/>
                </a:moveTo>
                <a:lnTo>
                  <a:pt x="4047031" y="2500073"/>
                </a:lnTo>
                <a:lnTo>
                  <a:pt x="4047031" y="2610898"/>
                </a:lnTo>
                <a:lnTo>
                  <a:pt x="3936207" y="2610898"/>
                </a:lnTo>
                <a:lnTo>
                  <a:pt x="3936207" y="2500073"/>
                </a:lnTo>
                <a:close/>
                <a:moveTo>
                  <a:pt x="2885399" y="2500073"/>
                </a:moveTo>
                <a:lnTo>
                  <a:pt x="2996223" y="2500073"/>
                </a:lnTo>
                <a:lnTo>
                  <a:pt x="2996223" y="2610898"/>
                </a:lnTo>
                <a:lnTo>
                  <a:pt x="2885399" y="2610898"/>
                </a:lnTo>
                <a:lnTo>
                  <a:pt x="2885399" y="2500073"/>
                </a:lnTo>
                <a:close/>
                <a:moveTo>
                  <a:pt x="1834589" y="2500073"/>
                </a:moveTo>
                <a:lnTo>
                  <a:pt x="1945415" y="2500073"/>
                </a:lnTo>
                <a:lnTo>
                  <a:pt x="1945415" y="2610898"/>
                </a:lnTo>
                <a:lnTo>
                  <a:pt x="1834589" y="2610898"/>
                </a:lnTo>
                <a:lnTo>
                  <a:pt x="1834589" y="2500073"/>
                </a:lnTo>
                <a:close/>
                <a:moveTo>
                  <a:pt x="783780" y="2500073"/>
                </a:moveTo>
                <a:lnTo>
                  <a:pt x="894605" y="2500073"/>
                </a:lnTo>
                <a:lnTo>
                  <a:pt x="894605" y="2610898"/>
                </a:lnTo>
                <a:lnTo>
                  <a:pt x="783780" y="2610898"/>
                </a:lnTo>
                <a:lnTo>
                  <a:pt x="783780" y="2500073"/>
                </a:lnTo>
                <a:close/>
                <a:moveTo>
                  <a:pt x="1891628" y="2057290"/>
                </a:moveTo>
                <a:lnTo>
                  <a:pt x="1420016" y="2528900"/>
                </a:lnTo>
                <a:lnTo>
                  <a:pt x="1420016" y="2584097"/>
                </a:lnTo>
                <a:lnTo>
                  <a:pt x="1891629" y="3055718"/>
                </a:lnTo>
                <a:lnTo>
                  <a:pt x="2359995" y="2587353"/>
                </a:lnTo>
                <a:lnTo>
                  <a:pt x="2359995" y="2525647"/>
                </a:lnTo>
                <a:lnTo>
                  <a:pt x="1891628" y="2057290"/>
                </a:lnTo>
                <a:close/>
                <a:moveTo>
                  <a:pt x="2942310" y="2057290"/>
                </a:moveTo>
                <a:lnTo>
                  <a:pt x="2470820" y="2528772"/>
                </a:lnTo>
                <a:lnTo>
                  <a:pt x="2470820" y="2584228"/>
                </a:lnTo>
                <a:lnTo>
                  <a:pt x="2942310" y="3055719"/>
                </a:lnTo>
                <a:lnTo>
                  <a:pt x="3410803" y="2587227"/>
                </a:lnTo>
                <a:lnTo>
                  <a:pt x="3410803" y="2525772"/>
                </a:lnTo>
                <a:lnTo>
                  <a:pt x="2942310" y="2057290"/>
                </a:lnTo>
                <a:close/>
                <a:moveTo>
                  <a:pt x="3992992" y="2057289"/>
                </a:moveTo>
                <a:lnTo>
                  <a:pt x="3521627" y="2528644"/>
                </a:lnTo>
                <a:lnTo>
                  <a:pt x="3521627" y="2584355"/>
                </a:lnTo>
                <a:lnTo>
                  <a:pt x="3992992" y="3055718"/>
                </a:lnTo>
                <a:lnTo>
                  <a:pt x="4461600" y="2587092"/>
                </a:lnTo>
                <a:lnTo>
                  <a:pt x="4461600" y="2525906"/>
                </a:lnTo>
                <a:lnTo>
                  <a:pt x="3992992" y="2057289"/>
                </a:lnTo>
                <a:close/>
                <a:moveTo>
                  <a:pt x="7145018" y="2057289"/>
                </a:moveTo>
                <a:lnTo>
                  <a:pt x="6674041" y="2528257"/>
                </a:lnTo>
                <a:lnTo>
                  <a:pt x="6674041" y="2584737"/>
                </a:lnTo>
                <a:lnTo>
                  <a:pt x="7145020" y="3055716"/>
                </a:lnTo>
                <a:lnTo>
                  <a:pt x="7614024" y="2586712"/>
                </a:lnTo>
                <a:lnTo>
                  <a:pt x="7614024" y="2526286"/>
                </a:lnTo>
                <a:lnTo>
                  <a:pt x="7145018" y="2057289"/>
                </a:lnTo>
                <a:close/>
                <a:moveTo>
                  <a:pt x="5043655" y="2057288"/>
                </a:moveTo>
                <a:lnTo>
                  <a:pt x="4572425" y="2528510"/>
                </a:lnTo>
                <a:lnTo>
                  <a:pt x="4572425" y="2584487"/>
                </a:lnTo>
                <a:lnTo>
                  <a:pt x="5043655" y="3055718"/>
                </a:lnTo>
                <a:lnTo>
                  <a:pt x="5512408" y="2586964"/>
                </a:lnTo>
                <a:lnTo>
                  <a:pt x="5512408" y="2526033"/>
                </a:lnTo>
                <a:lnTo>
                  <a:pt x="5043655" y="2057288"/>
                </a:lnTo>
                <a:close/>
                <a:moveTo>
                  <a:pt x="840943" y="2057288"/>
                </a:moveTo>
                <a:lnTo>
                  <a:pt x="369202" y="2529021"/>
                </a:lnTo>
                <a:lnTo>
                  <a:pt x="369202" y="2583976"/>
                </a:lnTo>
                <a:lnTo>
                  <a:pt x="840943" y="3055718"/>
                </a:lnTo>
                <a:lnTo>
                  <a:pt x="1309190" y="2587479"/>
                </a:lnTo>
                <a:lnTo>
                  <a:pt x="1309190" y="2525518"/>
                </a:lnTo>
                <a:lnTo>
                  <a:pt x="840943" y="2057288"/>
                </a:lnTo>
                <a:close/>
                <a:moveTo>
                  <a:pt x="8195701" y="2057287"/>
                </a:moveTo>
                <a:lnTo>
                  <a:pt x="7724849" y="2528130"/>
                </a:lnTo>
                <a:lnTo>
                  <a:pt x="7724849" y="2584867"/>
                </a:lnTo>
                <a:lnTo>
                  <a:pt x="8195700" y="3055717"/>
                </a:lnTo>
                <a:lnTo>
                  <a:pt x="8664832" y="2586585"/>
                </a:lnTo>
                <a:lnTo>
                  <a:pt x="8664832" y="2526410"/>
                </a:lnTo>
                <a:lnTo>
                  <a:pt x="8195701" y="2057287"/>
                </a:lnTo>
                <a:close/>
                <a:moveTo>
                  <a:pt x="6094339" y="2057287"/>
                </a:moveTo>
                <a:lnTo>
                  <a:pt x="5623233" y="2528385"/>
                </a:lnTo>
                <a:lnTo>
                  <a:pt x="5623233" y="2584613"/>
                </a:lnTo>
                <a:lnTo>
                  <a:pt x="6094336" y="3055717"/>
                </a:lnTo>
                <a:lnTo>
                  <a:pt x="6563216" y="2586838"/>
                </a:lnTo>
                <a:lnTo>
                  <a:pt x="6563216" y="2526156"/>
                </a:lnTo>
                <a:lnTo>
                  <a:pt x="6094339" y="2057287"/>
                </a:lnTo>
                <a:close/>
                <a:moveTo>
                  <a:pt x="1309181" y="1973451"/>
                </a:moveTo>
                <a:lnTo>
                  <a:pt x="1420005" y="1973451"/>
                </a:lnTo>
                <a:lnTo>
                  <a:pt x="1420005" y="2084276"/>
                </a:lnTo>
                <a:lnTo>
                  <a:pt x="1309181" y="2084276"/>
                </a:lnTo>
                <a:lnTo>
                  <a:pt x="1309181" y="1973451"/>
                </a:lnTo>
                <a:close/>
                <a:moveTo>
                  <a:pt x="258371" y="1973451"/>
                </a:moveTo>
                <a:lnTo>
                  <a:pt x="369196" y="1973451"/>
                </a:lnTo>
                <a:lnTo>
                  <a:pt x="369196" y="2084276"/>
                </a:lnTo>
                <a:lnTo>
                  <a:pt x="258371" y="2084276"/>
                </a:lnTo>
                <a:lnTo>
                  <a:pt x="258371" y="1973451"/>
                </a:lnTo>
                <a:close/>
                <a:moveTo>
                  <a:pt x="3410796" y="1973451"/>
                </a:moveTo>
                <a:lnTo>
                  <a:pt x="3521621" y="1973451"/>
                </a:lnTo>
                <a:lnTo>
                  <a:pt x="3521621" y="2084276"/>
                </a:lnTo>
                <a:lnTo>
                  <a:pt x="3410796" y="2084276"/>
                </a:lnTo>
                <a:lnTo>
                  <a:pt x="3410796" y="1973451"/>
                </a:lnTo>
                <a:close/>
                <a:moveTo>
                  <a:pt x="2359988" y="1973451"/>
                </a:moveTo>
                <a:lnTo>
                  <a:pt x="2470813" y="1973451"/>
                </a:lnTo>
                <a:lnTo>
                  <a:pt x="2470813" y="2084276"/>
                </a:lnTo>
                <a:lnTo>
                  <a:pt x="2359988" y="2084276"/>
                </a:lnTo>
                <a:lnTo>
                  <a:pt x="2359988" y="1973451"/>
                </a:lnTo>
                <a:close/>
                <a:moveTo>
                  <a:pt x="4461600" y="1973451"/>
                </a:moveTo>
                <a:lnTo>
                  <a:pt x="4572425" y="1973451"/>
                </a:lnTo>
                <a:lnTo>
                  <a:pt x="4572425" y="2084276"/>
                </a:lnTo>
                <a:lnTo>
                  <a:pt x="4461600" y="2084276"/>
                </a:lnTo>
                <a:lnTo>
                  <a:pt x="4461600" y="1973451"/>
                </a:lnTo>
                <a:close/>
                <a:moveTo>
                  <a:pt x="6563216" y="1973451"/>
                </a:moveTo>
                <a:lnTo>
                  <a:pt x="6674041" y="1973451"/>
                </a:lnTo>
                <a:lnTo>
                  <a:pt x="6674041" y="2084276"/>
                </a:lnTo>
                <a:lnTo>
                  <a:pt x="6563216" y="2084276"/>
                </a:lnTo>
                <a:lnTo>
                  <a:pt x="6563216" y="1973451"/>
                </a:lnTo>
                <a:close/>
                <a:moveTo>
                  <a:pt x="5512408" y="1973451"/>
                </a:moveTo>
                <a:lnTo>
                  <a:pt x="5623233" y="1973451"/>
                </a:lnTo>
                <a:lnTo>
                  <a:pt x="5623233" y="2084276"/>
                </a:lnTo>
                <a:lnTo>
                  <a:pt x="5512408" y="2084276"/>
                </a:lnTo>
                <a:lnTo>
                  <a:pt x="5512408" y="1973451"/>
                </a:lnTo>
                <a:close/>
                <a:moveTo>
                  <a:pt x="8664832" y="1973450"/>
                </a:moveTo>
                <a:lnTo>
                  <a:pt x="8775657" y="1973450"/>
                </a:lnTo>
                <a:lnTo>
                  <a:pt x="8775657" y="2084275"/>
                </a:lnTo>
                <a:lnTo>
                  <a:pt x="8664832" y="2084275"/>
                </a:lnTo>
                <a:lnTo>
                  <a:pt x="8664832" y="1973450"/>
                </a:lnTo>
                <a:close/>
                <a:moveTo>
                  <a:pt x="7614024" y="1973450"/>
                </a:moveTo>
                <a:lnTo>
                  <a:pt x="7724849" y="1973450"/>
                </a:lnTo>
                <a:lnTo>
                  <a:pt x="7724849" y="2084275"/>
                </a:lnTo>
                <a:lnTo>
                  <a:pt x="7614024" y="2084275"/>
                </a:lnTo>
                <a:lnTo>
                  <a:pt x="7614024" y="1973450"/>
                </a:lnTo>
                <a:close/>
                <a:moveTo>
                  <a:pt x="1340281" y="1557960"/>
                </a:moveTo>
                <a:lnTo>
                  <a:pt x="867065" y="2031167"/>
                </a:lnTo>
                <a:lnTo>
                  <a:pt x="1335989" y="2500073"/>
                </a:lnTo>
                <a:lnTo>
                  <a:pt x="1396599" y="2500073"/>
                </a:lnTo>
                <a:lnTo>
                  <a:pt x="1865505" y="2031168"/>
                </a:lnTo>
                <a:lnTo>
                  <a:pt x="1392304" y="1557960"/>
                </a:lnTo>
                <a:lnTo>
                  <a:pt x="1340281" y="1557960"/>
                </a:lnTo>
                <a:close/>
                <a:moveTo>
                  <a:pt x="3441642" y="1557959"/>
                </a:moveTo>
                <a:lnTo>
                  <a:pt x="2968432" y="2031168"/>
                </a:lnTo>
                <a:lnTo>
                  <a:pt x="3437347" y="2500073"/>
                </a:lnTo>
                <a:lnTo>
                  <a:pt x="3497954" y="2500073"/>
                </a:lnTo>
                <a:lnTo>
                  <a:pt x="3966871" y="2031167"/>
                </a:lnTo>
                <a:lnTo>
                  <a:pt x="3493660" y="1557959"/>
                </a:lnTo>
                <a:lnTo>
                  <a:pt x="3441642" y="1557959"/>
                </a:lnTo>
                <a:close/>
                <a:moveTo>
                  <a:pt x="2390960" y="1557959"/>
                </a:moveTo>
                <a:lnTo>
                  <a:pt x="1917749" y="2031168"/>
                </a:lnTo>
                <a:lnTo>
                  <a:pt x="2386666" y="2500073"/>
                </a:lnTo>
                <a:lnTo>
                  <a:pt x="2447276" y="2500073"/>
                </a:lnTo>
                <a:lnTo>
                  <a:pt x="2916188" y="2031168"/>
                </a:lnTo>
                <a:lnTo>
                  <a:pt x="2442982" y="1557959"/>
                </a:lnTo>
                <a:lnTo>
                  <a:pt x="2390960" y="1557959"/>
                </a:lnTo>
                <a:close/>
                <a:moveTo>
                  <a:pt x="5542984" y="1557959"/>
                </a:moveTo>
                <a:lnTo>
                  <a:pt x="5069777" y="2031166"/>
                </a:lnTo>
                <a:lnTo>
                  <a:pt x="5538692" y="2500073"/>
                </a:lnTo>
                <a:lnTo>
                  <a:pt x="5599300" y="2500073"/>
                </a:lnTo>
                <a:lnTo>
                  <a:pt x="6068216" y="2031165"/>
                </a:lnTo>
                <a:lnTo>
                  <a:pt x="5595011" y="1557959"/>
                </a:lnTo>
                <a:lnTo>
                  <a:pt x="5542984" y="1557959"/>
                </a:lnTo>
                <a:close/>
                <a:moveTo>
                  <a:pt x="4492304" y="1557959"/>
                </a:moveTo>
                <a:lnTo>
                  <a:pt x="4019114" y="2031167"/>
                </a:lnTo>
                <a:lnTo>
                  <a:pt x="4488010" y="2500073"/>
                </a:lnTo>
                <a:lnTo>
                  <a:pt x="4548618" y="2500073"/>
                </a:lnTo>
                <a:lnTo>
                  <a:pt x="5017533" y="2031166"/>
                </a:lnTo>
                <a:lnTo>
                  <a:pt x="4544326" y="1557959"/>
                </a:lnTo>
                <a:lnTo>
                  <a:pt x="4492304" y="1557959"/>
                </a:lnTo>
                <a:close/>
                <a:moveTo>
                  <a:pt x="7644348" y="1557959"/>
                </a:moveTo>
                <a:lnTo>
                  <a:pt x="7171139" y="2031167"/>
                </a:lnTo>
                <a:lnTo>
                  <a:pt x="7640054" y="2500073"/>
                </a:lnTo>
                <a:lnTo>
                  <a:pt x="7700663" y="2500073"/>
                </a:lnTo>
                <a:lnTo>
                  <a:pt x="8169579" y="2031166"/>
                </a:lnTo>
                <a:lnTo>
                  <a:pt x="7696373" y="1557959"/>
                </a:lnTo>
                <a:lnTo>
                  <a:pt x="7644348" y="1557959"/>
                </a:lnTo>
                <a:close/>
                <a:moveTo>
                  <a:pt x="6593666" y="1557959"/>
                </a:moveTo>
                <a:lnTo>
                  <a:pt x="6120461" y="2031165"/>
                </a:lnTo>
                <a:lnTo>
                  <a:pt x="6589377" y="2500073"/>
                </a:lnTo>
                <a:lnTo>
                  <a:pt x="6649981" y="2500073"/>
                </a:lnTo>
                <a:lnTo>
                  <a:pt x="7118896" y="2031167"/>
                </a:lnTo>
                <a:lnTo>
                  <a:pt x="6645688" y="1557959"/>
                </a:lnTo>
                <a:lnTo>
                  <a:pt x="6593666" y="1557959"/>
                </a:lnTo>
                <a:close/>
                <a:moveTo>
                  <a:pt x="783783" y="1447135"/>
                </a:moveTo>
                <a:lnTo>
                  <a:pt x="894607" y="1447135"/>
                </a:lnTo>
                <a:lnTo>
                  <a:pt x="894607" y="1557960"/>
                </a:lnTo>
                <a:lnTo>
                  <a:pt x="783783" y="1557960"/>
                </a:lnTo>
                <a:lnTo>
                  <a:pt x="783783" y="1447135"/>
                </a:lnTo>
                <a:close/>
                <a:moveTo>
                  <a:pt x="3936210" y="1447134"/>
                </a:moveTo>
                <a:lnTo>
                  <a:pt x="4047034" y="1447134"/>
                </a:lnTo>
                <a:lnTo>
                  <a:pt x="4047034" y="1557959"/>
                </a:lnTo>
                <a:lnTo>
                  <a:pt x="3936210" y="1557959"/>
                </a:lnTo>
                <a:lnTo>
                  <a:pt x="3936210" y="1447134"/>
                </a:lnTo>
                <a:close/>
                <a:moveTo>
                  <a:pt x="2885402" y="1447134"/>
                </a:moveTo>
                <a:lnTo>
                  <a:pt x="2996226" y="1447134"/>
                </a:lnTo>
                <a:lnTo>
                  <a:pt x="2996226" y="1557959"/>
                </a:lnTo>
                <a:lnTo>
                  <a:pt x="2885402" y="1557959"/>
                </a:lnTo>
                <a:lnTo>
                  <a:pt x="2885402" y="1447134"/>
                </a:lnTo>
                <a:close/>
                <a:moveTo>
                  <a:pt x="1834592" y="1447134"/>
                </a:moveTo>
                <a:lnTo>
                  <a:pt x="1945417" y="1447134"/>
                </a:lnTo>
                <a:lnTo>
                  <a:pt x="1945417" y="1557959"/>
                </a:lnTo>
                <a:lnTo>
                  <a:pt x="1834592" y="1557959"/>
                </a:lnTo>
                <a:lnTo>
                  <a:pt x="1834592" y="1447134"/>
                </a:lnTo>
                <a:close/>
                <a:moveTo>
                  <a:pt x="6037812" y="1447134"/>
                </a:moveTo>
                <a:lnTo>
                  <a:pt x="6148637" y="1447134"/>
                </a:lnTo>
                <a:lnTo>
                  <a:pt x="6148637" y="1557959"/>
                </a:lnTo>
                <a:lnTo>
                  <a:pt x="6037812" y="1557959"/>
                </a:lnTo>
                <a:lnTo>
                  <a:pt x="6037812" y="1447134"/>
                </a:lnTo>
                <a:close/>
                <a:moveTo>
                  <a:pt x="4987004" y="1447134"/>
                </a:moveTo>
                <a:lnTo>
                  <a:pt x="5097829" y="1447134"/>
                </a:lnTo>
                <a:lnTo>
                  <a:pt x="5097829" y="1557959"/>
                </a:lnTo>
                <a:lnTo>
                  <a:pt x="4987004" y="1557959"/>
                </a:lnTo>
                <a:lnTo>
                  <a:pt x="4987004" y="1447134"/>
                </a:lnTo>
                <a:close/>
                <a:moveTo>
                  <a:pt x="8139428" y="1447134"/>
                </a:moveTo>
                <a:lnTo>
                  <a:pt x="8250253" y="1447134"/>
                </a:lnTo>
                <a:lnTo>
                  <a:pt x="8250253" y="1557959"/>
                </a:lnTo>
                <a:lnTo>
                  <a:pt x="8139428" y="1557959"/>
                </a:lnTo>
                <a:lnTo>
                  <a:pt x="8139428" y="1447134"/>
                </a:lnTo>
                <a:close/>
                <a:moveTo>
                  <a:pt x="7088620" y="1447134"/>
                </a:moveTo>
                <a:lnTo>
                  <a:pt x="7199445" y="1447134"/>
                </a:lnTo>
                <a:lnTo>
                  <a:pt x="7199445" y="1557959"/>
                </a:lnTo>
                <a:lnTo>
                  <a:pt x="7088620" y="1557959"/>
                </a:lnTo>
                <a:lnTo>
                  <a:pt x="7088620" y="1447134"/>
                </a:lnTo>
                <a:close/>
                <a:moveTo>
                  <a:pt x="2942311" y="1006606"/>
                </a:moveTo>
                <a:lnTo>
                  <a:pt x="2470823" y="1478096"/>
                </a:lnTo>
                <a:lnTo>
                  <a:pt x="2470823" y="1533557"/>
                </a:lnTo>
                <a:lnTo>
                  <a:pt x="2942310" y="2005046"/>
                </a:lnTo>
                <a:lnTo>
                  <a:pt x="3410807" y="1536551"/>
                </a:lnTo>
                <a:lnTo>
                  <a:pt x="3410807" y="1475102"/>
                </a:lnTo>
                <a:lnTo>
                  <a:pt x="2942311" y="1006606"/>
                </a:lnTo>
                <a:close/>
                <a:moveTo>
                  <a:pt x="1891628" y="1006606"/>
                </a:moveTo>
                <a:lnTo>
                  <a:pt x="1420020" y="1478222"/>
                </a:lnTo>
                <a:lnTo>
                  <a:pt x="1420020" y="1533430"/>
                </a:lnTo>
                <a:lnTo>
                  <a:pt x="1891628" y="2005046"/>
                </a:lnTo>
                <a:lnTo>
                  <a:pt x="2359999" y="1536677"/>
                </a:lnTo>
                <a:lnTo>
                  <a:pt x="2359999" y="1474976"/>
                </a:lnTo>
                <a:lnTo>
                  <a:pt x="1891628" y="1006606"/>
                </a:lnTo>
                <a:close/>
                <a:moveTo>
                  <a:pt x="840942" y="1006606"/>
                </a:moveTo>
                <a:lnTo>
                  <a:pt x="369204" y="1478346"/>
                </a:lnTo>
                <a:lnTo>
                  <a:pt x="369204" y="1533304"/>
                </a:lnTo>
                <a:lnTo>
                  <a:pt x="840943" y="2005045"/>
                </a:lnTo>
                <a:lnTo>
                  <a:pt x="1309193" y="1536802"/>
                </a:lnTo>
                <a:lnTo>
                  <a:pt x="1309193" y="1474850"/>
                </a:lnTo>
                <a:lnTo>
                  <a:pt x="840942" y="1006606"/>
                </a:lnTo>
                <a:close/>
                <a:moveTo>
                  <a:pt x="3992992" y="1006606"/>
                </a:moveTo>
                <a:lnTo>
                  <a:pt x="3521631" y="1477968"/>
                </a:lnTo>
                <a:lnTo>
                  <a:pt x="3521631" y="1533684"/>
                </a:lnTo>
                <a:lnTo>
                  <a:pt x="3992992" y="2005046"/>
                </a:lnTo>
                <a:lnTo>
                  <a:pt x="4461600" y="1536420"/>
                </a:lnTo>
                <a:lnTo>
                  <a:pt x="4461600" y="1475233"/>
                </a:lnTo>
                <a:lnTo>
                  <a:pt x="3992992" y="1006606"/>
                </a:lnTo>
                <a:close/>
                <a:moveTo>
                  <a:pt x="6094336" y="1006605"/>
                </a:moveTo>
                <a:lnTo>
                  <a:pt x="5623233" y="1477710"/>
                </a:lnTo>
                <a:lnTo>
                  <a:pt x="5623233" y="1533937"/>
                </a:lnTo>
                <a:lnTo>
                  <a:pt x="6094338" y="2005043"/>
                </a:lnTo>
                <a:lnTo>
                  <a:pt x="6563216" y="1536165"/>
                </a:lnTo>
                <a:lnTo>
                  <a:pt x="6563216" y="1475486"/>
                </a:lnTo>
                <a:lnTo>
                  <a:pt x="6094336" y="1006605"/>
                </a:lnTo>
                <a:close/>
                <a:moveTo>
                  <a:pt x="7145020" y="1006604"/>
                </a:moveTo>
                <a:lnTo>
                  <a:pt x="6674041" y="1477584"/>
                </a:lnTo>
                <a:lnTo>
                  <a:pt x="6674041" y="1534069"/>
                </a:lnTo>
                <a:lnTo>
                  <a:pt x="7145018" y="2005045"/>
                </a:lnTo>
                <a:lnTo>
                  <a:pt x="7614024" y="1536039"/>
                </a:lnTo>
                <a:lnTo>
                  <a:pt x="7614024" y="1475610"/>
                </a:lnTo>
                <a:lnTo>
                  <a:pt x="7145020" y="1006604"/>
                </a:lnTo>
                <a:close/>
                <a:moveTo>
                  <a:pt x="8195701" y="1006604"/>
                </a:moveTo>
                <a:lnTo>
                  <a:pt x="7724849" y="1477457"/>
                </a:lnTo>
                <a:lnTo>
                  <a:pt x="7724849" y="1534190"/>
                </a:lnTo>
                <a:lnTo>
                  <a:pt x="8195702" y="2005044"/>
                </a:lnTo>
                <a:lnTo>
                  <a:pt x="8664832" y="1535914"/>
                </a:lnTo>
                <a:lnTo>
                  <a:pt x="8664832" y="1475735"/>
                </a:lnTo>
                <a:lnTo>
                  <a:pt x="8195701" y="1006604"/>
                </a:lnTo>
                <a:close/>
                <a:moveTo>
                  <a:pt x="5043657" y="1006604"/>
                </a:moveTo>
                <a:lnTo>
                  <a:pt x="4572425" y="1477838"/>
                </a:lnTo>
                <a:lnTo>
                  <a:pt x="4572425" y="1533814"/>
                </a:lnTo>
                <a:lnTo>
                  <a:pt x="5043655" y="2005045"/>
                </a:lnTo>
                <a:lnTo>
                  <a:pt x="5512408" y="1536292"/>
                </a:lnTo>
                <a:lnTo>
                  <a:pt x="5512408" y="1475356"/>
                </a:lnTo>
                <a:lnTo>
                  <a:pt x="5043657" y="1006604"/>
                </a:lnTo>
                <a:close/>
                <a:moveTo>
                  <a:pt x="2359987" y="922636"/>
                </a:moveTo>
                <a:lnTo>
                  <a:pt x="2470812" y="922636"/>
                </a:lnTo>
                <a:lnTo>
                  <a:pt x="2470812" y="1033461"/>
                </a:lnTo>
                <a:lnTo>
                  <a:pt x="2359987" y="1033461"/>
                </a:lnTo>
                <a:lnTo>
                  <a:pt x="2359987" y="922636"/>
                </a:lnTo>
                <a:close/>
                <a:moveTo>
                  <a:pt x="1309178" y="922636"/>
                </a:moveTo>
                <a:lnTo>
                  <a:pt x="1420004" y="922636"/>
                </a:lnTo>
                <a:lnTo>
                  <a:pt x="1420004" y="1033461"/>
                </a:lnTo>
                <a:lnTo>
                  <a:pt x="1309178" y="1033461"/>
                </a:lnTo>
                <a:lnTo>
                  <a:pt x="1309178" y="922636"/>
                </a:lnTo>
                <a:close/>
                <a:moveTo>
                  <a:pt x="258370" y="922636"/>
                </a:moveTo>
                <a:lnTo>
                  <a:pt x="369195" y="922636"/>
                </a:lnTo>
                <a:lnTo>
                  <a:pt x="369195" y="1033461"/>
                </a:lnTo>
                <a:lnTo>
                  <a:pt x="258370" y="1033461"/>
                </a:lnTo>
                <a:lnTo>
                  <a:pt x="258370" y="922636"/>
                </a:lnTo>
                <a:close/>
                <a:moveTo>
                  <a:pt x="4461600" y="922636"/>
                </a:moveTo>
                <a:lnTo>
                  <a:pt x="4572425" y="922636"/>
                </a:lnTo>
                <a:lnTo>
                  <a:pt x="4572425" y="1033461"/>
                </a:lnTo>
                <a:lnTo>
                  <a:pt x="4461600" y="1033461"/>
                </a:lnTo>
                <a:lnTo>
                  <a:pt x="4461600" y="922636"/>
                </a:lnTo>
                <a:close/>
                <a:moveTo>
                  <a:pt x="3410794" y="922636"/>
                </a:moveTo>
                <a:lnTo>
                  <a:pt x="3521620" y="922636"/>
                </a:lnTo>
                <a:lnTo>
                  <a:pt x="3521620" y="1033461"/>
                </a:lnTo>
                <a:lnTo>
                  <a:pt x="3410794" y="1033461"/>
                </a:lnTo>
                <a:lnTo>
                  <a:pt x="3410794" y="922636"/>
                </a:lnTo>
                <a:close/>
                <a:moveTo>
                  <a:pt x="7614024" y="922636"/>
                </a:moveTo>
                <a:lnTo>
                  <a:pt x="7724849" y="922636"/>
                </a:lnTo>
                <a:lnTo>
                  <a:pt x="7724849" y="1033461"/>
                </a:lnTo>
                <a:lnTo>
                  <a:pt x="7614024" y="1033461"/>
                </a:lnTo>
                <a:lnTo>
                  <a:pt x="7614024" y="922636"/>
                </a:lnTo>
                <a:close/>
                <a:moveTo>
                  <a:pt x="6563216" y="922636"/>
                </a:moveTo>
                <a:lnTo>
                  <a:pt x="6674041" y="922636"/>
                </a:lnTo>
                <a:lnTo>
                  <a:pt x="6674041" y="1033461"/>
                </a:lnTo>
                <a:lnTo>
                  <a:pt x="6563216" y="1033461"/>
                </a:lnTo>
                <a:lnTo>
                  <a:pt x="6563216" y="922636"/>
                </a:lnTo>
                <a:close/>
                <a:moveTo>
                  <a:pt x="5512408" y="922636"/>
                </a:moveTo>
                <a:lnTo>
                  <a:pt x="5623233" y="922636"/>
                </a:lnTo>
                <a:lnTo>
                  <a:pt x="5623233" y="1033461"/>
                </a:lnTo>
                <a:lnTo>
                  <a:pt x="5512408" y="1033461"/>
                </a:lnTo>
                <a:lnTo>
                  <a:pt x="5512408" y="922636"/>
                </a:lnTo>
                <a:close/>
                <a:moveTo>
                  <a:pt x="8664832" y="922635"/>
                </a:moveTo>
                <a:lnTo>
                  <a:pt x="8775657" y="922635"/>
                </a:lnTo>
                <a:lnTo>
                  <a:pt x="8775657" y="1033460"/>
                </a:lnTo>
                <a:lnTo>
                  <a:pt x="8664832" y="1033460"/>
                </a:lnTo>
                <a:lnTo>
                  <a:pt x="8664832" y="922635"/>
                </a:lnTo>
                <a:close/>
                <a:moveTo>
                  <a:pt x="1337494" y="510063"/>
                </a:moveTo>
                <a:lnTo>
                  <a:pt x="867064" y="980485"/>
                </a:lnTo>
                <a:lnTo>
                  <a:pt x="1333721" y="1447135"/>
                </a:lnTo>
                <a:lnTo>
                  <a:pt x="1398862" y="1447135"/>
                </a:lnTo>
                <a:lnTo>
                  <a:pt x="1865505" y="980485"/>
                </a:lnTo>
                <a:lnTo>
                  <a:pt x="1395091" y="510063"/>
                </a:lnTo>
                <a:lnTo>
                  <a:pt x="1337494" y="510063"/>
                </a:lnTo>
                <a:close/>
                <a:moveTo>
                  <a:pt x="2388172" y="510063"/>
                </a:moveTo>
                <a:lnTo>
                  <a:pt x="1917749" y="980485"/>
                </a:lnTo>
                <a:lnTo>
                  <a:pt x="2384400" y="1447135"/>
                </a:lnTo>
                <a:lnTo>
                  <a:pt x="2449540" y="1447135"/>
                </a:lnTo>
                <a:lnTo>
                  <a:pt x="2916188" y="980485"/>
                </a:lnTo>
                <a:lnTo>
                  <a:pt x="2445768" y="510063"/>
                </a:lnTo>
                <a:lnTo>
                  <a:pt x="2388172" y="510063"/>
                </a:lnTo>
                <a:close/>
                <a:moveTo>
                  <a:pt x="3438854" y="510063"/>
                </a:moveTo>
                <a:lnTo>
                  <a:pt x="2968432" y="980485"/>
                </a:lnTo>
                <a:lnTo>
                  <a:pt x="3435082" y="1447134"/>
                </a:lnTo>
                <a:lnTo>
                  <a:pt x="3500221" y="1447134"/>
                </a:lnTo>
                <a:lnTo>
                  <a:pt x="3966871" y="980485"/>
                </a:lnTo>
                <a:lnTo>
                  <a:pt x="3496446" y="510063"/>
                </a:lnTo>
                <a:lnTo>
                  <a:pt x="3438854" y="510063"/>
                </a:lnTo>
                <a:close/>
                <a:moveTo>
                  <a:pt x="4489516" y="510063"/>
                </a:moveTo>
                <a:lnTo>
                  <a:pt x="4019114" y="980485"/>
                </a:lnTo>
                <a:lnTo>
                  <a:pt x="4485745" y="1447134"/>
                </a:lnTo>
                <a:lnTo>
                  <a:pt x="4550885" y="1447134"/>
                </a:lnTo>
                <a:lnTo>
                  <a:pt x="5017536" y="980482"/>
                </a:lnTo>
                <a:lnTo>
                  <a:pt x="4547117" y="510063"/>
                </a:lnTo>
                <a:lnTo>
                  <a:pt x="4489516" y="510063"/>
                </a:lnTo>
                <a:close/>
                <a:moveTo>
                  <a:pt x="5540197" y="510063"/>
                </a:moveTo>
                <a:lnTo>
                  <a:pt x="5069779" y="980483"/>
                </a:lnTo>
                <a:lnTo>
                  <a:pt x="5536430" y="1447134"/>
                </a:lnTo>
                <a:lnTo>
                  <a:pt x="5601565" y="1447134"/>
                </a:lnTo>
                <a:lnTo>
                  <a:pt x="6068214" y="980484"/>
                </a:lnTo>
                <a:lnTo>
                  <a:pt x="5597794" y="510063"/>
                </a:lnTo>
                <a:lnTo>
                  <a:pt x="5540197" y="510063"/>
                </a:lnTo>
                <a:close/>
                <a:moveTo>
                  <a:pt x="6590878" y="510062"/>
                </a:moveTo>
                <a:lnTo>
                  <a:pt x="6120457" y="980484"/>
                </a:lnTo>
                <a:lnTo>
                  <a:pt x="6587106" y="1447134"/>
                </a:lnTo>
                <a:lnTo>
                  <a:pt x="6652247" y="1447134"/>
                </a:lnTo>
                <a:lnTo>
                  <a:pt x="7118898" y="980483"/>
                </a:lnTo>
                <a:lnTo>
                  <a:pt x="6648479" y="510062"/>
                </a:lnTo>
                <a:lnTo>
                  <a:pt x="6590878" y="510062"/>
                </a:lnTo>
                <a:close/>
                <a:moveTo>
                  <a:pt x="7641560" y="510062"/>
                </a:moveTo>
                <a:lnTo>
                  <a:pt x="7171142" y="980482"/>
                </a:lnTo>
                <a:lnTo>
                  <a:pt x="7637793" y="1447134"/>
                </a:lnTo>
                <a:lnTo>
                  <a:pt x="7702929" y="1447134"/>
                </a:lnTo>
                <a:lnTo>
                  <a:pt x="8169579" y="980483"/>
                </a:lnTo>
                <a:lnTo>
                  <a:pt x="7699160" y="510062"/>
                </a:lnTo>
                <a:lnTo>
                  <a:pt x="7641560" y="510062"/>
                </a:lnTo>
                <a:close/>
                <a:moveTo>
                  <a:pt x="783785" y="399238"/>
                </a:moveTo>
                <a:lnTo>
                  <a:pt x="894609" y="399238"/>
                </a:lnTo>
                <a:lnTo>
                  <a:pt x="894609" y="510063"/>
                </a:lnTo>
                <a:lnTo>
                  <a:pt x="783785" y="510063"/>
                </a:lnTo>
                <a:lnTo>
                  <a:pt x="783785" y="399238"/>
                </a:lnTo>
                <a:close/>
                <a:moveTo>
                  <a:pt x="1834594" y="399238"/>
                </a:moveTo>
                <a:lnTo>
                  <a:pt x="1945420" y="399238"/>
                </a:lnTo>
                <a:lnTo>
                  <a:pt x="1945420" y="510063"/>
                </a:lnTo>
                <a:lnTo>
                  <a:pt x="1834594" y="510063"/>
                </a:lnTo>
                <a:lnTo>
                  <a:pt x="1834594" y="399238"/>
                </a:lnTo>
                <a:close/>
                <a:moveTo>
                  <a:pt x="3936212" y="399238"/>
                </a:moveTo>
                <a:lnTo>
                  <a:pt x="4047037" y="399238"/>
                </a:lnTo>
                <a:lnTo>
                  <a:pt x="4047037" y="510063"/>
                </a:lnTo>
                <a:lnTo>
                  <a:pt x="3936212" y="510063"/>
                </a:lnTo>
                <a:lnTo>
                  <a:pt x="3936212" y="399238"/>
                </a:lnTo>
                <a:close/>
                <a:moveTo>
                  <a:pt x="2885405" y="399238"/>
                </a:moveTo>
                <a:lnTo>
                  <a:pt x="2996229" y="399238"/>
                </a:lnTo>
                <a:lnTo>
                  <a:pt x="2996229" y="510063"/>
                </a:lnTo>
                <a:lnTo>
                  <a:pt x="2885405" y="510063"/>
                </a:lnTo>
                <a:lnTo>
                  <a:pt x="2885405" y="399238"/>
                </a:lnTo>
                <a:close/>
                <a:moveTo>
                  <a:pt x="4987004" y="399238"/>
                </a:moveTo>
                <a:lnTo>
                  <a:pt x="5097829" y="399238"/>
                </a:lnTo>
                <a:lnTo>
                  <a:pt x="5097829" y="510063"/>
                </a:lnTo>
                <a:lnTo>
                  <a:pt x="4987004" y="510063"/>
                </a:lnTo>
                <a:lnTo>
                  <a:pt x="4987004" y="399238"/>
                </a:lnTo>
                <a:close/>
                <a:moveTo>
                  <a:pt x="6037812" y="399238"/>
                </a:moveTo>
                <a:lnTo>
                  <a:pt x="6148637" y="399238"/>
                </a:lnTo>
                <a:lnTo>
                  <a:pt x="6148637" y="510062"/>
                </a:lnTo>
                <a:lnTo>
                  <a:pt x="6037812" y="510062"/>
                </a:lnTo>
                <a:lnTo>
                  <a:pt x="6037812" y="399238"/>
                </a:lnTo>
                <a:close/>
                <a:moveTo>
                  <a:pt x="7088620" y="399237"/>
                </a:moveTo>
                <a:lnTo>
                  <a:pt x="7199445" y="399237"/>
                </a:lnTo>
                <a:lnTo>
                  <a:pt x="7199445" y="510062"/>
                </a:lnTo>
                <a:lnTo>
                  <a:pt x="7088620" y="510062"/>
                </a:lnTo>
                <a:lnTo>
                  <a:pt x="7088620" y="399237"/>
                </a:lnTo>
                <a:close/>
                <a:moveTo>
                  <a:pt x="8139428" y="399237"/>
                </a:moveTo>
                <a:lnTo>
                  <a:pt x="8250253" y="399237"/>
                </a:lnTo>
                <a:lnTo>
                  <a:pt x="8250253" y="510062"/>
                </a:lnTo>
                <a:lnTo>
                  <a:pt x="8139428" y="510062"/>
                </a:lnTo>
                <a:lnTo>
                  <a:pt x="8139428" y="399237"/>
                </a:lnTo>
                <a:close/>
                <a:moveTo>
                  <a:pt x="6138416" y="0"/>
                </a:moveTo>
                <a:lnTo>
                  <a:pt x="6190660" y="0"/>
                </a:lnTo>
                <a:lnTo>
                  <a:pt x="6589898" y="399238"/>
                </a:lnTo>
                <a:lnTo>
                  <a:pt x="6649459" y="399238"/>
                </a:lnTo>
                <a:lnTo>
                  <a:pt x="7048695" y="2"/>
                </a:lnTo>
                <a:lnTo>
                  <a:pt x="7100939" y="2"/>
                </a:lnTo>
                <a:lnTo>
                  <a:pt x="6674041" y="426899"/>
                </a:lnTo>
                <a:lnTo>
                  <a:pt x="6674041" y="483380"/>
                </a:lnTo>
                <a:lnTo>
                  <a:pt x="7145020" y="954361"/>
                </a:lnTo>
                <a:lnTo>
                  <a:pt x="7614024" y="485355"/>
                </a:lnTo>
                <a:lnTo>
                  <a:pt x="7614024" y="424926"/>
                </a:lnTo>
                <a:lnTo>
                  <a:pt x="7189097" y="1"/>
                </a:lnTo>
                <a:lnTo>
                  <a:pt x="7241340" y="1"/>
                </a:lnTo>
                <a:lnTo>
                  <a:pt x="7640577" y="399237"/>
                </a:lnTo>
                <a:lnTo>
                  <a:pt x="7700142" y="399237"/>
                </a:lnTo>
                <a:lnTo>
                  <a:pt x="8099378" y="1"/>
                </a:lnTo>
                <a:lnTo>
                  <a:pt x="8151622" y="1"/>
                </a:lnTo>
                <a:lnTo>
                  <a:pt x="7724849" y="426774"/>
                </a:lnTo>
                <a:lnTo>
                  <a:pt x="7724849" y="483509"/>
                </a:lnTo>
                <a:lnTo>
                  <a:pt x="8195700" y="954363"/>
                </a:lnTo>
                <a:lnTo>
                  <a:pt x="8664832" y="485228"/>
                </a:lnTo>
                <a:lnTo>
                  <a:pt x="8664832" y="425054"/>
                </a:lnTo>
                <a:lnTo>
                  <a:pt x="8239778" y="1"/>
                </a:lnTo>
                <a:lnTo>
                  <a:pt x="8292022" y="1"/>
                </a:lnTo>
                <a:lnTo>
                  <a:pt x="8691259" y="399237"/>
                </a:lnTo>
                <a:lnTo>
                  <a:pt x="8750823" y="399237"/>
                </a:lnTo>
                <a:lnTo>
                  <a:pt x="9143986" y="6075"/>
                </a:lnTo>
                <a:lnTo>
                  <a:pt x="9143986" y="58319"/>
                </a:lnTo>
                <a:lnTo>
                  <a:pt x="8775657" y="426647"/>
                </a:lnTo>
                <a:lnTo>
                  <a:pt x="8775657" y="483635"/>
                </a:lnTo>
                <a:lnTo>
                  <a:pt x="9143986" y="851966"/>
                </a:lnTo>
                <a:lnTo>
                  <a:pt x="9143986" y="904210"/>
                </a:lnTo>
                <a:lnTo>
                  <a:pt x="8749840" y="510062"/>
                </a:lnTo>
                <a:lnTo>
                  <a:pt x="8692242" y="510062"/>
                </a:lnTo>
                <a:lnTo>
                  <a:pt x="8221822" y="980484"/>
                </a:lnTo>
                <a:lnTo>
                  <a:pt x="8688471" y="1447133"/>
                </a:lnTo>
                <a:lnTo>
                  <a:pt x="8753611" y="1447133"/>
                </a:lnTo>
                <a:lnTo>
                  <a:pt x="9143986" y="1056762"/>
                </a:lnTo>
                <a:lnTo>
                  <a:pt x="9143986" y="1109003"/>
                </a:lnTo>
                <a:lnTo>
                  <a:pt x="8775657" y="1477331"/>
                </a:lnTo>
                <a:lnTo>
                  <a:pt x="8775657" y="1534319"/>
                </a:lnTo>
                <a:lnTo>
                  <a:pt x="9143986" y="1902649"/>
                </a:lnTo>
                <a:lnTo>
                  <a:pt x="9143987" y="1954891"/>
                </a:lnTo>
                <a:lnTo>
                  <a:pt x="8747055" y="1557959"/>
                </a:lnTo>
                <a:lnTo>
                  <a:pt x="8695029" y="1557959"/>
                </a:lnTo>
                <a:lnTo>
                  <a:pt x="8221823" y="2031165"/>
                </a:lnTo>
                <a:lnTo>
                  <a:pt x="8690741" y="2500073"/>
                </a:lnTo>
                <a:lnTo>
                  <a:pt x="8751345" y="2500073"/>
                </a:lnTo>
                <a:lnTo>
                  <a:pt x="9143986" y="2107432"/>
                </a:lnTo>
                <a:lnTo>
                  <a:pt x="9143986" y="2159677"/>
                </a:lnTo>
                <a:lnTo>
                  <a:pt x="8775657" y="2528005"/>
                </a:lnTo>
                <a:lnTo>
                  <a:pt x="8775657" y="2584989"/>
                </a:lnTo>
                <a:lnTo>
                  <a:pt x="9143987" y="2953319"/>
                </a:lnTo>
                <a:lnTo>
                  <a:pt x="9143987" y="3005564"/>
                </a:lnTo>
                <a:lnTo>
                  <a:pt x="8749321" y="2610898"/>
                </a:lnTo>
                <a:lnTo>
                  <a:pt x="8692765" y="2610898"/>
                </a:lnTo>
                <a:lnTo>
                  <a:pt x="8221822" y="3081840"/>
                </a:lnTo>
                <a:lnTo>
                  <a:pt x="8691194" y="3551212"/>
                </a:lnTo>
                <a:lnTo>
                  <a:pt x="8750888" y="3551212"/>
                </a:lnTo>
                <a:lnTo>
                  <a:pt x="9143986" y="3158114"/>
                </a:lnTo>
                <a:lnTo>
                  <a:pt x="9143986" y="3210356"/>
                </a:lnTo>
                <a:lnTo>
                  <a:pt x="8775657" y="3578686"/>
                </a:lnTo>
                <a:lnTo>
                  <a:pt x="8775657" y="3635674"/>
                </a:lnTo>
                <a:lnTo>
                  <a:pt x="9143986" y="4004003"/>
                </a:lnTo>
                <a:lnTo>
                  <a:pt x="9143986" y="4056248"/>
                </a:lnTo>
                <a:lnTo>
                  <a:pt x="8749774" y="3662037"/>
                </a:lnTo>
                <a:lnTo>
                  <a:pt x="8692306" y="3662037"/>
                </a:lnTo>
                <a:lnTo>
                  <a:pt x="8221823" y="4132519"/>
                </a:lnTo>
                <a:lnTo>
                  <a:pt x="8661299" y="4571995"/>
                </a:lnTo>
                <a:lnTo>
                  <a:pt x="8609053" y="4571995"/>
                </a:lnTo>
                <a:lnTo>
                  <a:pt x="8195700" y="4158642"/>
                </a:lnTo>
                <a:lnTo>
                  <a:pt x="7782346" y="4571997"/>
                </a:lnTo>
                <a:lnTo>
                  <a:pt x="7730103" y="4571997"/>
                </a:lnTo>
                <a:lnTo>
                  <a:pt x="8169579" y="4132521"/>
                </a:lnTo>
                <a:lnTo>
                  <a:pt x="7699096" y="3662037"/>
                </a:lnTo>
                <a:lnTo>
                  <a:pt x="7641624" y="3662037"/>
                </a:lnTo>
                <a:lnTo>
                  <a:pt x="7171140" y="4132521"/>
                </a:lnTo>
                <a:lnTo>
                  <a:pt x="7610615" y="4571996"/>
                </a:lnTo>
                <a:lnTo>
                  <a:pt x="7558371" y="4571996"/>
                </a:lnTo>
                <a:lnTo>
                  <a:pt x="7145018" y="4158643"/>
                </a:lnTo>
                <a:lnTo>
                  <a:pt x="6731665" y="4571996"/>
                </a:lnTo>
                <a:lnTo>
                  <a:pt x="6679421" y="4571997"/>
                </a:lnTo>
                <a:lnTo>
                  <a:pt x="7118896" y="4132521"/>
                </a:lnTo>
                <a:lnTo>
                  <a:pt x="6648412" y="3662037"/>
                </a:lnTo>
                <a:lnTo>
                  <a:pt x="6590942" y="3662037"/>
                </a:lnTo>
                <a:lnTo>
                  <a:pt x="6120458" y="4132521"/>
                </a:lnTo>
                <a:lnTo>
                  <a:pt x="6559933" y="4571996"/>
                </a:lnTo>
                <a:lnTo>
                  <a:pt x="6507689" y="4571996"/>
                </a:lnTo>
                <a:lnTo>
                  <a:pt x="6094336" y="4158643"/>
                </a:lnTo>
                <a:lnTo>
                  <a:pt x="5680986" y="4571994"/>
                </a:lnTo>
                <a:lnTo>
                  <a:pt x="5628742" y="4571994"/>
                </a:lnTo>
                <a:lnTo>
                  <a:pt x="6068215" y="4132521"/>
                </a:lnTo>
                <a:lnTo>
                  <a:pt x="5597730" y="3662037"/>
                </a:lnTo>
                <a:lnTo>
                  <a:pt x="5540260" y="3662037"/>
                </a:lnTo>
                <a:lnTo>
                  <a:pt x="5069776" y="4132521"/>
                </a:lnTo>
                <a:lnTo>
                  <a:pt x="5509251" y="4571996"/>
                </a:lnTo>
                <a:lnTo>
                  <a:pt x="5457007" y="4571996"/>
                </a:lnTo>
                <a:lnTo>
                  <a:pt x="5043654" y="4158643"/>
                </a:lnTo>
                <a:lnTo>
                  <a:pt x="4630302" y="4571995"/>
                </a:lnTo>
                <a:lnTo>
                  <a:pt x="4578058" y="4571995"/>
                </a:lnTo>
                <a:lnTo>
                  <a:pt x="5017532" y="4132521"/>
                </a:lnTo>
                <a:lnTo>
                  <a:pt x="4547048" y="3662037"/>
                </a:lnTo>
                <a:lnTo>
                  <a:pt x="4489581" y="3662037"/>
                </a:lnTo>
                <a:lnTo>
                  <a:pt x="4019114" y="4132522"/>
                </a:lnTo>
                <a:lnTo>
                  <a:pt x="4458569" y="4571996"/>
                </a:lnTo>
                <a:lnTo>
                  <a:pt x="4406325" y="4571996"/>
                </a:lnTo>
                <a:lnTo>
                  <a:pt x="3992992" y="4158644"/>
                </a:lnTo>
                <a:lnTo>
                  <a:pt x="3579640" y="4571995"/>
                </a:lnTo>
                <a:lnTo>
                  <a:pt x="3527396" y="4571995"/>
                </a:lnTo>
                <a:lnTo>
                  <a:pt x="3966870" y="4132522"/>
                </a:lnTo>
                <a:lnTo>
                  <a:pt x="3496383" y="3662037"/>
                </a:lnTo>
                <a:lnTo>
                  <a:pt x="3438916" y="3662037"/>
                </a:lnTo>
                <a:lnTo>
                  <a:pt x="2968432" y="4132520"/>
                </a:lnTo>
                <a:lnTo>
                  <a:pt x="3407909" y="4571995"/>
                </a:lnTo>
                <a:lnTo>
                  <a:pt x="3355664" y="4571995"/>
                </a:lnTo>
                <a:lnTo>
                  <a:pt x="2942310" y="4158642"/>
                </a:lnTo>
                <a:lnTo>
                  <a:pt x="2528960" y="4571994"/>
                </a:lnTo>
                <a:lnTo>
                  <a:pt x="2476716" y="4571994"/>
                </a:lnTo>
                <a:lnTo>
                  <a:pt x="2916189" y="4132521"/>
                </a:lnTo>
                <a:lnTo>
                  <a:pt x="2445706" y="3662037"/>
                </a:lnTo>
                <a:lnTo>
                  <a:pt x="2388237" y="3662037"/>
                </a:lnTo>
                <a:lnTo>
                  <a:pt x="1917750" y="4132522"/>
                </a:lnTo>
                <a:lnTo>
                  <a:pt x="2357226" y="4571995"/>
                </a:lnTo>
                <a:lnTo>
                  <a:pt x="2304983" y="4571996"/>
                </a:lnTo>
                <a:lnTo>
                  <a:pt x="1891628" y="4158644"/>
                </a:lnTo>
                <a:lnTo>
                  <a:pt x="1478287" y="4571994"/>
                </a:lnTo>
                <a:lnTo>
                  <a:pt x="1426043" y="4571994"/>
                </a:lnTo>
                <a:lnTo>
                  <a:pt x="1865506" y="4132522"/>
                </a:lnTo>
                <a:lnTo>
                  <a:pt x="1395028" y="3662037"/>
                </a:lnTo>
                <a:lnTo>
                  <a:pt x="1337560" y="3662037"/>
                </a:lnTo>
                <a:lnTo>
                  <a:pt x="867065" y="4132523"/>
                </a:lnTo>
                <a:lnTo>
                  <a:pt x="1306545" y="4571995"/>
                </a:lnTo>
                <a:lnTo>
                  <a:pt x="1254301" y="4571995"/>
                </a:lnTo>
                <a:lnTo>
                  <a:pt x="840943" y="4158645"/>
                </a:lnTo>
                <a:lnTo>
                  <a:pt x="427592" y="4571996"/>
                </a:lnTo>
                <a:lnTo>
                  <a:pt x="375348" y="4571996"/>
                </a:lnTo>
                <a:lnTo>
                  <a:pt x="814821" y="4132522"/>
                </a:lnTo>
                <a:lnTo>
                  <a:pt x="344336" y="3662037"/>
                </a:lnTo>
                <a:lnTo>
                  <a:pt x="286868" y="3662037"/>
                </a:lnTo>
                <a:lnTo>
                  <a:pt x="2" y="3948903"/>
                </a:lnTo>
                <a:lnTo>
                  <a:pt x="2" y="3896659"/>
                </a:lnTo>
                <a:lnTo>
                  <a:pt x="258375" y="3638287"/>
                </a:lnTo>
                <a:lnTo>
                  <a:pt x="258375" y="3576075"/>
                </a:lnTo>
                <a:lnTo>
                  <a:pt x="1" y="3317701"/>
                </a:lnTo>
                <a:lnTo>
                  <a:pt x="1" y="3265457"/>
                </a:lnTo>
                <a:lnTo>
                  <a:pt x="285755" y="3551212"/>
                </a:lnTo>
                <a:lnTo>
                  <a:pt x="345449" y="3551212"/>
                </a:lnTo>
                <a:lnTo>
                  <a:pt x="814821" y="3081840"/>
                </a:lnTo>
                <a:lnTo>
                  <a:pt x="343879" y="2610898"/>
                </a:lnTo>
                <a:lnTo>
                  <a:pt x="287325" y="2610898"/>
                </a:lnTo>
                <a:lnTo>
                  <a:pt x="4" y="2898220"/>
                </a:lnTo>
                <a:lnTo>
                  <a:pt x="4" y="2845976"/>
                </a:lnTo>
                <a:lnTo>
                  <a:pt x="258377" y="2587602"/>
                </a:lnTo>
                <a:lnTo>
                  <a:pt x="258377" y="2525395"/>
                </a:lnTo>
                <a:lnTo>
                  <a:pt x="1" y="2267018"/>
                </a:lnTo>
                <a:lnTo>
                  <a:pt x="0" y="2214773"/>
                </a:lnTo>
                <a:lnTo>
                  <a:pt x="285299" y="2500073"/>
                </a:lnTo>
                <a:lnTo>
                  <a:pt x="345906" y="2500073"/>
                </a:lnTo>
                <a:lnTo>
                  <a:pt x="814821" y="2031167"/>
                </a:lnTo>
                <a:lnTo>
                  <a:pt x="341615" y="1557960"/>
                </a:lnTo>
                <a:lnTo>
                  <a:pt x="289591" y="1557960"/>
                </a:lnTo>
                <a:lnTo>
                  <a:pt x="1" y="1847551"/>
                </a:lnTo>
                <a:lnTo>
                  <a:pt x="1" y="1795307"/>
                </a:lnTo>
                <a:lnTo>
                  <a:pt x="258379" y="1536928"/>
                </a:lnTo>
                <a:lnTo>
                  <a:pt x="258379" y="1474723"/>
                </a:lnTo>
                <a:lnTo>
                  <a:pt x="1" y="1216345"/>
                </a:lnTo>
                <a:lnTo>
                  <a:pt x="1" y="1164102"/>
                </a:lnTo>
                <a:lnTo>
                  <a:pt x="283034" y="1447135"/>
                </a:lnTo>
                <a:lnTo>
                  <a:pt x="348172" y="1447135"/>
                </a:lnTo>
                <a:lnTo>
                  <a:pt x="814820" y="980485"/>
                </a:lnTo>
                <a:lnTo>
                  <a:pt x="344400" y="510063"/>
                </a:lnTo>
                <a:lnTo>
                  <a:pt x="286802" y="510063"/>
                </a:lnTo>
                <a:lnTo>
                  <a:pt x="2" y="796868"/>
                </a:lnTo>
                <a:lnTo>
                  <a:pt x="2" y="744627"/>
                </a:lnTo>
                <a:lnTo>
                  <a:pt x="258382" y="486240"/>
                </a:lnTo>
                <a:lnTo>
                  <a:pt x="258382" y="424044"/>
                </a:lnTo>
                <a:lnTo>
                  <a:pt x="2" y="165665"/>
                </a:lnTo>
                <a:lnTo>
                  <a:pt x="2" y="113421"/>
                </a:lnTo>
                <a:lnTo>
                  <a:pt x="285819" y="399238"/>
                </a:lnTo>
                <a:lnTo>
                  <a:pt x="345383" y="399238"/>
                </a:lnTo>
                <a:lnTo>
                  <a:pt x="744619" y="2"/>
                </a:lnTo>
                <a:lnTo>
                  <a:pt x="796863" y="2"/>
                </a:lnTo>
                <a:lnTo>
                  <a:pt x="369206" y="427659"/>
                </a:lnTo>
                <a:lnTo>
                  <a:pt x="369206" y="482625"/>
                </a:lnTo>
                <a:lnTo>
                  <a:pt x="840942" y="954363"/>
                </a:lnTo>
                <a:lnTo>
                  <a:pt x="1309198" y="486115"/>
                </a:lnTo>
                <a:lnTo>
                  <a:pt x="1309198" y="424170"/>
                </a:lnTo>
                <a:lnTo>
                  <a:pt x="885018" y="1"/>
                </a:lnTo>
                <a:lnTo>
                  <a:pt x="937262" y="1"/>
                </a:lnTo>
                <a:lnTo>
                  <a:pt x="1336510" y="399238"/>
                </a:lnTo>
                <a:lnTo>
                  <a:pt x="1396075" y="399238"/>
                </a:lnTo>
                <a:lnTo>
                  <a:pt x="1795305" y="3"/>
                </a:lnTo>
                <a:lnTo>
                  <a:pt x="1847547" y="3"/>
                </a:lnTo>
                <a:lnTo>
                  <a:pt x="1420024" y="427535"/>
                </a:lnTo>
                <a:lnTo>
                  <a:pt x="1420024" y="482750"/>
                </a:lnTo>
                <a:lnTo>
                  <a:pt x="1891628" y="954364"/>
                </a:lnTo>
                <a:lnTo>
                  <a:pt x="2360002" y="485990"/>
                </a:lnTo>
                <a:lnTo>
                  <a:pt x="2360002" y="424295"/>
                </a:lnTo>
                <a:lnTo>
                  <a:pt x="1935703" y="1"/>
                </a:lnTo>
                <a:lnTo>
                  <a:pt x="1987946" y="1"/>
                </a:lnTo>
                <a:lnTo>
                  <a:pt x="2387188" y="399238"/>
                </a:lnTo>
                <a:lnTo>
                  <a:pt x="2446753" y="399238"/>
                </a:lnTo>
                <a:lnTo>
                  <a:pt x="2845989" y="2"/>
                </a:lnTo>
                <a:lnTo>
                  <a:pt x="2898233" y="2"/>
                </a:lnTo>
                <a:lnTo>
                  <a:pt x="2470826" y="427409"/>
                </a:lnTo>
                <a:lnTo>
                  <a:pt x="2470826" y="482876"/>
                </a:lnTo>
                <a:lnTo>
                  <a:pt x="2942310" y="954364"/>
                </a:lnTo>
                <a:lnTo>
                  <a:pt x="3410810" y="485864"/>
                </a:lnTo>
                <a:lnTo>
                  <a:pt x="3410810" y="424421"/>
                </a:lnTo>
                <a:lnTo>
                  <a:pt x="2986387" y="1"/>
                </a:lnTo>
                <a:lnTo>
                  <a:pt x="3038634" y="1"/>
                </a:lnTo>
                <a:lnTo>
                  <a:pt x="3437870" y="399238"/>
                </a:lnTo>
                <a:lnTo>
                  <a:pt x="3497432" y="399238"/>
                </a:lnTo>
                <a:lnTo>
                  <a:pt x="3896671" y="2"/>
                </a:lnTo>
                <a:lnTo>
                  <a:pt x="3948916" y="2"/>
                </a:lnTo>
                <a:lnTo>
                  <a:pt x="3521633" y="427284"/>
                </a:lnTo>
                <a:lnTo>
                  <a:pt x="3521633" y="483002"/>
                </a:lnTo>
                <a:lnTo>
                  <a:pt x="3992992" y="954363"/>
                </a:lnTo>
                <a:lnTo>
                  <a:pt x="4461600" y="485736"/>
                </a:lnTo>
                <a:lnTo>
                  <a:pt x="4461600" y="424545"/>
                </a:lnTo>
                <a:lnTo>
                  <a:pt x="4037073" y="1"/>
                </a:lnTo>
                <a:lnTo>
                  <a:pt x="4089316" y="1"/>
                </a:lnTo>
                <a:lnTo>
                  <a:pt x="4488536" y="399238"/>
                </a:lnTo>
                <a:lnTo>
                  <a:pt x="4548098" y="399238"/>
                </a:lnTo>
                <a:lnTo>
                  <a:pt x="4947332" y="4"/>
                </a:lnTo>
                <a:lnTo>
                  <a:pt x="4999576" y="4"/>
                </a:lnTo>
                <a:lnTo>
                  <a:pt x="4572425" y="427154"/>
                </a:lnTo>
                <a:lnTo>
                  <a:pt x="4572425" y="483127"/>
                </a:lnTo>
                <a:lnTo>
                  <a:pt x="5043657" y="954361"/>
                </a:lnTo>
                <a:lnTo>
                  <a:pt x="5512408" y="485609"/>
                </a:lnTo>
                <a:lnTo>
                  <a:pt x="5512408" y="424676"/>
                </a:lnTo>
                <a:lnTo>
                  <a:pt x="5087732" y="1"/>
                </a:lnTo>
                <a:lnTo>
                  <a:pt x="5139975" y="1"/>
                </a:lnTo>
                <a:lnTo>
                  <a:pt x="5539212" y="399238"/>
                </a:lnTo>
                <a:lnTo>
                  <a:pt x="5598779" y="399238"/>
                </a:lnTo>
                <a:lnTo>
                  <a:pt x="5998015" y="2"/>
                </a:lnTo>
                <a:lnTo>
                  <a:pt x="6050259" y="2"/>
                </a:lnTo>
                <a:lnTo>
                  <a:pt x="5623233" y="427027"/>
                </a:lnTo>
                <a:lnTo>
                  <a:pt x="5623233" y="483258"/>
                </a:lnTo>
                <a:lnTo>
                  <a:pt x="6094336" y="954363"/>
                </a:lnTo>
                <a:lnTo>
                  <a:pt x="6563216" y="485481"/>
                </a:lnTo>
                <a:lnTo>
                  <a:pt x="6563216" y="424799"/>
                </a:lnTo>
                <a:lnTo>
                  <a:pt x="613841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90"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91" name="PlaceHolder 3"/>
          <p:cNvSpPr>
            <a:spLocks noGrp="1"/>
          </p:cNvSpPr>
          <p:nvPr>
            <p:ph type="dt" idx="7"/>
          </p:nvPr>
        </p:nvSpPr>
        <p:spPr>
          <a:xfrm>
            <a:off x="767880" y="6470280"/>
            <a:ext cx="161604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92" name="PlaceHolder 4"/>
          <p:cNvSpPr>
            <a:spLocks noGrp="1"/>
          </p:cNvSpPr>
          <p:nvPr>
            <p:ph type="ftr" idx="8"/>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93" name="PlaceHolder 5"/>
          <p:cNvSpPr>
            <a:spLocks noGrp="1"/>
          </p:cNvSpPr>
          <p:nvPr>
            <p:ph type="sldNum" idx="9"/>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F2535F-44FE-48C6-9ACE-2E76A9A3BCD5}" type="slidenum">
              <a:rPr b="0" lang="nl-NL"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131"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32" name="PlaceHolder 3"/>
          <p:cNvSpPr>
            <a:spLocks noGrp="1"/>
          </p:cNvSpPr>
          <p:nvPr>
            <p:ph type="dt" idx="10"/>
          </p:nvPr>
        </p:nvSpPr>
        <p:spPr>
          <a:xfrm>
            <a:off x="767880" y="6470280"/>
            <a:ext cx="161604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133" name="PlaceHolder 4"/>
          <p:cNvSpPr>
            <a:spLocks noGrp="1"/>
          </p:cNvSpPr>
          <p:nvPr>
            <p:ph type="ftr" idx="11"/>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34" name="PlaceHolder 5"/>
          <p:cNvSpPr>
            <a:spLocks noGrp="1"/>
          </p:cNvSpPr>
          <p:nvPr>
            <p:ph type="sldNum" idx="12"/>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5CBA1A-604A-487C-8EE3-BEFB4011DA56}" type="slidenum">
              <a:rPr b="0" lang="nl-NL"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traight Connector 7"/>
          <p:cNvSpPr/>
          <p:nvPr/>
        </p:nvSpPr>
        <p:spPr>
          <a:xfrm flipV="1">
            <a:off x="6289560" y="5264280"/>
            <a:ext cx="0" cy="914400"/>
          </a:xfrm>
          <a:prstGeom prst="line">
            <a:avLst/>
          </a:prstGeom>
          <a:ln w="19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7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173"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74" name="PlaceHolder 3"/>
          <p:cNvSpPr>
            <a:spLocks noGrp="1"/>
          </p:cNvSpPr>
          <p:nvPr>
            <p:ph type="dt" idx="13"/>
          </p:nvPr>
        </p:nvSpPr>
        <p:spPr>
          <a:xfrm>
            <a:off x="767880" y="6470280"/>
            <a:ext cx="161604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175" name="PlaceHolder 4"/>
          <p:cNvSpPr>
            <a:spLocks noGrp="1"/>
          </p:cNvSpPr>
          <p:nvPr>
            <p:ph type="ftr" idx="14"/>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76" name="PlaceHolder 5"/>
          <p:cNvSpPr>
            <a:spLocks noGrp="1"/>
          </p:cNvSpPr>
          <p:nvPr>
            <p:ph type="sldNum" idx="15"/>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FD73CD-1537-4E00-8493-0A20942D09D0}" type="slidenum">
              <a:rPr b="0" lang="nl-NL"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Straight Connector 6"/>
          <p:cNvSpPr/>
          <p:nvPr/>
        </p:nvSpPr>
        <p:spPr>
          <a:xfrm>
            <a:off x="7201080" y="515880"/>
            <a:ext cx="685800" cy="0"/>
          </a:xfrm>
          <a:prstGeom prst="line">
            <a:avLst/>
          </a:prstGeom>
          <a:ln w="19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1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215"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16" name="PlaceHolder 3"/>
          <p:cNvSpPr>
            <a:spLocks noGrp="1"/>
          </p:cNvSpPr>
          <p:nvPr>
            <p:ph type="dt" idx="16"/>
          </p:nvPr>
        </p:nvSpPr>
        <p:spPr>
          <a:xfrm>
            <a:off x="767880" y="6470280"/>
            <a:ext cx="161604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217" name="PlaceHolder 4"/>
          <p:cNvSpPr>
            <a:spLocks noGrp="1"/>
          </p:cNvSpPr>
          <p:nvPr>
            <p:ph type="ftr" idx="17"/>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18" name="PlaceHolder 5"/>
          <p:cNvSpPr>
            <a:spLocks noGrp="1"/>
          </p:cNvSpPr>
          <p:nvPr>
            <p:ph type="sldNum" idx="18"/>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D12E30-E99A-4E57-85B9-2A37BF90D8C9}" type="slidenum">
              <a:rPr b="0" lang="nl-NL"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343080" y="4959360"/>
            <a:ext cx="5829120" cy="146376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d0d0d"/>
                </a:solidFill>
                <a:latin typeface="Tw Cen MT Condensed"/>
              </a:rPr>
              <a:t>BRANDWONDEN</a:t>
            </a:r>
            <a:endParaRPr b="0" lang="en-US" sz="4400" spc="-1" strike="noStrike">
              <a:solidFill>
                <a:srgbClr val="0d0d0d"/>
              </a:solidFill>
              <a:latin typeface="Tw Cen MT Condensed"/>
            </a:endParaRPr>
          </a:p>
        </p:txBody>
      </p:sp>
      <p:sp>
        <p:nvSpPr>
          <p:cNvPr id="263" name="PlaceHolder 2"/>
          <p:cNvSpPr>
            <a:spLocks noGrp="1"/>
          </p:cNvSpPr>
          <p:nvPr>
            <p:ph type="subTitle"/>
          </p:nvPr>
        </p:nvSpPr>
        <p:spPr>
          <a:xfrm>
            <a:off x="6457680" y="4959360"/>
            <a:ext cx="2400120" cy="146376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600" spc="-1" strike="noStrike">
              <a:solidFill>
                <a:srgbClr val="0d0d0d"/>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539280" y="333000"/>
            <a:ext cx="5472360" cy="13842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EHBO BIJ BRANDWONDEN</a:t>
            </a:r>
            <a:endParaRPr b="0" lang="en-US" sz="3800" spc="-1" strike="noStrike">
              <a:solidFill>
                <a:srgbClr val="0d0d0d"/>
              </a:solidFill>
              <a:latin typeface="Tw Cen MT Condensed"/>
            </a:endParaRPr>
          </a:p>
        </p:txBody>
      </p:sp>
      <p:sp>
        <p:nvSpPr>
          <p:cNvPr id="290" name="PlaceHolder 2"/>
          <p:cNvSpPr>
            <a:spLocks noGrp="1"/>
          </p:cNvSpPr>
          <p:nvPr>
            <p:ph/>
          </p:nvPr>
        </p:nvSpPr>
        <p:spPr>
          <a:xfrm>
            <a:off x="444240" y="1844640"/>
            <a:ext cx="3779640" cy="4114800"/>
          </a:xfrm>
          <a:prstGeom prst="rect">
            <a:avLst/>
          </a:prstGeom>
          <a:noFill/>
          <a:ln w="0">
            <a:noFill/>
          </a:ln>
        </p:spPr>
        <p:txBody>
          <a:bodyPr lIns="45720" rIns="45720" anchor="t">
            <a:normAutofit fontScale="95000"/>
          </a:bodyPr>
          <a:p>
            <a:pPr marL="259200" indent="0">
              <a:lnSpc>
                <a:spcPct val="7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u="sng">
                <a:solidFill>
                  <a:srgbClr val="000000"/>
                </a:solidFill>
                <a:uFillTx/>
                <a:latin typeface="Tw Cen MT"/>
              </a:rPr>
              <a:t>Wel</a:t>
            </a:r>
            <a:r>
              <a:rPr b="0" lang="nl-NL" sz="2800" spc="-1" strike="noStrike" u="sng">
                <a:solidFill>
                  <a:srgbClr val="000000"/>
                </a:solidFill>
                <a:uFillTx/>
                <a:latin typeface="Tw Cen MT"/>
              </a:rPr>
              <a:t> doen</a:t>
            </a:r>
            <a:r>
              <a:rPr b="0" lang="nl-NL" sz="2800" spc="-1" strike="noStrike">
                <a:solidFill>
                  <a:srgbClr val="000000"/>
                </a:solidFill>
                <a:latin typeface="Tw Cen MT"/>
              </a:rPr>
              <a:t> </a:t>
            </a:r>
            <a:endParaRPr b="0" lang="en-US" sz="2800" spc="-1" strike="noStrike">
              <a:solidFill>
                <a:srgbClr val="000000"/>
              </a:solidFill>
              <a:latin typeface="Tw Cen MT"/>
            </a:endParaRPr>
          </a:p>
          <a:p>
            <a:pPr marL="259200" indent="-259200">
              <a:lnSpc>
                <a:spcPct val="70000"/>
              </a:lnSpc>
              <a:spcBef>
                <a:spcPts val="1199"/>
              </a:spcBef>
              <a:buClr>
                <a:srgbClr val="928b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Stop de oorzaak</a:t>
            </a:r>
            <a:endParaRPr b="0" lang="en-US" sz="2600" spc="-1" strike="noStrike">
              <a:solidFill>
                <a:srgbClr val="000000"/>
              </a:solidFill>
              <a:latin typeface="Tw Cen MT"/>
            </a:endParaRPr>
          </a:p>
          <a:p>
            <a:pPr marL="259200" indent="-259200">
              <a:lnSpc>
                <a:spcPct val="70000"/>
              </a:lnSpc>
              <a:spcBef>
                <a:spcPts val="1199"/>
              </a:spcBef>
              <a:buClr>
                <a:srgbClr val="928b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Eerste zorgen</a:t>
            </a:r>
            <a:endParaRPr b="0" lang="en-US" sz="2600" spc="-1" strike="noStrike">
              <a:solidFill>
                <a:srgbClr val="000000"/>
              </a:solidFill>
              <a:latin typeface="Tw Cen MT"/>
            </a:endParaRPr>
          </a:p>
          <a:p>
            <a:pPr lvl="1" marL="698040" indent="-325800">
              <a:lnSpc>
                <a:spcPct val="70000"/>
              </a:lnSpc>
              <a:spcBef>
                <a:spcPts val="2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Tw Cen MT"/>
              </a:rPr>
              <a:t>A(demhaling)</a:t>
            </a:r>
            <a:endParaRPr b="0" lang="en-US" sz="1900" spc="-1" strike="noStrike">
              <a:solidFill>
                <a:srgbClr val="000000"/>
              </a:solidFill>
              <a:latin typeface="Tw Cen MT"/>
            </a:endParaRPr>
          </a:p>
          <a:p>
            <a:pPr lvl="1" marL="698040" indent="-325800">
              <a:lnSpc>
                <a:spcPct val="70000"/>
              </a:lnSpc>
              <a:spcBef>
                <a:spcPts val="2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Tw Cen MT"/>
              </a:rPr>
              <a:t>B(ewustzijn)</a:t>
            </a:r>
            <a:endParaRPr b="0" lang="en-US" sz="1900" spc="-1" strike="noStrike">
              <a:solidFill>
                <a:srgbClr val="000000"/>
              </a:solidFill>
              <a:latin typeface="Tw Cen MT"/>
            </a:endParaRPr>
          </a:p>
          <a:p>
            <a:pPr lvl="1" marL="698040" indent="-325800">
              <a:lnSpc>
                <a:spcPct val="70000"/>
              </a:lnSpc>
              <a:spcBef>
                <a:spcPts val="2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Tw Cen MT"/>
              </a:rPr>
              <a:t>C(irculatie)</a:t>
            </a:r>
            <a:endParaRPr b="0" lang="en-US" sz="1900" spc="-1" strike="noStrike">
              <a:solidFill>
                <a:srgbClr val="000000"/>
              </a:solidFill>
              <a:latin typeface="Tw Cen MT"/>
            </a:endParaRPr>
          </a:p>
          <a:p>
            <a:pPr marL="259200" indent="-259200">
              <a:lnSpc>
                <a:spcPct val="70000"/>
              </a:lnSpc>
              <a:spcBef>
                <a:spcPts val="1199"/>
              </a:spcBef>
              <a:buClr>
                <a:srgbClr val="928b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Koel de wond </a:t>
            </a:r>
            <a:r>
              <a:rPr b="0" lang="nl-NL" sz="1400" spc="-1" strike="noStrike">
                <a:solidFill>
                  <a:srgbClr val="000000"/>
                </a:solidFill>
                <a:latin typeface="Tw Cen MT"/>
              </a:rPr>
              <a:t>(minimaal 10 minuten) </a:t>
            </a:r>
            <a:endParaRPr b="0" lang="en-US" sz="1400" spc="-1" strike="noStrike">
              <a:solidFill>
                <a:srgbClr val="000000"/>
              </a:solidFill>
              <a:latin typeface="Tw Cen MT"/>
            </a:endParaRPr>
          </a:p>
          <a:p>
            <a:pPr marL="259200" indent="-259200">
              <a:lnSpc>
                <a:spcPct val="70000"/>
              </a:lnSpc>
              <a:spcBef>
                <a:spcPts val="1199"/>
              </a:spcBef>
              <a:buClr>
                <a:srgbClr val="928b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Waarschuw een arts bij </a:t>
            </a:r>
            <a:endParaRPr b="0" lang="en-US" sz="2600" spc="-1" strike="noStrike">
              <a:solidFill>
                <a:srgbClr val="000000"/>
              </a:solidFill>
              <a:latin typeface="Tw Cen MT"/>
            </a:endParaRPr>
          </a:p>
          <a:p>
            <a:pPr lvl="1" marL="698040" indent="-325800">
              <a:lnSpc>
                <a:spcPct val="70000"/>
              </a:lnSpc>
              <a:spcBef>
                <a:spcPts val="2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Tw Cen MT"/>
              </a:rPr>
              <a:t>Blaren</a:t>
            </a:r>
            <a:endParaRPr b="0" lang="en-US" sz="1900" spc="-1" strike="noStrike">
              <a:solidFill>
                <a:srgbClr val="000000"/>
              </a:solidFill>
              <a:latin typeface="Tw Cen MT"/>
            </a:endParaRPr>
          </a:p>
          <a:p>
            <a:pPr lvl="1" marL="698040" indent="-325800">
              <a:lnSpc>
                <a:spcPct val="70000"/>
              </a:lnSpc>
              <a:spcBef>
                <a:spcPts val="2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Tw Cen MT"/>
              </a:rPr>
              <a:t>Tweede &amp; derde graad (volwassenen) </a:t>
            </a:r>
            <a:endParaRPr b="0" lang="en-US" sz="1900" spc="-1" strike="noStrike">
              <a:solidFill>
                <a:srgbClr val="000000"/>
              </a:solidFill>
              <a:latin typeface="Tw Cen MT"/>
            </a:endParaRPr>
          </a:p>
          <a:p>
            <a:pPr lvl="1" marL="698040" indent="-325800">
              <a:lnSpc>
                <a:spcPct val="70000"/>
              </a:lnSpc>
              <a:spcBef>
                <a:spcPts val="2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Tw Cen MT"/>
              </a:rPr>
              <a:t>Elektrische verbrandingen</a:t>
            </a:r>
            <a:endParaRPr b="0" lang="en-US" sz="1900" spc="-1" strike="noStrike">
              <a:solidFill>
                <a:srgbClr val="000000"/>
              </a:solidFill>
              <a:latin typeface="Tw Cen MT"/>
            </a:endParaRPr>
          </a:p>
          <a:p>
            <a:pPr lvl="1" marL="698040" indent="-325800">
              <a:lnSpc>
                <a:spcPct val="70000"/>
              </a:lnSpc>
              <a:spcBef>
                <a:spcPts val="2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Tw Cen MT"/>
              </a:rPr>
              <a:t>Chemische verbrandingen</a:t>
            </a:r>
            <a:endParaRPr b="0" lang="en-US" sz="1900" spc="-1" strike="noStrike">
              <a:solidFill>
                <a:srgbClr val="000000"/>
              </a:solidFill>
              <a:latin typeface="Tw Cen MT"/>
            </a:endParaRPr>
          </a:p>
          <a:p>
            <a:pPr marL="259200" indent="0">
              <a:lnSpc>
                <a:spcPct val="7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w Cen MT"/>
            </a:endParaRPr>
          </a:p>
        </p:txBody>
      </p:sp>
      <p:sp>
        <p:nvSpPr>
          <p:cNvPr id="291" name="Rectangle 3"/>
          <p:cNvSpPr/>
          <p:nvPr/>
        </p:nvSpPr>
        <p:spPr>
          <a:xfrm>
            <a:off x="4356000" y="2276640"/>
            <a:ext cx="4608720" cy="4114800"/>
          </a:xfrm>
          <a:prstGeom prst="rect">
            <a:avLst/>
          </a:prstGeom>
          <a:noFill/>
          <a:ln w="0">
            <a:noFill/>
          </a:ln>
        </p:spPr>
        <p:style>
          <a:lnRef idx="0"/>
          <a:fillRef idx="0"/>
          <a:effectRef idx="0"/>
          <a:fontRef idx="minor"/>
        </p:style>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w Cen MT"/>
              </a:rPr>
              <a:t>Bedek de wond </a:t>
            </a:r>
            <a:endParaRPr b="0" lang="en-US" sz="28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steriel verband </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schone doek</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kledingstuk van het slachtoffer</a:t>
            </a:r>
            <a:endParaRPr b="0" lang="en-US" sz="16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w Cen MT"/>
              </a:rPr>
              <a:t>Vervoer het slachtoffer, indien mogelijk, zittend</a:t>
            </a:r>
            <a:endParaRPr b="0" lang="en-US" sz="28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892080" y="1952640"/>
            <a:ext cx="6321600" cy="2952720"/>
          </a:xfrm>
          <a:prstGeom prst="rect">
            <a:avLst/>
          </a:prstGeom>
          <a:noFill/>
          <a:ln w="0">
            <a:noFill/>
          </a:ln>
        </p:spPr>
        <p:txBody>
          <a:bodyPr lIns="45720" rIns="45720" anchor="t">
            <a:normAutofit fontScale="96000"/>
          </a:bodyPr>
          <a:p>
            <a:pPr marL="86400"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400" spc="-1" strike="noStrike" u="sng">
                <a:solidFill>
                  <a:srgbClr val="000000"/>
                </a:solidFill>
                <a:uFillTx/>
                <a:latin typeface="Tw Cen MT"/>
              </a:rPr>
              <a:t>Niet</a:t>
            </a:r>
            <a:r>
              <a:rPr b="0" lang="nl-NL" sz="3400" spc="-1" strike="noStrike" u="sng">
                <a:solidFill>
                  <a:srgbClr val="000000"/>
                </a:solidFill>
                <a:uFillTx/>
                <a:latin typeface="Tw Cen MT"/>
              </a:rPr>
              <a:t> doen</a:t>
            </a:r>
            <a:endParaRPr b="0" lang="en-US" sz="3400" spc="-1" strike="noStrike">
              <a:solidFill>
                <a:srgbClr val="000000"/>
              </a:solidFill>
              <a:latin typeface="Tw Cen MT"/>
            </a:endParaRPr>
          </a:p>
          <a:p>
            <a:pPr marL="86400" indent="-8640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Een brandwond door </a:t>
            </a:r>
            <a:r>
              <a:rPr b="0" lang="nl-NL" sz="2000" spc="-1" strike="noStrike" u="sng">
                <a:solidFill>
                  <a:srgbClr val="000000"/>
                </a:solidFill>
                <a:uFillTx/>
                <a:latin typeface="Tw Cen MT"/>
              </a:rPr>
              <a:t>warmte</a:t>
            </a:r>
            <a:r>
              <a:rPr b="0" lang="nl-NL" sz="2000" spc="-1" strike="noStrike">
                <a:solidFill>
                  <a:srgbClr val="000000"/>
                </a:solidFill>
                <a:latin typeface="Tw Cen MT"/>
              </a:rPr>
              <a:t> koelen met </a:t>
            </a:r>
            <a:r>
              <a:rPr b="0" i="1" lang="nl-NL" sz="2000" spc="-1" strike="noStrike">
                <a:solidFill>
                  <a:srgbClr val="000000"/>
                </a:solidFill>
                <a:latin typeface="Tw Cen MT"/>
              </a:rPr>
              <a:t>koud</a:t>
            </a:r>
            <a:r>
              <a:rPr b="0" lang="nl-NL" sz="2000" spc="-1" strike="noStrike">
                <a:solidFill>
                  <a:srgbClr val="000000"/>
                </a:solidFill>
                <a:latin typeface="Tw Cen MT"/>
              </a:rPr>
              <a:t> water</a:t>
            </a:r>
            <a:endParaRPr b="0" lang="en-US" sz="2000" spc="-1" strike="noStrike">
              <a:solidFill>
                <a:srgbClr val="000000"/>
              </a:solidFill>
              <a:latin typeface="Tw Cen MT"/>
            </a:endParaRPr>
          </a:p>
          <a:p>
            <a:pPr marL="86400" indent="-8640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Een brandwond door </a:t>
            </a:r>
            <a:r>
              <a:rPr b="0" lang="nl-NL" sz="2000" spc="-1" strike="noStrike" u="sng">
                <a:solidFill>
                  <a:srgbClr val="000000"/>
                </a:solidFill>
                <a:uFillTx/>
                <a:latin typeface="Tw Cen MT"/>
              </a:rPr>
              <a:t>koude</a:t>
            </a:r>
            <a:r>
              <a:rPr b="0" lang="nl-NL" sz="2000" spc="-1" strike="noStrike">
                <a:solidFill>
                  <a:srgbClr val="000000"/>
                </a:solidFill>
                <a:latin typeface="Tw Cen MT"/>
              </a:rPr>
              <a:t> onder </a:t>
            </a:r>
            <a:r>
              <a:rPr b="0" i="1" lang="nl-NL" sz="2000" spc="-1" strike="noStrike">
                <a:solidFill>
                  <a:srgbClr val="000000"/>
                </a:solidFill>
                <a:latin typeface="Tw Cen MT"/>
              </a:rPr>
              <a:t>warm</a:t>
            </a:r>
            <a:r>
              <a:rPr b="0" lang="nl-NL" sz="2000" spc="-1" strike="noStrike">
                <a:solidFill>
                  <a:srgbClr val="000000"/>
                </a:solidFill>
                <a:latin typeface="Tw Cen MT"/>
              </a:rPr>
              <a:t> water houden</a:t>
            </a:r>
            <a:endParaRPr b="0" lang="en-US" sz="2000" spc="-1" strike="noStrike">
              <a:solidFill>
                <a:srgbClr val="000000"/>
              </a:solidFill>
              <a:latin typeface="Tw Cen MT"/>
            </a:endParaRPr>
          </a:p>
          <a:p>
            <a:pPr marL="86400" indent="-8640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Kleding verwijderen, tenzij bij chemische verbranding</a:t>
            </a:r>
            <a:endParaRPr b="0" lang="en-US" sz="2000" spc="-1" strike="noStrike">
              <a:solidFill>
                <a:srgbClr val="000000"/>
              </a:solidFill>
              <a:latin typeface="Tw Cen MT"/>
            </a:endParaRPr>
          </a:p>
          <a:p>
            <a:pPr marL="86400" indent="-8640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Insmeren met zalfjes of andere middelen</a:t>
            </a:r>
            <a:endParaRPr b="0" lang="en-US" sz="2000" spc="-1" strike="noStrike">
              <a:solidFill>
                <a:srgbClr val="000000"/>
              </a:solidFill>
              <a:latin typeface="Tw Cen MT"/>
            </a:endParaRPr>
          </a:p>
          <a:p>
            <a:pPr marL="86400"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86400"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3" name="PlaceHolder 2"/>
          <p:cNvSpPr>
            <a:spLocks noGrp="1"/>
          </p:cNvSpPr>
          <p:nvPr>
            <p:ph type="title"/>
          </p:nvPr>
        </p:nvSpPr>
        <p:spPr>
          <a:xfrm>
            <a:off x="914400" y="188640"/>
            <a:ext cx="8229600" cy="13842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EHBO BIJ BRANDWONDEN</a:t>
            </a:r>
            <a:endParaRPr b="0" lang="en-US" sz="3800" spc="-1" strike="noStrike">
              <a:solidFill>
                <a:srgbClr val="0d0d0d"/>
              </a:solidFill>
              <a:latin typeface="Tw Cen MT Condense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914400" y="620280"/>
            <a:ext cx="8229600" cy="13842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ERNST VAN DE BRANDWOND</a:t>
            </a:r>
            <a:endParaRPr b="0" lang="en-US" sz="3800" spc="-1" strike="noStrike">
              <a:solidFill>
                <a:srgbClr val="0d0d0d"/>
              </a:solidFill>
              <a:latin typeface="Tw Cen MT Condensed"/>
            </a:endParaRPr>
          </a:p>
        </p:txBody>
      </p:sp>
      <p:sp>
        <p:nvSpPr>
          <p:cNvPr id="295" name="PlaceHolder 2"/>
          <p:cNvSpPr>
            <a:spLocks noGrp="1"/>
          </p:cNvSpPr>
          <p:nvPr>
            <p:ph/>
          </p:nvPr>
        </p:nvSpPr>
        <p:spPr>
          <a:xfrm>
            <a:off x="914400" y="2122560"/>
            <a:ext cx="5364000" cy="411480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Afhankelijk van</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Leeftijd</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Percentage van lichaam verbrand </a:t>
            </a:r>
            <a:r>
              <a:rPr b="0" lang="nl-NL" sz="2000" spc="-1" strike="noStrike">
                <a:solidFill>
                  <a:srgbClr val="000000"/>
                </a:solidFill>
                <a:latin typeface="Tw Cen MT"/>
              </a:rPr>
              <a:t>(regel van 9)</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De diepte van de brandwonden</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De medische voorgeschiedenis van de patiënt</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Eventueel gepaard gaande respiratoire letsels</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De lokalisatie van de brandwonden</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De oorzaak van verbranding</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Bijkomende lichamelijke letsels</a:t>
            </a:r>
            <a:endParaRPr b="0" lang="en-US" sz="1600" spc="-1" strike="noStrike">
              <a:solidFill>
                <a:srgbClr val="000000"/>
              </a:solidFill>
              <a:latin typeface="Tw Cen MT"/>
            </a:endParaRPr>
          </a:p>
          <a:p>
            <a:pPr marL="90360"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914400" y="188640"/>
            <a:ext cx="8229600" cy="11430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REGEL VAN 9</a:t>
            </a:r>
            <a:endParaRPr b="0" lang="en-US" sz="3800" spc="-1" strike="noStrike">
              <a:solidFill>
                <a:srgbClr val="0d0d0d"/>
              </a:solidFill>
              <a:latin typeface="Tw Cen MT Condensed"/>
            </a:endParaRPr>
          </a:p>
        </p:txBody>
      </p:sp>
      <p:graphicFrame>
        <p:nvGraphicFramePr>
          <p:cNvPr id="297" name=""/>
          <p:cNvGraphicFramePr/>
          <p:nvPr/>
        </p:nvGraphicFramePr>
        <p:xfrm>
          <a:off x="826920" y="2349360"/>
          <a:ext cx="4392720" cy="4148280"/>
        </p:xfrm>
        <a:graphic>
          <a:graphicData uri="http://schemas.openxmlformats.org/drawingml/2006/table">
            <a:tbl>
              <a:tblPr/>
              <a:tblGrid>
                <a:gridCol w="2233800"/>
                <a:gridCol w="1386000"/>
                <a:gridCol w="772920"/>
              </a:tblGrid>
              <a:tr h="67788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Volwassen</a:t>
                      </a:r>
                      <a:endParaRPr b="0" lang="en-US" sz="1400" spc="-1" strike="noStrike">
                        <a:solidFill>
                          <a:srgbClr val="000000"/>
                        </a:solidFill>
                        <a:latin typeface="Tw Cen MT"/>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Kind</a:t>
                      </a:r>
                      <a:endParaRPr b="0" lang="en-US" sz="1400" spc="-1" strike="noStrike">
                        <a:solidFill>
                          <a:srgbClr val="000000"/>
                        </a:solidFill>
                        <a:latin typeface="Tw Cen MT"/>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268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Hoofd + nek</a:t>
                      </a:r>
                      <a:endParaRPr b="0" lang="en-US" sz="1400" spc="-1" strike="noStrike">
                        <a:solidFill>
                          <a:srgbClr val="000000"/>
                        </a:solidFill>
                        <a:latin typeface="Tw Cen M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9%</a:t>
                      </a:r>
                      <a:endParaRPr b="0" lang="en-US" sz="14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15%</a:t>
                      </a:r>
                      <a:endParaRPr b="0" lang="en-US" sz="1400" spc="-1" strike="noStrike">
                        <a:solidFill>
                          <a:srgbClr val="000000"/>
                        </a:solidFill>
                        <a:latin typeface="Tw Cen M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020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Hele arm</a:t>
                      </a:r>
                      <a:endParaRPr b="0" lang="en-US" sz="1400" spc="-1" strike="noStrike">
                        <a:solidFill>
                          <a:srgbClr val="000000"/>
                        </a:solidFill>
                        <a:latin typeface="Tw Cen M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9%</a:t>
                      </a:r>
                      <a:endParaRPr b="0" lang="en-US" sz="14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9,5%</a:t>
                      </a:r>
                      <a:endParaRPr b="0" lang="en-US" sz="1400" spc="-1" strike="noStrike">
                        <a:solidFill>
                          <a:srgbClr val="000000"/>
                        </a:solidFill>
                        <a:latin typeface="Tw Cen M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668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Achterzijde been</a:t>
                      </a:r>
                      <a:endParaRPr b="0" lang="en-US" sz="1400" spc="-1" strike="noStrike">
                        <a:solidFill>
                          <a:srgbClr val="000000"/>
                        </a:solidFill>
                        <a:latin typeface="Tw Cen M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9%</a:t>
                      </a:r>
                      <a:endParaRPr b="0" lang="en-US" sz="14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8,5%</a:t>
                      </a:r>
                      <a:endParaRPr b="0" lang="en-US" sz="1400" spc="-1" strike="noStrike">
                        <a:solidFill>
                          <a:srgbClr val="000000"/>
                        </a:solidFill>
                        <a:latin typeface="Tw Cen M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632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Voorzijde been</a:t>
                      </a:r>
                      <a:endParaRPr b="0" lang="en-US" sz="1400" spc="-1" strike="noStrike">
                        <a:solidFill>
                          <a:srgbClr val="000000"/>
                        </a:solidFill>
                        <a:latin typeface="Tw Cen M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9%</a:t>
                      </a:r>
                      <a:endParaRPr b="0" lang="en-US" sz="14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8,5%</a:t>
                      </a:r>
                      <a:endParaRPr b="0" lang="en-US" sz="1400" spc="-1" strike="noStrike">
                        <a:solidFill>
                          <a:srgbClr val="000000"/>
                        </a:solidFill>
                        <a:latin typeface="Tw Cen M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Voorzijde romp</a:t>
                      </a:r>
                      <a:endParaRPr b="0" lang="en-US" sz="1400" spc="-1" strike="noStrike">
                        <a:solidFill>
                          <a:srgbClr val="000000"/>
                        </a:solidFill>
                        <a:latin typeface="Tw Cen M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2 x 9%</a:t>
                      </a:r>
                      <a:endParaRPr b="0" lang="en-US" sz="14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2 x 8%</a:t>
                      </a:r>
                      <a:endParaRPr b="0" lang="en-US" sz="1400" spc="-1" strike="noStrike">
                        <a:solidFill>
                          <a:srgbClr val="000000"/>
                        </a:solidFill>
                        <a:latin typeface="Tw Cen M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Achterzijde romp</a:t>
                      </a:r>
                      <a:endParaRPr b="0" lang="en-US" sz="1400" spc="-1" strike="noStrike">
                        <a:solidFill>
                          <a:srgbClr val="000000"/>
                        </a:solidFill>
                        <a:latin typeface="Tw Cen M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2 x 9%</a:t>
                      </a:r>
                      <a:endParaRPr b="0" lang="en-US" sz="14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2 x 8%</a:t>
                      </a:r>
                      <a:endParaRPr b="0" lang="en-US" sz="1400" spc="-1" strike="noStrike">
                        <a:solidFill>
                          <a:srgbClr val="000000"/>
                        </a:solidFill>
                        <a:latin typeface="Tw Cen M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Kruis</a:t>
                      </a:r>
                      <a:endParaRPr b="0" lang="en-US" sz="1400" spc="-1" strike="noStrike">
                        <a:solidFill>
                          <a:srgbClr val="000000"/>
                        </a:solidFill>
                        <a:latin typeface="Tw Cen MT"/>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1%</a:t>
                      </a:r>
                      <a:endParaRPr b="0" lang="en-US" sz="14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298" name="Picture 84" descr="brandwonden_regelvnegen"/>
          <p:cNvPicPr/>
          <p:nvPr/>
        </p:nvPicPr>
        <p:blipFill>
          <a:blip r:embed="rId1"/>
          <a:stretch/>
        </p:blipFill>
        <p:spPr>
          <a:xfrm>
            <a:off x="5816520" y="1557360"/>
            <a:ext cx="3327480" cy="5040360"/>
          </a:xfrm>
          <a:prstGeom prst="rect">
            <a:avLst/>
          </a:prstGeom>
          <a:ln w="0">
            <a:noFill/>
          </a:ln>
        </p:spPr>
      </p:pic>
      <p:sp>
        <p:nvSpPr>
          <p:cNvPr id="299" name="Text Box 114"/>
          <p:cNvSpPr/>
          <p:nvPr/>
        </p:nvSpPr>
        <p:spPr>
          <a:xfrm>
            <a:off x="560520" y="1344600"/>
            <a:ext cx="5256000" cy="70380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spcBef>
                <a:spcPts val="12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Arial"/>
                <a:ea typeface="Arial"/>
              </a:rPr>
              <a:t>Regel om vast te stellen hoeveel procent van het lichaam verbrand is</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914040" y="259920"/>
            <a:ext cx="4498920" cy="13842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OPNAMECRITERIA</a:t>
            </a:r>
            <a:endParaRPr b="0" lang="en-US" sz="3800" spc="-1" strike="noStrike">
              <a:solidFill>
                <a:srgbClr val="0d0d0d"/>
              </a:solidFill>
              <a:latin typeface="Tw Cen MT Condensed"/>
            </a:endParaRPr>
          </a:p>
        </p:txBody>
      </p:sp>
      <p:sp>
        <p:nvSpPr>
          <p:cNvPr id="301" name="PlaceHolder 2"/>
          <p:cNvSpPr>
            <a:spLocks noGrp="1"/>
          </p:cNvSpPr>
          <p:nvPr>
            <p:ph/>
          </p:nvPr>
        </p:nvSpPr>
        <p:spPr>
          <a:xfrm>
            <a:off x="914400" y="1844640"/>
            <a:ext cx="8229600" cy="4114800"/>
          </a:xfrm>
          <a:prstGeom prst="rect">
            <a:avLst/>
          </a:prstGeom>
          <a:noFill/>
          <a:ln w="0">
            <a:noFill/>
          </a:ln>
        </p:spPr>
        <p:txBody>
          <a:bodyPr lIns="45720" rIns="45720" anchor="t">
            <a:normAutofit fontScale="97000"/>
          </a:bodyPr>
          <a:p>
            <a:pPr marL="264600" indent="-264600">
              <a:lnSpc>
                <a:spcPct val="8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Volwassene &gt; 10% verbrand; Kinderen en Ouderen &gt;5% verbrand.</a:t>
            </a:r>
            <a:endParaRPr b="0" lang="en-US" sz="2400" spc="-1" strike="noStrike">
              <a:solidFill>
                <a:srgbClr val="000000"/>
              </a:solidFill>
              <a:latin typeface="Tw Cen MT"/>
            </a:endParaRPr>
          </a:p>
          <a:p>
            <a:pPr marL="264600" indent="-264600">
              <a:lnSpc>
                <a:spcPct val="8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Circulaire brandwonden hals, thorax en ledematen</a:t>
            </a:r>
            <a:endParaRPr b="0" lang="en-US" sz="2400" spc="-1" strike="noStrike">
              <a:solidFill>
                <a:srgbClr val="000000"/>
              </a:solidFill>
              <a:latin typeface="Tw Cen MT"/>
            </a:endParaRPr>
          </a:p>
          <a:p>
            <a:pPr marL="264600" indent="-264600">
              <a:lnSpc>
                <a:spcPct val="8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Bij brandwonden op specifieke plaatsen</a:t>
            </a:r>
            <a:endParaRPr b="0" lang="en-US" sz="2400" spc="-1" strike="noStrike">
              <a:solidFill>
                <a:srgbClr val="000000"/>
              </a:solidFill>
              <a:latin typeface="Tw Cen MT"/>
            </a:endParaRPr>
          </a:p>
          <a:p>
            <a:pPr marL="264600" indent="-264600">
              <a:lnSpc>
                <a:spcPct val="8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Elektrische of chemische brandwonden</a:t>
            </a:r>
            <a:endParaRPr b="0" lang="en-US" sz="2400" spc="-1" strike="noStrike">
              <a:solidFill>
                <a:srgbClr val="000000"/>
              </a:solidFill>
              <a:latin typeface="Tw Cen MT"/>
            </a:endParaRPr>
          </a:p>
          <a:p>
            <a:pPr marL="264600" indent="-264600">
              <a:lnSpc>
                <a:spcPct val="8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Bij gepaard gaande letsels</a:t>
            </a:r>
            <a:endParaRPr b="0" lang="en-US" sz="2400" spc="-1" strike="noStrike">
              <a:solidFill>
                <a:srgbClr val="000000"/>
              </a:solidFill>
              <a:latin typeface="Tw Cen MT"/>
            </a:endParaRPr>
          </a:p>
          <a:p>
            <a:pPr marL="264600" indent="-264600">
              <a:lnSpc>
                <a:spcPct val="8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Bij een derdegraads brandwond</a:t>
            </a:r>
            <a:endParaRPr b="0" lang="en-US" sz="2400" spc="-1" strike="noStrike">
              <a:solidFill>
                <a:srgbClr val="000000"/>
              </a:solidFill>
              <a:latin typeface="Tw Cen MT"/>
            </a:endParaRPr>
          </a:p>
          <a:p>
            <a:pPr marL="264600" indent="-264600">
              <a:lnSpc>
                <a:spcPct val="8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Brandwonden gepaard gaande met een inhalatietrauma</a:t>
            </a:r>
            <a:endParaRPr b="0" lang="en-US" sz="2400" spc="-1" strike="noStrike">
              <a:solidFill>
                <a:srgbClr val="000000"/>
              </a:solidFill>
              <a:latin typeface="Tw Cen MT"/>
            </a:endParaRPr>
          </a:p>
          <a:p>
            <a:pPr marL="264600" indent="-264600">
              <a:lnSpc>
                <a:spcPct val="8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Bij mensen met een bepaalde ziekte zoals astma of epilepsie</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914400" y="188640"/>
            <a:ext cx="8229600" cy="13842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BEVRIEZING </a:t>
            </a:r>
            <a:endParaRPr b="0" lang="en-US" sz="3800" spc="-1" strike="noStrike">
              <a:solidFill>
                <a:srgbClr val="0d0d0d"/>
              </a:solidFill>
              <a:latin typeface="Tw Cen MT Condensed"/>
            </a:endParaRPr>
          </a:p>
        </p:txBody>
      </p:sp>
      <p:sp>
        <p:nvSpPr>
          <p:cNvPr id="303" name="PlaceHolder 2"/>
          <p:cNvSpPr>
            <a:spLocks noGrp="1"/>
          </p:cNvSpPr>
          <p:nvPr>
            <p:ph/>
          </p:nvPr>
        </p:nvSpPr>
        <p:spPr>
          <a:xfrm>
            <a:off x="914400" y="1599840"/>
            <a:ext cx="4038480" cy="525780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Eerste graad</a:t>
            </a:r>
            <a:endParaRPr b="0" lang="en-US" sz="24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Kenmerken</a:t>
            </a:r>
            <a:endParaRPr b="0" lang="en-US" sz="2000" spc="-1" strike="noStrike">
              <a:solidFill>
                <a:srgbClr val="000000"/>
              </a:solidFill>
              <a:latin typeface="Tw Cen MT"/>
            </a:endParaRPr>
          </a:p>
          <a:p>
            <a:pPr lvl="2" marL="447840" indent="-13680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Bleek grijze huid; </a:t>
            </a:r>
            <a:endParaRPr b="0" lang="en-US" sz="2000" spc="-1" strike="noStrike">
              <a:solidFill>
                <a:srgbClr val="000000"/>
              </a:solidFill>
              <a:latin typeface="Tw Cen MT"/>
            </a:endParaRPr>
          </a:p>
          <a:p>
            <a:pPr lvl="2" marL="447840" indent="-13680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Pijnlijk</a:t>
            </a:r>
            <a:endParaRPr b="0" lang="en-US" sz="2000" spc="-1" strike="noStrike">
              <a:solidFill>
                <a:srgbClr val="000000"/>
              </a:solidFill>
              <a:latin typeface="Tw Cen MT"/>
            </a:endParaRPr>
          </a:p>
          <a:p>
            <a:pPr marL="90360"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Tweede graad</a:t>
            </a:r>
            <a:endParaRPr b="0" lang="en-US" sz="24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Kenmerken</a:t>
            </a:r>
            <a:endParaRPr b="0" lang="en-US" sz="2000" spc="-1" strike="noStrike">
              <a:solidFill>
                <a:srgbClr val="000000"/>
              </a:solidFill>
              <a:latin typeface="Tw Cen MT"/>
            </a:endParaRPr>
          </a:p>
          <a:p>
            <a:pPr lvl="2" marL="447840" indent="-13680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Blaarvorming </a:t>
            </a:r>
            <a:endParaRPr b="0" lang="en-US" sz="2000" spc="-1" strike="noStrike">
              <a:solidFill>
                <a:srgbClr val="000000"/>
              </a:solidFill>
              <a:latin typeface="Tw Cen MT"/>
            </a:endParaRPr>
          </a:p>
          <a:p>
            <a:pPr lvl="2" marL="447840" indent="-13680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soms met bloederig vocht/ rood/paarse kleur)</a:t>
            </a:r>
            <a:endParaRPr b="0" lang="en-US" sz="2000" spc="-1" strike="noStrike">
              <a:solidFill>
                <a:srgbClr val="000000"/>
              </a:solidFill>
              <a:latin typeface="Tw Cen MT"/>
            </a:endParaRPr>
          </a:p>
          <a:p>
            <a:pPr lvl="2" marL="447840" indent="-13680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Stekende pijn</a:t>
            </a:r>
            <a:endParaRPr b="0" lang="en-US" sz="2000" spc="-1" strike="noStrike">
              <a:solidFill>
                <a:srgbClr val="000000"/>
              </a:solidFill>
              <a:latin typeface="Tw Cen MT"/>
            </a:endParaRPr>
          </a:p>
          <a:p>
            <a:pPr lvl="2" marL="447840" indent="-13680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Verminderde sensibiliteit</a:t>
            </a:r>
            <a:endParaRPr b="0" lang="en-US" sz="2000" spc="-1" strike="noStrike">
              <a:solidFill>
                <a:srgbClr val="000000"/>
              </a:solidFill>
              <a:latin typeface="Tw Cen MT"/>
            </a:endParaRPr>
          </a:p>
        </p:txBody>
      </p:sp>
      <p:sp>
        <p:nvSpPr>
          <p:cNvPr id="304" name="PlaceHolder 3"/>
          <p:cNvSpPr>
            <a:spLocks noGrp="1"/>
          </p:cNvSpPr>
          <p:nvPr>
            <p:ph/>
          </p:nvPr>
        </p:nvSpPr>
        <p:spPr>
          <a:xfrm>
            <a:off x="5860800" y="1905120"/>
            <a:ext cx="3282840" cy="411480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Derde graad</a:t>
            </a:r>
            <a:endParaRPr b="0" lang="en-US" sz="24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Kenmerken</a:t>
            </a:r>
            <a:endParaRPr b="0" lang="en-US" sz="2000" spc="-1" strike="noStrike">
              <a:solidFill>
                <a:srgbClr val="000000"/>
              </a:solidFill>
              <a:latin typeface="Tw Cen MT"/>
            </a:endParaRPr>
          </a:p>
          <a:p>
            <a:pPr lvl="2" marL="447840" indent="-13680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Spierwit; </a:t>
            </a:r>
            <a:endParaRPr b="0" lang="en-US" sz="2000" spc="-1" strike="noStrike">
              <a:solidFill>
                <a:srgbClr val="000000"/>
              </a:solidFill>
              <a:latin typeface="Tw Cen MT"/>
            </a:endParaRPr>
          </a:p>
          <a:p>
            <a:pPr lvl="2" marL="447840" indent="-13680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Gevoelloos </a:t>
            </a:r>
            <a:endParaRPr b="0" lang="en-US" sz="2000" spc="-1" strike="noStrike">
              <a:solidFill>
                <a:srgbClr val="000000"/>
              </a:solidFill>
              <a:latin typeface="Tw Cen MT"/>
            </a:endParaRPr>
          </a:p>
        </p:txBody>
      </p:sp>
      <p:pic>
        <p:nvPicPr>
          <p:cNvPr id="305" name="Afbeelding 1" descr=""/>
          <p:cNvPicPr/>
          <p:nvPr/>
        </p:nvPicPr>
        <p:blipFill>
          <a:blip r:embed="rId1"/>
          <a:stretch/>
        </p:blipFill>
        <p:spPr>
          <a:xfrm>
            <a:off x="5508720" y="3860640"/>
            <a:ext cx="2390760" cy="2286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768240" y="585360"/>
            <a:ext cx="729000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d0d0d"/>
                </a:solidFill>
                <a:latin typeface="Tw Cen MT Condensed"/>
              </a:rPr>
              <a:t>EHBO BIJ BEVRIEZING </a:t>
            </a:r>
            <a:endParaRPr b="0" lang="en-US" sz="4400" spc="-1" strike="noStrike">
              <a:solidFill>
                <a:srgbClr val="0d0d0d"/>
              </a:solidFill>
              <a:latin typeface="Tw Cen MT Condensed"/>
            </a:endParaRPr>
          </a:p>
        </p:txBody>
      </p:sp>
      <p:sp>
        <p:nvSpPr>
          <p:cNvPr id="307" name=""/>
          <p:cNvSpPr txBox="1"/>
          <p:nvPr/>
        </p:nvSpPr>
        <p:spPr>
          <a:xfrm>
            <a:off x="826920" y="1988640"/>
            <a:ext cx="7290000" cy="4023000"/>
          </a:xfrm>
          <a:prstGeom prst="rect">
            <a:avLst/>
          </a:prstGeom>
          <a:noFill/>
          <a:ln w="0">
            <a:noFill/>
          </a:ln>
        </p:spPr>
        <p:txBody>
          <a:bodyPr lIns="45720" rIns="45720" anchor="t">
            <a:normAutofit fontScale="97000"/>
          </a:bodyPr>
          <a:p>
            <a:pPr marL="87480" indent="-87480">
              <a:lnSpc>
                <a:spcPct val="8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87480" indent="-87480">
              <a:lnSpc>
                <a:spcPct val="8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Het slachtoffer inpakken in dekens of aluminiumfolie (gescheiden)</a:t>
            </a:r>
            <a:endParaRPr b="0" lang="en-US" sz="2400" spc="-1" strike="noStrike">
              <a:solidFill>
                <a:srgbClr val="000000"/>
              </a:solidFill>
              <a:latin typeface="Tw Cen MT"/>
            </a:endParaRPr>
          </a:p>
          <a:p>
            <a:pPr marL="87480" indent="-87480">
              <a:lnSpc>
                <a:spcPct val="8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Voorkom dat het slachtoffer onnodig bewogen wordt</a:t>
            </a:r>
            <a:endParaRPr b="0" lang="en-US" sz="2400" spc="-1" strike="noStrike">
              <a:solidFill>
                <a:srgbClr val="000000"/>
              </a:solidFill>
              <a:latin typeface="Tw Cen MT"/>
            </a:endParaRPr>
          </a:p>
          <a:p>
            <a:pPr marL="87480" indent="-87480">
              <a:lnSpc>
                <a:spcPct val="8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Voorkom warmteverlies door wind </a:t>
            </a:r>
            <a:endParaRPr b="0" lang="en-US" sz="2400" spc="-1" strike="noStrike">
              <a:solidFill>
                <a:srgbClr val="000000"/>
              </a:solidFill>
              <a:latin typeface="Tw Cen MT"/>
            </a:endParaRPr>
          </a:p>
          <a:p>
            <a:pPr marL="87480" indent="-87480">
              <a:lnSpc>
                <a:spcPct val="8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Warm een slachtoffer met een matige of ernstige onderkoeling nooit actief op!</a:t>
            </a:r>
            <a:endParaRPr b="0" lang="en-US" sz="2400" spc="-1" strike="noStrike">
              <a:solidFill>
                <a:srgbClr val="000000"/>
              </a:solidFill>
              <a:latin typeface="Tw Cen MT"/>
            </a:endParaRPr>
          </a:p>
          <a:p>
            <a:pPr marL="87480" indent="-87480">
              <a:lnSpc>
                <a:spcPct val="8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Geef geen alcohol </a:t>
            </a:r>
            <a:endParaRPr b="0" lang="en-US" sz="2400" spc="-1" strike="noStrike">
              <a:solidFill>
                <a:srgbClr val="000000"/>
              </a:solidFill>
              <a:latin typeface="Tw Cen MT"/>
            </a:endParaRPr>
          </a:p>
          <a:p>
            <a:pPr marL="87480" indent="-87480">
              <a:lnSpc>
                <a:spcPct val="8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Controleer vitale functies </a:t>
            </a:r>
            <a:endParaRPr b="0" lang="en-US" sz="2400" spc="-1" strike="noStrike">
              <a:solidFill>
                <a:srgbClr val="000000"/>
              </a:solidFill>
              <a:latin typeface="Tw Cen MT"/>
            </a:endParaRPr>
          </a:p>
          <a:p>
            <a:pPr marL="87480" indent="-87480">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549000"/>
            <a:ext cx="8229600" cy="13842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u="sng">
                <a:solidFill>
                  <a:srgbClr val="0d0d0d"/>
                </a:solidFill>
                <a:uFillTx/>
                <a:latin typeface="Tw Cen MT Condensed"/>
              </a:rPr>
              <a:t>WAT IS EEN BRANDWOND?</a:t>
            </a:r>
            <a:endParaRPr b="0" lang="en-US" sz="4400" spc="-1" strike="noStrike">
              <a:solidFill>
                <a:srgbClr val="0d0d0d"/>
              </a:solidFill>
              <a:latin typeface="Tw Cen MT Condensed"/>
            </a:endParaRPr>
          </a:p>
        </p:txBody>
      </p:sp>
      <p:sp>
        <p:nvSpPr>
          <p:cNvPr id="265" name="PlaceHolder 2"/>
          <p:cNvSpPr>
            <a:spLocks noGrp="1"/>
          </p:cNvSpPr>
          <p:nvPr>
            <p:ph/>
          </p:nvPr>
        </p:nvSpPr>
        <p:spPr>
          <a:xfrm>
            <a:off x="539640" y="2060640"/>
            <a:ext cx="8229600" cy="4114800"/>
          </a:xfrm>
          <a:prstGeom prst="rect">
            <a:avLst/>
          </a:prstGeom>
          <a:noFill/>
          <a:ln w="0">
            <a:noFill/>
          </a:ln>
        </p:spPr>
        <p:txBody>
          <a:bodyPr lIns="45720" rIns="45720" anchor="t">
            <a:norm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w Cen MT"/>
              </a:rPr>
              <a:t>Een brandwond is een necrose van de huid, gedeeltelijk of volledig, veroorzaakt door inwerking van warmte, elektriciteit, bevriezing of door chemische stoffen.</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914400" y="333000"/>
            <a:ext cx="8229600" cy="13842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u="sng">
                <a:solidFill>
                  <a:srgbClr val="0d0d0d"/>
                </a:solidFill>
                <a:uFillTx/>
                <a:latin typeface="Tw Cen MT Condensed"/>
              </a:rPr>
              <a:t>HOE ONTSTAAN BRANDWONDEN?</a:t>
            </a:r>
            <a:endParaRPr b="0" lang="en-US" sz="4200" spc="-1" strike="noStrike">
              <a:solidFill>
                <a:srgbClr val="0d0d0d"/>
              </a:solidFill>
              <a:latin typeface="Tw Cen MT Condensed"/>
            </a:endParaRPr>
          </a:p>
        </p:txBody>
      </p:sp>
      <p:sp>
        <p:nvSpPr>
          <p:cNvPr id="267" name="PlaceHolder 2"/>
          <p:cNvSpPr>
            <a:spLocks noGrp="1"/>
          </p:cNvSpPr>
          <p:nvPr>
            <p:ph/>
          </p:nvPr>
        </p:nvSpPr>
        <p:spPr>
          <a:xfrm>
            <a:off x="890640" y="1916280"/>
            <a:ext cx="5581440" cy="4114800"/>
          </a:xfrm>
          <a:prstGeom prst="rect">
            <a:avLst/>
          </a:prstGeom>
          <a:noFill/>
          <a:ln w="0">
            <a:noFill/>
          </a:ln>
        </p:spPr>
        <p:txBody>
          <a:bodyPr lIns="45720" rIns="45720" anchor="t">
            <a:normAutofit fontScale="96000"/>
          </a:bodyPr>
          <a:p>
            <a:pPr marL="261720" indent="-261720">
              <a:lnSpc>
                <a:spcPct val="6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Thermische oorzaken (kou &amp; warmte!)</a:t>
            </a:r>
            <a:endParaRPr b="0" lang="en-US" sz="2600" spc="-1" strike="noStrike">
              <a:solidFill>
                <a:srgbClr val="000000"/>
              </a:solidFill>
              <a:latin typeface="Tw Cen MT"/>
            </a:endParaRPr>
          </a:p>
          <a:p>
            <a:pPr marL="261720" indent="-261720">
              <a:lnSpc>
                <a:spcPct val="6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Vlamverbranding</a:t>
            </a:r>
            <a:endParaRPr b="0" lang="en-US" sz="2600" spc="-1" strike="noStrike">
              <a:solidFill>
                <a:srgbClr val="000000"/>
              </a:solidFill>
              <a:latin typeface="Tw Cen MT"/>
            </a:endParaRPr>
          </a:p>
          <a:p>
            <a:pPr marL="261720" indent="-261720">
              <a:lnSpc>
                <a:spcPct val="6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Onder invloed van licht</a:t>
            </a:r>
            <a:endParaRPr b="0" lang="en-US" sz="2600" spc="-1" strike="noStrike">
              <a:solidFill>
                <a:srgbClr val="000000"/>
              </a:solidFill>
              <a:latin typeface="Tw Cen MT"/>
            </a:endParaRPr>
          </a:p>
          <a:p>
            <a:pPr marL="261720" indent="-261720">
              <a:lnSpc>
                <a:spcPct val="6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Contactverbranding</a:t>
            </a:r>
            <a:endParaRPr b="0" lang="en-US" sz="2600" spc="-1" strike="noStrike">
              <a:solidFill>
                <a:srgbClr val="000000"/>
              </a:solidFill>
              <a:latin typeface="Tw Cen MT"/>
            </a:endParaRPr>
          </a:p>
          <a:p>
            <a:pPr marL="261720" indent="-261720">
              <a:lnSpc>
                <a:spcPct val="6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Chemische verbranding</a:t>
            </a:r>
            <a:endParaRPr b="0" lang="en-US" sz="2600" spc="-1" strike="noStrike">
              <a:solidFill>
                <a:srgbClr val="000000"/>
              </a:solidFill>
              <a:latin typeface="Tw Cen MT"/>
            </a:endParaRPr>
          </a:p>
          <a:p>
            <a:pPr marL="261720" indent="-261720">
              <a:lnSpc>
                <a:spcPct val="6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Elektrische verbranding</a:t>
            </a:r>
            <a:endParaRPr b="0" lang="en-US" sz="2600" spc="-1" strike="noStrike">
              <a:solidFill>
                <a:srgbClr val="000000"/>
              </a:solidFill>
              <a:latin typeface="Tw Cen MT"/>
            </a:endParaRPr>
          </a:p>
          <a:p>
            <a:pPr marL="261720" indent="-261720">
              <a:lnSpc>
                <a:spcPct val="6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Flitsverbranding </a:t>
            </a:r>
            <a:endParaRPr b="0" lang="en-US" sz="2600" spc="-1" strike="noStrike">
              <a:solidFill>
                <a:srgbClr val="000000"/>
              </a:solidFill>
              <a:latin typeface="Tw Cen MT"/>
            </a:endParaRPr>
          </a:p>
          <a:p>
            <a:pPr marL="261720" indent="0">
              <a:lnSpc>
                <a:spcPct val="6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w Cen MT"/>
              </a:rPr>
              <a:t>	</a:t>
            </a:r>
            <a:r>
              <a:rPr b="0" lang="nl-NL" sz="2200" spc="-1" strike="noStrike">
                <a:solidFill>
                  <a:srgbClr val="000000"/>
                </a:solidFill>
                <a:latin typeface="Tw Cen MT"/>
              </a:rPr>
              <a:t>(= door stralingswarmte bij explosie of steekvlam)</a:t>
            </a:r>
            <a:endParaRPr b="0" lang="en-US" sz="2200" spc="-1" strike="noStrike">
              <a:solidFill>
                <a:srgbClr val="000000"/>
              </a:solidFill>
              <a:latin typeface="Tw Cen MT"/>
            </a:endParaRPr>
          </a:p>
          <a:p>
            <a:pPr marL="261720" indent="-261720">
              <a:lnSpc>
                <a:spcPct val="6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Door bestraling</a:t>
            </a:r>
            <a:endParaRPr b="0" lang="en-US" sz="2600" spc="-1" strike="noStrike">
              <a:solidFill>
                <a:srgbClr val="000000"/>
              </a:solidFill>
              <a:latin typeface="Tw Cen MT"/>
            </a:endParaRPr>
          </a:p>
          <a:p>
            <a:pPr marL="261720" indent="-261720">
              <a:lnSpc>
                <a:spcPct val="6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Verbranding met teer</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84000" y="380880"/>
            <a:ext cx="6553080" cy="138456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DE ENE BRANDWOND, IS DE ANDER NIET</a:t>
            </a:r>
            <a:endParaRPr b="0" lang="en-US" sz="3800" spc="-1" strike="noStrike">
              <a:solidFill>
                <a:srgbClr val="0d0d0d"/>
              </a:solidFill>
              <a:latin typeface="Tw Cen MT Condensed"/>
            </a:endParaRPr>
          </a:p>
        </p:txBody>
      </p:sp>
      <p:sp>
        <p:nvSpPr>
          <p:cNvPr id="269" name="PlaceHolder 2"/>
          <p:cNvSpPr>
            <a:spLocks noGrp="1"/>
          </p:cNvSpPr>
          <p:nvPr>
            <p:ph/>
          </p:nvPr>
        </p:nvSpPr>
        <p:spPr>
          <a:xfrm>
            <a:off x="684360" y="1905120"/>
            <a:ext cx="4038480" cy="4114800"/>
          </a:xfrm>
          <a:prstGeom prst="rect">
            <a:avLst/>
          </a:prstGeom>
          <a:noFill/>
          <a:ln w="0">
            <a:noFill/>
          </a:ln>
        </p:spPr>
        <p:txBody>
          <a:bodyPr lIns="45720" rIns="45720" anchor="t">
            <a:normAutofit/>
          </a:bodyPr>
          <a:p>
            <a:pPr marL="272880" indent="-272880">
              <a:lnSpc>
                <a:spcPct val="9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w Cen MT Condensed"/>
              </a:rPr>
              <a:t>Onderverdeling in gradaties</a:t>
            </a:r>
            <a:endParaRPr b="0" lang="en-US" sz="2800" spc="-1" strike="noStrike">
              <a:solidFill>
                <a:srgbClr val="000000"/>
              </a:solidFill>
              <a:latin typeface="Tw Cen MT"/>
            </a:endParaRPr>
          </a:p>
          <a:p>
            <a:pPr marL="2728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lvl="1" marL="639720" indent="-245880">
              <a:lnSpc>
                <a:spcPct val="90000"/>
              </a:lnSpc>
              <a:spcBef>
                <a:spcPts val="201"/>
              </a:spcBef>
              <a:buClr>
                <a:srgbClr val="c6695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Eerste graad</a:t>
            </a:r>
            <a:endParaRPr b="0" lang="en-US" sz="1600" spc="-1" strike="noStrike">
              <a:solidFill>
                <a:srgbClr val="000000"/>
              </a:solidFill>
              <a:latin typeface="Tw Cen MT"/>
            </a:endParaRPr>
          </a:p>
          <a:p>
            <a:pPr lvl="1" marL="6397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lvl="1" marL="639720" indent="-245880">
              <a:lnSpc>
                <a:spcPct val="90000"/>
              </a:lnSpc>
              <a:spcBef>
                <a:spcPts val="201"/>
              </a:spcBef>
              <a:buClr>
                <a:srgbClr val="c6695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Tweede graad oppervlakkig</a:t>
            </a:r>
            <a:endParaRPr b="0" lang="en-US" sz="1600" spc="-1" strike="noStrike">
              <a:solidFill>
                <a:srgbClr val="000000"/>
              </a:solidFill>
              <a:latin typeface="Tw Cen MT"/>
            </a:endParaRPr>
          </a:p>
          <a:p>
            <a:pPr lvl="1" marL="6397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lvl="1" marL="639720" indent="-245880">
              <a:lnSpc>
                <a:spcPct val="90000"/>
              </a:lnSpc>
              <a:spcBef>
                <a:spcPts val="201"/>
              </a:spcBef>
              <a:buClr>
                <a:srgbClr val="c6695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Tweede graad diep</a:t>
            </a:r>
            <a:endParaRPr b="0" lang="en-US" sz="1600" spc="-1" strike="noStrike">
              <a:solidFill>
                <a:srgbClr val="000000"/>
              </a:solidFill>
              <a:latin typeface="Tw Cen MT"/>
            </a:endParaRPr>
          </a:p>
          <a:p>
            <a:pPr lvl="1" marL="6397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lvl="1" marL="639720" indent="-245880">
              <a:lnSpc>
                <a:spcPct val="90000"/>
              </a:lnSpc>
              <a:spcBef>
                <a:spcPts val="201"/>
              </a:spcBef>
              <a:buClr>
                <a:srgbClr val="c6695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Derde graad</a:t>
            </a:r>
            <a:endParaRPr b="0" lang="en-US" sz="1600" spc="-1" strike="noStrike">
              <a:solidFill>
                <a:srgbClr val="000000"/>
              </a:solidFill>
              <a:latin typeface="Tw Cen MT"/>
            </a:endParaRPr>
          </a:p>
        </p:txBody>
      </p:sp>
      <p:sp>
        <p:nvSpPr>
          <p:cNvPr id="270" name="Text Box 9"/>
          <p:cNvSpPr/>
          <p:nvPr/>
        </p:nvSpPr>
        <p:spPr>
          <a:xfrm>
            <a:off x="7000920" y="3071880"/>
            <a:ext cx="10792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100" spc="-1" strike="noStrike">
                <a:solidFill>
                  <a:srgbClr val="ffffff"/>
                </a:solidFill>
                <a:latin typeface="Arial"/>
                <a:ea typeface="Arial"/>
              </a:rPr>
              <a:t>eerstegraads</a:t>
            </a:r>
            <a:endParaRPr b="0" lang="en-US" sz="1100" spc="-1" strike="noStrike">
              <a:solidFill>
                <a:srgbClr val="000000"/>
              </a:solidFill>
              <a:latin typeface="Tw Cen MT"/>
            </a:endParaRPr>
          </a:p>
        </p:txBody>
      </p:sp>
      <p:grpSp>
        <p:nvGrpSpPr>
          <p:cNvPr id="271" name="Group 15"/>
          <p:cNvGrpSpPr/>
          <p:nvPr/>
        </p:nvGrpSpPr>
        <p:grpSpPr>
          <a:xfrm>
            <a:off x="4788000" y="2637000"/>
            <a:ext cx="4038480" cy="3284280"/>
            <a:chOff x="4788000" y="2637000"/>
            <a:chExt cx="4038480" cy="3284280"/>
          </a:xfrm>
        </p:grpSpPr>
        <p:pic>
          <p:nvPicPr>
            <p:cNvPr id="272" name="Picture 12" descr="brandwonden_2&amp;3"/>
            <p:cNvPicPr/>
            <p:nvPr/>
          </p:nvPicPr>
          <p:blipFill>
            <a:blip r:embed="rId1"/>
            <a:stretch/>
          </p:blipFill>
          <p:spPr>
            <a:xfrm>
              <a:off x="4788000" y="2637000"/>
              <a:ext cx="4038480" cy="3284280"/>
            </a:xfrm>
            <a:prstGeom prst="rect">
              <a:avLst/>
            </a:prstGeom>
            <a:ln w="0">
              <a:noFill/>
            </a:ln>
          </p:spPr>
        </p:pic>
        <p:sp>
          <p:nvSpPr>
            <p:cNvPr id="273" name="Line 13"/>
            <p:cNvSpPr/>
            <p:nvPr/>
          </p:nvSpPr>
          <p:spPr>
            <a:xfrm>
              <a:off x="4788000" y="2997000"/>
              <a:ext cx="2881080" cy="0"/>
            </a:xfrm>
            <a:prstGeom prst="line">
              <a:avLst/>
            </a:prstGeom>
            <a:ln w="3492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74" name="Text Box 14"/>
            <p:cNvSpPr/>
            <p:nvPr/>
          </p:nvSpPr>
          <p:spPr>
            <a:xfrm>
              <a:off x="7740720" y="2852640"/>
              <a:ext cx="1078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100" spc="-1" strike="noStrike">
                  <a:solidFill>
                    <a:srgbClr val="002060"/>
                  </a:solidFill>
                  <a:latin typeface="Arial"/>
                  <a:ea typeface="Arial"/>
                </a:rPr>
                <a:t>eerstegraads</a:t>
              </a:r>
              <a:endParaRPr b="0" lang="en-US" sz="1100" spc="-1" strike="noStrike">
                <a:solidFill>
                  <a:srgbClr val="000000"/>
                </a:solidFill>
                <a:latin typeface="Tw Cen MT"/>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99640" y="172800"/>
            <a:ext cx="3009960" cy="13842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EERSTE GRAAD</a:t>
            </a:r>
            <a:endParaRPr b="0" lang="en-US" sz="3800" spc="-1" strike="noStrike">
              <a:solidFill>
                <a:srgbClr val="0d0d0d"/>
              </a:solidFill>
              <a:latin typeface="Tw Cen MT Condensed"/>
            </a:endParaRPr>
          </a:p>
        </p:txBody>
      </p:sp>
      <p:sp>
        <p:nvSpPr>
          <p:cNvPr id="276" name="PlaceHolder 2"/>
          <p:cNvSpPr>
            <a:spLocks noGrp="1"/>
          </p:cNvSpPr>
          <p:nvPr>
            <p:ph/>
          </p:nvPr>
        </p:nvSpPr>
        <p:spPr>
          <a:xfrm>
            <a:off x="755640" y="1531440"/>
            <a:ext cx="5749920" cy="472932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Beschadiging</a:t>
            </a:r>
            <a:endParaRPr b="0" lang="en-US" sz="24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Epidermis</a:t>
            </a:r>
            <a:endParaRPr b="0" lang="en-US" sz="2000" spc="-1" strike="noStrike">
              <a:solidFill>
                <a:srgbClr val="000000"/>
              </a:solidFill>
              <a:latin typeface="Tw Cen MT"/>
            </a:endParaRPr>
          </a:p>
          <a:p>
            <a:pPr marL="90360"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Kenmerken:</a:t>
            </a:r>
            <a:endParaRPr b="0" lang="en-US" sz="24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Roodheid, </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Droog, </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Pijnlijk, </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Soms wat opgezwollen</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Positieve capillaire refill</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Sensibiliteit bij priktest</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Eigenlijk geen wond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Voorbeeld:</a:t>
            </a:r>
            <a:endParaRPr b="0" lang="en-US" sz="2400" spc="-1" strike="noStrike">
              <a:solidFill>
                <a:srgbClr val="000000"/>
              </a:solidFill>
              <a:latin typeface="Tw Cen MT"/>
            </a:endParaRPr>
          </a:p>
          <a:p>
            <a:pPr lvl="1" marL="264960" indent="0">
              <a:lnSpc>
                <a:spcPct val="90000"/>
              </a:lnSpc>
              <a:spcBef>
                <a:spcPts val="2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w Cen MT"/>
              </a:rPr>
              <a:t>langdurige blootstelling aan zonlicht</a:t>
            </a:r>
            <a:endParaRPr b="0" lang="en-US" sz="1800" spc="-1" strike="noStrike">
              <a:solidFill>
                <a:srgbClr val="000000"/>
              </a:solidFill>
              <a:latin typeface="Tw Cen MT"/>
            </a:endParaRPr>
          </a:p>
        </p:txBody>
      </p:sp>
      <p:pic>
        <p:nvPicPr>
          <p:cNvPr id="277" name="Picture 9" descr=""/>
          <p:cNvPicPr/>
          <p:nvPr/>
        </p:nvPicPr>
        <p:blipFill>
          <a:blip r:embed="rId1"/>
          <a:stretch/>
        </p:blipFill>
        <p:spPr>
          <a:xfrm>
            <a:off x="5048280" y="1436760"/>
            <a:ext cx="3203640" cy="4824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99640" y="693720"/>
            <a:ext cx="5219640" cy="9079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TWEEDE GRAAD (OPPERVLAKKIG)</a:t>
            </a:r>
            <a:endParaRPr b="0" lang="en-US" sz="3800" spc="-1" strike="noStrike">
              <a:solidFill>
                <a:srgbClr val="0d0d0d"/>
              </a:solidFill>
              <a:latin typeface="Tw Cen MT Condensed"/>
            </a:endParaRPr>
          </a:p>
        </p:txBody>
      </p:sp>
      <p:pic>
        <p:nvPicPr>
          <p:cNvPr id="279" name="Picture 7" descr=""/>
          <p:cNvPicPr/>
          <p:nvPr/>
        </p:nvPicPr>
        <p:blipFill>
          <a:blip r:embed="rId1"/>
          <a:stretch/>
        </p:blipFill>
        <p:spPr>
          <a:xfrm>
            <a:off x="4572000" y="2637000"/>
            <a:ext cx="4038480" cy="2431800"/>
          </a:xfrm>
          <a:prstGeom prst="rect">
            <a:avLst/>
          </a:prstGeom>
          <a:ln w="0">
            <a:noFill/>
          </a:ln>
        </p:spPr>
      </p:pic>
      <p:sp>
        <p:nvSpPr>
          <p:cNvPr id="280" name="PlaceHolder 2"/>
          <p:cNvSpPr>
            <a:spLocks noGrp="1"/>
          </p:cNvSpPr>
          <p:nvPr>
            <p:ph/>
          </p:nvPr>
        </p:nvSpPr>
        <p:spPr>
          <a:xfrm>
            <a:off x="895320" y="2138400"/>
            <a:ext cx="4835520" cy="357192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w Cen MT"/>
              </a:rPr>
              <a:t>Beschadiging</a:t>
            </a:r>
            <a:endParaRPr b="0" lang="en-US" sz="28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Epidermis</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Dermis gedeeltelijk</a:t>
            </a:r>
            <a:endParaRPr b="0" lang="en-US" sz="16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w Cen MT"/>
              </a:rPr>
              <a:t>Kenmerken:</a:t>
            </a:r>
            <a:endParaRPr b="0" lang="en-US" sz="28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Rood </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Pijn</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Blaarvorming </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Veel exsudaat</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Positieve capillaire refill</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Sensibiliteit bij priktest</a:t>
            </a:r>
            <a:endParaRPr b="0" lang="en-US" sz="1600" spc="-1" strike="noStrike">
              <a:solidFill>
                <a:srgbClr val="000000"/>
              </a:solidFill>
              <a:latin typeface="Tw Cen MT"/>
            </a:endParaRPr>
          </a:p>
          <a:p>
            <a:pPr marL="90360"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576360"/>
            <a:ext cx="4810320" cy="6919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TWEEDE GRAAD (DIEP)</a:t>
            </a:r>
            <a:endParaRPr b="0" lang="en-US" sz="3800" spc="-1" strike="noStrike">
              <a:solidFill>
                <a:srgbClr val="0d0d0d"/>
              </a:solidFill>
              <a:latin typeface="Tw Cen MT Condensed"/>
            </a:endParaRPr>
          </a:p>
        </p:txBody>
      </p:sp>
      <p:sp>
        <p:nvSpPr>
          <p:cNvPr id="282" name="PlaceHolder 2"/>
          <p:cNvSpPr>
            <a:spLocks noGrp="1"/>
          </p:cNvSpPr>
          <p:nvPr>
            <p:ph/>
          </p:nvPr>
        </p:nvSpPr>
        <p:spPr>
          <a:xfrm>
            <a:off x="757080" y="1773360"/>
            <a:ext cx="5075280" cy="384480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Beschadiging</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Epidermis</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Dermis grotendeels</a:t>
            </a:r>
            <a:endParaRPr b="0" lang="en-US" sz="2000" spc="-1" strike="noStrike">
              <a:solidFill>
                <a:srgbClr val="000000"/>
              </a:solidFill>
              <a:latin typeface="Tw Cen MT"/>
            </a:endParaRPr>
          </a:p>
          <a:p>
            <a:pPr lvl="1" marL="264960" indent="0">
              <a:lnSpc>
                <a:spcPct val="90000"/>
              </a:lnSpc>
              <a:spcBef>
                <a:spcPts val="2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Kenmerken 2</a:t>
            </a:r>
            <a:r>
              <a:rPr b="0" lang="nl-NL" sz="2000" spc="-1" strike="noStrike" baseline="30000">
                <a:solidFill>
                  <a:srgbClr val="000000"/>
                </a:solidFill>
                <a:latin typeface="Tw Cen MT"/>
              </a:rPr>
              <a:t>e</a:t>
            </a:r>
            <a:r>
              <a:rPr b="0" lang="nl-NL" sz="2000" spc="-1" strike="noStrike">
                <a:solidFill>
                  <a:srgbClr val="000000"/>
                </a:solidFill>
                <a:latin typeface="Tw Cen MT"/>
              </a:rPr>
              <a:t> graads wond</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Roodachtig/ wit gekleurd</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Nat en er kunnen blaren te zien zijn</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Zeer pijnlijk</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Vertraagde capillaire refill</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Verminderde sensibiliteit bij priktest</a:t>
            </a:r>
            <a:endParaRPr b="0" lang="en-US" sz="2000" spc="-1" strike="noStrike">
              <a:solidFill>
                <a:srgbClr val="000000"/>
              </a:solidFill>
              <a:latin typeface="Tw Cen MT"/>
            </a:endParaRPr>
          </a:p>
        </p:txBody>
      </p:sp>
      <p:pic>
        <p:nvPicPr>
          <p:cNvPr id="283" name="Picture 10" descr=""/>
          <p:cNvPicPr/>
          <p:nvPr/>
        </p:nvPicPr>
        <p:blipFill>
          <a:blip r:embed="rId1"/>
          <a:srcRect l="15654" t="6226" r="6162" b="14871"/>
          <a:stretch/>
        </p:blipFill>
        <p:spPr>
          <a:xfrm>
            <a:off x="5075280" y="2421000"/>
            <a:ext cx="3311640" cy="286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684360" y="490680"/>
            <a:ext cx="4378320" cy="9792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DERDE GRAAD</a:t>
            </a:r>
            <a:endParaRPr b="0" lang="en-US" sz="3800" spc="-1" strike="noStrike">
              <a:solidFill>
                <a:srgbClr val="0d0d0d"/>
              </a:solidFill>
              <a:latin typeface="Tw Cen MT Condensed"/>
            </a:endParaRPr>
          </a:p>
        </p:txBody>
      </p:sp>
      <p:pic>
        <p:nvPicPr>
          <p:cNvPr id="285" name="Picture 10" descr=""/>
          <p:cNvPicPr/>
          <p:nvPr/>
        </p:nvPicPr>
        <p:blipFill>
          <a:blip r:embed="rId1"/>
          <a:stretch/>
        </p:blipFill>
        <p:spPr>
          <a:xfrm>
            <a:off x="4788000" y="1469880"/>
            <a:ext cx="3313080" cy="4680000"/>
          </a:xfrm>
          <a:prstGeom prst="rect">
            <a:avLst/>
          </a:prstGeom>
          <a:ln w="0">
            <a:noFill/>
          </a:ln>
        </p:spPr>
      </p:pic>
      <p:sp>
        <p:nvSpPr>
          <p:cNvPr id="286" name="PlaceHolder 2"/>
          <p:cNvSpPr>
            <a:spLocks noGrp="1"/>
          </p:cNvSpPr>
          <p:nvPr>
            <p:ph/>
          </p:nvPr>
        </p:nvSpPr>
        <p:spPr>
          <a:xfrm>
            <a:off x="630000" y="2276280"/>
            <a:ext cx="5365800" cy="360036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w Cen MT"/>
              </a:rPr>
              <a:t>Beschadiging</a:t>
            </a:r>
            <a:endParaRPr b="0" lang="en-US" sz="28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Epidermis</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Dermis</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Hypodermis gedeeltelijk</a:t>
            </a:r>
            <a:endParaRPr b="0" lang="en-US" sz="16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w Cen MT"/>
              </a:rPr>
              <a:t>Kenmerken:</a:t>
            </a:r>
            <a:endParaRPr b="0" lang="en-US" sz="28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Wit-geel; zwart-bruin</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Voelt lederachtig</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Afwezigheid van pijn</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Géén capillaire refill</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Géén sensibiliteit bij priktest</a:t>
            </a:r>
            <a:endParaRPr b="0" lang="en-US" sz="1600" spc="-1" strike="noStrike">
              <a:solidFill>
                <a:srgbClr val="000000"/>
              </a:solidFill>
              <a:latin typeface="Tw Cen MT"/>
            </a:endParaRPr>
          </a:p>
          <a:p>
            <a:pPr marL="90360"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768240" y="585360"/>
            <a:ext cx="729000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d0d0d"/>
                </a:solidFill>
                <a:latin typeface="Tw Cen MT Condensed"/>
              </a:rPr>
              <a:t>EHBO</a:t>
            </a:r>
            <a:endParaRPr b="0" lang="en-US" sz="4400" spc="-1" strike="noStrike">
              <a:solidFill>
                <a:srgbClr val="0d0d0d"/>
              </a:solidFill>
              <a:latin typeface="Tw Cen MT Condensed"/>
            </a:endParaRPr>
          </a:p>
        </p:txBody>
      </p:sp>
      <p:sp>
        <p:nvSpPr>
          <p:cNvPr id="288" name=""/>
          <p:cNvSpPr txBox="1"/>
          <p:nvPr/>
        </p:nvSpPr>
        <p:spPr>
          <a:xfrm>
            <a:off x="768240" y="2286000"/>
            <a:ext cx="7290000" cy="351936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Let op gevaar. Zorg ervoor dat je zelf, omstanders en het slachtoffer geen gevaar lopen</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Ga na wat er gebeurd is en daarna wat iemand</a:t>
            </a:r>
            <a:br>
              <a:rPr sz="2000"/>
            </a:br>
            <a:r>
              <a:rPr b="0" lang="nl-NL" sz="2000" spc="-1" strike="noStrike">
                <a:solidFill>
                  <a:srgbClr val="000000"/>
                </a:solidFill>
                <a:latin typeface="Tw Cen MT"/>
              </a:rPr>
              <a:t>mankeert.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Stel het slachtoffer gerust en zorg voor beschutting.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Zorg voor professionele hulp.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Help het slachtoffer op de plaats waar deze is aangetroffen.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3T11:25:49Z</dcterms:created>
  <dc:creator>vleugels</dc:creator>
  <dc:description/>
  <dc:language>en-US</dc:language>
  <cp:lastModifiedBy>Charlotte Verhagen</cp:lastModifiedBy>
  <cp:lastPrinted>2015-11-11T09:54:02Z</cp:lastPrinted>
  <dcterms:modified xsi:type="dcterms:W3CDTF">2022-02-06T16:27:50Z</dcterms:modified>
  <cp:revision>91</cp:revision>
  <dc:subject/>
  <dc:title>Dia 1</dc:title>
</cp:coreProperties>
</file>