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0"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160D6A-C6DE-4894-AB6C-67CFBD41C123}"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arom is het van belang om als verzorgende/ verpleegkundige kennis te hebben van EHBO</a:t>
            </a:r>
            <a:endParaRPr b="0" lang="en-US" sz="1200" spc="-1" strike="noStrike">
              <a:solidFill>
                <a:srgbClr val="000000"/>
              </a:solidFill>
              <a:latin typeface="Times New Roman"/>
            </a:endParaRPr>
          </a:p>
        </p:txBody>
      </p:sp>
      <p:sp>
        <p:nvSpPr>
          <p:cNvPr id="27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4A757-2357-4600-9321-20C4863A00B6}"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ranje Kruis heeft als missie om in Nederland kennis en kunde van EHBO te verspreiden. Het Oranje Kruis is een onafhankelijk certificerende organisatie op het gebied van Eerste Hu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Oranje Kruis stelt eindtermen vast, stelt lesmaterialen samen en examineert en certificeert eerstehulpverleners, Instructeurs Eerste Hulp evenals Lotusslachtoffers en Instructeur Lotusslachtoff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il je dus ooit een echt EHBO diploma behalen dan kan je terecht bij het oranje kruis. De opleiding duurt gemiddeld 3 maanden. Je vaardigheden moet je op peil houden. Een EHBO diploma is 2 jaar geldig. </a:t>
            </a:r>
            <a:endParaRPr b="0" lang="en-US" sz="1200" spc="-1" strike="noStrike">
              <a:solidFill>
                <a:srgbClr val="000000"/>
              </a:solidFill>
              <a:latin typeface="Times New Roman"/>
            </a:endParaRPr>
          </a:p>
        </p:txBody>
      </p:sp>
      <p:sp>
        <p:nvSpPr>
          <p:cNvPr id="28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311CC-DE32-4182-80BA-66D754F1A2E5}"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drijfshulpverlening (BHV) is de hulp die wordt verleend bij ongewenste gebeurtenissen in een organisatie, die de veiligheid en/of gezondheid van de werknemers en andere aanwezigen bedreigen (zoals brand en ongeva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taken van bedrijfshulpverleners zijn in ieder gev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verlenen van eerste hulp bij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beperken en het bestrijden van brand en het beperken van de gevolgen van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 noodsituaties alarmeren en evacueren van alle werknemers en andere personen in het bedrijf of de inric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fhankelijk van de grote van de organisatie en de soort organisatie wordt het aantal BHV-ers berekend die minimaal aanwezig moeten zijn. Je kan je voorstellen dat een zorgorganisatie waar veel mensen wonen die niet mobiel zijn er meer BHV-ers nodig zijn om deze bij b.v. brand in veiligheid te kunnen brengen. </a:t>
            </a:r>
            <a:endParaRPr b="0" lang="en-US" sz="1200" spc="-1" strike="noStrike">
              <a:solidFill>
                <a:srgbClr val="000000"/>
              </a:solidFill>
              <a:latin typeface="Times New Roman"/>
            </a:endParaRPr>
          </a:p>
        </p:txBody>
      </p:sp>
      <p:sp>
        <p:nvSpPr>
          <p:cNvPr id="285"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43E9C-BE5A-4D81-B76D-BBE9C2EFAF88}"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et op gevaar. Zorg ervoor dat je zelf, omstanders en het slachtoffer geen gevaar lopen</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a na wat er gebeurd is en daarna wat iemand mankeert. Vraag aan het slachtoffer of de omstanders wat er is gebeurd of kijk wat er is op te maken uit de situatie ter plaats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tel het slachtoffer gerust en zorg voor beschutting. Een slachtoffer is vaak geschrokken en heeft iemand nodig die hem opvangt en geruststelt; wees rustig en zorgzaam maar ook kordaat. Zorg voor beschutting tegen kou of hitt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Zorg voor professionele hulp. Laat een omstander het alarmnummer bellen en laat onderstaande punten doorgeven. Vraag de beller daarna terug te komen, zodat u zeker weet dat er is gebeld. De volgende informatie is voor de hulpdiensten van belang:</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lke hulpdienst nodig is (ambulance)</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laats waarheen de hulp moet komen</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er gebeurd i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antal slachtoffer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vermoedelijke leeftijd</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het slachtoffer mankeert. Vermeld ook expliciet of er een reanimatie plaatsvindt</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lp het slachtoffer op de plaats waar deze is aangetroffen. Door een slachtoffer onnodig te verplaatsen, kan zijn toestand verslechteren. Verplaats een slachtoffer alleen, indien er sprake is van acuut gevaar.</a:t>
            </a:r>
            <a:endParaRPr b="0" lang="en-US" sz="1200" spc="-1" strike="noStrike">
              <a:solidFill>
                <a:srgbClr val="000000"/>
              </a:solidFill>
              <a:latin typeface="Times New Roman"/>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7BF15-22FD-45D6-A19E-0A49794B985A}"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C9B95-1EA8-4637-9C86-050A8B3D8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4DD02-31BC-45DB-9A38-30DCBA5EF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DB7FA-9B60-4BA9-AE4A-20D7598EA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3013D-2501-49F0-ACA8-AE62851EB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43849-345B-40CC-B001-FA3D32C28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1EC99-F52A-4791-ABF3-B8575B727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145B8-C2CB-4557-AA3E-DA4990DF2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4B322-22A5-4AF9-986E-038231CC8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1EBC0-45D3-44A3-A725-65EB5A88F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FC84A-361D-41C4-8C58-2D626FE50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5CA6E-0E40-45AD-A528-4B524E04F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887ED-985E-47D7-B51A-01BD176A8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A2A10-F0BC-4141-96D9-D6D4C7E4F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456A2-8ED0-47C7-905C-79C315796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F1A3D-4600-48A4-9B40-F0B329B07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04A076-E727-4753-9D3A-EDE70DEA54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8DFBB5-2ADE-44E5-8F49-DC56951563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FFB695-1DFE-4047-AB93-5D41D5AE56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341CD1-CAEA-47C5-98F5-E9805F2CB4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B17C46-5B0C-473B-9E7D-E2EF2C901E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726FD8-6179-47B8-8543-360F3B1F19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9F1D3B-7A42-445F-8020-7E0D76B1C1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40A5F-6810-4C2D-9960-8F3E2F921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9F1CF3-E0AB-4BD4-8E5D-5E96786E65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F0B7E0-39E3-4E54-9241-6484A1A4F1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F29C0E-98E5-4FAE-BFB5-7718317D31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F57C8-EFBE-4467-962F-D20CB3958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24477E-4EEC-4092-985B-4D9A2713F2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C56962-BE35-463E-AA9B-6B8098AE38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2755CB-14A7-4B0F-84C6-40A6D91A29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8862C7-7E25-41D8-B0BF-E268FED11C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FDB2BC-B981-402F-A548-2FA10AA761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4FE658-45E6-47BB-A55F-96014B4304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90887-F9D5-45BC-BA73-A923806ED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AA78BF-D1F6-4EE5-8C42-CC85440CBA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C05F07-8B6F-4659-93EB-77B2E9B8BF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8711AD-ACD6-48CD-A669-10CDC4B1C5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6E465F-658B-47C9-A454-3B06629D0F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15FD9-4899-4196-BF8F-01349383AB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ED661-38C8-4F69-AD14-2A9CF1DD8A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EAB742-7683-47FA-A18F-C4D5B8B2DB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F97D28-5300-43DC-ADF9-79A97D3C79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06922C-ECAE-4B97-9908-6572E82F5C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EDFB52-CD42-4A24-9451-64BD096414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4D915-4373-4EF7-BF3A-1A631830E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3D52B2-DC09-4052-8636-2EE7F41499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B51D30-70D4-4AC0-924B-BBEDD689FD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E146FE-A21B-4322-A25F-E7BC295E26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5AE39D-CC4E-4B7D-8BEB-58FE22F80D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CA401B-DAAB-4F9F-889D-BC6427BC44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BCE83D-1F33-42D0-A5D9-64B5C722D0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D80F9C-5808-445D-9A97-3386FB720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3DDAF8-C0BB-4155-9533-2409196D6B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AD638B-8FAC-4BFC-9392-D03EEED5CB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41F88E-D269-40C4-A82B-AD1FF31A1D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F7D4D-AB24-490E-A11F-E471800AC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FD0258-4EAF-4B47-8F34-F6C3C79F1F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99FFF1-D501-41E2-96A9-824F61E29A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F9DB52-73B1-4FF7-B90F-D349EF9546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74E7CA-F0C8-4B27-9C45-26286D1DAB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EB84E2-6A2F-47F7-B82F-7072BBCBFC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84E905-27B2-4F04-A32C-1A92E4439E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815949-2923-47B1-A262-266FFD370D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4B3D3A-B401-4F3D-97B0-E7E884EEDC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7B3096-FADB-48C6-AAC2-DB3B25D37D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0822B4-ACFC-44F9-AB84-BC835BEDD7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6CF09-5DE9-4512-B017-75BB283FA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F12639-BD22-4CB0-952C-C8BE8356AE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DC77BF-CECD-447B-986C-FB515253AD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F7E3C5-4AA1-41A5-9602-DDF182377A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ADA6D-8426-4D03-AF9B-5C348EE76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D6803-F486-467E-B071-CBA893E5D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B67219-A30B-4D6E-879B-ACFC153BEF92}"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62ADA-B4B9-42AB-A663-916F3ADD15AA}" type="datetime">
              <a:rPr b="0" lang="nl-NL" sz="1000" spc="-1" strike="noStrike">
                <a:solidFill>
                  <a:srgbClr val="0d0d0d"/>
                </a:solidFill>
                <a:latin typeface="Tw Cen MT Condensed"/>
              </a:rPr>
              <a:t>31-07-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VUL HIER EEN TEKST IN</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792A25-68B4-4C3A-8403-351E29C9A38F}"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180065-635A-4BE6-B56A-4BA6DD14402E}"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D3CF9-FAAA-4B7E-828E-94E948722BA6}"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353A4D-BEF0-4F6D-8195-7CC2E3C62C73}"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834A9-96B5-44DB-92E3-E90876F88791}"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1"/>
          <p:cNvSpPr/>
          <p:nvPr/>
        </p:nvSpPr>
        <p:spPr>
          <a:xfrm>
            <a:off x="6095880" y="441972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Text Box 14"/>
          <p:cNvSpPr/>
          <p:nvPr/>
        </p:nvSpPr>
        <p:spPr>
          <a:xfrm>
            <a:off x="611280" y="5105520"/>
            <a:ext cx="662472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000" spc="-1" strike="noStrike">
                <a:solidFill>
                  <a:srgbClr val="000000"/>
                </a:solidFill>
                <a:latin typeface="Times New Roman"/>
              </a:rPr>
              <a:t>Zorgen voor veiligheid EHBO </a:t>
            </a:r>
            <a:endParaRPr b="0" lang="en-US" sz="4000" spc="-1" strike="noStrike">
              <a:solidFill>
                <a:srgbClr val="000000"/>
              </a:solidFill>
              <a:latin typeface="Tw Cen MT"/>
            </a:endParaRPr>
          </a:p>
        </p:txBody>
      </p:sp>
      <p:sp>
        <p:nvSpPr>
          <p:cNvPr id="264" name="Text Box 15"/>
          <p:cNvSpPr/>
          <p:nvPr/>
        </p:nvSpPr>
        <p:spPr>
          <a:xfrm>
            <a:off x="5105520" y="51055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WAT IS EERSTE HULP?</a:t>
            </a:r>
            <a:endParaRPr b="0" lang="en-US" sz="4400" spc="-1" strike="noStrike">
              <a:solidFill>
                <a:srgbClr val="0d0d0d"/>
              </a:solidFill>
              <a:latin typeface="Tw Cen MT Condensed"/>
            </a:endParaRPr>
          </a:p>
        </p:txBody>
      </p:sp>
      <p:sp>
        <p:nvSpPr>
          <p:cNvPr id="266"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rste hulp is de noodzakelijke hulp die naar het oordeel van de eerstehulpverlener aan het slachtoffer moet worden verleend op een wijze die aansluit bij de professionele hulpverlening</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TAAK EERSTE HULP VERLENER </a:t>
            </a:r>
            <a:endParaRPr b="0" lang="en-US" sz="4400" spc="-1" strike="noStrike">
              <a:solidFill>
                <a:srgbClr val="0d0d0d"/>
              </a:solidFill>
              <a:latin typeface="Tw Cen MT Condensed"/>
            </a:endParaRPr>
          </a:p>
        </p:txBody>
      </p:sp>
      <p:sp>
        <p:nvSpPr>
          <p:cNvPr id="268"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t slachtoffer in leven te houden als diens leven wordt bedreig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voorkomen dat stoornissen of het letsel van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vererg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De situatie zo comfortabel mogelijk te maken voor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zorgen voor alarmering van professionele hulp</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GESCHIEDENIS VAN DE EHBO</a:t>
            </a:r>
            <a:endParaRPr b="0" lang="en-US" sz="4400" spc="-1" strike="noStrike">
              <a:solidFill>
                <a:srgbClr val="0d0d0d"/>
              </a:solidFill>
              <a:latin typeface="Tw Cen MT Condensed"/>
            </a:endParaRPr>
          </a:p>
        </p:txBody>
      </p:sp>
      <p:sp>
        <p:nvSpPr>
          <p:cNvPr id="270" name=""/>
          <p:cNvSpPr txBox="1"/>
          <p:nvPr/>
        </p:nvSpPr>
        <p:spPr>
          <a:xfrm>
            <a:off x="603000" y="2276640"/>
            <a:ext cx="7289640" cy="40240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 Tilanus brengt rond 1890 de EHBO-cursus van Engeland naar Nederlan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893 werd de Nederlandse Vereniging EHBO opgerich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09 oprichting van "Het Oranje Kruis”</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12 verscheen de eerste druk van het Oranje Kruis Boekje.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51 verscheen het eenheidsdiploma EHBO.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271" name="Picture 14" descr="oranje kruis 1"/>
          <p:cNvPicPr/>
          <p:nvPr/>
        </p:nvPicPr>
        <p:blipFill>
          <a:blip r:embed="rId1"/>
          <a:stretch/>
        </p:blipFill>
        <p:spPr>
          <a:xfrm>
            <a:off x="6454800" y="4883040"/>
            <a:ext cx="129528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BHV’ER (BEDRIJFSHULPVERLENER)</a:t>
            </a:r>
            <a:endParaRPr b="0" lang="en-US" sz="4400" spc="-1" strike="noStrike">
              <a:solidFill>
                <a:srgbClr val="0d0d0d"/>
              </a:solidFill>
              <a:latin typeface="Tw Cen MT Condensed"/>
            </a:endParaRPr>
          </a:p>
        </p:txBody>
      </p:sp>
      <p:pic>
        <p:nvPicPr>
          <p:cNvPr id="273" name="Picture 21" descr="BHV"/>
          <p:cNvPicPr/>
          <p:nvPr/>
        </p:nvPicPr>
        <p:blipFill>
          <a:blip r:embed="rId1"/>
          <a:stretch/>
        </p:blipFill>
        <p:spPr>
          <a:xfrm>
            <a:off x="2700360" y="2781360"/>
            <a:ext cx="2879640" cy="241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ASISREGELS EHBO </a:t>
            </a:r>
            <a:endParaRPr b="0" lang="en-US" sz="4400" spc="-1" strike="noStrike">
              <a:solidFill>
                <a:srgbClr val="0d0d0d"/>
              </a:solidFill>
              <a:latin typeface="Tw Cen MT Condensed"/>
            </a:endParaRPr>
          </a:p>
        </p:txBody>
      </p:sp>
      <p:sp>
        <p:nvSpPr>
          <p:cNvPr id="275"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 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p:txBody>
      </p:sp>
      <p:pic>
        <p:nvPicPr>
          <p:cNvPr id="276" name="Afbeelding 3" descr=""/>
          <p:cNvPicPr/>
          <p:nvPr/>
        </p:nvPicPr>
        <p:blipFill>
          <a:blip r:embed="rId1"/>
          <a:stretch/>
        </p:blipFill>
        <p:spPr>
          <a:xfrm>
            <a:off x="6516720" y="5013360"/>
            <a:ext cx="1728720" cy="160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9:15:34Z</dcterms:created>
  <dc:creator>Jesse Skolnik</dc:creator>
  <dc:description/>
  <dc:language>en-US</dc:language>
  <cp:lastModifiedBy>Charlotte Verhagen</cp:lastModifiedBy>
  <dcterms:modified xsi:type="dcterms:W3CDTF">2022-02-06T11:01:59Z</dcterms:modified>
  <cp:revision>69</cp:revision>
  <dc:subject/>
  <dc:title>No Slide Title</dc:title>
</cp:coreProperties>
</file>