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4A1-A14E-41ED-8A0F-AEBC0946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B9B-1806-4A4A-B943-19F09ED7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DB8-7C86-4BD8-B427-8F76B0AE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3372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9620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3372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29620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172-1942-4E61-A524-1972AB9F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25E-052F-4C9F-82FB-D5682EA5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127-5083-48BC-B36A-D4B9559F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0D6-D5C5-42D8-957F-A108A2D1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B43-7EF2-4377-8565-18E60D8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794880"/>
            <a:ext cx="10240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CBF-4B40-475E-8006-57673959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383-DFDF-499E-A230-AE5E6B2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EEF-5E79-4FA3-B9D8-911710A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582-A22C-4708-BA8A-2E45A9B7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3" name="Rectangle 9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4" name="Rectangle 9" descr="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enir Next LT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908840" y="6410160"/>
            <a:ext cx="37036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2CA8-E22E-46CC-86E2-628B58C0CB6F}" type="datetime2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Thursday, July 30, 2026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-1828800" y="191124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667960" y="6410160"/>
            <a:ext cx="438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9AFA-EB8A-433E-A74A-D5E95E483842}" type="slidenum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8" name="Picture 3" descr="Oplichtende gloeilamp"/>
          <p:cNvPicPr/>
          <p:nvPr/>
        </p:nvPicPr>
        <p:blipFill>
          <a:blip r:embed="rId1"/>
          <a:srcRect l="0" t="10421" r="0" b="26764"/>
          <a:stretch/>
        </p:blipFill>
        <p:spPr>
          <a:xfrm>
            <a:off x="0" y="0"/>
            <a:ext cx="12192120" cy="446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 flipH="1" rot="10800000">
            <a:off x="-1080" y="4460400"/>
            <a:ext cx="12192120" cy="2397240"/>
          </a:xfrm>
          <a:prstGeom prst="rect">
            <a:avLst/>
          </a:prstGeom>
          <a:gradFill rotWithShape="0">
            <a:gsLst>
              <a:gs pos="0">
                <a:srgbClr val="5bb1a4"/>
              </a:gs>
              <a:gs pos="100000">
                <a:srgbClr val="5cadca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0" name="Rectangle 12"/>
          <p:cNvSpPr/>
          <p:nvPr/>
        </p:nvSpPr>
        <p:spPr>
          <a:xfrm flipH="1" rot="10800000">
            <a:off x="4037400" y="4464000"/>
            <a:ext cx="8153640" cy="2394000"/>
          </a:xfrm>
          <a:prstGeom prst="rect">
            <a:avLst/>
          </a:prstGeom>
          <a:gradFill rotWithShape="0">
            <a:gsLst>
              <a:gs pos="0">
                <a:srgbClr val="9dcedf">
                  <a:alpha val="81176"/>
                </a:srgbClr>
              </a:gs>
              <a:gs pos="100000">
                <a:srgbClr val="9e6ace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1" name="Freeform: Shape 14"/>
          <p:cNvSpPr/>
          <p:nvPr/>
        </p:nvSpPr>
        <p:spPr>
          <a:xfrm rot="14833800">
            <a:off x="2943720" y="2710080"/>
            <a:ext cx="3117960" cy="4640400"/>
          </a:xfrm>
          <a:custGeom>
            <a:avLst/>
            <a:gdLst/>
            <a:ahLst/>
            <a:rect l="l" t="t" r="r" b="b"/>
            <a:pathLst>
              <a:path w="3118759" h="4639931">
                <a:moveTo>
                  <a:pt x="3118759" y="79510"/>
                </a:moveTo>
                <a:lnTo>
                  <a:pt x="1204940" y="4639931"/>
                </a:lnTo>
                <a:lnTo>
                  <a:pt x="1103495" y="4578302"/>
                </a:lnTo>
                <a:cubicBezTo>
                  <a:pt x="437725" y="4128517"/>
                  <a:pt x="0" y="3366815"/>
                  <a:pt x="0" y="2502877"/>
                </a:cubicBezTo>
                <a:cubicBezTo>
                  <a:pt x="0" y="1120576"/>
                  <a:pt x="1120576" y="0"/>
                  <a:pt x="2502877" y="0"/>
                </a:cubicBezTo>
                <a:cubicBezTo>
                  <a:pt x="2675665" y="0"/>
                  <a:pt x="2844363" y="17509"/>
                  <a:pt x="3007294" y="50850"/>
                </a:cubicBezTo>
                <a:lnTo>
                  <a:pt x="3118759" y="79510"/>
                </a:lnTo>
                <a:close/>
              </a:path>
            </a:pathLst>
          </a:custGeom>
          <a:gradFill rotWithShape="0">
            <a:gsLst>
              <a:gs pos="0">
                <a:srgbClr val="5bb1a4">
                  <a:alpha val="12156"/>
                </a:srgbClr>
              </a:gs>
              <a:gs pos="100000">
                <a:srgbClr val="9dd0c8">
                  <a:alpha val="20000"/>
                </a:srgbClr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2" name="Rectangle 16"/>
          <p:cNvSpPr/>
          <p:nvPr/>
        </p:nvSpPr>
        <p:spPr>
          <a:xfrm flipH="1">
            <a:off x="4075920" y="4460760"/>
            <a:ext cx="8115480" cy="1944720"/>
          </a:xfrm>
          <a:prstGeom prst="rect">
            <a:avLst/>
          </a:prstGeom>
          <a:gradFill rotWithShape="0">
            <a:gsLst>
              <a:gs pos="0">
                <a:srgbClr val="5bb1a4">
                  <a:alpha val="0"/>
                </a:srgbClr>
              </a:gs>
              <a:gs pos="100000">
                <a:srgbClr val="5cadca">
                  <a:alpha val="16078"/>
                </a:srgbClr>
              </a:gs>
            </a:gsLst>
            <a:lin ang="20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4200" y="4611240"/>
            <a:ext cx="94363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venir Next LT Pro"/>
              </a:rPr>
              <a:t>WERKSTUK FEESTDAGEN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970240"/>
            <a:ext cx="9448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venir Next LT Pro"/>
              </a:rPr>
              <a:t>INSTRUCTIES</a:t>
            </a:r>
            <a:endParaRPr b="0" lang="en-US" sz="12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52671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venir Next LT Pro"/>
              </a:rPr>
              <a:t>KWARTAALINDELING</a:t>
            </a:r>
            <a:endParaRPr b="1" lang="en-US" sz="2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3053880"/>
            <a:ext cx="52671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euze uit feestdagen per kwartaal.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2: feestdagen uit de maanden september t/m december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3: feestdagen uit de maanden januari t/m april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4: de overige maanden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8" name="Afbeelding 3" descr=""/>
          <p:cNvPicPr/>
          <p:nvPr/>
        </p:nvPicPr>
        <p:blipFill>
          <a:blip r:embed="rId1"/>
          <a:stretch/>
        </p:blipFill>
        <p:spPr>
          <a:xfrm>
            <a:off x="7047000" y="974880"/>
            <a:ext cx="444348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10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60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63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9160" y="287280"/>
            <a:ext cx="59310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venir Next LT Pro"/>
              </a:rPr>
              <a:t>INHOUD</a:t>
            </a:r>
            <a:endParaRPr b="1" lang="en-US" sz="4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9160" y="2620800"/>
            <a:ext cx="593100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Bedoeling van de feestdag (video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Geschiedenis van de feestdag (wikikids, wikipedia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Antwoorden op de wikiwijs-pagina’s die betrekking hebben op de feestdag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8" name="Rectangle 10"/>
          <p:cNvSpPr/>
          <p:nvPr/>
        </p:nvSpPr>
        <p:spPr>
          <a:xfrm flipH="1">
            <a:off x="-720" y="6405480"/>
            <a:ext cx="12192120" cy="461880"/>
          </a:xfrm>
          <a:prstGeom prst="rect">
            <a:avLst/>
          </a:prstGeom>
          <a:gradFill rotWithShape="0">
            <a:gsLst>
              <a:gs pos="0">
                <a:srgbClr val="5cadca"/>
              </a:gs>
              <a:gs pos="100000">
                <a:srgbClr val="c5a6e2">
                  <a:alpha val="59215"/>
                </a:srgbClr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9" name="Rectangle 12"/>
          <p:cNvGrpSpPr/>
          <p:nvPr/>
        </p:nvGrpSpPr>
        <p:grpSpPr>
          <a:xfrm>
            <a:off x="8113680" y="6407280"/>
            <a:ext cx="4078440" cy="463320"/>
            <a:chOff x="8113680" y="6407280"/>
            <a:chExt cx="4078440" cy="463320"/>
          </a:xfrm>
        </p:grpSpPr>
        <p:pic>
          <p:nvPicPr>
            <p:cNvPr id="70" name="Rectangle 12" descr="&quot;&quot;"/>
            <p:cNvPicPr/>
            <p:nvPr/>
          </p:nvPicPr>
          <p:blipFill>
            <a:blip r:embed="rId1"/>
            <a:stretch/>
          </p:blipFill>
          <p:spPr>
            <a:xfrm>
              <a:off x="8113680" y="6408720"/>
              <a:ext cx="407844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115480" y="6407280"/>
              <a:ext cx="4076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72" name="Afbeelding 3" descr=""/>
          <p:cNvPicPr/>
          <p:nvPr/>
        </p:nvPicPr>
        <p:blipFill>
          <a:blip r:embed="rId2"/>
          <a:srcRect l="36963" t="0" r="20801" b="0"/>
          <a:stretch/>
        </p:blipFill>
        <p:spPr>
          <a:xfrm>
            <a:off x="8115480" y="-12600"/>
            <a:ext cx="4076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43960" y="457200"/>
            <a:ext cx="30909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venir Next LT Pro"/>
              </a:rPr>
              <a:t>SAMENWERKING</a:t>
            </a:r>
            <a:endParaRPr b="1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75" name="Afbeelding 3" descr=""/>
          <p:cNvPicPr/>
          <p:nvPr/>
        </p:nvPicPr>
        <p:blipFill>
          <a:blip r:embed="rId1"/>
          <a:srcRect l="0" t="24646" r="0" b="4682"/>
          <a:stretch/>
        </p:blipFill>
        <p:spPr>
          <a:xfrm>
            <a:off x="0" y="0"/>
            <a:ext cx="811548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643600" y="2530080"/>
            <a:ext cx="2941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werkt in duo’s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Eventueel werk je alleen (is meer werk)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een apart cijfer voor het werkstuk als geheel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Dat zijn dus 3 feestdagen, gebundeld in een document met aparte hoofdstukken met paragrafen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het cijfer aan het einde van het jaar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7" name="Rectangle 10"/>
          <p:cNvGrpSpPr/>
          <p:nvPr/>
        </p:nvGrpSpPr>
        <p:grpSpPr>
          <a:xfrm>
            <a:off x="0" y="6407280"/>
            <a:ext cx="12192120" cy="450720"/>
            <a:chOff x="0" y="6407280"/>
            <a:chExt cx="12192120" cy="450720"/>
          </a:xfrm>
        </p:grpSpPr>
        <p:pic>
          <p:nvPicPr>
            <p:cNvPr id="78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7280"/>
              <a:ext cx="121921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408720"/>
              <a:ext cx="12192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80" name="Rectangle 12"/>
          <p:cNvGrpSpPr/>
          <p:nvPr/>
        </p:nvGrpSpPr>
        <p:grpSpPr>
          <a:xfrm>
            <a:off x="0" y="6407280"/>
            <a:ext cx="8113680" cy="450720"/>
            <a:chOff x="0" y="6407280"/>
            <a:chExt cx="8113680" cy="450720"/>
          </a:xfrm>
        </p:grpSpPr>
        <p:pic>
          <p:nvPicPr>
            <p:cNvPr id="81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81118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6408720"/>
              <a:ext cx="8113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8T10:00:01Z</dcterms:created>
  <dc:creator>P. van Stiphout</dc:creator>
  <dc:description/>
  <dc:language>en-US</dc:language>
  <cp:lastModifiedBy>P. van Stiphout</cp:lastModifiedBy>
  <dcterms:modified xsi:type="dcterms:W3CDTF">2021-11-18T10:19:09Z</dcterms:modified>
  <cp:revision>2</cp:revision>
  <dc:subject/>
  <dc:title>Werkstuk feestdagen</dc:title>
</cp:coreProperties>
</file>