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B49D-7D8D-4458-B705-307F23A53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240" y="794880"/>
            <a:ext cx="10240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240" y="2112840"/>
            <a:ext cx="1024092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71240" y="4181040"/>
            <a:ext cx="1024092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94D7-403C-4205-BA30-C45A7BBCA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794880"/>
            <a:ext cx="10240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2112840"/>
            <a:ext cx="499752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618960" y="2112840"/>
            <a:ext cx="499752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71240" y="4181040"/>
            <a:ext cx="499752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618960" y="4181040"/>
            <a:ext cx="499752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FA62-9F52-4EF1-B5C1-7088F750E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71240" y="794880"/>
            <a:ext cx="10240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1240" y="2112840"/>
            <a:ext cx="32972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833720" y="2112840"/>
            <a:ext cx="32972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8296200" y="2112840"/>
            <a:ext cx="32972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71240" y="4181040"/>
            <a:ext cx="32972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833720" y="4181040"/>
            <a:ext cx="32972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8296200" y="4181040"/>
            <a:ext cx="32972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8C31-6F10-4E6B-9444-D511BEF54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794880"/>
            <a:ext cx="10240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71240" y="2112840"/>
            <a:ext cx="102409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425B-687D-42B7-80E1-B4C828BC4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794880"/>
            <a:ext cx="10240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240" y="2112840"/>
            <a:ext cx="102409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D218-470F-4333-B063-A44BE8EDD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794880"/>
            <a:ext cx="10240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2112840"/>
            <a:ext cx="4997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18960" y="2112840"/>
            <a:ext cx="4997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2087-6C10-4594-AD4C-CD980AA99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794880"/>
            <a:ext cx="10240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2DE2-43B0-4F65-8220-A7521B8C0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71240" y="794880"/>
            <a:ext cx="10240920" cy="57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870D-5F58-4026-A92D-B62FEFFA9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794880"/>
            <a:ext cx="10240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240" y="2112840"/>
            <a:ext cx="499752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18960" y="2112840"/>
            <a:ext cx="4997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71240" y="4181040"/>
            <a:ext cx="499752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52ED-A11C-4DF2-AB8F-E22D7E3A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794880"/>
            <a:ext cx="10240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240" y="2112840"/>
            <a:ext cx="4997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618960" y="2112840"/>
            <a:ext cx="499752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18960" y="4181040"/>
            <a:ext cx="499752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79CE-ED8C-4253-A6CB-9852D40D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794880"/>
            <a:ext cx="10240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240" y="2112840"/>
            <a:ext cx="499752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18960" y="2112840"/>
            <a:ext cx="499752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71240" y="4181040"/>
            <a:ext cx="1024092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80D9-A0CD-4837-9A86-1616C991F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7"/>
          <p:cNvGrpSpPr/>
          <p:nvPr/>
        </p:nvGrpSpPr>
        <p:grpSpPr>
          <a:xfrm>
            <a:off x="-360" y="6400800"/>
            <a:ext cx="12192480" cy="457200"/>
            <a:chOff x="-360" y="6400800"/>
            <a:chExt cx="12192480" cy="457200"/>
          </a:xfrm>
        </p:grpSpPr>
        <p:pic>
          <p:nvPicPr>
            <p:cNvPr id="1" name="Rectangle 7" descr=""/>
            <p:cNvPicPr/>
            <p:nvPr/>
          </p:nvPicPr>
          <p:blipFill>
            <a:blip r:embed="rId2"/>
            <a:stretch/>
          </p:blipFill>
          <p:spPr>
            <a:xfrm>
              <a:off x="0" y="6400800"/>
              <a:ext cx="1219212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 rot="10800000">
              <a:off x="-360" y="6400440"/>
              <a:ext cx="1219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venir Next LT Pro"/>
              </a:endParaRPr>
            </a:p>
          </p:txBody>
        </p:sp>
      </p:grpSp>
      <p:grpSp>
        <p:nvGrpSpPr>
          <p:cNvPr id="3" name="Rectangle 9"/>
          <p:cNvGrpSpPr/>
          <p:nvPr/>
        </p:nvGrpSpPr>
        <p:grpSpPr>
          <a:xfrm>
            <a:off x="4041720" y="6400800"/>
            <a:ext cx="8150400" cy="457200"/>
            <a:chOff x="4041720" y="6400800"/>
            <a:chExt cx="8150400" cy="457200"/>
          </a:xfrm>
        </p:grpSpPr>
        <p:pic>
          <p:nvPicPr>
            <p:cNvPr id="4" name="Rectangle 9" descr=""/>
            <p:cNvPicPr/>
            <p:nvPr/>
          </p:nvPicPr>
          <p:blipFill>
            <a:blip r:embed="rId3"/>
            <a:stretch/>
          </p:blipFill>
          <p:spPr>
            <a:xfrm>
              <a:off x="4044600" y="6400800"/>
              <a:ext cx="814716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4041720" y="6400800"/>
              <a:ext cx="8150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venir Next LT Pro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794880"/>
            <a:ext cx="10240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venir Next LT Pro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371240" y="2112840"/>
            <a:ext cx="102409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enir Next LT Pro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enir Next LT Pro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enir Next LT Pro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enir Next LT Pr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enir Next LT Pr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enir Next LT Pr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enir Next LT Pr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908840" y="6410160"/>
            <a:ext cx="370368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venir Next LT Pro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EFA86-6E01-4280-A242-3329B79DCC20}" type="datetime2">
              <a:rPr b="0" lang="en-US" sz="800" spc="-1" strike="noStrike">
                <a:solidFill>
                  <a:srgbClr val="ffffff"/>
                </a:solidFill>
                <a:latin typeface="Avenir Next LT Pro"/>
              </a:rPr>
              <a:t>Wednesday, July 29, 2026</a:t>
            </a:fld>
            <a:endParaRPr b="0" lang="en-US" sz="8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 rot="5400000">
            <a:off x="-1828800" y="191124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11667960" y="6410160"/>
            <a:ext cx="43848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venir Next LT Pro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527FA-C6EA-4D32-8A5D-AE39822E9CF4}" type="slidenum">
              <a:rPr b="0" lang="en-US" sz="800" spc="-1" strike="noStrike">
                <a:solidFill>
                  <a:srgbClr val="ffffff"/>
                </a:solidFill>
                <a:latin typeface="Avenir Next LT Pro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venir Next LT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8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pic>
        <p:nvPicPr>
          <p:cNvPr id="48" name="Picture 3" descr="Oplichtende gloeilamp"/>
          <p:cNvPicPr/>
          <p:nvPr/>
        </p:nvPicPr>
        <p:blipFill>
          <a:blip r:embed="rId1"/>
          <a:srcRect l="0" t="10421" r="0" b="26764"/>
          <a:stretch/>
        </p:blipFill>
        <p:spPr>
          <a:xfrm>
            <a:off x="0" y="0"/>
            <a:ext cx="12192120" cy="44607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0"/>
          <p:cNvSpPr/>
          <p:nvPr/>
        </p:nvSpPr>
        <p:spPr>
          <a:xfrm flipH="1" rot="10800000">
            <a:off x="-1080" y="4460400"/>
            <a:ext cx="12192120" cy="2397240"/>
          </a:xfrm>
          <a:prstGeom prst="rect">
            <a:avLst/>
          </a:prstGeom>
          <a:gradFill rotWithShape="0">
            <a:gsLst>
              <a:gs pos="0">
                <a:srgbClr val="5bb1a4"/>
              </a:gs>
              <a:gs pos="100000">
                <a:srgbClr val="5cadca"/>
              </a:gs>
            </a:gsLst>
            <a:lin ang="4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50" name="Rectangle 12"/>
          <p:cNvSpPr/>
          <p:nvPr/>
        </p:nvSpPr>
        <p:spPr>
          <a:xfrm flipH="1" rot="10800000">
            <a:off x="4037400" y="4464000"/>
            <a:ext cx="8153640" cy="2394000"/>
          </a:xfrm>
          <a:prstGeom prst="rect">
            <a:avLst/>
          </a:prstGeom>
          <a:gradFill rotWithShape="0">
            <a:gsLst>
              <a:gs pos="0">
                <a:srgbClr val="9dcedf">
                  <a:alpha val="81176"/>
                </a:srgbClr>
              </a:gs>
              <a:gs pos="100000">
                <a:srgbClr val="9e6ace">
                  <a:alpha val="0"/>
                </a:srgbClr>
              </a:gs>
            </a:gsLst>
            <a:lin ang="17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51" name="Freeform: Shape 14"/>
          <p:cNvSpPr/>
          <p:nvPr/>
        </p:nvSpPr>
        <p:spPr>
          <a:xfrm rot="14833800">
            <a:off x="2943720" y="2710080"/>
            <a:ext cx="3117960" cy="4640400"/>
          </a:xfrm>
          <a:custGeom>
            <a:avLst/>
            <a:gdLst/>
            <a:ahLst/>
            <a:rect l="l" t="t" r="r" b="b"/>
            <a:pathLst>
              <a:path w="3118759" h="4639931">
                <a:moveTo>
                  <a:pt x="3118759" y="79510"/>
                </a:moveTo>
                <a:lnTo>
                  <a:pt x="1204940" y="4639931"/>
                </a:lnTo>
                <a:lnTo>
                  <a:pt x="1103495" y="4578302"/>
                </a:lnTo>
                <a:cubicBezTo>
                  <a:pt x="437725" y="4128517"/>
                  <a:pt x="0" y="3366815"/>
                  <a:pt x="0" y="2502877"/>
                </a:cubicBezTo>
                <a:cubicBezTo>
                  <a:pt x="0" y="1120576"/>
                  <a:pt x="1120576" y="0"/>
                  <a:pt x="2502877" y="0"/>
                </a:cubicBezTo>
                <a:cubicBezTo>
                  <a:pt x="2675665" y="0"/>
                  <a:pt x="2844363" y="17509"/>
                  <a:pt x="3007294" y="50850"/>
                </a:cubicBezTo>
                <a:lnTo>
                  <a:pt x="3118759" y="79510"/>
                </a:lnTo>
                <a:close/>
              </a:path>
            </a:pathLst>
          </a:custGeom>
          <a:gradFill rotWithShape="0">
            <a:gsLst>
              <a:gs pos="0">
                <a:srgbClr val="5bb1a4">
                  <a:alpha val="12156"/>
                </a:srgbClr>
              </a:gs>
              <a:gs pos="100000">
                <a:srgbClr val="9dd0c8">
                  <a:alpha val="20000"/>
                </a:srgbClr>
              </a:gs>
            </a:gsLst>
            <a:lin ang="11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52" name="Rectangle 16"/>
          <p:cNvSpPr/>
          <p:nvPr/>
        </p:nvSpPr>
        <p:spPr>
          <a:xfrm flipH="1">
            <a:off x="4075920" y="4460760"/>
            <a:ext cx="8115480" cy="1944720"/>
          </a:xfrm>
          <a:prstGeom prst="rect">
            <a:avLst/>
          </a:prstGeom>
          <a:gradFill rotWithShape="0">
            <a:gsLst>
              <a:gs pos="0">
                <a:srgbClr val="5bb1a4">
                  <a:alpha val="0"/>
                </a:srgbClr>
              </a:gs>
              <a:gs pos="100000">
                <a:srgbClr val="5cadca">
                  <a:alpha val="16078"/>
                </a:srgbClr>
              </a:gs>
            </a:gsLst>
            <a:lin ang="20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84200" y="4611240"/>
            <a:ext cx="94363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ff"/>
                </a:solidFill>
                <a:latin typeface="Avenir Next LT Pro"/>
              </a:rPr>
              <a:t>WERKSTUK FEESTDAGEN</a:t>
            </a:r>
            <a:endParaRPr b="1" lang="en-US" sz="36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240" y="5970240"/>
            <a:ext cx="944892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venir Next LT Pro"/>
              </a:rPr>
              <a:t>INSTRUCTIES</a:t>
            </a:r>
            <a:endParaRPr b="0" lang="en-US" sz="1200" spc="-1" strike="noStrike">
              <a:solidFill>
                <a:srgbClr val="000000"/>
              </a:solidFill>
              <a:latin typeface="Avenir Next LT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8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457200"/>
            <a:ext cx="5267160" cy="21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venir Next LT Pro"/>
              </a:rPr>
              <a:t>KWARTAALINDELING</a:t>
            </a:r>
            <a:endParaRPr b="1" lang="en-US" sz="28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371240" y="3053880"/>
            <a:ext cx="5267160" cy="25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venir Next LT Pro"/>
              </a:rPr>
              <a:t>Keuze uit feestdagen per kwartaal.</a:t>
            </a:r>
            <a:endParaRPr b="0" lang="en-US" sz="1600" spc="-1" strike="noStrike">
              <a:solidFill>
                <a:srgbClr val="000000"/>
              </a:solidFill>
              <a:latin typeface="Avenir Next LT Pro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venir Next LT Pro"/>
              </a:rPr>
              <a:t>Kwartaal 2: feestdagen uit de maanden september t/m december</a:t>
            </a:r>
            <a:endParaRPr b="0" lang="en-US" sz="1600" spc="-1" strike="noStrike">
              <a:solidFill>
                <a:srgbClr val="000000"/>
              </a:solidFill>
              <a:latin typeface="Avenir Next LT Pro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venir Next LT Pro"/>
              </a:rPr>
              <a:t>Kwartaal 3: feestdagen uit de maanden januari t/m april</a:t>
            </a:r>
            <a:endParaRPr b="0" lang="en-US" sz="1600" spc="-1" strike="noStrike">
              <a:solidFill>
                <a:srgbClr val="000000"/>
              </a:solidFill>
              <a:latin typeface="Avenir Next LT Pro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venir Next LT Pro"/>
              </a:rPr>
              <a:t>Kwartaal 4: de overige maanden</a:t>
            </a:r>
            <a:endParaRPr b="0" lang="en-US" sz="1600" spc="-1" strike="noStrike">
              <a:solidFill>
                <a:srgbClr val="000000"/>
              </a:solidFill>
              <a:latin typeface="Avenir Next LT Pro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venir Next LT Pro"/>
            </a:endParaRPr>
          </a:p>
        </p:txBody>
      </p:sp>
      <p:pic>
        <p:nvPicPr>
          <p:cNvPr id="58" name="Afbeelding 3" descr=""/>
          <p:cNvPicPr/>
          <p:nvPr/>
        </p:nvPicPr>
        <p:blipFill>
          <a:blip r:embed="rId1"/>
          <a:stretch/>
        </p:blipFill>
        <p:spPr>
          <a:xfrm>
            <a:off x="7047000" y="974880"/>
            <a:ext cx="4443480" cy="4444920"/>
          </a:xfrm>
          <a:prstGeom prst="rect">
            <a:avLst/>
          </a:prstGeom>
          <a:ln w="0">
            <a:noFill/>
          </a:ln>
        </p:spPr>
      </p:pic>
      <p:grpSp>
        <p:nvGrpSpPr>
          <p:cNvPr id="59" name="Rectangle 10"/>
          <p:cNvGrpSpPr/>
          <p:nvPr/>
        </p:nvGrpSpPr>
        <p:grpSpPr>
          <a:xfrm>
            <a:off x="-360" y="6400800"/>
            <a:ext cx="12192480" cy="457200"/>
            <a:chOff x="-360" y="6400800"/>
            <a:chExt cx="12192480" cy="457200"/>
          </a:xfrm>
        </p:grpSpPr>
        <p:pic>
          <p:nvPicPr>
            <p:cNvPr id="60" name="Rectangle 10" descr="&quot;&quot;"/>
            <p:cNvPicPr/>
            <p:nvPr/>
          </p:nvPicPr>
          <p:blipFill>
            <a:blip r:embed="rId2"/>
            <a:stretch/>
          </p:blipFill>
          <p:spPr>
            <a:xfrm>
              <a:off x="0" y="6400800"/>
              <a:ext cx="1219212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 rot="10800000">
              <a:off x="-360" y="6400440"/>
              <a:ext cx="1219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venir Next LT Pro"/>
              </a:endParaRPr>
            </a:p>
          </p:txBody>
        </p:sp>
      </p:grpSp>
      <p:grpSp>
        <p:nvGrpSpPr>
          <p:cNvPr id="62" name="Rectangle 12"/>
          <p:cNvGrpSpPr/>
          <p:nvPr/>
        </p:nvGrpSpPr>
        <p:grpSpPr>
          <a:xfrm>
            <a:off x="4041720" y="6400800"/>
            <a:ext cx="8150400" cy="457200"/>
            <a:chOff x="4041720" y="6400800"/>
            <a:chExt cx="8150400" cy="457200"/>
          </a:xfrm>
        </p:grpSpPr>
        <p:pic>
          <p:nvPicPr>
            <p:cNvPr id="63" name="Rectangle 12" descr="&quot;&quot;"/>
            <p:cNvPicPr/>
            <p:nvPr/>
          </p:nvPicPr>
          <p:blipFill>
            <a:blip r:embed="rId3"/>
            <a:stretch/>
          </p:blipFill>
          <p:spPr>
            <a:xfrm>
              <a:off x="4044600" y="6400800"/>
              <a:ext cx="814716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4041720" y="6400800"/>
              <a:ext cx="8150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venir Next LT Pro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8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9160" y="287280"/>
            <a:ext cx="5931000" cy="18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venir Next LT Pro"/>
              </a:rPr>
              <a:t>INHOUD</a:t>
            </a:r>
            <a:endParaRPr b="1" lang="en-US" sz="40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379160" y="2620800"/>
            <a:ext cx="5931000" cy="33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venir Next LT Pro"/>
              </a:rPr>
              <a:t>Bedoeling van de feestdag (video)</a:t>
            </a:r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venir Next LT Pro"/>
              </a:rPr>
              <a:t>Geschiedenis van de feestdag (wikikids, wikipedia)</a:t>
            </a:r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venir Next LT Pro"/>
              </a:rPr>
              <a:t>Antwoorden op de wikiwijs-pagina’s die betrekking hebben op de feestdag</a:t>
            </a:r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68" name="Rectangle 10"/>
          <p:cNvSpPr/>
          <p:nvPr/>
        </p:nvSpPr>
        <p:spPr>
          <a:xfrm flipH="1">
            <a:off x="-720" y="6405480"/>
            <a:ext cx="12192120" cy="461880"/>
          </a:xfrm>
          <a:prstGeom prst="rect">
            <a:avLst/>
          </a:prstGeom>
          <a:gradFill rotWithShape="0">
            <a:gsLst>
              <a:gs pos="0">
                <a:srgbClr val="5cadca"/>
              </a:gs>
              <a:gs pos="100000">
                <a:srgbClr val="c5a6e2">
                  <a:alpha val="59215"/>
                </a:srgbClr>
              </a:gs>
            </a:gsLst>
            <a:lin ang="15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grpSp>
        <p:nvGrpSpPr>
          <p:cNvPr id="69" name="Rectangle 12"/>
          <p:cNvGrpSpPr/>
          <p:nvPr/>
        </p:nvGrpSpPr>
        <p:grpSpPr>
          <a:xfrm>
            <a:off x="8113680" y="6407280"/>
            <a:ext cx="4078440" cy="463320"/>
            <a:chOff x="8113680" y="6407280"/>
            <a:chExt cx="4078440" cy="463320"/>
          </a:xfrm>
        </p:grpSpPr>
        <p:pic>
          <p:nvPicPr>
            <p:cNvPr id="70" name="Rectangle 12" descr="&quot;&quot;"/>
            <p:cNvPicPr/>
            <p:nvPr/>
          </p:nvPicPr>
          <p:blipFill>
            <a:blip r:embed="rId1"/>
            <a:stretch/>
          </p:blipFill>
          <p:spPr>
            <a:xfrm>
              <a:off x="8113680" y="6408720"/>
              <a:ext cx="4078440" cy="46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8115480" y="6407280"/>
              <a:ext cx="407664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venir Next LT Pro"/>
              </a:endParaRPr>
            </a:p>
          </p:txBody>
        </p:sp>
      </p:grpSp>
      <p:pic>
        <p:nvPicPr>
          <p:cNvPr id="72" name="Afbeelding 3" descr=""/>
          <p:cNvPicPr/>
          <p:nvPr/>
        </p:nvPicPr>
        <p:blipFill>
          <a:blip r:embed="rId2"/>
          <a:srcRect l="36963" t="0" r="20801" b="0"/>
          <a:stretch/>
        </p:blipFill>
        <p:spPr>
          <a:xfrm>
            <a:off x="8115480" y="-12600"/>
            <a:ext cx="4076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8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643960" y="457200"/>
            <a:ext cx="3090960" cy="17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venir Next LT Pro"/>
              </a:rPr>
              <a:t>SAMENWERKING</a:t>
            </a:r>
            <a:endParaRPr b="1" lang="en-US" sz="1800" spc="-1" strike="noStrike">
              <a:solidFill>
                <a:srgbClr val="000000"/>
              </a:solidFill>
              <a:latin typeface="Avenir Next LT Pro"/>
            </a:endParaRPr>
          </a:p>
        </p:txBody>
      </p:sp>
      <p:pic>
        <p:nvPicPr>
          <p:cNvPr id="75" name="Afbeelding 3" descr=""/>
          <p:cNvPicPr/>
          <p:nvPr/>
        </p:nvPicPr>
        <p:blipFill>
          <a:blip r:embed="rId1"/>
          <a:srcRect l="0" t="24646" r="0" b="4682"/>
          <a:stretch/>
        </p:blipFill>
        <p:spPr>
          <a:xfrm>
            <a:off x="0" y="0"/>
            <a:ext cx="8115480" cy="64087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8643600" y="2530080"/>
            <a:ext cx="294156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venir Next LT Pro"/>
              </a:rPr>
              <a:t>Je werkt in duo’s</a:t>
            </a:r>
            <a:endParaRPr b="0" lang="en-US" sz="1400" spc="-1" strike="noStrike">
              <a:solidFill>
                <a:srgbClr val="000000"/>
              </a:solidFill>
              <a:latin typeface="Avenir Next LT Pro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venir Next LT Pro"/>
              </a:rPr>
              <a:t>Eventueel werk je alleen (is meer werk)</a:t>
            </a:r>
            <a:endParaRPr b="0" lang="en-US" sz="1400" spc="-1" strike="noStrike">
              <a:solidFill>
                <a:srgbClr val="000000"/>
              </a:solidFill>
              <a:latin typeface="Avenir Next LT Pro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venir Next LT Pro"/>
              </a:rPr>
              <a:t>Je krijgt een apart cijfer voor het werkstuk als geheel</a:t>
            </a:r>
            <a:endParaRPr b="0" lang="en-US" sz="1400" spc="-1" strike="noStrike">
              <a:solidFill>
                <a:srgbClr val="000000"/>
              </a:solidFill>
              <a:latin typeface="Avenir Next LT Pro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venir Next LT Pro"/>
              </a:rPr>
              <a:t>Dat zijn dus 3 feestdagen, gebundeld in een document met aparte hoofdstukken met paragrafen.</a:t>
            </a:r>
            <a:endParaRPr b="0" lang="en-US" sz="1400" spc="-1" strike="noStrike">
              <a:solidFill>
                <a:srgbClr val="000000"/>
              </a:solidFill>
              <a:latin typeface="Avenir Next LT Pro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venir Next LT Pro"/>
              </a:rPr>
              <a:t>Je krijgt het cijfer aan het einde van het jaar.</a:t>
            </a:r>
            <a:endParaRPr b="0" lang="en-US" sz="1400" spc="-1" strike="noStrike">
              <a:solidFill>
                <a:srgbClr val="000000"/>
              </a:solidFill>
              <a:latin typeface="Avenir Next LT Pro"/>
            </a:endParaRPr>
          </a:p>
        </p:txBody>
      </p:sp>
      <p:grpSp>
        <p:nvGrpSpPr>
          <p:cNvPr id="77" name="Rectangle 10"/>
          <p:cNvGrpSpPr/>
          <p:nvPr/>
        </p:nvGrpSpPr>
        <p:grpSpPr>
          <a:xfrm>
            <a:off x="0" y="6407280"/>
            <a:ext cx="12192120" cy="450720"/>
            <a:chOff x="0" y="6407280"/>
            <a:chExt cx="12192120" cy="450720"/>
          </a:xfrm>
        </p:grpSpPr>
        <p:pic>
          <p:nvPicPr>
            <p:cNvPr id="78" name="Rectangle 10" descr="&quot;&quot;"/>
            <p:cNvPicPr/>
            <p:nvPr/>
          </p:nvPicPr>
          <p:blipFill>
            <a:blip r:embed="rId2"/>
            <a:stretch/>
          </p:blipFill>
          <p:spPr>
            <a:xfrm>
              <a:off x="0" y="6407280"/>
              <a:ext cx="12192120" cy="45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0" y="6408720"/>
              <a:ext cx="1219212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venir Next LT Pro"/>
              </a:endParaRPr>
            </a:p>
          </p:txBody>
        </p:sp>
      </p:grpSp>
      <p:grpSp>
        <p:nvGrpSpPr>
          <p:cNvPr id="80" name="Rectangle 12"/>
          <p:cNvGrpSpPr/>
          <p:nvPr/>
        </p:nvGrpSpPr>
        <p:grpSpPr>
          <a:xfrm>
            <a:off x="0" y="6407280"/>
            <a:ext cx="8113680" cy="450720"/>
            <a:chOff x="0" y="6407280"/>
            <a:chExt cx="8113680" cy="450720"/>
          </a:xfrm>
        </p:grpSpPr>
        <p:pic>
          <p:nvPicPr>
            <p:cNvPr id="81" name="Rectangle 12" descr="&quot;&quot;"/>
            <p:cNvPicPr/>
            <p:nvPr/>
          </p:nvPicPr>
          <p:blipFill>
            <a:blip r:embed="rId3"/>
            <a:stretch/>
          </p:blipFill>
          <p:spPr>
            <a:xfrm>
              <a:off x="0" y="6407280"/>
              <a:ext cx="8111880" cy="45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0" y="6408720"/>
              <a:ext cx="811368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venir Next LT Pro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8T10:00:01Z</dcterms:created>
  <dc:creator>P. van Stiphout</dc:creator>
  <dc:description/>
  <dc:language>en-US</dc:language>
  <cp:lastModifiedBy>P. van Stiphout</cp:lastModifiedBy>
  <dcterms:modified xsi:type="dcterms:W3CDTF">2021-11-18T10:19:09Z</dcterms:modified>
  <cp:revision>2</cp:revision>
  <dc:subject/>
  <dc:title>Werkstuk feestdagen</dc:title>
</cp:coreProperties>
</file>