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4277-577F-4E8D-84F8-CF037202F40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C904-9932-4D99-87EB-A3F545F3757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2A0-6F62-4018-A4A0-C4DAA436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301-E42F-4BC3-BD45-E18CA522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611-D24A-43E7-8628-78B26F9C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46D-EA22-4857-BB4C-75A5FD54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ED36-8D5F-42AE-8A1D-CE2C812A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B733-FF0E-479B-9442-3B9964BD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AF5F-DD09-4DA1-8BC8-32DC5B43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FDEA-B30F-4234-98C5-FF5CB506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FCEB-88E8-4331-856C-6A2DCC4E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E932-0949-48AA-8EFA-1D17A703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E579-EB18-41C4-A3D1-83B88E66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EF00-94B4-4E7E-8861-3A1AEE9F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C04A-03B5-469F-BBD9-1184B527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4702-A6DD-4239-AE27-5EE4B0E1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5EAA-938D-4038-A4BC-AE334B9A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2968-DF04-4147-9E99-4C109EE4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5506-9ACC-4EE5-920B-794F10E5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8BB-97D5-4EC4-9D14-EF561DC8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9F6-832D-4363-A5EF-581B7A23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B66-91A6-4D85-8CC3-B49C7593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DD0-F07C-4656-8155-034DB4C6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01F-E13F-4E35-AD0D-F45159E2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D58-E413-48BF-81DD-3D79EA5D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964-B252-4859-A518-5F3423E4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6FB3-6546-4AE0-8247-23F8D3ABD8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352C-52F2-447D-B31A-986694B1940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185760" y="2408400"/>
            <a:ext cx="1424160" cy="16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de belevings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2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Tekstvak 2"/>
          <p:cNvSpPr/>
          <p:nvPr/>
        </p:nvSpPr>
        <p:spPr>
          <a:xfrm>
            <a:off x="1258920" y="1893960"/>
            <a:ext cx="742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108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681120" y="2305080"/>
            <a:ext cx="2143080" cy="1436760"/>
          </a:xfrm>
          <a:prstGeom prst="rect">
            <a:avLst/>
          </a:prstGeom>
          <a:ln w="0">
            <a:noFill/>
          </a:ln>
        </p:spPr>
      </p:pic>
      <p:sp>
        <p:nvSpPr>
          <p:cNvPr id="115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1017720" y="1309680"/>
            <a:ext cx="690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kstvak 3"/>
          <p:cNvSpPr/>
          <p:nvPr/>
        </p:nvSpPr>
        <p:spPr>
          <a:xfrm>
            <a:off x="622440" y="4349880"/>
            <a:ext cx="7953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122" name="Tekstvak 4"/>
          <p:cNvSpPr/>
          <p:nvPr/>
        </p:nvSpPr>
        <p:spPr>
          <a:xfrm>
            <a:off x="5040360" y="268128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127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kstvak 5"/>
          <p:cNvSpPr/>
          <p:nvPr/>
        </p:nvSpPr>
        <p:spPr>
          <a:xfrm>
            <a:off x="1336680" y="4842000"/>
            <a:ext cx="32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 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20T06:16:04Z</dcterms:modified>
  <cp:revision>28</cp:revision>
  <dc:subject/>
  <dc:title>Marketing les 1</dc:title>
</cp:coreProperties>
</file>