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0B4A-F767-4538-A725-B1B72DD0B7B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8895-607C-4A6E-9D15-37516A948D2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3127-4BA5-4072-BA83-59BEAD4030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A8F-EBF9-4658-942A-5B97BCE9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6E2-A916-4AB8-9252-87E2A4FA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E28-DAC8-4CE6-B017-550B6BAC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0E4-0AAE-45D3-980C-C1F8022C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BDCA-264D-4A8D-B016-A9CE5F49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2466-A0B6-4D06-B6A5-9549BE66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7C0D-FC33-4324-A905-0637124F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5329-C6D4-4BA8-8F26-B6755882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17E1-10A7-4FE6-A767-EADE7BE8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7393-061E-4BAA-9E89-BA6D7FCD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2205-A02B-469C-87B1-1D99FF73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1C6-0571-47B5-BD17-50BF10F2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4FD2-B6B1-45D3-9D01-995669EC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5361-4CA3-4EF2-BFA4-9D553473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7A94-EFA6-45E9-B548-AA3FD3DF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127C-C653-4E8F-9740-A95DFFE4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4DD9-0107-4D8C-85F9-8F85DE4D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4AA-3B4A-4EFA-B9DE-2DBDADEC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9B9-8027-4538-AA13-6A5917FC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0DF-1349-4153-8158-D8789525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679-B671-4A09-95C7-13460697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CCC-7A4E-4465-B794-EECD6385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8D0-6977-4E07-A48D-152893D9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633-C93A-4793-9F60-63EEB05A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B863-129D-42B2-980D-8063B5539E4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1084-6D2F-474A-923D-01649892B3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1406-879A-486B-A17E-F392CE12A94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AF5B-02EF-42B8-B4B2-F2B1336496D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55E8-6A1A-46B9-9188-8BEAD325E11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3F6D-11F4-4507-947A-40023406733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D210-4A2F-40D6-B57C-69DB6913267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F285-DD6C-4BD7-B9B2-5613EF32019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FBBA-F717-481B-A986-97C9AF19CC3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7CF6-2F2E-48FD-9A32-41D3752E624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is de omloopsnelhei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is belangrijk dat de voorraad niet te lang blijft lig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gemiddelde magazijntijd wordt weergegeven in de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omloopsnelheid geeft aan hoe vaak de voorraad verkocht wordt per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9" descr="Aanvoer bloemen vanaf Schiphol"/>
          <p:cNvPicPr/>
          <p:nvPr/>
        </p:nvPicPr>
        <p:blipFill>
          <a:blip r:embed="rId1"/>
          <a:srcRect l="0" t="0" r="3704" b="0"/>
          <a:stretch/>
        </p:blipFill>
        <p:spPr>
          <a:xfrm>
            <a:off x="457200" y="4800600"/>
            <a:ext cx="198108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>
            <a:off x="2590920" y="5105520"/>
            <a:ext cx="990360" cy="685800"/>
          </a:xfrm>
          <a:prstGeom prst="rightArrow">
            <a:avLst>
              <a:gd name="adj1" fmla="val 50000"/>
              <a:gd name="adj2" fmla="val 36102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7" descr="http://www.c1000peterderijke.nl/upload/256903505.jpg"/>
          <p:cNvPicPr/>
          <p:nvPr/>
        </p:nvPicPr>
        <p:blipFill>
          <a:blip r:embed="rId2"/>
          <a:stretch/>
        </p:blipFill>
        <p:spPr>
          <a:xfrm>
            <a:off x="3733920" y="472428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095880" y="51055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http://tbn0.google.com/images?q=tbn:NCe4YR3gRdzVeM:http://bp3.blogger.com/_Qu_eMn_Ud88/RdrTp6Q4D2I/AAAAAAAAAdY/YS98g0qDlEw/s320/bloemenderuijterstraat.gif"/>
          <p:cNvPicPr/>
          <p:nvPr/>
        </p:nvPicPr>
        <p:blipFill>
          <a:blip r:embed="rId3"/>
          <a:stretch/>
        </p:blipFill>
        <p:spPr>
          <a:xfrm>
            <a:off x="7238880" y="4724280"/>
            <a:ext cx="1128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AD34-A8AE-442A-AFCF-8F858C1D08D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66DA-D5CB-4E24-A558-316D0F33033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438280"/>
          <a:ext cx="8534160" cy="1195560"/>
        </p:xfrm>
        <a:graphic>
          <a:graphicData uri="http://schemas.openxmlformats.org/drawingml/2006/table">
            <a:tbl>
              <a:tblPr/>
              <a:tblGrid>
                <a:gridCol w="3962160"/>
                <a:gridCol w="4343400"/>
                <a:gridCol w="2286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e voorra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4572000"/>
          <a:ext cx="6808680" cy="1195560"/>
        </p:xfrm>
        <a:graphic>
          <a:graphicData uri="http://schemas.openxmlformats.org/drawingml/2006/table">
            <a:tbl>
              <a:tblPr/>
              <a:tblGrid>
                <a:gridCol w="2967120"/>
                <a:gridCol w="3623040"/>
                <a:gridCol w="21888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duur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4" name="Group 51"/>
          <p:cNvGrpSpPr/>
          <p:nvPr/>
        </p:nvGrpSpPr>
        <p:grpSpPr>
          <a:xfrm>
            <a:off x="2513520" y="1600200"/>
            <a:ext cx="2820600" cy="838080"/>
            <a:chOff x="2513520" y="1600200"/>
            <a:chExt cx="2820600" cy="838080"/>
          </a:xfrm>
        </p:grpSpPr>
        <p:sp>
          <p:nvSpPr>
            <p:cNvPr id="125" name="Line 47"/>
            <p:cNvSpPr/>
            <p:nvPr/>
          </p:nvSpPr>
          <p:spPr>
            <a:xfrm>
              <a:off x="4800600" y="2057400"/>
              <a:ext cx="533520" cy="3808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2513520" y="160020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W&amp;V-rek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3505320" y="3505320"/>
            <a:ext cx="1752480" cy="703440"/>
            <a:chOff x="3505320" y="3505320"/>
            <a:chExt cx="1752480" cy="703440"/>
          </a:xfrm>
        </p:grpSpPr>
        <p:sp>
          <p:nvSpPr>
            <p:cNvPr id="128" name="Text Box 49"/>
            <p:cNvSpPr/>
            <p:nvPr/>
          </p:nvSpPr>
          <p:spPr>
            <a:xfrm>
              <a:off x="3505320" y="3809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bal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V="1">
              <a:off x="4648320" y="35053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534600" y="5334120"/>
            <a:ext cx="1751400" cy="703440"/>
            <a:chOff x="534600" y="5334120"/>
            <a:chExt cx="1751400" cy="703440"/>
          </a:xfrm>
        </p:grpSpPr>
        <p:sp>
          <p:nvSpPr>
            <p:cNvPr id="131" name="Text Box 54"/>
            <p:cNvSpPr/>
            <p:nvPr/>
          </p:nvSpPr>
          <p:spPr>
            <a:xfrm>
              <a:off x="534600" y="56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d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V="1">
              <a:off x="1676520" y="53341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EB00-8876-40B9-9C4B-0F5ED699895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5BA4-96F2-42A5-8006-E9EAA6DC87A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Gemiddelde bedrag dat uitstaat bij de deb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het gemiddelde van heel veel momentopna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Debiteuren kosten geld, omdat je ze moet voorfinancie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Tegenover debiteuren staat een lening in de balans → kost ren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129E-97B9-45E0-834F-67EF73DC212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22B1-68FB-45F5-8CAE-2EFC1B913A5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e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mzet kan op 2 manieren betaald word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à contan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direct op liquide middel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 kredie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op debiteur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ebiteurensaldo ≈ debiteuren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kredietduu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agelijkse omzet op krediet  x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antal dagen dat de factuur open sta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OOK  x 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gem. DS = gem. DOOK  x  gem.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4800600"/>
          <a:ext cx="8915400" cy="1195560"/>
        </p:xfrm>
        <a:graphic>
          <a:graphicData uri="http://schemas.openxmlformats.org/drawingml/2006/table">
            <a:tbl>
              <a:tblPr/>
              <a:tblGrid>
                <a:gridCol w="1103400"/>
                <a:gridCol w="3773520"/>
                <a:gridCol w="403848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S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aromzet op kre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gemidd. krediet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8D90-B420-4AF8-8D6A-8D00B0214FA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EF9B-9AFA-4A5C-872A-C6D23FEF11D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ef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het gemiddelde debiteurensaldo als een bedrijf jaarlijks € 75.000,- omzet op krediet heeft en de gemiddelde krediettermijn 25 dagen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de omloopsnelheid als een bedrijf aan inkoop jaarlijks € 600.000,- uitgeeft en de gemiddelde waarde van de voorraad € 50.000,-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betekenen de getallen die je hebt uitgerekend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0E2B-3F06-4993-97E2-97FE9A135EF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7842-A0FF-43D2-81C7-D8E60F86002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envatting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Balan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kengetal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utowinst als % v/d omze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towinst als % v/d omz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+ extra gegeve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er we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werknemer p.j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4800600"/>
            <a:ext cx="67053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Kengetallen o.b.v. Balans + W&amp;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EV e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9:55Z</dcterms:modified>
  <cp:revision>20</cp:revision>
  <dc:subject/>
  <dc:title>PowerPoint-presentatie</dc:title>
</cp:coreProperties>
</file>