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4A43-CD8E-4442-91BE-68A39FE182A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Proces; Alles wat ervoor zorgt dat het aankoopproces zo vloeiend mogelijk verloop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634A-D525-495B-A8E0-1903B3486AF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9300-0A50-4CE9-BC9B-61DF390B9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52E0-A305-4736-A3ED-DA33B30D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9260-1853-4134-8D3D-840C8AAF5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A61C-F62E-47E7-88A0-83DF5520B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AC0E-5D16-4F8F-82A6-2EA6ADE52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6E74-43A4-45BA-B4FC-1CDCC1AF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DB09-1D9D-41B2-82C4-F0C43FE4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9885-C018-4179-9AAE-7CD3EBBF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E9AE-04A4-4E6D-BE4B-102E60B5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6CA7-1158-432F-A53B-59AAE71D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AA0D-821E-466F-A0B5-554B5910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5018-B710-4E8F-94EF-B9A10B5F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BACD-73FD-4AE7-955B-3DBD8185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30E0-7867-4B6B-8919-8007D330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C2FB-566D-4134-8B6A-AE11B533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7A63-52A9-4AE0-97DB-0EF34786C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176F-0FC7-44CD-A326-BF9BD2441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B143-761A-42AA-9708-4C46CCE9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6431-8DBB-4605-81FD-2B17EC05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6545-4B74-4724-8F58-5B712C0E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0F15-25D9-4C28-BE16-E35BA68C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075D-E8CD-49FB-99C4-A771AB8C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050F-FF5E-48BA-B38B-34B14BE7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69D5-97BA-4DEA-AC8F-50BBC947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686D-8A27-4057-BF89-73C6F12F608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1446-7E5F-4A7A-819C-D1B2CD9B362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usinessbox.nl/stap-6-de-product-markt-combinatie-mainmenu-36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les 3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12440" y="3860640"/>
            <a:ext cx="6324840" cy="17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l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. Kamphu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OC Oost 20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nderwerpen van vandaa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ha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novatietheo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 Marktcombin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euwe theorie; Sell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gaven m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6201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INNOVATIETHEOR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2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1066680" y="836640"/>
            <a:ext cx="7620120" cy="1728720"/>
          </a:xfrm>
          <a:prstGeom prst="rect">
            <a:avLst/>
          </a:prstGeom>
          <a:ln w="0">
            <a:noFill/>
          </a:ln>
        </p:spPr>
      </p:pic>
      <p:sp>
        <p:nvSpPr>
          <p:cNvPr id="103" name="Tekstvak 5"/>
          <p:cNvSpPr/>
          <p:nvPr/>
        </p:nvSpPr>
        <p:spPr>
          <a:xfrm>
            <a:off x="1332000" y="256536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ze beschrijving volgt de verschillende groepen mensen die het product aanschaf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kstvak 6"/>
          <p:cNvSpPr/>
          <p:nvPr/>
        </p:nvSpPr>
        <p:spPr>
          <a:xfrm>
            <a:off x="1332000" y="3645000"/>
            <a:ext cx="66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t model is  ook te gebruiken om de volwassenheid van het product uit te drukken; introductie, groei, volwassenheid, verzadiging en terugg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MC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n PMC is een combinatie van één van je  producten met een doelgro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dere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product-markt-combinati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gt een eigen marketingstrate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n PMC-matrix geeft aan welke producten voor welke groepen afnemers interessant zij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M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8" name="Picture 2" descr="Marketingmix"/>
          <p:cNvPicPr/>
          <p:nvPr/>
        </p:nvPicPr>
        <p:blipFill>
          <a:blip r:embed="rId1"/>
          <a:stretch/>
        </p:blipFill>
        <p:spPr>
          <a:xfrm>
            <a:off x="1476360" y="1620720"/>
            <a:ext cx="4680000" cy="47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Nog 2 P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Times New Roman"/>
              </a:rPr>
              <a:t>PERSON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kennis moeten onze werknemers hebb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ver welke vaardigheden moeten onze werknemers beschikk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werkhouding verwachten wij van onze werknem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belonen wij ons persone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sturen wij ons personeel a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waarden en normen vinden wij belangrij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opleidingen bieden wij aa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de carrièremogelijkheden voor ons persone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NOG 2 P’s;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Tekstvak 2"/>
          <p:cNvSpPr/>
          <p:nvPr/>
        </p:nvSpPr>
        <p:spPr>
          <a:xfrm>
            <a:off x="1187280" y="1916280"/>
            <a:ext cx="7499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PROCES ;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ragen die de ondernemer zich hierbij stel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stappen moet een klanten nemen om een aankoop te do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rocedure volgen we als een klant hulp nodig heef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 protocol volgen we als een klant langer moet wacht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nneer verstrekken we tijdig en op de juiste wijze informatie over levertij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rocedure volgen we als een klant ontevreden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ellogra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54864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ermee ontdek je waarop je de nadruk moet leggen in j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omo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787" descr="C:\Documents and Settings\Robbert\Bureaublad\sellogram.bmp"/>
          <p:cNvPicPr/>
          <p:nvPr/>
        </p:nvPicPr>
        <p:blipFill>
          <a:blip r:embed="rId1"/>
          <a:stretch/>
        </p:blipFill>
        <p:spPr>
          <a:xfrm>
            <a:off x="1219320" y="1905120"/>
            <a:ext cx="73152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4:05:46Z</dcterms:created>
  <dc:creator>Robbert Oosterom</dc:creator>
  <dc:description/>
  <dc:language>en-US</dc:language>
  <cp:lastModifiedBy>José Kamphuis</cp:lastModifiedBy>
  <dcterms:modified xsi:type="dcterms:W3CDTF">2018-01-25T07:55:46Z</dcterms:modified>
  <cp:revision>47</cp:revision>
  <dc:subject/>
  <dc:title>Marketing les 1</dc:title>
</cp:coreProperties>
</file>