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wmf" ContentType="image/x-wmf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AD87F-A3F0-4E03-8B62-8B0837A9EE4B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95C6E-FE56-4679-B1F8-A8AD8C5A8A98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E60B0-2B51-456F-9912-D11D39DF5700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1633D-D5B7-4362-9FA3-39FAA5BCE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228600" y="3954960"/>
            <a:ext cx="86868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53E2F-1D39-4DD6-855C-C55ED64FA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28600" y="39549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80000" y="39549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4783D-5CDA-40A7-8800-122B869C5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65840" y="14475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02720" y="14475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228600" y="39549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65840" y="39549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02720" y="39549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42A99-0ABE-4E17-963C-673164BAD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E5BC5-8CF5-422A-A9C6-EDDDF4388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6D10C-EAB8-49E1-91BB-84526E9FB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E78FE-E475-4701-911E-F9DD7ACCF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F5B54-7A11-41FA-858C-1D97F443B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5B580-4A81-44E8-BEFC-031D54DBD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4B0FC-AB49-4E20-AB7A-DDA3FE53D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228600" y="39549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57107-C635-4DF9-89B2-F996CAED4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C43DA-951F-4B44-BE51-7E7D03698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80000" y="39549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F7B66-61A8-4D89-96EF-3B76838C0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28600" y="3954960"/>
            <a:ext cx="86868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E46B0-3342-407D-B08D-2AA7C2E6C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228600" y="3954960"/>
            <a:ext cx="86868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1A1F6-74DE-4F98-B909-E458C9E7C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228600" y="39549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80000" y="39549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F31A6-A50A-47C4-94EE-83AF328B2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165840" y="14475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102720" y="14475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228600" y="39549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165840" y="39549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102720" y="39549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E84B1-CEE5-40E3-9980-29419A85A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3B94E-C91B-4418-958D-E439E6E39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33BB3-038F-49A3-8837-0E40DE651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99423-CB9A-4721-997B-3F410BDAD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E0A08-90B5-487C-9B78-236513C75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228600" y="39549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FC8E4-A6A7-4216-B9E5-99DD99593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80000" y="39549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DA007-1396-436B-B956-600815630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28600" y="3954960"/>
            <a:ext cx="86868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51863-7669-4E54-9A8E-F6043F9E3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Sprite 10"/>
          <p:cNvPicPr/>
          <p:nvPr/>
        </p:nvPicPr>
        <p:blipFill>
          <a:blip r:embed="rId2"/>
          <a:srcRect l="0" t="0" r="416" b="1937"/>
          <a:stretch/>
        </p:blipFill>
        <p:spPr>
          <a:xfrm>
            <a:off x="0" y="0"/>
            <a:ext cx="9144000" cy="11304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09FEB-74C9-43E2-AE8C-8FAFDECA3204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28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562A3-81C9-4415-A808-B087E75747B1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0" y="1130400"/>
            <a:ext cx="9142560" cy="1522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0066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0" descr="Sprite 10"/>
          <p:cNvPicPr/>
          <p:nvPr/>
        </p:nvPicPr>
        <p:blipFill>
          <a:blip r:embed="rId2"/>
          <a:srcRect l="-31" t="0" r="416" b="1937"/>
          <a:stretch/>
        </p:blipFill>
        <p:spPr>
          <a:xfrm>
            <a:off x="-4680" y="2895480"/>
            <a:ext cx="9148680" cy="113040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8"/>
          <p:cNvSpPr/>
          <p:nvPr/>
        </p:nvSpPr>
        <p:spPr>
          <a:xfrm>
            <a:off x="0" y="4025880"/>
            <a:ext cx="9142560" cy="1522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0066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9"/>
          <p:cNvSpPr/>
          <p:nvPr/>
        </p:nvSpPr>
        <p:spPr>
          <a:xfrm>
            <a:off x="0" y="2743200"/>
            <a:ext cx="9142560" cy="15228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68580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47E13-E4CB-4B4A-A051-11DD059300BB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28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30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F008E-437E-41C0-945D-4F89030E80F5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hyperlink" Target="http://www.nurijk.nl/geld.jpg" TargetMode="External"/><Relationship Id="rId4" Type="http://schemas.openxmlformats.org/officeDocument/2006/relationships/image" Target="../media/image6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fons-vernooij.nl/bm-site/rr-model-F.html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5"/>
          <p:cNvSpPr/>
          <p:nvPr/>
        </p:nvSpPr>
        <p:spPr>
          <a:xfrm>
            <a:off x="68580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29E87-86EA-4747-B432-8211D198D0FE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28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6"/>
          <p:cNvSpPr/>
          <p:nvPr/>
        </p:nvSpPr>
        <p:spPr>
          <a:xfrm>
            <a:off x="3124080" y="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7"/>
          <p:cNvSpPr/>
          <p:nvPr/>
        </p:nvSpPr>
        <p:spPr>
          <a:xfrm>
            <a:off x="65530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ED827-B3F9-47B2-BDF9-0ACA09D1D1E7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 Black"/>
              </a:rPr>
              <a:t>Opfriscursus kengetallen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32000" y="4419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Narrow"/>
              </a:rPr>
              <a:t>Jose Kamphuis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Narrow"/>
              </a:rPr>
              <a:t>Les 2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3946680" y="1203480"/>
            <a:ext cx="1575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C O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ijdelijke aanduiding voor datum 3"/>
          <p:cNvSpPr/>
          <p:nvPr/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B50C5-0DB0-4A55-B9FB-E49CD8C3790B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28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ijdelijke aanduiding voor voettekst 4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ijdelijke aanduiding voor dianummer 5"/>
          <p:cNvSpPr/>
          <p:nvPr/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2B4A5-7248-4467-B558-2B907B8B5EF0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Opbouw van de kosten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55" name="Object 3"/>
          <p:cNvGraphicFramePr/>
          <p:nvPr/>
        </p:nvGraphicFramePr>
        <p:xfrm>
          <a:off x="228600" y="1447920"/>
          <a:ext cx="8686800" cy="480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447920"/>
                    <a:ext cx="8686800" cy="48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7" name="Line 4"/>
          <p:cNvSpPr/>
          <p:nvPr/>
        </p:nvSpPr>
        <p:spPr>
          <a:xfrm flipV="1">
            <a:off x="1752480" y="990720"/>
            <a:ext cx="3886200" cy="4114800"/>
          </a:xfrm>
          <a:prstGeom prst="line">
            <a:avLst/>
          </a:prstGeom>
          <a:ln cap="sq" w="2844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" name="Group 7"/>
          <p:cNvGrpSpPr/>
          <p:nvPr/>
        </p:nvGrpSpPr>
        <p:grpSpPr>
          <a:xfrm>
            <a:off x="1447560" y="3276720"/>
            <a:ext cx="996120" cy="1066680"/>
            <a:chOff x="1447560" y="3276720"/>
            <a:chExt cx="996120" cy="1066680"/>
          </a:xfrm>
        </p:grpSpPr>
        <p:sp>
          <p:nvSpPr>
            <p:cNvPr id="159" name="Line 5"/>
            <p:cNvSpPr/>
            <p:nvPr/>
          </p:nvSpPr>
          <p:spPr>
            <a:xfrm>
              <a:off x="2438280" y="3276720"/>
              <a:ext cx="0" cy="10666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Text Box 6"/>
            <p:cNvSpPr/>
            <p:nvPr/>
          </p:nvSpPr>
          <p:spPr>
            <a:xfrm>
              <a:off x="1447560" y="3657600"/>
              <a:ext cx="996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verli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1" name="Group 10"/>
          <p:cNvGrpSpPr/>
          <p:nvPr/>
        </p:nvGrpSpPr>
        <p:grpSpPr>
          <a:xfrm>
            <a:off x="5334120" y="1295280"/>
            <a:ext cx="843120" cy="914400"/>
            <a:chOff x="5334120" y="1295280"/>
            <a:chExt cx="843120" cy="914400"/>
          </a:xfrm>
        </p:grpSpPr>
        <p:sp>
          <p:nvSpPr>
            <p:cNvPr id="162" name="Line 8"/>
            <p:cNvSpPr/>
            <p:nvPr/>
          </p:nvSpPr>
          <p:spPr>
            <a:xfrm flipV="1">
              <a:off x="5334120" y="1295280"/>
              <a:ext cx="0" cy="9144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Text Box 9"/>
            <p:cNvSpPr/>
            <p:nvPr/>
          </p:nvSpPr>
          <p:spPr>
            <a:xfrm>
              <a:off x="5335200" y="1523880"/>
              <a:ext cx="842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ins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ijdelijke aanduiding voor datum 3"/>
          <p:cNvSpPr/>
          <p:nvPr/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8595E-A04F-4CA4-A343-48BD0B4AC2E2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28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ijdelijke aanduiding voor voettekst 4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ijdelijke aanduiding voor dianummer 5"/>
          <p:cNvSpPr/>
          <p:nvPr/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260F4-55E4-45A7-8BFF-24A48045E4A2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W&amp;V-rekening van een BV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246240" y="1482840"/>
          <a:ext cx="8686800" cy="4802040"/>
        </p:xfrm>
        <a:graphic>
          <a:graphicData uri="http://schemas.openxmlformats.org/drawingml/2006/table">
            <a:tbl>
              <a:tblPr/>
              <a:tblGrid>
                <a:gridCol w="5105160"/>
                <a:gridCol w="3581640"/>
              </a:tblGrid>
              <a:tr h="47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Omze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€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0.000,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/- Inkoopwaard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€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0.000,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Brutowin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€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180.000,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/- Bedrijfskost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€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0.000,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Bedrijfsresultaa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€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20.000,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/- Ren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€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.000,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Nettowin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€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7.000,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/- Vennootschapsbelast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€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000,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/- Divide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€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00,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Winstreser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€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4.000,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ijdelijke aanduiding voor datum 3"/>
          <p:cNvSpPr/>
          <p:nvPr/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05971-F9C8-48AA-BA61-3010C727739B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28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ijdelijke aanduiding voor voettekst 4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ijdelijke aanduiding voor dianummer 5"/>
          <p:cNvSpPr/>
          <p:nvPr/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CCC6B-C9F3-4E10-A7B7-6A7E22CB3B0F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W&amp;V-rekening van een Eenmanszaak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250920" y="1484280"/>
          <a:ext cx="8686800" cy="4802400"/>
        </p:xfrm>
        <a:graphic>
          <a:graphicData uri="http://schemas.openxmlformats.org/drawingml/2006/table">
            <a:tbl>
              <a:tblPr/>
              <a:tblGrid>
                <a:gridCol w="5105160"/>
                <a:gridCol w="3581640"/>
              </a:tblGrid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Omze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€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0.000,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/- Inkoopwaard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€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0.000,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Brutowin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€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180.000,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/- Bedrijfskost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€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.000,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Bedrijfsresultaa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€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85.000,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/- Ren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€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.000,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Fiscale win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€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72.000,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/- Inkomstenbelast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€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.000,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/- Netto inkom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€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.000,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Winstreser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€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4.000,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4" name="Text Box 39"/>
          <p:cNvSpPr/>
          <p:nvPr/>
        </p:nvSpPr>
        <p:spPr>
          <a:xfrm>
            <a:off x="3562920" y="4292640"/>
            <a:ext cx="255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0000"/>
                </a:solidFill>
                <a:latin typeface="Arial"/>
              </a:rPr>
              <a:t>Privé onttrekkin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Oval 38"/>
          <p:cNvSpPr/>
          <p:nvPr/>
        </p:nvSpPr>
        <p:spPr>
          <a:xfrm>
            <a:off x="5076720" y="4653000"/>
            <a:ext cx="2087640" cy="1368360"/>
          </a:xfrm>
          <a:prstGeom prst="ellipse">
            <a:avLst/>
          </a:prstGeom>
          <a:noFill/>
          <a:ln cap="sq"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ijdelijke aanduiding voor datum 3"/>
          <p:cNvSpPr/>
          <p:nvPr/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677E0-6BF3-460D-A64D-AAAEF81B28A3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28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ijdelijke aanduiding voor voettekst 4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ijdelijke aanduiding voor dianummer 5"/>
          <p:cNvSpPr/>
          <p:nvPr/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05B0C-E04E-4703-A7BC-A907DF082683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W&amp;V-rekening van een Eenmanszaak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250920" y="1484280"/>
          <a:ext cx="8686800" cy="4802400"/>
        </p:xfrm>
        <a:graphic>
          <a:graphicData uri="http://schemas.openxmlformats.org/drawingml/2006/table">
            <a:tbl>
              <a:tblPr/>
              <a:tblGrid>
                <a:gridCol w="5105160"/>
                <a:gridCol w="3581640"/>
              </a:tblGrid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cccff"/>
                          </a:solidFill>
                          <a:latin typeface="Arial Black"/>
                        </a:rPr>
                        <a:t>Omze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ccff"/>
                          </a:solidFill>
                          <a:latin typeface="Arial"/>
                        </a:rPr>
                        <a:t>€ </a:t>
                      </a:r>
                      <a:r>
                        <a:rPr b="1" lang="en-US" sz="2400" spc="-1" strike="noStrike">
                          <a:solidFill>
                            <a:srgbClr val="ccccff"/>
                          </a:solidFill>
                          <a:latin typeface="Arial"/>
                        </a:rPr>
                        <a:t>630.000,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ccff"/>
                          </a:solidFill>
                          <a:latin typeface="Arial"/>
                        </a:rPr>
                        <a:t>-/- Inkoopwaard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ccff"/>
                          </a:solidFill>
                          <a:latin typeface="Arial"/>
                        </a:rPr>
                        <a:t>€ </a:t>
                      </a:r>
                      <a:r>
                        <a:rPr b="1" lang="en-US" sz="2400" spc="-1" strike="noStrike">
                          <a:solidFill>
                            <a:srgbClr val="ccccff"/>
                          </a:solidFill>
                          <a:latin typeface="Arial"/>
                        </a:rPr>
                        <a:t>450.000,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cccff"/>
                          </a:solidFill>
                          <a:latin typeface="Arial Black"/>
                        </a:rPr>
                        <a:t>Brutowin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cccff"/>
                          </a:solidFill>
                          <a:latin typeface="Arial Black"/>
                        </a:rPr>
                        <a:t>€ </a:t>
                      </a:r>
                      <a:r>
                        <a:rPr b="0" lang="en-US" sz="2400" spc="-1" strike="noStrike">
                          <a:solidFill>
                            <a:srgbClr val="ccccff"/>
                          </a:solidFill>
                          <a:latin typeface="Arial Black"/>
                        </a:rPr>
                        <a:t>180.000,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ccff"/>
                          </a:solidFill>
                          <a:latin typeface="Arial"/>
                        </a:rPr>
                        <a:t>-/- Bedrijfskost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ccff"/>
                          </a:solidFill>
                          <a:latin typeface="Arial"/>
                        </a:rPr>
                        <a:t>€ </a:t>
                      </a:r>
                      <a:r>
                        <a:rPr b="1" lang="en-US" sz="2400" spc="-1" strike="noStrike">
                          <a:solidFill>
                            <a:srgbClr val="ccccff"/>
                          </a:solidFill>
                          <a:latin typeface="Arial"/>
                        </a:rPr>
                        <a:t>95.000,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cccff"/>
                          </a:solidFill>
                          <a:latin typeface="Arial Black"/>
                        </a:rPr>
                        <a:t>Bedrijfsresultaa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cccff"/>
                          </a:solidFill>
                          <a:latin typeface="Arial Black"/>
                        </a:rPr>
                        <a:t>€ </a:t>
                      </a:r>
                      <a:r>
                        <a:rPr b="0" lang="en-US" sz="2400" spc="-1" strike="noStrike">
                          <a:solidFill>
                            <a:srgbClr val="ccccff"/>
                          </a:solidFill>
                          <a:latin typeface="Arial Black"/>
                        </a:rPr>
                        <a:t>85.000,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ccff"/>
                          </a:solidFill>
                          <a:latin typeface="Arial"/>
                        </a:rPr>
                        <a:t>-/- Ren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ccff"/>
                          </a:solidFill>
                          <a:latin typeface="Arial"/>
                        </a:rPr>
                        <a:t>€ </a:t>
                      </a:r>
                      <a:r>
                        <a:rPr b="1" lang="en-US" sz="2400" spc="-1" strike="noStrike">
                          <a:solidFill>
                            <a:srgbClr val="ccccff"/>
                          </a:solidFill>
                          <a:latin typeface="Arial"/>
                        </a:rPr>
                        <a:t>13.000,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cccff"/>
                          </a:solidFill>
                          <a:latin typeface="Arial Black"/>
                        </a:rPr>
                        <a:t>Fiscale win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cccff"/>
                          </a:solidFill>
                          <a:latin typeface="Arial Black"/>
                        </a:rPr>
                        <a:t>€ </a:t>
                      </a:r>
                      <a:r>
                        <a:rPr b="0" lang="en-US" sz="2400" spc="-1" strike="noStrike">
                          <a:solidFill>
                            <a:srgbClr val="ccccff"/>
                          </a:solidFill>
                          <a:latin typeface="Arial Black"/>
                        </a:rPr>
                        <a:t>72.000,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/- Gewaardeerd lo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€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.000,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/- Gewaardeerde ren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€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00,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Nettowin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€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7.000,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ijdelijke aanduiding voor datum 3"/>
          <p:cNvSpPr/>
          <p:nvPr/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1A395-0F76-45CE-A93D-DFA9848347D5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28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ijdelijke aanduiding voor voettekst 4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ijdelijke aanduiding voor dianummer 5"/>
          <p:cNvSpPr/>
          <p:nvPr/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F8273-D411-46E6-A333-07E469E8076F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Gewaardeerde kosten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Hebben geen enkele fiscale waarde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Gewaardeerd loon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Is een willekeurig bedrag dat ongeveer aangeeft hoeveel de ondernemer zou verdienen als hij in loondienst wa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Gewaardeerde rente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Is een inschatting van de rente die de ondernemer misloopt omdat zijn eigen vermogen niet op de bank staa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ijdelijke aanduiding voor datum 3"/>
          <p:cNvSpPr/>
          <p:nvPr/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EBA8C-FCE5-4198-A4DC-FAC579250A18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28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ijdelijke aanduiding voor voettekst 4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ijdelijke aanduiding voor dianummer 5"/>
          <p:cNvSpPr/>
          <p:nvPr/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C0BDC-F47E-421C-AC3A-EF7D4BD4C65D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Nut van gewaardeerde kosten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Fiscale winst -/- gewaardeerde kosten = een getal dat vergelijkbaar is met de nettowinst van een BV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Maken het mogelijk de rentabiliteit uit te rekenen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Geven een reëel zakelijk beeld van het resultaat van de eenmanszaak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  <a:p>
            <a:pPr lvl="2" marL="1143000" indent="-228600">
              <a:lnSpc>
                <a:spcPct val="90000"/>
              </a:lnSpc>
              <a:spcBef>
                <a:spcPts val="524"/>
              </a:spcBef>
              <a:buClr>
                <a:srgbClr val="ffffff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 Black"/>
              </a:rPr>
              <a:t>Vergelijk de inkomsten uit het bedrijf met het loon dat je in loondienst zou verdienen</a:t>
            </a:r>
            <a:endParaRPr b="0" lang="en-US" sz="2100" spc="-1" strike="noStrike">
              <a:solidFill>
                <a:srgbClr val="ffffff"/>
              </a:solidFill>
              <a:latin typeface="Arial Black"/>
            </a:endParaRPr>
          </a:p>
          <a:p>
            <a:pPr lvl="2" marL="1143000" indent="-228600">
              <a:lnSpc>
                <a:spcPct val="90000"/>
              </a:lnSpc>
              <a:spcBef>
                <a:spcPts val="524"/>
              </a:spcBef>
              <a:buClr>
                <a:srgbClr val="ffffff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 Black"/>
              </a:rPr>
              <a:t>Verreken ook de softe opbrengsten !</a:t>
            </a:r>
            <a:endParaRPr b="0" lang="en-US" sz="2100" spc="-1" strike="noStrike">
              <a:solidFill>
                <a:srgbClr val="ffffff"/>
              </a:solidFill>
              <a:latin typeface="Arial Black"/>
            </a:endParaRPr>
          </a:p>
          <a:p>
            <a:pPr lvl="3" marL="1600200" indent="-228600">
              <a:lnSpc>
                <a:spcPct val="90000"/>
              </a:lnSpc>
              <a:spcBef>
                <a:spcPts val="476"/>
              </a:spcBef>
              <a:buClr>
                <a:srgbClr val="ffffff"/>
              </a:buClr>
              <a:buFont typeface="Arial Black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 Black"/>
              </a:rPr>
              <a:t>Vrijheid, zelfstandigheid, trots bezit, werkplezier</a:t>
            </a:r>
            <a:endParaRPr b="0" lang="en-US" sz="19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8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9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0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0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05" dur="1" fill="hold"/>
                                  <p:tgtEl>
                                    <p:spTgt spid="19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ijdelijke aanduiding voor datum 4"/>
          <p:cNvSpPr/>
          <p:nvPr/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C90E0-2844-4079-8C83-979498637505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28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ijdelijke aanduiding voor voettekst 5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ijdelijke aanduiding voor dianummer 6"/>
          <p:cNvSpPr/>
          <p:nvPr/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1EF75-769E-4FAB-A0DB-386CC6A897A9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4" name="Picture 18" descr="http://www.shopbetreiber-blog.de/wp-content/uploads/2007/08/geld.jpg"/>
          <p:cNvPicPr/>
          <p:nvPr/>
        </p:nvPicPr>
        <p:blipFill>
          <a:blip r:embed="rId1"/>
          <a:stretch/>
        </p:blipFill>
        <p:spPr>
          <a:xfrm>
            <a:off x="6781680" y="5486400"/>
            <a:ext cx="1597320" cy="120024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3" descr="http://www.zodiakbv.nl/images/winkel-f.jpg"/>
          <p:cNvPicPr/>
          <p:nvPr/>
        </p:nvPicPr>
        <p:blipFill>
          <a:blip r:embed="rId2">
            <a:lum bright="-30000"/>
          </a:blip>
          <a:stretch/>
        </p:blipFill>
        <p:spPr>
          <a:xfrm>
            <a:off x="5943600" y="2511360"/>
            <a:ext cx="3200400" cy="165744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9" descr="http://www.nurijk.nl/geld.jpg">
            <a:hlinkClick r:id="rId3"/>
          </p:cNvPr>
          <p:cNvPicPr/>
          <p:nvPr/>
        </p:nvPicPr>
        <p:blipFill>
          <a:blip r:embed="rId4">
            <a:lum bright="-24000"/>
          </a:blip>
          <a:stretch/>
        </p:blipFill>
        <p:spPr>
          <a:xfrm>
            <a:off x="2590920" y="2514600"/>
            <a:ext cx="2133360" cy="1670040"/>
          </a:xfrm>
          <a:prstGeom prst="rect">
            <a:avLst/>
          </a:prstGeom>
          <a:ln w="0">
            <a:noFill/>
          </a:ln>
        </p:spPr>
      </p:pic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Rentabilitei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28600" y="2819160"/>
            <a:ext cx="4191120" cy="289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Zet € 1000,- op een spaarrekening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Na een jaar krijg je er € 60,- bij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De rente bedraagt 6%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800600" y="2819160"/>
            <a:ext cx="4114800" cy="34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Investeer € 1000,- in een bedrijf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Na een jaar heb je € 60,- meer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De rentabiliteit bedraagt 6%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0" name="Rectangle 5"/>
          <p:cNvSpPr/>
          <p:nvPr/>
        </p:nvSpPr>
        <p:spPr>
          <a:xfrm>
            <a:off x="380880" y="1523880"/>
            <a:ext cx="83059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Is vergelijkbaar met rente op een spaarreke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6"/>
          <p:cNvSpPr/>
          <p:nvPr/>
        </p:nvSpPr>
        <p:spPr>
          <a:xfrm>
            <a:off x="0" y="2027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2" name="Picture 19" descr="http://www.shopbetreiber-blog.de/wp-content/uploads/2007/08/geld.jpg"/>
          <p:cNvPicPr/>
          <p:nvPr/>
        </p:nvPicPr>
        <p:blipFill>
          <a:blip r:embed="rId5"/>
          <a:stretch/>
        </p:blipFill>
        <p:spPr>
          <a:xfrm>
            <a:off x="2286000" y="5486400"/>
            <a:ext cx="1596960" cy="12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ijdelijke aanduiding voor datum 3"/>
          <p:cNvSpPr/>
          <p:nvPr/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05896-F657-4204-8243-4B9F4EE5F3B2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28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Tijdelijke aanduiding voor voettekst 4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ijdelijke aanduiding voor dianummer 5"/>
          <p:cNvSpPr/>
          <p:nvPr/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3B908-0796-43DE-BDEC-16BAC7E6B964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REV en RTV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Rentabiliteit v/h Eigen Vermogen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Wat heeft het geld van de eigenaar hem opgeleverd?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Rentabiliteit v/h Totaal Vermogen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Wat heeft het bedrijf opgeleverd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Tijdelijke aanduiding voor datum 3"/>
          <p:cNvSpPr/>
          <p:nvPr/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887BF-2F79-4D9E-99C3-AE3D2CF2DFFF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28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ijdelijke aanduiding voor voettekst 4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ijdelijke aanduiding voor dianummer 5"/>
          <p:cNvSpPr/>
          <p:nvPr/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5F5A8-2F1E-49BF-8C3D-4FD611CDEC40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Rentabiliteit berekenen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Uit de balans haal je het gemiddelde geïnvesteerde vermogen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Vermogen van begin- en eindbalans middelen (zonder de winstreserve van het betreffende boekjaar)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Uit de W&amp;V-rekening haal je de wins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ijdelijke aanduiding voor datum 3"/>
          <p:cNvSpPr/>
          <p:nvPr/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15275-3683-4567-BF24-BCD0EF2CBBED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28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ijdelijke aanduiding voor voettekst 4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ijdelijke aanduiding voor dianummer 5"/>
          <p:cNvSpPr/>
          <p:nvPr/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CCDB4-641C-480B-9096-7503C91CDA72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Rentabiliteit in een BV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304920" y="2133720"/>
          <a:ext cx="6400800" cy="1195200"/>
        </p:xfrm>
        <a:graphic>
          <a:graphicData uri="http://schemas.openxmlformats.org/drawingml/2006/table">
            <a:tbl>
              <a:tblPr/>
              <a:tblGrid>
                <a:gridCol w="1828800"/>
                <a:gridCol w="2666880"/>
                <a:gridCol w="1905120"/>
              </a:tblGrid>
              <a:tr h="457560"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REV 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Nettowin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x 10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7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Gemiddeld E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18" name=""/>
          <p:cNvGraphicFramePr/>
          <p:nvPr/>
        </p:nvGraphicFramePr>
        <p:xfrm>
          <a:off x="2286000" y="4038480"/>
          <a:ext cx="6400800" cy="1195560"/>
        </p:xfrm>
        <a:graphic>
          <a:graphicData uri="http://schemas.openxmlformats.org/drawingml/2006/table">
            <a:tbl>
              <a:tblPr/>
              <a:tblGrid>
                <a:gridCol w="1523880"/>
                <a:gridCol w="3200400"/>
                <a:gridCol w="1676520"/>
              </a:tblGrid>
              <a:tr h="457560"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RTV 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Bedrijfsresultaa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x 10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7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Gemiddeld T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19" name="AutoShape 163"/>
          <p:cNvSpPr/>
          <p:nvPr/>
        </p:nvSpPr>
        <p:spPr>
          <a:xfrm>
            <a:off x="5791320" y="838080"/>
            <a:ext cx="2895480" cy="1295640"/>
          </a:xfrm>
          <a:prstGeom prst="cloudCallout">
            <a:avLst>
              <a:gd name="adj1" fmla="val -77523"/>
              <a:gd name="adj2" fmla="val 44606"/>
            </a:avLst>
          </a:prstGeom>
          <a:solidFill>
            <a:srgbClr val="cc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cc"/>
                </a:solidFill>
                <a:latin typeface="Times New Roman"/>
              </a:rPr>
              <a:t>Nettowinst = Bedrijfsresultaat </a:t>
            </a:r>
            <a:r>
              <a:rPr b="0" lang="en-US" sz="2000" spc="-1" strike="noStrike">
                <a:solidFill>
                  <a:srgbClr val="0066cc"/>
                </a:solidFill>
                <a:latin typeface="Times New Roman"/>
                <a:ea typeface="Times New Roman"/>
              </a:rPr>
              <a:t>–</a:t>
            </a:r>
            <a:r>
              <a:rPr b="0" lang="en-US" sz="2000" spc="-1" strike="noStrike">
                <a:solidFill>
                  <a:srgbClr val="0066cc"/>
                </a:solidFill>
                <a:latin typeface="Times New Roman"/>
              </a:rPr>
              <a:t> r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ijdelijke aanduiding voor datum 2"/>
          <p:cNvSpPr/>
          <p:nvPr/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51C4A-768A-4D53-9188-1FC3CDD01483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28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ijdelijke aanduiding voor voettekst 3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ijdelijke aanduiding voor dianummer 4"/>
          <p:cNvSpPr/>
          <p:nvPr/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EF79E-B23D-4517-B141-FCE90BF607D2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 Black"/>
              </a:rPr>
              <a:t>Agenda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4" name="Rectangle 3"/>
          <p:cNvSpPr/>
          <p:nvPr/>
        </p:nvSpPr>
        <p:spPr>
          <a:xfrm>
            <a:off x="0" y="1295280"/>
            <a:ext cx="3809880" cy="5105520"/>
          </a:xfrm>
          <a:prstGeom prst="rect">
            <a:avLst/>
          </a:prstGeom>
          <a:solidFill>
            <a:srgbClr val="96969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4"/>
          <p:cNvSpPr/>
          <p:nvPr/>
        </p:nvSpPr>
        <p:spPr>
          <a:xfrm>
            <a:off x="380880" y="1523880"/>
            <a:ext cx="32004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 Narrow"/>
              </a:rPr>
              <a:t>Het lezen van een jaarverslag is vaak lastig omdat dezelfde begrippen steeds een andere naam krijg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ls je de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tructuur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kent, weet je in ieder geval waar je moet zoeken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5"/>
          <p:cNvSpPr/>
          <p:nvPr/>
        </p:nvSpPr>
        <p:spPr>
          <a:xfrm>
            <a:off x="152280" y="1447920"/>
            <a:ext cx="152640" cy="49528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18"/>
          <p:cNvSpPr/>
          <p:nvPr/>
        </p:nvSpPr>
        <p:spPr>
          <a:xfrm>
            <a:off x="4356000" y="1523880"/>
            <a:ext cx="4464000" cy="30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66640" indent="-566640">
              <a:lnSpc>
                <a:spcPct val="100000"/>
              </a:lnSpc>
              <a:spcBef>
                <a:spcPts val="700"/>
              </a:spcBef>
              <a:spcAft>
                <a:spcPts val="1400"/>
              </a:spcAft>
              <a:buSzPct val="20561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Resultaatreke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>
              <a:lnSpc>
                <a:spcPct val="100000"/>
              </a:lnSpc>
              <a:spcBef>
                <a:spcPts val="700"/>
              </a:spcBef>
              <a:spcAft>
                <a:spcPts val="1400"/>
              </a:spcAft>
              <a:buSzPct val="20561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 Black"/>
              </a:rPr>
              <a:t>Verschillen BV en eenmanszaa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>
              <a:lnSpc>
                <a:spcPct val="100000"/>
              </a:lnSpc>
              <a:spcBef>
                <a:spcPts val="700"/>
              </a:spcBef>
              <a:spcAft>
                <a:spcPts val="1400"/>
              </a:spcAft>
              <a:buSzPct val="20561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 Black"/>
              </a:rPr>
              <a:t>Gewaardeerde kost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>
              <a:lnSpc>
                <a:spcPct val="100000"/>
              </a:lnSpc>
              <a:spcBef>
                <a:spcPts val="700"/>
              </a:spcBef>
              <a:spcAft>
                <a:spcPts val="1400"/>
              </a:spcAft>
              <a:buSzPct val="20561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 Black"/>
              </a:rPr>
              <a:t>Rentabilite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ijdelijke aanduiding voor datum 3"/>
          <p:cNvSpPr/>
          <p:nvPr/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14625-ECC3-4589-B5A3-B36D08638029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28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Tijdelijke aanduiding voor voettekst 4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ijdelijke aanduiding voor dianummer 5"/>
          <p:cNvSpPr/>
          <p:nvPr/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D7090-2771-47C9-84E4-35C2DE92F26E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Rentabiliteit in een Eenmanszaak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304920" y="2133720"/>
          <a:ext cx="7543800" cy="1195200"/>
        </p:xfrm>
        <a:graphic>
          <a:graphicData uri="http://schemas.openxmlformats.org/drawingml/2006/table">
            <a:tbl>
              <a:tblPr/>
              <a:tblGrid>
                <a:gridCol w="1555560"/>
                <a:gridCol w="4432320"/>
                <a:gridCol w="1555920"/>
              </a:tblGrid>
              <a:tr h="457560"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REV 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Fiscale winst – gew. lo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x 10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7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Gemiddeld E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25" name=""/>
          <p:cNvGraphicFramePr/>
          <p:nvPr/>
        </p:nvGraphicFramePr>
        <p:xfrm>
          <a:off x="838080" y="4038480"/>
          <a:ext cx="8153640" cy="1195560"/>
        </p:xfrm>
        <a:graphic>
          <a:graphicData uri="http://schemas.openxmlformats.org/drawingml/2006/table">
            <a:tbl>
              <a:tblPr/>
              <a:tblGrid>
                <a:gridCol w="1552680"/>
                <a:gridCol w="5153040"/>
                <a:gridCol w="1447920"/>
              </a:tblGrid>
              <a:tr h="457560"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RTV 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Bedrijfsresultaat – gew. lo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x 10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7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Gemiddeld T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26" name="AutoShape 43"/>
          <p:cNvSpPr/>
          <p:nvPr/>
        </p:nvSpPr>
        <p:spPr>
          <a:xfrm>
            <a:off x="4952880" y="838080"/>
            <a:ext cx="2895840" cy="1295640"/>
          </a:xfrm>
          <a:prstGeom prst="cloudCallout">
            <a:avLst>
              <a:gd name="adj1" fmla="val -71490"/>
              <a:gd name="adj2" fmla="val 47305"/>
            </a:avLst>
          </a:prstGeom>
          <a:solidFill>
            <a:srgbClr val="cc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cc"/>
                </a:solidFill>
                <a:latin typeface="Times New Roman"/>
              </a:rPr>
              <a:t>Fiscale winst = Bedrijfsresultaat </a:t>
            </a:r>
            <a:r>
              <a:rPr b="0" lang="en-US" sz="2000" spc="-1" strike="noStrike">
                <a:solidFill>
                  <a:srgbClr val="0066cc"/>
                </a:solidFill>
                <a:latin typeface="Times New Roman"/>
                <a:ea typeface="Times New Roman"/>
              </a:rPr>
              <a:t>–</a:t>
            </a:r>
            <a:r>
              <a:rPr b="0" lang="en-US" sz="2000" spc="-1" strike="noStrike">
                <a:solidFill>
                  <a:srgbClr val="0066cc"/>
                </a:solidFill>
                <a:latin typeface="Times New Roman"/>
              </a:rPr>
              <a:t> r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ijdelijke aanduiding voor datum 3"/>
          <p:cNvSpPr/>
          <p:nvPr/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A8ED9-5A7E-4DA1-8C83-6D27FC7F85B8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28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ijdelijke aanduiding voor voettekst 4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ijdelijke aanduiding voor dianummer 5"/>
          <p:cNvSpPr/>
          <p:nvPr/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EEA0F-FF32-4915-B310-B03990F10216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Jaarrekening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Resultaatrekening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is hetzelfde als W&amp;V-rekening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 Black"/>
              </a:rPr>
              <a:t>Balans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969696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69696"/>
                </a:solidFill>
                <a:latin typeface="Arial Black"/>
              </a:rPr>
              <a:t>per begin en einde boekjaar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 Black"/>
              </a:rPr>
              <a:t>Kasstroomoverzich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969696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69696"/>
                </a:solidFill>
                <a:latin typeface="Arial Black"/>
              </a:rPr>
              <a:t>is hetzelfde als cashflow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ijdelijke aanduiding voor datum 3"/>
          <p:cNvSpPr/>
          <p:nvPr/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9708A-C837-4048-8E8D-85C29E5F4AD2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28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ijdelijke aanduiding voor voettekst 4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ijdelijke aanduiding voor dianummer 5"/>
          <p:cNvSpPr/>
          <p:nvPr/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FBF4B-A5EA-4CCB-A613-819E52E28E3F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 Black"/>
              </a:rPr>
              <a:t>Winst-en-verliesrekening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24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71680" indent="-571680">
              <a:spcBef>
                <a:spcPts val="799"/>
              </a:spcBef>
              <a:buClr>
                <a:srgbClr val="ffffff"/>
              </a:buClr>
              <a:buFont typeface="Arial Black"/>
              <a:buChar char="=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Black"/>
              </a:rPr>
              <a:t>Resultatenrekening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571680" indent="-571680">
              <a:spcBef>
                <a:spcPts val="799"/>
              </a:spcBef>
              <a:buClr>
                <a:srgbClr val="ffffff"/>
              </a:buClr>
              <a:buFont typeface="Arial Black"/>
              <a:buChar char="=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Black"/>
              </a:rPr>
              <a:t>Exploitatierekening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571680" indent="-5716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Black"/>
              </a:rPr>
              <a:t>Overzicht van </a:t>
            </a:r>
            <a:r>
              <a:rPr b="0" lang="nl-NL" sz="3200" spc="-1" strike="noStrike" u="sng">
                <a:solidFill>
                  <a:srgbClr val="ffffff"/>
                </a:solidFill>
                <a:uFillTx/>
                <a:latin typeface="Arial Black"/>
              </a:rPr>
              <a:t>opbrengsten</a:t>
            </a:r>
            <a:r>
              <a:rPr b="0" lang="nl-NL" sz="3200" spc="-1" strike="noStrike">
                <a:solidFill>
                  <a:srgbClr val="ffffff"/>
                </a:solidFill>
                <a:latin typeface="Arial Black"/>
              </a:rPr>
              <a:t> en </a:t>
            </a:r>
            <a:r>
              <a:rPr b="0" lang="nl-NL" sz="3200" spc="-1" strike="noStrike" u="sng">
                <a:solidFill>
                  <a:srgbClr val="ffffff"/>
                </a:solidFill>
                <a:uFillTx/>
                <a:latin typeface="Arial Black"/>
              </a:rPr>
              <a:t>kosten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490680" y="4605480"/>
            <a:ext cx="223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99ffcc"/>
                </a:solidFill>
                <a:latin typeface="Arial Black"/>
              </a:rPr>
              <a:t>Beginbal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5"/>
          <p:cNvSpPr/>
          <p:nvPr/>
        </p:nvSpPr>
        <p:spPr>
          <a:xfrm>
            <a:off x="6526800" y="5181480"/>
            <a:ext cx="200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99ffcc"/>
                </a:solidFill>
                <a:latin typeface="Arial Black"/>
              </a:rPr>
              <a:t>Eindbal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Line 6"/>
          <p:cNvSpPr/>
          <p:nvPr/>
        </p:nvSpPr>
        <p:spPr>
          <a:xfrm>
            <a:off x="3132000" y="4941720"/>
            <a:ext cx="3024360" cy="432000"/>
          </a:xfrm>
          <a:prstGeom prst="line">
            <a:avLst/>
          </a:prstGeom>
          <a:ln cap="sq"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7"/>
          <p:cNvSpPr/>
          <p:nvPr/>
        </p:nvSpPr>
        <p:spPr>
          <a:xfrm>
            <a:off x="3418200" y="4508640"/>
            <a:ext cx="22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 Black"/>
              </a:rPr>
              <a:t>+ opbrengs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8"/>
          <p:cNvSpPr/>
          <p:nvPr/>
        </p:nvSpPr>
        <p:spPr>
          <a:xfrm>
            <a:off x="3879000" y="5229360"/>
            <a:ext cx="132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 Black"/>
              </a:rPr>
              <a:t>- kos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Oval 9"/>
          <p:cNvSpPr/>
          <p:nvPr/>
        </p:nvSpPr>
        <p:spPr>
          <a:xfrm>
            <a:off x="3132000" y="4149720"/>
            <a:ext cx="2880000" cy="1728720"/>
          </a:xfrm>
          <a:prstGeom prst="ellipse">
            <a:avLst/>
          </a:prstGeom>
          <a:noFill/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10"/>
          <p:cNvSpPr/>
          <p:nvPr/>
        </p:nvSpPr>
        <p:spPr>
          <a:xfrm>
            <a:off x="5724360" y="4149720"/>
            <a:ext cx="139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00"/>
                </a:solidFill>
                <a:latin typeface="Arial"/>
              </a:rPr>
              <a:t>Resulta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ijdelijke aanduiding voor datum 3"/>
          <p:cNvSpPr/>
          <p:nvPr/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F83A3-B49B-48E2-AADE-DBB64BAC3791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28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ijdelijke aanduiding voor voettekst 4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ijdelijke aanduiding voor dianummer 5"/>
          <p:cNvSpPr/>
          <p:nvPr/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7AAE0-9EDF-48BE-8848-92D78C5190B3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Modellen voor de W&amp;V-rekening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In het burgerlijk wetboek staan 6 modellen die verschillen qua indeling.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 Black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Staffelvorm (verticaal)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 Black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Scontrovorm (balansvorm)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Arial Black"/>
                <a:hlinkClick r:id="rId1"/>
              </a:rPr>
              <a:t>Model F </a:t>
            </a: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is het meest gebruikelijk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unctionele ordening van kosten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Zie www.bedrijfseconomische-modellen.nl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ijdelijke aanduiding voor datum 3"/>
          <p:cNvSpPr/>
          <p:nvPr/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E7060-7CDD-4BE0-B58E-EADE4C6ABD0D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28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ijdelijke aanduiding voor voettekst 4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ijdelijke aanduiding voor dianummer 5"/>
          <p:cNvSpPr/>
          <p:nvPr/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782D3-B278-4762-9CF9-65D6DE4C76F6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Verschillende weergaven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Interne verslaglegging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manager stuurt het bedrijf bij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moet snel beschikbaar zijn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Externe verslaglegging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verantwoording naar buiten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problemen verdoezelen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Voorbeelden in schoolboeken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versimpeld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Overzichten van journalisten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zeer compact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5" name="AutoShape 4"/>
          <p:cNvSpPr/>
          <p:nvPr/>
        </p:nvSpPr>
        <p:spPr>
          <a:xfrm>
            <a:off x="6553080" y="1828800"/>
            <a:ext cx="2438640" cy="1676520"/>
          </a:xfrm>
          <a:prstGeom prst="cloudCallout">
            <a:avLst>
              <a:gd name="adj1" fmla="val -55925"/>
              <a:gd name="adj2" fmla="val 61175"/>
            </a:avLst>
          </a:prstGeom>
          <a:solidFill>
            <a:srgbClr val="99ff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Jargon vaak door elkaar gebruik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ijdelijke aanduiding voor datum 3"/>
          <p:cNvSpPr/>
          <p:nvPr/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29D51-D3DB-42C5-88BA-12004FB119A6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28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ijdelijke aanduiding voor voettekst 4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ijdelijke aanduiding voor dianummer 5"/>
          <p:cNvSpPr/>
          <p:nvPr/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A0105-2668-430A-907C-A293949A2F7B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W&amp;V-rekening van een BV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228600" y="1447920"/>
          <a:ext cx="8686800" cy="4802040"/>
        </p:xfrm>
        <a:graphic>
          <a:graphicData uri="http://schemas.openxmlformats.org/drawingml/2006/table">
            <a:tbl>
              <a:tblPr/>
              <a:tblGrid>
                <a:gridCol w="5105520"/>
                <a:gridCol w="3581280"/>
              </a:tblGrid>
              <a:tr h="47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Omzet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= Opbreng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€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0.000,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/- Inkoopwaard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€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0.000,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Brutowin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€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180.000,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/- Bedrijfskost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€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0.000,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Bedrijfsresultaa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€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20.000,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/- Ren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€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.000,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Nettowin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€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7.000,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/- Vennootschapsbelast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€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000,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/- Divide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€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00,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Winstreser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€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4.000,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ijdelijke aanduiding voor datum 3"/>
          <p:cNvSpPr/>
          <p:nvPr/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5A964-D58B-4CE8-8B17-7645C68EDAC3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28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ijdelijke aanduiding voor voettekst 4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ijdelijke aanduiding voor dianummer 5"/>
          <p:cNvSpPr/>
          <p:nvPr/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32280-0725-447A-873F-5F02BABDD9A7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Inkoopwaarde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Onder </a:t>
            </a: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inkoopwaarde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 vallen alle kosten die evenredig met de verkoop samenhangen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Wat je aan de leverancier had betaald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Grondstoffen en hulpstoffen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Ingehuurd personeel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Ook wel genoemd: Kostprijs van de omze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ijdelijke aanduiding voor datum 3"/>
          <p:cNvSpPr/>
          <p:nvPr/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9B926-2D62-4C33-AA32-6031DB45ABDE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28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ijdelijke aanduiding voor voettekst 4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ijdelijke aanduiding voor dianummer 5"/>
          <p:cNvSpPr/>
          <p:nvPr/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4F15D-DCB0-4E46-9BEE-DF87CED38F46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Bedrijfskosten bestaan uit: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Loonkosten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Bij eenmanszaak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</a:rPr>
              <a:t>exclusief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 het loon van de ondernemer!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Overige kosten die min of meer onafhankelijk zijn van de omze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Bij grote omzetstijging kunnen deze kosten soms meestijgen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variabel gebudgetteerde reclame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vergroting van de bedrijfshal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autokosten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2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3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0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45" dur="1" fill="hold"/>
                                  <p:tgtEl>
                                    <p:spTgt spid="1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Robbert Oosterom</dc:creator>
  <dc:description/>
  <dc:language>en-US</dc:language>
  <cp:lastModifiedBy>José Kamphuis</cp:lastModifiedBy>
  <dcterms:modified xsi:type="dcterms:W3CDTF">2018-01-07T16:13:42Z</dcterms:modified>
  <cp:revision>20</cp:revision>
  <dc:subject/>
  <dc:title>PowerPoint-presentatie</dc:title>
</cp:coreProperties>
</file>