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8A2-8F88-4582-8D52-148B503EFD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59FD-0CEA-4F63-981A-EE883A25EA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0EE-2C7F-4D7A-B07C-F7407901F2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956-6E45-4366-9876-3AA9254E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FF5-DD28-4085-8664-8A96CBCA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B1AE-6524-4042-BDE7-C1313401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8DA-F210-41EC-A097-D4289C496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398C-4CE0-42E6-9207-B028BBD7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81A1-B9D7-4521-9E86-94BBC9D8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747-6760-4434-A597-122B67C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FFE-C56F-4706-9786-0E9381E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C5EB-E6FB-43B6-8243-5C69BBA5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45E4-3133-4C4C-A097-61C691FA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8CCE-E4A1-42EE-8D2D-322C53D5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AD38-2802-4E12-8D10-813B76CB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B66F-5776-44A4-B943-AA99CF36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83DE-3F28-412B-9481-4E8894D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F1BC-71B5-48A5-9093-F3C2DBF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8FE6-E92F-4CB4-80A7-78F091FA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A8B8-39CF-4671-810F-28FCE6AA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AE9-E885-47E1-B531-1383C8B0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CC4-CC22-4D72-A3BD-176504A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ABC4-6BBA-4252-A4D1-CEFB877A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E9DD-0798-48AC-BED4-D22022C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8E3E-ABFA-4299-9514-B5B23800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20F0-B587-4C67-9187-B4A5FFD9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01C-2D42-4E91-B7C9-E4AFED1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\\dgorbet\c\WINDOWS\Desktop\Sprite 10.jpg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8BE-C35F-40E1-BA55-DD9FCFA0E4D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8506-6CEC-4DEE-B81C-BCC05A5725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\\dgorbet\c\WINDOWS\Desktop\Sprite 10.jpg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4680" y="2895480"/>
            <a:ext cx="914868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2EDC-F421-4893-B7CB-6BF6E9FBFC2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222-E7B4-4FC1-B88D-1ABC801869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A9BA-616C-46E9-A40C-717F850B3F0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B94A-76AA-4212-ABEC-8F1E8CDD3D6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cursus kengetal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Jose Kamphui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Narrow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946680" y="1203480"/>
            <a:ext cx="1575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C O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699A-332F-4C38-A63B-48106680421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3D8A-CD94-4D83-A343-4A4BB4F8FF6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ANG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et vermogen van het bedrijf om 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KORTE termijn schulde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 kunnen beta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05A-D976-4B1C-8667-6F70E5075F0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C79C-2E63-4C95-960C-28A8DB1B8C1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267080" y="3733920"/>
            <a:ext cx="4876920" cy="1066680"/>
          </a:xfrm>
          <a:prstGeom prst="ellipse">
            <a:avLst/>
          </a:prstGeom>
          <a:gradFill rotWithShape="0">
            <a:gsLst>
              <a:gs pos="0">
                <a:srgbClr val="00cccc"/>
              </a:gs>
              <a:gs pos="100000">
                <a:srgbClr val="ff3300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erkkapita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–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urrent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= Vla / 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ick ratio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34000">
                <a:solidFill>
                  <a:srgbClr val="ffffff"/>
                </a:solidFill>
                <a:latin typeface="Arial Black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Vla – 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648320" y="1523880"/>
          <a:ext cx="4267080" cy="36846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Lang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Kort vreemd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1" dur="1" fill="hold"/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72" dur="1" fill="hold"/>
                                  <p:tgtEl>
                                    <p:spTgt spid="1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2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7CE6-A6EF-4031-A8A2-F666E52B6DC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ijdelijke aanduiding voor voettekst 3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dianummer 4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D7B4-FD9A-4A1E-B851-7E10C1C749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1295280"/>
            <a:ext cx="3809880" cy="510552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80880" y="1523880"/>
            <a:ext cx="3200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Narrow"/>
              </a:rPr>
              <a:t>Het lezen van een jaarverslag is vaak lastig omdat dezelfde begrippen steeds een andere naam krij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 je 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ructuu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kent, weet je in ieder geval waar je moet zoek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427640" y="1523880"/>
            <a:ext cx="4335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 Black"/>
              </a:rPr>
              <a:t>Opfrissen kengeta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lansbegri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SzPct val="2056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830C-1484-425A-97E3-4F5CDE93645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DA3-E013-42EB-BA42-10BAF9F4040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deling van een bala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 =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V / TV * 10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8320" y="1523880"/>
          <a:ext cx="4267080" cy="3888000"/>
        </p:xfrm>
        <a:graphic>
          <a:graphicData uri="http://schemas.openxmlformats.org/drawingml/2006/table">
            <a:tbl>
              <a:tblPr/>
              <a:tblGrid>
                <a:gridCol w="2209680"/>
                <a:gridCol w="20574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BAL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ast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igen verm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la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lottende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Vreemd vermogen (k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ac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taal pas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B47B-E6FA-412C-BFA5-F1CA3159AA62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E99F-2ACA-4B62-B3B7-AC91571DBBF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m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oodwil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Octrooi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Kosten van onderzoek en ontwikkel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ter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bouw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nventaris / machines / gereedschapp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uto’s en computer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anciële vast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andelen in ‘verbonden’ ondernem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4EA5-8183-4B38-AC68-A6FA8AAC692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AD71-81E5-4C89-A013-726E80B708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Vlottende activ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Voorrad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ndstoffen en gereed produ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ndelsvoorraa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ewaardeerd naa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inkoopwaard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of productiekost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biteuren / vorder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quide middel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anktegoed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asgel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8C84-93FD-4A28-B17F-61C8AD3D908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53D9-365C-443F-B441-8C9346C5B48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igen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leg van de eigen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andelenkapitaa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atschappelijk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Geplaats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&gt; 20% v/h maatschappelijk kapita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minaal kapitaal ↔ beurswaar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Volgestort kapitaa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serv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inst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gio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r" pos="847404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rwaarderingsreser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9" name="Picture 43" descr="C:\Program Files\Microsoft Office\Clipart\corpbas\j0078725.wmf"/>
          <p:cNvPicPr/>
          <p:nvPr/>
        </p:nvPicPr>
        <p:blipFill>
          <a:blip r:embed="rId1"/>
          <a:stretch/>
        </p:blipFill>
        <p:spPr>
          <a:xfrm>
            <a:off x="6248520" y="1600200"/>
            <a:ext cx="2701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55F5-2FF8-49EF-ABE3-510384B1EF48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6232-5857-452F-97DE-395AAB959C8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5" descr="C:\Program Files\Microsoft Office\Clipart\standard\stddir1\BD06961_.WMF"/>
          <p:cNvPicPr/>
          <p:nvPr/>
        </p:nvPicPr>
        <p:blipFill>
          <a:blip r:embed="rId1"/>
          <a:stretch/>
        </p:blipFill>
        <p:spPr>
          <a:xfrm>
            <a:off x="7362720" y="4724280"/>
            <a:ext cx="1781280" cy="1738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ang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chtergestelde (a/g)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ante Agaath’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ypothecair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derpan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15-3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Zakelijke len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ooptijd typisch 10 ja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ële lease verplich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6" name="Picture 4" descr="C:\Program Files\Microsoft Office\Clipart\standard\stddir1\BD06959_.WMF"/>
          <p:cNvPicPr/>
          <p:nvPr/>
        </p:nvPicPr>
        <p:blipFill>
          <a:blip r:embed="rId2"/>
          <a:stretch/>
        </p:blipFill>
        <p:spPr>
          <a:xfrm>
            <a:off x="6324480" y="2438280"/>
            <a:ext cx="15512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ijdelijke aanduiding voor datum 3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910F-FE7C-4AEC-B1F6-5E953542D580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ijdelijke aanduiding voor voettekst 4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ijdelijke aanduiding voor dianummer 5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7EA6-E37B-458C-83EB-CA41FFE7EA0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ort vreemd vermoge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kening courant kredie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ood staan bij de ban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diteur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kost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og te betalen belastinge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atum 4"/>
          <p:cNvSpPr/>
          <p:nvPr/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4883-DA57-4346-9B12-5096DE5BCF13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ijdelijke aanduiding voor voettekst 5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enget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ijdelijke aanduiding voor dianummer 6"/>
          <p:cNvSpPr/>
          <p:nvPr/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6DA-C00F-41A6-AE7A-BA1EA08A84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olvabilitei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228600" y="1143000"/>
          <a:ext cx="42670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42670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Zeer hoge waarden bij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tichting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ivé persone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ed lopend bedrijf meestal in het gele gebi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end bedrijf moet boven 20%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14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3bab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bert Oosterom</dc:creator>
  <dc:description/>
  <dc:language>en-US</dc:language>
  <cp:lastModifiedBy>José Kamphuis</cp:lastModifiedBy>
  <dcterms:modified xsi:type="dcterms:W3CDTF">2018-01-07T16:12:21Z</dcterms:modified>
  <cp:revision>14</cp:revision>
  <dc:subject/>
  <dc:title>PowerPoint-presentatie</dc:title>
</cp:coreProperties>
</file>