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516D4-12AA-4A9C-BEEA-9CA65EE42F8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Proces; Alles wat ervoor zorgt dat het aankoopproces zo vloeiend mogelijk verloop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AE280-04D4-4882-979D-30BEC7F65CE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6B76-781D-4A9E-9C1B-D00CDD88A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56B7-F40D-4CF8-877B-1C92633DC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A548-BE9D-47D7-8352-EB51B9F15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7573-77A0-4BA0-BF7E-90F42AC10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34E6C-BA0E-4203-B334-30330C240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038D1-0E16-4FF0-967D-8C1122C21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AED52-9A4C-49B4-ACCE-E87C83C0A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BAFA6-6DB3-4539-A7AB-BC240D614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D1193-3FD4-4B03-A615-E38A1D3FB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E03FC-C823-40BC-A427-2C88BE719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AF51F-B55F-437C-A625-59EA67080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8071-B461-4536-8183-8257030E3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2CC75-8D15-473F-A8AA-15A8A8013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FE8D0-B728-4F42-98AA-A750FF8A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25397-02EA-4B45-9901-35AE34194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35C05-29FE-4D3D-91B6-6B1823738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B7531-C9A6-4087-9545-3AFB56B4C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457E-F8F0-4A9D-9E15-4CE3F2E5F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0E5F-FBB4-4397-AAA1-8EC33F1FC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F880-BF0F-4EF2-8305-154A23E30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3A4F-2834-4AFB-B1DC-553407318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2A9B-119A-4EDA-B3C4-5AFA6A03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82EC-2280-4363-9488-2A6BC926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0D58-2232-41A0-B7D1-CDDA931B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2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3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329EA-3124-47BF-96DA-4D85CE11974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EE359-BB56-403A-88E8-4411E0A1099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usinessbox.nl/stap-6-de-product-markt-combinatie-mainmenu-36.html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eting les 3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612440" y="3860640"/>
            <a:ext cx="6324840" cy="17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l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. Kamphu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OC Oost 20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Onderwerpen van vandaa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ha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novatietheor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 Marktcombina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euwe theorie; Sell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gaven ma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6201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INNOVATIETHEOR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2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1066680" y="836640"/>
            <a:ext cx="7620120" cy="1728720"/>
          </a:xfrm>
          <a:prstGeom prst="rect">
            <a:avLst/>
          </a:prstGeom>
          <a:ln w="0">
            <a:noFill/>
          </a:ln>
        </p:spPr>
      </p:pic>
      <p:sp>
        <p:nvSpPr>
          <p:cNvPr id="103" name="Tekstvak 5"/>
          <p:cNvSpPr/>
          <p:nvPr/>
        </p:nvSpPr>
        <p:spPr>
          <a:xfrm>
            <a:off x="1332000" y="2565360"/>
            <a:ext cx="67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eze beschrijving volgt de verschillende groepen mensen die het product aanscha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kstvak 6"/>
          <p:cNvSpPr/>
          <p:nvPr/>
        </p:nvSpPr>
        <p:spPr>
          <a:xfrm>
            <a:off x="1332000" y="3645000"/>
            <a:ext cx="669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et model is  ook te gebruiken om de volwassenheid van het product uit te drukken; introductie, groei, volwassenheid, verzadiging en terugg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MC’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en PMC is een combinatie van één van je  producten met een doelgro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edere 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product-markt-combinati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gt een eigen marketingstrateg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en PMC-matrix geeft aan welke producten voor welke groepen afnemers interessant zij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eting Mix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8" name="Picture 2" descr="Marketingmix"/>
          <p:cNvPicPr/>
          <p:nvPr/>
        </p:nvPicPr>
        <p:blipFill>
          <a:blip r:embed="rId1"/>
          <a:stretch/>
        </p:blipFill>
        <p:spPr>
          <a:xfrm>
            <a:off x="1476360" y="1620720"/>
            <a:ext cx="4680000" cy="47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Nog 2 P’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Times New Roman"/>
              </a:rPr>
              <a:t>PERSONE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kennis moeten onze werknemers hebb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ver welke vaardigheden moeten onze werknemers beschikk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werkhouding verwachten wij van onze werkneme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 belonen wij ons personee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 sturen wij ons personeel a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waarden en normen vinden wij belangrij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opleidingen bieden wij a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t zijn de carrièremogelijkheden voor ons personee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NOG 2 P’s;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2" name="Tekstvak 2"/>
          <p:cNvSpPr/>
          <p:nvPr/>
        </p:nvSpPr>
        <p:spPr>
          <a:xfrm>
            <a:off x="1187280" y="1916280"/>
            <a:ext cx="7499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PROCES ;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ragen die de ondernemer zich hierbij stel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stappen moet een klanten nemen om een aankoop te do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procedure volgen we als een klant hulp nodig heef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 protocol volgen we als een klant langer moet wacht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nneer verstrekken we tijdig en op de juiste wijze informatie over levertijd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procedure volgen we als een klant ontevreden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ellogram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54864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ermee ontdek je waarop je de nadruk moet leggen in j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omo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787" descr="C:\Documents and Settings\Robbert\Bureaublad\sellogram.bmp"/>
          <p:cNvPicPr/>
          <p:nvPr/>
        </p:nvPicPr>
        <p:blipFill>
          <a:blip r:embed="rId1"/>
          <a:stretch/>
        </p:blipFill>
        <p:spPr>
          <a:xfrm>
            <a:off x="1219320" y="1905120"/>
            <a:ext cx="731520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14:05:46Z</dcterms:created>
  <dc:creator>Robbert Oosterom</dc:creator>
  <dc:description/>
  <dc:language>en-US</dc:language>
  <cp:lastModifiedBy>José Kamphuis</cp:lastModifiedBy>
  <dcterms:modified xsi:type="dcterms:W3CDTF">2018-01-25T07:55:46Z</dcterms:modified>
  <cp:revision>47</cp:revision>
  <dc:subject/>
  <dc:title>Marketing les 1</dc:title>
</cp:coreProperties>
</file>