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31DB-653D-4EAC-9688-74DB4E9F29B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3DB7-0CF3-4B00-A888-A9B5C80C7D5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B50C-268C-4EBB-BF06-8343D8D7C7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19D-FB90-443E-AF52-A2DADB46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BDF-4A66-41F3-86CE-832BD87D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BF6-DBF0-4F68-81C2-5BC43CA8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E20-6ADB-4DDB-B1CB-58D3D894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4602-5AB8-493F-8F13-64D515C8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3752-3700-45B4-81B7-535F64D4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0AA7-1094-493F-86D2-21D9E0B8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5584-7A69-410D-B1BD-292A057D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6891-B0EA-4232-8B71-B06CF80F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50B2-73C5-445D-B8DE-88FA3D28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4815-194E-433A-9301-B15CB9D3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D08-1B20-429D-87AF-C2758165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F3D7-6169-417E-927B-6ECB2780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9DB3-C4D3-4505-8D6D-5EDF1AB8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026B-6877-405B-BDFF-821EF039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1D35-1708-4DB2-A510-464D99E1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CA63-503E-4DE4-92D0-6300FC37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FD9-6947-4E2E-9541-5C9EB850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16F-98AC-4754-A37E-58355A09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A25-82EC-4412-AD88-A5932355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659-AB23-42B6-99E9-4B062001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89C-2165-4C00-9290-0101B27A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9B5-05B5-40D1-8973-FD44016E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68D-CF68-4F3C-A491-E20CD390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\\dgorbet\c\WINDOWS\Desktop\Sprite 10.jpg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12B1-5676-43F3-8001-0C650FA7E45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2BBE-F133-45FD-8F82-3A40F045865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\\dgorbet\c\WINDOWS\Desktop\Sprite 10.jpg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C00D-1E67-400A-A1FF-C147B1E6F15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8BF2-4EDC-4FBF-8732-5DB5EF81204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CFB4-02CE-4BB6-B63C-33985509664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BDC8-3810-4D6A-870D-B63927A66B6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B25C-6791-46C6-89B8-5A5522BD6E4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5734-27CE-43A5-8C88-4DB65C06B2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NG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KORT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E300-55C2-4E45-A2A9-F89702D7F94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551C-28C5-41AE-A32B-1A32B9EC873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267080" y="3733920"/>
            <a:ext cx="4876920" cy="10666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ff330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–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/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Vla – 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1523880"/>
          <a:ext cx="4267080" cy="36846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Kort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8C47-E8EE-48D3-B7C5-D7E9510DEEF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0A5-8B7F-4F0B-8626-F9FBC07B1D5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427640" y="1523880"/>
            <a:ext cx="4335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sen kenget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s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B2E9-698B-4EFC-A27C-16A5702AD07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8FC0-D538-4AB2-9A99-2BD099E99B4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deling van een ba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 =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 / TV * 10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523880"/>
          <a:ext cx="4267080" cy="38880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la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k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6077-732A-45E7-B414-CC8BA936C6B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FFB5-76EA-41DA-B890-1E21BED5BA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wil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rooi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osten van onderzoek en ontwikkel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bouw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entaris / machines / gereedschapp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’s en comput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anc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ndelen in ‘verbonden’ ondernem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1759-E330-4770-B447-5A9B48F02C1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C0D6-A4CA-44E5-A713-9296AF29D03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rad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ndstoffen en gereed 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ndels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 na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of productie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biteuren / vorder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nktegoed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sge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F200-58F5-4E8F-9414-E33B9C089A9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ADD2-2F0C-4B89-A44A-7ECAEA4FC01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igen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leg van de eigen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andelenkapita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atschappelijk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plaats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&gt; 20% v/h maatschappelijk kapita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minaal kapitaal ↔ beurswaar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lgestor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er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st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io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waarderings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43" descr="C:\Program Files\Microsoft Office\Clipart\corpbas\j0078725.wmf"/>
          <p:cNvPicPr/>
          <p:nvPr/>
        </p:nvPicPr>
        <p:blipFill>
          <a:blip r:embed="rId1"/>
          <a:stretch/>
        </p:blipFill>
        <p:spPr>
          <a:xfrm>
            <a:off x="6248520" y="1600200"/>
            <a:ext cx="2701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F462-8FEE-4005-B3E9-9EBFE93B980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6C93-ECD6-4734-8B37-C0634401815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Program Files\Microsoft Office\Clipart\standard\stddir1\BD06961_.WMF"/>
          <p:cNvPicPr/>
          <p:nvPr/>
        </p:nvPicPr>
        <p:blipFill>
          <a:blip r:embed="rId1"/>
          <a:stretch/>
        </p:blipFill>
        <p:spPr>
          <a:xfrm>
            <a:off x="7362720" y="4724280"/>
            <a:ext cx="1781280" cy="1738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htergestelde (a/g)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nte Agaath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ypothecair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pa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15-3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Zakelijk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typisch 1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ële lease verplich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4" descr="C:\Program Files\Microsoft Office\Clipart\standard\stddir1\BD06959_.WMF"/>
          <p:cNvPicPr/>
          <p:nvPr/>
        </p:nvPicPr>
        <p:blipFill>
          <a:blip r:embed="rId2"/>
          <a:stretch/>
        </p:blipFill>
        <p:spPr>
          <a:xfrm>
            <a:off x="6324480" y="2438280"/>
            <a:ext cx="1551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2E8D-8618-4585-99BA-A023EDE0A33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D8A0-3C18-48DC-BDB5-158C4168796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kening courant kredi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od staan bij de ban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d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belas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F6EB-B011-4482-8411-19A5127A69C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95E6-CBFA-4F5E-93A8-F6716FCB944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228600" y="114300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er hoge waarden bij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cht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é person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ed lopend bedrijf meestal in het gele gebi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end bedrijf moet boven 2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2:21Z</dcterms:modified>
  <cp:revision>14</cp:revision>
  <dc:subject/>
  <dc:title>PowerPoint-presentatie</dc:title>
</cp:coreProperties>
</file>