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27D-2341-4E1D-B888-1407E673FD5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C0DA-9010-4B2B-9BE7-8201BAD59F3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FB9-62FC-44E4-9D14-D066FE85E0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49C-C677-4357-9EDA-DE286F51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DC0-3EBE-426C-8578-9939393C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507-7C01-4787-A377-5C92FE93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4D1-3F79-4B17-84A3-CC7F05F0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8051-E91E-426E-8939-C70493E0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270A-6895-491A-A816-EE837F59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3997-D94D-413A-A308-ED9B8C00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3E03-660D-4798-ADA8-AC6BA13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F2BD-A04D-401C-AF83-37376BCC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10B8-A9DD-4D10-91ED-2848C504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6A36-9B5F-4733-93D9-BA3664F3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576-0CDC-437C-9DFC-61F1B3B1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7384-9163-4400-A374-BA350F38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511D-AEDE-4CCA-BE0D-CBCA0016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DA2D-8AA1-496F-988A-892DB968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2BBE2-2A6A-40C6-86CB-A883EE1B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094D-5758-4253-B932-72AC1312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38D-F960-44B6-9194-DBE166DD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7DA8-DBDD-4828-BF9D-DFC56DFD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AE8-C85C-4487-8D5A-7B2AFD54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BDB-D082-4D3C-9258-46C9C330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160-846A-4F45-9889-57230659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C2D-305C-4E2A-A5AB-9EBC7CED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D15-B714-468F-A52D-947CDD4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0A72-ADE2-4725-9D7A-39BD49C46FB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EF54-97D1-44E6-81BB-970A91E8171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5EF9-448D-492A-86A0-16EE4257F1C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1696-E54A-429D-8823-9ED47AF22C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0F0F-738A-421F-8F6E-14D6B5D040B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0C1A-1683-4F68-9DB6-D672E78721D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1FFE-F96A-4D26-ABC2-FFACC35099AC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79C7-06D5-40D7-94E9-578679C15EF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6E1F-BB37-493C-AE3C-E90D6A82E71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AFDE-B132-4C9A-9732-5EAAB69378E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is de omloopsnelhei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is belangrijk dat de voorraad niet te lang blijft lig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gemiddelde magazijntijd wordt weergegeven in de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omloopsnelheid geeft aan hoe vaak de voorraad verkocht wordt per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Picture 9" descr="Aanvoer bloemen vanaf Schiphol"/>
          <p:cNvPicPr/>
          <p:nvPr/>
        </p:nvPicPr>
        <p:blipFill>
          <a:blip r:embed="rId1"/>
          <a:srcRect l="0" t="0" r="3704" b="0"/>
          <a:stretch/>
        </p:blipFill>
        <p:spPr>
          <a:xfrm>
            <a:off x="457200" y="4800600"/>
            <a:ext cx="1981080" cy="1336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0"/>
          <p:cNvSpPr/>
          <p:nvPr/>
        </p:nvSpPr>
        <p:spPr>
          <a:xfrm>
            <a:off x="2590920" y="5105520"/>
            <a:ext cx="990360" cy="685800"/>
          </a:xfrm>
          <a:prstGeom prst="rightArrow">
            <a:avLst>
              <a:gd name="adj1" fmla="val 50000"/>
              <a:gd name="adj2" fmla="val 36102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7" descr="http://www.c1000peterderijke.nl/upload/256903505.jpg"/>
          <p:cNvPicPr/>
          <p:nvPr/>
        </p:nvPicPr>
        <p:blipFill>
          <a:blip r:embed="rId2"/>
          <a:stretch/>
        </p:blipFill>
        <p:spPr>
          <a:xfrm>
            <a:off x="3733920" y="4724280"/>
            <a:ext cx="2209680" cy="14716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2"/>
          <p:cNvSpPr/>
          <p:nvPr/>
        </p:nvSpPr>
        <p:spPr>
          <a:xfrm>
            <a:off x="6095880" y="51055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au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" descr="http://tbn0.google.com/images?q=tbn:NCe4YR3gRdzVeM:http://bp3.blogger.com/_Qu_eMn_Ud88/RdrTp6Q4D2I/AAAAAAAAAdY/YS98g0qDlEw/s320/bloemenderuijterstraat.gif"/>
          <p:cNvPicPr/>
          <p:nvPr/>
        </p:nvPicPr>
        <p:blipFill>
          <a:blip r:embed="rId3"/>
          <a:stretch/>
        </p:blipFill>
        <p:spPr>
          <a:xfrm>
            <a:off x="7238880" y="4724280"/>
            <a:ext cx="1128960" cy="15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EB11-5A84-4F25-A163-1A6C1A816D9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D2AF-B313-4585-ACC4-DCAE4140A20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2438280"/>
          <a:ext cx="8534160" cy="1195560"/>
        </p:xfrm>
        <a:graphic>
          <a:graphicData uri="http://schemas.openxmlformats.org/drawingml/2006/table">
            <a:tbl>
              <a:tblPr/>
              <a:tblGrid>
                <a:gridCol w="3962160"/>
                <a:gridCol w="4343400"/>
                <a:gridCol w="228600"/>
              </a:tblGrid>
              <a:tr h="518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e voorra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371600" y="4572000"/>
          <a:ext cx="6808680" cy="1195560"/>
        </p:xfrm>
        <a:graphic>
          <a:graphicData uri="http://schemas.openxmlformats.org/drawingml/2006/table">
            <a:tbl>
              <a:tblPr/>
              <a:tblGrid>
                <a:gridCol w="2967120"/>
                <a:gridCol w="3623040"/>
                <a:gridCol w="218880"/>
              </a:tblGrid>
              <a:tr h="5184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duur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loopsnelhe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24" name="Group 51"/>
          <p:cNvGrpSpPr/>
          <p:nvPr/>
        </p:nvGrpSpPr>
        <p:grpSpPr>
          <a:xfrm>
            <a:off x="2513520" y="1600200"/>
            <a:ext cx="2820600" cy="838080"/>
            <a:chOff x="2513520" y="1600200"/>
            <a:chExt cx="2820600" cy="838080"/>
          </a:xfrm>
        </p:grpSpPr>
        <p:sp>
          <p:nvSpPr>
            <p:cNvPr id="125" name="Line 47"/>
            <p:cNvSpPr/>
            <p:nvPr/>
          </p:nvSpPr>
          <p:spPr>
            <a:xfrm>
              <a:off x="4800600" y="2057400"/>
              <a:ext cx="533520" cy="3808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48"/>
            <p:cNvSpPr/>
            <p:nvPr/>
          </p:nvSpPr>
          <p:spPr>
            <a:xfrm>
              <a:off x="2513520" y="1600200"/>
              <a:ext cx="233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W&amp;V-reke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52"/>
          <p:cNvGrpSpPr/>
          <p:nvPr/>
        </p:nvGrpSpPr>
        <p:grpSpPr>
          <a:xfrm>
            <a:off x="3505320" y="3505320"/>
            <a:ext cx="1752480" cy="703440"/>
            <a:chOff x="3505320" y="3505320"/>
            <a:chExt cx="1752480" cy="703440"/>
          </a:xfrm>
        </p:grpSpPr>
        <p:sp>
          <p:nvSpPr>
            <p:cNvPr id="128" name="Text Box 49"/>
            <p:cNvSpPr/>
            <p:nvPr/>
          </p:nvSpPr>
          <p:spPr>
            <a:xfrm>
              <a:off x="3505320" y="3809880"/>
              <a:ext cx="139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Uit bal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V="1">
              <a:off x="4648320" y="35053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53"/>
          <p:cNvGrpSpPr/>
          <p:nvPr/>
        </p:nvGrpSpPr>
        <p:grpSpPr>
          <a:xfrm>
            <a:off x="534600" y="5334120"/>
            <a:ext cx="1751400" cy="703440"/>
            <a:chOff x="534600" y="5334120"/>
            <a:chExt cx="1751400" cy="703440"/>
          </a:xfrm>
        </p:grpSpPr>
        <p:sp>
          <p:nvSpPr>
            <p:cNvPr id="131" name="Text Box 54"/>
            <p:cNvSpPr/>
            <p:nvPr/>
          </p:nvSpPr>
          <p:spPr>
            <a:xfrm>
              <a:off x="534600" y="5638680"/>
              <a:ext cx="122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 dag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55"/>
            <p:cNvSpPr/>
            <p:nvPr/>
          </p:nvSpPr>
          <p:spPr>
            <a:xfrm flipV="1">
              <a:off x="1676520" y="5334120"/>
              <a:ext cx="609480" cy="3045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7ED9-70CF-4D4F-8827-86970EF4250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9F41-8F02-45CE-9F5C-2F56B6D51F1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Gemiddelde bedrag dat uitstaat bij de deb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het gemiddelde van heel veel momentopnam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Debiteuren kosten geld, omdat je ze moet voorfinancie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Tegenover debiteuren staat een lening in de balans → kost ren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1931-C15A-408C-8F26-97F98A9E05B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9EB0-D406-4054-BCED-6D93B27177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middelde debiteurensald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Omzet kan op 2 manieren betaald worden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à contan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direct op liquide middel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p krediet </a:t>
            </a:r>
            <a:r>
              <a:rPr b="0" lang="en-US" sz="2000" spc="-1" strike="noStrike">
                <a:solidFill>
                  <a:srgbClr val="ccccff"/>
                </a:solidFill>
                <a:latin typeface="Arial Black"/>
              </a:rPr>
              <a:t>(boek je op debiteuren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ebiteurensaldo ≈ debiteuren </a:t>
            </a: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 kredietduur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agelijkse omzet op krediet  x 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aantal dagen dat de factuur open staa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DS = DOOK  x 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gem. DS = gem. DOOK  x  gem. t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8600" y="4800600"/>
          <a:ext cx="8915400" cy="1195560"/>
        </p:xfrm>
        <a:graphic>
          <a:graphicData uri="http://schemas.openxmlformats.org/drawingml/2006/table">
            <a:tbl>
              <a:tblPr/>
              <a:tblGrid>
                <a:gridCol w="1103400"/>
                <a:gridCol w="3773520"/>
                <a:gridCol w="403848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S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Jaaromzet op kre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gemidd. kredietdu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65 dag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2B7D-6743-4024-918D-D0EFBDA634D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FDE4-7B30-4C66-9C2F-F3B94672E8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ef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het gemiddelde debiteurensaldo als een bedrijf jaarlijks € 75.000,- omzet op krediet heeft en de gemiddelde krediettermijn 25 dagen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ereken de omloopsnelheid als een bedrijf aan inkoop jaarlijks € 600.000,- uitgeeft en de gemiddelde waarde van de voorraad € 50.000,- bedraag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betekenen de getallen die je hebt uitgerekend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CAB3-B4A3-4923-9A5C-B8BD40999FE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4252-45E6-41ED-8BE4-91CF1E11F8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amenvatting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3526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190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Balan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08576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190440" indent="-19044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33560" y="1447920"/>
            <a:ext cx="518148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kengetal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Brutowinst als % v/d omzet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ettowinst als % v/d omze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Arial Black"/>
              </a:rPr>
              <a:t>W&amp;V + extra gegeve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per week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mzet per werknemer p.j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biteurensaldo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219320" y="4800600"/>
            <a:ext cx="67053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cc"/>
                </a:solidFill>
                <a:latin typeface="Arial Black"/>
              </a:rPr>
              <a:t>Kengetallen o.b.v. Balans + W&amp;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EV en T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mloopsnelheid en omzetdu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9:55Z</dcterms:modified>
  <cp:revision>20</cp:revision>
  <dc:subject/>
  <dc:title>PowerPoint-presentatie</dc:title>
</cp:coreProperties>
</file>