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053A-1A52-4A01-BCC5-9EEA84B0E17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0DD8-46B9-4693-803D-C4B50E0A19F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0206-BAD4-467F-BA4F-136CFF264D3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B9C8-5D3D-46FB-99E8-4918F1CEFDD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2764-FA31-4B21-97F7-492C11FB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D21-B4D5-470C-AEA1-DF94EA8A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A83F-98F5-4321-9811-2680C91C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621-208F-413E-9982-69541EC7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64DC-FA61-4A84-AE14-52E18171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91DA-9C54-4822-BA9A-BE10F117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E627-76BA-475D-BF63-C687AAC4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4D16-E774-4B86-AA89-578D1B77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E22C-61C2-4A5C-BC31-C5706417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E70A-F1D6-41DE-8B7A-BB03BF58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CE02-5300-408F-97B7-3B86E49A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B11-2F9D-40EE-9AF8-26250202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049D-231F-47A7-B4C5-6ABA2911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3552-3162-42DB-A6A9-E6C52ACB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ACAC-AAA6-4A8A-9061-5997BE1F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A002-41F2-46E2-859A-32E43E1F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37B3-40FB-4906-B1B2-1D6A1DFB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FA0-374F-4429-8FC1-7CFF546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010-E08A-4A5E-9712-84116941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581-9C37-44EB-AA1A-E6023864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5A4-79A8-427C-AE56-0CBBD3C6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F9E-64C8-4AC3-9735-8FC5F92B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9F8C-4E25-4C3E-ADC4-13B4A6BA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D91-94CF-46FA-BFBE-96F75C40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AFDA-D5A4-4AED-8E20-5BC3F15F14D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F12-DD1C-40B4-91AD-75FDF64180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joule4jou.blogspot.com/2015/03/quest-3-swot-met-verwerking-van-feedback.html" TargetMode="External"/><Relationship Id="rId2" Type="http://schemas.openxmlformats.org/officeDocument/2006/relationships/hyperlink" Target="https://creativecommons.org/licenses/by-sa/4.0/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les 3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324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Kamphu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r" pos="6191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OC –Oost 20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ramide van Maslow (19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Maslow 2"/>
          <p:cNvPicPr/>
          <p:nvPr/>
        </p:nvPicPr>
        <p:blipFill>
          <a:blip r:embed="rId1"/>
          <a:stretch/>
        </p:blipFill>
        <p:spPr>
          <a:xfrm>
            <a:off x="4800600" y="3124080"/>
            <a:ext cx="3886200" cy="3362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258920" y="2637000"/>
            <a:ext cx="502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Zelfverwerkelij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choonhe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Kennis en beg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Waard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Liefde en genegen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eilig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81160"/>
                <a:tab algn="l" pos="574560"/>
                <a:tab algn="l" pos="853920"/>
                <a:tab algn="l" pos="1147680"/>
                <a:tab algn="l" pos="1428840"/>
                <a:tab algn="l" pos="1709640"/>
                <a:tab algn="l" pos="2003400"/>
                <a:tab algn="l" pos="228276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Primaire levensbehoef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ensen begrijp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sen hebben meer wensen dan behoef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uit de behoefte aan afwisseling, wensen mensen verschillende manieren om basisbehoeften te bevred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ze wensen zijn onbeperkt: dat biedt marketeers veel ruimte voor creativite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ehoeften vs. Wens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in een behoefte niet wordt voorzie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k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efdesverdri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derwaardigheids-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 aan een wens niet kan worden voldaan, ontstaat e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ere we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 is geen patat, dus wil ik een loempia, en als die er ook niet is, wil ik een boterham, en als die er ook niet 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 flipV="1">
            <a:off x="2971440" y="4114440"/>
            <a:ext cx="2514600" cy="762120"/>
          </a:xfrm>
          <a:prstGeom prst="line">
            <a:avLst/>
          </a:prstGeom>
          <a:ln w="76320">
            <a:solidFill>
              <a:srgbClr val="a1bd6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EISEN VAN EEN GOEDE MARKETINGSTRATEGI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Tekstvak 2"/>
          <p:cNvSpPr/>
          <p:nvPr/>
        </p:nvSpPr>
        <p:spPr>
          <a:xfrm>
            <a:off x="1109520" y="170028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rie eise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heldere keuze heb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ositie neem je in op je mar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een goede aansluiting hebben op de omgevingssituatie en de omgevingsontwikkel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snel gaan de ontwikkelingen op in je markt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hoe flexibel moet je zij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De strategie moet positief worden ontvangen door de belangrijkste steak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TAKEHOLDER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Tekstvak 2"/>
          <p:cNvSpPr/>
          <p:nvPr/>
        </p:nvSpPr>
        <p:spPr>
          <a:xfrm>
            <a:off x="1476360" y="2133720"/>
            <a:ext cx="7210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akeholders zijn díe partijen die direct dan wel indirect de activiteiten van een organisatie kunnen beïnvloeden of er door beïnvloed wor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xterne stakehold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inanc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h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f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De 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WOT staat voor Strengths, Weaknesses, Opportunities en Threa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gewoon Nederlands: sterkten, zwakten, kansen en bedreigingen onderzoek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Matr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Picture 2" descr="SWOT analyse"/>
          <p:cNvPicPr/>
          <p:nvPr/>
        </p:nvPicPr>
        <p:blipFill>
          <a:blip r:embed="rId1"/>
          <a:stretch/>
        </p:blipFill>
        <p:spPr>
          <a:xfrm>
            <a:off x="1332000" y="1773360"/>
            <a:ext cx="69850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22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 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1066680" y="1523880"/>
            <a:ext cx="789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IN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direct invloed op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ster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oede prijs, niet te duur tov de concurren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oorloper op ICT 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el productinnov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zwak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Geen goede loc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egatief im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lechte klachtenafhan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451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SWOT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Tekstvak 2"/>
          <p:cNvSpPr/>
          <p:nvPr/>
        </p:nvSpPr>
        <p:spPr>
          <a:xfrm>
            <a:off x="1187280" y="1628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EXTERNE ANALY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eb je geen directe invloed op; de kansen en bedreigingen voor de hele markt en bran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kans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blemen bij de con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raag naar specialistische diens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 economie gro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je bedreigi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emografische verand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delige verandering in de wet- en regelge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inig vertrouwen in de br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Afbeeldingsresultaat voor ing"/>
          <p:cNvPicPr/>
          <p:nvPr/>
        </p:nvPicPr>
        <p:blipFill>
          <a:blip r:embed="rId1"/>
          <a:stretch/>
        </p:blipFill>
        <p:spPr>
          <a:xfrm>
            <a:off x="5292720" y="189000"/>
            <a:ext cx="3672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Tekstvak 2"/>
          <p:cNvSpPr/>
          <p:nvPr/>
        </p:nvSpPr>
        <p:spPr>
          <a:xfrm>
            <a:off x="1066680" y="1700280"/>
            <a:ext cx="7826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Times New Roman"/>
              </a:rPr>
              <a:t>Je sluit de SWOT-Analyse af met een conclusi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denk je met behulp van deze gegevens een plekje in de markt te kunnen verove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Wat kun je aan het eind van dez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76000" y="1773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weet wat een PMC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marketingmix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ent de eisen van een goede marketingstrate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beschrij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Je kan de SWOT-Analyse toep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Tekstvak 2"/>
          <p:cNvSpPr/>
          <p:nvPr/>
        </p:nvSpPr>
        <p:spPr>
          <a:xfrm>
            <a:off x="1066680" y="1989000"/>
            <a:ext cx="7392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dracht 3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welke behoefte wordt voorzien met het product dat je in je opdracht hebt gebruik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ar staat het product in de behoeftenpiramide van Masl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oor welk product kan de wens naar jouw product worden vervan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aak een SWOT-Analyse van jouw product (kan dus je stagebedrijf zij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Volgende les;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Tekstvak 2"/>
          <p:cNvSpPr/>
          <p:nvPr/>
        </p:nvSpPr>
        <p:spPr>
          <a:xfrm>
            <a:off x="1258920" y="1893960"/>
            <a:ext cx="742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OOPGEDRAG EN MARKTAAND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RODUCT-LEVENS-CYC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Boston-Analys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Tekstvak 5"/>
          <p:cNvSpPr/>
          <p:nvPr/>
        </p:nvSpPr>
        <p:spPr>
          <a:xfrm>
            <a:off x="1692360" y="5867280"/>
            <a:ext cx="640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Deze foto</a:t>
            </a: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 van Onbekende auteur is gelicentieerd onder </a:t>
            </a:r>
            <a:r>
              <a:rPr b="0" lang="nl-NL" sz="9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CC BY-S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gtwebmarque.com/wikis/gtwm/images/9/9d/Boston_Matrix.gif"/>
          <p:cNvPicPr/>
          <p:nvPr/>
        </p:nvPicPr>
        <p:blipFill>
          <a:blip r:embed="rId3"/>
          <a:stretch/>
        </p:blipFill>
        <p:spPr>
          <a:xfrm>
            <a:off x="1258920" y="1401840"/>
            <a:ext cx="6985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Herhaling van vorige 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doelgroep is een min of meer homogene klanten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wordt zo nauw mogelijk omschreven aan de hand van 5 specifieke kenmerk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graf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al-economi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opgedr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ije tij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5410080" y="3962520"/>
            <a:ext cx="2514600" cy="1904760"/>
          </a:xfrm>
          <a:prstGeom prst="leftArrowCallout">
            <a:avLst>
              <a:gd name="adj1" fmla="val 25002"/>
              <a:gd name="adj2" fmla="val 25000"/>
              <a:gd name="adj3" fmla="val 22003"/>
              <a:gd name="adj4" fmla="val 6667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schrij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ij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ze 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m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MC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26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PMC (Product-Markt-Combinatie) is een combinatie van één van je producten met een doelgro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or iedere PMC stel je een apart marketingplan 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Afbeeldingsresultaat voor kok die kookt"/>
          <p:cNvPicPr/>
          <p:nvPr/>
        </p:nvPicPr>
        <p:blipFill>
          <a:blip r:embed="rId1"/>
          <a:stretch/>
        </p:blipFill>
        <p:spPr>
          <a:xfrm>
            <a:off x="4876920" y="4149720"/>
            <a:ext cx="299376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rketing Mix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5486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van McCarthy: de 4 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j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ats / Distribu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e extra P’s, zo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arketingmix 4 P's"/>
          <p:cNvPicPr/>
          <p:nvPr/>
        </p:nvPicPr>
        <p:blipFill>
          <a:blip r:embed="rId1"/>
          <a:stretch/>
        </p:blipFill>
        <p:spPr>
          <a:xfrm>
            <a:off x="1042920" y="450720"/>
            <a:ext cx="77058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21304"/>
                </a:solidFill>
                <a:latin typeface="Times New Roman"/>
              </a:rPr>
              <a:t>NOG 2 P’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Tekstvak 2"/>
          <p:cNvSpPr/>
          <p:nvPr/>
        </p:nvSpPr>
        <p:spPr>
          <a:xfrm>
            <a:off x="1187280" y="1773360"/>
            <a:ext cx="71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ERSONE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kennis moet het personeel hebb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 belonen wij ons persone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at zijn de carrièremogelijkhed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Times New Roman"/>
              </a:rPr>
              <a:t>PRO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stappen moet een klant doen om ons product te verkrij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procedure volgen we als de klant niet tevreden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Welke levertijden hebben we en wanneer communiceren we dit met de kl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pdracht; Maak een Marketing Mix voor Ike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1660680" y="1778040"/>
          <a:ext cx="643068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778040"/>
                    <a:ext cx="6430680" cy="41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sisstrategie van Market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w toekomst hangt af van hoe goed je de wensen en behoeften van de klant begrijp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langrijkste strategische taa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om goed na te denken over wat klanten nodig hebben en wat ze wens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5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denk een product of dienst waar klanten graag voor willen bet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1bd6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4:05:46Z</dcterms:created>
  <dc:creator>Robbert Oosterom</dc:creator>
  <dc:description/>
  <dc:language>en-US</dc:language>
  <cp:lastModifiedBy>José Kamphuis</cp:lastModifiedBy>
  <dcterms:modified xsi:type="dcterms:W3CDTF">2017-11-12T21:09:46Z</dcterms:modified>
  <cp:revision>39</cp:revision>
  <dc:subject/>
  <dc:title>Marketing les 1</dc:title>
</cp:coreProperties>
</file>