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3BE-87DC-4742-8E1E-DB463FC9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D59-8B01-43F6-8C0A-8D37BC7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8DA-C6BE-4DD9-A802-315E0F1B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864-F7A2-4967-BA96-06E065F0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BC9-2340-49D5-B654-5C807BB7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3A5-89A0-4A21-97A7-CE377DE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625-299D-49E4-8F36-F7B9DE2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267-9178-4B25-B502-A8E2943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CE1-30FB-48DA-A7F6-34E08CE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24D-2C21-4596-A701-DDD6C53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AFF-8E7A-4B48-B65E-48ACD4E8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203-D669-4F96-98D5-E50AA49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BBE8-D37D-4ED5-9186-115CCFE96B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7640" y="2565000"/>
            <a:ext cx="7344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Pitch ontwerp Metaal</a:t>
            </a: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06160" y="3213000"/>
            <a:ext cx="6048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000000"/>
                </a:solidFill>
                <a:latin typeface="Arial"/>
              </a:rPr>
              <a:t>Gjalt Nieuwenhu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022-03-29 20-10-02-89" descr=""/>
          <p:cNvPicPr/>
          <p:nvPr/>
        </p:nvPicPr>
        <p:blipFill>
          <a:blip r:embed="rId1"/>
          <a:stretch/>
        </p:blipFill>
        <p:spPr>
          <a:xfrm>
            <a:off x="57240" y="44280"/>
            <a:ext cx="8978760" cy="67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7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022-03-29 20-29-53-19" descr=""/>
          <p:cNvPicPr/>
          <p:nvPr/>
        </p:nvPicPr>
        <p:blipFill>
          <a:blip r:embed="rId1"/>
          <a:stretch/>
        </p:blipFill>
        <p:spPr>
          <a:xfrm>
            <a:off x="34920" y="0"/>
            <a:ext cx="92296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89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em/doel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354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ulti)functioneel item voor in de fitness op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2" descr=""/>
          <p:cNvPicPr/>
          <p:nvPr/>
        </p:nvPicPr>
        <p:blipFill>
          <a:blip r:embed="rId1"/>
          <a:stretch/>
        </p:blipFill>
        <p:spPr>
          <a:xfrm>
            <a:off x="2106720" y="0"/>
            <a:ext cx="493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fbeelding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fbeelding 5" descr="Afbeelding met statief&#10;&#10;Automatisch gegenereerde beschrijvin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4" descr="Afbeelding met lucht, licht, schaal, apparaat&#10;&#10;Automatisch gegenereerde beschrijving"/>
          <p:cNvPicPr/>
          <p:nvPr/>
        </p:nvPicPr>
        <p:blipFill>
          <a:blip r:embed="rId1"/>
          <a:stretch/>
        </p:blipFill>
        <p:spPr>
          <a:xfrm>
            <a:off x="2300400" y="1600200"/>
            <a:ext cx="454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4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itness toestel - diy projects"/>
          <p:cNvPicPr/>
          <p:nvPr/>
        </p:nvPicPr>
        <p:blipFill>
          <a:blip r:embed="rId1"/>
          <a:stretch/>
        </p:blipFill>
        <p:spPr>
          <a:xfrm>
            <a:off x="2700360" y="538200"/>
            <a:ext cx="446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4" descr="Afbeelding met binnen, vloer, hout&#10;&#10;Automatisch gegenereerde beschrijving"/>
          <p:cNvPicPr/>
          <p:nvPr/>
        </p:nvPicPr>
        <p:blipFill>
          <a:blip r:embed="rId1"/>
          <a:stretch/>
        </p:blipFill>
        <p:spPr>
          <a:xfrm>
            <a:off x="2556000" y="833400"/>
            <a:ext cx="3456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ieuwenhuis, Gjalt</cp:lastModifiedBy>
  <dcterms:modified xsi:type="dcterms:W3CDTF">2022-03-29T18:32:01Z</dcterms:modified>
  <cp:revision>547</cp:revision>
  <dc:subject/>
  <dc:title>Diapositiva 1</dc:title>
</cp:coreProperties>
</file>