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wmf" ContentType="image/x-wmf"/>
  <Override PartName="/ppt/media/image5.jpeg" ContentType="image/jpeg"/>
  <Override PartName="/ppt/media/image10.jpeg" ContentType="image/jpeg"/>
  <Override PartName="/ppt/media/image1.jpeg" ContentType="image/jpeg"/>
  <Override PartName="/ppt/media/image2.jpeg" ContentType="image/jpeg"/>
  <Override PartName="/ppt/media/image3.jpeg" ContentType="image/jpeg"/>
  <Override PartName="/ppt/media/image6.jpeg" ContentType="image/jpe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2" name="PlaceHolder 2"/>
          <p:cNvSpPr>
            <a:spLocks noGrp="1"/>
          </p:cNvSpPr>
          <p:nvPr>
            <p:ph type="dt" idx="10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18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85" name="PlaceHolder 5"/>
          <p:cNvSpPr>
            <a:spLocks noGrp="1"/>
          </p:cNvSpPr>
          <p:nvPr>
            <p:ph type="ftr" idx="11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6" name="PlaceHolder 6"/>
          <p:cNvSpPr>
            <a:spLocks noGrp="1"/>
          </p:cNvSpPr>
          <p:nvPr>
            <p:ph type="sldNum" idx="11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7079-966F-4EA2-8007-368C3CD485C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A0D2-930D-48AF-B260-ECC46333B0F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1606-1C4C-46E2-951D-2CF59DC7669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3" name="PlaceHolder 1"/>
          <p:cNvSpPr>
            <a:spLocks noGrp="1"/>
          </p:cNvSpPr>
          <p:nvPr>
            <p:ph type="sldImg"/>
          </p:nvPr>
        </p:nvSpPr>
        <p:spPr>
          <a:xfrm>
            <a:off x="1143000" y="685800"/>
            <a:ext cx="4572000" cy="3429000"/>
          </a:xfrm>
          <a:prstGeom prst="rect">
            <a:avLst/>
          </a:prstGeom>
          <a:ln w="0">
            <a:noFill/>
          </a:ln>
        </p:spPr>
      </p:sp>
      <p:sp>
        <p:nvSpPr>
          <p:cNvPr id="19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99CB-A7A8-45F3-9359-EFDC453E34E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B80F-6DF3-4D38-839C-CB924E86C88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3EEA5-A077-400D-A9B8-13E29A307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CD6C2-1B47-40FC-9B5F-A3165072C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2E3BB0-83F1-4864-8EB3-601BF04D08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BBD2F6-05A7-4BE5-8FA2-4397FA1C00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93AF9C-7607-424A-8FCB-4C95C10576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43749-D863-452F-B23F-F2A8C497BE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DA4830-148A-4E1B-ADFF-A7F8BD1997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71FE7-0F49-4DE6-82D8-18DFD59D7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2730D3-71AE-45BD-87E9-458E6D6F58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45FE43-A04D-4A3F-8585-713262EB65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9E3CA8-8449-419D-B702-632C919F2D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8ACE9D-A5B0-4686-A549-F8E22E6D89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D5B82-3737-479C-BAAE-49CAE5178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DA09CC-4501-4BA4-9998-2CC53ADD7B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B13A1E-7443-400B-8D64-A5315D47E4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727BB4-BB29-4C96-A20B-132860C155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896020-BA81-4526-818D-F733E73875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5CCCAC-3F33-4DA8-A3F3-B6AF048584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0D16C7-6ECE-45A4-8C4C-75E152BC5B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85F18F-2652-48CA-892D-3A41989440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E5A649-5827-44EF-A0C9-0FECC34A6C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E90DB6-E50F-4A98-BDE1-E84E793BC4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C58E65-6980-41F3-95F4-619069BA15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351CA-5965-4433-BF53-BEABF0BEB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B4298D-1FB7-4F57-A054-7CF81679CC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449F65-652A-4AFA-915F-679BB784D0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C2E7A4-F8E5-46BA-B54A-ACD93663C9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DB4C47-F492-48ED-90F9-A1E452310E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B5C4E0-624F-4515-82DF-F19056F89F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43AA79-B693-441C-95F1-40723ED0F0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92B252-CAAA-435F-A618-67F646F0DE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296608-5808-4014-BFE3-FC50C712C7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11DD1B-3869-4CEA-B41B-DADC52310B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A74F01-D317-4089-8F26-7E55ECC712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1D4D0-893B-44A3-8D82-2CE14D5FA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C6CDBE-1CFD-4EB0-9B2A-6FB851E867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217821-E980-4824-8A1D-46B17DC4B4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5F64D1-9547-40CC-8D7B-524957F6EE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7416FF-7B98-41BF-ABBE-A9AED0ACA9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243902-9532-43A1-B9EB-486AE5B523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9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4BA9C5-F896-4F45-BE52-33C10693F0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9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AEAAF7-CF81-45CA-B490-0DABC81F41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29E909-F014-4592-A31C-CE62822163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7C2E30-6C12-4F95-B36A-7924912D8C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9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60C02E-7F5F-4721-97B1-FCC271E1A2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6BA47-6B8B-4916-9C40-C0F3DC3F0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670A26-4389-4DFB-8141-8705F34F02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592D54-741C-4512-B6FB-5BD1E819A5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55EF0F-CF24-4CFB-B4BB-558686C702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3C645A-905A-4B20-8FD8-5F45B15A01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F6ABA89-21D6-4B46-AFA7-006A07110D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1C157F-6B61-4998-AE90-38B091D7E0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BB2131-48C5-4536-801B-F0C97B7AF3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227F5A-A53E-4FEE-B9B6-20D11B2E93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6D0FE4-C330-4C43-997E-7BCC70B1C6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5FF358-CAB1-4386-8E01-29596B05B2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08282-E98B-4601-AAA4-204926D36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0CAB0A-1960-4769-90D2-FBD168D0DD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D92CE5-3C4D-4A14-B77D-E681705B2E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16B598-B6D1-44BA-A5EA-27CE11184B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DBF503-E129-4EE0-989A-EECBC32C99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DF8F64-2D50-4952-A65B-5BA7D42BF5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365807-C603-4673-9F7B-87868E1FB85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6B1203-837A-4E8D-8EEF-59A521FF8AD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53B1046-4E8F-46E3-BE2D-4061674E216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5E9738-88E6-4691-A188-B3D79DC875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768148-9CFA-438A-876B-0CBFD8CEFD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8F6D8-520B-40D1-AD5C-2A0852755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25FAF5-F53F-4B2F-9ED1-B30B121E58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80B45A-7855-4552-89CB-D22E54450C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F9AA23-B238-43C2-B38F-5910AD3338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49C839-3FCC-4177-9CAB-14BB56335D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660295-620F-457F-93C5-0CA2FE9B26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D8684F-3910-4F8E-8AFC-CB3CDAE3FC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E8490A-58AD-4B96-B9D4-B4DBDB41E4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C0F8A2-BDE6-4AAD-9898-12B97D1320A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6CC635F-5BBA-4A03-B102-C6B5FC8795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53B41B6-1618-4152-9C05-10916E5D00B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D9442-B4B7-4C7C-9EB1-B76DCF7D3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EC9553-8826-443C-B35E-3E85664797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D23477-A503-4133-8B6D-0A1D96C5C96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8B5E65-CA5B-4208-BAE3-97A5D801F07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3B7AFE-38DD-44CF-9CF6-991F437CC6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AEA64B-A1A0-4BE8-8EB6-3BF61DF0E5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746B67-D411-4925-BFC8-DECE318DBA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27C538-E165-4544-B3CE-869205AE19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97F051-820E-4099-9D1D-167C2E799D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058854-CE5B-4E03-A19D-83FA92ED52C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662720-06B8-452A-92D5-D9662323610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01025-5C76-42C6-8BCD-D0889773C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417722D-9477-4DA1-B3C3-FB8867A9DB7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0A0D68-0619-4396-9695-AC66D4FB827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6A2C259-A489-4B9F-839A-DE3DABD37E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C15FC42-0312-488E-99E8-D5AC65F266E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639AED5-DDC4-463B-97BB-9C835488EF1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CE2A06D-33FF-4C31-A90D-F6AA40C8AA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47EDBD-0771-4514-BBEB-8C3EC4AE083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B02C50-A0DA-49DA-8D44-2DB330336E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46A258-73B1-48EB-87E0-6B8A885418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2EA655-C92C-42BC-857A-77928F153F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DABB3-2D8B-46D4-A276-EC6F77EB0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74A9AF1-20CF-484B-A049-56AD97AFFD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D3FBD39-95E4-40BC-B100-CB3F666346C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33B51DE-7D4F-4D8B-92CC-CD9264B32F8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DD80F88-5A2A-4400-880E-868BFB64236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A8E5A10-FBEF-4A06-B8D0-EFD5BA7D99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8348115-E16B-47B6-9682-CE202DDFEA8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6AE01F3-9E87-490A-8974-0688937971D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A0876B-C752-4080-8DD1-728D7DC4DAB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886743-9205-4A04-BD1E-F53D276FD0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67E765-09BC-4F16-817F-3251BC06C0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46761-0924-4C67-BD63-8820E2CC0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CDF9F-2591-4D59-99D9-71FFB03E8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5629AD-9923-417B-B21C-6ACFC1E635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5BAEC2-B66C-46C2-AB55-73AF8D07E0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5078E63-2571-4CB6-A582-0616EC7FB9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ECFEFB1-7AE6-4D95-9779-93D68A71162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5D5879F-636B-4D10-921E-4426E593C15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0429831-50C5-49AD-A647-0E4C54E0A74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47A5419-1951-44C1-AE67-2F2A22BC204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635CF5-B6C6-496D-8571-707F7BAADE1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FF99F9D-C67A-4782-9ADC-8B165E9B80A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2AD409A-4157-4126-A555-7347840AE2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2EAF0-2755-4F87-99E0-416E75862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2D00A28-9BDC-4C93-8BFB-23AB0CC6E49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36523E-4481-48AC-AA54-FA3905D7E82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C2A1398-D3F0-411B-BF52-FFAEAC2DDD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4320DE-0A08-40F5-AEE2-828BAABB77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6BC715-8897-4D03-9637-94525B3E49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4E3C9E1-9EF9-44BC-B1F7-70A5576503C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A1BEFC7-1033-4FE3-8B87-F9E3814F7D7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01178B4-DC16-47CB-94AB-82183C41114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5056F59-183F-4831-BBA7-88983F22DBA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DB0109-13D8-4F53-BEA2-9187B492694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6E87F-0E5D-464D-BE00-B6C83BE80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A2CE629-6044-46A1-A80D-76B4F465BB0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26BE5C9-31F8-4A0D-BBA6-BC3C6FFA04B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EB70F72-8AB0-4C4A-85F3-8F445E2A8DA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038A09-C834-4214-A742-0924AE31CF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19DA4B-C5AE-4A83-8C2A-45DE238D72B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AF0262B-B41E-43D5-B3E1-23449CFD5CE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4223B9E-3760-44E3-9E05-6CF5D0F1563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1299AEC-11D6-4F25-9EED-92F5E6CB0B1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28EFBFE-E2AA-4968-802A-080A9B7951F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96BF7BD-58F0-4172-BBA0-632DE0573B7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D4FA9-51AF-44D8-8BAE-DDF30439F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14789C1-922A-4ACC-B59E-D3E6ADF1D10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59DE8F4-F7C1-4B8F-A3A8-8C077C9B666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B8C7CCF-61BE-41C8-A65A-4DB6624D28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2D77A89-4956-4389-86D5-1C583A7AE1F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BF71EEE-3A93-4A46-8993-ACDCE288879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E32DE2-548A-42A7-A589-58B703BA09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45DB89C-5F28-4009-8384-8C0F42B0B5D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01B6CB9-9610-4C5F-B570-92FD0555AD4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CF9E421-B563-4B3E-9EDF-A228B6C8E07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891EBBC-628F-439E-87FB-30DE94A71A4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0314B-47AC-481E-9952-8FC2C8696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B23211E-F656-4819-BDED-4A73D29FE72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EA96E16-2E83-46E8-9716-559E3C57712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7165B85-F759-4C04-971C-AB9DB79A954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27B85A0-59A0-4174-8CE1-BF39F51D9A3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8F3B890-702F-48CA-8BCC-E7F4EE3A4C1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B086265-D7FD-46FA-AC72-7EEE0849444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BFF3D1D-36D0-4ACF-8189-DAD583103AC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54BB4B1-625F-4C39-97DC-00C5E26071B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F0D2FE1-C075-4644-AD93-C7B5E6603A4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B2F924F-D9F0-4D60-91B2-FE4C5960E22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FA93C4-3DC7-453A-B94B-8A52E9C337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2C69119-E64C-4EB3-810B-BC326755852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762F285-8B5A-4D14-8233-363C08A13D4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522C23A-47AD-409A-B5D7-91496C5A150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7E3B778-EECC-4603-A54C-475F9BB114E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82709BD-72D4-4818-B60D-4303ABB6BD0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B46B40D-B20C-481D-B02C-5413544B9EC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7485BEC-AE9A-4E8B-A12C-17200DB7FB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325C207-7EE0-48BA-84D7-68DA039ED7C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38BA40-934B-4C8B-8806-0FE23C82CC4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BBC85F-5F0E-4C6D-BEB4-A7160E82AB5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E9F91-A148-4385-8DCD-97E001ABD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5F8A6ED-9C5C-443C-90D5-DB13D8A317F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34ADA0C-08EA-497F-950A-31F17FDFF50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FCAF2B6-CB61-4C86-BD22-67B9CA60BAA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76BA3BB-F866-4E65-9367-61DC506B884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7B4E450-6AA3-40FB-A788-C65219D4ACB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99A981D-7356-4BF9-83A0-FD5FA4BAE68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5988848-6D7B-4B06-9062-1C8416DAA32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68E2CFE-0E4F-436F-99B6-A42F6699F6A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6C1248D-693C-4D16-B226-82CD18D0C5F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9F88132-2292-4C76-A2AA-297B455143E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FD85CE-6989-4915-8AC3-12C0AA3837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A6A213E-6060-4329-A317-71411974851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4D25603-A8DF-411F-9FBE-911F3461D7A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A00A1AE-06C8-4972-8329-99FA840BDF5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6C4589E-B710-4500-9F36-ACC29F658FF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F0ABEC5-E40D-4814-840D-7A9C150C7F3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F275BC5-7B0F-4238-A51F-0113F657377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6567AD8-150D-4D72-A2CC-770A63D4327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54C78DD-B12A-4638-8439-0CC8E3705A9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24A2C77-4BDE-4EE9-A20D-B7D37FF91A7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ECB1414-6A4A-4573-B73B-C139F9FEE26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75492-A098-4634-A5DF-1B9D9F3F1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FDCDD14-DC4A-4CB3-9EB4-AF4444A6C0F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DEB0631-A9B6-45FD-9364-8E1880851D3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D0F21B8-327D-4486-9EBB-AEC7B8B242C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DBC88DD-4CB5-4CF3-8964-6A2530A0419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4D69FCC-5E2C-4026-BFA0-46866DDA495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215CC0B-9FA7-4BBE-8FC4-376C739F273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F2C14C5-ED0C-4A7F-9C58-A2E6DB55480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AB1408D-5701-4F7B-A9DB-0F27BFB461F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ED68774-CCA8-4F29-AB0E-EC942B02842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FEFD4AF-1B38-4830-8E81-FC04597BCAE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00454-BB6D-44DA-B12A-FA726766F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C5957E4-3A07-45F0-918F-262A83C9BFE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12F49EF-9BB0-4087-84AA-AAC25DE91F7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8EEDDCA-344D-40C4-82B9-E47F53829B3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584F2E3-66C8-44C7-A926-63913456381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6B3E250-348A-4429-986A-378CA181E74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25DEC4C-2984-4C27-907D-CEB28468C55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7F4AE2E-6667-4BAE-BD8B-F5AF3808144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D55DCF4-D348-4489-BE95-7133DDDFEEB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49A82E2-4773-48F2-A117-B251CB97F96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D993D30-4126-4AC3-B5F2-E9B8B5345B5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B8C9A-36E3-4513-ADF9-3A5E1ED84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CAA65B-9591-499A-AEC6-848BBAF9A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55A5E6E-1707-43BA-83E0-B88BA01C5E4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BE9959F-D7ED-4A3E-9CF6-73FD1C56D66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38E85CE-4D87-4B5E-8CA2-761FC592313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DC5DFBE-4191-44E8-8CC1-9B333745A0C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077C8E4-C536-4A88-9F44-B84C35A751B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FF3E7A6-A0B4-46AC-874C-6A1EBD56EAA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339E0B1-DE7C-4F3A-A33A-F7644048E78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16A9DEF-1495-407E-A11C-EE19BA9A08D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CBEAB7F-BC0B-4CBF-AB94-6666AA61F17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772E0E2-B123-4401-A67B-3E9B6A536E9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30E79-C083-4D4E-A44C-45B18326C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09A48E5-2952-4D8B-80EC-4650B942E30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AFF3B9B-FC91-4C74-B379-B9B3B19CD51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2AA122A-9E54-47D2-9192-BBEFC1EB2E2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5330441-98D7-4540-9D2F-627EDDF3229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256C6AD-FFCA-4D15-AAFC-90A90AE5461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78205F2-1FD8-40F1-A877-C8ECA3B00E6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A288D4B-6F5D-468A-AB0D-F0058095FFD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AC36D4E-EC5C-49F9-8806-84DF593A67D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312FC22-E16F-46E7-9419-AA087B64290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76C2BC1-FA78-452A-AE34-C96632D9C7D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BE2FC-45F8-448B-950D-48EE2B046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0D8F2B9-EB24-4C27-9293-CF18A8EE217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51792E7-0D14-48D8-8F02-FAE73B75AF3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E62371F-9E90-4A5E-A108-D0AC9E1037D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0B39996-8C5A-4432-82BD-73BD1D67020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1F6A6F0-0FE8-4015-ACAB-A7D45DFF4AF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8E44D2B-E5EE-4C2B-99BF-9198E782057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BB3D952-E80D-46AC-B2BD-89F6F09E5D7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0E224C5-66C5-47D7-A6CC-2CD18D8B83D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012D3A5-4E93-418D-8A3B-463D5FD8565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B75406D-9BAF-4C35-8E25-4F2B2DA5237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F6786-C6E6-4398-89F7-BA5B52FCF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6E1DEE3-DF1B-43B8-BCE9-8A5DF27CAB3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54F9FB6-D27C-4362-80EA-4536F272D8A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4C0CCB2-576B-4C3E-83CA-0845D70C16D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9CE1D3B-C16D-452B-BE4E-EDAB2522C76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1776777-0B83-41E9-B73B-04D08790785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3928022-B623-4D4E-8E46-3C0B95C0469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B2E0153-3389-47F3-B90B-95CFAE5AADC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951995A-147F-4822-BEFB-FEEC008462B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5FB2F98-CAD5-4B50-8458-56168D32EEB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9C7A976-BB3A-4818-936E-C0B43471864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3D706-9BCC-4048-B661-460E9AC05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F0CF43D-CE47-4C98-80CF-40733AC9FEB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0428DC5-C440-4C35-9174-B71AAF8829F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EF78E83-F8B6-4C2D-9C0D-782AF13C742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CC95CE4-236B-429C-A71A-03A7333A6CB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F7C45A2-53BA-4B69-9E43-4AA87FA8CF6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EF9636A-07E9-4CC0-997C-6DE48E9F0E6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D4CEA8B-15D5-451F-AEF3-2B727AC2AFD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B6F97D6-2EA2-477E-9E02-AF105B2201D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5DC95C8-540B-406C-AE88-C4E9AD1D1A5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A9EF948-92B9-4125-B227-745B244F936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E2F972-988B-47FE-9BE0-69F1E376CF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D940CE4-89F0-41F3-9B57-015CD8B0A45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21069C9-45A6-4EEF-8A46-5D2F786AE93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B518011-CAFD-4180-A979-9500F64861F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21FF45F-3298-45CD-A846-9C61BE37A73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3ED2F2B-E67C-4462-8DD9-DBE23CA85FB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EA3FF70-4A2B-49F5-82BD-4BE01DD5AEF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E679ADE-A40F-4F04-AE4D-26E7FF63720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D81230B-4105-41BB-AA53-56D39D3DAB8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F6198BF-731A-46F4-B1DD-BD9E63F0031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C60D691-41E3-467E-AAE4-37775E806B9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A778C7-3A11-41B0-BF94-969D031A4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0AFA211-1176-4D9F-A679-17994A0B2FA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B12B14F-A5DC-4BCB-8974-24FB48B7D1A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8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98F3D52-A9DC-4471-8036-189420A2E52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8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C9CD288-29D7-4D59-B803-4773B6CDDC3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8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597EC7F-2720-47B8-891B-DEAC0F5D9CB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82DA7E8-78BC-48CF-95A8-1BE27A224DB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F0B24FF-3646-4BBF-A89D-F6EA9B09B55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EA6F21F-D336-41B2-9AAF-240DB3F4649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9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9FBC191-C841-410F-9A1C-8FB63891824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0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53C2C37-C262-4ECC-8082-91F513F583D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4431C-C3B6-42FD-8053-E9E66C7DB8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0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7BCA22C-B65E-433A-9F6F-414AE196C26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FA977AE-E8ED-4012-B483-B231B7864A3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1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655F572-9237-409E-A206-75AF9B7BF112}"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282F645-EB42-48A9-BE68-DFE1E0B8D89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3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4CEA728-362D-478C-80F0-777542B6651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3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49DD85C-FD1E-45C9-A10B-FA20E167928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C7D5548-A7D7-4C8B-9218-14BE5A3226C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D13D324-627D-4412-BFE4-03240BA32A0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B8DE6BE-000E-4B0A-9744-65BBA949E0A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FA5A868-AC4D-40A4-85BD-EC945B96556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4F6C2-AC32-4226-B087-BA1EF02F0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5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5B3D7E7-224B-4F7A-8E16-4217F2FE7CE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C794DAE-A17A-40F0-B759-4E9C22AA921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5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7860817-98EE-4600-BB4B-BE6E93D1FD4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207B26C-FCA6-44F5-917F-FEB26C450AB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57F811A-61F2-40DC-A845-0F5C2B2DC65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23B8C837-FCE8-4DB5-8E8B-3BEBB8A6358B}"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5C0E6A3-D076-476F-A61B-1823B5A0782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9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254AB63-A64D-4C6C-A2E9-67604D24E94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9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35AC073-6E4D-42DE-AB62-0C0CE267A4C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D2B4D4D-71B3-486A-9683-B73A3563025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8B77BA-85C5-4197-BC1D-75779E2D6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DF1C3A5-5E19-4B61-B039-71315931893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9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637FDC9-9F5B-4911-A12B-A7703640E84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13B4625-1CEE-4AC7-9AD5-C3147826B37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BD46EBD-A328-468A-B837-CADC2475446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1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6E7D796-A5BE-4568-8DF0-A7B4F9367BF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1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171FF353-444B-4921-96DE-41CC18F6D93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1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69F8097-CBA6-4A7C-81D9-61A17D66126F}"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E1BD3D01-54B4-4E68-932B-0156E09BBB6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3948429-63AD-43F0-B6DD-F4AFF9F8152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20D07DC-9C75-4F62-A008-07CE80566BF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ABD73-FB4B-4706-97F6-848F15124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1BEAC-F050-45CD-AB52-E4C072D4E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85B5FAE-B5B3-4E48-86BE-173D9DCB3E6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CEA9C64-CFA1-4FD5-A04F-383391675C6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5490266-D83B-4D93-B86B-1E9C20D595E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8E7F9F1-464C-4E34-9CBB-6FAA8544C8E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40EB874-14F2-4786-A872-79517E1DD57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EE6C7E6-B6BD-47CA-BF1E-2D836FA445F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6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3E8EE8F-3BFB-4CDB-96D5-99795FF617A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7BFE648-0952-4EC4-B9BE-543E11C02B5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AAFCFE8-4331-48C4-A01D-E9CFEE12119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B005E9B-9FA6-4C54-8207-F1DE12C8AF6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B568E7-9A05-42E4-A82C-4B1051B57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21B3C2E-8088-487E-8014-14B5982B24F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51982F8-0A56-42F8-9613-7F00EF34BCF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1EF3118-3AFF-4F5B-BE06-E67E2137EEB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0A32AD3-D6A3-48BE-813F-F13C6E8E882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F88BA54-E41F-43C2-B910-CAD7CBA0975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D738948-F3FF-4F9E-90D7-4F78E521FF2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F722D10-E442-4F40-958C-F4C59632FD6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28CAE00-72B8-43CF-9109-68D58CE031E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47B03B4-C243-47CF-B234-8DEF689E49A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601F35F-D94B-4F27-9FB2-B6C21EFE30C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7C3817-8A3D-4625-94B1-CD6823369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97A59EE-5270-402B-85CE-1464DD2BA5B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2642D04-D4BC-45FD-B1C6-098951B9C35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8ABC33B-1EA8-4EDD-94C8-3DE56E6727C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21417CD-9826-405C-8CB8-7434A2E1E6E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67FB8AA-0CFC-497A-9BFE-33FF51A7D1A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728B467-2940-4CA9-A0FD-19E064CBDC7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9090006-C6C2-446B-8E98-EE378000495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3AFEDA4-742D-48A1-9A36-3A45904C5C3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669B69B-E4D7-4B73-8F65-789933ECDE3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4871587-4E92-4D04-A21B-0A7D0A4EA33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59608-C97F-456A-B009-984464623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B9F75FF-8CF9-48ED-B8DC-706D2AAFB6E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110C184-75DE-4EC9-89AF-C79F8091821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4F6E9BE-02E0-4B9E-9DF3-C05E7763853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54AA5-1C24-4F89-AA7B-2D6536101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07528-39B8-4327-92A9-A7574803D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E9F4B-E4F7-45BC-B42B-6F7766680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2C0F69-E7CA-4E62-A875-C0590B89BD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CD8915-3060-4F40-9877-82D31A3150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171AB9-DE19-438B-A9BD-1A784B851B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7B0B0-20AF-402C-A6EF-1D4876EDB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F1FB1-7DF1-41FE-9B34-E600332A20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28134-218C-4627-970D-29352D472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C772C4-FED4-4192-8240-FC1D2A24C7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88DC98-BCB3-493C-A84F-72AC03F783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3537F-08E0-4169-B215-04B9B39043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FFCD98-B7D9-4162-B0FC-4BEDA3AE32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C8678-596E-452E-A267-D76009946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647C2-C905-4CFD-B81A-14469730A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5EEB42-54CD-4AF7-9B03-433FEBD2A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C5C1A3-39EB-4DA2-A850-D8D8299B1F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BFFD9-B33B-4C5F-9E54-FAB6DC700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CABC0A-1472-4C16-9D37-7E94AC6C5E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0243F9-1D36-4730-A8DA-16FB71C8ED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5B7535-FDF6-439D-9071-8431A484E2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7AC0D7-EF68-409F-A996-842D996BF9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6437A-7344-4808-AD5B-534F53D4E2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FA05A3-FE3D-4762-BF88-16BBE327F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1A9425-385D-482D-8452-14690CC7A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38307-8A3C-48E3-A4D9-74AE55A9D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9D858-9574-40BC-96FB-B365E0BA2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20F19-A92E-408D-9B73-86468752A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C2FB-4319-4D69-A008-56FC4BBA7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BFD64-FB69-46DD-A588-7A94537F0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C0A95E-0248-45DF-98CF-485578046B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84AA17-E499-400A-826F-6D27922C46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124770-D4B9-4FF9-AD44-F8A5F8A9B5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EE6AEF-322A-424A-9D75-CD7D66342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EBF70-3F30-4F9A-8D80-102C00B23F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BCA49-991E-46AB-9A1B-41C742B54D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E8C57A-DEF9-4CCE-9942-CC118AA5EB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DA795-6F87-49BD-B0A6-34075BE22F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098D02-4F08-45B6-8D78-F4864CF4F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7D94F-A8E7-4F0D-A3AE-8BC50A552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6E8B4-B654-4FC9-9291-F01B9F1E1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8AAC1-CCA4-4E62-87F8-BCDDDFD4D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01FC30-0C8A-424D-A382-1CA3C7534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09DC8D-B92D-4DD3-B9C4-9EB349270C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B616DF-122A-4BBB-85E2-E8576A789D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8CC30A-2F7B-460E-9E06-1118FEABD8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C373B4-886E-4678-9E36-71166868F1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2E9F99-64CC-48E2-85B7-39462A507E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49E851-DDC7-4CC6-826B-EED7B02B28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95A29D-3A5C-4C27-82A3-C35C67BEA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C7B8B-758A-4E65-B3AF-ABE5028FF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35DEF7-E8F4-492A-A44C-2F1C226741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6C0D4-7E18-4D95-9DFE-0D64A0539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33753-8E6F-4710-B71F-3B7B6840D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6D69AD-B254-4495-8AFB-0B5203752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F491D-8168-46A3-B4D9-769C721C59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9B9062-30C6-4C9D-82AC-9EC1C9595C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78E20A-41D9-47BA-8641-34613F1FC3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EAD286-F7B0-451D-8456-DB6DA54B2F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4D7A82-DA35-41BE-BEAA-5DC2BF6A2B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77E128-4421-49DA-B302-A563E02808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3BCF-B770-413A-A924-9BC660EC0175}"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Group 16"/>
          <p:cNvGrpSpPr/>
          <p:nvPr/>
        </p:nvGrpSpPr>
        <p:grpSpPr>
          <a:xfrm>
            <a:off x="-7920" y="-7920"/>
            <a:ext cx="9169560" cy="6873840"/>
            <a:chOff x="-7920" y="-7920"/>
            <a:chExt cx="9169560" cy="6873840"/>
          </a:xfrm>
        </p:grpSpPr>
        <p:sp>
          <p:nvSpPr>
            <p:cNvPr id="46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4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81" name="PlaceHolder 3"/>
          <p:cNvSpPr>
            <a:spLocks noGrp="1"/>
          </p:cNvSpPr>
          <p:nvPr>
            <p:ph type="dt" idx="2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PlaceHolder 4"/>
          <p:cNvSpPr>
            <a:spLocks noGrp="1"/>
          </p:cNvSpPr>
          <p:nvPr>
            <p:ph type="ftr" idx="2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PlaceHolder 5"/>
          <p:cNvSpPr>
            <a:spLocks noGrp="1"/>
          </p:cNvSpPr>
          <p:nvPr>
            <p:ph type="sldNum" idx="3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1B5B-F876-4755-AA8A-F7679E748364}"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Group 16"/>
          <p:cNvGrpSpPr/>
          <p:nvPr/>
        </p:nvGrpSpPr>
        <p:grpSpPr>
          <a:xfrm>
            <a:off x="-7920" y="-7920"/>
            <a:ext cx="9169560" cy="6873840"/>
            <a:chOff x="-7920" y="-7920"/>
            <a:chExt cx="9169560" cy="6873840"/>
          </a:xfrm>
        </p:grpSpPr>
        <p:sp>
          <p:nvSpPr>
            <p:cNvPr id="52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33" name="PlaceHolder 3"/>
          <p:cNvSpPr>
            <a:spLocks noGrp="1"/>
          </p:cNvSpPr>
          <p:nvPr>
            <p:ph type="dt" idx="3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ftr" idx="3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5"/>
          <p:cNvSpPr>
            <a:spLocks noGrp="1"/>
          </p:cNvSpPr>
          <p:nvPr>
            <p:ph type="sldNum" idx="3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4B49-0F97-4958-A821-B54FFF8F6912}"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Group 16"/>
          <p:cNvGrpSpPr/>
          <p:nvPr/>
        </p:nvGrpSpPr>
        <p:grpSpPr>
          <a:xfrm>
            <a:off x="-7920" y="-7920"/>
            <a:ext cx="9169560" cy="6873840"/>
            <a:chOff x="-7920" y="-7920"/>
            <a:chExt cx="9169560" cy="6873840"/>
          </a:xfrm>
        </p:grpSpPr>
        <p:sp>
          <p:nvSpPr>
            <p:cNvPr id="57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8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5" name="PlaceHolder 3"/>
          <p:cNvSpPr>
            <a:spLocks noGrp="1"/>
          </p:cNvSpPr>
          <p:nvPr>
            <p:ph type="dt" idx="3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PlaceHolder 4"/>
          <p:cNvSpPr>
            <a:spLocks noGrp="1"/>
          </p:cNvSpPr>
          <p:nvPr>
            <p:ph type="ftr" idx="3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PlaceHolder 5"/>
          <p:cNvSpPr>
            <a:spLocks noGrp="1"/>
          </p:cNvSpPr>
          <p:nvPr>
            <p:ph type="sldNum" idx="3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E3E9-8C7C-4C99-A803-2FB34655CF3C}"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Group 16"/>
          <p:cNvGrpSpPr/>
          <p:nvPr/>
        </p:nvGrpSpPr>
        <p:grpSpPr>
          <a:xfrm>
            <a:off x="-7920" y="-7920"/>
            <a:ext cx="9169560" cy="6873840"/>
            <a:chOff x="-7920" y="-7920"/>
            <a:chExt cx="9169560" cy="6873840"/>
          </a:xfrm>
        </p:grpSpPr>
        <p:sp>
          <p:nvSpPr>
            <p:cNvPr id="62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63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6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3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39" name="PlaceHolder 3"/>
          <p:cNvSpPr>
            <a:spLocks noGrp="1"/>
          </p:cNvSpPr>
          <p:nvPr>
            <p:ph type="dt" idx="3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PlaceHolder 4"/>
          <p:cNvSpPr>
            <a:spLocks noGrp="1"/>
          </p:cNvSpPr>
          <p:nvPr>
            <p:ph type="ftr" idx="3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PlaceHolder 5"/>
          <p:cNvSpPr>
            <a:spLocks noGrp="1"/>
          </p:cNvSpPr>
          <p:nvPr>
            <p:ph type="sldNum" idx="3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3557-90CF-4428-9F6D-BA174C021A2E}"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8" name="Group 16"/>
          <p:cNvGrpSpPr/>
          <p:nvPr/>
        </p:nvGrpSpPr>
        <p:grpSpPr>
          <a:xfrm>
            <a:off x="-7920" y="-7920"/>
            <a:ext cx="9169560" cy="6873840"/>
            <a:chOff x="-7920" y="-7920"/>
            <a:chExt cx="9169560" cy="6873840"/>
          </a:xfrm>
        </p:grpSpPr>
        <p:sp>
          <p:nvSpPr>
            <p:cNvPr id="67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9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91" name="PlaceHolder 3"/>
          <p:cNvSpPr>
            <a:spLocks noGrp="1"/>
          </p:cNvSpPr>
          <p:nvPr>
            <p:ph type="dt" idx="4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PlaceHolder 4"/>
          <p:cNvSpPr>
            <a:spLocks noGrp="1"/>
          </p:cNvSpPr>
          <p:nvPr>
            <p:ph type="ftr" idx="4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PlaceHolder 5"/>
          <p:cNvSpPr>
            <a:spLocks noGrp="1"/>
          </p:cNvSpPr>
          <p:nvPr>
            <p:ph type="sldNum" idx="4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1732-EB3B-4191-B0F6-39FCED6B44EF}"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16"/>
          <p:cNvGrpSpPr/>
          <p:nvPr/>
        </p:nvGrpSpPr>
        <p:grpSpPr>
          <a:xfrm>
            <a:off x="-7920" y="-7920"/>
            <a:ext cx="9169560" cy="6873840"/>
            <a:chOff x="-7920" y="-7920"/>
            <a:chExt cx="9169560" cy="6873840"/>
          </a:xfrm>
        </p:grpSpPr>
        <p:sp>
          <p:nvSpPr>
            <p:cNvPr id="73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74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7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5" name="PlaceHolder 3"/>
          <p:cNvSpPr>
            <a:spLocks noGrp="1"/>
          </p:cNvSpPr>
          <p:nvPr>
            <p:ph type="dt" idx="4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PlaceHolder 4"/>
          <p:cNvSpPr>
            <a:spLocks noGrp="1"/>
          </p:cNvSpPr>
          <p:nvPr>
            <p:ph type="ftr" idx="4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PlaceHolder 5"/>
          <p:cNvSpPr>
            <a:spLocks noGrp="1"/>
          </p:cNvSpPr>
          <p:nvPr>
            <p:ph type="sldNum" idx="4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F5E2-472B-4349-9E4D-FE6E964AD3F1}"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4" name="Group 16"/>
          <p:cNvGrpSpPr/>
          <p:nvPr/>
        </p:nvGrpSpPr>
        <p:grpSpPr>
          <a:xfrm>
            <a:off x="-7920" y="-7920"/>
            <a:ext cx="9169560" cy="6873840"/>
            <a:chOff x="-7920" y="-7920"/>
            <a:chExt cx="9169560" cy="6873840"/>
          </a:xfrm>
        </p:grpSpPr>
        <p:sp>
          <p:nvSpPr>
            <p:cNvPr id="7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7" name="PlaceHolder 3"/>
          <p:cNvSpPr>
            <a:spLocks noGrp="1"/>
          </p:cNvSpPr>
          <p:nvPr>
            <p:ph type="dt" idx="4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PlaceHolder 4"/>
          <p:cNvSpPr>
            <a:spLocks noGrp="1"/>
          </p:cNvSpPr>
          <p:nvPr>
            <p:ph type="ftr" idx="4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PlaceHolder 5"/>
          <p:cNvSpPr>
            <a:spLocks noGrp="1"/>
          </p:cNvSpPr>
          <p:nvPr>
            <p:ph type="sldNum" idx="4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2E75-E05B-4B12-99B1-5C53FAD47AC4}"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6" name="Group 16"/>
          <p:cNvGrpSpPr/>
          <p:nvPr/>
        </p:nvGrpSpPr>
        <p:grpSpPr>
          <a:xfrm>
            <a:off x="-7920" y="-7920"/>
            <a:ext cx="9169560" cy="6873840"/>
            <a:chOff x="-7920" y="-7920"/>
            <a:chExt cx="9169560" cy="6873840"/>
          </a:xfrm>
        </p:grpSpPr>
        <p:sp>
          <p:nvSpPr>
            <p:cNvPr id="8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9"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DCEE-E60E-4D63-B349-3786299DA651}"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8" name="Group 16"/>
          <p:cNvGrpSpPr/>
          <p:nvPr/>
        </p:nvGrpSpPr>
        <p:grpSpPr>
          <a:xfrm>
            <a:off x="-7920" y="-7920"/>
            <a:ext cx="9169560" cy="6873840"/>
            <a:chOff x="-7920" y="-7920"/>
            <a:chExt cx="9169560" cy="6873840"/>
          </a:xfrm>
        </p:grpSpPr>
        <p:sp>
          <p:nvSpPr>
            <p:cNvPr id="8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01"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E6D2-B60D-45D6-B31F-30175DE61F51}"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0" name="Group 16"/>
          <p:cNvGrpSpPr/>
          <p:nvPr/>
        </p:nvGrpSpPr>
        <p:grpSpPr>
          <a:xfrm>
            <a:off x="-7920" y="-7920"/>
            <a:ext cx="9169560" cy="6873840"/>
            <a:chOff x="-7920" y="-7920"/>
            <a:chExt cx="9169560" cy="6873840"/>
          </a:xfrm>
        </p:grpSpPr>
        <p:sp>
          <p:nvSpPr>
            <p:cNvPr id="9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53"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00AA-F36F-4600-8503-35898BEEDCA9}"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6"/>
          <p:cNvGrpSpPr/>
          <p:nvPr/>
        </p:nvGrpSpPr>
        <p:grpSpPr>
          <a:xfrm>
            <a:off x="-7920" y="-7920"/>
            <a:ext cx="9169560" cy="6873840"/>
            <a:chOff x="-7920" y="-7920"/>
            <a:chExt cx="9169560" cy="6873840"/>
          </a:xfrm>
        </p:grpSpPr>
        <p:sp>
          <p:nvSpPr>
            <p:cNvPr id="5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8D45-6C00-4C65-98CB-768B5929BEA7}"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2" name="Group 6"/>
          <p:cNvGrpSpPr/>
          <p:nvPr/>
        </p:nvGrpSpPr>
        <p:grpSpPr>
          <a:xfrm>
            <a:off x="-7920" y="-7920"/>
            <a:ext cx="9169560" cy="6873840"/>
            <a:chOff x="-7920" y="-7920"/>
            <a:chExt cx="9169560" cy="6873840"/>
          </a:xfrm>
        </p:grpSpPr>
        <p:sp>
          <p:nvSpPr>
            <p:cNvPr id="99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5"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BE62-76EE-457F-9408-57335AF27068}"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4" name="Group 16"/>
          <p:cNvGrpSpPr/>
          <p:nvPr/>
        </p:nvGrpSpPr>
        <p:grpSpPr>
          <a:xfrm>
            <a:off x="-7920" y="-7920"/>
            <a:ext cx="9169560" cy="6873840"/>
            <a:chOff x="-7920" y="-7920"/>
            <a:chExt cx="9169560" cy="6873840"/>
          </a:xfrm>
        </p:grpSpPr>
        <p:sp>
          <p:nvSpPr>
            <p:cNvPr id="10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7"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F332-110D-4F62-91E7-408C846843B4}"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6" name="Group 16"/>
          <p:cNvGrpSpPr/>
          <p:nvPr/>
        </p:nvGrpSpPr>
        <p:grpSpPr>
          <a:xfrm>
            <a:off x="-7920" y="-7920"/>
            <a:ext cx="9169560" cy="6873840"/>
            <a:chOff x="-7920" y="-7920"/>
            <a:chExt cx="9169560" cy="6873840"/>
          </a:xfrm>
        </p:grpSpPr>
        <p:sp>
          <p:nvSpPr>
            <p:cNvPr id="10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9"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4AD0-ED69-4C73-83BE-5B1B1CFE0226}"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16"/>
          <p:cNvGrpSpPr/>
          <p:nvPr/>
        </p:nvGrpSpPr>
        <p:grpSpPr>
          <a:xfrm>
            <a:off x="-7920" y="-7920"/>
            <a:ext cx="9169560" cy="6873840"/>
            <a:chOff x="-7920" y="-7920"/>
            <a:chExt cx="9169560" cy="6873840"/>
          </a:xfrm>
        </p:grpSpPr>
        <p:sp>
          <p:nvSpPr>
            <p:cNvPr id="114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61"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9305-3F5D-4F18-BC05-026101F842F3}"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0" name="Group 16"/>
          <p:cNvGrpSpPr/>
          <p:nvPr/>
        </p:nvGrpSpPr>
        <p:grpSpPr>
          <a:xfrm>
            <a:off x="-7920" y="-7920"/>
            <a:ext cx="9169560" cy="6873840"/>
            <a:chOff x="-7920" y="-7920"/>
            <a:chExt cx="9169560" cy="6873840"/>
          </a:xfrm>
        </p:grpSpPr>
        <p:sp>
          <p:nvSpPr>
            <p:cNvPr id="120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3"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B442-D1A0-4433-8C21-A88662097BAB}"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2" name="Group 16"/>
          <p:cNvGrpSpPr/>
          <p:nvPr/>
        </p:nvGrpSpPr>
        <p:grpSpPr>
          <a:xfrm>
            <a:off x="-7920" y="-7920"/>
            <a:ext cx="9169560" cy="6873840"/>
            <a:chOff x="-7920" y="-7920"/>
            <a:chExt cx="9169560" cy="6873840"/>
          </a:xfrm>
        </p:grpSpPr>
        <p:sp>
          <p:nvSpPr>
            <p:cNvPr id="125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5C02-A9D0-42F7-BB2E-B91E82943987}"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6FB1-AFAD-400D-9D23-40AD2468412C}"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EE1F-8274-469B-8EA6-CF8AD0157903}"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81EA-9130-4861-BE26-1B4A22752937}"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0" name="Group 16"/>
          <p:cNvGrpSpPr/>
          <p:nvPr/>
        </p:nvGrpSpPr>
        <p:grpSpPr>
          <a:xfrm>
            <a:off x="-7920" y="-7920"/>
            <a:ext cx="9169560" cy="6873840"/>
            <a:chOff x="-7920" y="-7920"/>
            <a:chExt cx="9169560" cy="6873840"/>
          </a:xfrm>
        </p:grpSpPr>
        <p:sp>
          <p:nvSpPr>
            <p:cNvPr id="146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73"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5494-F17F-4EF4-BA7B-A19B95669D6D}"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7920" y="-7920"/>
            <a:ext cx="9169560" cy="6873840"/>
            <a:chOff x="-7920" y="-7920"/>
            <a:chExt cx="9169560" cy="6873840"/>
          </a:xfrm>
        </p:grpSpPr>
        <p:sp>
          <p:nvSpPr>
            <p:cNvPr id="105"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5434-C517-48E5-94FD-4584007CFE1D}"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2" name="Group 16"/>
          <p:cNvGrpSpPr/>
          <p:nvPr/>
        </p:nvGrpSpPr>
        <p:grpSpPr>
          <a:xfrm>
            <a:off x="-7920" y="-7920"/>
            <a:ext cx="9169560" cy="6873840"/>
            <a:chOff x="-7920" y="-7920"/>
            <a:chExt cx="9169560" cy="6873840"/>
          </a:xfrm>
        </p:grpSpPr>
        <p:sp>
          <p:nvSpPr>
            <p:cNvPr id="15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5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527"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DD7B-4328-4EC5-A962-FA1E5B3D8803}"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6" name="Group 16"/>
          <p:cNvGrpSpPr/>
          <p:nvPr/>
        </p:nvGrpSpPr>
        <p:grpSpPr>
          <a:xfrm>
            <a:off x="-7920" y="-7920"/>
            <a:ext cx="9169560" cy="6873840"/>
            <a:chOff x="-7920" y="-7920"/>
            <a:chExt cx="9169560" cy="6873840"/>
          </a:xfrm>
        </p:grpSpPr>
        <p:sp>
          <p:nvSpPr>
            <p:cNvPr id="156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7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579" name="PlaceHolder 3"/>
          <p:cNvSpPr>
            <a:spLocks noGrp="1"/>
          </p:cNvSpPr>
          <p:nvPr>
            <p:ph type="dt" idx="9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PlaceHolder 4"/>
          <p:cNvSpPr>
            <a:spLocks noGrp="1"/>
          </p:cNvSpPr>
          <p:nvPr>
            <p:ph type="ftr" idx="9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PlaceHolder 5"/>
          <p:cNvSpPr>
            <a:spLocks noGrp="1"/>
          </p:cNvSpPr>
          <p:nvPr>
            <p:ph type="sldNum" idx="9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9A79-A6B1-441A-A19C-1E08A140B09E}"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8" name="Group 16"/>
          <p:cNvGrpSpPr/>
          <p:nvPr/>
        </p:nvGrpSpPr>
        <p:grpSpPr>
          <a:xfrm>
            <a:off x="-7920" y="-7920"/>
            <a:ext cx="9169560" cy="6873840"/>
            <a:chOff x="-7920" y="-7920"/>
            <a:chExt cx="9169560" cy="6873840"/>
          </a:xfrm>
        </p:grpSpPr>
        <p:sp>
          <p:nvSpPr>
            <p:cNvPr id="161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63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63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33" name="PlaceHolder 3"/>
          <p:cNvSpPr>
            <a:spLocks noGrp="1"/>
          </p:cNvSpPr>
          <p:nvPr>
            <p:ph type="dt" idx="9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PlaceHolder 4"/>
          <p:cNvSpPr>
            <a:spLocks noGrp="1"/>
          </p:cNvSpPr>
          <p:nvPr>
            <p:ph type="ftr" idx="9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PlaceHolder 5"/>
          <p:cNvSpPr>
            <a:spLocks noGrp="1"/>
          </p:cNvSpPr>
          <p:nvPr>
            <p:ph type="sldNum" idx="9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215F-8B09-47AF-A062-268BEB7BB448}"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2" name="Group 16"/>
          <p:cNvGrpSpPr/>
          <p:nvPr/>
        </p:nvGrpSpPr>
        <p:grpSpPr>
          <a:xfrm>
            <a:off x="-7920" y="-7920"/>
            <a:ext cx="9169560" cy="6873840"/>
            <a:chOff x="-7920" y="-7920"/>
            <a:chExt cx="9169560" cy="6873840"/>
          </a:xfrm>
        </p:grpSpPr>
        <p:sp>
          <p:nvSpPr>
            <p:cNvPr id="167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68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85" name="PlaceHolder 3"/>
          <p:cNvSpPr>
            <a:spLocks noGrp="1"/>
          </p:cNvSpPr>
          <p:nvPr>
            <p:ph type="dt" idx="9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PlaceHolder 4"/>
          <p:cNvSpPr>
            <a:spLocks noGrp="1"/>
          </p:cNvSpPr>
          <p:nvPr>
            <p:ph type="ftr" idx="9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PlaceHolder 5"/>
          <p:cNvSpPr>
            <a:spLocks noGrp="1"/>
          </p:cNvSpPr>
          <p:nvPr>
            <p:ph type="sldNum" idx="9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6BA7-495E-455A-B72D-F0209F2151EC}"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4" name="Group 16"/>
          <p:cNvGrpSpPr/>
          <p:nvPr/>
        </p:nvGrpSpPr>
        <p:grpSpPr>
          <a:xfrm>
            <a:off x="-7920" y="-7920"/>
            <a:ext cx="9169560" cy="6873840"/>
            <a:chOff x="-7920" y="-7920"/>
            <a:chExt cx="9169560" cy="6873840"/>
          </a:xfrm>
        </p:grpSpPr>
        <p:sp>
          <p:nvSpPr>
            <p:cNvPr id="172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3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7" name="PlaceHolder 3"/>
          <p:cNvSpPr>
            <a:spLocks noGrp="1"/>
          </p:cNvSpPr>
          <p:nvPr>
            <p:ph type="dt" idx="10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8" name="PlaceHolder 4"/>
          <p:cNvSpPr>
            <a:spLocks noGrp="1"/>
          </p:cNvSpPr>
          <p:nvPr>
            <p:ph type="ftr" idx="10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PlaceHolder 5"/>
          <p:cNvSpPr>
            <a:spLocks noGrp="1"/>
          </p:cNvSpPr>
          <p:nvPr>
            <p:ph type="sldNum" idx="10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BF57-4023-4617-B9E8-2798760A4226}"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6" name="Group 16"/>
          <p:cNvGrpSpPr/>
          <p:nvPr/>
        </p:nvGrpSpPr>
        <p:grpSpPr>
          <a:xfrm>
            <a:off x="-7920" y="-7920"/>
            <a:ext cx="9169560" cy="6873840"/>
            <a:chOff x="-7920" y="-7920"/>
            <a:chExt cx="9169560" cy="6873840"/>
          </a:xfrm>
        </p:grpSpPr>
        <p:sp>
          <p:nvSpPr>
            <p:cNvPr id="177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8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89" name="PlaceHolder 3"/>
          <p:cNvSpPr>
            <a:spLocks noGrp="1"/>
          </p:cNvSpPr>
          <p:nvPr>
            <p:ph type="dt" idx="10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PlaceHolder 4"/>
          <p:cNvSpPr>
            <a:spLocks noGrp="1"/>
          </p:cNvSpPr>
          <p:nvPr>
            <p:ph type="ftr" idx="10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PlaceHolder 5"/>
          <p:cNvSpPr>
            <a:spLocks noGrp="1"/>
          </p:cNvSpPr>
          <p:nvPr>
            <p:ph type="sldNum" idx="10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DB9D-1CDA-44E9-AACE-25025C54791A}"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8" name="Group 16"/>
          <p:cNvGrpSpPr/>
          <p:nvPr/>
        </p:nvGrpSpPr>
        <p:grpSpPr>
          <a:xfrm>
            <a:off x="-7920" y="-7920"/>
            <a:ext cx="9169560" cy="6873840"/>
            <a:chOff x="-7920" y="-7920"/>
            <a:chExt cx="9169560" cy="6873840"/>
          </a:xfrm>
        </p:grpSpPr>
        <p:sp>
          <p:nvSpPr>
            <p:cNvPr id="182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8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841" name="PlaceHolder 3"/>
          <p:cNvSpPr>
            <a:spLocks noGrp="1"/>
          </p:cNvSpPr>
          <p:nvPr>
            <p:ph type="dt" idx="10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PlaceHolder 4"/>
          <p:cNvSpPr>
            <a:spLocks noGrp="1"/>
          </p:cNvSpPr>
          <p:nvPr>
            <p:ph type="ftr" idx="10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PlaceHolder 5"/>
          <p:cNvSpPr>
            <a:spLocks noGrp="1"/>
          </p:cNvSpPr>
          <p:nvPr>
            <p:ph type="sldNum" idx="10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2E79-D11F-4677-AB31-9DC199509FA9}"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5657-AF2F-4AA1-A75C-1B59EE30430C}"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69560" cy="6873840"/>
            <a:chOff x="-7920" y="-7920"/>
            <a:chExt cx="9169560" cy="6873840"/>
          </a:xfrm>
        </p:grpSpPr>
        <p:sp>
          <p:nvSpPr>
            <p:cNvPr id="2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3BD2-3F06-465F-836D-2998672E3C01}"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69560" cy="6873840"/>
            <a:chOff x="-7920" y="-7920"/>
            <a:chExt cx="9169560" cy="6873840"/>
          </a:xfrm>
        </p:grpSpPr>
        <p:sp>
          <p:nvSpPr>
            <p:cNvPr id="26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243C-3799-40F0-B74E-DA453FF39429}"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69560" cy="6873840"/>
            <a:chOff x="-7920" y="-7920"/>
            <a:chExt cx="9169560" cy="6873840"/>
          </a:xfrm>
        </p:grpSpPr>
        <p:sp>
          <p:nvSpPr>
            <p:cNvPr id="3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3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5"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9B9E-FD8C-4A52-A3C6-FC3BE7F1CA77}"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Group 16"/>
          <p:cNvGrpSpPr/>
          <p:nvPr/>
        </p:nvGrpSpPr>
        <p:grpSpPr>
          <a:xfrm>
            <a:off x="-7920" y="-7920"/>
            <a:ext cx="9169560" cy="6873840"/>
            <a:chOff x="-7920" y="-7920"/>
            <a:chExt cx="9169560" cy="6873840"/>
          </a:xfrm>
        </p:grpSpPr>
        <p:sp>
          <p:nvSpPr>
            <p:cNvPr id="36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37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77"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C10B-385C-4C77-8B3F-7937EDB01BCD}"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Group 16"/>
          <p:cNvGrpSpPr/>
          <p:nvPr/>
        </p:nvGrpSpPr>
        <p:grpSpPr>
          <a:xfrm>
            <a:off x="-7920" y="-7920"/>
            <a:ext cx="9169560" cy="6873840"/>
            <a:chOff x="-7920" y="-7920"/>
            <a:chExt cx="9169560" cy="6873840"/>
          </a:xfrm>
        </p:grpSpPr>
        <p:sp>
          <p:nvSpPr>
            <p:cNvPr id="41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4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29" name="PlaceHolder 3"/>
          <p:cNvSpPr>
            <a:spLocks noGrp="1"/>
          </p:cNvSpPr>
          <p:nvPr>
            <p:ph type="dt" idx="2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4"/>
          <p:cNvSpPr>
            <a:spLocks noGrp="1"/>
          </p:cNvSpPr>
          <p:nvPr>
            <p:ph type="ftr" idx="2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5"/>
          <p:cNvSpPr>
            <a:spLocks noGrp="1"/>
          </p:cNvSpPr>
          <p:nvPr>
            <p:ph type="sldNum" idx="2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2FC1-8677-4AE8-856F-7B05013EE0FE}"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hyperlink" Target="https://schooltv.nl/video/het-reclamebureau-hoe-maak-je-een-goede-reclame/playlist/43/" TargetMode="External"/><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4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4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4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89.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8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68360" y="404280"/>
            <a:ext cx="582624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Marketing</a:t>
            </a:r>
            <a:endParaRPr b="0" lang="en-US" sz="5400" spc="-1" strike="noStrike">
              <a:solidFill>
                <a:srgbClr val="90c226"/>
              </a:solidFill>
              <a:latin typeface="Trebuchet MS"/>
            </a:endParaRPr>
          </a:p>
        </p:txBody>
      </p:sp>
      <p:sp>
        <p:nvSpPr>
          <p:cNvPr id="1888" name="PlaceHolder 2"/>
          <p:cNvSpPr>
            <a:spLocks noGrp="1"/>
          </p:cNvSpPr>
          <p:nvPr>
            <p:ph type="subTitle"/>
          </p:nvPr>
        </p:nvSpPr>
        <p:spPr>
          <a:xfrm>
            <a:off x="1402920" y="2636640"/>
            <a:ext cx="3537000" cy="1771560"/>
          </a:xfrm>
          <a:prstGeom prst="rect">
            <a:avLst/>
          </a:prstGeom>
          <a:noFill/>
          <a:ln w="0">
            <a:noFill/>
          </a:ln>
        </p:spPr>
        <p:txBody>
          <a:bodyPr anchor="t">
            <a:noAutofit/>
          </a:bodyPr>
          <a:p>
            <a:pPr indent="0" algn="r">
              <a:spcBef>
                <a:spcPts val="1001"/>
              </a:spcBef>
              <a:buNone/>
              <a:tabLst>
                <a:tab algn="l" pos="0"/>
                <a:tab algn="r" pos="619128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7f7f7f"/>
                </a:solidFill>
                <a:latin typeface="Trebuchet MS"/>
              </a:rPr>
              <a:t>Wat en waarom?</a:t>
            </a:r>
            <a:endParaRPr b="0" lang="en-US" sz="3600" spc="-1" strike="noStrike">
              <a:solidFill>
                <a:srgbClr val="404040"/>
              </a:solidFill>
              <a:latin typeface="Trebuchet MS"/>
            </a:endParaRPr>
          </a:p>
          <a:p>
            <a:pPr indent="0" algn="r">
              <a:spcBef>
                <a:spcPts val="1001"/>
              </a:spcBef>
              <a:buNone/>
              <a:tabLst>
                <a:tab algn="l" pos="0"/>
                <a:tab algn="r" pos="619128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404040"/>
              </a:solidFill>
              <a:latin typeface="Trebuchet MS"/>
            </a:endParaRPr>
          </a:p>
          <a:p>
            <a:pPr indent="0" algn="r">
              <a:spcBef>
                <a:spcPts val="1001"/>
              </a:spcBef>
              <a:buNone/>
              <a:tabLst>
                <a:tab algn="l" pos="0"/>
                <a:tab algn="r" pos="619128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404040"/>
              </a:solidFill>
              <a:latin typeface="Trebuchet MS"/>
            </a:endParaRPr>
          </a:p>
        </p:txBody>
      </p:sp>
      <p:pic>
        <p:nvPicPr>
          <p:cNvPr id="1889" name="Picture 7" descr="https://www.communicatietrends.nl/wp-content/uploads/2016/11/reclame-maken_9-punten-min-750x300.jpg"/>
          <p:cNvPicPr/>
          <p:nvPr/>
        </p:nvPicPr>
        <p:blipFill>
          <a:blip r:embed="rId1"/>
          <a:stretch/>
        </p:blipFill>
        <p:spPr>
          <a:xfrm>
            <a:off x="1332000" y="4143240"/>
            <a:ext cx="7215120" cy="23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91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ehoeften begrijpen</a:t>
            </a:r>
            <a:endParaRPr b="0" lang="en-US" sz="3600" spc="-1" strike="noStrike">
              <a:solidFill>
                <a:srgbClr val="90c226"/>
              </a:solidFill>
              <a:latin typeface="Trebuchet MS"/>
            </a:endParaRPr>
          </a:p>
        </p:txBody>
      </p:sp>
      <p:sp>
        <p:nvSpPr>
          <p:cNvPr id="1914" name=""/>
          <p:cNvSpPr txBox="1"/>
          <p:nvPr/>
        </p:nvSpPr>
        <p:spPr>
          <a:xfrm>
            <a:off x="1066680" y="1752120"/>
            <a:ext cx="5639040" cy="7621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iramide van Maslow (1954)</a:t>
            </a:r>
            <a:endParaRPr b="0" lang="en-US" sz="1800" spc="-1" strike="noStrike">
              <a:solidFill>
                <a:srgbClr val="404040"/>
              </a:solidFill>
              <a:latin typeface="Trebuchet MS"/>
            </a:endParaRPr>
          </a:p>
        </p:txBody>
      </p:sp>
      <p:pic>
        <p:nvPicPr>
          <p:cNvPr id="1915"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91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set>
                                <p:cBhvr>
                                  <p:cTn id="117" dur="1" fill="hold"/>
                                  <p:tgtEl>
                                    <p:spTgt spid="19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6" name="Group 20"/>
          <p:cNvGrpSpPr/>
          <p:nvPr/>
        </p:nvGrpSpPr>
        <p:grpSpPr>
          <a:xfrm>
            <a:off x="1981080" y="533520"/>
            <a:ext cx="5639040" cy="5638680"/>
            <a:chOff x="1981080" y="533520"/>
            <a:chExt cx="5639040" cy="5638680"/>
          </a:xfrm>
        </p:grpSpPr>
        <p:sp>
          <p:nvSpPr>
            <p:cNvPr id="1917" name="Oval 2"/>
            <p:cNvSpPr/>
            <p:nvPr/>
          </p:nvSpPr>
          <p:spPr>
            <a:xfrm>
              <a:off x="1981080" y="533520"/>
              <a:ext cx="5639040" cy="5638680"/>
            </a:xfrm>
            <a:prstGeom prst="ellipse">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919"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920"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921"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922"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923"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924" name="Group 19"/>
          <p:cNvGrpSpPr/>
          <p:nvPr/>
        </p:nvGrpSpPr>
        <p:grpSpPr>
          <a:xfrm>
            <a:off x="3087720" y="1584360"/>
            <a:ext cx="3505320" cy="3505320"/>
            <a:chOff x="3087720" y="1584360"/>
            <a:chExt cx="3505320" cy="3505320"/>
          </a:xfrm>
        </p:grpSpPr>
        <p:sp>
          <p:nvSpPr>
            <p:cNvPr id="1925"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927"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928"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929"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930"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924"/>
                                        </p:tgtEl>
                                        <p:attrNameLst>
                                          <p:attrName>style.visibility</p:attrName>
                                        </p:attrNameLst>
                                      </p:cBhvr>
                                      <p:to>
                                        <p:strVal val="visible"/>
                                      </p:to>
                                    </p:set>
                                    <p:anim calcmode="lin" valueType="num">
                                      <p:cBhvr additive="base">
                                        <p:cTn id="124" dur="500" fill="hold"/>
                                        <p:tgtEl>
                                          <p:spTgt spid="1924"/>
                                        </p:tgtEl>
                                        <p:attrNameLst>
                                          <p:attrName>ppt_x</p:attrName>
                                        </p:attrNameLst>
                                      </p:cBhvr>
                                      <p:tavLst>
                                        <p:tav tm="0">
                                          <p:val>
                                            <p:strVal val="0-#ppt_w/2"/>
                                          </p:val>
                                        </p:tav>
                                        <p:tav tm="100000">
                                          <p:val>
                                            <p:strVal val="#ppt_x"/>
                                          </p:val>
                                        </p:tav>
                                      </p:tavLst>
                                    </p:anim>
                                    <p:anim calcmode="lin" valueType="num">
                                      <p:cBhvr additive="base">
                                        <p:cTn id="125" dur="500" fill="hold"/>
                                        <p:tgtEl>
                                          <p:spTgt spid="1924"/>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916"/>
                                        </p:tgtEl>
                                        <p:attrNameLst>
                                          <p:attrName>style.visibility</p:attrName>
                                        </p:attrNameLst>
                                      </p:cBhvr>
                                      <p:to>
                                        <p:strVal val="visible"/>
                                      </p:to>
                                    </p:set>
                                    <p:anim calcmode="lin" valueType="num">
                                      <p:cBhvr additive="base">
                                        <p:cTn id="130" dur="500" fill="hold"/>
                                        <p:tgtEl>
                                          <p:spTgt spid="1916"/>
                                        </p:tgtEl>
                                        <p:attrNameLst>
                                          <p:attrName>ppt_x</p:attrName>
                                        </p:attrNameLst>
                                      </p:cBhvr>
                                      <p:tavLst>
                                        <p:tav tm="0">
                                          <p:val>
                                            <p:strVal val="0-#ppt_w/2"/>
                                          </p:val>
                                        </p:tav>
                                        <p:tav tm="100000">
                                          <p:val>
                                            <p:strVal val="#ppt_x"/>
                                          </p:val>
                                        </p:tav>
                                      </p:tavLst>
                                    </p:anim>
                                    <p:anim calcmode="lin" valueType="num">
                                      <p:cBhvr additive="base">
                                        <p:cTn id="131" dur="500" fill="hold"/>
                                        <p:tgtEl>
                                          <p:spTgt spid="1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100% tevreden klanten?</a:t>
            </a:r>
            <a:endParaRPr b="0" lang="en-US" sz="3600" spc="-1" strike="noStrike">
              <a:solidFill>
                <a:srgbClr val="90c226"/>
              </a:solidFill>
              <a:latin typeface="Trebuchet MS"/>
            </a:endParaRPr>
          </a:p>
        </p:txBody>
      </p:sp>
      <p:sp>
        <p:nvSpPr>
          <p:cNvPr id="1932" name=""/>
          <p:cNvSpPr txBox="1"/>
          <p:nvPr/>
        </p:nvSpPr>
        <p:spPr>
          <a:xfrm>
            <a:off x="1066320" y="1752480"/>
            <a:ext cx="7620120" cy="46483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Een tevreden medewerker zorgt voor een tevreden klant </a:t>
            </a:r>
            <a:endParaRPr b="0" lang="en-US" sz="3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Times New Roman"/>
              </a:rPr>
              <a:t>→ </a:t>
            </a:r>
            <a:r>
              <a:rPr b="0" lang="en-US" sz="3200" spc="-1" strike="noStrike">
                <a:solidFill>
                  <a:srgbClr val="404040"/>
                </a:solidFill>
                <a:latin typeface="Trebuchet MS"/>
              </a:rPr>
              <a:t>Waarom is Jumbo de snelst groeiende supermarket? </a:t>
            </a:r>
            <a:endParaRPr b="0" lang="en-US" sz="3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539640" y="17892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et succes van Jumbo</a:t>
            </a:r>
            <a:endParaRPr b="0" lang="en-US" sz="3600" spc="-1" strike="noStrike">
              <a:solidFill>
                <a:srgbClr val="90c226"/>
              </a:solidFill>
              <a:latin typeface="Trebuchet MS"/>
            </a:endParaRPr>
          </a:p>
        </p:txBody>
      </p:sp>
      <p:sp>
        <p:nvSpPr>
          <p:cNvPr id="1934" name=""/>
          <p:cNvSpPr txBox="1"/>
          <p:nvPr/>
        </p:nvSpPr>
        <p:spPr>
          <a:xfrm>
            <a:off x="394920" y="1052280"/>
            <a:ext cx="7620120" cy="47242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Brabants familiebedrijf (sinds 1921)</a:t>
            </a:r>
            <a:endParaRPr b="0" lang="en-US" sz="32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Klantenonderzoek (jaren ’90) naar de grootste supermarktergernissen</a:t>
            </a:r>
            <a:endParaRPr b="0" lang="en-US" sz="32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Bouwt ergernissen om naar zekerheden</a:t>
            </a:r>
            <a:endParaRPr b="0" lang="en-US" sz="3200" spc="-1" strike="noStrike">
              <a:solidFill>
                <a:srgbClr val="404040"/>
              </a:solidFill>
              <a:latin typeface="Trebuchet MS"/>
            </a:endParaRPr>
          </a:p>
          <a:p>
            <a:pPr lvl="1" marL="683280" indent="-2628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3 speerpunten:</a:t>
            </a:r>
            <a:endParaRPr b="0" lang="en-US" sz="3200" spc="-1" strike="noStrike">
              <a:solidFill>
                <a:srgbClr val="404040"/>
              </a:solidFill>
              <a:latin typeface="Trebuchet MS"/>
            </a:endParaRPr>
          </a:p>
          <a:p>
            <a:pPr lvl="2" marL="1051560" indent="-21024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404040"/>
                </a:solidFill>
                <a:latin typeface="Trebuchet MS"/>
              </a:rPr>
              <a:t>de laagste prijs</a:t>
            </a:r>
            <a:endParaRPr b="0" lang="en-US" sz="3200" spc="-1" strike="noStrike">
              <a:solidFill>
                <a:srgbClr val="404040"/>
              </a:solidFill>
              <a:latin typeface="Trebuchet MS"/>
            </a:endParaRPr>
          </a:p>
          <a:p>
            <a:pPr lvl="2" marL="1051560" indent="-21024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404040"/>
                </a:solidFill>
                <a:latin typeface="Trebuchet MS"/>
              </a:rPr>
              <a:t>het breedste assortiment</a:t>
            </a:r>
            <a:endParaRPr b="0" lang="en-US" sz="3200" spc="-1" strike="noStrike">
              <a:solidFill>
                <a:srgbClr val="404040"/>
              </a:solidFill>
              <a:latin typeface="Trebuchet MS"/>
            </a:endParaRPr>
          </a:p>
          <a:p>
            <a:pPr lvl="2" marL="1051560" indent="-21024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404040"/>
                </a:solidFill>
                <a:latin typeface="Trebuchet MS"/>
              </a:rPr>
              <a:t>de beste servic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934">
                                            <p:txEl>
                                              <p:pRg st="1" end="1"/>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934">
                                            <p:txEl>
                                              <p:pRg st="2" end="2"/>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934">
                                            <p:txEl>
                                              <p:pRg st="3" end="3"/>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934">
                                            <p:txEl>
                                              <p:pRg st="4" end="4"/>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934">
                                            <p:txEl>
                                              <p:pRg st="5" end="5"/>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9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Jumbo kijkt naar:</a:t>
            </a:r>
            <a:endParaRPr b="0" lang="en-US" sz="3600" spc="-1" strike="noStrike">
              <a:solidFill>
                <a:srgbClr val="90c226"/>
              </a:solidFill>
              <a:latin typeface="Trebuchet MS"/>
            </a:endParaRPr>
          </a:p>
        </p:txBody>
      </p:sp>
      <p:sp>
        <p:nvSpPr>
          <p:cNvPr id="19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Wat wil de klant?</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Vervolgens moet je de klant ervan overtuigen dat ze bij jou willen “kope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Hoe maak ik goede reclam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u="sng">
                <a:solidFill>
                  <a:srgbClr val="99ca3c"/>
                </a:solidFill>
                <a:uFillTx/>
                <a:latin typeface="Trebuchet MS"/>
                <a:hlinkClick r:id="rId1"/>
              </a:rPr>
              <a:t>https://schooltv.nl/video/het-reclamebureau-hoe-maak-je-een-goede-reclame/playlist/43/</a:t>
            </a: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repeatCount="1000">
                                  <p:stCondLst>
                                    <p:cond delay="0"/>
                                  </p:stCondLst>
                                  <p:childTnLst>
                                    <p:set>
                                      <p:cBhvr>
                                        <p:cTn id="155" dur="1" fill="hold">
                                          <p:stCondLst>
                                            <p:cond delay="0"/>
                                          </p:stCondLst>
                                        </p:cTn>
                                        <p:tgtEl>
                                          <p:spTgt spid="1936">
                                            <p:txEl>
                                              <p:pRg st="0" end="0"/>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1936">
                                            <p:txEl>
                                              <p:pRg st="1" end="1"/>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1936">
                                            <p:txEl>
                                              <p:pRg st="3" end="3"/>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9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2 Onderdelen van Marketing</a:t>
            </a:r>
            <a:endParaRPr b="0" lang="en-US" sz="3600" spc="-1" strike="noStrike">
              <a:solidFill>
                <a:srgbClr val="90c226"/>
              </a:solidFill>
              <a:latin typeface="Trebuchet MS"/>
            </a:endParaRPr>
          </a:p>
        </p:txBody>
      </p:sp>
      <p:sp>
        <p:nvSpPr>
          <p:cNvPr id="1938" name=""/>
          <p:cNvSpPr txBox="1"/>
          <p:nvPr/>
        </p:nvSpPr>
        <p:spPr>
          <a:xfrm>
            <a:off x="609120" y="2160360"/>
            <a:ext cx="4970520" cy="44463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ANALYS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404040"/>
                </a:solidFill>
                <a:latin typeface="Trebuchet MS"/>
              </a:rPr>
              <a:t>Marktonderzoek</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ie/wat/waar etc.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1939" name=""/>
          <p:cNvSpPr txBox="1"/>
          <p:nvPr/>
        </p:nvSpPr>
        <p:spPr>
          <a:xfrm>
            <a:off x="4605120" y="1547640"/>
            <a:ext cx="5275080" cy="38815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PROGRAMMA</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404040"/>
                </a:solidFill>
                <a:latin typeface="Trebuchet MS"/>
              </a:rPr>
              <a:t>Marketingplan</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Visie en Missi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Doelstellingen</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trategi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Bedenk iets opvallends!</a:t>
            </a:r>
            <a:endParaRPr b="0" lang="en-US" sz="2800" spc="-1" strike="noStrike">
              <a:solidFill>
                <a:srgbClr val="404040"/>
              </a:solidFill>
              <a:latin typeface="Trebuchet MS"/>
            </a:endParaRPr>
          </a:p>
        </p:txBody>
      </p:sp>
      <p:pic>
        <p:nvPicPr>
          <p:cNvPr id="1940" name="Picture 7" descr="Paarse koe"/>
          <p:cNvPicPr/>
          <p:nvPr/>
        </p:nvPicPr>
        <p:blipFill>
          <a:blip r:embed="rId1"/>
          <a:stretch/>
        </p:blipFill>
        <p:spPr>
          <a:xfrm>
            <a:off x="6675480" y="5243400"/>
            <a:ext cx="1752480" cy="1154160"/>
          </a:xfrm>
          <a:prstGeom prst="rect">
            <a:avLst/>
          </a:prstGeom>
          <a:ln w="0">
            <a:noFill/>
          </a:ln>
        </p:spPr>
      </p:pic>
      <p:sp>
        <p:nvSpPr>
          <p:cNvPr id="1941" name="Tekstvak 1"/>
          <p:cNvSpPr/>
          <p:nvPr/>
        </p:nvSpPr>
        <p:spPr>
          <a:xfrm>
            <a:off x="250920" y="4643280"/>
            <a:ext cx="663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Times New Roman"/>
              </a:rPr>
              <a:t>http://www.youtube.com/watch?v=xBIVlM435Zg het verhaal van de paarse ko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1939">
                                            <p:txEl>
                                              <p:pRg st="0" end="0"/>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939">
                                            <p:txEl>
                                              <p:pRg st="1" end="1"/>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939">
                                            <p:txEl>
                                              <p:pRg st="2" end="2"/>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939">
                                            <p:txEl>
                                              <p:pRg st="3" end="3"/>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1939">
                                            <p:txEl>
                                              <p:pRg st="4" end="4"/>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1939">
                                            <p:txEl>
                                              <p:pRg st="5" end="5"/>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1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2"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3"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9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Met de bus naar de dierentuin</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title"/>
          </p:nvPr>
        </p:nvSpPr>
        <p:spPr>
          <a:xfrm>
            <a:off x="611280" y="190080"/>
            <a:ext cx="6348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pdracht voor vandaag</a:t>
            </a:r>
            <a:endParaRPr b="0" lang="en-US" sz="3600" spc="-1" strike="noStrike">
              <a:solidFill>
                <a:srgbClr val="90c226"/>
              </a:solidFill>
              <a:latin typeface="Trebuchet MS"/>
            </a:endParaRPr>
          </a:p>
        </p:txBody>
      </p:sp>
      <p:sp>
        <p:nvSpPr>
          <p:cNvPr id="1946" name=""/>
          <p:cNvSpPr txBox="1"/>
          <p:nvPr/>
        </p:nvSpPr>
        <p:spPr>
          <a:xfrm>
            <a:off x="178920" y="1052640"/>
            <a:ext cx="8137800" cy="4572000"/>
          </a:xfrm>
          <a:prstGeom prst="rect">
            <a:avLst/>
          </a:prstGeom>
          <a:noFill/>
          <a:ln w="0">
            <a:noFill/>
          </a:ln>
        </p:spPr>
        <p:txBody>
          <a:bodyPr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Een doelgroep beschrijf je aan de hand van 4 specifieke kenmerken. Zoek eens op wat ze betekenen:</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geografisch</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demografisch</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sociaal-economisch</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koopgedrag</a:t>
            </a:r>
            <a:endParaRPr b="0" lang="en-US" sz="3200" spc="-1" strike="noStrike">
              <a:solidFill>
                <a:srgbClr val="404040"/>
              </a:solidFill>
              <a:latin typeface="Trebuchet MS"/>
            </a:endParaRPr>
          </a:p>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u="sng">
                <a:solidFill>
                  <a:srgbClr val="99ca3c"/>
                </a:solidFill>
                <a:uFillTx/>
                <a:latin typeface="Trebuchet MS"/>
                <a:hlinkClick r:id="rId1"/>
              </a:rPr>
              <a:t>http://www.leerwiki.nl/Hoe_segmenteer_je_een_markt</a:t>
            </a:r>
            <a:r>
              <a:rPr b="0" lang="en-US" sz="3200" spc="-1" strike="noStrike">
                <a:solidFill>
                  <a:srgbClr val="404040"/>
                </a:solidFill>
                <a:latin typeface="Trebuchet MS"/>
              </a:rPr>
              <a:t> </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946">
                                            <p:txEl>
                                              <p:pRg st="0" end="0"/>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499"/>
                                          </p:stCondLst>
                                        </p:cTn>
                                        <p:tgtEl>
                                          <p:spTgt spid="1946">
                                            <p:txEl>
                                              <p:pRg st="1" end="1"/>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499"/>
                                          </p:stCondLst>
                                        </p:cTn>
                                        <p:tgtEl>
                                          <p:spTgt spid="1946">
                                            <p:txEl>
                                              <p:pRg st="2" end="2"/>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499"/>
                                          </p:stCondLst>
                                        </p:cTn>
                                        <p:tgtEl>
                                          <p:spTgt spid="1946">
                                            <p:txEl>
                                              <p:pRg st="3" end="3"/>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499"/>
                                          </p:stCondLst>
                                        </p:cTn>
                                        <p:tgtEl>
                                          <p:spTgt spid="1946">
                                            <p:txEl>
                                              <p:pRg st="4" end="4"/>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19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pdracht voor volgende les</a:t>
            </a:r>
            <a:endParaRPr b="0" lang="en-US" sz="3600" spc="-1" strike="noStrike">
              <a:solidFill>
                <a:srgbClr val="90c226"/>
              </a:solidFill>
              <a:latin typeface="Trebuchet MS"/>
            </a:endParaRPr>
          </a:p>
        </p:txBody>
      </p:sp>
      <p:sp>
        <p:nvSpPr>
          <p:cNvPr id="1948" name=""/>
          <p:cNvSpPr txBox="1"/>
          <p:nvPr/>
        </p:nvSpPr>
        <p:spPr>
          <a:xfrm>
            <a:off x="1066320" y="1752480"/>
            <a:ext cx="7620120" cy="45720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rebuchet MS"/>
              </a:rPr>
              <a:t>Vraag na op je stagebedrijf wat de kenmerken zijn van hun doelgroep. Beschrijf deze doelgroep aan de hand van 5 specifieke kenmerken:</a:t>
            </a:r>
            <a:endParaRPr b="0" lang="en-US" sz="2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Geografisch……WAAR?</a:t>
            </a:r>
            <a:endParaRPr b="0" lang="en-US" sz="22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Demografisch……wie?</a:t>
            </a:r>
            <a:endParaRPr b="0" lang="en-US" sz="22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sociaal-economisch…..Waarom?</a:t>
            </a:r>
            <a:endParaRPr b="0" lang="en-US" sz="22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Koopgedrag………Waarom onze? </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rebuchet MS"/>
              </a:rPr>
              <a:t>Schrijf op hoe je denkt er achter te kunnen komen met welke verwachtingen, behoeften en wensen de klanten bij het bedrijf komen.</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Waar denk je aan bij marketing?</a:t>
            </a:r>
            <a:br>
              <a:rPr sz="3200"/>
            </a:br>
            <a:br>
              <a:rPr sz="3200"/>
            </a:br>
            <a:endParaRPr b="0" lang="en-US" sz="3200" spc="-1" strike="noStrike">
              <a:solidFill>
                <a:srgbClr val="90c226"/>
              </a:solidFill>
              <a:latin typeface="Trebuchet MS"/>
            </a:endParaRPr>
          </a:p>
        </p:txBody>
      </p:sp>
      <p:sp>
        <p:nvSpPr>
          <p:cNvPr id="1891" name=""/>
          <p:cNvSpPr txBox="1"/>
          <p:nvPr/>
        </p:nvSpPr>
        <p:spPr>
          <a:xfrm>
            <a:off x="899640" y="2133360"/>
            <a:ext cx="7620120" cy="17478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werkt adverter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dverteren = Manipulere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1892" name="Picture 5" descr="Afbeeldingsresultaat voor coca cola"/>
          <p:cNvPicPr/>
          <p:nvPr/>
        </p:nvPicPr>
        <p:blipFill>
          <a:blip r:embed="rId1"/>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8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8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Marketing Mix</a:t>
            </a:r>
            <a:endParaRPr b="0" lang="en-US" sz="3600" spc="-1" strike="noStrike">
              <a:solidFill>
                <a:srgbClr val="90c226"/>
              </a:solidFill>
              <a:latin typeface="Trebuchet MS"/>
            </a:endParaRPr>
          </a:p>
        </p:txBody>
      </p:sp>
      <p:pic>
        <p:nvPicPr>
          <p:cNvPr id="1950"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MARKETING MIX</a:t>
            </a:r>
            <a:endParaRPr b="0" lang="en-US" sz="3600" spc="-1" strike="noStrike">
              <a:solidFill>
                <a:srgbClr val="90c226"/>
              </a:solidFill>
              <a:latin typeface="Trebuchet MS"/>
            </a:endParaRPr>
          </a:p>
        </p:txBody>
      </p:sp>
      <p:pic>
        <p:nvPicPr>
          <p:cNvPr id="1952" name="Picture 2" descr="Marketingmix 4 P's"/>
          <p:cNvPicPr/>
          <p:nvPr/>
        </p:nvPicPr>
        <p:blipFill>
          <a:blip r:embed="rId1"/>
          <a:stretch/>
        </p:blipFill>
        <p:spPr>
          <a:xfrm>
            <a:off x="2265480" y="2160720"/>
            <a:ext cx="3036600" cy="388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roduct</a:t>
            </a:r>
            <a:endParaRPr b="0" lang="en-US" sz="3600" spc="-1" strike="noStrike">
              <a:solidFill>
                <a:srgbClr val="90c226"/>
              </a:solidFill>
              <a:latin typeface="Trebuchet MS"/>
            </a:endParaRPr>
          </a:p>
        </p:txBody>
      </p:sp>
      <p:sp>
        <p:nvSpPr>
          <p:cNvPr id="1954" name=""/>
          <p:cNvSpPr txBox="1"/>
          <p:nvPr/>
        </p:nvSpPr>
        <p:spPr>
          <a:xfrm>
            <a:off x="293760" y="1269720"/>
            <a:ext cx="7619760" cy="4647960"/>
          </a:xfrm>
          <a:prstGeom prst="rect">
            <a:avLst/>
          </a:prstGeom>
          <a:noFill/>
          <a:ln w="0">
            <a:noFill/>
          </a:ln>
        </p:spPr>
        <p:txBody>
          <a:bodyPr anchor="t">
            <a:normAutofit fontScale="88000"/>
          </a:bodyPr>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Waarvoor dient het?</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Wat is het precies?</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Materiaal, kleur, formaat, etc.</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Slagingskansen</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Andere leuke zaken in de school</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Hoe werkt het bij ons? </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Wat zouden we moeten doen met de “verpakking”  (denk aan het gebouw, de advertenties, maar ook wat we ze meegeven….)</a:t>
            </a:r>
            <a:endParaRPr b="0" lang="en-US" sz="3200" spc="-1" strike="noStrike">
              <a:solidFill>
                <a:srgbClr val="404040"/>
              </a:solidFill>
              <a:latin typeface="Trebuchet MS"/>
            </a:endParaRPr>
          </a:p>
        </p:txBody>
      </p:sp>
      <p:pic>
        <p:nvPicPr>
          <p:cNvPr id="1955" name="Picture 2" descr="Afbeeldingsresultaat voor kok die kookt"/>
          <p:cNvPicPr/>
          <p:nvPr/>
        </p:nvPicPr>
        <p:blipFill>
          <a:blip r:embed="rId1"/>
          <a:stretch/>
        </p:blipFill>
        <p:spPr>
          <a:xfrm>
            <a:off x="6084720" y="476280"/>
            <a:ext cx="295128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WordArt 3"/>
          <p:cNvSpPr txBox="1"/>
          <p:nvPr/>
        </p:nvSpPr>
        <p:spPr>
          <a:xfrm>
            <a:off x="1763640" y="62064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957" name=""/>
          <p:cNvSpPr txBox="1"/>
          <p:nvPr/>
        </p:nvSpPr>
        <p:spPr>
          <a:xfrm>
            <a:off x="611280" y="4149360"/>
            <a:ext cx="7696080" cy="1523880"/>
          </a:xfrm>
          <a:prstGeom prst="rect">
            <a:avLst/>
          </a:prstGeom>
          <a:noFill/>
          <a:ln w="0">
            <a:noFill/>
          </a:ln>
        </p:spPr>
        <p:txBody>
          <a:bodyPr anchor="t">
            <a:normAutofit fontScale="86000"/>
          </a:bodyPr>
          <a:p>
            <a:pPr marL="294840" indent="-2948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Iets wat de moeite waard is om over te praten</a:t>
            </a:r>
            <a:endParaRPr b="0" lang="en-US" sz="2800" spc="-1" strike="noStrike">
              <a:solidFill>
                <a:srgbClr val="404040"/>
              </a:solidFill>
              <a:latin typeface="Trebuchet MS"/>
            </a:endParaRPr>
          </a:p>
          <a:p>
            <a:pPr marL="294840" indent="-2948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Iets wat de moeite waard is om voor om te fietsen</a:t>
            </a:r>
            <a:endParaRPr b="0" lang="en-US" sz="2800" spc="-1" strike="noStrike">
              <a:solidFill>
                <a:srgbClr val="404040"/>
              </a:solidFill>
              <a:latin typeface="Trebuchet MS"/>
            </a:endParaRPr>
          </a:p>
          <a:p>
            <a:pPr marL="294840" indent="-2948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Iets wat je op facebook zet</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entr" presetID="9">
                                  <p:stCondLst>
                                    <p:cond delay="0"/>
                                  </p:stCondLst>
                                  <p:childTnLst>
                                    <p:set>
                                      <p:cBhvr>
                                        <p:cTn id="221" dur="1" fill="hold">
                                          <p:stCondLst>
                                            <p:cond delay="0"/>
                                          </p:stCondLst>
                                        </p:cTn>
                                        <p:tgtEl>
                                          <p:spTgt spid="1956"/>
                                        </p:tgtEl>
                                        <p:attrNameLst>
                                          <p:attrName>style.visibility</p:attrName>
                                        </p:attrNameLst>
                                      </p:cBhvr>
                                      <p:to>
                                        <p:strVal val="visible"/>
                                      </p:to>
                                    </p:set>
                                    <p:animEffect filter="dissolve" transition="in">
                                      <p:cBhvr additive="repl">
                                        <p:cTn id="222" dur="500"/>
                                        <p:tgtEl>
                                          <p:spTgt spid="1956"/>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957">
                                            <p:txEl>
                                              <p:pRg st="0" end="0"/>
                                            </p:txEl>
                                          </p:spTgt>
                                        </p:tgtEl>
                                        <p:attrNameLst>
                                          <p:attrName>style.visibility</p:attrName>
                                        </p:attrNameLst>
                                      </p:cBhvr>
                                      <p:to>
                                        <p:strVal val="visible"/>
                                      </p:to>
                                    </p:set>
                                    <p:anim calcmode="lin" valueType="num">
                                      <p:cBhvr additive="base">
                                        <p:cTn id="227" dur="500" fill="hold"/>
                                        <p:tgtEl>
                                          <p:spTgt spid="1957">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9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957">
                                            <p:txEl>
                                              <p:pRg st="1" end="1"/>
                                            </p:txEl>
                                          </p:spTgt>
                                        </p:tgtEl>
                                        <p:attrNameLst>
                                          <p:attrName>style.visibility</p:attrName>
                                        </p:attrNameLst>
                                      </p:cBhvr>
                                      <p:to>
                                        <p:strVal val="visible"/>
                                      </p:to>
                                    </p:set>
                                    <p:anim calcmode="lin" valueType="num">
                                      <p:cBhvr additive="base">
                                        <p:cTn id="233" dur="500" fill="hold"/>
                                        <p:tgtEl>
                                          <p:spTgt spid="1957">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9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957">
                                            <p:txEl>
                                              <p:pRg st="2" end="2"/>
                                            </p:txEl>
                                          </p:spTgt>
                                        </p:tgtEl>
                                        <p:attrNameLst>
                                          <p:attrName>style.visibility</p:attrName>
                                        </p:attrNameLst>
                                      </p:cBhvr>
                                      <p:to>
                                        <p:strVal val="visible"/>
                                      </p:to>
                                    </p:set>
                                    <p:anim calcmode="lin" valueType="num">
                                      <p:cBhvr additive="base">
                                        <p:cTn id="239" dur="500" fill="hold"/>
                                        <p:tgtEl>
                                          <p:spTgt spid="1957">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9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erhaling van vorige les</a:t>
            </a:r>
            <a:endParaRPr b="0" lang="en-US" sz="3600" spc="-1" strike="noStrike">
              <a:solidFill>
                <a:srgbClr val="90c226"/>
              </a:solidFill>
              <a:latin typeface="Trebuchet MS"/>
            </a:endParaRPr>
          </a:p>
        </p:txBody>
      </p:sp>
      <p:sp>
        <p:nvSpPr>
          <p:cNvPr id="1959" name=""/>
          <p:cNvSpPr txBox="1"/>
          <p:nvPr/>
        </p:nvSpPr>
        <p:spPr>
          <a:xfrm>
            <a:off x="1066320" y="1752480"/>
            <a:ext cx="7620120" cy="45720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en doelgroep is een min of meer homogene klantengroep</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ordt zo nauw mogelijk omschreven aan de hand van 5 specifieke kenmerken:</a:t>
            </a:r>
            <a:endParaRPr b="0" lang="en-US" sz="18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WAAR?</a:t>
            </a:r>
            <a:endParaRPr b="0" lang="en-US" sz="3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Wie?</a:t>
            </a:r>
            <a:endParaRPr b="0" lang="en-US" sz="3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Waarom?</a:t>
            </a:r>
            <a:endParaRPr b="0" lang="en-US" sz="3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WAAROM DEZE?</a:t>
            </a:r>
            <a:endParaRPr b="0" lang="en-US" sz="3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vrije tijd</a:t>
            </a:r>
            <a:endParaRPr b="0" lang="en-US" sz="3600" spc="-1" strike="noStrike">
              <a:solidFill>
                <a:srgbClr val="404040"/>
              </a:solidFill>
              <a:latin typeface="Trebuchet MS"/>
            </a:endParaRPr>
          </a:p>
        </p:txBody>
      </p:sp>
      <p:sp>
        <p:nvSpPr>
          <p:cNvPr id="1960" name="AutoShape 4"/>
          <p:cNvSpPr/>
          <p:nvPr/>
        </p:nvSpPr>
        <p:spPr>
          <a:xfrm>
            <a:off x="5410080" y="3962520"/>
            <a:ext cx="2514600" cy="1904760"/>
          </a:xfrm>
          <a:prstGeom prst="leftArrowCallout">
            <a:avLst>
              <a:gd name="adj1" fmla="val 25002"/>
              <a:gd name="adj2" fmla="val 25000"/>
              <a:gd name="adj3" fmla="val 22003"/>
              <a:gd name="adj4" fmla="val 66673"/>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schrij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ij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ze 5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mer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960"/>
                                        </p:tgtEl>
                                        <p:attrNameLst>
                                          <p:attrName>style.visibility</p:attrName>
                                        </p:attrNameLst>
                                      </p:cBhvr>
                                      <p:to>
                                        <p:strVal val="visible"/>
                                      </p:to>
                                    </p:set>
                                    <p:anim calcmode="lin" valueType="num">
                                      <p:cBhvr additive="base">
                                        <p:cTn id="247" dur="500" fill="hold"/>
                                        <p:tgtEl>
                                          <p:spTgt spid="1960"/>
                                        </p:tgtEl>
                                        <p:attrNameLst>
                                          <p:attrName>ppt_x</p:attrName>
                                        </p:attrNameLst>
                                      </p:cBhvr>
                                      <p:tavLst>
                                        <p:tav tm="0">
                                          <p:val>
                                            <p:strVal val="1+#ppt_w/2"/>
                                          </p:val>
                                        </p:tav>
                                        <p:tav tm="100000">
                                          <p:val>
                                            <p:strVal val="#ppt_x"/>
                                          </p:val>
                                        </p:tav>
                                      </p:tavLst>
                                    </p:anim>
                                    <p:anim calcmode="lin" valueType="num">
                                      <p:cBhvr additive="base">
                                        <p:cTn id="248" dur="500" fill="hold"/>
                                        <p:tgtEl>
                                          <p:spTgt spid="1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Marketing Mix</a:t>
            </a:r>
            <a:endParaRPr b="0" lang="en-US" sz="3600" spc="-1" strike="noStrike">
              <a:solidFill>
                <a:srgbClr val="90c226"/>
              </a:solidFill>
              <a:latin typeface="Trebuchet MS"/>
            </a:endParaRPr>
          </a:p>
        </p:txBody>
      </p:sp>
      <p:sp>
        <p:nvSpPr>
          <p:cNvPr id="1962" name=""/>
          <p:cNvSpPr txBox="1"/>
          <p:nvPr/>
        </p:nvSpPr>
        <p:spPr>
          <a:xfrm>
            <a:off x="600120" y="1483920"/>
            <a:ext cx="6780240" cy="4724280"/>
          </a:xfrm>
          <a:prstGeom prst="rect">
            <a:avLst/>
          </a:prstGeom>
          <a:noFill/>
          <a:ln w="0">
            <a:noFill/>
          </a:ln>
        </p:spPr>
        <p:txBody>
          <a:bodyPr anchor="t">
            <a:normAutofit fontScale="96000"/>
          </a:bodyPr>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Model van McCarthy: de 4 P’s</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Prijs </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Promotie</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Product</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Plaats / Distributie</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Diverse extra P’s, zoals:</a:t>
            </a:r>
            <a:endParaRPr b="0" lang="en-US" sz="3200" spc="-1" strike="noStrike">
              <a:solidFill>
                <a:srgbClr val="404040"/>
              </a:solidFill>
              <a:latin typeface="Trebuchet MS"/>
            </a:endParaRPr>
          </a:p>
          <a:p>
            <a:pPr lvl="1" marL="713160" indent="-27432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Personeel</a:t>
            </a:r>
            <a:endParaRPr b="0" lang="en-US" sz="3200" spc="-1" strike="noStrike">
              <a:solidFill>
                <a:srgbClr val="404040"/>
              </a:solidFill>
              <a:latin typeface="Trebuchet MS"/>
            </a:endParaRPr>
          </a:p>
          <a:p>
            <a:pPr lvl="1" marL="713160" indent="-27432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Presentati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3" name="Picture 2" descr="Marketingmix 4 P's"/>
          <p:cNvPicPr/>
          <p:nvPr/>
        </p:nvPicPr>
        <p:blipFill>
          <a:blip r:embed="rId1"/>
          <a:stretch/>
        </p:blipFill>
        <p:spPr>
          <a:xfrm>
            <a:off x="1042920" y="450720"/>
            <a:ext cx="7705800" cy="595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title"/>
          </p:nvPr>
        </p:nvSpPr>
        <p:spPr>
          <a:xfrm>
            <a:off x="250920" y="259920"/>
            <a:ext cx="6348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NOG 2 P’s</a:t>
            </a:r>
            <a:endParaRPr b="0" lang="en-US" sz="3600" spc="-1" strike="noStrike">
              <a:solidFill>
                <a:srgbClr val="90c226"/>
              </a:solidFill>
              <a:latin typeface="Trebuchet MS"/>
            </a:endParaRPr>
          </a:p>
        </p:txBody>
      </p:sp>
      <p:sp>
        <p:nvSpPr>
          <p:cNvPr id="1965" name="Tekstvak 2"/>
          <p:cNvSpPr/>
          <p:nvPr/>
        </p:nvSpPr>
        <p:spPr>
          <a:xfrm>
            <a:off x="611280" y="1052640"/>
            <a:ext cx="77770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ERSONEEL;</a:t>
            </a:r>
            <a:endParaRPr b="0" lang="en-US" sz="24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elke kennis moet het personeel hebben?</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Hoe belonen wij ons personeel?</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at zijn de carrièremogelijkheden?</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Etc.</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0000"/>
                </a:solidFill>
                <a:latin typeface="Trebuchet MS"/>
              </a:rPr>
              <a:t>PROCES;</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elke stappen moet een klant doen om ons product te verkrijgen?</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elke procedure volgen we als de klant niet tevreden is?</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anneer communiceren we met de kl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965">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965">
                                            <p:txEl>
                                              <p:pRg st="1" end="1"/>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965">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965">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96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965">
                                            <p:txEl>
                                              <p:pRg st="6" end="6"/>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965">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65">
                                            <p:txEl>
                                              <p:pRg st="8" end="8"/>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6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title"/>
          </p:nvPr>
        </p:nvSpPr>
        <p:spPr>
          <a:xfrm>
            <a:off x="1066320" y="380520"/>
            <a:ext cx="76201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Opdracht; Maak een Marketing Mix voor het Ravelijn</a:t>
            </a:r>
            <a:endParaRPr b="0" lang="en-US" sz="3200" spc="-1" strike="noStrike">
              <a:solidFill>
                <a:srgbClr val="90c226"/>
              </a:solidFill>
              <a:latin typeface="Trebuchet MS"/>
            </a:endParaRPr>
          </a:p>
        </p:txBody>
      </p:sp>
      <p:graphicFrame>
        <p:nvGraphicFramePr>
          <p:cNvPr id="1967" name="Object 3"/>
          <p:cNvGraphicFramePr/>
          <p:nvPr/>
        </p:nvGraphicFramePr>
        <p:xfrm>
          <a:off x="1690560" y="1752480"/>
          <a:ext cx="6372360" cy="4114800"/>
        </p:xfrm>
        <a:graphic>
          <a:graphicData uri="http://schemas.openxmlformats.org/presentationml/2006/ole">
            <p:oleObj r:id="rId1" spid="">
              <p:embed/>
              <p:pic>
                <p:nvPicPr>
                  <p:cNvPr id="1968" name="Object 3" descr=""/>
                  <p:cNvPicPr/>
                  <p:nvPr/>
                </p:nvPicPr>
                <p:blipFill>
                  <a:blip r:embed="rId2"/>
                  <a:stretch/>
                </p:blipFill>
                <p:spPr>
                  <a:xfrm>
                    <a:off x="1690560" y="1752480"/>
                    <a:ext cx="6372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9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ehoeften vs. Wensen</a:t>
            </a:r>
            <a:endParaRPr b="0" lang="en-US" sz="3600" spc="-1" strike="noStrike">
              <a:solidFill>
                <a:srgbClr val="90c226"/>
              </a:solidFill>
              <a:latin typeface="Trebuchet MS"/>
            </a:endParaRPr>
          </a:p>
        </p:txBody>
      </p:sp>
      <p:sp>
        <p:nvSpPr>
          <p:cNvPr id="1970" name=""/>
          <p:cNvSpPr txBox="1"/>
          <p:nvPr/>
        </p:nvSpPr>
        <p:spPr>
          <a:xfrm>
            <a:off x="484200" y="1341000"/>
            <a:ext cx="3733920" cy="4343400"/>
          </a:xfrm>
          <a:prstGeom prst="rect">
            <a:avLst/>
          </a:prstGeom>
          <a:noFill/>
          <a:ln w="0">
            <a:noFill/>
          </a:ln>
        </p:spPr>
        <p:txBody>
          <a:bodyPr anchor="t">
            <a:normAutofit fontScale="91000"/>
          </a:bodyPr>
          <a:p>
            <a:pPr marL="312120" indent="-31212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Als de behoefte niet kan, ontstaat een </a:t>
            </a:r>
            <a:r>
              <a:rPr b="1" lang="en-US" sz="3200" spc="-1" strike="noStrike">
                <a:solidFill>
                  <a:srgbClr val="404040"/>
                </a:solidFill>
                <a:latin typeface="Trebuchet MS"/>
              </a:rPr>
              <a:t>hunkering</a:t>
            </a:r>
            <a:endParaRPr b="0" lang="en-US" sz="3200" spc="-1" strike="noStrike">
              <a:solidFill>
                <a:srgbClr val="404040"/>
              </a:solidFill>
              <a:latin typeface="Trebuchet MS"/>
            </a:endParaRPr>
          </a:p>
          <a:p>
            <a:pPr marL="312120" indent="-31212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Voorbeelden:</a:t>
            </a:r>
            <a:endParaRPr b="0" lang="en-US" sz="3200" spc="-1" strike="noStrike">
              <a:solidFill>
                <a:srgbClr val="404040"/>
              </a:solidFill>
              <a:latin typeface="Trebuchet MS"/>
            </a:endParaRPr>
          </a:p>
          <a:p>
            <a:pPr lvl="1" marL="676080" indent="-25992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Honger</a:t>
            </a:r>
            <a:endParaRPr b="0" lang="en-US" sz="3200" spc="-1" strike="noStrike">
              <a:solidFill>
                <a:srgbClr val="404040"/>
              </a:solidFill>
              <a:latin typeface="Trebuchet MS"/>
            </a:endParaRPr>
          </a:p>
          <a:p>
            <a:pPr lvl="1" marL="676080" indent="-25992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Dorst</a:t>
            </a:r>
            <a:endParaRPr b="0" lang="en-US" sz="3200" spc="-1" strike="noStrike">
              <a:solidFill>
                <a:srgbClr val="404040"/>
              </a:solidFill>
              <a:latin typeface="Trebuchet MS"/>
            </a:endParaRPr>
          </a:p>
          <a:p>
            <a:pPr lvl="1" marL="676080" indent="-25992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Liefdesverdriet</a:t>
            </a:r>
            <a:endParaRPr b="0" lang="en-US" sz="3200" spc="-1" strike="noStrike">
              <a:solidFill>
                <a:srgbClr val="404040"/>
              </a:solidFill>
              <a:latin typeface="Trebuchet MS"/>
            </a:endParaRPr>
          </a:p>
          <a:p>
            <a:pPr lvl="1" marL="676080" indent="-25992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Minderwaardigheids-complex</a:t>
            </a:r>
            <a:endParaRPr b="0" lang="en-US" sz="3200" spc="-1" strike="noStrike">
              <a:solidFill>
                <a:srgbClr val="404040"/>
              </a:solidFill>
              <a:latin typeface="Trebuchet MS"/>
            </a:endParaRPr>
          </a:p>
        </p:txBody>
      </p:sp>
      <p:sp>
        <p:nvSpPr>
          <p:cNvPr id="1971" name=""/>
          <p:cNvSpPr txBox="1"/>
          <p:nvPr/>
        </p:nvSpPr>
        <p:spPr>
          <a:xfrm>
            <a:off x="5091120" y="1482480"/>
            <a:ext cx="3733920" cy="464796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ls aan een wens niet kan worden voldaan, ontstaat een </a:t>
            </a:r>
            <a:r>
              <a:rPr b="1" lang="en-US" sz="2800" spc="-1" strike="noStrike">
                <a:solidFill>
                  <a:srgbClr val="404040"/>
                </a:solidFill>
                <a:latin typeface="Trebuchet MS"/>
              </a:rPr>
              <a:t>andere wens</a:t>
            </a:r>
            <a:r>
              <a:rPr b="0" lang="en-US" sz="2800" spc="-1" strike="noStrike">
                <a:solidFill>
                  <a:srgbClr val="404040"/>
                </a:solidFill>
                <a:latin typeface="Trebuchet MS"/>
              </a:rPr>
              <a:t> </a:t>
            </a:r>
            <a:endParaRPr b="0" lang="en-US" sz="28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Voorbeelden:</a:t>
            </a:r>
            <a:endParaRPr b="0" lang="en-US" sz="2800" spc="-1" strike="noStrike">
              <a:solidFill>
                <a:srgbClr val="404040"/>
              </a:solidFill>
              <a:latin typeface="Trebuchet MS"/>
            </a:endParaRPr>
          </a:p>
          <a:p>
            <a:pPr lvl="1" marL="683280" indent="-2628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Er is geen patat, dus wil ik een loempia en als die er ook niet is, wil ik een boterham, en …</a:t>
            </a:r>
            <a:endParaRPr b="0" lang="en-US" sz="2800" spc="-1" strike="noStrike">
              <a:solidFill>
                <a:srgbClr val="404040"/>
              </a:solidFill>
              <a:latin typeface="Trebuchet MS"/>
            </a:endParaRPr>
          </a:p>
        </p:txBody>
      </p:sp>
      <p:sp>
        <p:nvSpPr>
          <p:cNvPr id="1972" name="Line 5"/>
          <p:cNvSpPr/>
          <p:nvPr/>
        </p:nvSpPr>
        <p:spPr>
          <a:xfrm flipH="1" flipV="1">
            <a:off x="2971440" y="4114440"/>
            <a:ext cx="2514600" cy="762120"/>
          </a:xfrm>
          <a:prstGeom prst="line">
            <a:avLst/>
          </a:prstGeom>
          <a:ln w="76320">
            <a:solidFill>
              <a:srgbClr val="90c22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970">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97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97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970">
                                            <p:txEl>
                                              <p:pRg st="3" end="3"/>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1970">
                                            <p:txEl>
                                              <p:pRg st="4" end="4"/>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1970">
                                            <p:txEl>
                                              <p:pRg st="5" end="5"/>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971">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971">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971">
                                            <p:txEl>
                                              <p:pRg st="2" end="2"/>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9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914040" y="404280"/>
            <a:ext cx="7721640" cy="12956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90c226"/>
                </a:solidFill>
                <a:latin typeface="Trebuchet MS"/>
              </a:rPr>
              <a:t>Wat kun je aan het eind van de les?</a:t>
            </a:r>
            <a:endParaRPr b="0" lang="en-US" sz="5400" spc="-1" strike="noStrike">
              <a:solidFill>
                <a:srgbClr val="90c226"/>
              </a:solidFill>
              <a:latin typeface="Trebuchet MS"/>
            </a:endParaRPr>
          </a:p>
        </p:txBody>
      </p:sp>
      <p:sp>
        <p:nvSpPr>
          <p:cNvPr id="1894" name="PlaceHolder 2"/>
          <p:cNvSpPr>
            <a:spLocks noGrp="1"/>
          </p:cNvSpPr>
          <p:nvPr>
            <p:ph type="subTitle"/>
          </p:nvPr>
        </p:nvSpPr>
        <p:spPr>
          <a:xfrm>
            <a:off x="324000" y="3213000"/>
            <a:ext cx="7410240" cy="4464000"/>
          </a:xfrm>
          <a:prstGeom prst="rect">
            <a:avLst/>
          </a:prstGeom>
          <a:noFill/>
          <a:ln w="0">
            <a:noFill/>
          </a:ln>
        </p:spPr>
        <p:txBody>
          <a:bodyPr anchor="t">
            <a:noAutofit/>
          </a:bodyPr>
          <a:p>
            <a:pPr marL="457200" indent="-45720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Je kunt vertellen wat marketing inhoudt</a:t>
            </a:r>
            <a:endParaRPr b="0" lang="en-US" sz="3200" spc="-1" strike="noStrike">
              <a:solidFill>
                <a:srgbClr val="404040"/>
              </a:solidFill>
              <a:latin typeface="Trebuchet MS"/>
            </a:endParaRPr>
          </a:p>
          <a:p>
            <a:pPr marL="457200" indent="-45720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Je kunt vertellen waarom marketing belangrijk is</a:t>
            </a:r>
            <a:endParaRPr b="0" lang="en-US" sz="3200" spc="-1" strike="noStrike">
              <a:solidFill>
                <a:srgbClr val="404040"/>
              </a:solidFill>
              <a:latin typeface="Trebuchet MS"/>
            </a:endParaRPr>
          </a:p>
          <a:p>
            <a:pPr marL="457200" indent="-45720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Je kunt je doelgroep beschrijven; segmenteren</a:t>
            </a:r>
            <a:endParaRPr b="0" lang="en-US" sz="3200" spc="-1" strike="noStrike">
              <a:solidFill>
                <a:srgbClr val="404040"/>
              </a:solidFill>
              <a:latin typeface="Trebuchet MS"/>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89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89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EISEN VAN EEN GOEDE MARKETINGSTRATEGIE</a:t>
            </a:r>
            <a:endParaRPr b="0" lang="en-US" sz="3600" spc="-1" strike="noStrike">
              <a:solidFill>
                <a:srgbClr val="90c226"/>
              </a:solidFill>
              <a:latin typeface="Trebuchet MS"/>
            </a:endParaRPr>
          </a:p>
        </p:txBody>
      </p:sp>
      <p:sp>
        <p:nvSpPr>
          <p:cNvPr id="1974" name="Tekstvak 2"/>
          <p:cNvSpPr/>
          <p:nvPr/>
        </p:nvSpPr>
        <p:spPr>
          <a:xfrm>
            <a:off x="1109520" y="1700280"/>
            <a:ext cx="806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rebuchet MS"/>
              </a:rPr>
              <a:t>Drie eisen;</a:t>
            </a:r>
            <a:endParaRPr b="0" lang="en-US" sz="2400" spc="-1" strike="noStrike">
              <a:solidFill>
                <a:srgbClr val="000000"/>
              </a:solidFill>
              <a:latin typeface="Times New Roman"/>
            </a:endParaRPr>
          </a:p>
          <a:p>
            <a:pPr>
              <a:lnSpc>
                <a:spcPct val="100000"/>
              </a:lnSpc>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rebuchet MS"/>
              </a:rPr>
              <a:t>De strategie moet een heldere keuze hebben</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rebuchet MS"/>
              </a:rPr>
              <a:t>Welke positie neem je in op je markt</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rebuchet MS"/>
              </a:rPr>
              <a:t>De strategie moet een goede aansluiting hebben op de omgevingssituatie en de omgevingsontwikkelingen</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rebuchet MS"/>
              </a:rPr>
              <a:t>Nieuwe zaken (denk aan IPad)  </a:t>
            </a:r>
            <a:r>
              <a:rPr b="0" lang="nl-NL" sz="2400" spc="-1" strike="noStrike">
                <a:solidFill>
                  <a:srgbClr val="000000"/>
                </a:solidFill>
                <a:latin typeface="Wingdings"/>
                <a:ea typeface="Wingdings"/>
              </a:rPr>
              <a:t></a:t>
            </a:r>
            <a:r>
              <a:rPr b="0" lang="nl-NL" sz="2400" spc="-1" strike="noStrike">
                <a:solidFill>
                  <a:srgbClr val="000000"/>
                </a:solidFill>
                <a:latin typeface="Trebuchet MS"/>
              </a:rPr>
              <a:t> hoe flexibel moet je zijn?</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rebuchet MS"/>
              </a:rPr>
              <a:t>De strategie moet positief worden ontvangen door de belangrijkste steakehold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97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974">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974">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974">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974">
                                            <p:txEl>
                                              <p:pRg st="5" end="5"/>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9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WOT Matrix</a:t>
            </a:r>
            <a:endParaRPr b="0" lang="en-US" sz="3600" spc="-1" strike="noStrike">
              <a:solidFill>
                <a:srgbClr val="90c226"/>
              </a:solidFill>
              <a:latin typeface="Trebuchet MS"/>
            </a:endParaRPr>
          </a:p>
        </p:txBody>
      </p:sp>
      <p:pic>
        <p:nvPicPr>
          <p:cNvPr id="1976" name="Picture 2" descr="SWOT analyse"/>
          <p:cNvPicPr/>
          <p:nvPr/>
        </p:nvPicPr>
        <p:blipFill>
          <a:blip r:embed="rId1"/>
          <a:stretch/>
        </p:blipFill>
        <p:spPr>
          <a:xfrm>
            <a:off x="1258920" y="2060640"/>
            <a:ext cx="6553080" cy="310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WOT in het Nederlands</a:t>
            </a:r>
            <a:endParaRPr b="0" lang="en-US" sz="3600" spc="-1" strike="noStrike">
              <a:solidFill>
                <a:srgbClr val="90c226"/>
              </a:solidFill>
              <a:latin typeface="Trebuchet MS"/>
            </a:endParaRPr>
          </a:p>
        </p:txBody>
      </p:sp>
      <p:pic>
        <p:nvPicPr>
          <p:cNvPr id="1978" name="Picture 2" descr="Afbeeldingsresultaat voor swot nederlands"/>
          <p:cNvPicPr/>
          <p:nvPr/>
        </p:nvPicPr>
        <p:blipFill>
          <a:blip r:embed="rId1"/>
          <a:stretch/>
        </p:blipFill>
        <p:spPr>
          <a:xfrm>
            <a:off x="392040" y="2276640"/>
            <a:ext cx="7925040" cy="426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title"/>
          </p:nvPr>
        </p:nvSpPr>
        <p:spPr>
          <a:xfrm>
            <a:off x="1066320" y="380520"/>
            <a:ext cx="42260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WOT Analyse</a:t>
            </a:r>
            <a:endParaRPr b="0" lang="en-US" sz="3600" spc="-1" strike="noStrike">
              <a:solidFill>
                <a:srgbClr val="90c226"/>
              </a:solidFill>
              <a:latin typeface="Trebuchet MS"/>
            </a:endParaRPr>
          </a:p>
        </p:txBody>
      </p:sp>
      <p:sp>
        <p:nvSpPr>
          <p:cNvPr id="1980" name="Tekstvak 2"/>
          <p:cNvSpPr/>
          <p:nvPr/>
        </p:nvSpPr>
        <p:spPr>
          <a:xfrm>
            <a:off x="1066680" y="1523880"/>
            <a:ext cx="7898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INTERNE ANALY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b je direct invloed 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je sterktes?</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oede prijs, niet te duur tov de concurrentie</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orloper op ICT gebied</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eel productinnovaties</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je zwaktes?</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een goede locatie</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egatief imago</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lechte klachtenafhandeling</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1" name="Picture 2" descr="Afbeeldingsresultaat voor ing"/>
          <p:cNvPicPr/>
          <p:nvPr/>
        </p:nvPicPr>
        <p:blipFill>
          <a:blip r:embed="rId1"/>
          <a:stretch/>
        </p:blipFill>
        <p:spPr>
          <a:xfrm>
            <a:off x="5292720" y="189000"/>
            <a:ext cx="3672000" cy="129528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980">
                                            <p:txEl>
                                              <p:pRg st="0" end="0"/>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980">
                                            <p:txEl>
                                              <p:pRg st="1" end="1"/>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980">
                                            <p:txEl>
                                              <p:pRg st="3" end="3"/>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980">
                                            <p:txEl>
                                              <p:pRg st="4" end="4"/>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980">
                                            <p:txEl>
                                              <p:pRg st="5" end="5"/>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980">
                                            <p:txEl>
                                              <p:pRg st="6" end="6"/>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980">
                                            <p:txEl>
                                              <p:pRg st="8" end="8"/>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980">
                                            <p:txEl>
                                              <p:pRg st="9" end="9"/>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980">
                                            <p:txEl>
                                              <p:pRg st="10" end="1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98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title"/>
          </p:nvPr>
        </p:nvSpPr>
        <p:spPr>
          <a:xfrm>
            <a:off x="1066320" y="380520"/>
            <a:ext cx="45133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WOT-Analyse</a:t>
            </a:r>
            <a:endParaRPr b="0" lang="en-US" sz="3600" spc="-1" strike="noStrike">
              <a:solidFill>
                <a:srgbClr val="90c226"/>
              </a:solidFill>
              <a:latin typeface="Trebuchet MS"/>
            </a:endParaRPr>
          </a:p>
        </p:txBody>
      </p:sp>
      <p:sp>
        <p:nvSpPr>
          <p:cNvPr id="1983" name="Tekstvak 2"/>
          <p:cNvSpPr/>
          <p:nvPr/>
        </p:nvSpPr>
        <p:spPr>
          <a:xfrm>
            <a:off x="1187280" y="1628640"/>
            <a:ext cx="7848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EXTERNE ANALY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b je geen directe invloed op; de kansen en bedreigingen voor de hele markt en branc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je kansen?</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blemen bij de concurrent</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ag naar specialistische diensten</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 economie groeit</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je bedreigingen?</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mografische veranderingen</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adelige verandering in de wet- en regelgeving</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inig vertrouwen in de branch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4" name="Picture 2" descr="Afbeeldingsresultaat voor ing"/>
          <p:cNvPicPr/>
          <p:nvPr/>
        </p:nvPicPr>
        <p:blipFill>
          <a:blip r:embed="rId1"/>
          <a:stretch/>
        </p:blipFill>
        <p:spPr>
          <a:xfrm>
            <a:off x="5292720" y="189000"/>
            <a:ext cx="3672000" cy="129528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1983">
                                            <p:txEl>
                                              <p:pRg st="0" end="0"/>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983">
                                            <p:txEl>
                                              <p:pRg st="1" end="1"/>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983">
                                            <p:txEl>
                                              <p:pRg st="3" end="3"/>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1983">
                                            <p:txEl>
                                              <p:pRg st="4" end="4"/>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983">
                                            <p:txEl>
                                              <p:pRg st="5" end="5"/>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983">
                                            <p:txEl>
                                              <p:pRg st="6" end="6"/>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983">
                                            <p:txEl>
                                              <p:pRg st="8" end="8"/>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983">
                                            <p:txEl>
                                              <p:pRg st="9" end="9"/>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983">
                                            <p:txEl>
                                              <p:pRg st="10" end="10"/>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98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1986" name="Tekstvak 2"/>
          <p:cNvSpPr/>
          <p:nvPr/>
        </p:nvSpPr>
        <p:spPr>
          <a:xfrm>
            <a:off x="609480" y="2997360"/>
            <a:ext cx="78264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rebuchet MS"/>
              </a:rPr>
              <a:t>Je sluit de SWOT-Analyse af met een conclus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Hoe denk je met behulp van deze gegevens een plekje in de markt te kunnen verov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1986">
                                            <p:txEl>
                                              <p:pRg st="0" end="0"/>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19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OPDRACHT</a:t>
            </a:r>
            <a:endParaRPr b="0" lang="en-US" sz="3600" spc="-1" strike="noStrike">
              <a:solidFill>
                <a:srgbClr val="90c226"/>
              </a:solidFill>
              <a:latin typeface="Trebuchet MS"/>
            </a:endParaRPr>
          </a:p>
        </p:txBody>
      </p:sp>
      <p:sp>
        <p:nvSpPr>
          <p:cNvPr id="1988" name="Tekstvak 2"/>
          <p:cNvSpPr/>
          <p:nvPr/>
        </p:nvSpPr>
        <p:spPr>
          <a:xfrm>
            <a:off x="1066680" y="1989000"/>
            <a:ext cx="7392960" cy="54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rebuchet MS"/>
              </a:rPr>
              <a:t>Opdracht 3;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 </a:t>
            </a:r>
            <a:endParaRPr b="0" lang="en-US" sz="3200" spc="-1" strike="noStrike">
              <a:solidFill>
                <a:srgbClr val="000000"/>
              </a:solidFill>
              <a:latin typeface="Times New Roman"/>
            </a:endParaRPr>
          </a:p>
          <a:p>
            <a:pPr>
              <a:lnSpc>
                <a:spcPct val="100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Waarom onze school? </a:t>
            </a:r>
            <a:endParaRPr b="0" lang="en-US" sz="3200" spc="-1" strike="noStrike">
              <a:solidFill>
                <a:srgbClr val="000000"/>
              </a:solidFill>
              <a:latin typeface="Times New Roman"/>
            </a:endParaRPr>
          </a:p>
          <a:p>
            <a:pPr>
              <a:lnSpc>
                <a:spcPct val="100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Als ze niet naar onze school gaan, welke dan en waarom? </a:t>
            </a:r>
            <a:endParaRPr b="0" lang="en-US" sz="3200" spc="-1" strike="noStrike">
              <a:solidFill>
                <a:srgbClr val="000000"/>
              </a:solidFill>
              <a:latin typeface="Times New Roman"/>
            </a:endParaRPr>
          </a:p>
          <a:p>
            <a:pPr>
              <a:lnSpc>
                <a:spcPct val="100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Maak een SWOT-Analyse van de school</a:t>
            </a:r>
            <a:endParaRPr b="0" lang="en-US" sz="3200" spc="-1" strike="noStrike">
              <a:solidFill>
                <a:srgbClr val="000000"/>
              </a:solidFill>
              <a:latin typeface="Times New Roman"/>
            </a:endParaRPr>
          </a:p>
          <a:p>
            <a:pPr>
              <a:lnSpc>
                <a:spcPct val="100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rebuchet MS"/>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laatsbepaling</a:t>
            </a:r>
            <a:endParaRPr b="0" lang="en-US" sz="3600" spc="-1" strike="noStrike">
              <a:solidFill>
                <a:srgbClr val="90c226"/>
              </a:solidFill>
              <a:latin typeface="Trebuchet MS"/>
            </a:endParaRPr>
          </a:p>
        </p:txBody>
      </p:sp>
      <p:sp>
        <p:nvSpPr>
          <p:cNvPr id="1896" name=""/>
          <p:cNvSpPr txBox="1"/>
          <p:nvPr/>
        </p:nvSpPr>
        <p:spPr>
          <a:xfrm>
            <a:off x="609120" y="1557000"/>
            <a:ext cx="6348600" cy="3879720"/>
          </a:xfrm>
          <a:prstGeom prst="rect">
            <a:avLst/>
          </a:prstGeom>
          <a:noFill/>
          <a:ln w="0">
            <a:noFill/>
          </a:ln>
        </p:spPr>
        <p:txBody>
          <a:bodyPr anchor="t">
            <a:normAutofit fontScale="84000"/>
          </a:bodyPr>
          <a:p>
            <a:pPr marL="288000" indent="-2880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Bedrijfseconomie:</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Marketing  (wat doe ik en voor wie?)</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amp;O  (wie gaat het doen?)</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Operationeel  (hoe gaan we het doen?)</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Financieel  (heb ik een bedrijf of een hobby?)</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288000" indent="-2880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Dus: wat/voor wie/wie/hoe/kosten?</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7"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8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Definities</a:t>
            </a:r>
            <a:endParaRPr b="0" lang="en-US" sz="3600" spc="-1" strike="noStrike">
              <a:solidFill>
                <a:srgbClr val="90c226"/>
              </a:solidFill>
              <a:latin typeface="Trebuchet MS"/>
            </a:endParaRPr>
          </a:p>
        </p:txBody>
      </p:sp>
      <p:sp>
        <p:nvSpPr>
          <p:cNvPr id="1899" name=""/>
          <p:cNvSpPr txBox="1"/>
          <p:nvPr/>
        </p:nvSpPr>
        <p:spPr>
          <a:xfrm>
            <a:off x="1066320" y="1752120"/>
            <a:ext cx="7620120" cy="449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arketing is niet alleen reclam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et marketing zorg je ervoor dat mensen je product kopen, gebruiken, en opnieuw kop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89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899">
                                            <p:txEl>
                                              <p:pRg st="1" end="1"/>
                                            </p:txEl>
                                          </p:spTgt>
                                        </p:tgtEl>
                                        <p:attrNameLst>
                                          <p:attrName>style.visibility</p:attrName>
                                        </p:attrNameLst>
                                      </p:cBhvr>
                                      <p:to>
                                        <p:strVal val="visible"/>
                                      </p:to>
                                    </p:set>
                                  </p:childTnLst>
                                </p:cTn>
                              </p:par>
                            </p:childTnLst>
                          </p:cTn>
                        </p:par>
                        <p:par>
                          <p:cTn id="35" nodeType="afterEffect" fill="hold">
                            <p:stCondLst>
                              <p:cond delay="500"/>
                            </p:stCondLst>
                            <p:childTnLst>
                              <p:par>
                                <p:cTn id="36" nodeType="afterEffect" fill="hold" presetClass="entr" presetID="2" presetSubtype="2">
                                  <p:stCondLst>
                                    <p:cond delay="0"/>
                                  </p:stCondLst>
                                  <p:childTnLst>
                                    <p:set>
                                      <p:cBhvr>
                                        <p:cTn id="37" dur="1" fill="hold">
                                          <p:stCondLst>
                                            <p:cond delay="0"/>
                                          </p:stCondLst>
                                        </p:cTn>
                                        <p:tgtEl>
                                          <p:spTgt spid="1897"/>
                                        </p:tgtEl>
                                        <p:attrNameLst>
                                          <p:attrName>style.visibility</p:attrName>
                                        </p:attrNameLst>
                                      </p:cBhvr>
                                      <p:to>
                                        <p:strVal val="visible"/>
                                      </p:to>
                                    </p:set>
                                    <p:anim calcmode="lin" valueType="num">
                                      <p:cBhvr additive="base">
                                        <p:cTn id="38" dur="500" fill="hold"/>
                                        <p:tgtEl>
                                          <p:spTgt spid="1897"/>
                                        </p:tgtEl>
                                        <p:attrNameLst>
                                          <p:attrName>ppt_x</p:attrName>
                                        </p:attrNameLst>
                                      </p:cBhvr>
                                      <p:tavLst>
                                        <p:tav tm="0">
                                          <p:val>
                                            <p:strVal val="1+#ppt_w/2"/>
                                          </p:val>
                                        </p:tav>
                                        <p:tav tm="100000">
                                          <p:val>
                                            <p:strVal val="#ppt_x"/>
                                          </p:val>
                                        </p:tav>
                                      </p:tavLst>
                                    </p:anim>
                                    <p:anim calcmode="lin" valueType="num">
                                      <p:cBhvr additive="base">
                                        <p:cTn id="39" dur="500" fill="hold"/>
                                        <p:tgtEl>
                                          <p:spTgt spid="1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1066320" y="404280"/>
            <a:ext cx="76201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Wat hebben zij nodig? (behoeften)</a:t>
            </a:r>
            <a:endParaRPr b="0" lang="en-US" sz="3600" spc="-1" strike="noStrike">
              <a:solidFill>
                <a:srgbClr val="90c226"/>
              </a:solidFill>
              <a:latin typeface="Trebuchet MS"/>
            </a:endParaRPr>
          </a:p>
        </p:txBody>
      </p:sp>
      <p:sp>
        <p:nvSpPr>
          <p:cNvPr id="1901" name=""/>
          <p:cNvSpPr txBox="1"/>
          <p:nvPr/>
        </p:nvSpPr>
        <p:spPr>
          <a:xfrm>
            <a:off x="1066320" y="2349360"/>
            <a:ext cx="7620120" cy="54928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De klanten (leerlingen) zoeken een school</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Wat zoeken ze nu exact? </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e maken ze de keuze?</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Als je dat weet, kun je adverteren. </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Jij bent de ervaringsdeskundige! </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1901">
                                            <p:txEl>
                                              <p:pRg st="0" end="0"/>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1901">
                                            <p:txEl>
                                              <p:pRg st="1" end="1"/>
                                            </p:txEl>
                                          </p:spTgt>
                                        </p:tgtEl>
                                        <p:attrNameLst>
                                          <p:attrName>style.visibility</p:attrName>
                                        </p:attrNameLst>
                                      </p:cBhvr>
                                      <p:to>
                                        <p:strVal val="visible"/>
                                      </p:to>
                                    </p:set>
                                  </p:childTnLst>
                                </p:cTn>
                              </p:par>
                              <p:animClr clrSpc="rgb">
                                <p:cBhvr>
                                  <p:cTn id="50" dur="1" fill="hold">
                                    <p:stCondLst>
                                      <p:cond delay="0"/>
                                    </p:stCondLst>
                                  </p:cTn>
                                  <p:tgtEl>
                                    <p:spTgt spid="1901">
                                      <p:txEl>
                                        <p:pRg st="0" end="0"/>
                                      </p:txEl>
                                    </p:spTgt>
                                  </p:tgtEl>
                                  <p:attrNameLst>
                                    <p:attrName>ppt_c</p:attrName>
                                  </p:attrNameLst>
                                </p:cBhvr>
                                <p:to>
                                  <a:srgbClr val="90c226"/>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901">
                                            <p:txEl>
                                              <p:pRg st="2" end="2"/>
                                            </p:txEl>
                                          </p:spTgt>
                                        </p:tgtEl>
                                        <p:attrNameLst>
                                          <p:attrName>style.visibility</p:attrName>
                                        </p:attrNameLst>
                                      </p:cBhvr>
                                      <p:to>
                                        <p:strVal val="visible"/>
                                      </p:to>
                                    </p:set>
                                  </p:childTnLst>
                                </p:cTn>
                              </p:par>
                              <p:animClr clrSpc="rgb">
                                <p:cBhvr>
                                  <p:cTn id="55" dur="1" fill="hold">
                                    <p:stCondLst>
                                      <p:cond delay="0"/>
                                    </p:stCondLst>
                                  </p:cTn>
                                  <p:tgtEl>
                                    <p:spTgt spid="1901">
                                      <p:txEl>
                                        <p:pRg st="1" end="1"/>
                                      </p:txEl>
                                    </p:spTgt>
                                  </p:tgtEl>
                                  <p:attrNameLst>
                                    <p:attrName>ppt_c</p:attrName>
                                  </p:attrNameLst>
                                </p:cBhvr>
                                <p:to>
                                  <a:srgbClr val="90c226"/>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1901">
                                            <p:txEl>
                                              <p:pRg st="3" end="3"/>
                                            </p:txEl>
                                          </p:spTgt>
                                        </p:tgtEl>
                                        <p:attrNameLst>
                                          <p:attrName>style.visibility</p:attrName>
                                        </p:attrNameLst>
                                      </p:cBhvr>
                                      <p:to>
                                        <p:strVal val="visible"/>
                                      </p:to>
                                    </p:set>
                                  </p:childTnLst>
                                </p:cTn>
                              </p:par>
                              <p:animClr clrSpc="rgb">
                                <p:cBhvr>
                                  <p:cTn id="60" dur="1" fill="hold">
                                    <p:stCondLst>
                                      <p:cond delay="0"/>
                                    </p:stCondLst>
                                  </p:cTn>
                                  <p:tgtEl>
                                    <p:spTgt spid="1901">
                                      <p:txEl>
                                        <p:pRg st="2" end="2"/>
                                      </p:txEl>
                                    </p:spTgt>
                                  </p:tgtEl>
                                  <p:attrNameLst>
                                    <p:attrName>ppt_c</p:attrName>
                                  </p:attrNameLst>
                                </p:cBhvr>
                                <p:to>
                                  <a:srgbClr val="90c226"/>
                                </p:to>
                              </p:animCl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01">
                                            <p:txEl>
                                              <p:pRg st="5" end="5"/>
                                            </p:txEl>
                                          </p:spTgt>
                                        </p:tgtEl>
                                        <p:attrNameLst>
                                          <p:attrName>style.visibility</p:attrName>
                                        </p:attrNameLst>
                                      </p:cBhvr>
                                      <p:to>
                                        <p:strVal val="visible"/>
                                      </p:to>
                                    </p:set>
                                  </p:childTnLst>
                                </p:cTn>
                              </p:par>
                              <p:animClr clrSpc="rgb">
                                <p:cBhvr>
                                  <p:cTn id="65" dur="1" fill="hold">
                                    <p:stCondLst>
                                      <p:cond delay="0"/>
                                    </p:stCondLst>
                                  </p:cTn>
                                  <p:tgtEl>
                                    <p:spTgt spid="1901">
                                      <p:txEl>
                                        <p:pRg st="3" end="3"/>
                                      </p:txEl>
                                    </p:spTgt>
                                  </p:tgtEl>
                                  <p:attrNameLst>
                                    <p:attrName>ppt_c</p:attrName>
                                  </p:attrNameLst>
                                </p:cBhvr>
                                <p:to>
                                  <a:srgbClr val="90c226"/>
                                </p:to>
                              </p:animClr>
                            </p:childTnLst>
                          </p:cTn>
                        </p:par>
                      </p:childTnLst>
                    </p:cTn>
                  </p:par>
                  <p:par>
                    <p:cTn id="66" fill="hold">
                      <p:stCondLst>
                        <p:cond delay="indefinite"/>
                      </p:stCondLst>
                      <p:childTnLst>
                        <p:par>
                          <p:cTn id="67" fill="hold">
                            <p:stCondLst>
                              <p:cond delay="0"/>
                            </p:stCondLst>
                            <p:childTnLst>
                              <p:animClr clrSpc="rgb">
                                <p:cBhvr>
                                  <p:cTn id="68" dur="1" fill="hold"/>
                                  <p:tgtEl>
                                    <p:spTgt spid="1901">
                                      <p:txEl>
                                        <p:pRg st="5" end="5"/>
                                      </p:txEl>
                                    </p:spTgt>
                                  </p:tgtEl>
                                  <p:attrNameLst>
                                    <p:attrName>ppt_c</p:attrName>
                                  </p:attrNameLst>
                                </p:cBhvr>
                                <p:to>
                                  <a:srgbClr val="90c22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title"/>
          </p:nvPr>
        </p:nvSpPr>
        <p:spPr>
          <a:xfrm>
            <a:off x="914040" y="476280"/>
            <a:ext cx="7721640" cy="100800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90c226"/>
                </a:solidFill>
                <a:latin typeface="Trebuchet MS"/>
              </a:rPr>
              <a:t>Vragen Marketing;</a:t>
            </a:r>
            <a:endParaRPr b="0" lang="en-US" sz="5400" spc="-1" strike="noStrike">
              <a:solidFill>
                <a:srgbClr val="90c226"/>
              </a:solidFill>
              <a:latin typeface="Trebuchet MS"/>
            </a:endParaRPr>
          </a:p>
        </p:txBody>
      </p:sp>
      <p:sp>
        <p:nvSpPr>
          <p:cNvPr id="1903" name="PlaceHolder 2"/>
          <p:cNvSpPr>
            <a:spLocks noGrp="1"/>
          </p:cNvSpPr>
          <p:nvPr>
            <p:ph type="subTitle"/>
          </p:nvPr>
        </p:nvSpPr>
        <p:spPr>
          <a:xfrm>
            <a:off x="885960" y="2541600"/>
            <a:ext cx="7194240" cy="4316400"/>
          </a:xfrm>
          <a:prstGeom prst="rect">
            <a:avLst/>
          </a:prstGeom>
          <a:noFill/>
          <a:ln w="0">
            <a:noFill/>
          </a:ln>
        </p:spPr>
        <p:txBody>
          <a:bodyPr anchor="t">
            <a:noAutofit/>
          </a:bodyPr>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Welke groep mensen?</a:t>
            </a:r>
            <a:endParaRPr b="0" lang="en-US" sz="3200" spc="-1" strike="noStrike">
              <a:solidFill>
                <a:srgbClr val="404040"/>
              </a:solidFill>
              <a:latin typeface="Trebuchet MS"/>
            </a:endParaRPr>
          </a:p>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Welk product?</a:t>
            </a:r>
            <a:endParaRPr b="0" lang="en-US" sz="3200" spc="-1" strike="noStrike">
              <a:solidFill>
                <a:srgbClr val="404040"/>
              </a:solidFill>
              <a:latin typeface="Trebuchet MS"/>
            </a:endParaRPr>
          </a:p>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Welke plek?</a:t>
            </a:r>
            <a:endParaRPr b="0" lang="en-US" sz="3200" spc="-1" strike="noStrike">
              <a:solidFill>
                <a:srgbClr val="404040"/>
              </a:solidFill>
              <a:latin typeface="Trebuchet MS"/>
            </a:endParaRPr>
          </a:p>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Op welke manier maak ik mijn product bekend; promotie?</a:t>
            </a:r>
            <a:endParaRPr b="0" lang="en-US" sz="3200" spc="-1" strike="noStrike">
              <a:solidFill>
                <a:srgbClr val="404040"/>
              </a:solidFill>
              <a:latin typeface="Trebuchet MS"/>
            </a:endParaRPr>
          </a:p>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Welke prijs?</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03">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03">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03">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903">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9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title"/>
          </p:nvPr>
        </p:nvSpPr>
        <p:spPr>
          <a:xfrm>
            <a:off x="914040" y="188640"/>
            <a:ext cx="7721640" cy="115236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90c226"/>
                </a:solidFill>
                <a:latin typeface="Trebuchet MS"/>
              </a:rPr>
              <a:t>Opdracht</a:t>
            </a:r>
            <a:endParaRPr b="0" lang="en-US" sz="5400" spc="-1" strike="noStrike">
              <a:solidFill>
                <a:srgbClr val="90c226"/>
              </a:solidFill>
              <a:latin typeface="Trebuchet MS"/>
            </a:endParaRPr>
          </a:p>
        </p:txBody>
      </p:sp>
      <p:sp>
        <p:nvSpPr>
          <p:cNvPr id="190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Vul 4 P’s (Product, Plaats, Promotie, Prijs) in voor de volgende producten;</a:t>
            </a:r>
            <a:endParaRPr b="0" lang="en-US" sz="1800" spc="-1" strike="noStrike">
              <a:solidFill>
                <a:srgbClr val="404040"/>
              </a:solidFill>
              <a:latin typeface="Trebuchet MS"/>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 </a:t>
            </a:r>
            <a:endParaRPr b="0" lang="en-US" sz="1800" spc="-1" strike="noStrike">
              <a:solidFill>
                <a:srgbClr val="404040"/>
              </a:solidFill>
              <a:latin typeface="Trebuchet MS"/>
            </a:endParaRPr>
          </a:p>
        </p:txBody>
      </p:sp>
      <p:pic>
        <p:nvPicPr>
          <p:cNvPr id="190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90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90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90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906"/>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08"/>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907"/>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pdracht</a:t>
            </a:r>
            <a:endParaRPr b="0" lang="en-US" sz="3600" spc="-1" strike="noStrike">
              <a:solidFill>
                <a:srgbClr val="90c226"/>
              </a:solidFill>
              <a:latin typeface="Trebuchet MS"/>
            </a:endParaRPr>
          </a:p>
        </p:txBody>
      </p:sp>
      <p:sp>
        <p:nvSpPr>
          <p:cNvPr id="191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chrijf iets op wat je gisteren hebt gedaan.</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Welke behoefte had je toen je dat deed?</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chrijf op met welke behoefte je hier zit.</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Sinke, Carolien</cp:lastModifiedBy>
  <dcterms:modified xsi:type="dcterms:W3CDTF">2018-11-12T09:10:30Z</dcterms:modified>
  <cp:revision>54</cp:revision>
  <dc:subject/>
  <dc:title>Marketing les 1</dc:title>
</cp:coreProperties>
</file>