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5.jpeg" ContentType="image/jpeg"/>
  <Override PartName="/ppt/media/image10.jpeg" ContentType="image/jpeg"/>
  <Override PartName="/ppt/media/image1.jpeg" ContentType="image/jpeg"/>
  <Override PartName="/ppt/media/image2.jpeg" ContentType="image/jpeg"/>
  <Override PartName="/ppt/media/image3.jpeg" ContentType="image/jpe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2" name="PlaceHolder 2"/>
          <p:cNvSpPr>
            <a:spLocks noGrp="1"/>
          </p:cNvSpPr>
          <p:nvPr>
            <p:ph type="dt" idx="10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18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85" name="PlaceHolder 5"/>
          <p:cNvSpPr>
            <a:spLocks noGrp="1"/>
          </p:cNvSpPr>
          <p:nvPr>
            <p:ph type="ftr" idx="11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6" name="PlaceHolder 6"/>
          <p:cNvSpPr>
            <a:spLocks noGrp="1"/>
          </p:cNvSpPr>
          <p:nvPr>
            <p:ph type="sldNum" idx="11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B618-58CF-4926-BB6B-188D89D518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C613-8939-4C35-B8AA-3E4689589C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0F8D-A319-4B71-95DF-DE616D9902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BED8-1DE2-40D4-BCC4-1B571CDB9B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91F4-B6AB-4F10-9031-6A8B34FCE8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91B1A-E437-4D2D-991C-F84D577ED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C4CA-B883-478A-9C54-55E4D43A4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1B6F8-0819-4582-BF0E-2CB75C282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BFA3E-87C9-4B62-9090-C6C7A01B5A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31B40-C79C-48AF-8BA8-D9C7A5E24E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0205C-1500-4F6E-9137-30AA4260F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98F3D-27A5-40D5-A9A7-5280F869F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1B579-93A4-4637-B4E2-B42199457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EBD056-E582-4293-84CB-97E31F6DD7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3DA2DB-D7B1-4260-A376-ED497214A8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C422BA-AA35-4B26-A82A-D36DABA474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B19C60-B2C4-4EDD-97DA-74CE04029D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3A5A-BFDA-4C8D-95BF-0622D6A2D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195034-2D12-452F-924E-7CB254BCE1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956B05-845D-4415-AE98-703B7D6399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23AD76-33EB-48EC-8B08-5F13A81A1F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E5D291-62E5-4BD0-B685-4820D8236F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3B1799-F0AD-414F-A7EA-82C58F2382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752F31-4470-4A17-8AB6-863EAB699F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4C89D1-2B77-4745-AEC6-F5D67E8A8A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BEB5BD-2036-4D56-8251-664A02E1DF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3A130D-AA40-47EB-A4F0-51EF1EAD8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AE5D6E-5A34-400B-ADC5-ABCD29ABBC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15E60-099B-43B1-B3FB-6280F9EF1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E5D171-332F-41E8-91CB-4CDE64D76A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201CEC-59E1-4A34-BEE5-0F4A33C7B1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DC1B33-1C22-4C43-9DB5-EC84581CCF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C61590-5886-4D02-8FF8-C8B01DFDC3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B4B510-2DE8-4CE4-94D2-BAEDDA0B49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9ECE1F-B7C3-476C-88C4-FE946E7A60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D13E0D-6696-41B3-912B-DD12806B7A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58E43E-00CA-4C6F-B9A3-7FF916E92A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5A2203-0796-45C6-8A04-9611D211CC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C1F000-EC97-43BE-B6D8-E7795FAF30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8746F-C2D4-411B-9A6D-6F9692E6D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05FB39-03CB-41BA-93BE-65FA3FF1C1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FAA200-21CB-41D4-9E2B-FFA8E6D0B8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7F0676-928D-4A1E-98B4-1D8C96514D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C40497-7D51-4FFB-A23E-C3956AAC0C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B8905A-7CE5-4D9E-A64C-AB0DDCCA37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4A58E8-271D-49DF-B0F4-32039D13F9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C52587-07F4-48C8-8837-6A3C6A7232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1DF115-3E84-45F9-AEBA-B38F7AF5EA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0AE248-C719-4589-9681-453A8ED6CF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A5F5DC-7469-4863-BFEF-55B1C4E879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85847-E57E-4067-B31F-069DBB743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4AFFB4-D4F4-4D3C-996D-323A2868BC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CC0211-8C5C-4011-BAAE-6932FCE174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AF017E-D0E9-433C-A022-2065D94CBA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D739A9-0D29-45DB-956D-AA579B1EFE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5D09C0-3B09-477D-9E6C-C2C3B7EEBB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3C83A5-E965-43FF-B56E-8C05A77404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CB05CA-A691-4D26-A8AB-EDECA3BA06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D1F39A-5470-4B61-89A0-21BF29AC96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039970-D8D5-454B-B977-2653327A89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C0F2C0-C28B-412C-B6B2-3E31ED159C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BDF30-223C-4886-B610-D5DBD5B7B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7D4C32-AD1F-4AB9-AD56-0812947646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6A1737-9BA7-4A46-8B8C-D8956AB053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4A177C-1229-4513-9CE7-BC18DFCADB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D0DB6C-AE52-4AFF-B81A-F892E4D106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7A9108-C928-44D4-BCA3-48EF8CF923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55D776-B6A8-4D4C-8BCC-298F043B92E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53EC3B-C80A-4EB7-9A43-5A29EDC012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A6B10D-76D8-452B-9B8D-0C5365EABAE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BF6054-761C-4C8F-864A-D498C1B139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3029CF-887D-470E-AE96-69FE68B040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F73B4-61BD-4582-A961-D737DB7E3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57D4CF-4EFB-4E60-8B34-21080954C2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DF60A4C-393C-4590-9C8E-931AD1ED89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C20DA1-EC53-49F2-B4D8-5996C38CA4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CE37C8-E04D-4D0C-819C-E8C8995D1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940F2C-5F97-40B0-BC3D-E4302F3F57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EDAC59-9B67-4B18-8FD1-48F45A6431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55699B-3F15-48BE-BB7A-CC10C84520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E7E06A-207C-4F4B-8E50-F2AFCF8B67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F7B5E83-6847-4E5B-AA5B-A68CDD1A21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A433744-DCB9-42E2-AEDE-E849DD314CE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11E9F-3B53-4795-AA32-2DCF03845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7B9F026-75FD-442D-A89A-4A80843EA1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5BFCE6-7523-4542-A17D-482F4A5654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2E061B-7D5A-4BD5-A788-48A01F39DD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67B70D-76D3-40B5-922F-F73F1F374F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075BD4-87AC-4C94-85BA-782C30ECE1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850D2B-A91A-47EB-8F1B-0EF135286F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DE1E60-C5E5-48FC-A012-EE618ABF29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1E4E6A-C415-4239-9D6F-37EB001CC0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B142AC-A5E0-4FE4-8AEB-02A01E7CF1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1072465-943E-4F05-B2B1-40BDD3B013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9A929-940A-45AF-BFCD-2CEA43413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550992-C0C6-4476-A588-0C3A30DF359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A400BDE-F7F5-4B92-AA56-249962F9AA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FDF768-0B5C-4F1F-B19B-D894AFDF9E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14A821-E448-40A9-A881-04DA578D25F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7652A1-858A-4682-B964-D77F7E60E8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BF17A5-85AE-47EC-8B2B-96B1461553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46B99D-E0A2-4137-8A12-5512FB6A8F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C3033C-6455-489C-831B-893DD0C6E8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CB9D67-B54F-4767-9C66-3BAFA37C51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29ED8A-9E99-49B5-8B40-B94330B240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EC55C-0CAD-45E8-9B53-1DF360417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760F9D-93C2-4C9B-AFD4-3EFBE05B58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694367E-E886-4823-AEE4-F7911C8645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DB980C1-E127-45B1-B3E8-2AEC44CF82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6BE120-76A3-4744-BB25-04B50D9F33A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332056-1F8D-4D9A-8303-88C5FB47BF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E91542-484F-4D07-916C-C6750108F4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B434E1-7108-4197-B76A-51CDC58382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0EDE72-E3D9-4ECE-82EB-BCF3F16CCB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909D70-0E03-471C-9DB3-DCB9984F76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780A41-D722-45FB-95A4-8ECB4247EF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3DBA4-4DF6-48D2-8E9B-561502C1D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D2ED5-E43B-4890-849D-3206BDE11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6094E3-328B-4FC0-B621-CF533A101E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C9D1EA-BAFF-4031-BE86-6E46617C3D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6D57C6-D462-402A-ABF3-BB6FC33AC6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32F6149-856C-4CB8-A8AB-5FD45630B1F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48BF8EE-2F32-43D3-B218-C32F9239F7D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63427F8-55E0-40F7-B6AD-063893754F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064300-B866-4A10-9540-107C978FD7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77164F8-150D-409B-A415-329A9EA796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72F49ED-D063-47CB-9FB5-61D7AF837C6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749F4A3-5413-4B21-8C0B-8DE09EB2FC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547CB-7D8B-4D8C-8BCD-1E64118A2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311486-03FC-4BEF-B245-17CE63E8610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C0376F-0525-43D8-B72F-39E59DB2BB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B6AF21-1444-407B-BD98-7DF4EEAC4C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9F74B5-29FD-41A2-A819-68E1DC3891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D6EA77-641E-4B08-B867-C9F91E22FC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1AC0E9-B7D6-4B0E-A7DA-AB4BD71EF87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49ABB65-A757-43AE-AB61-3A6B4733348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1966499-1C6F-4146-A009-37937D5247C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F4CB00-CDAB-43C2-955D-A8FF6494CC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07591C9-557D-4399-BF43-5A89D00CEE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2A6D-3CB3-45BC-AB3F-77A5EB152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1795A5-7795-45D7-BFB8-B355B802DA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A512F8-90A0-4B48-B4D3-520999991B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C88A4A8-DA21-4020-9BBA-EB99AB113B1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F6D31A-5E31-476E-BEBD-3FF4307DB9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839EA1-7848-4C73-AE58-F3C3DE5CA5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4951F1-4B75-4F27-AEFF-BC32F08A86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CBC855D-DDB3-4B0E-A4B7-D529C407357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4AEE6C6-442E-4BAC-85F7-AED1C881786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65C2B26-C0B1-4EEE-850E-E54841F3050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CDF4605-45C7-4B04-998F-1C9CA13EA49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1BD1C-3B79-4A10-AC69-7185C2FD0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A9C4AA5-2464-482C-95AA-EFEC4DC04E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C1FF1A4-3550-4764-9B9F-753FB3F3D6A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56DA58F-21A2-4E88-9C52-8466DE70113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CFE73B2-1BA1-4F66-9693-00CDDBC827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C44ECD2-5E52-45B2-BFEB-E774E38BCD8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C02661C-2866-4B17-B93F-95AB604788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B52760-E2E2-4412-B985-35195BEE9C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CF0A46-69E8-402C-937A-95362C36CA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EAC6E3-0F3A-472B-B759-F52F8742A0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15AB38B-0197-495C-9F3F-7A8784E6642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5862C-0FDC-4448-96EC-DEEC2EE86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8E4CA2A-C598-4647-9D23-48228082A5B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FC21730-10D2-4835-A64D-FEEBC85BE4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D18470D-6852-4AEB-8728-D7B2E5C2F0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D00207-BDDD-4548-9C5E-30CFE20909A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54C174-ADD7-425D-AD0B-59FD33595BC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86842F-6438-495B-95A7-369690BEFE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1996CAA-3ECD-4D10-843C-AE5D8BFA250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5337B03-E810-4185-B097-F7B112389C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653085-8A57-405F-B8F5-A4FC21C9A1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0284C8-6F37-4D7F-AC26-AA2858C493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4714B-FBC6-46F4-851B-2F7DFEF69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612DF8E-19D4-4E37-9B39-EEA1B677A0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4BBAB0D-C4F8-482A-9846-D5821D7E46A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9916416-A987-4923-A781-E75A1663CEC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5F6A2A9-8598-4938-8A40-D63E5C2970C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F16E5AA-4E0C-43C1-8CDB-88450CA668E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F584E5D-D259-4C9C-B17C-C9979EC7BB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F8D2B63-14A0-4E0F-BBA2-C5B2F87245A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3377F80-22A8-4A7A-AA81-FA61E962537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432E7A-61FA-457B-A460-AC5CE5CC022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9E4EE6-6E5D-4705-A3DA-32EA5C7CDBE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25F39-5AC9-4179-B3E1-848DD7015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F3D4B7-F3C2-4CCC-AAD7-F73CE3F2CCB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26B31E0-CB30-4CEF-BEFF-66AC88426C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521F84E-8EFE-4F78-AA5A-0EFEA542564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51F73F0-4517-41EB-B904-BFF7977F1AF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736F6BE-BA3B-4433-AC65-A86F6CAE92F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DFB5E47-0615-4833-A588-D291215DB63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53A087-1925-491C-9E6E-BF0024C6336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18CE5DF-9FEA-4275-946B-83D7CD0F1E5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1A4CB3A-3BDF-42B2-806A-C8D8C27FD5B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26E13D5-0E51-46E5-8478-5EB12A077B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CE726-7E75-462C-8C20-7FD53711E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E3E376D-544A-4132-8107-EC82ECC5092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4862EE-EC69-4E5A-806A-622158AB2F7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D552C4-8F8A-467E-A689-6F2C97DD1E7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1A36CE3-DBB6-4AC6-AE3F-2465D44DD9B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2ABD8A7-A951-4985-9B02-23B84A2A686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A3E638C-8F79-472A-9199-CD57A3999B9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F0DBEF0-5ACE-4679-B0C1-FC79B80008C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EE38964-C22C-4442-B600-61EC619C31F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9C285B0-CC5D-49AE-87FE-2EFF1CBA3B6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CEE4F54-0034-4926-8F86-FECC43D00F4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CED52-4CF0-47EE-8CC2-AEAFCABC4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C14E4DC-0B93-4E7B-861D-4284054AF6C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693E4C7-0696-407C-BC52-8C0423755E4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E931F7-3EF6-4A5C-A985-1A21983F3CD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E1E67D-46DE-49E9-BC78-CC6EC0CBC2D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4D359F-F30D-4A02-BB56-FB3BEE3B9E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D55F252-30F8-4A2A-8CE7-97B9925A471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934D408-876F-4118-A48D-7ABD7F6810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205E04A-AEAE-4BD7-9D14-D05054A92B4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79A0459-CE93-42EB-B7D3-DBB767AADE3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59B6E12-040D-4766-A555-B5277946414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B0AF8-D987-4E46-BD23-FEF69D5A5F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AF67D6E-D7B6-4F99-A783-33E473BC892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EB0D853-DBA9-4D3F-B414-2141B14208A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6FFE120-BC5E-4410-84A2-9598366BBF4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DD7E0D2-1FAE-4BF9-A2F8-2926EB0B4CD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4FBDCAA-FB9D-4A93-A3D3-0D817F285CA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5AB47D8-58B3-43EC-8F6D-CC8EC7DA221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B3DB259-6D10-4E0F-AED3-847C4FE809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3C9B657-5851-4394-BBA1-6B9A3A09E84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F1D943F-3CAE-4AA8-A792-B989483363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B64A628-6EEA-406B-A335-C495A190D1A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F57A-2A81-46F1-A47D-16E11CF7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E5F62-1E01-426E-82C5-5615C0D4A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99CB40A-2690-43D0-9525-0C18B84FD96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029F570-C106-4454-B2C7-490287688DF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9245C90-4347-4767-91E5-1DCA3C38183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8889B69-97DE-4D52-98A3-9882236ACB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1152FA7-762A-40AE-A45A-BAE5BA03614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85D1C6-B53B-4196-8136-944D5F898F9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F0D8D4-11BA-4068-B26C-83244C94711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3BD2F19-C2F0-4BB9-8536-C93A6BD8E44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C9565E-F244-4868-8AF5-F970820E8F5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E4A982F-109B-4CF1-B5B5-789FA4DE07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2C9ED-9880-4CC5-96F0-FCB89B017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5601D50-0AAA-42C1-A23A-777083377BB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9A37C88-06D1-4DAE-A7CA-C28E90144C2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AD0AD85-51D2-470D-9D3B-B8356B358A0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4418D5E-8E05-4E68-BA54-BC8AEBF0516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44B56D4-336F-4E61-A787-017D3B4E57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318D75C-DE7F-4D86-97CB-203F7D64E71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DCD4449-8F2D-45E9-8EC5-6A6F208FC38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C271362-34FF-43E4-BBD0-498F167DF3D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D77613F-A280-49F0-A537-29E1D783880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A5F25BA-9E29-4010-B6CB-2CA8DCD285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A65D4-65A9-4DF9-986F-1532E8E2A9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CEA850-C91D-4812-9718-78A890EDCFF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1975590-1EE1-462B-A61E-BAFF5CD1F0F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9A901E0-DF7D-48A9-87A4-5AAD5F77AF3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797619B-222F-4EF8-8599-5859D8B5A47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0078F55-6C75-4A14-B3DA-B238A683C86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2FE4507-CB7C-4BA5-98EC-8FD83F1D187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7325F0F-4218-424A-BB2C-22182E99626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AB91454-5B4A-4392-9A46-83F14935969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C862805-027F-48A6-BF67-6ECB7573EEE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FAE735E-45F2-41E4-9B0A-CD7E291090C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2D584-97C8-4F8B-A98E-44ACB3EB2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74C9A70-0FFC-4490-B224-71DAA6D43B2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00B7D11-03C0-4294-914F-C85E1936E6F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0CA5381-FCF9-4840-8654-FF3B983A6E4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C02DC89-F125-4833-8418-2271029903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EE3C2FF-73DB-4FE7-8AA3-8DEFD7CF49B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EA3FDC4-B081-444C-A3F6-F094F13FDDE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A1BE2ED-1EBB-49BD-AD3E-8650F3E315C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9D4CAC5-80CF-4D75-A040-D5BD3ACEEFA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F64C9D-B90D-44B4-82C5-C860EF940D4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FA43521-FD16-4BAE-BCE9-1814387E22D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997AC-34DE-4A11-B6A5-3E6CD95EA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383B7A7-CCE7-4A47-AF8B-00F4A45DF6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F8A8FE8-9E52-42C9-9C9C-5399BD0E0A1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E1E0FAD-9123-4C7D-A6DC-AD0C09196BC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F33893A-FAE8-4AF0-BF05-10052DE966F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0A6D96-5F95-4BE7-871B-975491D45CD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4FA5C6E-9610-48D6-9C6B-C84518CD6A3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B211B44-A815-42CA-ADA6-2D2B0AC2198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ED4EC7D-337B-4F53-9F48-21CBACC7261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EB17CBF-9ACD-49E5-8C8A-102A4B79DE1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7E932EB-2CCE-449C-9365-4CA526E5F8D9}"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13904B-61D5-4570-9BBC-045652799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684FFBA-4923-461C-8C0E-6304FB66268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4E0530B-AC6F-442D-979B-A828B193242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B5C40B1-4493-448F-9217-133B8F7BBC2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0FE7E93-F919-4130-BCFD-AF558446292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D649064-46F9-4983-BB12-5AE06DFAC55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ECBDA18-F20F-4F80-A549-61C9E2EDBD9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605C01-38CC-48FF-B21C-2639328A3AF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6547B2D-B926-4D4B-AECB-DE3D285F9AA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091BCB1-AA48-46A4-9FC8-0B4DAE6DD93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30A7F12-6B6A-4950-B4BC-9C16FAF9BEF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95E2B-A9C2-4352-B14D-C25521076B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6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406A888-C377-453D-AD97-26459CB4C28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2A99ED3-52E8-48DD-AF09-2F0EE3A403D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393F8A7-54BC-4E95-9840-DD8399005A1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C9337DB-FD08-4376-9B49-3E310A0479B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5BC4483-2B3A-4B27-BF24-FC5BD88DB6E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B7F1667-BE30-4802-A280-61926533F24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DCBC993-B6A3-49DA-B4F8-7F52C73266F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EAC06DE-A6F7-43BB-974D-9E050B8FDD4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9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6299D9E-41DF-4B14-A7D9-FE849D227D7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CABEC5D-6D78-4B53-B72C-E8476530BB6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5B73F-72AB-4F7F-AD28-3E635E3193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B316AD2-7105-4374-AC8A-CB0D4FE99BD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6FF358C-3556-446E-A16C-733A8A5D884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1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B391FEA-D237-4B1D-8A67-CDEA3EA325B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3C9D110-E722-47CB-B6F3-DEBDC974BD2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55E441A-04B6-4324-83CF-582BD92C297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3723F2A-29A5-4F63-9E69-B6A48BB77DD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9CCBA08-C0FC-4A45-86AF-B0C233C28BF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F3BEBF8-D4AB-4C97-9306-65E6EDC1E9B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518429B-FBF8-45E8-B681-9EE662B7C12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529279-9A1E-48FC-9BC8-7C76AEAAFEB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094EF-2B04-482F-9F59-B2601FDF6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9522275-708F-4A9F-9E85-1B9132A7DFC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A2F86CE-33F8-4A53-9ABF-8FDB6553B2A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C439C4D-688F-4C84-9717-882C4C0F436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9E7D36B-EE17-4321-A57D-AC7A4841A2B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F3C5B0F-B295-4668-B17E-79BC0F6242B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659474D-E8E0-40A6-BF81-C5F53F59023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8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9F51177-C6E7-4970-A74F-BACEDD936EF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2D683D0-82ED-4DD6-9086-331C174DFF7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A7828A2-BD34-4D15-952A-97640BF3772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F59B67A-F728-44C3-94DB-E7C171432EC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10B40-391A-4F0B-BEA2-9965A0CAF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FF75B0C-E355-4012-8C51-3D86C74694B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1E3DECE-BF31-461D-A9EF-023EE8CB6BA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989283E-F8C5-4FEA-938C-6F37D571D63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7AA0F1A-8DDA-4449-A53F-3C28464F12D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9A45AAE-8487-4958-9080-9BFFB0F42D9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98B9EEF-6895-4633-86D7-48ADE7AD355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1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67E7A41-DACC-457F-8BB0-342CB1427D4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41A3DB6-1436-4B36-B79B-3EF8A36E4B3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A17C7F8-1961-479B-BF00-EAB55772756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E14793A-A15A-48A2-A5F7-0548977279C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1929-0D3B-40F5-A037-468CF4A4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DE3CA-2A12-474E-A890-8FB4B4FF60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819717C-3B82-483F-A12C-07B4326D730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F7CC4C1-F2D1-4E0A-BC86-2F4C1365F2F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54C2F6D-AD67-4B5B-94E9-BE88F0F8785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350AA39-7C5C-4179-967F-3F0A175DA0A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046C397-83EA-4C34-8CBD-FDFD5738ABC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9B41BA9-43F6-4A9E-BFFC-9D79E5571D9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6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EDF703D-38B7-4813-A039-5E5607CDBE7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535424C-FBE7-485F-9C4F-4D470FBE255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8BCD18A-CFFD-4B67-8F94-C58637EB0C6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DC81153-6B3E-450F-B4BA-03626E16E0F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F2384-6A6B-4172-ACB5-582330700A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3BB348C-C6FA-4BED-8008-29628789E00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DC7004B-0E30-47D3-A544-38776E7BDF7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54E510B-86EE-4406-80D7-2C4249A3959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6E3F6DD-608F-4A5D-BEC3-AA02CAAB934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6B06D53-A8B3-44BB-B9D0-B6C629B9826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7FF0630-9011-48EA-9441-51B06A9F0A7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ADD762E-04C5-4155-B715-04F5177E1FC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6B484A7-1C0F-41C0-96B2-B73F488706B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2F6AE77-B8B7-4F3D-BF0B-BA08C9822DD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89B46DE-6A0B-43B3-9188-76DEAA479CF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7D7FE-8AE9-4B8F-9CB6-4BDBE63C9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DBEB344-087E-4F2C-82F8-53A48684650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8CEC4A1-1D1E-4A4F-AD34-65865F4B8A52}"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2A13E6D-715F-44D1-97AF-8D3A70B4846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1D3CC8A-70D0-433F-8787-04C550B5944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EBD2D51-2EC1-4F6B-A7A4-67937AC866F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EB9BB85-BB0D-4E88-A600-426380F7680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4C94A4F-7562-4932-B29E-78F3251D586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849E300-17CA-4596-B2CB-C4863ABE3D9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8136E26-5B96-4190-AC82-577B839A3D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FAEADBC-EB8E-4F04-B5D8-8D59FD104E3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FAD7D-52B4-4010-8176-83371FBE3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B4CF2AF-D201-42AF-BC24-7E9BD14576A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5A4E864-45E9-4A47-BC81-B61BB20D66C4}"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776119F-8F0E-4831-8FC4-E102A94C9BC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CF39E-C50B-437A-9F11-307C50D72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91A9C-62A0-4935-848B-6908AF4D6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514BF-79C2-463A-A68A-0A65ED92A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9DFC9-BB27-477C-93D2-19C9CB6F5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BA390-8E54-4835-8C59-BC2B0C8537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D4D6AB-DDFF-4CA8-AA3C-DDAF15EF2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9143-CCFF-427E-8FAA-747E203A3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349808-3947-4C4B-870F-8E4A3B132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1D34C-3797-4428-B5DD-1FD283DD1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5332B-166F-4BDA-BD37-DC651EE17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10B002-0054-451A-9A16-7B30A2C17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4572C-0325-491D-B974-A6C27454C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3E8D3-DC19-434D-BF48-BED4CCADF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031E6-E1CD-476F-A444-6EDC2A5AD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508F2-AB9C-474A-9E23-B0F72C46D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2A97B-7377-421A-9417-BB40729B8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84873C-BC99-4E9A-809B-819C25C09F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D0FB0-C70F-4EF0-B4A9-A18578AC2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FCCFC-7585-4980-8CBF-CA16236B3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EAD92-A583-4D40-ACD0-19656D0BA6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60834-47F1-4DCC-A466-55EB74058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54A38-4DA3-49D4-A031-4B362C0DF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8549B-C137-4B56-B114-8CA9C4727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FBA97E-C45D-4BB5-B87A-0DE4F8C22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52708-D312-4C3C-BF80-E56E3B4885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E32CA-3F82-4686-9F40-801F245FF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4465B-1066-4487-8CFD-ACDA4B9FA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F696A-07F8-46A5-AC4C-B2DE6C05B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F8B1-CBF6-4B21-BF58-47AC265D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7735C9-FC68-4329-9426-5B8ABD3C90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FCFE08-589D-49F1-AD89-FD54D54FB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3B0399-AD1E-4984-B045-C825704360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C43005-AE50-4405-928C-9BB744DAA1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5D17E9-B331-4C2C-9E06-C79E24E3BB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E14DB-B679-49AB-BFC6-5418FA667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F05BD-355E-45D1-B118-D0FA6B979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7C389-AA30-4D8B-B2D9-FA8EB8FF1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AADF38-398D-4021-9203-503E6EC5D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9A3F1-D85B-486E-9358-4E06ADC95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3682-C7DB-4FF7-AAB9-04C77652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00FF5-FD02-4A95-A26C-28FFF2E23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18FE7-CE9A-4AC1-847F-F97C51AAB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8F492-99B2-492E-851E-C6DBE4DEC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65F295-BA35-4AE8-9D3C-09EC06A1FD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DA4B46-31F6-4455-B7FB-1CD2090C3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D4ABD7-FB7B-497B-B97D-331989BCA9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3FD67-7AEA-4C05-99C8-7F099C38A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84F663-0D3F-4B92-AB3E-1D4C9C250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CE8464-E406-4A26-930A-476C8D469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D85BE-9526-422C-9022-A9835BF36A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51D8-E6EA-43A6-9934-C8053D57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04DA10-9C58-416D-9AE0-8FA4759C21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1C0AA-7435-4818-9371-9DE1E8C8C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B0DC6B-1DA4-49A4-BAE4-A7DE073FC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3B868-58B3-4BBE-95CD-8DE2DF645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3231A4-9CD2-4A3E-A815-89BF48404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654203-5056-43FC-B1A1-E675211073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54D088-2C50-46EA-9363-3C1E19B14D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B4887E-FF8B-446A-AF60-DE1A0E5343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DD849-F8AB-4C62-9C7D-7330685D8F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197C56-1F0E-4316-A9AE-271BA5B3FC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EAD5-745D-466E-B779-109DE47B003F}"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Group 16"/>
          <p:cNvGrpSpPr/>
          <p:nvPr/>
        </p:nvGrpSpPr>
        <p:grpSpPr>
          <a:xfrm>
            <a:off x="-7920" y="-7920"/>
            <a:ext cx="9169560" cy="6873840"/>
            <a:chOff x="-7920" y="-7920"/>
            <a:chExt cx="9169560" cy="6873840"/>
          </a:xfrm>
        </p:grpSpPr>
        <p:sp>
          <p:nvSpPr>
            <p:cNvPr id="46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81" name="PlaceHolder 3"/>
          <p:cNvSpPr>
            <a:spLocks noGrp="1"/>
          </p:cNvSpPr>
          <p:nvPr>
            <p:ph type="dt" idx="2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PlaceHolder 4"/>
          <p:cNvSpPr>
            <a:spLocks noGrp="1"/>
          </p:cNvSpPr>
          <p:nvPr>
            <p:ph type="ftr" idx="2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5"/>
          <p:cNvSpPr>
            <a:spLocks noGrp="1"/>
          </p:cNvSpPr>
          <p:nvPr>
            <p:ph type="sldNum" idx="3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F77C-5021-4583-AC59-1FF84913EEA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16"/>
          <p:cNvGrpSpPr/>
          <p:nvPr/>
        </p:nvGrpSpPr>
        <p:grpSpPr>
          <a:xfrm>
            <a:off x="-7920" y="-7920"/>
            <a:ext cx="9169560" cy="6873840"/>
            <a:chOff x="-7920" y="-7920"/>
            <a:chExt cx="9169560" cy="6873840"/>
          </a:xfrm>
        </p:grpSpPr>
        <p:sp>
          <p:nvSpPr>
            <p:cNvPr id="52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33" name="PlaceHolder 3"/>
          <p:cNvSpPr>
            <a:spLocks noGrp="1"/>
          </p:cNvSpPr>
          <p:nvPr>
            <p:ph type="dt" idx="3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31D3-6394-4F16-8FF8-6846393522A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6"/>
          <p:cNvGrpSpPr/>
          <p:nvPr/>
        </p:nvGrpSpPr>
        <p:grpSpPr>
          <a:xfrm>
            <a:off x="-7920" y="-7920"/>
            <a:ext cx="9169560" cy="6873840"/>
            <a:chOff x="-7920" y="-7920"/>
            <a:chExt cx="9169560" cy="6873840"/>
          </a:xfrm>
        </p:grpSpPr>
        <p:sp>
          <p:nvSpPr>
            <p:cNvPr id="5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8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5" name="PlaceHolder 3"/>
          <p:cNvSpPr>
            <a:spLocks noGrp="1"/>
          </p:cNvSpPr>
          <p:nvPr>
            <p:ph type="dt" idx="3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PlaceHolder 4"/>
          <p:cNvSpPr>
            <a:spLocks noGrp="1"/>
          </p:cNvSpPr>
          <p:nvPr>
            <p:ph type="ftr" idx="3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PlaceHolder 5"/>
          <p:cNvSpPr>
            <a:spLocks noGrp="1"/>
          </p:cNvSpPr>
          <p:nvPr>
            <p:ph type="sldNum" idx="3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3FBB-72CC-4A37-A6BF-41DB65DA8CE0}"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Group 16"/>
          <p:cNvGrpSpPr/>
          <p:nvPr/>
        </p:nvGrpSpPr>
        <p:grpSpPr>
          <a:xfrm>
            <a:off x="-7920" y="-7920"/>
            <a:ext cx="9169560" cy="6873840"/>
            <a:chOff x="-7920" y="-7920"/>
            <a:chExt cx="9169560" cy="6873840"/>
          </a:xfrm>
        </p:grpSpPr>
        <p:sp>
          <p:nvSpPr>
            <p:cNvPr id="62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63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6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3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39" name="PlaceHolder 3"/>
          <p:cNvSpPr>
            <a:spLocks noGrp="1"/>
          </p:cNvSpPr>
          <p:nvPr>
            <p:ph type="dt" idx="3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PlaceHolder 4"/>
          <p:cNvSpPr>
            <a:spLocks noGrp="1"/>
          </p:cNvSpPr>
          <p:nvPr>
            <p:ph type="ftr" idx="3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PlaceHolder 5"/>
          <p:cNvSpPr>
            <a:spLocks noGrp="1"/>
          </p:cNvSpPr>
          <p:nvPr>
            <p:ph type="sldNum" idx="3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A97A-7B56-4AAB-A92C-41A7B3174A9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16"/>
          <p:cNvGrpSpPr/>
          <p:nvPr/>
        </p:nvGrpSpPr>
        <p:grpSpPr>
          <a:xfrm>
            <a:off x="-7920" y="-7920"/>
            <a:ext cx="9169560" cy="6873840"/>
            <a:chOff x="-7920" y="-7920"/>
            <a:chExt cx="9169560" cy="6873840"/>
          </a:xfrm>
        </p:grpSpPr>
        <p:sp>
          <p:nvSpPr>
            <p:cNvPr id="67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9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91" name="PlaceHolder 3"/>
          <p:cNvSpPr>
            <a:spLocks noGrp="1"/>
          </p:cNvSpPr>
          <p:nvPr>
            <p:ph type="dt" idx="4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PlaceHolder 4"/>
          <p:cNvSpPr>
            <a:spLocks noGrp="1"/>
          </p:cNvSpPr>
          <p:nvPr>
            <p:ph type="ftr" idx="4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PlaceHolder 5"/>
          <p:cNvSpPr>
            <a:spLocks noGrp="1"/>
          </p:cNvSpPr>
          <p:nvPr>
            <p:ph type="sldNum" idx="4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9DD8-E68F-442A-85D2-C748CC15C09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16"/>
          <p:cNvGrpSpPr/>
          <p:nvPr/>
        </p:nvGrpSpPr>
        <p:grpSpPr>
          <a:xfrm>
            <a:off x="-7920" y="-7920"/>
            <a:ext cx="9169560" cy="6873840"/>
            <a:chOff x="-7920" y="-7920"/>
            <a:chExt cx="9169560" cy="6873840"/>
          </a:xfrm>
        </p:grpSpPr>
        <p:sp>
          <p:nvSpPr>
            <p:cNvPr id="73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1"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742"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7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5" name="PlaceHolder 3"/>
          <p:cNvSpPr>
            <a:spLocks noGrp="1"/>
          </p:cNvSpPr>
          <p:nvPr>
            <p:ph type="dt" idx="4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PlaceHolder 4"/>
          <p:cNvSpPr>
            <a:spLocks noGrp="1"/>
          </p:cNvSpPr>
          <p:nvPr>
            <p:ph type="ftr" idx="4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PlaceHolder 5"/>
          <p:cNvSpPr>
            <a:spLocks noGrp="1"/>
          </p:cNvSpPr>
          <p:nvPr>
            <p:ph type="sldNum" idx="4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35AC-D863-4A2D-8641-7368827EDC3A}"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4" name="Group 16"/>
          <p:cNvGrpSpPr/>
          <p:nvPr/>
        </p:nvGrpSpPr>
        <p:grpSpPr>
          <a:xfrm>
            <a:off x="-7920" y="-7920"/>
            <a:ext cx="9169560" cy="6873840"/>
            <a:chOff x="-7920" y="-7920"/>
            <a:chExt cx="9169560" cy="6873840"/>
          </a:xfrm>
        </p:grpSpPr>
        <p:sp>
          <p:nvSpPr>
            <p:cNvPr id="7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7" name="PlaceHolder 3"/>
          <p:cNvSpPr>
            <a:spLocks noGrp="1"/>
          </p:cNvSpPr>
          <p:nvPr>
            <p:ph type="dt" idx="4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PlaceHolder 4"/>
          <p:cNvSpPr>
            <a:spLocks noGrp="1"/>
          </p:cNvSpPr>
          <p:nvPr>
            <p:ph type="ftr" idx="4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5"/>
          <p:cNvSpPr>
            <a:spLocks noGrp="1"/>
          </p:cNvSpPr>
          <p:nvPr>
            <p:ph type="sldNum" idx="4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AAC2-FA7C-467E-B46E-E21C961742C6}"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6" name="Group 16"/>
          <p:cNvGrpSpPr/>
          <p:nvPr/>
        </p:nvGrpSpPr>
        <p:grpSpPr>
          <a:xfrm>
            <a:off x="-7920" y="-7920"/>
            <a:ext cx="9169560" cy="6873840"/>
            <a:chOff x="-7920" y="-7920"/>
            <a:chExt cx="9169560" cy="6873840"/>
          </a:xfrm>
        </p:grpSpPr>
        <p:sp>
          <p:nvSpPr>
            <p:cNvPr id="8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9"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3338-5AEC-481A-9B47-FC825DD23BD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8" name="Group 16"/>
          <p:cNvGrpSpPr/>
          <p:nvPr/>
        </p:nvGrpSpPr>
        <p:grpSpPr>
          <a:xfrm>
            <a:off x="-7920" y="-7920"/>
            <a:ext cx="9169560" cy="6873840"/>
            <a:chOff x="-7920" y="-7920"/>
            <a:chExt cx="9169560" cy="6873840"/>
          </a:xfrm>
        </p:grpSpPr>
        <p:sp>
          <p:nvSpPr>
            <p:cNvPr id="8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01"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E2AA-AF27-4006-8CF6-FB26AFF8FEC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0" name="Group 16"/>
          <p:cNvGrpSpPr/>
          <p:nvPr/>
        </p:nvGrpSpPr>
        <p:grpSpPr>
          <a:xfrm>
            <a:off x="-7920" y="-7920"/>
            <a:ext cx="9169560" cy="6873840"/>
            <a:chOff x="-7920" y="-7920"/>
            <a:chExt cx="9169560" cy="6873840"/>
          </a:xfrm>
        </p:grpSpPr>
        <p:sp>
          <p:nvSpPr>
            <p:cNvPr id="9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53"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5774-9847-406E-9A09-B8E922B9DB6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6"/>
          <p:cNvGrpSpPr/>
          <p:nvPr/>
        </p:nvGrpSpPr>
        <p:grpSpPr>
          <a:xfrm>
            <a:off x="-7920" y="-7920"/>
            <a:ext cx="9169560" cy="6873840"/>
            <a:chOff x="-7920" y="-7920"/>
            <a:chExt cx="9169560" cy="6873840"/>
          </a:xfrm>
        </p:grpSpPr>
        <p:sp>
          <p:nvSpPr>
            <p:cNvPr id="5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D24C-D2DA-4D61-A476-9B81DC769BA6}"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2" name="Group 6"/>
          <p:cNvGrpSpPr/>
          <p:nvPr/>
        </p:nvGrpSpPr>
        <p:grpSpPr>
          <a:xfrm>
            <a:off x="-7920" y="-7920"/>
            <a:ext cx="9169560" cy="6873840"/>
            <a:chOff x="-7920" y="-7920"/>
            <a:chExt cx="9169560" cy="6873840"/>
          </a:xfrm>
        </p:grpSpPr>
        <p:sp>
          <p:nvSpPr>
            <p:cNvPr id="99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5"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6BB2-8F4A-4DEC-9595-13109B7041F5}"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4" name="Group 16"/>
          <p:cNvGrpSpPr/>
          <p:nvPr/>
        </p:nvGrpSpPr>
        <p:grpSpPr>
          <a:xfrm>
            <a:off x="-7920" y="-7920"/>
            <a:ext cx="9169560" cy="6873840"/>
            <a:chOff x="-7920" y="-7920"/>
            <a:chExt cx="9169560" cy="6873840"/>
          </a:xfrm>
        </p:grpSpPr>
        <p:sp>
          <p:nvSpPr>
            <p:cNvPr id="10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7"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8233-3B1A-4FC0-B24F-097C0BFB179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Group 16"/>
          <p:cNvGrpSpPr/>
          <p:nvPr/>
        </p:nvGrpSpPr>
        <p:grpSpPr>
          <a:xfrm>
            <a:off x="-7920" y="-7920"/>
            <a:ext cx="9169560" cy="6873840"/>
            <a:chOff x="-7920" y="-7920"/>
            <a:chExt cx="9169560" cy="6873840"/>
          </a:xfrm>
        </p:grpSpPr>
        <p:sp>
          <p:nvSpPr>
            <p:cNvPr id="10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9"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0C9E-72D6-4058-BCC6-88C115F4FDB7}"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16"/>
          <p:cNvGrpSpPr/>
          <p:nvPr/>
        </p:nvGrpSpPr>
        <p:grpSpPr>
          <a:xfrm>
            <a:off x="-7920" y="-7920"/>
            <a:ext cx="9169560" cy="6873840"/>
            <a:chOff x="-7920" y="-7920"/>
            <a:chExt cx="9169560" cy="6873840"/>
          </a:xfrm>
        </p:grpSpPr>
        <p:sp>
          <p:nvSpPr>
            <p:cNvPr id="114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61"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E9A9-56A0-4920-B20D-4EA36F09E08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0" name="Group 16"/>
          <p:cNvGrpSpPr/>
          <p:nvPr/>
        </p:nvGrpSpPr>
        <p:grpSpPr>
          <a:xfrm>
            <a:off x="-7920" y="-7920"/>
            <a:ext cx="9169560" cy="6873840"/>
            <a:chOff x="-7920" y="-7920"/>
            <a:chExt cx="9169560" cy="6873840"/>
          </a:xfrm>
        </p:grpSpPr>
        <p:sp>
          <p:nvSpPr>
            <p:cNvPr id="120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3"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1354-7E94-4D06-9B58-9B2C3234235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2" name="Group 16"/>
          <p:cNvGrpSpPr/>
          <p:nvPr/>
        </p:nvGrpSpPr>
        <p:grpSpPr>
          <a:xfrm>
            <a:off x="-7920" y="-7920"/>
            <a:ext cx="9169560" cy="6873840"/>
            <a:chOff x="-7920" y="-7920"/>
            <a:chExt cx="9169560" cy="6873840"/>
          </a:xfrm>
        </p:grpSpPr>
        <p:sp>
          <p:nvSpPr>
            <p:cNvPr id="125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F48B-FFE9-458A-ABE5-D03995E6C90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32CF-132C-4F6A-A16A-F22E5CAA202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17E1-C13B-46C1-B966-2C56E28EB505}"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A6E2-C13B-4AC5-AD6F-964856095236}"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0" name="Group 16"/>
          <p:cNvGrpSpPr/>
          <p:nvPr/>
        </p:nvGrpSpPr>
        <p:grpSpPr>
          <a:xfrm>
            <a:off x="-7920" y="-7920"/>
            <a:ext cx="9169560" cy="6873840"/>
            <a:chOff x="-7920" y="-7920"/>
            <a:chExt cx="9169560" cy="6873840"/>
          </a:xfrm>
        </p:grpSpPr>
        <p:sp>
          <p:nvSpPr>
            <p:cNvPr id="14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73"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5C7A-826C-49EA-89C7-790DA9BC215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7920" y="-7920"/>
            <a:ext cx="9169560" cy="6873840"/>
            <a:chOff x="-7920" y="-7920"/>
            <a:chExt cx="9169560" cy="6873840"/>
          </a:xfrm>
        </p:grpSpPr>
        <p:sp>
          <p:nvSpPr>
            <p:cNvPr id="105"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766F-1C16-4202-879B-5AC4BF3138C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2" name="Group 16"/>
          <p:cNvGrpSpPr/>
          <p:nvPr/>
        </p:nvGrpSpPr>
        <p:grpSpPr>
          <a:xfrm>
            <a:off x="-7920" y="-7920"/>
            <a:ext cx="9169560" cy="6873840"/>
            <a:chOff x="-7920" y="-7920"/>
            <a:chExt cx="9169560" cy="6873840"/>
          </a:xfrm>
        </p:grpSpPr>
        <p:sp>
          <p:nvSpPr>
            <p:cNvPr id="15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52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2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527"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82DD-A172-48FD-94CC-4FFABED4B943}"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6" name="Group 16"/>
          <p:cNvGrpSpPr/>
          <p:nvPr/>
        </p:nvGrpSpPr>
        <p:grpSpPr>
          <a:xfrm>
            <a:off x="-7920" y="-7920"/>
            <a:ext cx="9169560" cy="6873840"/>
            <a:chOff x="-7920" y="-7920"/>
            <a:chExt cx="9169560" cy="6873840"/>
          </a:xfrm>
        </p:grpSpPr>
        <p:sp>
          <p:nvSpPr>
            <p:cNvPr id="156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57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579" name="PlaceHolder 3"/>
          <p:cNvSpPr>
            <a:spLocks noGrp="1"/>
          </p:cNvSpPr>
          <p:nvPr>
            <p:ph type="dt" idx="9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PlaceHolder 4"/>
          <p:cNvSpPr>
            <a:spLocks noGrp="1"/>
          </p:cNvSpPr>
          <p:nvPr>
            <p:ph type="ftr" idx="9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PlaceHolder 5"/>
          <p:cNvSpPr>
            <a:spLocks noGrp="1"/>
          </p:cNvSpPr>
          <p:nvPr>
            <p:ph type="sldNum" idx="9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70D4-1085-490D-BA7E-4CC62D53D740}"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8" name="Group 16"/>
          <p:cNvGrpSpPr/>
          <p:nvPr/>
        </p:nvGrpSpPr>
        <p:grpSpPr>
          <a:xfrm>
            <a:off x="-7920" y="-7920"/>
            <a:ext cx="9169560" cy="6873840"/>
            <a:chOff x="-7920" y="-7920"/>
            <a:chExt cx="9169560" cy="6873840"/>
          </a:xfrm>
        </p:grpSpPr>
        <p:sp>
          <p:nvSpPr>
            <p:cNvPr id="161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63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33" name="PlaceHolder 3"/>
          <p:cNvSpPr>
            <a:spLocks noGrp="1"/>
          </p:cNvSpPr>
          <p:nvPr>
            <p:ph type="dt" idx="9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4"/>
          <p:cNvSpPr>
            <a:spLocks noGrp="1"/>
          </p:cNvSpPr>
          <p:nvPr>
            <p:ph type="ftr" idx="9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PlaceHolder 5"/>
          <p:cNvSpPr>
            <a:spLocks noGrp="1"/>
          </p:cNvSpPr>
          <p:nvPr>
            <p:ph type="sldNum" idx="9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43AE-0C9C-4CFD-82C6-C87057C6275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2" name="Group 16"/>
          <p:cNvGrpSpPr/>
          <p:nvPr/>
        </p:nvGrpSpPr>
        <p:grpSpPr>
          <a:xfrm>
            <a:off x="-7920" y="-7920"/>
            <a:ext cx="9169560" cy="6873840"/>
            <a:chOff x="-7920" y="-7920"/>
            <a:chExt cx="9169560" cy="6873840"/>
          </a:xfrm>
        </p:grpSpPr>
        <p:sp>
          <p:nvSpPr>
            <p:cNvPr id="16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8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85" name="PlaceHolder 3"/>
          <p:cNvSpPr>
            <a:spLocks noGrp="1"/>
          </p:cNvSpPr>
          <p:nvPr>
            <p:ph type="dt" idx="9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PlaceHolder 4"/>
          <p:cNvSpPr>
            <a:spLocks noGrp="1"/>
          </p:cNvSpPr>
          <p:nvPr>
            <p:ph type="ftr" idx="9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PlaceHolder 5"/>
          <p:cNvSpPr>
            <a:spLocks noGrp="1"/>
          </p:cNvSpPr>
          <p:nvPr>
            <p:ph type="sldNum" idx="9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396B-7662-4872-812A-8395B3FCE87D}"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4" name="Group 16"/>
          <p:cNvGrpSpPr/>
          <p:nvPr/>
        </p:nvGrpSpPr>
        <p:grpSpPr>
          <a:xfrm>
            <a:off x="-7920" y="-7920"/>
            <a:ext cx="9169560" cy="6873840"/>
            <a:chOff x="-7920" y="-7920"/>
            <a:chExt cx="9169560" cy="6873840"/>
          </a:xfrm>
        </p:grpSpPr>
        <p:sp>
          <p:nvSpPr>
            <p:cNvPr id="172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7" name="PlaceHolder 3"/>
          <p:cNvSpPr>
            <a:spLocks noGrp="1"/>
          </p:cNvSpPr>
          <p:nvPr>
            <p:ph type="dt" idx="10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8" name="PlaceHolder 4"/>
          <p:cNvSpPr>
            <a:spLocks noGrp="1"/>
          </p:cNvSpPr>
          <p:nvPr>
            <p:ph type="ftr" idx="10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9" name="PlaceHolder 5"/>
          <p:cNvSpPr>
            <a:spLocks noGrp="1"/>
          </p:cNvSpPr>
          <p:nvPr>
            <p:ph type="sldNum" idx="10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6580-A26D-4DD8-9331-7DC42987B5BC}"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6" name="Group 16"/>
          <p:cNvGrpSpPr/>
          <p:nvPr/>
        </p:nvGrpSpPr>
        <p:grpSpPr>
          <a:xfrm>
            <a:off x="-7920" y="-7920"/>
            <a:ext cx="9169560" cy="6873840"/>
            <a:chOff x="-7920" y="-7920"/>
            <a:chExt cx="9169560" cy="6873840"/>
          </a:xfrm>
        </p:grpSpPr>
        <p:sp>
          <p:nvSpPr>
            <p:cNvPr id="177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8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89" name="PlaceHolder 3"/>
          <p:cNvSpPr>
            <a:spLocks noGrp="1"/>
          </p:cNvSpPr>
          <p:nvPr>
            <p:ph type="dt" idx="10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PlaceHolder 4"/>
          <p:cNvSpPr>
            <a:spLocks noGrp="1"/>
          </p:cNvSpPr>
          <p:nvPr>
            <p:ph type="ftr" idx="10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PlaceHolder 5"/>
          <p:cNvSpPr>
            <a:spLocks noGrp="1"/>
          </p:cNvSpPr>
          <p:nvPr>
            <p:ph type="sldNum" idx="10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C4FF-FB23-4BFA-B976-F51A3480B06B}"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8" name="Group 16"/>
          <p:cNvGrpSpPr/>
          <p:nvPr/>
        </p:nvGrpSpPr>
        <p:grpSpPr>
          <a:xfrm>
            <a:off x="-7920" y="-7920"/>
            <a:ext cx="9169560" cy="6873840"/>
            <a:chOff x="-7920" y="-7920"/>
            <a:chExt cx="9169560" cy="6873840"/>
          </a:xfrm>
        </p:grpSpPr>
        <p:sp>
          <p:nvSpPr>
            <p:cNvPr id="182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8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841" name="PlaceHolder 3"/>
          <p:cNvSpPr>
            <a:spLocks noGrp="1"/>
          </p:cNvSpPr>
          <p:nvPr>
            <p:ph type="dt" idx="10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PlaceHolder 4"/>
          <p:cNvSpPr>
            <a:spLocks noGrp="1"/>
          </p:cNvSpPr>
          <p:nvPr>
            <p:ph type="ftr" idx="10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PlaceHolder 5"/>
          <p:cNvSpPr>
            <a:spLocks noGrp="1"/>
          </p:cNvSpPr>
          <p:nvPr>
            <p:ph type="sldNum" idx="10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7992-6FA0-4C40-9CC8-F2453BE64AC6}"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1722-3B8B-48CE-AC83-B1C8913D39D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69560" cy="6873840"/>
            <a:chOff x="-7920" y="-7920"/>
            <a:chExt cx="9169560" cy="6873840"/>
          </a:xfrm>
        </p:grpSpPr>
        <p:sp>
          <p:nvSpPr>
            <p:cNvPr id="2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5E7D-81AE-445E-AC23-80DC457EBD71}"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69560" cy="6873840"/>
            <a:chOff x="-7920" y="-7920"/>
            <a:chExt cx="9169560" cy="6873840"/>
          </a:xfrm>
        </p:grpSpPr>
        <p:sp>
          <p:nvSpPr>
            <p:cNvPr id="2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C4D6-D140-4030-AAAC-1DD7C50F0D44}"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69560" cy="6873840"/>
            <a:chOff x="-7920" y="-7920"/>
            <a:chExt cx="9169560" cy="6873840"/>
          </a:xfrm>
        </p:grpSpPr>
        <p:sp>
          <p:nvSpPr>
            <p:cNvPr id="3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3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5"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1878-A225-43C6-8EB7-7E1771431502}"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Group 16"/>
          <p:cNvGrpSpPr/>
          <p:nvPr/>
        </p:nvGrpSpPr>
        <p:grpSpPr>
          <a:xfrm>
            <a:off x="-7920" y="-7920"/>
            <a:ext cx="9169560" cy="6873840"/>
            <a:chOff x="-7920" y="-7920"/>
            <a:chExt cx="9169560" cy="6873840"/>
          </a:xfrm>
        </p:grpSpPr>
        <p:sp>
          <p:nvSpPr>
            <p:cNvPr id="36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37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77"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A5DF-1C26-4EB8-9CCC-00DA1D83E4BE}"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6"/>
          <p:cNvGrpSpPr/>
          <p:nvPr/>
        </p:nvGrpSpPr>
        <p:grpSpPr>
          <a:xfrm>
            <a:off x="-7920" y="-7920"/>
            <a:ext cx="9169560" cy="6873840"/>
            <a:chOff x="-7920" y="-7920"/>
            <a:chExt cx="9169560" cy="6873840"/>
          </a:xfrm>
        </p:grpSpPr>
        <p:sp>
          <p:nvSpPr>
            <p:cNvPr id="41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29" name="PlaceHolder 3"/>
          <p:cNvSpPr>
            <a:spLocks noGrp="1"/>
          </p:cNvSpPr>
          <p:nvPr>
            <p:ph type="dt" idx="2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4"/>
          <p:cNvSpPr>
            <a:spLocks noGrp="1"/>
          </p:cNvSpPr>
          <p:nvPr>
            <p:ph type="ftr" idx="2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5"/>
          <p:cNvSpPr>
            <a:spLocks noGrp="1"/>
          </p:cNvSpPr>
          <p:nvPr>
            <p:ph type="sldNum" idx="2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B1F1-614C-49D4-95A8-D4908BDF2338}" type="slidenum">
              <a:rPr b="0" lang="nl-NL"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hyperlink" Target="https://schooltv.nl/video/het-reclamebureau-hoe-maak-je-een-goede-reclame/playlist/43/" TargetMode="External"/><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4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4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89.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8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68360" y="404280"/>
            <a:ext cx="582624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Marketing</a:t>
            </a:r>
            <a:endParaRPr b="0" lang="en-US" sz="5400" spc="-1" strike="noStrike">
              <a:solidFill>
                <a:srgbClr val="90c226"/>
              </a:solidFill>
              <a:latin typeface="Trebuchet MS"/>
            </a:endParaRPr>
          </a:p>
        </p:txBody>
      </p:sp>
      <p:sp>
        <p:nvSpPr>
          <p:cNvPr id="1888" name="PlaceHolder 2"/>
          <p:cNvSpPr>
            <a:spLocks noGrp="1"/>
          </p:cNvSpPr>
          <p:nvPr>
            <p:ph type="subTitle"/>
          </p:nvPr>
        </p:nvSpPr>
        <p:spPr>
          <a:xfrm>
            <a:off x="1402920" y="2636640"/>
            <a:ext cx="3537000" cy="1771560"/>
          </a:xfrm>
          <a:prstGeom prst="rect">
            <a:avLst/>
          </a:prstGeom>
          <a:noFill/>
          <a:ln w="0">
            <a:noFill/>
          </a:ln>
        </p:spPr>
        <p:txBody>
          <a:bodyPr anchor="t">
            <a:noAutofit/>
          </a:bodyPr>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7f7f7f"/>
                </a:solidFill>
                <a:latin typeface="Trebuchet MS"/>
              </a:rPr>
              <a:t>Wat en waarom?</a:t>
            </a:r>
            <a:endParaRPr b="0" lang="en-US" sz="3600" spc="-1" strike="noStrike">
              <a:solidFill>
                <a:srgbClr val="404040"/>
              </a:solidFill>
              <a:latin typeface="Trebuchet MS"/>
            </a:endParaRPr>
          </a:p>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404040"/>
              </a:solidFill>
              <a:latin typeface="Trebuchet MS"/>
            </a:endParaRPr>
          </a:p>
          <a:p>
            <a:pPr indent="0" algn="r">
              <a:spcBef>
                <a:spcPts val="1001"/>
              </a:spcBef>
              <a:buNone/>
              <a:tabLst>
                <a:tab algn="l" pos="0"/>
                <a:tab algn="r" pos="619128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404040"/>
              </a:solidFill>
              <a:latin typeface="Trebuchet MS"/>
            </a:endParaRPr>
          </a:p>
        </p:txBody>
      </p:sp>
      <p:pic>
        <p:nvPicPr>
          <p:cNvPr id="1889" name="Picture 7" descr="https://www.communicatietrends.nl/wp-content/uploads/2016/11/reclame-maken_9-punten-min-750x300.jpg"/>
          <p:cNvPicPr/>
          <p:nvPr/>
        </p:nvPicPr>
        <p:blipFill>
          <a:blip r:embed="rId1"/>
          <a:stretch/>
        </p:blipFill>
        <p:spPr>
          <a:xfrm>
            <a:off x="1332000" y="4143240"/>
            <a:ext cx="7215120" cy="23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91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ehoeften begrijpen</a:t>
            </a:r>
            <a:endParaRPr b="0" lang="en-US" sz="3600" spc="-1" strike="noStrike">
              <a:solidFill>
                <a:srgbClr val="90c226"/>
              </a:solidFill>
              <a:latin typeface="Trebuchet MS"/>
            </a:endParaRPr>
          </a:p>
        </p:txBody>
      </p:sp>
      <p:sp>
        <p:nvSpPr>
          <p:cNvPr id="1914" name=""/>
          <p:cNvSpPr txBox="1"/>
          <p:nvPr/>
        </p:nvSpPr>
        <p:spPr>
          <a:xfrm>
            <a:off x="1066680" y="1752120"/>
            <a:ext cx="5639040" cy="762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iramide van Maslow (1954)</a:t>
            </a:r>
            <a:endParaRPr b="0" lang="en-US" sz="1800" spc="-1" strike="noStrike">
              <a:solidFill>
                <a:srgbClr val="404040"/>
              </a:solidFill>
              <a:latin typeface="Trebuchet MS"/>
            </a:endParaRPr>
          </a:p>
        </p:txBody>
      </p:sp>
      <p:pic>
        <p:nvPicPr>
          <p:cNvPr id="1915"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91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set>
                                <p:cBhvr>
                                  <p:cTn id="117" dur="1" fill="hold"/>
                                  <p:tgtEl>
                                    <p:spTgt spid="19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6" name="Group 20"/>
          <p:cNvGrpSpPr/>
          <p:nvPr/>
        </p:nvGrpSpPr>
        <p:grpSpPr>
          <a:xfrm>
            <a:off x="1981080" y="533520"/>
            <a:ext cx="5639040" cy="5638680"/>
            <a:chOff x="1981080" y="533520"/>
            <a:chExt cx="5639040" cy="5638680"/>
          </a:xfrm>
        </p:grpSpPr>
        <p:sp>
          <p:nvSpPr>
            <p:cNvPr id="1917" name="Oval 2"/>
            <p:cNvSpPr/>
            <p:nvPr/>
          </p:nvSpPr>
          <p:spPr>
            <a:xfrm>
              <a:off x="1981080" y="533520"/>
              <a:ext cx="5639040" cy="5638680"/>
            </a:xfrm>
            <a:prstGeom prst="ellipse">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919"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920"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921"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922"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923"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924" name="Group 19"/>
          <p:cNvGrpSpPr/>
          <p:nvPr/>
        </p:nvGrpSpPr>
        <p:grpSpPr>
          <a:xfrm>
            <a:off x="3087720" y="1584360"/>
            <a:ext cx="3505320" cy="3505320"/>
            <a:chOff x="3087720" y="1584360"/>
            <a:chExt cx="3505320" cy="3505320"/>
          </a:xfrm>
        </p:grpSpPr>
        <p:sp>
          <p:nvSpPr>
            <p:cNvPr id="1925"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927"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928"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929"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930"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924"/>
                                        </p:tgtEl>
                                        <p:attrNameLst>
                                          <p:attrName>style.visibility</p:attrName>
                                        </p:attrNameLst>
                                      </p:cBhvr>
                                      <p:to>
                                        <p:strVal val="visible"/>
                                      </p:to>
                                    </p:set>
                                    <p:anim calcmode="lin" valueType="num">
                                      <p:cBhvr additive="base">
                                        <p:cTn id="124" dur="500" fill="hold"/>
                                        <p:tgtEl>
                                          <p:spTgt spid="1924"/>
                                        </p:tgtEl>
                                        <p:attrNameLst>
                                          <p:attrName>ppt_x</p:attrName>
                                        </p:attrNameLst>
                                      </p:cBhvr>
                                      <p:tavLst>
                                        <p:tav tm="0">
                                          <p:val>
                                            <p:strVal val="0-#ppt_w/2"/>
                                          </p:val>
                                        </p:tav>
                                        <p:tav tm="100000">
                                          <p:val>
                                            <p:strVal val="#ppt_x"/>
                                          </p:val>
                                        </p:tav>
                                      </p:tavLst>
                                    </p:anim>
                                    <p:anim calcmode="lin" valueType="num">
                                      <p:cBhvr additive="base">
                                        <p:cTn id="125" dur="500" fill="hold"/>
                                        <p:tgtEl>
                                          <p:spTgt spid="1924"/>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916"/>
                                        </p:tgtEl>
                                        <p:attrNameLst>
                                          <p:attrName>style.visibility</p:attrName>
                                        </p:attrNameLst>
                                      </p:cBhvr>
                                      <p:to>
                                        <p:strVal val="visible"/>
                                      </p:to>
                                    </p:set>
                                    <p:anim calcmode="lin" valueType="num">
                                      <p:cBhvr additive="base">
                                        <p:cTn id="130" dur="500" fill="hold"/>
                                        <p:tgtEl>
                                          <p:spTgt spid="1916"/>
                                        </p:tgtEl>
                                        <p:attrNameLst>
                                          <p:attrName>ppt_x</p:attrName>
                                        </p:attrNameLst>
                                      </p:cBhvr>
                                      <p:tavLst>
                                        <p:tav tm="0">
                                          <p:val>
                                            <p:strVal val="0-#ppt_w/2"/>
                                          </p:val>
                                        </p:tav>
                                        <p:tav tm="100000">
                                          <p:val>
                                            <p:strVal val="#ppt_x"/>
                                          </p:val>
                                        </p:tav>
                                      </p:tavLst>
                                    </p:anim>
                                    <p:anim calcmode="lin" valueType="num">
                                      <p:cBhvr additive="base">
                                        <p:cTn id="131" dur="500" fill="hold"/>
                                        <p:tgtEl>
                                          <p:spTgt spid="1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100% tevreden klanten?</a:t>
            </a:r>
            <a:endParaRPr b="0" lang="en-US" sz="3600" spc="-1" strike="noStrike">
              <a:solidFill>
                <a:srgbClr val="90c226"/>
              </a:solidFill>
              <a:latin typeface="Trebuchet MS"/>
            </a:endParaRPr>
          </a:p>
        </p:txBody>
      </p:sp>
      <p:sp>
        <p:nvSpPr>
          <p:cNvPr id="1932" name=""/>
          <p:cNvSpPr txBox="1"/>
          <p:nvPr/>
        </p:nvSpPr>
        <p:spPr>
          <a:xfrm>
            <a:off x="1066320" y="1752480"/>
            <a:ext cx="7620120" cy="464832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Een tevreden medewerker zorgt voor een tevreden klant </a:t>
            </a: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Times New Roman"/>
              </a:rPr>
              <a:t>→ </a:t>
            </a:r>
            <a:r>
              <a:rPr b="0" lang="en-US" sz="3200" spc="-1" strike="noStrike">
                <a:solidFill>
                  <a:srgbClr val="404040"/>
                </a:solidFill>
                <a:latin typeface="Trebuchet MS"/>
              </a:rPr>
              <a:t>Waarom is Jumbo de snelst groeiende supermarket? </a:t>
            </a: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539640" y="17892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et succes van Jumbo</a:t>
            </a:r>
            <a:endParaRPr b="0" lang="en-US" sz="3600" spc="-1" strike="noStrike">
              <a:solidFill>
                <a:srgbClr val="90c226"/>
              </a:solidFill>
              <a:latin typeface="Trebuchet MS"/>
            </a:endParaRPr>
          </a:p>
        </p:txBody>
      </p:sp>
      <p:sp>
        <p:nvSpPr>
          <p:cNvPr id="1934" name=""/>
          <p:cNvSpPr txBox="1"/>
          <p:nvPr/>
        </p:nvSpPr>
        <p:spPr>
          <a:xfrm>
            <a:off x="394920" y="1052280"/>
            <a:ext cx="7620120" cy="47242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Brabants familiebedrijf (sinds 1921)</a:t>
            </a:r>
            <a:endParaRPr b="0" lang="en-US" sz="32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Klantenonderzoek (jaren ’90) naar de grootste supermarktergernissen</a:t>
            </a:r>
            <a:endParaRPr b="0" lang="en-US" sz="32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Bouwt ergernissen om naar zekerheden</a:t>
            </a:r>
            <a:endParaRPr b="0" lang="en-US" sz="3200" spc="-1" strike="noStrike">
              <a:solidFill>
                <a:srgbClr val="404040"/>
              </a:solidFill>
              <a:latin typeface="Trebuchet MS"/>
            </a:endParaRPr>
          </a:p>
          <a:p>
            <a:pPr lvl="1" marL="683280" indent="-2628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3 speerpunten:</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de laagste prijs</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het breedste assortiment</a:t>
            </a:r>
            <a:endParaRPr b="0" lang="en-US" sz="3200" spc="-1" strike="noStrike">
              <a:solidFill>
                <a:srgbClr val="404040"/>
              </a:solidFill>
              <a:latin typeface="Trebuchet MS"/>
            </a:endParaRPr>
          </a:p>
          <a:p>
            <a:pPr lvl="2" marL="1051560" indent="-210240">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404040"/>
                </a:solidFill>
                <a:latin typeface="Trebuchet MS"/>
              </a:rPr>
              <a:t>de beste servic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934">
                                            <p:txEl>
                                              <p:pRg st="1" end="1"/>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934">
                                            <p:txEl>
                                              <p:pRg st="2" end="2"/>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934">
                                            <p:txEl>
                                              <p:pRg st="3" end="3"/>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934">
                                            <p:txEl>
                                              <p:pRg st="4" end="4"/>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934">
                                            <p:txEl>
                                              <p:pRg st="5" end="5"/>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9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Jumbo kijkt naar:</a:t>
            </a:r>
            <a:endParaRPr b="0" lang="en-US" sz="3600" spc="-1" strike="noStrike">
              <a:solidFill>
                <a:srgbClr val="90c226"/>
              </a:solidFill>
              <a:latin typeface="Trebuchet MS"/>
            </a:endParaRPr>
          </a:p>
        </p:txBody>
      </p:sp>
      <p:sp>
        <p:nvSpPr>
          <p:cNvPr id="19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Wat wil de klant?</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Vervolgens moet je de klant ervan overtuigen dat ze bij jou willen “kop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Hoe maak ik goede reclam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u="sng">
                <a:solidFill>
                  <a:srgbClr val="99ca3c"/>
                </a:solidFill>
                <a:uFillTx/>
                <a:latin typeface="Trebuchet MS"/>
                <a:hlinkClick r:id="rId1"/>
              </a:rPr>
              <a:t>https://schooltv.nl/video/het-reclamebureau-hoe-maak-je-een-goede-reclame/playlist/43/</a:t>
            </a: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936">
                                            <p:txEl>
                                              <p:pRg st="0" end="0"/>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936">
                                            <p:txEl>
                                              <p:pRg st="1" end="1"/>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936">
                                            <p:txEl>
                                              <p:pRg st="3" end="3"/>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9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2 Onderdelen van Marketing</a:t>
            </a:r>
            <a:endParaRPr b="0" lang="en-US" sz="3600" spc="-1" strike="noStrike">
              <a:solidFill>
                <a:srgbClr val="90c226"/>
              </a:solidFill>
              <a:latin typeface="Trebuchet MS"/>
            </a:endParaRPr>
          </a:p>
        </p:txBody>
      </p:sp>
      <p:sp>
        <p:nvSpPr>
          <p:cNvPr id="1938" name=""/>
          <p:cNvSpPr txBox="1"/>
          <p:nvPr/>
        </p:nvSpPr>
        <p:spPr>
          <a:xfrm>
            <a:off x="609120" y="2160360"/>
            <a:ext cx="4970520" cy="44463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ANALYSE</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404040"/>
                </a:solidFill>
                <a:latin typeface="Trebuchet MS"/>
              </a:rPr>
              <a:t>Marktonderzoek</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ie/wat/waar etc.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1939" name=""/>
          <p:cNvSpPr txBox="1"/>
          <p:nvPr/>
        </p:nvSpPr>
        <p:spPr>
          <a:xfrm>
            <a:off x="4605120" y="1547640"/>
            <a:ext cx="5275080" cy="388152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04040"/>
                </a:solidFill>
                <a:latin typeface="Trebuchet MS"/>
              </a:rPr>
              <a:t>PROGRAMMA</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404040"/>
                </a:solidFill>
                <a:latin typeface="Trebuchet MS"/>
              </a:rPr>
              <a:t>Marketingpla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isie en Missi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oelstellinge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trategi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edenk iets opvallends!</a:t>
            </a:r>
            <a:endParaRPr b="0" lang="en-US" sz="2800" spc="-1" strike="noStrike">
              <a:solidFill>
                <a:srgbClr val="404040"/>
              </a:solidFill>
              <a:latin typeface="Trebuchet MS"/>
            </a:endParaRPr>
          </a:p>
        </p:txBody>
      </p:sp>
      <p:pic>
        <p:nvPicPr>
          <p:cNvPr id="1940" name="Picture 7" descr="Paarse koe"/>
          <p:cNvPicPr/>
          <p:nvPr/>
        </p:nvPicPr>
        <p:blipFill>
          <a:blip r:embed="rId1"/>
          <a:stretch/>
        </p:blipFill>
        <p:spPr>
          <a:xfrm>
            <a:off x="6675480" y="5243400"/>
            <a:ext cx="1752480" cy="1154160"/>
          </a:xfrm>
          <a:prstGeom prst="rect">
            <a:avLst/>
          </a:prstGeom>
          <a:ln w="0">
            <a:noFill/>
          </a:ln>
        </p:spPr>
      </p:pic>
      <p:sp>
        <p:nvSpPr>
          <p:cNvPr id="1941" name="Tekstvak 1"/>
          <p:cNvSpPr/>
          <p:nvPr/>
        </p:nvSpPr>
        <p:spPr>
          <a:xfrm>
            <a:off x="250920" y="4643280"/>
            <a:ext cx="663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Times New Roman"/>
              </a:rPr>
              <a:t>http://www.youtube.com/watch?v=xBIVlM435Zg het verhaal van de paarse ko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939">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939">
                                            <p:txEl>
                                              <p:pRg st="1" end="1"/>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939">
                                            <p:txEl>
                                              <p:pRg st="2" end="2"/>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939">
                                            <p:txEl>
                                              <p:pRg st="3" end="3"/>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939">
                                            <p:txEl>
                                              <p:pRg st="4" end="4"/>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1939">
                                            <p:txEl>
                                              <p:pRg st="5" end="5"/>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1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2"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3"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9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et de bus naar de dierentui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11280" y="19008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 voor vandaag</a:t>
            </a:r>
            <a:endParaRPr b="0" lang="en-US" sz="3600" spc="-1" strike="noStrike">
              <a:solidFill>
                <a:srgbClr val="90c226"/>
              </a:solidFill>
              <a:latin typeface="Trebuchet MS"/>
            </a:endParaRPr>
          </a:p>
        </p:txBody>
      </p:sp>
      <p:sp>
        <p:nvSpPr>
          <p:cNvPr id="1946" name=""/>
          <p:cNvSpPr txBox="1"/>
          <p:nvPr/>
        </p:nvSpPr>
        <p:spPr>
          <a:xfrm>
            <a:off x="178920" y="1052640"/>
            <a:ext cx="8137800" cy="4572000"/>
          </a:xfrm>
          <a:prstGeom prst="rect">
            <a:avLst/>
          </a:prstGeom>
          <a:noFill/>
          <a:ln w="0">
            <a:noFill/>
          </a:ln>
        </p:spPr>
        <p:txBody>
          <a:bodyPr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Een doelgroep beschrijf je aan de hand van 4 specifieke kenmerken. Zoek eens op wat ze betekenen:</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geograf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demograf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ociaal-economisch</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koopgedrag</a:t>
            </a:r>
            <a:endParaRPr b="0" lang="en-US" sz="3200" spc="-1" strike="noStrike">
              <a:solidFill>
                <a:srgbClr val="404040"/>
              </a:solidFill>
              <a:latin typeface="Trebuchet MS"/>
            </a:endParaRPr>
          </a:p>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u="sng">
                <a:solidFill>
                  <a:srgbClr val="99ca3c"/>
                </a:solidFill>
                <a:uFillTx/>
                <a:latin typeface="Trebuchet MS"/>
                <a:hlinkClick r:id="rId1"/>
              </a:rPr>
              <a:t>http://www.leerwiki.nl/Hoe_segmenteer_je_een_markt</a:t>
            </a:r>
            <a:r>
              <a:rPr b="0" lang="en-US" sz="3200" spc="-1" strike="noStrike">
                <a:solidFill>
                  <a:srgbClr val="404040"/>
                </a:solidFill>
                <a:latin typeface="Trebuchet MS"/>
              </a:rPr>
              <a:t> </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946">
                                            <p:txEl>
                                              <p:pRg st="0" end="0"/>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499"/>
                                          </p:stCondLst>
                                        </p:cTn>
                                        <p:tgtEl>
                                          <p:spTgt spid="1946">
                                            <p:txEl>
                                              <p:pRg st="1" end="1"/>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499"/>
                                          </p:stCondLst>
                                        </p:cTn>
                                        <p:tgtEl>
                                          <p:spTgt spid="1946">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1946">
                                            <p:txEl>
                                              <p:pRg st="3" end="3"/>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499"/>
                                          </p:stCondLst>
                                        </p:cTn>
                                        <p:tgtEl>
                                          <p:spTgt spid="1946">
                                            <p:txEl>
                                              <p:pRg st="4" end="4"/>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9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 voor volgende les</a:t>
            </a:r>
            <a:endParaRPr b="0" lang="en-US" sz="3600" spc="-1" strike="noStrike">
              <a:solidFill>
                <a:srgbClr val="90c226"/>
              </a:solidFill>
              <a:latin typeface="Trebuchet MS"/>
            </a:endParaRPr>
          </a:p>
        </p:txBody>
      </p:sp>
      <p:sp>
        <p:nvSpPr>
          <p:cNvPr id="1948" name=""/>
          <p:cNvSpPr txBox="1"/>
          <p:nvPr/>
        </p:nvSpPr>
        <p:spPr>
          <a:xfrm>
            <a:off x="1066320" y="1752480"/>
            <a:ext cx="7620120" cy="4572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rebuchet MS"/>
              </a:rPr>
              <a:t>Vraag na op je stagebedrijf wat de kenmerken zijn van hun doelgroep. Beschrijf deze doelgroep aan de hand van 5 specifieke kenmerken:</a:t>
            </a:r>
            <a:endParaRPr b="0" lang="en-US" sz="2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Geografisch……WAAR?</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Demografisch……wie?</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sociaal-economisch…..Waarom?</a:t>
            </a:r>
            <a:endParaRPr b="0" lang="en-US" sz="22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oopgedrag………Waarom onze? </a:t>
            </a:r>
            <a:endParaRPr b="0" lang="en-US" sz="2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404040"/>
                </a:solidFill>
                <a:latin typeface="Trebuchet MS"/>
              </a:rPr>
              <a:t>Schrijf op hoe je denkt er achter te kunnen komen met welke verwachtingen, behoeften en wensen de klanten bij het bedrijf komen.</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Waar denk je aan bij marketing?</a:t>
            </a:r>
            <a:br>
              <a:rPr sz="3200"/>
            </a:br>
            <a:br>
              <a:rPr sz="3200"/>
            </a:br>
            <a:endParaRPr b="0" lang="en-US" sz="3200" spc="-1" strike="noStrike">
              <a:solidFill>
                <a:srgbClr val="90c226"/>
              </a:solidFill>
              <a:latin typeface="Trebuchet MS"/>
            </a:endParaRPr>
          </a:p>
        </p:txBody>
      </p:sp>
      <p:sp>
        <p:nvSpPr>
          <p:cNvPr id="1891" name=""/>
          <p:cNvSpPr txBox="1"/>
          <p:nvPr/>
        </p:nvSpPr>
        <p:spPr>
          <a:xfrm>
            <a:off x="899640" y="2133360"/>
            <a:ext cx="7620120" cy="17478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werkt adverter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dverteren = Manipulere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1892" name="Picture 5" descr="Afbeeldingsresultaat voor coca cola"/>
          <p:cNvPicPr/>
          <p:nvPr/>
        </p:nvPicPr>
        <p:blipFill>
          <a:blip r:embed="rId1"/>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8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8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arketing Mix</a:t>
            </a:r>
            <a:endParaRPr b="0" lang="en-US" sz="3600" spc="-1" strike="noStrike">
              <a:solidFill>
                <a:srgbClr val="90c226"/>
              </a:solidFill>
              <a:latin typeface="Trebuchet MS"/>
            </a:endParaRPr>
          </a:p>
        </p:txBody>
      </p:sp>
      <p:pic>
        <p:nvPicPr>
          <p:cNvPr id="1950"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MARKETING MIX</a:t>
            </a:r>
            <a:endParaRPr b="0" lang="en-US" sz="3600" spc="-1" strike="noStrike">
              <a:solidFill>
                <a:srgbClr val="90c226"/>
              </a:solidFill>
              <a:latin typeface="Trebuchet MS"/>
            </a:endParaRPr>
          </a:p>
        </p:txBody>
      </p:sp>
      <p:pic>
        <p:nvPicPr>
          <p:cNvPr id="1952" name="Picture 2" descr="Marketingmix 4 P's"/>
          <p:cNvPicPr/>
          <p:nvPr/>
        </p:nvPicPr>
        <p:blipFill>
          <a:blip r:embed="rId1"/>
          <a:stretch/>
        </p:blipFill>
        <p:spPr>
          <a:xfrm>
            <a:off x="2265480" y="2160720"/>
            <a:ext cx="3036600" cy="388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oduct</a:t>
            </a:r>
            <a:endParaRPr b="0" lang="en-US" sz="3600" spc="-1" strike="noStrike">
              <a:solidFill>
                <a:srgbClr val="90c226"/>
              </a:solidFill>
              <a:latin typeface="Trebuchet MS"/>
            </a:endParaRPr>
          </a:p>
        </p:txBody>
      </p:sp>
      <p:sp>
        <p:nvSpPr>
          <p:cNvPr id="1954" name=""/>
          <p:cNvSpPr txBox="1"/>
          <p:nvPr/>
        </p:nvSpPr>
        <p:spPr>
          <a:xfrm>
            <a:off x="293760" y="1269720"/>
            <a:ext cx="7619760" cy="4647960"/>
          </a:xfrm>
          <a:prstGeom prst="rect">
            <a:avLst/>
          </a:prstGeom>
          <a:noFill/>
          <a:ln w="0">
            <a:noFill/>
          </a:ln>
        </p:spPr>
        <p:txBody>
          <a:bodyPr anchor="t">
            <a:normAutofit fontScale="88000"/>
          </a:bodyPr>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arvoor dient het?</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t is het precies?</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Materiaal, kleur, formaat, etc.</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lagingskansen</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Andere leuke zaken in de school</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Hoe werkt het bij ons? </a:t>
            </a:r>
            <a:endParaRPr b="0" lang="en-US" sz="3200" spc="-1" strike="noStrike">
              <a:solidFill>
                <a:srgbClr val="404040"/>
              </a:solidFill>
              <a:latin typeface="Trebuchet MS"/>
            </a:endParaRPr>
          </a:p>
          <a:p>
            <a:pPr lvl="1" marL="653760" indent="-25128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Wat zouden we moeten doen met de “verpakking”  (denk aan het gebouw, de advertenties, maar ook wat we ze meegeven….)</a:t>
            </a:r>
            <a:endParaRPr b="0" lang="en-US" sz="3200" spc="-1" strike="noStrike">
              <a:solidFill>
                <a:srgbClr val="404040"/>
              </a:solidFill>
              <a:latin typeface="Trebuchet MS"/>
            </a:endParaRPr>
          </a:p>
        </p:txBody>
      </p:sp>
      <p:pic>
        <p:nvPicPr>
          <p:cNvPr id="1955" name="Picture 2" descr="Afbeeldingsresultaat voor kok die kookt"/>
          <p:cNvPicPr/>
          <p:nvPr/>
        </p:nvPicPr>
        <p:blipFill>
          <a:blip r:embed="rId1"/>
          <a:stretch/>
        </p:blipFill>
        <p:spPr>
          <a:xfrm>
            <a:off x="6084720" y="476280"/>
            <a:ext cx="295128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WordArt 3"/>
          <p:cNvSpPr txBox="1"/>
          <p:nvPr/>
        </p:nvSpPr>
        <p:spPr>
          <a:xfrm>
            <a:off x="1763640" y="62064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57" name=""/>
          <p:cNvSpPr txBox="1"/>
          <p:nvPr/>
        </p:nvSpPr>
        <p:spPr>
          <a:xfrm>
            <a:off x="611280" y="4149360"/>
            <a:ext cx="7696080" cy="1523880"/>
          </a:xfrm>
          <a:prstGeom prst="rect">
            <a:avLst/>
          </a:prstGeom>
          <a:noFill/>
          <a:ln w="0">
            <a:noFill/>
          </a:ln>
        </p:spPr>
        <p:txBody>
          <a:bodyPr anchor="t">
            <a:normAutofit fontScale="86000"/>
          </a:bodyPr>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de moeite waard is om over te praten</a:t>
            </a:r>
            <a:endParaRPr b="0" lang="en-US" sz="2800" spc="-1" strike="noStrike">
              <a:solidFill>
                <a:srgbClr val="404040"/>
              </a:solidFill>
              <a:latin typeface="Trebuchet MS"/>
            </a:endParaRPr>
          </a:p>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de moeite waard is om voor om te fietsen</a:t>
            </a:r>
            <a:endParaRPr b="0" lang="en-US" sz="2800" spc="-1" strike="noStrike">
              <a:solidFill>
                <a:srgbClr val="404040"/>
              </a:solidFill>
              <a:latin typeface="Trebuchet MS"/>
            </a:endParaRPr>
          </a:p>
          <a:p>
            <a:pPr marL="294840" indent="-2948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ets wat je op facebook zet</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9">
                                  <p:stCondLst>
                                    <p:cond delay="0"/>
                                  </p:stCondLst>
                                  <p:childTnLst>
                                    <p:set>
                                      <p:cBhvr>
                                        <p:cTn id="221" dur="1" fill="hold">
                                          <p:stCondLst>
                                            <p:cond delay="0"/>
                                          </p:stCondLst>
                                        </p:cTn>
                                        <p:tgtEl>
                                          <p:spTgt spid="1956"/>
                                        </p:tgtEl>
                                        <p:attrNameLst>
                                          <p:attrName>style.visibility</p:attrName>
                                        </p:attrNameLst>
                                      </p:cBhvr>
                                      <p:to>
                                        <p:strVal val="visible"/>
                                      </p:to>
                                    </p:set>
                                    <p:animEffect filter="dissolve" transition="in">
                                      <p:cBhvr additive="repl">
                                        <p:cTn id="222" dur="500"/>
                                        <p:tgtEl>
                                          <p:spTgt spid="1956"/>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957">
                                            <p:txEl>
                                              <p:pRg st="0" end="0"/>
                                            </p:txEl>
                                          </p:spTgt>
                                        </p:tgtEl>
                                        <p:attrNameLst>
                                          <p:attrName>style.visibility</p:attrName>
                                        </p:attrNameLst>
                                      </p:cBhvr>
                                      <p:to>
                                        <p:strVal val="visible"/>
                                      </p:to>
                                    </p:set>
                                    <p:anim calcmode="lin" valueType="num">
                                      <p:cBhvr additive="base">
                                        <p:cTn id="227" dur="500" fill="hold"/>
                                        <p:tgtEl>
                                          <p:spTgt spid="1957">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9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57">
                                            <p:txEl>
                                              <p:pRg st="1" end="1"/>
                                            </p:txEl>
                                          </p:spTgt>
                                        </p:tgtEl>
                                        <p:attrNameLst>
                                          <p:attrName>style.visibility</p:attrName>
                                        </p:attrNameLst>
                                      </p:cBhvr>
                                      <p:to>
                                        <p:strVal val="visible"/>
                                      </p:to>
                                    </p:set>
                                    <p:anim calcmode="lin" valueType="num">
                                      <p:cBhvr additive="base">
                                        <p:cTn id="233" dur="500" fill="hold"/>
                                        <p:tgtEl>
                                          <p:spTgt spid="1957">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9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957">
                                            <p:txEl>
                                              <p:pRg st="2" end="2"/>
                                            </p:txEl>
                                          </p:spTgt>
                                        </p:tgtEl>
                                        <p:attrNameLst>
                                          <p:attrName>style.visibility</p:attrName>
                                        </p:attrNameLst>
                                      </p:cBhvr>
                                      <p:to>
                                        <p:strVal val="visible"/>
                                      </p:to>
                                    </p:set>
                                    <p:anim calcmode="lin" valueType="num">
                                      <p:cBhvr additive="base">
                                        <p:cTn id="239" dur="500" fill="hold"/>
                                        <p:tgtEl>
                                          <p:spTgt spid="1957">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9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erhaling van vorige les</a:t>
            </a:r>
            <a:endParaRPr b="0" lang="en-US" sz="3600" spc="-1" strike="noStrike">
              <a:solidFill>
                <a:srgbClr val="90c226"/>
              </a:solidFill>
              <a:latin typeface="Trebuchet MS"/>
            </a:endParaRPr>
          </a:p>
        </p:txBody>
      </p:sp>
      <p:sp>
        <p:nvSpPr>
          <p:cNvPr id="1959" name=""/>
          <p:cNvSpPr txBox="1"/>
          <p:nvPr/>
        </p:nvSpPr>
        <p:spPr>
          <a:xfrm>
            <a:off x="1066320" y="1752480"/>
            <a:ext cx="7620120" cy="45720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en doelgroep is een min of meer homogene klantengroep</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ordt zo nauw mogelijk omschreven aan de hand van 5 specifieke kenmerken:</a:t>
            </a:r>
            <a:endParaRPr b="0" lang="en-US" sz="18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ie?</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om?</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WAAROM DEZE?</a:t>
            </a:r>
            <a:endParaRPr b="0" lang="en-US" sz="3600" spc="-1" strike="noStrike">
              <a:solidFill>
                <a:srgbClr val="404040"/>
              </a:solidFill>
              <a:latin typeface="Trebuchet MS"/>
            </a:endParaRPr>
          </a:p>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404040"/>
                </a:solidFill>
                <a:latin typeface="Trebuchet MS"/>
              </a:rPr>
              <a:t>vrije tijd</a:t>
            </a:r>
            <a:endParaRPr b="0" lang="en-US" sz="3600" spc="-1" strike="noStrike">
              <a:solidFill>
                <a:srgbClr val="404040"/>
              </a:solidFill>
              <a:latin typeface="Trebuchet MS"/>
            </a:endParaRPr>
          </a:p>
        </p:txBody>
      </p:sp>
      <p:sp>
        <p:nvSpPr>
          <p:cNvPr id="1960" name="AutoShape 4"/>
          <p:cNvSpPr/>
          <p:nvPr/>
        </p:nvSpPr>
        <p:spPr>
          <a:xfrm>
            <a:off x="5410080" y="3962520"/>
            <a:ext cx="2514600" cy="1904760"/>
          </a:xfrm>
          <a:prstGeom prst="leftArrowCallout">
            <a:avLst>
              <a:gd name="adj1" fmla="val 25002"/>
              <a:gd name="adj2" fmla="val 25000"/>
              <a:gd name="adj3" fmla="val 22003"/>
              <a:gd name="adj4" fmla="val 66673"/>
            </a:avLst>
          </a:prstGeom>
          <a:solidFill>
            <a:srgbClr val="90c22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schrij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ij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ze 5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mer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960"/>
                                        </p:tgtEl>
                                        <p:attrNameLst>
                                          <p:attrName>style.visibility</p:attrName>
                                        </p:attrNameLst>
                                      </p:cBhvr>
                                      <p:to>
                                        <p:strVal val="visible"/>
                                      </p:to>
                                    </p:set>
                                    <p:anim calcmode="lin" valueType="num">
                                      <p:cBhvr additive="base">
                                        <p:cTn id="247" dur="500" fill="hold"/>
                                        <p:tgtEl>
                                          <p:spTgt spid="1960"/>
                                        </p:tgtEl>
                                        <p:attrNameLst>
                                          <p:attrName>ppt_x</p:attrName>
                                        </p:attrNameLst>
                                      </p:cBhvr>
                                      <p:tavLst>
                                        <p:tav tm="0">
                                          <p:val>
                                            <p:strVal val="1+#ppt_w/2"/>
                                          </p:val>
                                        </p:tav>
                                        <p:tav tm="100000">
                                          <p:val>
                                            <p:strVal val="#ppt_x"/>
                                          </p:val>
                                        </p:tav>
                                      </p:tavLst>
                                    </p:anim>
                                    <p:anim calcmode="lin" valueType="num">
                                      <p:cBhvr additive="base">
                                        <p:cTn id="248"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Marketing Mix</a:t>
            </a:r>
            <a:endParaRPr b="0" lang="en-US" sz="3600" spc="-1" strike="noStrike">
              <a:solidFill>
                <a:srgbClr val="90c226"/>
              </a:solidFill>
              <a:latin typeface="Trebuchet MS"/>
            </a:endParaRPr>
          </a:p>
        </p:txBody>
      </p:sp>
      <p:sp>
        <p:nvSpPr>
          <p:cNvPr id="1962" name=""/>
          <p:cNvSpPr txBox="1"/>
          <p:nvPr/>
        </p:nvSpPr>
        <p:spPr>
          <a:xfrm>
            <a:off x="600120" y="1483920"/>
            <a:ext cx="6780240" cy="4724280"/>
          </a:xfrm>
          <a:prstGeom prst="rect">
            <a:avLst/>
          </a:prstGeom>
          <a:noFill/>
          <a:ln w="0">
            <a:noFill/>
          </a:ln>
        </p:spPr>
        <p:txBody>
          <a:bodyPr anchor="t">
            <a:normAutofit fontScale="96000"/>
          </a:bodyPr>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Model van McCarthy: de 4 P’s</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ijs </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omotie</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roduct</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Plaats / Distributie</a:t>
            </a:r>
            <a:endParaRPr b="0" lang="en-US" sz="32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Diverse extra P’s, zoals:</a:t>
            </a:r>
            <a:endParaRPr b="0" lang="en-US" sz="3200" spc="-1" strike="noStrike">
              <a:solidFill>
                <a:srgbClr val="404040"/>
              </a:solidFill>
              <a:latin typeface="Trebuchet MS"/>
            </a:endParaRPr>
          </a:p>
          <a:p>
            <a:pPr lvl="1" marL="713160" indent="-27432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Personeel</a:t>
            </a:r>
            <a:endParaRPr b="0" lang="en-US" sz="3200" spc="-1" strike="noStrike">
              <a:solidFill>
                <a:srgbClr val="404040"/>
              </a:solidFill>
              <a:latin typeface="Trebuchet MS"/>
            </a:endParaRPr>
          </a:p>
          <a:p>
            <a:pPr lvl="1" marL="713160" indent="-27432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Presentati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3" name="Picture 2" descr="Marketingmix 4 P's"/>
          <p:cNvPicPr/>
          <p:nvPr/>
        </p:nvPicPr>
        <p:blipFill>
          <a:blip r:embed="rId1"/>
          <a:stretch/>
        </p:blipFill>
        <p:spPr>
          <a:xfrm>
            <a:off x="1042920" y="450720"/>
            <a:ext cx="7705800" cy="595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title"/>
          </p:nvPr>
        </p:nvSpPr>
        <p:spPr>
          <a:xfrm>
            <a:off x="250920" y="25992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NOG 2 P’s</a:t>
            </a:r>
            <a:endParaRPr b="0" lang="en-US" sz="3600" spc="-1" strike="noStrike">
              <a:solidFill>
                <a:srgbClr val="90c226"/>
              </a:solidFill>
              <a:latin typeface="Trebuchet MS"/>
            </a:endParaRPr>
          </a:p>
        </p:txBody>
      </p:sp>
      <p:sp>
        <p:nvSpPr>
          <p:cNvPr id="1965" name="Tekstvak 2"/>
          <p:cNvSpPr/>
          <p:nvPr/>
        </p:nvSpPr>
        <p:spPr>
          <a:xfrm>
            <a:off x="611280" y="1052640"/>
            <a:ext cx="77770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ERSONEEL;</a:t>
            </a:r>
            <a:endParaRPr b="0" lang="en-US" sz="24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kennis moet het personeel hebb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Hoe belonen wij ons personeel?</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at zijn de carrièremogelijkhed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Etc.</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0000"/>
                </a:solidFill>
                <a:latin typeface="Trebuchet MS"/>
              </a:rPr>
              <a:t>PROCES;</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stappen moet een klant doen om ons product te verkrijgen?</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elke procedure volgen we als de klant niet tevreden is?</a:t>
            </a:r>
            <a:endParaRPr b="0" lang="en-US" sz="2800" spc="-1" strike="noStrike">
              <a:solidFill>
                <a:srgbClr val="000000"/>
              </a:solidFill>
              <a:latin typeface="Times New Roman"/>
            </a:endParaRPr>
          </a:p>
          <a:p>
            <a:pPr lvl="1" marL="800280" indent="-3430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anneer communiceren we met de kl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965">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965">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65">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65">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65">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965">
                                            <p:txEl>
                                              <p:pRg st="6" end="6"/>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965">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65">
                                            <p:txEl>
                                              <p:pRg st="8" end="8"/>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PlaceHolder 1"/>
          <p:cNvSpPr>
            <a:spLocks noGrp="1"/>
          </p:cNvSpPr>
          <p:nvPr>
            <p:ph type="title"/>
          </p:nvPr>
        </p:nvSpPr>
        <p:spPr>
          <a:xfrm>
            <a:off x="1066320" y="380520"/>
            <a:ext cx="7620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Opdracht; Maak een Marketing Mix voor het Ravelijn</a:t>
            </a:r>
            <a:endParaRPr b="0" lang="en-US" sz="3200" spc="-1" strike="noStrike">
              <a:solidFill>
                <a:srgbClr val="90c226"/>
              </a:solidFill>
              <a:latin typeface="Trebuchet MS"/>
            </a:endParaRPr>
          </a:p>
        </p:txBody>
      </p:sp>
      <p:graphicFrame>
        <p:nvGraphicFramePr>
          <p:cNvPr id="1967" name="Object 3"/>
          <p:cNvGraphicFramePr/>
          <p:nvPr/>
        </p:nvGraphicFramePr>
        <p:xfrm>
          <a:off x="1690560" y="1752480"/>
          <a:ext cx="6372360" cy="4114800"/>
        </p:xfrm>
        <a:graphic>
          <a:graphicData uri="http://schemas.openxmlformats.org/presentationml/2006/ole">
            <p:oleObj r:id="rId1" spid="">
              <p:embed/>
              <p:pic>
                <p:nvPicPr>
                  <p:cNvPr id="1968" name="Object 3" descr=""/>
                  <p:cNvPicPr/>
                  <p:nvPr/>
                </p:nvPicPr>
                <p:blipFill>
                  <a:blip r:embed="rId2"/>
                  <a:stretch/>
                </p:blipFill>
                <p:spPr>
                  <a:xfrm>
                    <a:off x="1690560" y="1752480"/>
                    <a:ext cx="6372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Behoeften vs. Wensen</a:t>
            </a:r>
            <a:endParaRPr b="0" lang="en-US" sz="3600" spc="-1" strike="noStrike">
              <a:solidFill>
                <a:srgbClr val="90c226"/>
              </a:solidFill>
              <a:latin typeface="Trebuchet MS"/>
            </a:endParaRPr>
          </a:p>
        </p:txBody>
      </p:sp>
      <p:sp>
        <p:nvSpPr>
          <p:cNvPr id="1970" name=""/>
          <p:cNvSpPr txBox="1"/>
          <p:nvPr/>
        </p:nvSpPr>
        <p:spPr>
          <a:xfrm>
            <a:off x="484200" y="1341000"/>
            <a:ext cx="3733920" cy="4343400"/>
          </a:xfrm>
          <a:prstGeom prst="rect">
            <a:avLst/>
          </a:prstGeom>
          <a:noFill/>
          <a:ln w="0">
            <a:noFill/>
          </a:ln>
        </p:spPr>
        <p:txBody>
          <a:bodyPr anchor="t">
            <a:normAutofit fontScale="91000"/>
          </a:bodyPr>
          <a:p>
            <a:pPr marL="312120" indent="-31212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Als de behoefte niet kan, ontstaat een </a:t>
            </a:r>
            <a:r>
              <a:rPr b="1" lang="en-US" sz="3200" spc="-1" strike="noStrike">
                <a:solidFill>
                  <a:srgbClr val="404040"/>
                </a:solidFill>
                <a:latin typeface="Trebuchet MS"/>
              </a:rPr>
              <a:t>hunkering</a:t>
            </a:r>
            <a:endParaRPr b="0" lang="en-US" sz="3200" spc="-1" strike="noStrike">
              <a:solidFill>
                <a:srgbClr val="404040"/>
              </a:solidFill>
              <a:latin typeface="Trebuchet MS"/>
            </a:endParaRPr>
          </a:p>
          <a:p>
            <a:pPr marL="312120" indent="-31212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Voorbeelden:</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Honger</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Dorst</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Liefdesverdriet</a:t>
            </a:r>
            <a:endParaRPr b="0" lang="en-US" sz="3200" spc="-1" strike="noStrike">
              <a:solidFill>
                <a:srgbClr val="404040"/>
              </a:solidFill>
              <a:latin typeface="Trebuchet MS"/>
            </a:endParaRPr>
          </a:p>
          <a:p>
            <a:pPr lvl="1" marL="676080" indent="-25992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Minderwaardigheids-complex</a:t>
            </a:r>
            <a:endParaRPr b="0" lang="en-US" sz="3200" spc="-1" strike="noStrike">
              <a:solidFill>
                <a:srgbClr val="404040"/>
              </a:solidFill>
              <a:latin typeface="Trebuchet MS"/>
            </a:endParaRPr>
          </a:p>
        </p:txBody>
      </p:sp>
      <p:sp>
        <p:nvSpPr>
          <p:cNvPr id="1971" name=""/>
          <p:cNvSpPr txBox="1"/>
          <p:nvPr/>
        </p:nvSpPr>
        <p:spPr>
          <a:xfrm>
            <a:off x="5091120" y="1482480"/>
            <a:ext cx="3733920" cy="464796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ls aan een wens niet kan worden voldaan, ontstaat een </a:t>
            </a:r>
            <a:r>
              <a:rPr b="1" lang="en-US" sz="2800" spc="-1" strike="noStrike">
                <a:solidFill>
                  <a:srgbClr val="404040"/>
                </a:solidFill>
                <a:latin typeface="Trebuchet MS"/>
              </a:rPr>
              <a:t>andere wens</a:t>
            </a:r>
            <a:r>
              <a:rPr b="0" lang="en-US" sz="2800" spc="-1" strike="noStrike">
                <a:solidFill>
                  <a:srgbClr val="404040"/>
                </a:solidFill>
                <a:latin typeface="Trebuchet MS"/>
              </a:rPr>
              <a:t> </a:t>
            </a:r>
            <a:endParaRPr b="0" lang="en-US" sz="28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oorbeelden:</a:t>
            </a:r>
            <a:endParaRPr b="0" lang="en-US" sz="2800" spc="-1" strike="noStrike">
              <a:solidFill>
                <a:srgbClr val="404040"/>
              </a:solidFill>
              <a:latin typeface="Trebuchet MS"/>
            </a:endParaRPr>
          </a:p>
          <a:p>
            <a:pPr lvl="1" marL="683280" indent="-26280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Er is geen patat, dus wil ik een loempia en als die er ook niet is, wil ik een boterham, en …</a:t>
            </a:r>
            <a:endParaRPr b="0" lang="en-US" sz="2800" spc="-1" strike="noStrike">
              <a:solidFill>
                <a:srgbClr val="404040"/>
              </a:solidFill>
              <a:latin typeface="Trebuchet MS"/>
            </a:endParaRPr>
          </a:p>
        </p:txBody>
      </p:sp>
      <p:sp>
        <p:nvSpPr>
          <p:cNvPr id="1972" name="Line 5"/>
          <p:cNvSpPr/>
          <p:nvPr/>
        </p:nvSpPr>
        <p:spPr>
          <a:xfrm flipH="1" flipV="1">
            <a:off x="2971440" y="4114440"/>
            <a:ext cx="2514600" cy="762120"/>
          </a:xfrm>
          <a:prstGeom prst="line">
            <a:avLst/>
          </a:prstGeom>
          <a:ln w="76320">
            <a:solidFill>
              <a:srgbClr val="90c22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970">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97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97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970">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970">
                                            <p:txEl>
                                              <p:pRg st="4" end="4"/>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970">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971">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971">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971">
                                            <p:txEl>
                                              <p:pRg st="2" end="2"/>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9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914040" y="404280"/>
            <a:ext cx="7721640" cy="12956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Wat kun je aan het eind van de les?</a:t>
            </a:r>
            <a:endParaRPr b="0" lang="en-US" sz="5400" spc="-1" strike="noStrike">
              <a:solidFill>
                <a:srgbClr val="90c226"/>
              </a:solidFill>
              <a:latin typeface="Trebuchet MS"/>
            </a:endParaRPr>
          </a:p>
        </p:txBody>
      </p:sp>
      <p:sp>
        <p:nvSpPr>
          <p:cNvPr id="1894" name="PlaceHolder 2"/>
          <p:cNvSpPr>
            <a:spLocks noGrp="1"/>
          </p:cNvSpPr>
          <p:nvPr>
            <p:ph type="subTitle"/>
          </p:nvPr>
        </p:nvSpPr>
        <p:spPr>
          <a:xfrm>
            <a:off x="324000" y="3213000"/>
            <a:ext cx="7410240" cy="4464000"/>
          </a:xfrm>
          <a:prstGeom prst="rect">
            <a:avLst/>
          </a:prstGeom>
          <a:noFill/>
          <a:ln w="0">
            <a:noFill/>
          </a:ln>
        </p:spPr>
        <p:txBody>
          <a:bodyPr anchor="t">
            <a:noAutofit/>
          </a:bodyPr>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vertellen wat marketing inhoudt</a:t>
            </a:r>
            <a:endParaRPr b="0" lang="en-US" sz="3200" spc="-1" strike="noStrike">
              <a:solidFill>
                <a:srgbClr val="404040"/>
              </a:solidFill>
              <a:latin typeface="Trebuchet MS"/>
            </a:endParaRPr>
          </a:p>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vertellen waarom marketing belangrijk is</a:t>
            </a:r>
            <a:endParaRPr b="0" lang="en-US" sz="3200" spc="-1" strike="noStrike">
              <a:solidFill>
                <a:srgbClr val="404040"/>
              </a:solidFill>
              <a:latin typeface="Trebuchet MS"/>
            </a:endParaRPr>
          </a:p>
          <a:p>
            <a:pPr marL="457200" indent="-457200">
              <a:spcBef>
                <a:spcPts val="1001"/>
              </a:spcBef>
              <a:buClr>
                <a:srgbClr val="90c226"/>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Je kunt je doelgroep beschrijven; segmenteren</a:t>
            </a:r>
            <a:endParaRPr b="0" lang="en-US" sz="3200" spc="-1" strike="noStrike">
              <a:solidFill>
                <a:srgbClr val="404040"/>
              </a:solidFill>
              <a:latin typeface="Trebuchet MS"/>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9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894">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EISEN VAN EEN GOEDE MARKETINGSTRATEGIE</a:t>
            </a:r>
            <a:endParaRPr b="0" lang="en-US" sz="3600" spc="-1" strike="noStrike">
              <a:solidFill>
                <a:srgbClr val="90c226"/>
              </a:solidFill>
              <a:latin typeface="Trebuchet MS"/>
            </a:endParaRPr>
          </a:p>
        </p:txBody>
      </p:sp>
      <p:sp>
        <p:nvSpPr>
          <p:cNvPr id="1974" name="Tekstvak 2"/>
          <p:cNvSpPr/>
          <p:nvPr/>
        </p:nvSpPr>
        <p:spPr>
          <a:xfrm>
            <a:off x="1109520" y="1700280"/>
            <a:ext cx="806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rie eisen;</a:t>
            </a: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een heldere keuze hebbe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rebuchet MS"/>
              </a:rPr>
              <a:t>Welke positie neem je in op je markt</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een goede aansluiting hebben op de omgevingssituatie en de omgevingsontwikkelinge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rebuchet MS"/>
              </a:rPr>
              <a:t>Nieuwe zaken (denk aan IPad)  </a:t>
            </a:r>
            <a:r>
              <a:rPr b="0" lang="nl-NL" sz="2400" spc="-1" strike="noStrike">
                <a:solidFill>
                  <a:srgbClr val="000000"/>
                </a:solidFill>
                <a:latin typeface="Wingdings"/>
                <a:ea typeface="Wingdings"/>
              </a:rPr>
              <a:t></a:t>
            </a:r>
            <a:r>
              <a:rPr b="0" lang="nl-NL" sz="2400" spc="-1" strike="noStrike">
                <a:solidFill>
                  <a:srgbClr val="000000"/>
                </a:solidFill>
                <a:latin typeface="Trebuchet MS"/>
              </a:rPr>
              <a:t> hoe flexibel moet je zijn?</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rebuchet MS"/>
              </a:rPr>
              <a:t>De strategie moet positief worden ontvangen door de belangrijkste steakehold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974">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974">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7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974">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74">
                                            <p:txEl>
                                              <p:pRg st="5" end="5"/>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9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Matrix</a:t>
            </a:r>
            <a:endParaRPr b="0" lang="en-US" sz="3600" spc="-1" strike="noStrike">
              <a:solidFill>
                <a:srgbClr val="90c226"/>
              </a:solidFill>
              <a:latin typeface="Trebuchet MS"/>
            </a:endParaRPr>
          </a:p>
        </p:txBody>
      </p:sp>
      <p:pic>
        <p:nvPicPr>
          <p:cNvPr id="1976" name="Picture 2" descr="SWOT analyse"/>
          <p:cNvPicPr/>
          <p:nvPr/>
        </p:nvPicPr>
        <p:blipFill>
          <a:blip r:embed="rId1"/>
          <a:stretch/>
        </p:blipFill>
        <p:spPr>
          <a:xfrm>
            <a:off x="1258920" y="2060640"/>
            <a:ext cx="6553080" cy="310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in het Nederlands</a:t>
            </a:r>
            <a:endParaRPr b="0" lang="en-US" sz="3600" spc="-1" strike="noStrike">
              <a:solidFill>
                <a:srgbClr val="90c226"/>
              </a:solidFill>
              <a:latin typeface="Trebuchet MS"/>
            </a:endParaRPr>
          </a:p>
        </p:txBody>
      </p:sp>
      <p:pic>
        <p:nvPicPr>
          <p:cNvPr id="1978" name="Picture 2" descr="Afbeeldingsresultaat voor swot nederlands"/>
          <p:cNvPicPr/>
          <p:nvPr/>
        </p:nvPicPr>
        <p:blipFill>
          <a:blip r:embed="rId1"/>
          <a:stretch/>
        </p:blipFill>
        <p:spPr>
          <a:xfrm>
            <a:off x="392040" y="2276640"/>
            <a:ext cx="7925040" cy="426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title"/>
          </p:nvPr>
        </p:nvSpPr>
        <p:spPr>
          <a:xfrm>
            <a:off x="1066320" y="380520"/>
            <a:ext cx="422604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 Analyse</a:t>
            </a:r>
            <a:endParaRPr b="0" lang="en-US" sz="3600" spc="-1" strike="noStrike">
              <a:solidFill>
                <a:srgbClr val="90c226"/>
              </a:solidFill>
              <a:latin typeface="Trebuchet MS"/>
            </a:endParaRPr>
          </a:p>
        </p:txBody>
      </p:sp>
      <p:sp>
        <p:nvSpPr>
          <p:cNvPr id="1980" name="Tekstvak 2"/>
          <p:cNvSpPr/>
          <p:nvPr/>
        </p:nvSpPr>
        <p:spPr>
          <a:xfrm>
            <a:off x="1066680" y="1523880"/>
            <a:ext cx="7898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INTERNE ANALY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b je direct invloed 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sterkt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oede prijs, niet te duur tov de concurrentie</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orloper op ICT gebied</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el productinnovati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zwaktes?</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een goede locatie</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gatief imago</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lechte klachtenafhandeling</a:t>
            </a: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1" name="Picture 2" descr="Afbeeldingsresultaat voor ing"/>
          <p:cNvPicPr/>
          <p:nvPr/>
        </p:nvPicPr>
        <p:blipFill>
          <a:blip r:embed="rId1"/>
          <a:stretch/>
        </p:blipFill>
        <p:spPr>
          <a:xfrm>
            <a:off x="5292720" y="189000"/>
            <a:ext cx="3672000" cy="129528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980">
                                            <p:txEl>
                                              <p:pRg st="0" end="0"/>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980">
                                            <p:txEl>
                                              <p:pRg st="1" end="1"/>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980">
                                            <p:txEl>
                                              <p:pRg st="3" end="3"/>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80">
                                            <p:txEl>
                                              <p:pRg st="4" end="4"/>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980">
                                            <p:txEl>
                                              <p:pRg st="5" end="5"/>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80">
                                            <p:txEl>
                                              <p:pRg st="6" end="6"/>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980">
                                            <p:txEl>
                                              <p:pRg st="8" end="8"/>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980">
                                            <p:txEl>
                                              <p:pRg st="9" end="9"/>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980">
                                            <p:txEl>
                                              <p:pRg st="10" end="1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98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1066320" y="380520"/>
            <a:ext cx="45133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WOT-Analyse</a:t>
            </a:r>
            <a:endParaRPr b="0" lang="en-US" sz="3600" spc="-1" strike="noStrike">
              <a:solidFill>
                <a:srgbClr val="90c226"/>
              </a:solidFill>
              <a:latin typeface="Trebuchet MS"/>
            </a:endParaRPr>
          </a:p>
        </p:txBody>
      </p:sp>
      <p:sp>
        <p:nvSpPr>
          <p:cNvPr id="1983" name="Tekstvak 2"/>
          <p:cNvSpPr/>
          <p:nvPr/>
        </p:nvSpPr>
        <p:spPr>
          <a:xfrm>
            <a:off x="1187280" y="1628640"/>
            <a:ext cx="7848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EXTERNE ANALY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b je geen directe invloed op; de kansen en bedreigingen voor de hele markt en branc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kans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blemen bij de concurrent</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ag naar specialistische dienst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 economie groeit</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je bedreiging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mografische veranderingen</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adelige verandering in de wet- en regelgeving</a:t>
            </a:r>
            <a:endParaRPr b="0" lang="en-US" sz="2400" spc="-1" strike="noStrike">
              <a:solidFill>
                <a:srgbClr val="000000"/>
              </a:solidFill>
              <a:latin typeface="Times New Roman"/>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inig vertrouwen in de branch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4" name="Picture 2" descr="Afbeeldingsresultaat voor ing"/>
          <p:cNvPicPr/>
          <p:nvPr/>
        </p:nvPicPr>
        <p:blipFill>
          <a:blip r:embed="rId1"/>
          <a:stretch/>
        </p:blipFill>
        <p:spPr>
          <a:xfrm>
            <a:off x="5292720" y="189000"/>
            <a:ext cx="3672000" cy="129528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983">
                                            <p:txEl>
                                              <p:pRg st="0" end="0"/>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983">
                                            <p:txEl>
                                              <p:pRg st="1" end="1"/>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1983">
                                            <p:txEl>
                                              <p:pRg st="3" end="3"/>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1983">
                                            <p:txEl>
                                              <p:pRg st="4" end="4"/>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1983">
                                            <p:txEl>
                                              <p:pRg st="5" end="5"/>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983">
                                            <p:txEl>
                                              <p:pRg st="6" end="6"/>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983">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83">
                                            <p:txEl>
                                              <p:pRg st="9" end="9"/>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83">
                                            <p:txEl>
                                              <p:pRg st="10" end="10"/>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98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1986" name="Tekstvak 2"/>
          <p:cNvSpPr/>
          <p:nvPr/>
        </p:nvSpPr>
        <p:spPr>
          <a:xfrm>
            <a:off x="609480" y="2997360"/>
            <a:ext cx="7826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rebuchet MS"/>
              </a:rPr>
              <a:t>Je sluit de SWOT-Analyse af met een conclus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Hoe denk je met behulp van deze gegevens een plekje in de markt te kunnen verov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1986">
                                            <p:txEl>
                                              <p:pRg st="0" end="0"/>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19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OPDRACHT</a:t>
            </a:r>
            <a:endParaRPr b="0" lang="en-US" sz="3600" spc="-1" strike="noStrike">
              <a:solidFill>
                <a:srgbClr val="90c226"/>
              </a:solidFill>
              <a:latin typeface="Trebuchet MS"/>
            </a:endParaRPr>
          </a:p>
        </p:txBody>
      </p:sp>
      <p:sp>
        <p:nvSpPr>
          <p:cNvPr id="1988" name="Tekstvak 2"/>
          <p:cNvSpPr/>
          <p:nvPr/>
        </p:nvSpPr>
        <p:spPr>
          <a:xfrm>
            <a:off x="1066680" y="1989000"/>
            <a:ext cx="7392960" cy="54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000000"/>
                </a:solidFill>
                <a:uFillTx/>
                <a:latin typeface="Trebuchet MS"/>
              </a:rPr>
              <a:t>Opdracht 3;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Waarom onze school?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Als ze niet naar onze school gaan, welke dan en waarom? </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Maak een SWOT-Analyse van de school</a:t>
            </a:r>
            <a:endParaRPr b="0" lang="en-US" sz="3200" spc="-1" strike="noStrike">
              <a:solidFill>
                <a:srgbClr val="000000"/>
              </a:solidFill>
              <a:latin typeface="Times New Roman"/>
            </a:endParaRPr>
          </a:p>
          <a:p>
            <a:pPr>
              <a:lnSpc>
                <a:spcPct val="100000"/>
              </a:lnSpc>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rebuchet MS"/>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rebuchet MS"/>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laatsbepaling</a:t>
            </a:r>
            <a:endParaRPr b="0" lang="en-US" sz="3600" spc="-1" strike="noStrike">
              <a:solidFill>
                <a:srgbClr val="90c226"/>
              </a:solidFill>
              <a:latin typeface="Trebuchet MS"/>
            </a:endParaRPr>
          </a:p>
        </p:txBody>
      </p:sp>
      <p:sp>
        <p:nvSpPr>
          <p:cNvPr id="1896" name=""/>
          <p:cNvSpPr txBox="1"/>
          <p:nvPr/>
        </p:nvSpPr>
        <p:spPr>
          <a:xfrm>
            <a:off x="609120" y="1557000"/>
            <a:ext cx="6348600" cy="3879720"/>
          </a:xfrm>
          <a:prstGeom prst="rect">
            <a:avLst/>
          </a:prstGeom>
          <a:noFill/>
          <a:ln w="0">
            <a:noFill/>
          </a:ln>
        </p:spPr>
        <p:txBody>
          <a:bodyPr anchor="t">
            <a:normAutofit fontScale="84000"/>
          </a:bodyPr>
          <a:p>
            <a:pPr marL="288000" indent="-2880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edrijfseconomie:</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rketing  (wat doe ik en voor wie?)</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amp;O  (wie gaat het doen?)</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Operationeel  (hoe gaan we het doen?)</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Financieel  (heb ik een bedrijf of een hobby?)</a:t>
            </a:r>
            <a:endParaRPr b="0" lang="en-US" sz="2800" spc="-1" strike="noStrike">
              <a:solidFill>
                <a:srgbClr val="404040"/>
              </a:solidFill>
              <a:latin typeface="Trebuchet MS"/>
            </a:endParaRPr>
          </a:p>
          <a:p>
            <a:pPr lvl="1" marL="623880" indent="-23976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a:p>
            <a:pPr marL="288000" indent="-2880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us: wat/voor wie/wie/hoe/kosten?</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7"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8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Definities</a:t>
            </a:r>
            <a:endParaRPr b="0" lang="en-US" sz="3600" spc="-1" strike="noStrike">
              <a:solidFill>
                <a:srgbClr val="90c226"/>
              </a:solidFill>
              <a:latin typeface="Trebuchet MS"/>
            </a:endParaRPr>
          </a:p>
        </p:txBody>
      </p:sp>
      <p:sp>
        <p:nvSpPr>
          <p:cNvPr id="1899" name=""/>
          <p:cNvSpPr txBox="1"/>
          <p:nvPr/>
        </p:nvSpPr>
        <p:spPr>
          <a:xfrm>
            <a:off x="1066320" y="1752120"/>
            <a:ext cx="7620120" cy="449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arketing is niet alleen reclame!</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et marketing zorg je ervoor dat mensen je product kopen, gebruiken, en opnieuw kopen!</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89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899">
                                            <p:txEl>
                                              <p:pRg st="1" end="1"/>
                                            </p:txEl>
                                          </p:spTgt>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1897"/>
                                        </p:tgtEl>
                                        <p:attrNameLst>
                                          <p:attrName>style.visibility</p:attrName>
                                        </p:attrNameLst>
                                      </p:cBhvr>
                                      <p:to>
                                        <p:strVal val="visible"/>
                                      </p:to>
                                    </p:set>
                                    <p:anim calcmode="lin" valueType="num">
                                      <p:cBhvr additive="base">
                                        <p:cTn id="38" dur="500" fill="hold"/>
                                        <p:tgtEl>
                                          <p:spTgt spid="1897"/>
                                        </p:tgtEl>
                                        <p:attrNameLst>
                                          <p:attrName>ppt_x</p:attrName>
                                        </p:attrNameLst>
                                      </p:cBhvr>
                                      <p:tavLst>
                                        <p:tav tm="0">
                                          <p:val>
                                            <p:strVal val="1+#ppt_w/2"/>
                                          </p:val>
                                        </p:tav>
                                        <p:tav tm="100000">
                                          <p:val>
                                            <p:strVal val="#ppt_x"/>
                                          </p:val>
                                        </p:tav>
                                      </p:tavLst>
                                    </p:anim>
                                    <p:anim calcmode="lin" valueType="num">
                                      <p:cBhvr additive="base">
                                        <p:cTn id="39" dur="500" fill="hold"/>
                                        <p:tgtEl>
                                          <p:spTgt spid="1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1066320" y="404280"/>
            <a:ext cx="76201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Wat hebben zij nodig? (behoeften)</a:t>
            </a:r>
            <a:endParaRPr b="0" lang="en-US" sz="3600" spc="-1" strike="noStrike">
              <a:solidFill>
                <a:srgbClr val="90c226"/>
              </a:solidFill>
              <a:latin typeface="Trebuchet MS"/>
            </a:endParaRPr>
          </a:p>
        </p:txBody>
      </p:sp>
      <p:sp>
        <p:nvSpPr>
          <p:cNvPr id="1901" name=""/>
          <p:cNvSpPr txBox="1"/>
          <p:nvPr/>
        </p:nvSpPr>
        <p:spPr>
          <a:xfrm>
            <a:off x="1066320" y="2349360"/>
            <a:ext cx="7620120" cy="54928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De klanten (leerlingen) zoeken een school</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Wat zoeken ze nu exact? </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e maken ze de keuze?</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Als je dat weet, kun je adverteren. </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Jij bent de ervaringsdeskundige! </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1901">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499"/>
                                          </p:stCondLst>
                                        </p:cTn>
                                        <p:tgtEl>
                                          <p:spTgt spid="1901">
                                            <p:txEl>
                                              <p:pRg st="1" end="1"/>
                                            </p:txEl>
                                          </p:spTgt>
                                        </p:tgtEl>
                                        <p:attrNameLst>
                                          <p:attrName>style.visibility</p:attrName>
                                        </p:attrNameLst>
                                      </p:cBhvr>
                                      <p:to>
                                        <p:strVal val="visible"/>
                                      </p:to>
                                    </p:set>
                                  </p:childTnLst>
                                </p:cTn>
                              </p:par>
                              <p:animClr clrSpc="rgb">
                                <p:cBhvr>
                                  <p:cTn id="50" dur="1" fill="hold">
                                    <p:stCondLst>
                                      <p:cond delay="0"/>
                                    </p:stCondLst>
                                  </p:cTn>
                                  <p:tgtEl>
                                    <p:spTgt spid="1901">
                                      <p:txEl>
                                        <p:pRg st="0" end="0"/>
                                      </p:txEl>
                                    </p:spTgt>
                                  </p:tgtEl>
                                  <p:attrNameLst>
                                    <p:attrName>ppt_c</p:attrName>
                                  </p:attrNameLst>
                                </p:cBhvr>
                                <p:to>
                                  <a:srgbClr val="90c226"/>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901">
                                            <p:txEl>
                                              <p:pRg st="2" end="2"/>
                                            </p:txEl>
                                          </p:spTgt>
                                        </p:tgtEl>
                                        <p:attrNameLst>
                                          <p:attrName>style.visibility</p:attrName>
                                        </p:attrNameLst>
                                      </p:cBhvr>
                                      <p:to>
                                        <p:strVal val="visible"/>
                                      </p:to>
                                    </p:set>
                                  </p:childTnLst>
                                </p:cTn>
                              </p:par>
                              <p:animClr clrSpc="rgb">
                                <p:cBhvr>
                                  <p:cTn id="55" dur="1" fill="hold">
                                    <p:stCondLst>
                                      <p:cond delay="0"/>
                                    </p:stCondLst>
                                  </p:cTn>
                                  <p:tgtEl>
                                    <p:spTgt spid="1901">
                                      <p:txEl>
                                        <p:pRg st="1" end="1"/>
                                      </p:txEl>
                                    </p:spTgt>
                                  </p:tgtEl>
                                  <p:attrNameLst>
                                    <p:attrName>ppt_c</p:attrName>
                                  </p:attrNameLst>
                                </p:cBhvr>
                                <p:to>
                                  <a:srgbClr val="90c226"/>
                                </p:to>
                              </p:animCl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1901">
                                            <p:txEl>
                                              <p:pRg st="3" end="3"/>
                                            </p:txEl>
                                          </p:spTgt>
                                        </p:tgtEl>
                                        <p:attrNameLst>
                                          <p:attrName>style.visibility</p:attrName>
                                        </p:attrNameLst>
                                      </p:cBhvr>
                                      <p:to>
                                        <p:strVal val="visible"/>
                                      </p:to>
                                    </p:set>
                                  </p:childTnLst>
                                </p:cTn>
                              </p:par>
                              <p:animClr clrSpc="rgb">
                                <p:cBhvr>
                                  <p:cTn id="60" dur="1" fill="hold">
                                    <p:stCondLst>
                                      <p:cond delay="0"/>
                                    </p:stCondLst>
                                  </p:cTn>
                                  <p:tgtEl>
                                    <p:spTgt spid="1901">
                                      <p:txEl>
                                        <p:pRg st="2" end="2"/>
                                      </p:txEl>
                                    </p:spTgt>
                                  </p:tgtEl>
                                  <p:attrNameLst>
                                    <p:attrName>ppt_c</p:attrName>
                                  </p:attrNameLst>
                                </p:cBhvr>
                                <p:to>
                                  <a:srgbClr val="90c226"/>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01">
                                            <p:txEl>
                                              <p:pRg st="5" end="5"/>
                                            </p:txEl>
                                          </p:spTgt>
                                        </p:tgtEl>
                                        <p:attrNameLst>
                                          <p:attrName>style.visibility</p:attrName>
                                        </p:attrNameLst>
                                      </p:cBhvr>
                                      <p:to>
                                        <p:strVal val="visible"/>
                                      </p:to>
                                    </p:set>
                                  </p:childTnLst>
                                </p:cTn>
                              </p:par>
                              <p:animClr clrSpc="rgb">
                                <p:cBhvr>
                                  <p:cTn id="65" dur="1" fill="hold">
                                    <p:stCondLst>
                                      <p:cond delay="0"/>
                                    </p:stCondLst>
                                  </p:cTn>
                                  <p:tgtEl>
                                    <p:spTgt spid="1901">
                                      <p:txEl>
                                        <p:pRg st="3" end="3"/>
                                      </p:txEl>
                                    </p:spTgt>
                                  </p:tgtEl>
                                  <p:attrNameLst>
                                    <p:attrName>ppt_c</p:attrName>
                                  </p:attrNameLst>
                                </p:cBhvr>
                                <p:to>
                                  <a:srgbClr val="90c226"/>
                                </p:to>
                              </p:animClr>
                            </p:childTnLst>
                          </p:cTn>
                        </p:par>
                      </p:childTnLst>
                    </p:cTn>
                  </p:par>
                  <p:par>
                    <p:cTn id="66" fill="hold">
                      <p:stCondLst>
                        <p:cond delay="indefinite"/>
                      </p:stCondLst>
                      <p:childTnLst>
                        <p:par>
                          <p:cTn id="67" fill="hold">
                            <p:stCondLst>
                              <p:cond delay="0"/>
                            </p:stCondLst>
                            <p:childTnLst>
                              <p:animClr clrSpc="rgb">
                                <p:cBhvr>
                                  <p:cTn id="68" dur="1" fill="hold"/>
                                  <p:tgtEl>
                                    <p:spTgt spid="1901">
                                      <p:txEl>
                                        <p:pRg st="5" end="5"/>
                                      </p:txEl>
                                    </p:spTgt>
                                  </p:tgtEl>
                                  <p:attrNameLst>
                                    <p:attrName>ppt_c</p:attrName>
                                  </p:attrNameLst>
                                </p:cBhvr>
                                <p:to>
                                  <a:srgbClr val="90c22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title"/>
          </p:nvPr>
        </p:nvSpPr>
        <p:spPr>
          <a:xfrm>
            <a:off x="914040" y="476280"/>
            <a:ext cx="7721640" cy="100800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Vragen Marketing;</a:t>
            </a:r>
            <a:endParaRPr b="0" lang="en-US" sz="5400" spc="-1" strike="noStrike">
              <a:solidFill>
                <a:srgbClr val="90c226"/>
              </a:solidFill>
              <a:latin typeface="Trebuchet MS"/>
            </a:endParaRPr>
          </a:p>
        </p:txBody>
      </p:sp>
      <p:sp>
        <p:nvSpPr>
          <p:cNvPr id="1903" name="PlaceHolder 2"/>
          <p:cNvSpPr>
            <a:spLocks noGrp="1"/>
          </p:cNvSpPr>
          <p:nvPr>
            <p:ph type="subTitle"/>
          </p:nvPr>
        </p:nvSpPr>
        <p:spPr>
          <a:xfrm>
            <a:off x="885960" y="2541600"/>
            <a:ext cx="7194240" cy="4316400"/>
          </a:xfrm>
          <a:prstGeom prst="rect">
            <a:avLst/>
          </a:prstGeom>
          <a:noFill/>
          <a:ln w="0">
            <a:noFill/>
          </a:ln>
        </p:spPr>
        <p:txBody>
          <a:bodyPr anchor="t">
            <a:noAutofit/>
          </a:bodyPr>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groep mensen?</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 product?</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plek?</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Op welke manier maak ik mijn product bekend; promotie?</a:t>
            </a:r>
            <a:endParaRPr b="0" lang="en-US" sz="3200" spc="-1" strike="noStrike">
              <a:solidFill>
                <a:srgbClr val="404040"/>
              </a:solidFill>
              <a:latin typeface="Trebuchet MS"/>
            </a:endParaRPr>
          </a:p>
          <a:p>
            <a:pPr marL="457200" indent="-457200">
              <a:spcBef>
                <a:spcPts val="1001"/>
              </a:spcBef>
              <a:buClr>
                <a:srgbClr val="90c226"/>
              </a:buClr>
              <a:buSzPct val="80000"/>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3200" spc="-1" strike="noStrike">
                <a:solidFill>
                  <a:srgbClr val="7f7f7f"/>
                </a:solidFill>
                <a:latin typeface="Trebuchet MS"/>
              </a:rPr>
              <a:t>Welke prij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03">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03">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0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90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9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title"/>
          </p:nvPr>
        </p:nvSpPr>
        <p:spPr>
          <a:xfrm>
            <a:off x="914040" y="188640"/>
            <a:ext cx="7721640" cy="115236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90c226"/>
                </a:solidFill>
                <a:latin typeface="Trebuchet MS"/>
              </a:rPr>
              <a:t>Opdracht</a:t>
            </a:r>
            <a:endParaRPr b="0" lang="en-US" sz="5400" spc="-1" strike="noStrike">
              <a:solidFill>
                <a:srgbClr val="90c226"/>
              </a:solidFill>
              <a:latin typeface="Trebuchet MS"/>
            </a:endParaRPr>
          </a:p>
        </p:txBody>
      </p:sp>
      <p:sp>
        <p:nvSpPr>
          <p:cNvPr id="190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Vul 4 P’s (Product, Plaats, Promotie, Prijs) in voor de volgende producten;</a:t>
            </a:r>
            <a:endParaRPr b="0" lang="en-US" sz="1800" spc="-1" strike="noStrike">
              <a:solidFill>
                <a:srgbClr val="404040"/>
              </a:solidFill>
              <a:latin typeface="Trebuchet MS"/>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 </a:t>
            </a:r>
            <a:endParaRPr b="0" lang="en-US" sz="1800" spc="-1" strike="noStrike">
              <a:solidFill>
                <a:srgbClr val="404040"/>
              </a:solidFill>
              <a:latin typeface="Trebuchet MS"/>
            </a:endParaRPr>
          </a:p>
        </p:txBody>
      </p:sp>
      <p:pic>
        <p:nvPicPr>
          <p:cNvPr id="190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90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90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90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0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08"/>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907"/>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pdracht</a:t>
            </a:r>
            <a:endParaRPr b="0" lang="en-US" sz="3600" spc="-1" strike="noStrike">
              <a:solidFill>
                <a:srgbClr val="90c226"/>
              </a:solidFill>
              <a:latin typeface="Trebuchet MS"/>
            </a:endParaRPr>
          </a:p>
        </p:txBody>
      </p:sp>
      <p:sp>
        <p:nvSpPr>
          <p:cNvPr id="191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chrijf iets op wat je gisteren hebt gedaa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Welke behoefte had je toen je dat deed?</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chrijf op met welke behoefte je hier zit.</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Sinke, Carolien</cp:lastModifiedBy>
  <dcterms:modified xsi:type="dcterms:W3CDTF">2018-11-12T09:10:30Z</dcterms:modified>
  <cp:revision>54</cp:revision>
  <dc:subject/>
  <dc:title>Marketing les 1</dc:title>
</cp:coreProperties>
</file>