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EC68-9603-456C-ACAB-2B3E55FCEAB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9A58-4A16-455B-AEFC-3283F7C842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A23E6-1C76-4311-8FC7-7A81C6CC4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273E4-D375-49A6-85B4-559236F5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986741-A192-4133-9E55-4DEFEC0DA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3A07D4-DC9D-49EE-BA21-7C6B135398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F9AD79-827C-42A4-BEAF-CD3CD94E41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BAE6E-C5B1-4C4D-AEC8-993EDD9E9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7033B7-7B5E-4F47-9A85-A8B4EB7C6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CE4CB-8A0C-4C20-B5F3-3BA0DD0610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E65CC5-1159-4A48-B1AD-76CF9C3222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3526AC-AF7B-490C-A9EA-D0C611FE5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6F3C63-DB38-4A99-A0AD-D263E454CA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6EC72E-AFF2-4899-8296-4759BAAA3A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21FC5-6060-4B6B-BC17-32384F9DD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BD2D80-87FF-470E-A705-09581CF711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3D1265-BF58-4316-B245-685B1A5053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2C0CF9-8CB4-43B6-81FD-8E3652C2C3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F7EF10-3ECE-4918-A3DD-69ED4A6754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5FB359-CFD1-4C2D-81D2-BD112A86ED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0AE78B-4754-47D9-9B8C-B591FD8117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345126-B7EE-4938-80A5-F051015FE1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B5B8E1-5307-4A9C-B8C1-A61F9F1DA5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19AC90-89AF-4A32-8856-78FA0C21FE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42E243-7BA0-4B78-B5A6-86AD505733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E392B-BCB1-4BBB-B312-BD7A18292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ACC7A2-169A-4122-801F-32A8A38BCF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2B6C59-0CBE-45BE-B5BE-435F4B3C26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9E691B-F0C4-49AC-AD69-1AE02D6288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9C535F-89DB-4778-8889-9FD9B4F446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08D6C8-7EB9-4CB7-B7EF-482405B64F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E85495-8533-4B21-819B-5E48EC6CD4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E5F11C-29A0-420A-B115-48C02CB7D8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1F6575-2C1F-4F1B-8ECC-D44047E6FC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F887ED-0990-47B8-9D73-10A4D0A71E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4399BB-B743-4944-949F-5097BC58F8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B72C1-4170-42B5-A082-0906E3A63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C6F437-390D-4291-8803-13B3C1097C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075376-9224-4407-8670-4BDEC5EBA2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3B818B-F284-4AD4-9287-4344C79A55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03E1E7-2E92-47F5-80B7-ABA4F35FA17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223DA9-FD9B-4CAE-8056-3AB3108EA0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80D8DB-064D-4012-8295-875B085182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68B7AA-B5DC-4AE0-8EA0-B6ACF4CC6D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43AB7D-38B4-4460-A33C-A8D1BA4D55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514870-E2AF-4E4C-AAC8-17CCC387E3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2334C2-7C9D-47A0-A7FE-327978646D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1FD3D-4A81-4326-A749-6E771458D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9C51B3-5625-4530-9841-ED200AAFD0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82C875-FC44-431A-A418-CB154F359E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44E8A7-EB84-496F-BA19-86904EAD7B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D9A613-D4DE-4156-8A1C-75DBD648DE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55BD06-4928-400C-A293-11A7CC4254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B75A3-54A9-4489-B5D2-315FC7902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4A805-E914-4297-BC12-677587D27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2AF02-62DA-491C-B038-CCF561746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1078A-767F-494F-A882-C6A4F2C28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A758A-2EA5-41F0-8AF6-B9C7B4B48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7820-B04A-4888-8994-A58BA003C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42F91-16F9-4826-83AC-214E4ACB3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CBAE4-F852-4E57-9774-25B277B7A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934CC-28F8-428D-95EF-B9198AFE9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7F5DE-D613-415C-B893-120350FD5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DB162-9636-4264-86EE-B3C0CF2C1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758E1-109A-4140-B335-D751B617B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727BA-9436-40D3-A536-B092FA952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BB509-CC27-4B7E-B186-41DA254C7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E8A12-0900-4CB9-8172-ED9FB02A2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8501F-36B3-4831-9142-71EB8B2AA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07B74-F9BB-46D3-AEFD-E939B83BC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5C2CA-1D4E-467D-8343-7CB641B5CC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4C097-CA1F-4941-BC47-68E5555A0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7BDAB-7150-4709-B6BA-E98B77DF6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F9FBA-5031-41E0-B82F-562EBA3F5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FCC60-7B0F-4CE9-B373-65CC3EC83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1B9692-55A0-426A-BC73-02B22F5655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84BA37-28C3-4EFE-8A92-0E03051E3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1ED4C-4E60-42CD-8699-DEBECDBB1D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A8CCB-5178-4D3B-AB30-2E1AF7975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BD80B-4AD2-4D56-992F-8EB728B91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C3778-04A1-44F5-B92A-D5CE6537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B5B36-953B-4910-8AE1-926D27537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0A727-E0D9-4F00-BF19-6AFD2F36F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7B847-0105-40F5-8DA4-D5A4592D0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24EC3-E669-445C-9DAA-321190161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2295D-5749-4A9A-BF4A-827554C29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285E5-44F1-4B35-B243-FAD78D32BB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DCE1F-FCA7-4367-895A-C5D2DD3F2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A107F-2319-4DC1-9B78-CBF342DF75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409BD-9AF7-4532-B161-0C7D0F0BC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162082-CD4C-4198-B245-3499178F47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37490-9A90-45E3-AFD1-9E6E6A603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963530-432C-468B-A853-3021B4C23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2C09C-AA8D-4162-AE3B-7CB43F7F5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1BAA4-9464-4807-800E-38746B9F2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1569E8-676D-4FC5-BEF7-7A5DDECD5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87C4A1-5279-427B-85ED-875D98A3D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C2FF9-F9DA-4FB6-8EFB-8A85D6DE1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8AD3F-2819-415D-9F52-7E534CF25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C2EE25-5F13-41C9-86E5-A51D842E1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0950C-4D66-4E27-AEC9-A9679DDEAE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92FFF9-6800-4C0B-899E-484373523A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0CAFA-DCDA-4782-8CF2-59D553F8E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93B533-61B6-4C85-9A0F-688C99A79D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463B42-363C-465E-869F-6F6B867BC5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819D3-44EC-4FD3-80B1-3E5926AF2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69FD7B-FCE5-4458-9379-EA5B4EB03D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18290-4E1A-49A2-BFFC-D24BF73AB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AC823-5565-4849-99CF-A51790C8C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E94C8-CE97-4B9C-B6EC-72CDEA29F7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1D414-6D22-4A09-B751-0814F6C3A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389B53-C55E-4799-AF63-8282B17A6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BD893-497C-4E8E-8A43-A4CD8030A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56A14-0C13-4614-A9C3-A67E3241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C45B8-FD9E-498F-B105-7D7BEA5911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40D6B4-FBF5-4C6A-813A-FFD1D6D878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3CC066-7A81-44BE-866E-C1E16F14D7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73131A-135A-4087-B2D3-389F57DC0E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D4B17-F6C7-4387-B9FE-60EA9D811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90D471-4B75-44E7-A8A5-4915F37A7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809923-56E7-4EB9-810F-9D4D264B72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96DEE-0375-4D3F-AC05-F32EBB93A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41FCD8-FFBA-4665-8983-D6DF295648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B7687-A2DC-401A-9627-DCE393D58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8A63-A1F0-4EF5-8572-A3DFBB72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4419B-C909-40D1-9928-DFE3E093E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F336A-7E12-41ED-9045-1104D2C2F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8F6CC3-9A99-4726-B758-4687450480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EE3505-DCA5-47AB-A427-44609A2B22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981BCB-1C9C-4617-B61D-DEBE01FB72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5DCDBB-B3A2-425C-8DD1-4FBBFD8F25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C16B61-F186-4748-AB92-122359CCA7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C5B8F4-6C65-4863-A76D-8FDC7E6432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86C5F-ED13-4002-96F8-C0D36E610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48CBA-0369-4B40-ACD1-D31F5C278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DC16-C693-43F4-A071-931715DB2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CD4A59-0810-439F-912B-C24DEE41A2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4CFE2-6D4E-46C4-9111-74F31E751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B656C-085A-4930-A3D9-9A8BD74196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11AC5-F2C6-4EA2-84AE-B6D5EE14F1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F06E1-18BD-4DE4-A028-8C3238B26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EA3D8D-3527-4CF1-ADFE-1FB7A4068E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20B9B4-8CD8-48F5-A409-6020D7311D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92E7B0-2D7F-47CF-B87C-C336CAE84F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C85D9-52D7-4717-8302-22D910A937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17F30C-038C-4990-BB6C-7AE5101942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054B-E6D1-49E9-AC15-9D952EF02AC0}" type="datetime">
              <a:rPr b="0" lang="nl-NL" sz="1200" spc="-1" strike="noStrike">
                <a:solidFill>
                  <a:srgbClr val="f77f00"/>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9D7E-0350-4F68-89B2-413CD96A5004}"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2510-80BF-42D2-8945-0AA0924CC974}"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EAB0-842D-4F3E-B3D6-D01D45F8E68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0455-9BE2-4A57-850B-BA46B5269B6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C8F3-79CB-4C9F-80A8-17193ECB5B4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0326-DBB3-4BD3-A66B-06CB13CD8269}"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14A6-97A5-4202-AD5E-8ED3A07DB57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F325-DA47-472F-AEE2-0F7670A4C3E3}"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10B3-690B-434D-81BB-575DE876573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9EE2-2F46-4B56-8C10-BD8DF42D0F20}"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ABF4-EB15-4C97-8CCF-A92FF6B72CC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3AF1-645B-4EF9-821A-7A6C737A6C4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83B7-4F01-4986-ACFA-68E3E346299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49BD-4ED3-469B-9E59-E08858E0B239}"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6A14-7641-4675-9DEA-31B74C346F7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FF5F-B644-4340-824C-E191FE2B31D4}"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510E-2347-4A02-BA84-27ECB82D131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91FA-C8C1-4B20-8254-2C6FE890C4A1}"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D4FD-7C71-4560-B6CC-4C742302EA7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D56F-C5B2-41FD-903B-7149C3EAF6AF}"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F083-E73E-446B-8E73-BBA45707D36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DF75-F540-424E-B85A-0D0718E6BADF}"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1689-0967-471E-85CD-DF337043DAF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3)</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3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090C-09D9-40E2-9B41-5DD381254DC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4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4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27B9-0724-4310-B002-BB16815AF34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EC06-61EC-4BFF-8EE2-499A9D17CE5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5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55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4900-DE7C-4663-9DD5-22F0EF2739F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5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5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2DDF-3A0C-4822-AC31-51E3E92A649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6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56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BDA3-AB27-41E8-9261-F887B2CCC71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6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BC6B-7666-446E-814C-9233C656446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65"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2E98-B713-4521-B268-4A827E8F745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7570800" y="1494000"/>
            <a:ext cx="1243080" cy="722160"/>
          </a:xfrm>
          <a:prstGeom prst="rect">
            <a:avLst/>
          </a:prstGeom>
          <a:ln w="0">
            <a:noFill/>
          </a:ln>
        </p:spPr>
      </p:pic>
      <p:sp>
        <p:nvSpPr>
          <p:cNvPr id="51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67"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BE52-C93F-47A3-8F80-AE5BFE8E620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9"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7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7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D3B8-3C78-4AC2-A612-AB57B100B2A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3"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57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74C4-8828-4734-8203-3FA00770A13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7" name="Picture 5" descr=""/>
          <p:cNvPicPr/>
          <p:nvPr/>
        </p:nvPicPr>
        <p:blipFill>
          <a:blip r:embed="rId1"/>
          <a:stretch/>
        </p:blipFill>
        <p:spPr>
          <a:xfrm>
            <a:off x="4427640" y="2133720"/>
            <a:ext cx="3543120" cy="1143000"/>
          </a:xfrm>
          <a:prstGeom prst="rect">
            <a:avLst/>
          </a:prstGeom>
          <a:ln w="0">
            <a:noFill/>
          </a:ln>
        </p:spPr>
      </p:pic>
      <p:pic>
        <p:nvPicPr>
          <p:cNvPr id="578"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60A4-4D04-475E-BC5A-0AC82178DD8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52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52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69FB-7E54-4E81-AE16-33F5E5D0EE8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2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2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2215-55E7-4092-B9CD-0C5B0252D8D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3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5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3373-13C7-4025-87D4-3DC92B59CCD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53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53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1-01-31T16:26:41Z</dcterms:modified>
  <cp:revision>185</cp:revision>
  <dc:subject/>
  <dc:title>Dia 1</dc:title>
</cp:coreProperties>
</file>