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93EF-B845-4335-A813-A7C9BCEE5CA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A301-05DE-44AC-87E7-4A064C15C7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5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2FD5-17BE-479C-A9E0-A3238C6C43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C2F3-81A4-4826-AD62-2799F0D74B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203C-8197-48D3-ADDC-B370B2DC3D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79C4-C3E5-451D-8E0F-20BD6F66AA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B2B61-E57F-4D1B-A38A-71B66C59F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9745E-BD97-4C1C-A012-FD4B0F5F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34210-2E67-4351-B414-95EBF676D0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814DF4-643A-4ED9-8FF6-A1B9B06DB3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D9AB0-6083-4072-A836-75A3D66747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ED2DA-E811-4ECF-A25A-F5FB79CE8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51A4C-C2C6-4F3F-8F2E-DBD298C499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B53A0-F79F-40D1-8CEB-EB7C615201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4D70C2-3133-4E13-9F16-93BF85E00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F8DAA3-7EA5-428B-9072-AF2F42BBF9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7983D5-CE7A-4BE6-92A8-E89F5DCDDE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53BF18-5C0B-4F5B-A991-D1B99E1B8E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7FD47-24D0-4A7F-8A96-4F436BE20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52DCDD-1BD6-419E-A009-2B5E1CBEA4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1F506D-26F1-4211-84A0-D8C12BF3D6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1174DD-644B-47F0-9EB4-CFD12E15B0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7B1353-D2DB-4248-AED8-B3703E8749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2BD896-F865-4BBA-8A42-69A061F2D2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59404C-63A6-4446-BE47-9B1C55014F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41DDCE-B7A6-4DBD-BC81-315859B2AB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CB923B-DC35-4F4F-B0D9-2B21E2BC01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1BC169-A0D9-4ACF-B81D-EF7A8D42FA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7C5A9D-EDF2-44A3-BE38-37F0120D96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29CDE-2033-4E9D-B847-A82C88D4C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AD363C-67E6-429E-BFD2-84706AE3A2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609723-587F-4C3C-9AEE-7AB34506C0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E64314-616A-431F-9962-0956430248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5A3E70-6118-478D-86BC-106DFDF4FD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3BB2EA-1A61-4393-871C-23C9F95846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61E0FF-07B3-416B-8150-34182AC9C7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C21715-CA5B-43CC-A571-13065D769B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6ECB63-2741-439E-9F61-3FF7ACCC14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6EF7C1-B9EB-4FE3-AA06-0797D7031E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244D5C-F20C-4617-83C4-3C76E3AABA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4D299-BDB9-4045-94CC-66C436413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3CF177-1B2F-44A5-8C46-C0112EEF73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805BD3-D748-449D-9923-379CF00FB6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9D8881-2996-4528-A3C7-5DDFF4711C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0F9DD7-2769-43EB-AC7C-952A26D5FA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B948C5-7693-41AF-BF94-8E2700053A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002F8F-C085-4C49-8DB3-5EBBE03C18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106670-1812-4DB6-B5A4-97F8EC9B07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9C0190-F369-4AAF-8147-5A6CF88BD8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4BB42E-404E-41EB-857D-25F90A8F9A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F7BCF2-E1D2-4A92-8C10-4E1A29ED63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673F1-B70A-4187-9F71-7B614AC11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01CCAC-7369-42B2-B1D5-4EA6677227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B786C9-07A4-4AC8-9A47-72ACECBAA4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DF47D4-1764-4C76-8AD4-99B07116AF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83782C-8270-4AF6-92D6-FDD766FAEA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641EF8-FA86-4789-918C-9DEFF36987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39511-7E69-4F83-B4CF-243A4FAD9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42694-FA61-4133-9C7D-9B1A1BFFE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7AB7D-8966-40D9-9AA4-1A0E1E6E6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F1DD3-CCB3-4147-8968-7B884E9CE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4D640-949C-40EF-AC14-F40B60D5C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7B28-91DA-4D8F-A31F-88BDCBDC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7CAB-6554-4532-AC9A-F70BFBB99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29A52-034B-45DB-A87B-5758DA4B7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BE637-211C-488D-BB2A-E5153F751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72B21-8B83-4F38-8F63-1FCDB9348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C2B9F-5530-40B2-A1A5-EC646ED66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8A0200-5FD9-4B4E-AEFC-1BDD971B7A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A3C88-0EB3-4760-BBCC-05A3824A27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FBCF0-E33E-4CE5-8EED-F564EFEA8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905BA-7DB3-4AC2-8DFC-FE39E1730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C8B78-E5F2-4EC5-838D-2E7550BEF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7B048-A380-46E6-8B8C-0AB0E0AC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2141C-34B5-4857-9992-E64AFD9CC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E72B3-0EA9-4DC0-A293-3E23E9C52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EAE14-21B3-4B0A-8880-7AEF6848B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462E1-A897-419E-A3A1-9C086B77E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AB0D1-BF56-4474-BD83-5F2118D82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46909F-D40B-4D77-A84A-B08EF2C6D8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79E667-3BA2-4974-BC2B-B00C32994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55C2C-0E08-4370-A568-B2A5B7F124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FADB7-079F-4FED-9FDB-DAE728C56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01E0C6-1FDE-4EA4-9AB2-08F444684F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EE292-6A05-4539-A41B-4D540743E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01205-23FD-465B-B555-C1A8B4A64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E367B-872A-43A8-B646-32153E089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F49A8-B2C9-4A18-B029-113574EFD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95B67-764F-4681-8DF9-BE40A0D6F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52309-7C31-46E6-8D35-DB34DC1FA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A56A5-F654-4D2F-B87A-F099C70420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57E6E-679A-42BF-BA99-64EB985E4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E855D0-C4B4-4D6D-A013-78DFFCE50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3B3331-9F39-44CA-A0DF-0545A0C9BF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27F3D1-002C-44EC-9BE0-CE5F76ADF2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1BB72-05A1-494C-950E-40FC9B79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F62F3-612B-4DB5-87F2-4B6632B74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60DFD2-B778-4892-A090-A989DCA91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491103-1CC0-4ED7-81D4-81714114A9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9C0D5-2627-4CA9-9388-7A6FB4434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1DC26-9E7C-4FC1-AB93-4D1ADCDAC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E3FF7-0077-478E-9DED-91615563E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AD27A-255B-4F2A-B376-5F1480E69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DF05F-AF7E-4064-A82F-A97E0339A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1FED7-4046-4B24-8B95-43399DF9B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2C40EB-F41D-4BAC-9769-C99785F765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52F8-41C9-4FE9-848B-89EF80DF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F1008E-1BAC-437C-ABDC-8338B80902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5CCB38-EC4B-4145-B638-622BBBE4FD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AAC271-E8CD-4ED9-867C-46CF58EB7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C10B6-467D-4F15-8ED3-D394CEDB5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BE18B-2B7D-4357-BCBF-AE96BE1DB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89865-D282-4B02-8D85-8C164118C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CC34BC-213D-43F0-9F2B-CCFCD65C06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D218C-3476-4A07-B982-5F672CD89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98A28-D9A1-4C95-BC54-4AC064D7B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D5FBA-48D8-48AE-88ED-A33D2862F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2D8B-6B26-4A83-88C2-848DE151B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3424D0-693B-401F-BD09-2B6D144943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6AE426-0883-420E-B547-305C1EA5CD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DE12F3-31C1-47A5-8229-DA2C741F39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43D98A-3D9F-4650-9EB9-B44BA3BD95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0026A3-109E-4299-B1A8-E961E7E3A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FBD64-92DB-4445-AAD4-B8FE65BFC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90A02-401E-4BF4-9689-3CA0D1ACB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A410C-7CA7-4F67-8FFB-61E9C9A2D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D3986-FAB9-4BF9-B9B0-9BEEDDAFA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88499-8BB1-45B9-AF28-6E957A9BB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9B657-C497-4E3D-9894-A0B1ED50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571C1-6AD2-43F9-A085-BD86B3746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13583-6A49-4C96-82ED-123E5066B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3FCBC5-35FD-463B-AE8B-20D91899E3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F67A9A-7B2D-40AE-89CA-0835A51BA0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8E6DF0-2165-4294-B9B0-67D7AD5E97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CB66C8-6A8E-41C5-9160-BD48B01591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2919B3-D62A-4E44-998E-1C4E0B830A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CBCF4-AD51-4108-AACB-3322BDBEAF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0A22A-F2F2-433F-A601-C2A9031ED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918EE-5277-4E54-AC68-17272B5122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FC48E-46F3-46C0-9835-7F60B637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028398-353F-4E21-B0FD-2C27199649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F72A26-82BA-4924-A3AB-871B518DA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EA256-93D4-4983-8795-342223FB9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5D1B8-4D57-479B-9E1A-687C8AA4A2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392D73-9936-4997-BA58-6301F268A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CA8BE8-0CE7-4F8C-95D4-90FFE3DD77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FBD5F0-030C-4FC9-94AA-A7A5E34231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B95F5C-F160-49A1-B2F1-1885CFB2A6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D1D230-5D2D-4BA7-823F-8B362EC6CE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B8A1F9-6C4C-4733-86A5-222C423EA2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AB99-97C0-4C6B-AA56-04A0AC59BC10}" type="datetime">
              <a:rPr b="0" lang="nl-NL" sz="1200" spc="-1" strike="noStrike">
                <a:solidFill>
                  <a:srgbClr val="f77f00"/>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DFD7-89CE-47D2-ABE5-69FAD441691A}"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4489-F415-4D3F-9314-ACA65A75E9F2}"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7202-EB98-4C4C-83D2-97D66A99FFA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B400-A65A-48CA-8861-E212A3E210B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8D57-E7B6-4A32-812C-0035B54F99C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19F7-5E40-497E-B684-280F49A07B60}"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CDE5-09FD-4DDD-931D-76CD52B92BD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B60F-2F74-460E-8D00-1B9CC2013AD7}"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AB1B-BB8B-4CF0-9913-A01503A9ECE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024E-CDCC-43DB-9931-89C4A83875B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EE3B-CC9D-4EA6-8BE5-994F55D09A4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960-2133-45BB-ADD6-28940ED53273}"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95CE-D6E0-4705-AD28-576EB660D4A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2839-5A49-43CF-A9B6-A2294997178E}"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3010-2AE2-49E4-847C-694716A240C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683A-1518-46B4-8A91-11D1A94BFBF7}"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21E1-391B-439B-AAFA-19B86F892CA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90E6-0A16-4E6D-87BF-0A09CB7A7FC1}"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2D1A-3C12-4398-8223-AB308F3DFF3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67DA-85E5-449A-8F4A-037ADFA98FD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1C79-70B1-4435-99C7-427D43E7A10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FF09-AEA5-4FF7-8571-00C4A391B78C}"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96D8-A9CB-4DFC-8976-29F9578ABF2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8"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9"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0862-A709-40B9-BDB1-54EF27AF733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0"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22" name="" descr=""/>
          <p:cNvPicPr/>
          <p:nvPr/>
        </p:nvPicPr>
        <p:blipFill>
          <a:blip r:embed="rId1"/>
          <a:stretch/>
        </p:blipFill>
        <p:spPr>
          <a:xfrm>
            <a:off x="628560" y="1825200"/>
            <a:ext cx="7886880" cy="4351320"/>
          </a:xfrm>
          <a:prstGeom prst="rect">
            <a:avLst/>
          </a:prstGeom>
          <a:ln w="0">
            <a:noFill/>
          </a:ln>
        </p:spPr>
      </p:pic>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E446-37CE-42EE-B87B-DF80C545C66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3" descr=""/>
          <p:cNvPicPr/>
          <p:nvPr/>
        </p:nvPicPr>
        <p:blipFill>
          <a:blip r:embed="rId2"/>
          <a:srcRect l="0" t="25495" r="0" b="0"/>
          <a:stretch/>
        </p:blipFill>
        <p:spPr>
          <a:xfrm>
            <a:off x="-7920" y="1773360"/>
            <a:ext cx="8978760" cy="4246560"/>
          </a:xfrm>
          <a:prstGeom prst="rect">
            <a:avLst/>
          </a:prstGeom>
          <a:ln w="0">
            <a:noFill/>
          </a:ln>
        </p:spPr>
      </p:pic>
      <p:sp>
        <p:nvSpPr>
          <p:cNvPr id="525"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27"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5F0E-4B0B-48ED-970C-A19B0994552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29"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2BFBAEB7-30DF-42D7-B606-0DB5C2DD1A2C}"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2"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33" name="Tijdelijke aanduiding voor inhoud 15" descr=""/>
          <p:cNvPicPr/>
          <p:nvPr/>
        </p:nvPicPr>
        <p:blipFill>
          <a:blip r:embed="rId1"/>
          <a:stretch/>
        </p:blipFill>
        <p:spPr>
          <a:xfrm>
            <a:off x="6480" y="1590840"/>
            <a:ext cx="8229600" cy="4535280"/>
          </a:xfrm>
          <a:prstGeom prst="rect">
            <a:avLst/>
          </a:prstGeom>
          <a:ln w="0">
            <a:noFill/>
          </a:ln>
        </p:spPr>
      </p:pic>
      <p:sp>
        <p:nvSpPr>
          <p:cNvPr id="534"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35"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36"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38"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ea typeface="ＭＳ Ｐゴシック"/>
              </a:rPr>
              <a:t>http://www.venvn.nl/themas/richtlijnen-en-protocollen</a:t>
            </a: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39" name="Picture 7" descr="protocollen"/>
          <p:cNvPicPr/>
          <p:nvPr/>
        </p:nvPicPr>
        <p:blipFill>
          <a:blip r:embed="rId1"/>
          <a:stretch/>
        </p:blipFill>
        <p:spPr>
          <a:xfrm>
            <a:off x="5867280" y="2205000"/>
            <a:ext cx="2513160" cy="2581200"/>
          </a:xfrm>
          <a:prstGeom prst="rect">
            <a:avLst/>
          </a:prstGeom>
          <a:ln w="0">
            <a:noFill/>
          </a:ln>
        </p:spPr>
      </p:pic>
      <p:pic>
        <p:nvPicPr>
          <p:cNvPr id="540"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4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76EF-38B2-452C-B2DD-66CA91B2B2E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4" name="Picture 3" descr=""/>
          <p:cNvPicPr/>
          <p:nvPr/>
        </p:nvPicPr>
        <p:blipFill>
          <a:blip r:embed="rId1"/>
          <a:stretch/>
        </p:blipFill>
        <p:spPr>
          <a:xfrm>
            <a:off x="6064200" y="2421000"/>
            <a:ext cx="2595600" cy="1439640"/>
          </a:xfrm>
          <a:prstGeom prst="rect">
            <a:avLst/>
          </a:prstGeom>
          <a:ln w="0">
            <a:noFill/>
          </a:ln>
        </p:spPr>
      </p:pic>
      <p:sp>
        <p:nvSpPr>
          <p:cNvPr id="545"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6" descr=""/>
          <p:cNvPicPr/>
          <p:nvPr/>
        </p:nvPicPr>
        <p:blipFill>
          <a:blip r:embed="rId2"/>
          <a:stretch/>
        </p:blipFill>
        <p:spPr>
          <a:xfrm>
            <a:off x="3714840" y="3284640"/>
            <a:ext cx="1714320" cy="1714320"/>
          </a:xfrm>
          <a:prstGeom prst="rect">
            <a:avLst/>
          </a:prstGeom>
          <a:ln w="0">
            <a:noFill/>
          </a:ln>
        </p:spPr>
      </p:pic>
      <p:sp>
        <p:nvSpPr>
          <p:cNvPr id="547"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0" descr=""/>
          <p:cNvPicPr/>
          <p:nvPr/>
        </p:nvPicPr>
        <p:blipFill>
          <a:blip r:embed="rId3"/>
          <a:stretch/>
        </p:blipFill>
        <p:spPr>
          <a:xfrm>
            <a:off x="390600" y="4581360"/>
            <a:ext cx="2178000" cy="1274760"/>
          </a:xfrm>
          <a:prstGeom prst="rect">
            <a:avLst/>
          </a:prstGeom>
          <a:ln w="0">
            <a:noFill/>
          </a:ln>
        </p:spPr>
      </p:pic>
      <p:pic>
        <p:nvPicPr>
          <p:cNvPr id="549" name="Picture 11" descr=""/>
          <p:cNvPicPr/>
          <p:nvPr/>
        </p:nvPicPr>
        <p:blipFill>
          <a:blip r:embed="rId4"/>
          <a:stretch/>
        </p:blipFill>
        <p:spPr>
          <a:xfrm>
            <a:off x="6073920" y="4005360"/>
            <a:ext cx="2628720" cy="1334880"/>
          </a:xfrm>
          <a:prstGeom prst="rect">
            <a:avLst/>
          </a:prstGeom>
          <a:ln w="0">
            <a:noFill/>
          </a:ln>
        </p:spPr>
      </p:pic>
      <p:pic>
        <p:nvPicPr>
          <p:cNvPr id="550"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1-02-01T09:31:14Z</dcterms:modified>
  <cp:revision>186</cp:revision>
  <dc:subject/>
  <dc:title>Dia 1</dc:title>
</cp:coreProperties>
</file>