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6206-7699-4878-8169-DBCA102B07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6A05-8B70-4CA8-9DD2-221C3507B2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95035-AF05-4487-B78B-4E8D2192B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2B41-0D91-4A20-A442-72239B37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775B38-EC45-4A62-8CFF-BD4ABFBEE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8FF92A-5C66-43A8-84B7-4764318FA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5FC35-503A-40CD-81CD-DA2913CABD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B02CB5-7584-45F2-8B03-51993B2484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AE1C7-3B6C-4812-ACC2-D341197D6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46ACB-0921-42C2-820B-731D04DDC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2BF6AB-1E37-4C43-9DEA-7453B3F001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E6FF8B-3723-4A87-9658-6AEDACDD41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35C7FC-486C-4BF2-B086-10ECD71B3B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9EC754-2E81-4599-9A6E-C2443E8F00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0B7A3-5177-4AF0-BE76-8DAFD328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92CEC2-6665-4562-B229-3DAFC5DD14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7BAE7B-C72A-4752-936B-3819F963D6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BA2598-9A21-49A4-87CC-88DFB4CEFB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CC0CD0-4412-442C-AE6A-241E332821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C30E3-9C41-4AE1-8CBE-0870F0F00D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17E5C-3264-4127-850D-0878B11393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C6A67C-CDA9-4264-A8E2-6CD4189B0F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FAE3F9-CD7C-473D-9DB9-1E85182621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C288C8-DCC8-4F6D-951E-936B8F290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A06B3F-8226-45B0-9023-19A4339541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362EC-1911-4510-8F31-C1C532B2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02794B-28AB-403E-9B80-E9D2927973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7AB5E3-C2C2-4A46-8802-D120CBC62F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578129-8A80-4B0B-ABE4-03726645AE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259425-E5D1-478A-8439-2991EB791E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C9354D-99AE-4085-A9C5-EC495AF99D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589ADC-4DE0-4609-AF74-DDCAC6F2B6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86CAAC-A1DB-4FAE-AE27-65A42F8635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840E34-D507-44CA-8364-0396DDA35F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7D1D7B-BC93-4EC3-BD42-AAF1A96374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960180-5BEA-44DC-A97E-94C5BDC9F2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7FDCB-1C3F-42A8-BFAC-1338FBF34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A13D5-3567-472E-A8A4-C1D509AF35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C98664-033B-4002-88CA-7D78FE16DB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0D7FF4-067C-4130-997E-D6D9CDC674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AE482D-818D-46DD-98CF-68012D00ED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415EC3-5854-4FE0-B3F8-333B773364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22FBF9-805A-4B55-8D2A-182DD421F1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692E24-58FB-4DBB-A045-94BC6015BC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A8C968-A688-48FD-953E-ED40B13E51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B63A51-7DE8-4496-B30D-4A7ABC7D5A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14B6B1-775A-4745-B9CC-1FCE1F896C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696B8-07E5-4E98-8148-6DDA3DDB7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4307F5-E9D5-49D3-8423-80827103D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8EC3BA-60C7-48EF-89F8-B2CF822FB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94F70-B397-4C72-8D59-E9349862AA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E56FB5-1446-4886-9C1A-5D5AC137D1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89031F-CD17-4979-9888-3BD64092E8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54F9B-C9D8-486C-A427-0D797729E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E366D-A3F5-4748-AA10-4979A85C9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40FA-55A0-4A3D-92A8-3E957B99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9875B-01B2-4B1E-984A-DF40D14D1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F5B23-30D8-4210-BC95-56A0C0104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14848-3B6C-49C0-8EB2-50D697F5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3EB43-7F3E-467E-960A-3E511AC9D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B988-8B9D-4400-9EFB-04317628B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1B522-A3B8-4E64-8D8F-D4F71FD79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24C44-F180-43AE-AA33-D773370C8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D11F1-B358-409D-95DC-DD87FF97C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9D28F-A30C-4FED-9271-C70BC6111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B1408-7B30-42A8-A635-013358867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DB13F-927E-4C91-AF61-EFEC5B683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96C4D-0486-4FAD-A0AD-C543E7A9C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A193B-DAA0-4AD1-8100-F2583EDB7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ABF1A-1B12-4367-B564-443FD888C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90CB7-6EE9-4A2A-88C4-CD4A443CF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68ABD-627B-4167-A5B5-7FBDEA5A3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71058-5352-4AE2-9690-996661408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69CC0-AB16-4F8A-BDC3-804608248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13152-CFDA-4895-A20F-1A6FCA99D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28658B-2DFA-4062-AAEC-6083E1A3A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F31BDF-531E-428B-9E79-E4C67FCC02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C38629-84A9-4EB8-A38D-9FCFD66890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7EDF5-AD61-44C6-B427-405B01C55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6866C-722F-45C4-ABD3-1422D8CA1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8B9FF-1F84-43AF-B232-1FDE85B2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67259-D0F7-4235-8DC5-D4898AA24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7EE10-AAA3-4D99-8E4D-AC0D02E99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50D08-C0C6-46EE-A28B-057CD323C7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8F12D-BF21-4C7F-B0D6-27B608642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B55F3-24FD-4447-8B0D-33CF21C46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76377-FD83-4B73-B1D9-3D6722207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68F220-BE72-411A-89CC-975168CF7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541A0-0179-44CA-8F12-03A58B67B4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F21B04-1EF0-4560-9B6E-D50D18F01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A578B4-209C-41C1-93B3-78E9A371B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CBC8-25D3-43F6-8D4D-F80F539DA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9EDD6-ADC5-4F24-8285-98D437C430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50101-B59F-4E36-BD2D-C2C3314A5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53CE7-E93C-4CF8-ACA2-DC34EDEBB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94DE4-0E15-4C71-932C-03A07E995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9222A-06C6-46B0-BD80-1A8DFFDB5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A9BC8-651C-4094-8ADD-488DA7BCF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CA908-1237-4F1C-AB46-27DCA18A4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5B3C9-50C1-4075-9833-DDEDC5949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AAC6A-C86A-4202-ABE4-7E78AF4D5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944D47-5F2F-4B80-83EA-8D4A4C00E2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8AF33-6B51-4F6C-BCAF-C17768BB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E18DAB-1B84-4F34-9B92-695156ACD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FF9E5B-7CF0-4FFF-9515-152B8E37E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43D79-8830-40BB-A282-9DA7BDAA8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6D99D-41EC-4533-853C-C49E25742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568F91-BEF4-44D0-A264-7BFA469E9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27E49-02CC-48E2-8621-33360575C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7CF19-21F7-4E34-BDF1-B91190194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6E328-E5E2-4D3D-87A0-AC429711A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7B3DD-0812-41C4-B6D4-75FEED3D6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96CB1-6370-4345-A3DD-D4F57D4FA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66A6-E081-4F08-A44E-ED4492E0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0B7E4-3CCF-479D-B2E9-5DEC914E8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309792-D111-4378-817D-B491D42035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EE660A-8EB6-4959-8027-2169F60EA4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524BBA-AFFC-4410-99CF-0DE408CBD0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71B8A9-9337-4AB6-9058-A296B8D36A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46B54-B86D-4E29-9579-4718EEB52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602EF-EA61-4712-B8B6-815D3FCDF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E6E019-5A0B-4041-A8D4-5BBA1B80B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3F9477-B376-4926-8352-E063589FA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D768A-6B0F-4A4B-BFEE-C78217369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5153-F074-4C1A-96B4-807100BD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4D866-9A4E-4035-8029-61ED52A6F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1948B-4AF7-4E33-8692-7998AEFD3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DF72A8-6ECE-4AE5-959A-EA68EB192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57944F-1D4E-4D65-B4A2-7F4D03D68E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B6A261-3209-48B2-8C9B-12E3FDB4AA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8E7A43-CCFC-4AAD-9B59-B5F4294619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A3AD67-D0AD-4299-8CC2-9AA58EE1E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6DBD1-4B86-441C-AC22-E97E083AE5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38E49E-22E5-4A80-BF5D-BB2A8EB1EC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68705-7380-4636-9888-3A87668B9E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53B7-EB67-4A3A-A3BC-301D748E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B5257-22D1-4C6E-BE86-82A59DDFB8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59AC6-2967-44B1-90A4-F912EF9B6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C6714-1BA5-4AA8-899F-5A3D333FC0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057D1-95F5-4C15-BA37-6A280CCECE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C2B28-DC3E-4160-A201-2EDB1843F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300027-7940-436C-B955-F663E35EF5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1707D-8A4E-46B4-826D-2863FE0594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5B19A-BBE3-4039-B844-D4A59397C9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3440B9-AEAE-4A69-9071-928606539C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2C7DD-E277-4D1A-8D9F-5703E81170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1F5F-CDFE-4E06-B4B6-A725A27EFD4B}" type="datetime">
              <a:rPr b="0" lang="nl-NL" sz="1200" spc="-1" strike="noStrike">
                <a:solidFill>
                  <a:srgbClr val="f77f00"/>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EDBA-1997-4291-AE2E-D52AD4120818}"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3FBE-B77D-4F82-874B-D1C70499C95B}"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FD06-F205-472B-8952-80C781D5FC1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144A-C15F-4543-886B-B06E830E041E}"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6A45-24AC-4D9D-9AF8-E8079B1BB0C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1C4C-D508-4908-8CCA-5AA332083020}"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3817-246C-4AA9-A4F8-F852FC23075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10E1-0F81-4DA2-9A52-527B2BE11768}"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E027-A8FB-444C-A916-1FB767BE85E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E068-13AF-46F2-B64B-E898572FF2B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7F0C-B2F3-4508-A00A-0EEBAF2B658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0FBD-BDAE-4191-AB51-C168B071F24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8B69-1591-4936-8267-83220F4BA15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6FC2-AFEA-4E0B-977F-735D6167275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EE7D-4D3C-4927-9CEC-E8ECBFA22BA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2F96-0A5D-449B-92AE-B45358F62EE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0ED3-3504-49A0-B78A-2DECE8F5121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55E3-5F3E-41A1-B17A-41EF0D6CA78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5BD3-5A5A-4ABF-8EE5-8B687523D70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EE3B-BE64-43EA-8C3A-8EB901211FB4}"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32C5-85B1-40A5-AFF6-F3F36609F60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8909-0719-4591-9718-7C3C3E69A1E4}"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C110-D51D-4DE2-80D6-993F1379D47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3)</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3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166-177D-4B28-9FEA-8BD2E8B1AD1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4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4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EB9A-32F2-473A-89DB-95A1E1CFA13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F65D-D6C9-433D-A31E-F01D20DA72F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5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55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A652-CD1D-4E96-BBA2-F0E53F06077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5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5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0659-E7FB-487F-B01E-44817DE2BBE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6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56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95BC-F677-49AF-A1AC-0E8A55389DD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6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9307-65F5-454A-97C8-2FA3A5904DE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65"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283A-6CF0-489D-9919-6584F5DB6CC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7570800" y="1494000"/>
            <a:ext cx="1243080" cy="722160"/>
          </a:xfrm>
          <a:prstGeom prst="rect">
            <a:avLst/>
          </a:prstGeom>
          <a:ln w="0">
            <a:noFill/>
          </a:ln>
        </p:spPr>
      </p:pic>
      <p:sp>
        <p:nvSpPr>
          <p:cNvPr id="51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67"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7052-7A55-4D9A-BABA-F0480B77D49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9"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7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7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3429-8687-4795-8294-13A13AFE3ED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3"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57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D9EA-E148-4DDF-B036-99B19FB8FB9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7" name="Picture 5" descr=""/>
          <p:cNvPicPr/>
          <p:nvPr/>
        </p:nvPicPr>
        <p:blipFill>
          <a:blip r:embed="rId1"/>
          <a:stretch/>
        </p:blipFill>
        <p:spPr>
          <a:xfrm>
            <a:off x="4427640" y="2133720"/>
            <a:ext cx="3543120" cy="1143000"/>
          </a:xfrm>
          <a:prstGeom prst="rect">
            <a:avLst/>
          </a:prstGeom>
          <a:ln w="0">
            <a:noFill/>
          </a:ln>
        </p:spPr>
      </p:pic>
      <p:pic>
        <p:nvPicPr>
          <p:cNvPr id="578"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5026-3BA9-459E-88B3-CFD1A3A96C9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52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52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6C27-1A15-424D-BCD7-4126224A405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2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B7D4-6ACA-4D3E-87B0-0375C567D56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3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5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A003-E333-4A2F-ABAA-CD32AB963E2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53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53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1-31T16:26:41Z</dcterms:modified>
  <cp:revision>185</cp:revision>
  <dc:subject/>
  <dc:title>Dia 1</dc:title>
</cp:coreProperties>
</file>