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8.png" ContentType="image/png"/>
  <Override PartName="/ppt/media/image17.png" ContentType="image/png"/>
  <Override PartName="/ppt/media/image16.png" ContentType="image/png"/>
  <Override PartName="/ppt/media/image14.png" ContentType="image/png"/>
  <Override PartName="/ppt/media/image5.png" ContentType="image/png"/>
  <Override PartName="/ppt/media/image10.png" ContentType="image/png"/>
  <Override PartName="/ppt/media/image2.png" ContentType="image/png"/>
  <Override PartName="/ppt/media/image15.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534F-8C5F-4E1E-AF41-DFC7DE5F195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B44F1-1E2C-40D6-BE21-A34D7F04967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Volger: geldende richtlijnen opvolgt of adviezen van EBP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nder EBP-volger verstaan we dat verpleegkundigen een kritische blik hebben op hun eigen handelen en EBP-aanbevelingen opvolgen door het volgen van protocollen en richtlijnen.</a:t>
            </a:r>
            <a:endParaRPr b="0" lang="en-US" sz="1200" spc="-1" strike="noStrike">
              <a:solidFill>
                <a:srgbClr val="000000"/>
              </a:solidFill>
              <a:latin typeface="Arial"/>
            </a:endParaRPr>
          </a:p>
        </p:txBody>
      </p:sp>
      <p:sp>
        <p:nvSpPr>
          <p:cNvPr id="55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32B1-A4D4-4D5D-84C1-9006706DFF7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ls EBP-volger werk je altijd vanuit een kritische houding. Daarbij besluit je samen met de zorgvrager over de te geven zorg. Die baseren jullie op kennis, (ziekte)-ervaring, wensen en voorkeuren van deze individuele zorgvrager, wetenschappelijk bewijs en andere evidence, en klinische expertise van jezelf en collega’s. Verder zoek je zelf naar evidence-based richtlij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30E3C-593E-4E22-B498-1F5360B1F8D6}"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C4BC-2FEE-462D-9393-1C889E21856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en richtlijn is een document met aanbevelingen, adviezen, en behandelingsinstructies te ondersteuning van de besluitvorming van professionals in de zorg en patiënten, berustend op resultaten van wetenschappelijk onderzoek met daarop gebaseerde discussie en aansluitende meningsvorming, gericht op het expliciteren van doeltreffend en doelmatig medisch handelen. Richtlijnen worden ontwikkeld door organisaties van beroepsbeoefenaars en zijn onder andere via beroepsverenigingen te verkrijgen. Het toepassen van evidence based richtlijnen is een geschikte manier om wetenschappelijke inzichten te integreren in de dagelijkse beroepspraktijk. </a:t>
            </a:r>
            <a:r>
              <a:rPr b="1" lang="en-US" sz="1200" spc="-1" strike="noStrike">
                <a:solidFill>
                  <a:srgbClr val="000000"/>
                </a:solidFill>
                <a:latin typeface="Arial"/>
              </a:rPr>
              <a:t>Richtlijnen zijn richtinggevend. </a:t>
            </a:r>
            <a:br>
              <a:rPr sz="1200"/>
            </a:br>
            <a:r>
              <a:rPr b="1" lang="en-US" sz="1200" spc="-1" strike="noStrike">
                <a:solidFill>
                  <a:srgbClr val="000000"/>
                </a:solidFill>
                <a:latin typeface="Arial"/>
              </a:rPr>
              <a:t>Richtlijnen geven </a:t>
            </a:r>
            <a:r>
              <a:rPr b="1" lang="en-US" sz="1200" spc="-1" strike="noStrike" u="sng">
                <a:solidFill>
                  <a:srgbClr val="000000"/>
                </a:solidFill>
                <a:uFillTx/>
                <a:latin typeface="Arial"/>
              </a:rPr>
              <a:t>aan </a:t>
            </a:r>
            <a:r>
              <a:rPr b="1" i="1" lang="en-US" sz="1200" spc="-1" strike="noStrike" u="sng">
                <a:solidFill>
                  <a:srgbClr val="000000"/>
                </a:solidFill>
                <a:uFillTx/>
                <a:latin typeface="Arial"/>
              </a:rPr>
              <a:t>wat</a:t>
            </a:r>
            <a:r>
              <a:rPr b="1" lang="en-US" sz="1200" spc="-1" strike="noStrike" u="sng">
                <a:solidFill>
                  <a:srgbClr val="000000"/>
                </a:solidFill>
                <a:uFillTx/>
                <a:latin typeface="Arial"/>
              </a:rPr>
              <a:t> er gedaan </a:t>
            </a:r>
            <a:r>
              <a:rPr b="1" i="1" lang="en-US" sz="1200" spc="-1" strike="noStrike" u="sng">
                <a:solidFill>
                  <a:srgbClr val="000000"/>
                </a:solidFill>
                <a:uFillTx/>
                <a:latin typeface="Arial"/>
              </a:rPr>
              <a:t>kan</a:t>
            </a:r>
            <a:r>
              <a:rPr b="1" lang="en-US" sz="1200" spc="-1" strike="noStrike" u="sng">
                <a:solidFill>
                  <a:srgbClr val="000000"/>
                </a:solidFill>
                <a:uFillTx/>
                <a:latin typeface="Arial"/>
              </a:rPr>
              <a:t> worden</a:t>
            </a:r>
            <a:r>
              <a:rPr b="1" lang="en-US" sz="1200" spc="-1" strike="noStrike">
                <a:solidFill>
                  <a:srgbClr val="000000"/>
                </a:solidFill>
                <a:latin typeface="Arial"/>
              </a:rPr>
              <a:t>. Het is een middel om tot kwalitatief goede en verantwoorde zorg te komen.</a:t>
            </a:r>
            <a:br>
              <a:rPr sz="1200"/>
            </a:b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en protocol is een document dat tot doel heeft zorgverleners te ondersteunen bij het uitvoeren van zorginhoudelijke handelingen, met andere woorden het geeft aan hoe een handeling uitgevoerd kan worden (Leytens en Wagner, 200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 vrijheid van handelen is bij een protocol beperkt, in tegenstelling tot bij een richtlijn..</a:t>
            </a:r>
            <a:br>
              <a:rPr sz="1200"/>
            </a:br>
            <a:r>
              <a:rPr b="1" lang="en-US" sz="1200" spc="-1" strike="noStrike">
                <a:solidFill>
                  <a:srgbClr val="000000"/>
                </a:solidFill>
                <a:latin typeface="Arial"/>
              </a:rPr>
              <a:t>Een protocol geeft </a:t>
            </a:r>
            <a:r>
              <a:rPr b="1" lang="en-US" sz="1200" spc="-1" strike="noStrike" u="sng">
                <a:solidFill>
                  <a:srgbClr val="000000"/>
                </a:solidFill>
                <a:uFillTx/>
                <a:latin typeface="Arial"/>
              </a:rPr>
              <a:t>stap voor stap aan </a:t>
            </a:r>
            <a:r>
              <a:rPr b="1" i="1" lang="en-US" sz="1200" spc="-1" strike="noStrike" u="sng">
                <a:solidFill>
                  <a:srgbClr val="000000"/>
                </a:solidFill>
                <a:uFillTx/>
                <a:latin typeface="Arial"/>
              </a:rPr>
              <a:t>hoe</a:t>
            </a:r>
            <a:r>
              <a:rPr b="1" lang="en-US" sz="1200" spc="-1" strike="noStrike" u="sng">
                <a:solidFill>
                  <a:srgbClr val="000000"/>
                </a:solidFill>
                <a:uFillTx/>
                <a:latin typeface="Arial"/>
              </a:rPr>
              <a:t> iets gedaan </a:t>
            </a:r>
            <a:r>
              <a:rPr b="1" i="1" lang="en-US" sz="1200" spc="-1" strike="noStrike" u="sng">
                <a:solidFill>
                  <a:srgbClr val="000000"/>
                </a:solidFill>
                <a:uFillTx/>
                <a:latin typeface="Arial"/>
              </a:rPr>
              <a:t>moet</a:t>
            </a:r>
            <a:r>
              <a:rPr b="1" lang="en-US" sz="1200" spc="-1" strike="noStrike" u="sng">
                <a:solidFill>
                  <a:srgbClr val="000000"/>
                </a:solidFill>
                <a:uFillTx/>
                <a:latin typeface="Arial"/>
              </a:rPr>
              <a:t> worden</a:t>
            </a:r>
            <a:r>
              <a:rPr b="1" lang="en-US" sz="1200" spc="-1" strike="noStrike">
                <a:solidFill>
                  <a:srgbClr val="000000"/>
                </a:solidFill>
                <a:latin typeface="Arial"/>
              </a:rPr>
              <a:t>. </a:t>
            </a:r>
            <a:br>
              <a:rPr sz="1200"/>
            </a:br>
            <a:r>
              <a:rPr b="1" lang="en-US" sz="1200" spc="-1" strike="noStrike">
                <a:solidFill>
                  <a:srgbClr val="000000"/>
                </a:solidFill>
                <a:latin typeface="Arial"/>
              </a:rPr>
              <a:t>Een protocol is een voorschrift of middel om tot kwalitatief goede en verantwoorde zorg te komen.</a:t>
            </a:r>
            <a:br>
              <a:rPr sz="1200"/>
            </a:br>
            <a:r>
              <a:rPr b="1"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6208C-07C4-4522-9DA5-58BB0808D281}"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3446BC-AE20-4178-942D-A204C20C4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32053-BA73-498D-B148-8947FCD32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DE97E3-4038-4657-BBB4-216460E72A5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25C1404-D590-4A8C-B1C2-F0D1462E3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C8998E8-39C9-44E1-95E8-4FD13B9161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D7DFCC-6014-4267-B1A4-A1AF6B469B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5B64E2-208D-47D1-9D64-DDF3EFEFE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C78284-359D-4233-B7E9-9C60A93242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21D891-EAE1-4088-9657-900C997C0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D6AAB8-50E4-4863-A1CD-0943D725A3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962F04-93E4-41AB-9A72-984A6442BA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4517E07-8217-47AB-8386-140C91220B9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B0B1-EBE0-46DF-9FB8-9330D2495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81B682-AA99-431B-8C9D-ACF0C372D08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2B85F3D-2D88-4B52-9A80-64A193351DB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F9B6692-7493-4F86-AF02-263EF84EC3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CEE4AA5-BBD0-406B-8A77-7B915304407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769341-0ACF-4C44-9FE4-5E95AAB6D29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94D5388-7321-4C39-BF27-3AC1016604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4C5019-36C9-406D-AA00-85901F8E99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D94166-6C59-41B5-87CE-9BA247A9F0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05D3E7D-55EE-40FB-94A4-D55BB5DCE60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1BE6E2F-E45A-4C6F-B647-6D34E77D1AD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B7E78-E4D8-4558-9758-DBD637AD44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76BCE7-78F4-4EAB-96D0-9EFC10A9351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5C9E12F-993F-4BFE-B7F4-A0EC18E2BC1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7D280C8-3DAE-4C81-B887-D12B0974267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15E116A-1A6C-43E7-830A-E9CE33A8649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8A22CD-2DAC-4B29-A3D6-878F25B37BF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D89872E-CD89-45A8-B22C-F7A4707392E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C64F20-3828-46AA-8AA3-8AC571B409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788ED0-014B-40DC-884C-060A644ACE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2562E0-FD58-4003-A250-E55552F45C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7AB27D9-187D-4408-BB5A-9A25CEDB21D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137BCA-32A2-492B-8D12-4F80FBE6A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45C05C-1E7A-439D-887A-7A8CDF1C359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90AB36A-D9EA-47B9-841C-FEA3DAD06F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236ABDF-2398-49FF-82C8-4B0DF62A2D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C3B924B-2211-4F23-A816-D33972D5AE2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4363EB-627A-41EF-B552-23275607F8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DF71F56-F71B-4E46-ACF3-FE69B2AE55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7279C39-2154-43EE-A095-3CD916A4D3C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CC269B-0287-46BD-BAF4-44E0F7BD2E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90799D8-2479-4B56-A1F3-CAABBA33005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50D7E1-0D47-4446-B15B-67DEA54B58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A0486-08D2-450D-AB1A-D31D74A6E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F3E254-8256-4A52-AD55-EE9426257A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3206C2-BFA7-4672-8078-91010319184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206BEE-3125-4AC5-B56C-6C09DB3BFC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CBB0057-1550-449A-8B74-363300E184D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88F3CC5-72CA-48FA-BAAA-89C4199AFF0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3F5D9D-E09A-40AE-ABD7-21C9C5F75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11614-88F8-4E47-A207-E5DEBE63F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0F5499-EFCB-414E-9A2D-ADF9132C5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0FEBE1-B81D-4209-815F-D5C50B9FE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3D11A4-0799-4E52-8D65-0FB3DF3CD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E127F-C78D-46FB-8BBE-2B4BE1AF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84C051-851E-475D-845F-A901B8831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BA256E-920D-443F-B16D-FDA74B11D8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F547D-889C-4609-A4C3-51106AF88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D764E7-3812-476D-BD54-B1E21CA1FE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A32FD6-F3E7-4FE3-A3D7-B62904E325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C19E140-6C9D-495A-A222-FDCC7D1166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3A372-3D68-4942-8A93-7E596D3EAD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8E9C88-499A-4942-953B-BCB8E7316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2E9E0-1696-42FD-BFD8-78E7DFF1DC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D219C7-F01F-4C11-A28A-F0296C2A61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773E4-8ED2-460F-87BB-929D2D09D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38F5A-8E5F-4490-A4D3-832A6450CD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ECDDB2-F79C-4DCF-99E1-FDDD4E301D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47192-A3B3-4BFB-97CC-497D865E06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E6484-41D2-4253-889C-53DFC51B1B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3EBBF1-F37A-4E25-9A16-30F80549C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F3C8ED-F102-4AAB-B846-D804B31CA3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77924-2B00-4DA2-8823-5D377DF6BD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5AD07E-0D1A-40C7-8F0E-6838664ED6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D70F69-ED28-4C12-B647-4EF9EAC515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755F40-C199-4769-914E-ECE5ABB34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5D4A1-DE25-4176-8A0F-136FF175A5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D2B54F-E137-427D-8025-CCBBF6C4CC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F306C5-8F8B-4D73-8C56-FB7C579F24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FFC394-F881-469C-A55A-102BED70AC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FCDAD0-62ED-458E-83C9-F5BEA8418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991CD7-5D6C-453E-B168-8F2158019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FD14D-07C3-4823-B137-37069D5F1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381EF-44A7-44EC-9C69-D4D0CFA3F8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3872B-7CE1-407E-AB8C-605665FC94E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A297B5-7879-477D-9520-E5E9AB5FCD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935FC1-A111-4C7E-8713-B836248F298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DA4D5-A161-4DF3-A69D-7623C1C0B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557DDC-0FE5-4A40-BA00-F35C2C3A4E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B2B40F-D8A2-4155-9065-E1A38B9738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555F8B-E7D9-4093-B229-8E5CDD0E2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2EAA5C-779B-4BBD-BD67-64A5099694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5EEA09-26C9-4E00-9CCF-9F49DC2E28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42323F-EADE-43A1-89F2-261AAAFE3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030F23-F984-4A0E-93D6-C9ED41D10E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49E18-A9FB-496F-B1C7-4DB509D199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B54F29-B1C2-4F3B-B0D7-A3B8FE70E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427C76-3C0A-4A1D-A767-373C789D2A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264ED-CE37-4A51-8E34-B51C00582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D00AF1-26AE-4761-988D-5A2E32DC516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4340CA-532D-4437-9929-D608B3AE3D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D8C44C-C2AA-4315-BF7A-A9786A6567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F6AA10-D95C-4364-8BF6-31D88B2766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CC535C-3D43-484C-8A43-52A1A55701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E95913-7D7D-4C2F-BD3E-37584972B7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6CC57C-F2E2-4559-8918-B6D648A66A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E6B824-1E18-4FCC-917E-522D37274E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974E2-E078-422C-AC54-7B2409AD5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9CF2D-EBE8-47AF-9903-D45ACB0C77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7D790-6D37-4004-89F2-101F791CA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C62D5C-C0A2-40C5-ABD0-74BD4DF5B9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AAB738-ECDE-4E33-BADA-8DDD057364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83FCC8-D7DE-4664-9605-3F188101FB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78B518-FCC1-4F4F-B5C9-761F8E7850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5F76252-799D-4A4D-80B4-AE21DEC407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648139-B907-4C99-A2EA-6DA363990E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2B7B6A-356F-4EF5-A32C-72327F5426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FF39B-E43F-4F8F-A49C-C69B5937D8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6D4C3D-E57A-48F6-8344-44FF445B1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E0CA47-73E5-45A2-A465-70FAC2F863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2A270-76B7-4162-89C6-790064CC0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E4A090-80E9-40A7-9699-12553BD62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C0569C-318A-4465-A3BF-968DEB98D0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A0743F-C7B7-4AC5-8443-0EE7A9BC5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4ED91C-4B99-4596-9A7A-BFD9C3E5B17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A42E112-B2C9-44C5-A4B4-1D279C3975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9299D1-8DAF-4619-8AD6-59FC5060EAD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FA9BE6-CFCE-48F5-86B0-143704214A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CCC027-D503-4CE6-B53B-897D070992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C7B66C-B113-4A4E-BB32-29CF2A241F4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946CB7-A1E3-4126-9BBC-024AA8B1CD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1A6D3-1597-4CA2-8EE4-FACFF688A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A1C1D0-B6E7-46EB-B248-637052B3A3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79B6A0-BCE0-44CA-82D6-3B4ABF8DB7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4B0DDB-B789-48D5-AE1E-1FBDD3EED3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41A999-F422-4296-B47C-B242396C1D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F1D4C2-58AC-4353-A1B6-1F33845DAA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1D2B78-BABA-4E35-82A6-85E5645E5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2F143C-CABE-4F84-A2F5-5520D32CCB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3F8102-9EB3-4BF3-9290-43EB20B1AC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728361-4784-47D9-9863-8324D03AB7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93AFB6-EC11-44B9-9F65-4940C62E698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9454A-8E49-4049-8995-337714C7DCDA}"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9FD79-2E86-4189-816B-9556F7869BD4}"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90C57-7A59-40E1-8FFD-F4429BC0F8B3}"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50C87-8D5A-4671-9D78-22AF3009C48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E03D4-D957-40D5-8EDB-47A61F31A114}"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64B82-3E3C-4B84-BD96-29A657A1DBDF}"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965A-E749-4558-B0B5-8D61B265A9E3}"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ECB04-5235-4DBC-A499-2A7560587005}"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1E76E-3CC4-4ECE-8E7B-E5373E5E9B71}"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2814-0169-4F18-BAF6-E9F54E54846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77C3-B23A-499B-81A3-344007F33300}"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46A18-ABAA-446D-9BAE-126C9774CED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DB601-0C3C-46CD-BB35-04040A0FC2CB}"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5BB6D-B6BA-493D-AC1F-49AB02B4183E}"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DDF2D-79B9-4922-8055-32A7A776E615}"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1DE3-0BBB-4109-8754-05AFA9F5981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F45FD-0C28-4A61-82AA-AA773349E5C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CECB7-D338-4BCA-896B-A55FC64C1C4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3F812-E1D5-4E1E-9037-505C02040083}"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8C76C-1A37-4ABA-BB6A-DC2616A13BC9}"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50521-EC7A-44BE-B6B6-2D0D75AD1DAB}"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31268-1186-4583-8794-1C1BE173E28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E4EC7-5B13-46F2-8D09-865606443DFC}"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CBABD-7D63-4982-8C7B-2A5A7FDEDAE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2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25.xml"/><Relationship Id="rId7"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2)</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2340000" y="54936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Leerdoelen</a:t>
            </a:r>
            <a:endParaRPr b="1" lang="en-US" sz="4400" spc="-1" strike="noStrike">
              <a:solidFill>
                <a:srgbClr val="1a2b76"/>
              </a:solidFill>
              <a:latin typeface="Calibri"/>
            </a:endParaRPr>
          </a:p>
        </p:txBody>
      </p:sp>
      <p:sp>
        <p:nvSpPr>
          <p:cNvPr id="515" name="PlaceHolder 2"/>
          <p:cNvSpPr>
            <a:spLocks noGrp="1"/>
          </p:cNvSpPr>
          <p:nvPr>
            <p:ph/>
          </p:nvPr>
        </p:nvSpPr>
        <p:spPr>
          <a:xfrm>
            <a:off x="871560" y="1628280"/>
            <a:ext cx="7408800" cy="4753080"/>
          </a:xfrm>
          <a:prstGeom prst="rect">
            <a:avLst/>
          </a:prstGeom>
          <a:noFill/>
          <a:ln w="0">
            <a:noFill/>
          </a:ln>
        </p:spPr>
        <p:txBody>
          <a:bodyPr anchor="t">
            <a:normAutofit/>
          </a:bodyPr>
          <a:p>
            <a:pPr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1a2b76"/>
                </a:solidFill>
                <a:latin typeface="Calibri"/>
              </a:rPr>
              <a:t>Na de EBP lessen</a:t>
            </a:r>
            <a:endParaRPr b="0" lang="en-US" sz="15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van het nut van evidence-based practice (EBP) voor de zorg in het algemeen en de individuele zorgvrager in het bijzonder;</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weet je waarom een kritische houding een voorwaarde is voor het toepassen va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voorbeelden van niet-effectieve verpleegkundige zorg;</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bij een vraag uit de praktijk de informatiebron met de hoogste bewijskracht kiez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de definitie, doelen en kritische elementen van EBP en de stappen van het EBP-proces;</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heb je kennis over de relatie tussen EBP en het volgen/afwijken van (evidence-based) richtlijnen;</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en je het verband tussen Nederlandse wetgeving en EBP;</a:t>
            </a:r>
            <a:endParaRPr b="0" lang="en-US" sz="2000" spc="-1" strike="noStrike">
              <a:solidFill>
                <a:srgbClr val="1a2b76"/>
              </a:solidFill>
              <a:latin typeface="Calibri"/>
            </a:endParaRPr>
          </a:p>
          <a:p>
            <a:pPr>
              <a:lnSpc>
                <a:spcPct val="7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kun je stap 1 en stap 2 (alleen voor het zoeken naar richtlijnen) van het EBP-proces uitvoeren.</a:t>
            </a:r>
            <a:endParaRPr b="0" lang="en-US" sz="2000" spc="-1" strike="noStrike">
              <a:solidFill>
                <a:srgbClr val="1a2b76"/>
              </a:solidFill>
              <a:latin typeface="Calibri"/>
            </a:endParaRPr>
          </a:p>
          <a:p>
            <a:pPr lvl="1" marL="7192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2b76"/>
              </a:solidFill>
              <a:latin typeface="Calibri"/>
            </a:endParaRPr>
          </a:p>
        </p:txBody>
      </p:sp>
      <p:pic>
        <p:nvPicPr>
          <p:cNvPr id="516" name="Picture 5" descr="Schermafbeelding 2015-09-29 om 17"/>
          <p:cNvPicPr/>
          <p:nvPr/>
        </p:nvPicPr>
        <p:blipFill>
          <a:blip r:embed="rId1"/>
          <a:stretch/>
        </p:blipFill>
        <p:spPr>
          <a:xfrm>
            <a:off x="6738840" y="476280"/>
            <a:ext cx="2370240" cy="138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in de ziekenhuispraktijk </a:t>
            </a:r>
            <a:endParaRPr b="1" lang="en-US" sz="4400" spc="-1" strike="noStrike">
              <a:solidFill>
                <a:srgbClr val="1a2b76"/>
              </a:solidFill>
              <a:latin typeface="Calibri"/>
            </a:endParaRPr>
          </a:p>
        </p:txBody>
      </p:sp>
      <p:sp>
        <p:nvSpPr>
          <p:cNvPr id="518" name=""/>
          <p:cNvSpPr txBox="1"/>
          <p:nvPr/>
        </p:nvSpPr>
        <p:spPr>
          <a:xfrm>
            <a:off x="628560" y="1825200"/>
            <a:ext cx="788688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Mogen patiënten met een primair gesloten wond douch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usol bij open geïnfecteerde wond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Warmte toedienen voor aanprikken infuus?</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isposable vernevelset elke dag vervangen?</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BP academie: kritische houding (1.37)</a:t>
            </a:r>
            <a:endParaRPr b="0" lang="en-US" sz="2800" spc="-1" strike="noStrike">
              <a:solidFill>
                <a:srgbClr val="1a2b76"/>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_NeYDoR1J6I</a:t>
            </a: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a:p>
            <a:pPr>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19" name="Tijdelijke aanduiding voor dianummer 1"/>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662A8-56D5-4B0E-A8F3-B2D1194FA59A}"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0" name="Picture 2" descr=""/>
          <p:cNvPicPr/>
          <p:nvPr/>
        </p:nvPicPr>
        <p:blipFill>
          <a:blip r:embed="rId1"/>
          <a:stretch/>
        </p:blipFill>
        <p:spPr>
          <a:xfrm>
            <a:off x="7570800" y="1494000"/>
            <a:ext cx="1243080" cy="72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Rol student en EBP (kwaliteitszorg)</a:t>
            </a:r>
            <a:endParaRPr b="1" lang="en-US" sz="3600" spc="-1" strike="noStrike">
              <a:solidFill>
                <a:srgbClr val="1a2b76"/>
              </a:solidFill>
              <a:latin typeface="Calibri"/>
            </a:endParaRPr>
          </a:p>
        </p:txBody>
      </p:sp>
      <p:pic>
        <p:nvPicPr>
          <p:cNvPr id="522" name="" descr=""/>
          <p:cNvPicPr/>
          <p:nvPr/>
        </p:nvPicPr>
        <p:blipFill>
          <a:blip r:embed="rId1"/>
          <a:stretch/>
        </p:blipFill>
        <p:spPr>
          <a:xfrm>
            <a:off x="628560" y="1825200"/>
            <a:ext cx="7886880" cy="4351320"/>
          </a:xfrm>
          <a:prstGeom prst="rect">
            <a:avLst/>
          </a:prstGeom>
          <a:ln w="0">
            <a:noFill/>
          </a:ln>
        </p:spPr>
      </p:pic>
      <p:sp>
        <p:nvSpPr>
          <p:cNvPr id="52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D872-CDD8-4062-80A2-7E18FB0A1EC7}"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24" name="Picture 3" descr=""/>
          <p:cNvPicPr/>
          <p:nvPr/>
        </p:nvPicPr>
        <p:blipFill>
          <a:blip r:embed="rId2"/>
          <a:srcRect l="0" t="25495" r="0" b="0"/>
          <a:stretch/>
        </p:blipFill>
        <p:spPr>
          <a:xfrm>
            <a:off x="-7920" y="1773360"/>
            <a:ext cx="8978760" cy="4246560"/>
          </a:xfrm>
          <a:prstGeom prst="rect">
            <a:avLst/>
          </a:prstGeom>
          <a:ln w="0">
            <a:noFill/>
          </a:ln>
        </p:spPr>
      </p:pic>
      <p:sp>
        <p:nvSpPr>
          <p:cNvPr id="525" name="Tekstvak 1"/>
          <p:cNvSpPr/>
          <p:nvPr/>
        </p:nvSpPr>
        <p:spPr>
          <a:xfrm>
            <a:off x="26640" y="162864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Waarom EB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https://www.youtube.com/watch?v=cne7jq4w1x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183"/>
                </a:solidFill>
                <a:latin typeface="Calibri"/>
              </a:rPr>
              <a:t>3 niveaus in toepassen EBP in praktijk</a:t>
            </a:r>
            <a:endParaRPr b="1" lang="en-US" sz="3600" spc="-1" strike="noStrike">
              <a:solidFill>
                <a:srgbClr val="1a2b76"/>
              </a:solidFill>
              <a:latin typeface="Calibri"/>
            </a:endParaRPr>
          </a:p>
        </p:txBody>
      </p:sp>
      <p:sp>
        <p:nvSpPr>
          <p:cNvPr id="527" name=""/>
          <p:cNvSpPr txBox="1"/>
          <p:nvPr/>
        </p:nvSpPr>
        <p:spPr>
          <a:xfrm>
            <a:off x="628560" y="1341360"/>
            <a:ext cx="7886880" cy="48355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Expert</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zelfstandig 5 stappen van EBP doorlopen </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volgers en gebruikers helpen bij het zoeken naar en invoeren van evidence. </a:t>
            </a:r>
            <a:endParaRPr b="0" lang="en-US" sz="2000" spc="-1" strike="noStrike">
              <a:solidFill>
                <a:srgbClr val="1a2b76"/>
              </a:solidFill>
              <a:latin typeface="Calibri"/>
            </a:endParaRPr>
          </a:p>
          <a:p>
            <a:pPr lvl="1" marL="719280" indent="-262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	</a:t>
            </a:r>
            <a:r>
              <a:rPr b="0" lang="nl-NL" sz="2000" spc="-1" strike="noStrike">
                <a:solidFill>
                  <a:srgbClr val="1a2b76"/>
                </a:solidFill>
                <a:latin typeface="Calibri"/>
              </a:rPr>
              <a:t>Bijv. verplegingswetenschappers en verpleegkundig specialisten.</a:t>
            </a:r>
            <a:endParaRPr b="0" lang="en-US" sz="20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Gebruiker</a:t>
            </a:r>
            <a:endParaRPr b="0" lang="en-US" sz="20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a2b76"/>
                </a:solidFill>
                <a:latin typeface="Calibri"/>
              </a:rPr>
              <a:t>op basis van een kritische vraag evidence based richtlijnen en andere evidence zoeken, beoordelen op kwaliteit en praktische toepasbaarheid en toepassen</a:t>
            </a:r>
            <a:endParaRPr b="0" lang="en-US" sz="2000" spc="-1" strike="noStrike">
              <a:solidFill>
                <a:srgbClr val="1a2b76"/>
              </a:solidFill>
              <a:latin typeface="Calibri"/>
            </a:endParaRPr>
          </a:p>
          <a:p>
            <a:pPr marL="353880" indent="-353880">
              <a:lnSpc>
                <a:spcPct val="90000"/>
              </a:lnSpc>
              <a:spcBef>
                <a:spcPts val="1001"/>
              </a:spcBef>
              <a:buClr>
                <a:srgbClr val="ff9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9900"/>
                </a:solidFill>
                <a:latin typeface="Calibri"/>
              </a:rPr>
              <a:t>Volger</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committeert zich aan de richtlijnen en instructies van gebruikers en experts. </a:t>
            </a:r>
            <a:endParaRPr b="0" lang="en-US" sz="2400" spc="-1" strike="noStrike">
              <a:solidFill>
                <a:srgbClr val="1a2b76"/>
              </a:solidFill>
              <a:latin typeface="Calibri"/>
            </a:endParaRPr>
          </a:p>
        </p:txBody>
      </p:sp>
      <p:sp>
        <p:nvSpPr>
          <p:cNvPr id="528"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69AD6-4C54-41B0-AF1D-B7991F28C5C5}"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sp>
        <p:nvSpPr>
          <p:cNvPr id="529" name="Tekstvak 4"/>
          <p:cNvSpPr/>
          <p:nvPr/>
        </p:nvSpPr>
        <p:spPr>
          <a:xfrm>
            <a:off x="5666760" y="6195960"/>
            <a:ext cx="27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ＭＳ Ｐゴシック"/>
              </a:rPr>
              <a:t>(Beurskens, et al., 200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Date Placeholder 3"/>
          <p:cNvSpPr/>
          <p:nvPr/>
        </p:nvSpPr>
        <p:spPr>
          <a:xfrm>
            <a:off x="684360" y="6021360"/>
            <a:ext cx="76176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0E9ED129-5381-45C9-A321-8D45EB41C383}"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2" name="PlaceHolder 1"/>
          <p:cNvSpPr>
            <a:spLocks noGrp="1"/>
          </p:cNvSpPr>
          <p:nvPr>
            <p:ph type="title"/>
          </p:nvPr>
        </p:nvSpPr>
        <p:spPr>
          <a:xfrm>
            <a:off x="468360" y="333000"/>
            <a:ext cx="815976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1a2b76"/>
                </a:solidFill>
                <a:latin typeface="Calibri"/>
                <a:ea typeface="ＭＳ Ｐゴシック"/>
              </a:rPr>
              <a:t>EBP als proces</a:t>
            </a:r>
            <a:endParaRPr b="1" lang="en-US" sz="4400" spc="-1" strike="noStrike">
              <a:solidFill>
                <a:srgbClr val="1a2b76"/>
              </a:solidFill>
              <a:latin typeface="Calibri"/>
            </a:endParaRPr>
          </a:p>
        </p:txBody>
      </p:sp>
      <p:pic>
        <p:nvPicPr>
          <p:cNvPr id="533" name="Tijdelijke aanduiding voor inhoud 15" descr=""/>
          <p:cNvPicPr/>
          <p:nvPr/>
        </p:nvPicPr>
        <p:blipFill>
          <a:blip r:embed="rId1"/>
          <a:stretch/>
        </p:blipFill>
        <p:spPr>
          <a:xfrm>
            <a:off x="6480" y="1590840"/>
            <a:ext cx="8229600" cy="4535280"/>
          </a:xfrm>
          <a:prstGeom prst="rect">
            <a:avLst/>
          </a:prstGeom>
          <a:ln w="0">
            <a:noFill/>
          </a:ln>
        </p:spPr>
      </p:pic>
      <p:sp>
        <p:nvSpPr>
          <p:cNvPr id="534" name="TextBox 11"/>
          <p:cNvSpPr/>
          <p:nvPr/>
        </p:nvSpPr>
        <p:spPr>
          <a:xfrm>
            <a:off x="6588000" y="3573360"/>
            <a:ext cx="2143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a:t>
            </a:r>
            <a:endParaRPr b="0" lang="en-US" sz="2400" spc="-1" strike="noStrike">
              <a:solidFill>
                <a:srgbClr val="000000"/>
              </a:solidFill>
              <a:latin typeface="Arial"/>
            </a:endParaRPr>
          </a:p>
        </p:txBody>
      </p:sp>
      <p:sp>
        <p:nvSpPr>
          <p:cNvPr id="535" name="TextBox 12"/>
          <p:cNvSpPr/>
          <p:nvPr/>
        </p:nvSpPr>
        <p:spPr>
          <a:xfrm>
            <a:off x="6084720" y="5229360"/>
            <a:ext cx="1928880" cy="217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https://www.youtube.com/watch?v=V37e2V1gfc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baseline="-25000">
                <a:solidFill>
                  <a:srgbClr val="000000"/>
                </a:solidFill>
                <a:latin typeface="Arial"/>
                <a:ea typeface="ＭＳ Ｐゴシック"/>
              </a:rPr>
              <a:t>2 min</a:t>
            </a:r>
            <a:endParaRPr b="0" lang="en-US" sz="2400" spc="-1" strike="noStrike">
              <a:solidFill>
                <a:srgbClr val="000000"/>
              </a:solidFill>
              <a:latin typeface="Arial"/>
            </a:endParaRPr>
          </a:p>
        </p:txBody>
      </p:sp>
      <p:pic>
        <p:nvPicPr>
          <p:cNvPr id="536" name="Picture 14" descr="Schermafbeelding 2015-09-29 om 17"/>
          <p:cNvPicPr/>
          <p:nvPr/>
        </p:nvPicPr>
        <p:blipFill>
          <a:blip r:embed="rId2"/>
          <a:stretch/>
        </p:blipFill>
        <p:spPr>
          <a:xfrm>
            <a:off x="6372360" y="765000"/>
            <a:ext cx="2484360" cy="1447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ea typeface="ＭＳ Ｐゴシック"/>
              </a:rPr>
              <a:t>Richtlijnen en protocollen</a:t>
            </a:r>
            <a:endParaRPr b="1" lang="en-US" sz="4400" spc="-1" strike="noStrike">
              <a:solidFill>
                <a:srgbClr val="1a2b76"/>
              </a:solidFill>
              <a:latin typeface="Calibri"/>
            </a:endParaRPr>
          </a:p>
        </p:txBody>
      </p:sp>
      <p:sp>
        <p:nvSpPr>
          <p:cNvPr id="538" name="PlaceHolder 2"/>
          <p:cNvSpPr>
            <a:spLocks noGrp="1"/>
          </p:cNvSpPr>
          <p:nvPr>
            <p:ph/>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ea typeface="ＭＳ Ｐゴシック"/>
              </a:rPr>
              <a:t>http://www.venvn.nl/themas/richtlijnen-en-protocollen</a:t>
            </a:r>
            <a:endParaRPr b="0" lang="en-US" sz="2800" spc="-1" strike="noStrike">
              <a:solidFill>
                <a:srgbClr val="1a2b76"/>
              </a:solidFill>
              <a:latin typeface="Calibri"/>
            </a:endParaRPr>
          </a:p>
          <a:p>
            <a:pPr marL="3538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pic>
        <p:nvPicPr>
          <p:cNvPr id="539" name="Picture 7" descr="protocollen"/>
          <p:cNvPicPr/>
          <p:nvPr/>
        </p:nvPicPr>
        <p:blipFill>
          <a:blip r:embed="rId1"/>
          <a:stretch/>
        </p:blipFill>
        <p:spPr>
          <a:xfrm>
            <a:off x="5867280" y="2205000"/>
            <a:ext cx="2513160" cy="2581200"/>
          </a:xfrm>
          <a:prstGeom prst="rect">
            <a:avLst/>
          </a:prstGeom>
          <a:ln w="0">
            <a:noFill/>
          </a:ln>
        </p:spPr>
      </p:pic>
      <p:pic>
        <p:nvPicPr>
          <p:cNvPr id="540" name="Picture 9" descr="menu_richtlijnen"/>
          <p:cNvPicPr/>
          <p:nvPr/>
        </p:nvPicPr>
        <p:blipFill>
          <a:blip r:embed="rId2"/>
          <a:stretch/>
        </p:blipFill>
        <p:spPr>
          <a:xfrm>
            <a:off x="1403280" y="2708280"/>
            <a:ext cx="2808360" cy="2454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Richtlijnen en protocollen</a:t>
            </a:r>
            <a:endParaRPr b="1" lang="en-US" sz="4400" spc="-1" strike="noStrike">
              <a:solidFill>
                <a:srgbClr val="1a2b76"/>
              </a:solidFill>
              <a:latin typeface="Calibri"/>
            </a:endParaRPr>
          </a:p>
        </p:txBody>
      </p:sp>
      <p:sp>
        <p:nvSpPr>
          <p:cNvPr id="542"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roepsvereniging verpleegkundigen en verzorgenden</a:t>
            </a:r>
            <a:endParaRPr b="0" lang="en-US" sz="28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Docportal </a:t>
            </a:r>
            <a:endParaRPr b="0" lang="en-US" sz="28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Algemeen</a:t>
            </a:r>
            <a:endParaRPr b="0" lang="en-US" sz="2400" spc="-1" strike="noStrike">
              <a:solidFill>
                <a:srgbClr val="1a2b76"/>
              </a:solidFill>
              <a:latin typeface="Calibri"/>
            </a:endParaRPr>
          </a:p>
          <a:p>
            <a:pPr lvl="1" marL="719280" indent="-262080">
              <a:lnSpc>
                <a:spcPct val="90000"/>
              </a:lnSpc>
              <a:spcBef>
                <a:spcPts val="499"/>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a2b76"/>
                </a:solidFill>
                <a:latin typeface="Calibri"/>
              </a:rPr>
              <a:t>Specialisme</a:t>
            </a:r>
            <a:endParaRPr b="0" lang="en-US" sz="2400" spc="-1" strike="noStrike">
              <a:solidFill>
                <a:srgbClr val="1a2b76"/>
              </a:solidFill>
              <a:latin typeface="Calibri"/>
            </a:endParaRPr>
          </a:p>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3"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E5012-701F-4829-9593-FB5E35011E5B}"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44" name="Picture 3" descr=""/>
          <p:cNvPicPr/>
          <p:nvPr/>
        </p:nvPicPr>
        <p:blipFill>
          <a:blip r:embed="rId1"/>
          <a:stretch/>
        </p:blipFill>
        <p:spPr>
          <a:xfrm>
            <a:off x="6064200" y="2421000"/>
            <a:ext cx="2595600" cy="1439640"/>
          </a:xfrm>
          <a:prstGeom prst="rect">
            <a:avLst/>
          </a:prstGeom>
          <a:ln w="0">
            <a:noFill/>
          </a:ln>
        </p:spPr>
      </p:pic>
      <p:sp>
        <p:nvSpPr>
          <p:cNvPr id="545" name="AutoShape 5"/>
          <p:cNvSpPr/>
          <p:nvPr/>
        </p:nvSpPr>
        <p:spPr>
          <a:xfrm>
            <a:off x="63360" y="-136440"/>
            <a:ext cx="304920" cy="3045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6" name="Picture 6" descr=""/>
          <p:cNvPicPr/>
          <p:nvPr/>
        </p:nvPicPr>
        <p:blipFill>
          <a:blip r:embed="rId2"/>
          <a:stretch/>
        </p:blipFill>
        <p:spPr>
          <a:xfrm>
            <a:off x="3714840" y="3284640"/>
            <a:ext cx="1714320" cy="1714320"/>
          </a:xfrm>
          <a:prstGeom prst="rect">
            <a:avLst/>
          </a:prstGeom>
          <a:ln w="0">
            <a:noFill/>
          </a:ln>
        </p:spPr>
      </p:pic>
      <p:sp>
        <p:nvSpPr>
          <p:cNvPr id="547" name="AutoShape 9"/>
          <p:cNvSpPr/>
          <p:nvPr/>
        </p:nvSpPr>
        <p:spPr>
          <a:xfrm>
            <a:off x="216000" y="15840"/>
            <a:ext cx="30456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10" descr=""/>
          <p:cNvPicPr/>
          <p:nvPr/>
        </p:nvPicPr>
        <p:blipFill>
          <a:blip r:embed="rId3"/>
          <a:stretch/>
        </p:blipFill>
        <p:spPr>
          <a:xfrm>
            <a:off x="390600" y="4581360"/>
            <a:ext cx="2178000" cy="1274760"/>
          </a:xfrm>
          <a:prstGeom prst="rect">
            <a:avLst/>
          </a:prstGeom>
          <a:ln w="0">
            <a:noFill/>
          </a:ln>
        </p:spPr>
      </p:pic>
      <p:pic>
        <p:nvPicPr>
          <p:cNvPr id="549" name="Picture 11" descr=""/>
          <p:cNvPicPr/>
          <p:nvPr/>
        </p:nvPicPr>
        <p:blipFill>
          <a:blip r:embed="rId4"/>
          <a:stretch/>
        </p:blipFill>
        <p:spPr>
          <a:xfrm>
            <a:off x="6073920" y="4005360"/>
            <a:ext cx="2628720" cy="1334880"/>
          </a:xfrm>
          <a:prstGeom prst="rect">
            <a:avLst/>
          </a:prstGeom>
          <a:ln w="0">
            <a:noFill/>
          </a:ln>
        </p:spPr>
      </p:pic>
      <p:pic>
        <p:nvPicPr>
          <p:cNvPr id="550" name="Picture 12" descr=""/>
          <p:cNvPicPr/>
          <p:nvPr/>
        </p:nvPicPr>
        <p:blipFill>
          <a:blip r:embed="rId5"/>
          <a:stretch/>
        </p:blipFill>
        <p:spPr>
          <a:xfrm>
            <a:off x="7583400" y="184320"/>
            <a:ext cx="1084320" cy="200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1-02-01T09:31:14Z</dcterms:modified>
  <cp:revision>186</cp:revision>
  <dc:subject/>
  <dc:title>Dia 1</dc:title>
</cp:coreProperties>
</file>