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B4D3-108C-4E81-9908-7EB2E2BB4CC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FE0D-DF35-41E2-AD6F-7B2EF6B2D1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ger: geldende richtlijnen opvolgt of adviezen van EBP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 EBP-volger verstaan we dat verpleegkundigen een kritische blik hebben op hun eigen handelen en EBP-aanbevelingen opvolgen door het volgen van protocollen en richtlijnen.</a:t>
            </a:r>
            <a:endParaRPr b="0" lang="en-US" sz="1200" spc="-1" strike="noStrike">
              <a:solidFill>
                <a:srgbClr val="000000"/>
              </a:solidFill>
              <a:latin typeface="Arial"/>
            </a:endParaRPr>
          </a:p>
        </p:txBody>
      </p:sp>
      <p:sp>
        <p:nvSpPr>
          <p:cNvPr id="55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7577-2BC7-4366-9317-F90A2CB82FD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7886-6443-4E74-9B57-4A290BF65D4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C8B2-D1D2-4FF8-BE27-C54552BF17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ichtlijn is een document met aanbevelingen, adviezen, en behandelingsinstructies te ondersteuning van de besluitvorming van professionals in de zorg en patiënten, berustend op resultaten van wetenschappelijk onderzoek met daarop gebaseerde discussie en aansluitende meningsvorming, gericht op het expliciteren van doeltreffend en doelmatig medisch handelen. Richtlijnen worden ontwikkeld door organisaties van beroepsbeoefenaars en zijn onder andere via beroepsverenigingen te verkrijgen. Het toepassen van evidence based richtlijnen is een geschikte manier om wetenschappelijke inzichten te integreren in de dagelijkse beroepspraktijk. </a:t>
            </a:r>
            <a:r>
              <a:rPr b="1" lang="en-US" sz="1200" spc="-1" strike="noStrike">
                <a:solidFill>
                  <a:srgbClr val="000000"/>
                </a:solidFill>
                <a:latin typeface="Arial"/>
              </a:rPr>
              <a:t>Richtlijnen zijn richtinggevend. </a:t>
            </a:r>
            <a:br>
              <a:rPr sz="1200"/>
            </a:br>
            <a:r>
              <a:rPr b="1" lang="en-US" sz="1200" spc="-1" strike="noStrike">
                <a:solidFill>
                  <a:srgbClr val="000000"/>
                </a:solidFill>
                <a:latin typeface="Arial"/>
              </a:rPr>
              <a:t>Richtlijnen geven </a:t>
            </a:r>
            <a:r>
              <a:rPr b="1" lang="en-US" sz="1200" spc="-1" strike="noStrike" u="sng">
                <a:solidFill>
                  <a:srgbClr val="000000"/>
                </a:solidFill>
                <a:uFillTx/>
                <a:latin typeface="Arial"/>
              </a:rPr>
              <a:t>aan </a:t>
            </a:r>
            <a:r>
              <a:rPr b="1" i="1" lang="en-US" sz="1200" spc="-1" strike="noStrike" u="sng">
                <a:solidFill>
                  <a:srgbClr val="000000"/>
                </a:solidFill>
                <a:uFillTx/>
                <a:latin typeface="Arial"/>
              </a:rPr>
              <a:t>wat</a:t>
            </a:r>
            <a:r>
              <a:rPr b="1" lang="en-US" sz="1200" spc="-1" strike="noStrike" u="sng">
                <a:solidFill>
                  <a:srgbClr val="000000"/>
                </a:solidFill>
                <a:uFillTx/>
                <a:latin typeface="Arial"/>
              </a:rPr>
              <a:t> er gedaan </a:t>
            </a:r>
            <a:r>
              <a:rPr b="1" i="1" lang="en-US" sz="1200" spc="-1" strike="noStrike" u="sng">
                <a:solidFill>
                  <a:srgbClr val="000000"/>
                </a:solidFill>
                <a:uFillTx/>
                <a:latin typeface="Arial"/>
              </a:rPr>
              <a:t>kan</a:t>
            </a:r>
            <a:r>
              <a:rPr b="1" lang="en-US" sz="1200" spc="-1" strike="noStrike" u="sng">
                <a:solidFill>
                  <a:srgbClr val="000000"/>
                </a:solidFill>
                <a:uFillTx/>
                <a:latin typeface="Arial"/>
              </a:rPr>
              <a:t> worden</a:t>
            </a:r>
            <a:r>
              <a:rPr b="1" lang="en-US" sz="1200" spc="-1" strike="noStrike">
                <a:solidFill>
                  <a:srgbClr val="000000"/>
                </a:solidFill>
                <a:latin typeface="Arial"/>
              </a:rPr>
              <a:t>. Het is een middel om tot kwalitatief goede en verantwoorde zorg te komen.</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en protocol is een document dat tot doel heeft zorgverleners te ondersteunen bij het uitvoeren van zorginhoudelijke handelingen, met andere woorden het geeft aan hoe een handeling uitgevoerd kan worden (Leytens en Wagner, 20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rijheid van handelen is bij een protocol beperkt, in tegenstelling tot bij een richtlijn..</a:t>
            </a:r>
            <a:br>
              <a:rPr sz="1200"/>
            </a:br>
            <a:r>
              <a:rPr b="1" lang="en-US" sz="1200" spc="-1" strike="noStrike">
                <a:solidFill>
                  <a:srgbClr val="000000"/>
                </a:solidFill>
                <a:latin typeface="Arial"/>
              </a:rPr>
              <a:t>Een protocol geeft </a:t>
            </a:r>
            <a:r>
              <a:rPr b="1" lang="en-US" sz="1200" spc="-1" strike="noStrike" u="sng">
                <a:solidFill>
                  <a:srgbClr val="000000"/>
                </a:solidFill>
                <a:uFillTx/>
                <a:latin typeface="Arial"/>
              </a:rPr>
              <a:t>stap voor stap aan </a:t>
            </a:r>
            <a:r>
              <a:rPr b="1" i="1" lang="en-US" sz="1200" spc="-1" strike="noStrike" u="sng">
                <a:solidFill>
                  <a:srgbClr val="000000"/>
                </a:solidFill>
                <a:uFillTx/>
                <a:latin typeface="Arial"/>
              </a:rPr>
              <a:t>hoe</a:t>
            </a:r>
            <a:r>
              <a:rPr b="1" lang="en-US" sz="1200" spc="-1" strike="noStrike" u="sng">
                <a:solidFill>
                  <a:srgbClr val="000000"/>
                </a:solidFill>
                <a:uFillTx/>
                <a:latin typeface="Arial"/>
              </a:rPr>
              <a:t> iets gedaan </a:t>
            </a:r>
            <a:r>
              <a:rPr b="1" i="1" lang="en-US" sz="1200" spc="-1" strike="noStrike" u="sng">
                <a:solidFill>
                  <a:srgbClr val="000000"/>
                </a:solidFill>
                <a:uFillTx/>
                <a:latin typeface="Arial"/>
              </a:rPr>
              <a:t>moet</a:t>
            </a:r>
            <a:r>
              <a:rPr b="1" lang="en-US" sz="1200" spc="-1" strike="noStrike" u="sng">
                <a:solidFill>
                  <a:srgbClr val="000000"/>
                </a:solidFill>
                <a:uFillTx/>
                <a:latin typeface="Arial"/>
              </a:rPr>
              <a:t> worden</a:t>
            </a:r>
            <a:r>
              <a:rPr b="1" lang="en-US" sz="1200" spc="-1" strike="noStrike">
                <a:solidFill>
                  <a:srgbClr val="000000"/>
                </a:solidFill>
                <a:latin typeface="Arial"/>
              </a:rPr>
              <a:t>. </a:t>
            </a:r>
            <a:br>
              <a:rPr sz="1200"/>
            </a:br>
            <a:r>
              <a:rPr b="1" lang="en-US" sz="1200" spc="-1" strike="noStrike">
                <a:solidFill>
                  <a:srgbClr val="000000"/>
                </a:solidFill>
                <a:latin typeface="Arial"/>
              </a:rPr>
              <a:t>Een protocol is een voorschrift of middel om tot kwalitatief goede en verantwoorde zorg te komen.</a:t>
            </a:r>
            <a:br>
              <a:rPr sz="1200"/>
            </a:br>
            <a:r>
              <a:rPr b="1"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6FBD-F79E-4848-9724-1D4ABF5C07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8DA37-9CF3-4F02-A0A8-3BE72186B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37C9F-2B90-41B6-B34C-8ACAF26F8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AE20EB-6497-4235-82BE-EC09FBB1CF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BEFFFE-339C-48FE-9B7E-C4B39C350D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44BCB8-B8F8-49B5-81DF-13DE3066D9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32D3F7-DD9F-4558-9A36-DC9276610C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8E4F2C-7437-4BF8-AA84-17BC16143F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63C066-4CC4-4225-9C89-270D6687A2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6A6412-57B4-4BFC-9E48-9AD54428EF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C7C162-A054-4CF0-9409-13161F7088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8D3F7C-955A-420B-BAFD-E6C01BD6C4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F951D8-7596-4C04-8D25-5B7EBA9B18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5D7BA-2E38-42CF-82A3-3E5058EC4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7EC70E-7838-46C1-A33C-7BF5D1F319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0B393E-0384-45F7-A118-6409E0A166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54CF0D-5FBA-45FD-B27B-02E2C5E18E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9A94A8-2B52-4E0F-96D6-65ACB1B69E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75D9A1-0383-4BA3-8E93-9A4956A4B1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C95D00-4851-46ED-8D7D-A711C53DAD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CB8BD4-E800-4EBD-8C82-AF7B15133B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397B38-FFC4-46F9-AB2B-7A7AC97730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F29FAA-6A1D-4E20-92B2-4A25F60995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194A97-7D8F-40F2-BE5C-BA6401B355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B1A23-6124-43A2-9716-76169B26F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8A2DBF1-C75F-4332-80CB-88FE93D319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753523-C7D2-4718-9674-4266BBA803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09083F-566B-49BC-A66D-4EDCAC23CF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165EC0-0811-4C43-95DC-5E7F4B117E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38E1FC-B465-4D18-8548-3C0FD27AB1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17A1F4-0CD2-46F2-A1D6-2B254C0EF7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420A44-7E45-42E1-A23E-840D3A143A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778838-B822-4DF4-A537-07196CC274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EDB496-9C54-4119-BFF1-DBB9CCA216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419535-97F7-46A4-91DD-57359740DF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04261-1100-43CF-9F5E-E1156E716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BB724D-A883-4186-BCCA-5B75067A90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19D7E1-70BA-498A-9A07-3586DD322EF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C31186-7711-4169-8315-D0F12C2E20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9A470E-BFB9-4062-9C5A-C77821A07D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C9E750-F008-4437-855D-932EE826B2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359542-4196-422A-B446-363C23FF67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C2069D-F0CB-4805-B305-25495D03A7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80ECF9-F405-4CFF-9226-BA06C3FFD8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B001F1-3BD9-4300-9020-6A1941FE2F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1E0D03-32C8-4F37-B563-5621AA8E3D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079BB-E7BB-44E5-9F7F-A6CDEA2AA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690BE2-E19D-4192-B8FA-19A80569A4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0ECE03-EEF3-4582-83F8-6AFE1B4B86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D8C920-40E1-4C67-AF2E-AF0C8F470A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8F4DD6-0C5C-4340-8E8F-AC49FDD2A55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A71090-AACE-46E3-AF2E-DE68A439056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85491-24ED-4859-B729-ABC478A31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C8097-2635-4F4B-B1B0-CC7B93828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EDCD6-EAAB-44A8-BACC-1A89FA2E9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2C7D7-5E5A-4A18-8CA1-759E63084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AB333-EEEF-48EB-8AC2-FC657461D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CFAFE-6258-4706-98C7-973DEDE7B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C8A2F-2685-4CAA-BBFD-EA98EAADA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694FA-17AC-4530-8268-1911E2807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8A7D7-66DD-47CE-8184-A9A89F1A1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7DF51-ECED-40BD-983D-96583F1AF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0F945-7F7D-4D89-8E45-1D52FFBA5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F2F461-5EC0-4F95-A7C7-7F2869752D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A2EB1-607D-4FBD-9210-61695737E3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418517-9567-41C4-A1B6-7C33D58EE4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E56394-BB5A-44BE-9AEC-234DA69FF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15B892-63A3-4FDC-9B5B-F8E3307AB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1C6F6-4C6C-4F30-A46A-8EFDACF68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51936-F9B7-466D-8FD6-12D21F5D0B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C2A1C1-179B-4F26-8EE4-56D50C624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A3B59-759A-4778-8D27-DF2F9017C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56EBC-23AF-435E-89E3-B2C1E2F68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2D8C65-CF9C-4D87-A7E2-A348A67F28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83BB79-E390-4A91-BD9E-52FA098BB6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639270-27B3-4A61-88CB-ED5769AEFE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0FB669-6BB1-41BE-AEB2-581D5E9FE2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C9BCAF-57B4-42EB-8EED-A0967D7AA8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02D722-90C5-47A3-8B30-566F7FFAFF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A5088-9DF6-4E8E-A125-5C26874DF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F31EDF-5597-4B52-AD3C-09BFAF42DE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318342-A1CE-4B48-9048-C8FB3F59FD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0FE648-C6CB-4F1A-9647-9E8C66E2D1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652B5-1335-4925-A6A3-3F6F8010D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D676D2-C917-4ACC-993C-05724AE296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F3DFA-570B-40B1-803C-8A57AF2F4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EB6099-8494-44B5-AEE8-8473D63F9C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A7598F-A0AC-49CF-9841-5D65E7E658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44924C-92DE-4977-BBAA-18E2FD32C0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E4A57C-7EA8-4289-A596-245DE16F4A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D6314-E26E-4122-83FC-3DCA07CB3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13B63-22F2-4594-B1E5-FDEAB02892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CF233-2ED7-4EC5-97C4-55BE2B41D9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589A83-D2A7-4887-BF8F-CEB2528D88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70B2A0-39CF-4036-8196-35A40D4CCE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2F159-D24B-4A37-BE54-B363A7F3FA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C39400-B1BD-4F4D-B51F-0B87F235EF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2EB111-ADCD-400F-9E42-315E40EE8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5BB55-0A7C-409E-A573-0AE22D380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F2CA30-D9C8-4B47-9DC1-E985C09C3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8D42ED-E1C0-4E9A-966F-E39A174CF7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9412F-1199-4D18-B4A1-B8DD80744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A7E73A-5D60-4136-96E9-54CAB899C8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5290F0-DD2D-4C90-8373-1416743A87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ABE6D3-4405-4C1E-98A3-D07181E8A5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F7436B-DFBC-4187-AE94-E70F3DFF5C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EAFA22-B348-48DB-8362-9E0AF65ADC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D23CA8-1B24-4DC2-97D3-CFA2E4D33B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CF5C15-C5FA-4D2B-AFF2-B1B093034F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B24C4-12C4-40ED-99B0-AEB0548BBE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478260-396D-4415-A5FC-A52F524C06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809B1C-ED42-44CB-BA55-42835EF941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BCFA-C5C5-4BFB-B6A1-97D9FADB8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30B3D8-E043-4FA5-8AB8-1C271DA59E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D8515C-081B-47BF-981F-4ED814D660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54C866-171B-4A23-996C-7757122859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6BB574-A46D-42CE-BA3C-E14EE18C00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0711DA-3072-40CF-91A0-BC9AF1AD74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942F3A-B54B-443C-A497-0392A17191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75FC3F-1EB0-4B5D-B8F0-4EB396282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586785-92D7-4600-B919-6995664B79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6CB622-ADF7-4A4C-8D82-E815BA067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3E4D0-CDB6-4DBB-BF9A-7172ECD6F2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591DA-D92A-4B62-B53C-6AB9E49E1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450549-6A04-4600-8E95-1040F56D11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A79C2-F8DB-494F-8E88-574FBB7F4A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B7EF4A-E70E-4513-9D13-A240923399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1AA6B0-0A5F-459E-8A76-293B3DF4E0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2D1422-8C3A-4148-A50D-E3A6CE23D3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722E4C-B415-4580-A4F0-DAD5E6ED1A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76E600-8470-4099-AF7E-705C969EBE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A99644-AFBC-404C-BBD7-EF899F8E38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DA620F-8197-482B-AE1D-2CCBD42900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FA7AD6-AFC3-4454-AE8E-9C1115B69C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0CFB4-FACC-4196-A437-CD25D4A77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5FEC72-DBE2-4FAF-89C4-6A309D0A30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0D84DF-BF3A-4CB5-9ED4-F3943C90A5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1046F4-45E1-4D1A-8538-6EAABC0467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E48BAB-B7DD-41B5-8010-C891EFDF74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01FA08-F67B-496E-A6FA-975F5B1E1E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2C84F2-1B7D-42D7-AEF0-E79C6C4AF3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988C58-9C3C-4826-B1D3-85C1E2EF81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DE6388-D3EA-4A41-A3E1-0045CEA210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0FD3B6-1605-4B64-A740-5B85F53B1C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D61424-A4F6-4C09-A13C-FAB10FC3B7C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wenckebachinstituut.nl/"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F011-F1AE-48C1-8812-8DC0AECB813D}" type="datetime">
              <a:rPr b="0" lang="nl-NL" sz="1200" spc="-1" strike="noStrike">
                <a:solidFill>
                  <a:srgbClr val="f77f00"/>
                </a:solidFill>
                <a:latin typeface="Calibri"/>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A682-2A57-4871-9EF0-4F3CD5A20C1F}"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9A83-7F3C-4ED9-81F5-8ADDF766F89F}"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B664-712A-463D-98DA-65B15A23D8EE}"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9562-5499-4726-976F-52B3150317D5}"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A495-CF31-4E30-BE1D-0F00416F22D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F37D-9222-4825-A63C-BA8FD95E558C}"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C052-5BC4-4AC8-973E-ED2D4F54BC86}"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a:hlinkClick r:id="rId3"/>
          </p:cNvPr>
          <p:cNvPicPr/>
          <p:nvPr/>
        </p:nvPicPr>
        <p:blipFill>
          <a:blip r:embed="rId4"/>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E26B-8660-43F4-A7D5-DCF547FD6FD2}"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364F-CEC0-4D70-AD6A-C10BA3A758DB}"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2844-9A5D-4E47-B94D-E92E133447FD}"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E854-4380-4016-8001-038AFEBA4B51}"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EC7C-A5F4-4B5F-8EA5-8F74D7A828D2}"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392F-5A04-401F-9BC7-4EEEFA6D1325}"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6887-6A77-4DAC-9DCE-C41C69BF83E7}"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2159-6581-4CE7-B436-0695ABCD9DA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985D-7B98-47CC-86A6-4103D807A414}"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B7A9-AB3F-495C-B7C5-728170E21FA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993A-B5BC-48B3-A61F-D9D051992BC1}"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DDD2-87BF-4349-BCC6-B17CDA712A95}"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E558-776D-418D-996D-ABF77B48CC93}"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7433-9910-40B6-836A-28D6A4752EBF}"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808A-5B0F-451B-907C-DBE4A960726D}"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F6A7-D6C5-41E7-B395-3B21D6DD163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2)</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515"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516"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18"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academie: kritische houding (1.37)</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_NeYDoR1J6I</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19"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B64E-31FA-4895-AAF7-0E669255DAD0}"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0" name="Picture 2" descr=""/>
          <p:cNvPicPr/>
          <p:nvPr/>
        </p:nvPicPr>
        <p:blipFill>
          <a:blip r:embed="rId1"/>
          <a:stretch/>
        </p:blipFill>
        <p:spPr>
          <a:xfrm>
            <a:off x="7570800" y="1494000"/>
            <a:ext cx="1243080" cy="7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Rol student en EBP (kwaliteitszorg)</a:t>
            </a:r>
            <a:endParaRPr b="1" lang="en-US" sz="3600" spc="-1" strike="noStrike">
              <a:solidFill>
                <a:srgbClr val="1a2b76"/>
              </a:solidFill>
              <a:latin typeface="Calibri"/>
            </a:endParaRPr>
          </a:p>
        </p:txBody>
      </p:sp>
      <p:pic>
        <p:nvPicPr>
          <p:cNvPr id="522" name="" descr=""/>
          <p:cNvPicPr/>
          <p:nvPr/>
        </p:nvPicPr>
        <p:blipFill>
          <a:blip r:embed="rId1"/>
          <a:stretch/>
        </p:blipFill>
        <p:spPr>
          <a:xfrm>
            <a:off x="628560" y="1825200"/>
            <a:ext cx="7886880" cy="4351320"/>
          </a:xfrm>
          <a:prstGeom prst="rect">
            <a:avLst/>
          </a:prstGeom>
          <a:ln w="0">
            <a:noFill/>
          </a:ln>
        </p:spPr>
      </p:pic>
      <p:sp>
        <p:nvSpPr>
          <p:cNvPr id="52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EBA6-4881-4AAC-9EF4-68746DB3D47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4" name="Picture 3" descr=""/>
          <p:cNvPicPr/>
          <p:nvPr/>
        </p:nvPicPr>
        <p:blipFill>
          <a:blip r:embed="rId2"/>
          <a:srcRect l="0" t="25495" r="0" b="0"/>
          <a:stretch/>
        </p:blipFill>
        <p:spPr>
          <a:xfrm>
            <a:off x="-7920" y="1773360"/>
            <a:ext cx="8978760" cy="4246560"/>
          </a:xfrm>
          <a:prstGeom prst="rect">
            <a:avLst/>
          </a:prstGeom>
          <a:ln w="0">
            <a:noFill/>
          </a:ln>
        </p:spPr>
      </p:pic>
      <p:sp>
        <p:nvSpPr>
          <p:cNvPr id="525" name="Tekstvak 1"/>
          <p:cNvSpPr/>
          <p:nvPr/>
        </p:nvSpPr>
        <p:spPr>
          <a:xfrm>
            <a:off x="26640" y="162864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arom EB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ttps://www.youtube.com/watch?v=cne7jq4w1x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3 niveaus in toepassen EBP in praktijk</a:t>
            </a:r>
            <a:endParaRPr b="1" lang="en-US" sz="3600" spc="-1" strike="noStrike">
              <a:solidFill>
                <a:srgbClr val="1a2b76"/>
              </a:solidFill>
              <a:latin typeface="Calibri"/>
            </a:endParaRPr>
          </a:p>
        </p:txBody>
      </p:sp>
      <p:sp>
        <p:nvSpPr>
          <p:cNvPr id="527" name=""/>
          <p:cNvSpPr txBox="1"/>
          <p:nvPr/>
        </p:nvSpPr>
        <p:spPr>
          <a:xfrm>
            <a:off x="628560" y="1341360"/>
            <a:ext cx="7886880" cy="48355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Expert</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zelfstandig 5 stappen van EBP doorlopen </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volgers en gebruikers helpen bij het zoeken naar en invoeren van evidence. </a:t>
            </a:r>
            <a:endParaRPr b="0" lang="en-US" sz="20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Bijv. verplegingswetenschappers en verpleegkundig specialis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Gebruiker</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p basis van een kritische vraag evidence based richtlijnen en andere evidence zoeken, beoordelen op kwaliteit en praktische toepasbaarheid en toepassen</a:t>
            </a:r>
            <a:endParaRPr b="0" lang="en-US" sz="20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Volger</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committeert zich aan de richtlijnen en instructies van gebruikers en experts. </a:t>
            </a:r>
            <a:endParaRPr b="0" lang="en-US" sz="2400" spc="-1" strike="noStrike">
              <a:solidFill>
                <a:srgbClr val="1a2b76"/>
              </a:solidFill>
              <a:latin typeface="Calibri"/>
            </a:endParaRPr>
          </a:p>
        </p:txBody>
      </p:sp>
      <p:sp>
        <p:nvSpPr>
          <p:cNvPr id="52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8F52-DF1F-467E-9B70-FCCD4C27939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29" name="Tekstvak 4"/>
          <p:cNvSpPr/>
          <p:nvPr/>
        </p:nvSpPr>
        <p:spPr>
          <a:xfrm>
            <a:off x="5666760" y="61959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eurskens,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Date Placeholder 3"/>
          <p:cNvSpPr/>
          <p:nvPr/>
        </p:nvSpPr>
        <p:spPr>
          <a:xfrm>
            <a:off x="684360" y="6021360"/>
            <a:ext cx="76176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E2445DB6-E2AB-4988-BDD2-15B72BBB13A3}"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2" name="PlaceHolder 1"/>
          <p:cNvSpPr>
            <a:spLocks noGrp="1"/>
          </p:cNvSpPr>
          <p:nvPr>
            <p:ph type="title"/>
          </p:nvPr>
        </p:nvSpPr>
        <p:spPr>
          <a:xfrm>
            <a:off x="468360" y="333000"/>
            <a:ext cx="815976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ea typeface="ＭＳ Ｐゴシック"/>
              </a:rPr>
              <a:t>EBP als proces</a:t>
            </a:r>
            <a:endParaRPr b="1" lang="en-US" sz="4400" spc="-1" strike="noStrike">
              <a:solidFill>
                <a:srgbClr val="1a2b76"/>
              </a:solidFill>
              <a:latin typeface="Calibri"/>
            </a:endParaRPr>
          </a:p>
        </p:txBody>
      </p:sp>
      <p:pic>
        <p:nvPicPr>
          <p:cNvPr id="533" name="Tijdelijke aanduiding voor inhoud 15" descr=""/>
          <p:cNvPicPr/>
          <p:nvPr/>
        </p:nvPicPr>
        <p:blipFill>
          <a:blip r:embed="rId1"/>
          <a:stretch/>
        </p:blipFill>
        <p:spPr>
          <a:xfrm>
            <a:off x="6480" y="1590840"/>
            <a:ext cx="8229600" cy="4535280"/>
          </a:xfrm>
          <a:prstGeom prst="rect">
            <a:avLst/>
          </a:prstGeom>
          <a:ln w="0">
            <a:noFill/>
          </a:ln>
        </p:spPr>
      </p:pic>
      <p:sp>
        <p:nvSpPr>
          <p:cNvPr id="534" name="TextBox 11"/>
          <p:cNvSpPr/>
          <p:nvPr/>
        </p:nvSpPr>
        <p:spPr>
          <a:xfrm>
            <a:off x="6588000" y="3573360"/>
            <a:ext cx="214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a:t>
            </a:r>
            <a:endParaRPr b="0" lang="en-US" sz="2400" spc="-1" strike="noStrike">
              <a:solidFill>
                <a:srgbClr val="000000"/>
              </a:solidFill>
              <a:latin typeface="Arial"/>
            </a:endParaRPr>
          </a:p>
        </p:txBody>
      </p:sp>
      <p:sp>
        <p:nvSpPr>
          <p:cNvPr id="535" name="TextBox 12"/>
          <p:cNvSpPr/>
          <p:nvPr/>
        </p:nvSpPr>
        <p:spPr>
          <a:xfrm>
            <a:off x="6084720" y="5229360"/>
            <a:ext cx="1928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https://www.youtube.com/watch?v=V37e2V1gfc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2 min</a:t>
            </a:r>
            <a:endParaRPr b="0" lang="en-US" sz="2400" spc="-1" strike="noStrike">
              <a:solidFill>
                <a:srgbClr val="000000"/>
              </a:solidFill>
              <a:latin typeface="Arial"/>
            </a:endParaRPr>
          </a:p>
        </p:txBody>
      </p:sp>
      <p:pic>
        <p:nvPicPr>
          <p:cNvPr id="536" name="Picture 14" descr="Schermafbeelding 2015-09-29 om 17"/>
          <p:cNvPicPr/>
          <p:nvPr/>
        </p:nvPicPr>
        <p:blipFill>
          <a:blip r:embed="rId2"/>
          <a:stretch/>
        </p:blipFill>
        <p:spPr>
          <a:xfrm>
            <a:off x="6372360" y="765000"/>
            <a:ext cx="2484360" cy="144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Richtlijnen en protocollen</a:t>
            </a:r>
            <a:endParaRPr b="1" lang="en-US" sz="4400" spc="-1" strike="noStrike">
              <a:solidFill>
                <a:srgbClr val="1a2b76"/>
              </a:solidFill>
              <a:latin typeface="Calibri"/>
            </a:endParaRPr>
          </a:p>
        </p:txBody>
      </p:sp>
      <p:sp>
        <p:nvSpPr>
          <p:cNvPr id="538"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ea typeface="ＭＳ Ｐゴシック"/>
              </a:rPr>
              <a:t>http://www.venvn.nl/themas/richtlijnen-en-protocollen</a:t>
            </a: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539" name="Picture 7" descr="protocollen"/>
          <p:cNvPicPr/>
          <p:nvPr/>
        </p:nvPicPr>
        <p:blipFill>
          <a:blip r:embed="rId1"/>
          <a:stretch/>
        </p:blipFill>
        <p:spPr>
          <a:xfrm>
            <a:off x="5867280" y="2205000"/>
            <a:ext cx="2513160" cy="2581200"/>
          </a:xfrm>
          <a:prstGeom prst="rect">
            <a:avLst/>
          </a:prstGeom>
          <a:ln w="0">
            <a:noFill/>
          </a:ln>
        </p:spPr>
      </p:pic>
      <p:pic>
        <p:nvPicPr>
          <p:cNvPr id="540" name="Picture 9" descr="menu_richtlijnen"/>
          <p:cNvPicPr/>
          <p:nvPr/>
        </p:nvPicPr>
        <p:blipFill>
          <a:blip r:embed="rId2"/>
          <a:stretch/>
        </p:blipFill>
        <p:spPr>
          <a:xfrm>
            <a:off x="1403280" y="27082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Richtlijnen en protocollen</a:t>
            </a:r>
            <a:endParaRPr b="1" lang="en-US" sz="4400" spc="-1" strike="noStrike">
              <a:solidFill>
                <a:srgbClr val="1a2b76"/>
              </a:solidFill>
              <a:latin typeface="Calibri"/>
            </a:endParaRPr>
          </a:p>
        </p:txBody>
      </p:sp>
      <p:sp>
        <p:nvSpPr>
          <p:cNvPr id="54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roepsvereniging verpleegkundigen en verzorgend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cportal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Algemee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pecialisme</a:t>
            </a:r>
            <a:endParaRPr b="0" lang="en-US" sz="24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32D5-DC2E-4C2E-BDCB-7FACF63FC85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44" name="Picture 3" descr=""/>
          <p:cNvPicPr/>
          <p:nvPr/>
        </p:nvPicPr>
        <p:blipFill>
          <a:blip r:embed="rId1"/>
          <a:stretch/>
        </p:blipFill>
        <p:spPr>
          <a:xfrm>
            <a:off x="6064200" y="2421000"/>
            <a:ext cx="2595600" cy="1439640"/>
          </a:xfrm>
          <a:prstGeom prst="rect">
            <a:avLst/>
          </a:prstGeom>
          <a:ln w="0">
            <a:noFill/>
          </a:ln>
        </p:spPr>
      </p:pic>
      <p:sp>
        <p:nvSpPr>
          <p:cNvPr id="545" name="AutoShape 5"/>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6" descr=""/>
          <p:cNvPicPr/>
          <p:nvPr/>
        </p:nvPicPr>
        <p:blipFill>
          <a:blip r:embed="rId2"/>
          <a:stretch/>
        </p:blipFill>
        <p:spPr>
          <a:xfrm>
            <a:off x="3714840" y="3284640"/>
            <a:ext cx="1714320" cy="1714320"/>
          </a:xfrm>
          <a:prstGeom prst="rect">
            <a:avLst/>
          </a:prstGeom>
          <a:ln w="0">
            <a:noFill/>
          </a:ln>
        </p:spPr>
      </p:pic>
      <p:sp>
        <p:nvSpPr>
          <p:cNvPr id="547"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0" descr=""/>
          <p:cNvPicPr/>
          <p:nvPr/>
        </p:nvPicPr>
        <p:blipFill>
          <a:blip r:embed="rId3"/>
          <a:stretch/>
        </p:blipFill>
        <p:spPr>
          <a:xfrm>
            <a:off x="390600" y="4581360"/>
            <a:ext cx="2178000" cy="1274760"/>
          </a:xfrm>
          <a:prstGeom prst="rect">
            <a:avLst/>
          </a:prstGeom>
          <a:ln w="0">
            <a:noFill/>
          </a:ln>
        </p:spPr>
      </p:pic>
      <p:pic>
        <p:nvPicPr>
          <p:cNvPr id="549" name="Picture 11" descr=""/>
          <p:cNvPicPr/>
          <p:nvPr/>
        </p:nvPicPr>
        <p:blipFill>
          <a:blip r:embed="rId4"/>
          <a:stretch/>
        </p:blipFill>
        <p:spPr>
          <a:xfrm>
            <a:off x="6073920" y="4005360"/>
            <a:ext cx="2628720" cy="1334880"/>
          </a:xfrm>
          <a:prstGeom prst="rect">
            <a:avLst/>
          </a:prstGeom>
          <a:ln w="0">
            <a:noFill/>
          </a:ln>
        </p:spPr>
      </p:pic>
      <p:pic>
        <p:nvPicPr>
          <p:cNvPr id="550" name="Picture 12" descr=""/>
          <p:cNvPicPr/>
          <p:nvPr/>
        </p:nvPicPr>
        <p:blipFill>
          <a:blip r:embed="rId5"/>
          <a:stretch/>
        </p:blipFill>
        <p:spPr>
          <a:xfrm>
            <a:off x="7583400" y="184320"/>
            <a:ext cx="1084320" cy="200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Steendam, W.</cp:lastModifiedBy>
  <dcterms:modified xsi:type="dcterms:W3CDTF">2021-02-01T09:31:14Z</dcterms:modified>
  <cp:revision>186</cp:revision>
  <dc:subject/>
  <dc:title>Dia 1</dc:title>
</cp:coreProperties>
</file>