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move the slide</a:t>
            </a:r>
            <a:endParaRPr b="1" lang="en-US" sz="4400" spc="-1" strike="noStrike">
              <a:solidFill>
                <a:srgbClr val="1a2b76"/>
              </a:solidFill>
              <a:latin typeface="Calibri"/>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FE34D-A8D0-48D3-AE65-9620550422C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02DD1-570A-45AD-9EFA-B3062A6AE9C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F2D20-0A3B-4CDE-8F94-55F782237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1086B-3DDE-4E53-BC3D-65BA7B05C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731573-1C11-4D61-8C22-F8F533DD4DB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5FD008-A4A4-41EF-BDB1-E4A175F8A6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39FA03-BC24-4F13-9BFA-3DE8C425FE2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B9C1DB-3470-4316-9874-676489604D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0BE952-01E5-48E4-A474-CD35ECEB6E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046253-0BF9-4033-B031-F668E80519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925AA9-8373-43AC-8659-E936EE0BC5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7365664-A4C4-42BE-9A75-8CDA47FA6C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7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D415A3F-6CAA-49B9-B328-B7AAF037F7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42188A5-B855-476A-9713-1C99F68CA6D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606F8-73A7-46A0-9364-0B4609957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75C440C-41B0-4C25-8C71-9EC79D0628C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892B425-CFED-4F00-9099-8F50813D0D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494DCC7-ED20-4444-B77E-63D8545AEEA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3B90B05-7282-486D-A222-7381AECCE3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25A035-50D3-408C-8223-15C2226840E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F84D44A-B1CF-4958-AD2A-E7C2F0B2A9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C6DEF03-6864-4855-90EB-AA6F300D6D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4A9A68-FEDE-442D-A18C-BC6705E814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992E322-3824-4B07-A180-7B7FD258B3C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B48F559-B966-4E4A-B68A-1110FAF6650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101FFC-6A0D-4651-8D0B-294CFA506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0A7B2BF-C389-4B30-AF4F-3B9052293CF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8936EE5-C30D-4D1D-ACA9-A1780DCB2CF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D88508E-8C77-4CC2-8973-94275711564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BAD03C-A4A7-4FED-AE29-AAA81A1CCEB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9FB95E1-FED3-4BDD-BC1C-0C176936DB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E34B21-94EE-4D65-B6A7-3C229BEA10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D5015F2-1664-493E-A0DE-ABE91D23031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383C3B-4993-4584-807A-7FB2165E9C7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D1B20CC-03F8-406F-83FA-1A6AC0AE6F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3D13D0E-4CBE-48E1-B229-D03CECBDA41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2CF925-060E-4520-A8A9-E5885523FC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DC5FFEB-23AE-4A6F-816E-0CECF93636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BF38FC7-9620-4D2F-A9B5-51B195F26C1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8BA8CA2-11FE-460E-B843-4B5D4DC67C2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888E334-BDC1-427D-8B3C-DBD2A6DCF79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C82E100-3C6F-4411-928E-8F0B563C73B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726D3B-33A8-4B8F-8504-062914CBC53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315425E-2A2F-4B48-A026-E6E00F5F06B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816438B-E94D-437B-909E-21B76990FA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51D274-0383-4EF7-B460-BFB351BD4B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91EBB21-ED53-4522-9E47-0BEA6FEED9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C8A3F4-7FF2-4EFC-A0B0-820471E4A5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1B6102-C6C7-454C-BAC3-33F1E672CD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B2C2A51-43A7-4595-9FB1-1B504DCD95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AEAC63D-0223-46A4-836E-FB247024F10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0AF543B-B379-4366-971E-86D75842B18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8705A66-242B-4BD0-9CB7-85E3B9A77EC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467981-AFA0-4DA5-975C-41F78BDB39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AFA305-1D4F-46FA-8EEE-C91F5636D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A14E40-556E-4B4C-B815-8A7E99126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D06461-40BD-442E-9D71-641F1CAB8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129B0-FF2E-491F-87DB-434F0C82E4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09FFEE-1962-4C5B-B3AC-C570BD298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E0A3F2-7D65-4C24-B937-0CE1C2A932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DC2CF-774C-47DC-BF15-D8A914011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1F19F1-1EFA-46FB-A96B-A3F430583B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2CFB33-8D31-4B02-89BF-6D731D8174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F61D8C-5D94-47E7-BFC3-912CCFAF25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A83871-BD8B-4F6A-8735-4C73F08498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448D7F-3773-42CB-B237-9B89671826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CE6B22-A24B-4DD3-8D4F-F5D06BD399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2979D9-CAAF-4867-A6C3-AC1747809E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632999-CEE2-42CE-806C-DEDA84A153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91F1F-A03A-4FDF-AA70-89BEC5C68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A49B28-190D-4E75-AC7D-1474A50488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021107-48C8-48D8-A90D-8FD66F9DA8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6683B9-BA9E-4A99-B6B9-43C8883F25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3BFFB8-E9A7-4C2C-8000-2C66D10D7A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4713B5-C883-4812-B1C9-B78D7F8FC9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E67E2A-D900-4E39-8D57-1FFA3698C2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42597C-AA86-4E45-878E-190270F5DD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DB6FDC-7518-47C9-9D38-ABB83743CF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5E538B-4BFD-4E67-92D4-0AAE19A977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A11280-7AE1-4305-B83F-C1EEB0148B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8159BA-602B-4D94-A705-B7C092E41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395D36-EDD5-4DA0-9880-55F7C23174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6AF637-794B-4FDF-A48A-18E1CA056C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4AA100-A6F6-4E94-BA2F-8BA0154FF1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F16C9C-64C5-40D3-8C2B-DE780424B7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7B3D8F-0291-48C6-A864-F1C37DB49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5C98A5-7797-4A80-AA76-3CCDFE42A1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8EE33B-968B-4AEE-8EAF-1711C14D135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80F564-A5C5-4AEB-A04C-22AA26A2C9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A642D9-FC4D-418D-8B66-4EB74B6032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C3C3DE-4778-4B2E-9D9E-4B358400B7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D193AC-82AE-4D80-BFB0-AE88478C36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0FEEC2-AD51-43D5-9226-44C8DF4B72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5235A2-3EB4-4055-847B-1A72BB386E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7C160B-0BCB-497C-B3E5-59C92DC4BC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A8EBDA6-0B66-4065-BF4F-57FAD759B7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26E841-CDF5-459D-9FA9-355C764584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20E76A-3681-41AA-A160-08CF2658CA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2790A0-F177-40CF-ACBF-B70125EBF0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0706EA-55EA-4A5B-8B00-66358CED79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7B9214-EAF2-479B-A4A9-26E9FEEBB0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7129BB-DE48-41A9-ABA0-297F9CAE63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E7E89-5338-450D-8607-78017E5627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93A766-C796-4DF3-AD4A-FA8F76C998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36F7A3-0504-4862-BBFD-DD1FD6DAD0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DAF1C5-8682-4AC3-BC44-88F063144D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8DF6BF-CBE3-40A7-AD56-5BAABAE529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84F353-9731-4DA4-90DC-3E7B664BE2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239269-28EF-42A8-B96B-E46EF3369C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93D7E3-5AA0-439E-BE5B-CA0CFEF5B5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594F8B-9183-4EB8-A6C4-56801A102A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68D8AC-0FD4-49CE-B179-C48D5A786E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117ACF-F717-4634-8464-6513E08972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57EEBF-2A01-41E0-8AB9-A693F7925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BBF423-8FA2-4B99-B12C-5FFAA03B2C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F21CFB5-9919-4C43-BB91-8E9067D2E1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C2EECE-E143-4B9B-B9B6-2879828D83C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F8B194-6EF4-4A66-AE3A-D2C11D4B61B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E83DF7-9597-4074-A351-073FFBFAA7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7EBD51-9B36-4F42-9AD9-8B77A14F38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6ABAC3-0DBD-45F6-9118-8D2285D82B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18B58B-8A46-441D-A7F0-9920D8EC8E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53E1DC-C2E4-4A69-985F-368AA0FF63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5F56BE-4306-4B91-84C1-1744668841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10428-93A9-4189-900A-FB88FBB93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D9E064-E68A-46CA-9057-F644B5D240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103967-92C3-4DC0-9DB8-8718C2B1D3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CC149C-2E84-4B53-9585-395229DB65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609AA9-0BA7-4470-9B11-9A9A15DC4E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BE9B19-4B3E-4B26-9967-DE9A01F6914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2CBD153-F87D-49D7-9D62-61EA33A025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85E9E3-B42A-46C2-9671-3DE03A7E35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F2AA5C-E37F-48CE-99E5-CE20D9D5E8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FDB3CA-F19B-4BD4-8680-C183D929C38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68AF24-AAE1-40CA-8AC5-56D68B8992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A4883-AF44-4306-80CC-1F837FF40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447AC9-0475-4009-B4F0-650B37AB1E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82FBA7-A3F6-4993-8542-4C8393E6C8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18B438-164F-4DC2-9045-CC5A5DCCF6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8D27DD-00F6-4302-9FD8-E1DE1EBD24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23771E-7A38-4832-AC11-C430458662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927EE5-1C9B-4372-9510-B03D8A5AE4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9432060-5F75-4240-8E3F-E656AABDE49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4D360EE-B538-42F9-9633-F91007381A1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F97718B-809E-4661-8334-B9B8522DE7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705466-D413-47C7-BA9C-5E46B3AD1C9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 name="PlaceHolder 3"/>
          <p:cNvSpPr>
            <a:spLocks noGrp="1"/>
          </p:cNvSpPr>
          <p:nvPr>
            <p:ph type="dt" idx="1"/>
          </p:nvPr>
        </p:nvSpPr>
        <p:spPr>
          <a:xfrm>
            <a:off x="2949120" y="6334200"/>
            <a:ext cx="142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177D7-78DE-4ECC-86C2-9E89686B4FA9}" type="datetime">
              <a:rPr b="0" lang="nl-NL" sz="1200" spc="-1" strike="noStrike">
                <a:solidFill>
                  <a:srgbClr val="f77f00"/>
                </a:solidFill>
                <a:latin typeface="Calibri"/>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34480" y="6338880"/>
            <a:ext cx="480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839A6-0440-477B-9B8F-0E01642A917D}" type="slidenum">
              <a:rPr b="0" lang="nl-NL" sz="1200" spc="-1" strike="noStrike">
                <a:solidFill>
                  <a:srgbClr val="f77f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Afbeelding 6" descr=""/>
          <p:cNvPicPr/>
          <p:nvPr/>
        </p:nvPicPr>
        <p:blipFill>
          <a:blip r:embed="rId2"/>
          <a:srcRect l="0" t="10481" r="0" b="7319"/>
          <a:stretch/>
        </p:blipFill>
        <p:spPr>
          <a:xfrm>
            <a:off x="66600" y="6176880"/>
            <a:ext cx="2644920" cy="681120"/>
          </a:xfrm>
          <a:prstGeom prst="rect">
            <a:avLst/>
          </a:prstGeom>
          <a:ln w="0">
            <a:noFill/>
          </a:ln>
        </p:spPr>
      </p:pic>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81" name="PlaceHolder 3"/>
          <p:cNvSpPr>
            <a:spLocks noGrp="1"/>
          </p:cNvSpPr>
          <p:nvPr>
            <p:ph type="dt" idx="28"/>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223F3-0419-417B-A199-275712843680}"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CAA09-7FB0-498D-B628-6D1A0D566D92}"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Afbeelding 6" descr=""/>
          <p:cNvPicPr/>
          <p:nvPr/>
        </p:nvPicPr>
        <p:blipFill>
          <a:blip r:embed="rId2"/>
          <a:srcRect l="0" t="10481" r="0" b="7319"/>
          <a:stretch/>
        </p:blipFill>
        <p:spPr>
          <a:xfrm>
            <a:off x="66600" y="6176880"/>
            <a:ext cx="2644920" cy="681120"/>
          </a:xfrm>
          <a:prstGeom prst="rect">
            <a:avLst/>
          </a:prstGeom>
          <a:ln w="0">
            <a:noFill/>
          </a:ln>
        </p:spPr>
      </p:pic>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23" name="PlaceHolder 3"/>
          <p:cNvSpPr>
            <a:spLocks noGrp="1"/>
          </p:cNvSpPr>
          <p:nvPr>
            <p:ph type="dt" idx="31"/>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27EC6-CD43-4942-960A-B592C42FA266}"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F0212-E276-4208-910F-C4FC77611968}"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Afbeelding 6" descr=""/>
          <p:cNvPicPr/>
          <p:nvPr/>
        </p:nvPicPr>
        <p:blipFill>
          <a:blip r:embed="rId2"/>
          <a:srcRect l="0" t="10481" r="0" b="7319"/>
          <a:stretch/>
        </p:blipFill>
        <p:spPr>
          <a:xfrm>
            <a:off x="66600" y="6176880"/>
            <a:ext cx="2644920" cy="681120"/>
          </a:xfrm>
          <a:prstGeom prst="rect">
            <a:avLst/>
          </a:prstGeom>
          <a:ln w="0">
            <a:noFill/>
          </a:ln>
        </p:spPr>
      </p:pic>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6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65" name="PlaceHolder 3"/>
          <p:cNvSpPr>
            <a:spLocks noGrp="1"/>
          </p:cNvSpPr>
          <p:nvPr>
            <p:ph type="dt" idx="3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5BAE1-9C0E-4B55-B2B4-D6E1285F4C67}"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440A1-285B-4DCD-BBD8-668DDCCFD792}"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6" descr=""/>
          <p:cNvPicPr/>
          <p:nvPr/>
        </p:nvPicPr>
        <p:blipFill>
          <a:blip r:embed="rId2"/>
          <a:stretch/>
        </p:blipFill>
        <p:spPr>
          <a:xfrm>
            <a:off x="0" y="0"/>
            <a:ext cx="7272360" cy="6858000"/>
          </a:xfrm>
          <a:prstGeom prst="rect">
            <a:avLst/>
          </a:prstGeom>
          <a:ln w="0">
            <a:noFill/>
          </a:ln>
        </p:spPr>
      </p:pic>
      <p:pic>
        <p:nvPicPr>
          <p:cNvPr id="42" name="Afbeelding 7" descr=""/>
          <p:cNvPicPr/>
          <p:nvPr/>
        </p:nvPicPr>
        <p:blipFill>
          <a:blip r:embed="rId3"/>
          <a:srcRect l="0" t="10481" r="0" b="7319"/>
          <a:stretch/>
        </p:blipFill>
        <p:spPr>
          <a:xfrm>
            <a:off x="66600" y="6176880"/>
            <a:ext cx="2644920" cy="681120"/>
          </a:xfrm>
          <a:prstGeom prst="rect">
            <a:avLst/>
          </a:prstGeom>
          <a:ln w="0">
            <a:noFill/>
          </a:ln>
        </p:spPr>
      </p:pic>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5" name="PlaceHolder 3"/>
          <p:cNvSpPr>
            <a:spLocks noGrp="1"/>
          </p:cNvSpPr>
          <p:nvPr>
            <p:ph type="dt" idx="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D4FC9-9CCC-42F6-BAEB-3087D8B21AFC}"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00617-FE39-4DAF-949E-F0237E18D57F}"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Afbeelding 6" descr=""/>
          <p:cNvPicPr/>
          <p:nvPr/>
        </p:nvPicPr>
        <p:blipFill>
          <a:blip r:embed="rId2"/>
          <a:srcRect l="0" t="10481" r="0" b="7319"/>
          <a:stretch/>
        </p:blipFill>
        <p:spPr>
          <a:xfrm>
            <a:off x="66600" y="6176880"/>
            <a:ext cx="2644920" cy="68112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87" name="PlaceHolder 3"/>
          <p:cNvSpPr>
            <a:spLocks noGrp="1"/>
          </p:cNvSpPr>
          <p:nvPr>
            <p:ph type="dt" idx="7"/>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B7BBC-01DC-467A-B6BF-FF6E7F2138FD}"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B9347-3B6D-4A96-AD49-4CA53BD5F9F3}"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Afbeelding 6" descr=""/>
          <p:cNvPicPr/>
          <p:nvPr/>
        </p:nvPicPr>
        <p:blipFill>
          <a:blip r:embed="rId2"/>
          <a:srcRect l="0" t="10481" r="0" b="7319"/>
          <a:stretch/>
        </p:blipFill>
        <p:spPr>
          <a:xfrm>
            <a:off x="66600" y="6176880"/>
            <a:ext cx="2644920" cy="68112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29" name="PlaceHolder 3"/>
          <p:cNvSpPr>
            <a:spLocks noGrp="1"/>
          </p:cNvSpPr>
          <p:nvPr>
            <p:ph type="dt" idx="10"/>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5E89F-DFB3-433D-B806-4D4C7426F966}"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331EC-0D54-46CB-B615-150F843D9504}"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Afbeelding 6" descr=""/>
          <p:cNvPicPr/>
          <p:nvPr/>
        </p:nvPicPr>
        <p:blipFill>
          <a:blip r:embed="rId2"/>
          <a:srcRect l="0" t="10481" r="0" b="7319"/>
          <a:stretch/>
        </p:blipFill>
        <p:spPr>
          <a:xfrm>
            <a:off x="66600" y="6176880"/>
            <a:ext cx="2644920" cy="681120"/>
          </a:xfrm>
          <a:prstGeom prst="rect">
            <a:avLst/>
          </a:prstGeom>
          <a:ln w="0">
            <a:noFill/>
          </a:ln>
        </p:spPr>
      </p:pic>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71" name="PlaceHolder 3"/>
          <p:cNvSpPr>
            <a:spLocks noGrp="1"/>
          </p:cNvSpPr>
          <p:nvPr>
            <p:ph type="dt" idx="13"/>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76F86-E826-423B-A5F9-ED7F07685A62}"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3AB84-C752-4BF5-9C40-1CFD2E310A00}"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Afbeelding 6" descr=""/>
          <p:cNvPicPr/>
          <p:nvPr/>
        </p:nvPicPr>
        <p:blipFill>
          <a:blip r:embed="rId2"/>
          <a:srcRect l="0" t="10481" r="0" b="7319"/>
          <a:stretch/>
        </p:blipFill>
        <p:spPr>
          <a:xfrm>
            <a:off x="66600" y="6176880"/>
            <a:ext cx="2644920" cy="681120"/>
          </a:xfrm>
          <a:prstGeom prst="rect">
            <a:avLst/>
          </a:prstGeom>
          <a:ln w="0">
            <a:noFill/>
          </a:ln>
        </p:spPr>
      </p:pic>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1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13" name="PlaceHolder 3"/>
          <p:cNvSpPr>
            <a:spLocks noGrp="1"/>
          </p:cNvSpPr>
          <p:nvPr>
            <p:ph type="dt" idx="16"/>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34C7D-83CC-4B97-B287-FDEB239CE1B8}"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CCDCD-9F08-4E49-ABAC-637F5633710D}"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Afbeelding 6" descr=""/>
          <p:cNvPicPr/>
          <p:nvPr/>
        </p:nvPicPr>
        <p:blipFill>
          <a:blip r:embed="rId2"/>
          <a:srcRect l="0" t="10481" r="0" b="7319"/>
          <a:stretch/>
        </p:blipFill>
        <p:spPr>
          <a:xfrm>
            <a:off x="66600" y="6176880"/>
            <a:ext cx="2644920" cy="681120"/>
          </a:xfrm>
          <a:prstGeom prst="rect">
            <a:avLst/>
          </a:prstGeom>
          <a:ln w="0">
            <a:noFill/>
          </a:ln>
        </p:spPr>
      </p:pic>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55" name="PlaceHolder 3"/>
          <p:cNvSpPr>
            <a:spLocks noGrp="1"/>
          </p:cNvSpPr>
          <p:nvPr>
            <p:ph type="dt" idx="19"/>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F8FA0-244A-4593-A9E5-E85C00A3121C}"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66F7-5C34-453D-BAEA-29CFF30944D7}"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Afbeelding 6" descr=""/>
          <p:cNvPicPr/>
          <p:nvPr/>
        </p:nvPicPr>
        <p:blipFill>
          <a:blip r:embed="rId2"/>
          <a:srcRect l="0" t="10481" r="0" b="7319"/>
          <a:stretch/>
        </p:blipFill>
        <p:spPr>
          <a:xfrm>
            <a:off x="66600" y="6176880"/>
            <a:ext cx="2644920" cy="681120"/>
          </a:xfrm>
          <a:prstGeom prst="rect">
            <a:avLst/>
          </a:prstGeom>
          <a:ln w="0">
            <a:noFill/>
          </a:ln>
        </p:spPr>
      </p:pic>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9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97" name="PlaceHolder 3"/>
          <p:cNvSpPr>
            <a:spLocks noGrp="1"/>
          </p:cNvSpPr>
          <p:nvPr>
            <p:ph type="dt" idx="22"/>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EF17A-086B-4D91-B151-43ECDA299FB2}"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1EB0A-B5E7-4CBE-8E06-B192CD95EFD7}"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Afbeelding 6" descr=""/>
          <p:cNvPicPr/>
          <p:nvPr/>
        </p:nvPicPr>
        <p:blipFill>
          <a:blip r:embed="rId2"/>
          <a:srcRect l="0" t="10481" r="0" b="7319"/>
          <a:stretch/>
        </p:blipFill>
        <p:spPr>
          <a:xfrm>
            <a:off x="66600" y="6176880"/>
            <a:ext cx="2644920" cy="68112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39" name="PlaceHolder 3"/>
          <p:cNvSpPr>
            <a:spLocks noGrp="1"/>
          </p:cNvSpPr>
          <p:nvPr>
            <p:ph type="dt" idx="25"/>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1943C-1318-43BB-8BAF-B2AC790E04FA}"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D8841-26AC-473D-BFC0-9B0547116FED}"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3)</a:t>
            </a:r>
            <a:endParaRPr b="1" lang="en-US" sz="6000" spc="-1" strike="noStrike">
              <a:solidFill>
                <a:srgbClr val="1a2b76"/>
              </a:solidFill>
              <a:latin typeface="Calibri"/>
            </a:endParaRPr>
          </a:p>
        </p:txBody>
      </p:sp>
      <p:sp>
        <p:nvSpPr>
          <p:cNvPr id="512"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513" name="Picture 6" descr="Schermafbeelding 2015-09-29 om 17"/>
          <p:cNvPicPr/>
          <p:nvPr/>
        </p:nvPicPr>
        <p:blipFill>
          <a:blip r:embed="rId1"/>
          <a:stretch/>
        </p:blipFill>
        <p:spPr>
          <a:xfrm>
            <a:off x="2340000" y="54936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2)</a:t>
            </a:r>
            <a:endParaRPr b="1" lang="en-US" sz="4400" spc="-1" strike="noStrike">
              <a:solidFill>
                <a:srgbClr val="1a2b76"/>
              </a:solidFill>
              <a:latin typeface="Calibri"/>
            </a:endParaRPr>
          </a:p>
        </p:txBody>
      </p:sp>
      <p:sp>
        <p:nvSpPr>
          <p:cNvPr id="539"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atiënten die na een laparotomie een tijdelijk stoma hebben, krijgen soms een plastic brug om retractie te voorkomen. Kan het gebruik van deze brug achterwege blijven, zodat de zelfzorg bij deze patiënten sneller kan starten? Verpleegkundigen in het Martini Ziekenhuis zochten het ui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0"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59FD8-17EA-41F6-BF2D-25647F466112}"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542"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      </a:t>
                      </a:r>
                      <a:r>
                        <a:rPr b="0" lang="nl-NL" sz="2000" spc="-1" strike="noStrike">
                          <a:solidFill>
                            <a:srgbClr val="ff9900"/>
                          </a:solidFill>
                          <a:latin typeface="Candara"/>
                        </a:rPr>
                        <a:t>Patiënt met (tijdelijk) stoma</a:t>
                      </a:r>
                      <a:r>
                        <a:rPr b="0" lang="nl-NL" sz="2000" spc="-1" strike="noStrike">
                          <a:solidFill>
                            <a:srgbClr val="44546a"/>
                          </a:solidFill>
                          <a:latin typeface="Candar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bruik van bru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en gebruik van brug)</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Zelfzorg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2)</a:t>
            </a:r>
            <a:endParaRPr b="1" lang="en-US" sz="4400" spc="-1" strike="noStrike">
              <a:solidFill>
                <a:srgbClr val="1a2b76"/>
              </a:solidFill>
              <a:latin typeface="Calibri"/>
            </a:endParaRPr>
          </a:p>
        </p:txBody>
      </p:sp>
      <p:sp>
        <p:nvSpPr>
          <p:cNvPr id="544"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atiënten die na een laparotomie een tijdelijk stoma hebben, krijgen soms een plastic brug om retractie te voorkomen. Kan het gebruik van deze brug achterwege blijven, zodat de zelfzorg bij deze patiënten sneller kan starten? Verpleegkundigen in het Martini Ziekenhuis zochten het ui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een plastic brug voor een stoma noodzakelijk?</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5"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37A7D-D197-4EDF-BE67-07751995958C}"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3)</a:t>
            </a:r>
            <a:endParaRPr b="1" lang="en-US" sz="4400" spc="-1" strike="noStrike">
              <a:solidFill>
                <a:srgbClr val="1a2b76"/>
              </a:solidFill>
              <a:latin typeface="Calibri"/>
            </a:endParaRPr>
          </a:p>
        </p:txBody>
      </p:sp>
      <p:sp>
        <p:nvSpPr>
          <p:cNvPr id="54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erpleegkundigen vragen zich af of het gebruik van de SBAR leidt tot een effectievere communicatie bij de patiëntenoverdrach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C64F2-8AE2-4571-8A89-2608134FF633}"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9"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550"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Interprofessionele communica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SB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geen SBA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Effectief</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3)</a:t>
            </a:r>
            <a:endParaRPr b="1" lang="en-US" sz="4400" spc="-1" strike="noStrike">
              <a:solidFill>
                <a:srgbClr val="1a2b76"/>
              </a:solidFill>
              <a:latin typeface="Calibri"/>
            </a:endParaRPr>
          </a:p>
        </p:txBody>
      </p:sp>
      <p:sp>
        <p:nvSpPr>
          <p:cNvPr id="552"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erpleegkundigen vragen zich af of het gebruik van de SBAR leidt tot een effectievere communicatie bij de patiëntenoverdracht.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Leidt overdragen met SBAR tot effectievere communicatie? </a:t>
            </a:r>
            <a:endParaRPr b="0" lang="en-US" sz="2800" spc="-1" strike="noStrike">
              <a:solidFill>
                <a:srgbClr val="1a2b76"/>
              </a:solidFill>
              <a:latin typeface="Calibri"/>
            </a:endParaRPr>
          </a:p>
        </p:txBody>
      </p:sp>
      <p:sp>
        <p:nvSpPr>
          <p:cNvPr id="55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845B-577A-49CE-AE8D-E74BA992149A}"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4)</a:t>
            </a:r>
            <a:endParaRPr b="1" lang="en-US" sz="4400" spc="-1" strike="noStrike">
              <a:solidFill>
                <a:srgbClr val="1a2b76"/>
              </a:solidFill>
              <a:latin typeface="Calibri"/>
            </a:endParaRPr>
          </a:p>
        </p:txBody>
      </p:sp>
      <p:sp>
        <p:nvSpPr>
          <p:cNvPr id="555"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Flushen van een infuus gebeurt vaak met heparine of natriumchloride. Het gebruik van heparine is echter niet risicoloos. De vraag is dan ook of NaCl 0,9% niet net zo effectief is.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56"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4A6DB-6152-404C-9172-73AF8ADF3384}"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558"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Infuus van patiënt flush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Met heparin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Met NaCl 0,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9900"/>
                          </a:solidFill>
                          <a:latin typeface="Candara"/>
                        </a:rPr>
                        <a:t>Effectief</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id naar vraagstelling (4)</a:t>
            </a:r>
            <a:endParaRPr b="1" lang="en-US" sz="4400" spc="-1" strike="noStrike">
              <a:solidFill>
                <a:srgbClr val="1a2b76"/>
              </a:solidFill>
              <a:latin typeface="Calibri"/>
            </a:endParaRPr>
          </a:p>
        </p:txBody>
      </p:sp>
      <p:sp>
        <p:nvSpPr>
          <p:cNvPr id="56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Flushen van een infuus gebeurt vaak met heparine of natriumchloride. Het gebruik van heparine is echter niet risicoloos. De vraag is dan ook of NaCl 0,9% niet net zo effectief is.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flushen met een heparine oplossing effectiever dan met NaCl 0,9%</a:t>
            </a:r>
            <a:endParaRPr b="0" lang="en-US" sz="2800" spc="-1" strike="noStrike">
              <a:solidFill>
                <a:srgbClr val="1a2b76"/>
              </a:solidFill>
              <a:latin typeface="Calibri"/>
            </a:endParaRPr>
          </a:p>
        </p:txBody>
      </p:sp>
      <p:sp>
        <p:nvSpPr>
          <p:cNvPr id="56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2FC10-B8DA-4BB4-B796-A1C4FD7812EC}"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bronnen</a:t>
            </a:r>
            <a:endParaRPr b="1" lang="en-US" sz="4400" spc="-1" strike="noStrike">
              <a:solidFill>
                <a:srgbClr val="1a2b76"/>
              </a:solidFill>
              <a:latin typeface="Calibri"/>
            </a:endParaRPr>
          </a:p>
        </p:txBody>
      </p:sp>
      <p:sp>
        <p:nvSpPr>
          <p:cNvPr id="56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Zoekmachines </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Internetgidsen</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Wikipedia</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Bibliotheek</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b80"/>
                </a:solidFill>
                <a:latin typeface="Calibri"/>
              </a:rPr>
              <a:t>Wetenschappelijke databases</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6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5AE6C-DC35-4ACE-8A73-C73EFBF663A7}"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65" name="Picture 1" descr=""/>
          <p:cNvPicPr/>
          <p:nvPr/>
        </p:nvPicPr>
        <p:blipFill>
          <a:blip r:embed="rId1"/>
          <a:stretch/>
        </p:blipFill>
        <p:spPr>
          <a:xfrm>
            <a:off x="5915160" y="2060640"/>
            <a:ext cx="2685960" cy="170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in de ziekenhuispraktijk </a:t>
            </a:r>
            <a:endParaRPr b="1" lang="en-US" sz="4400" spc="-1" strike="noStrike">
              <a:solidFill>
                <a:srgbClr val="1a2b76"/>
              </a:solidFill>
              <a:latin typeface="Calibri"/>
            </a:endParaRPr>
          </a:p>
        </p:txBody>
      </p:sp>
      <p:sp>
        <p:nvSpPr>
          <p:cNvPr id="515"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Mogen patiënten met een primair gesloten wond douch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usol bij open geïnfecteerde wond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rmte toedienen voor aanprikken infuus?</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isposable vernevelset elke dag vervang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 </a:t>
            </a:r>
            <a:r>
              <a:rPr b="0" lang="nl-NL" sz="2800" spc="-1" strike="noStrike">
                <a:solidFill>
                  <a:srgbClr val="1a2b76"/>
                </a:solidFill>
                <a:latin typeface="Calibri"/>
              </a:rPr>
              <a:t>kritische houding     &gt;        kwaliteit van zorg</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16"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2F3C9-9076-4E41-AAB0-8AC9FFC44BA6}"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17" name="Picture 2" descr=""/>
          <p:cNvPicPr/>
          <p:nvPr/>
        </p:nvPicPr>
        <p:blipFill>
          <a:blip r:embed="rId1"/>
          <a:stretch/>
        </p:blipFill>
        <p:spPr>
          <a:xfrm>
            <a:off x="7570800" y="1494000"/>
            <a:ext cx="1243080" cy="722160"/>
          </a:xfrm>
          <a:prstGeom prst="rect">
            <a:avLst/>
          </a:prstGeom>
          <a:ln w="0">
            <a:noFill/>
          </a:ln>
        </p:spPr>
      </p:pic>
      <p:sp>
        <p:nvSpPr>
          <p:cNvPr id="518" name="PIJL-OMHOOG 1"/>
          <p:cNvSpPr/>
          <p:nvPr/>
        </p:nvSpPr>
        <p:spPr>
          <a:xfrm>
            <a:off x="4486320" y="5224320"/>
            <a:ext cx="315720" cy="489240"/>
          </a:xfrm>
          <a:prstGeom prst="upArrow">
            <a:avLst>
              <a:gd name="adj1" fmla="val 50000"/>
              <a:gd name="adj2" fmla="val 50061"/>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machines (1)</a:t>
            </a:r>
            <a:endParaRPr b="1" lang="en-US" sz="4400" spc="-1" strike="noStrike">
              <a:solidFill>
                <a:srgbClr val="1a2b76"/>
              </a:solidFill>
              <a:latin typeface="Calibri"/>
            </a:endParaRPr>
          </a:p>
        </p:txBody>
      </p:sp>
      <p:sp>
        <p:nvSpPr>
          <p:cNvPr id="567" name=""/>
          <p:cNvSpPr txBox="1"/>
          <p:nvPr/>
        </p:nvSpPr>
        <p:spPr>
          <a:xfrm>
            <a:off x="628560" y="1825200"/>
            <a:ext cx="7886880" cy="49165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ea typeface="Arial"/>
              </a:rPr>
              <a:t>Geldigheid </a:t>
            </a:r>
            <a:r>
              <a:rPr b="0" lang="en-US" sz="2800" spc="-1" strike="noStrike">
                <a:solidFill>
                  <a:srgbClr val="002754"/>
                </a:solidFill>
                <a:latin typeface="Calibri"/>
                <a:ea typeface="Arial"/>
              </a:rPr>
              <a:t>	</a:t>
            </a:r>
            <a:r>
              <a:rPr b="0" lang="en-US" sz="2800" spc="-1" strike="noStrike">
                <a:solidFill>
                  <a:srgbClr val="5b9bd5"/>
                </a:solidFill>
                <a:latin typeface="Calibri"/>
                <a:ea typeface="Arial"/>
              </a:rPr>
              <a:t>is de inhoud onderbouwd?</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ea typeface="Arial"/>
              </a:rPr>
              <a:t>Actualiteit </a:t>
            </a:r>
            <a:r>
              <a:rPr b="0" lang="en-US" sz="2800" spc="-1" strike="noStrike">
                <a:solidFill>
                  <a:srgbClr val="002754"/>
                </a:solidFill>
                <a:latin typeface="Calibri"/>
                <a:ea typeface="Arial"/>
              </a:rPr>
              <a:t>	</a:t>
            </a:r>
            <a:r>
              <a:rPr b="0" lang="en-US" sz="2800" spc="-1" strike="noStrike">
                <a:solidFill>
                  <a:srgbClr val="5b9bd5"/>
                </a:solidFill>
                <a:latin typeface="Calibri"/>
                <a:ea typeface="Arial"/>
              </a:rPr>
              <a:t>is de inhoud up-to-date?</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Accuraatheid </a:t>
            </a:r>
            <a:r>
              <a:rPr b="0" lang="en-US" sz="2800" spc="-1" strike="noStrike">
                <a:solidFill>
                  <a:srgbClr val="002754"/>
                </a:solidFill>
                <a:latin typeface="Calibri"/>
              </a:rPr>
              <a:t>	</a:t>
            </a:r>
            <a:r>
              <a:rPr b="0" lang="en-US" sz="2800" spc="-1" strike="noStrike">
                <a:solidFill>
                  <a:srgbClr val="5b9bd5"/>
                </a:solidFill>
                <a:latin typeface="Calibri"/>
              </a:rPr>
              <a:t>is de informatie correct?</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Status </a:t>
            </a:r>
            <a:r>
              <a:rPr b="0" lang="en-US" sz="2800" spc="-1" strike="noStrike">
                <a:solidFill>
                  <a:srgbClr val="002754"/>
                </a:solidFill>
                <a:latin typeface="Calibri"/>
              </a:rPr>
              <a:t>	</a:t>
            </a:r>
            <a:r>
              <a:rPr b="0" lang="en-US" sz="2800" spc="-1" strike="noStrike">
                <a:solidFill>
                  <a:srgbClr val="002754"/>
                </a:solidFill>
                <a:latin typeface="Calibri"/>
              </a:rPr>
              <a:t>	</a:t>
            </a:r>
            <a:r>
              <a:rPr b="0" lang="en-US" sz="2800" spc="-1" strike="noStrike">
                <a:solidFill>
                  <a:srgbClr val="5b9bd5"/>
                </a:solidFill>
                <a:latin typeface="Calibri"/>
              </a:rPr>
              <a:t>hoe gezaghebbend is de bron?</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Volledigheid </a:t>
            </a:r>
            <a:r>
              <a:rPr b="0" lang="en-US" sz="2800" spc="-1" strike="noStrike">
                <a:solidFill>
                  <a:srgbClr val="002754"/>
                </a:solidFill>
                <a:latin typeface="Calibri"/>
              </a:rPr>
              <a:t>	</a:t>
            </a:r>
            <a:r>
              <a:rPr b="0" lang="en-US" sz="2800" spc="-1" strike="noStrike">
                <a:solidFill>
                  <a:srgbClr val="5b9bd5"/>
                </a:solidFill>
                <a:latin typeface="Calibri"/>
              </a:rPr>
              <a:t>is de informatie in zijn geheel en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in afgeronde vorm beschikbaar? </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754"/>
                </a:solidFill>
                <a:latin typeface="Calibri"/>
              </a:rPr>
              <a:t>Dekking </a:t>
            </a:r>
            <a:r>
              <a:rPr b="0" lang="en-US" sz="2800" spc="-1" strike="noStrike">
                <a:solidFill>
                  <a:srgbClr val="002754"/>
                </a:solidFill>
                <a:latin typeface="Calibri"/>
              </a:rPr>
              <a:t>	</a:t>
            </a:r>
            <a:r>
              <a:rPr b="0" lang="en-US" sz="2800" spc="-1" strike="noStrike">
                <a:solidFill>
                  <a:srgbClr val="002754"/>
                </a:solidFill>
                <a:latin typeface="Calibri"/>
              </a:rPr>
              <a:t>	</a:t>
            </a:r>
            <a:r>
              <a:rPr b="0" lang="en-US" sz="2800" spc="-1" strike="noStrike">
                <a:solidFill>
                  <a:srgbClr val="5b9bd5"/>
                </a:solidFill>
                <a:latin typeface="Calibri"/>
              </a:rPr>
              <a:t>wat is de reikwijdte en diepgang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	</a:t>
            </a:r>
            <a:r>
              <a:rPr b="0" lang="en-US" sz="2800" spc="-1" strike="noStrike">
                <a:solidFill>
                  <a:srgbClr val="5b9bd5"/>
                </a:solidFill>
                <a:latin typeface="Calibri"/>
              </a:rPr>
              <a:t>van de informatie?</a:t>
            </a: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6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3E7C0-B2A9-420D-A8AB-16C6FD5886AA}"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
        <p:nvSpPr>
          <p:cNvPr id="569" name="Tekstvak 4"/>
          <p:cNvSpPr/>
          <p:nvPr/>
        </p:nvSpPr>
        <p:spPr>
          <a:xfrm>
            <a:off x="6459120" y="611280"/>
            <a:ext cx="237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9900"/>
                </a:solidFill>
                <a:latin typeface="Arial"/>
                <a:ea typeface="ＭＳ Ｐゴシック"/>
              </a:rPr>
              <a:t>Kwaliteitscrite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84000" y="333360"/>
            <a:ext cx="788652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Zoekmachines (2)</a:t>
            </a:r>
            <a:endParaRPr b="1" lang="en-US" sz="4400" spc="-1" strike="noStrike">
              <a:solidFill>
                <a:srgbClr val="1a2b76"/>
              </a:solidFill>
              <a:latin typeface="Calibri"/>
            </a:endParaRPr>
          </a:p>
        </p:txBody>
      </p:sp>
      <p:sp>
        <p:nvSpPr>
          <p:cNvPr id="571"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www.scholar.google.com</a:t>
            </a:r>
            <a:endParaRPr b="0" lang="en-US" sz="24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Wetenschappelijke literatuur</a:t>
            </a:r>
            <a:endParaRPr b="0" lang="en-US" sz="24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Artikelen</a:t>
            </a:r>
            <a:endParaRPr b="0" lang="en-US" sz="20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Proefschriften</a:t>
            </a:r>
            <a:endParaRPr b="0" lang="en-US" sz="20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Boeken</a:t>
            </a:r>
            <a:endParaRPr b="0" lang="en-US" sz="20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Rangschikking op relevantie</a:t>
            </a:r>
            <a:endParaRPr b="0" lang="en-US" sz="24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b80"/>
                </a:solidFill>
                <a:latin typeface="Calibri"/>
              </a:rPr>
              <a:t>Nadeel</a:t>
            </a:r>
            <a:endParaRPr b="0" lang="en-US" sz="2400" spc="-1" strike="noStrike">
              <a:solidFill>
                <a:srgbClr val="1a2b76"/>
              </a:solidFill>
              <a:latin typeface="Calibri"/>
            </a:endParaRPr>
          </a:p>
          <a:p>
            <a:pPr lvl="1" marL="719280" indent="-262080">
              <a:lnSpc>
                <a:spcPct val="90000"/>
              </a:lnSpc>
              <a:spcBef>
                <a:spcPts val="499"/>
              </a:spcBef>
              <a:buClr>
                <a:srgbClr val="003b8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b80"/>
                </a:solidFill>
                <a:latin typeface="Calibri"/>
              </a:rPr>
              <a:t>Toegang tot full text artikelen beperkt</a:t>
            </a:r>
            <a:endParaRPr b="0" lang="en-US" sz="2000" spc="-1" strike="noStrike">
              <a:solidFill>
                <a:srgbClr val="1a2b76"/>
              </a:solidFill>
              <a:latin typeface="Calibri"/>
            </a:endParaRPr>
          </a:p>
          <a:p>
            <a:pPr marL="353880" indent="-353880">
              <a:lnSpc>
                <a:spcPct val="90000"/>
              </a:lnSpc>
              <a:spcBef>
                <a:spcPts val="1001"/>
              </a:spcBef>
              <a:buClr>
                <a:srgbClr val="003b8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sp>
        <p:nvSpPr>
          <p:cNvPr id="572"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7DB45-8CB7-403F-8CE0-FB2DF13BCD49}"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73" name="Picture 1" descr=""/>
          <p:cNvPicPr/>
          <p:nvPr/>
        </p:nvPicPr>
        <p:blipFill>
          <a:blip r:embed="rId1"/>
          <a:stretch/>
        </p:blipFill>
        <p:spPr>
          <a:xfrm>
            <a:off x="5867280" y="2421000"/>
            <a:ext cx="2847960" cy="1600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Medische wetenschappelijke databases</a:t>
            </a:r>
            <a:endParaRPr b="1" lang="en-US" sz="4400" spc="-1" strike="noStrike">
              <a:solidFill>
                <a:srgbClr val="1a2b76"/>
              </a:solidFill>
              <a:latin typeface="Calibri"/>
            </a:endParaRPr>
          </a:p>
        </p:txBody>
      </p:sp>
      <p:sp>
        <p:nvSpPr>
          <p:cNvPr id="575"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ubMed</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Up-to-date</a:t>
            </a:r>
            <a:endParaRPr b="0" lang="en-US" sz="2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76"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974F-CA2B-4B69-A926-7F95C4CF97BD}"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77" name="Picture 5" descr=""/>
          <p:cNvPicPr/>
          <p:nvPr/>
        </p:nvPicPr>
        <p:blipFill>
          <a:blip r:embed="rId1"/>
          <a:stretch/>
        </p:blipFill>
        <p:spPr>
          <a:xfrm>
            <a:off x="4427640" y="2133720"/>
            <a:ext cx="3543120" cy="1143000"/>
          </a:xfrm>
          <a:prstGeom prst="rect">
            <a:avLst/>
          </a:prstGeom>
          <a:ln w="0">
            <a:noFill/>
          </a:ln>
        </p:spPr>
      </p:pic>
      <p:pic>
        <p:nvPicPr>
          <p:cNvPr id="578" name="Picture 6" descr=""/>
          <p:cNvPicPr/>
          <p:nvPr/>
        </p:nvPicPr>
        <p:blipFill>
          <a:blip r:embed="rId2"/>
          <a:stretch/>
        </p:blipFill>
        <p:spPr>
          <a:xfrm>
            <a:off x="1908000" y="3309840"/>
            <a:ext cx="2867040" cy="219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Klinische onzekerheid</a:t>
            </a:r>
            <a:endParaRPr b="1" lang="en-US" sz="4400" spc="-1" strike="noStrike">
              <a:solidFill>
                <a:srgbClr val="1a2b76"/>
              </a:solidFill>
              <a:latin typeface="Calibri"/>
            </a:endParaRPr>
          </a:p>
        </p:txBody>
      </p:sp>
      <p:sp>
        <p:nvSpPr>
          <p:cNvPr id="52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an een </a:t>
            </a:r>
            <a:r>
              <a:rPr b="1" lang="nl-NL" sz="2800" spc="-1" strike="noStrike">
                <a:solidFill>
                  <a:srgbClr val="1a2b76"/>
                </a:solidFill>
                <a:latin typeface="Calibri"/>
              </a:rPr>
              <a:t>klinische onzekerheid</a:t>
            </a:r>
            <a:r>
              <a:rPr b="0" lang="nl-NL" sz="2800" spc="-1" strike="noStrike">
                <a:solidFill>
                  <a:srgbClr val="1a2b76"/>
                </a:solidFill>
                <a:latin typeface="Calibri"/>
              </a:rPr>
              <a:t> is sprake als iedereen </a:t>
            </a:r>
            <a:r>
              <a:rPr b="1" lang="nl-NL" sz="2800" spc="-1" strike="noStrike">
                <a:solidFill>
                  <a:srgbClr val="1a2b76"/>
                </a:solidFill>
                <a:latin typeface="Calibri"/>
              </a:rPr>
              <a:t>wat</a:t>
            </a:r>
            <a:r>
              <a:rPr b="0" lang="nl-NL" sz="2800" spc="-1" strike="noStrike">
                <a:solidFill>
                  <a:srgbClr val="1a2b76"/>
                </a:solidFill>
                <a:latin typeface="Calibri"/>
              </a:rPr>
              <a:t> anders doet, er twijfel is over een bestaande routinematige werkwijze of bij de invoering van nieuwe werkwijzen zonder enige onderbouwing</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21"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52C99-DCB1-488F-9181-03DF1B48C3B6}"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Klinische onzekerheid -&gt; beantwoordbare vraag</a:t>
            </a:r>
            <a:endParaRPr b="1" lang="en-US" sz="4400" spc="-1" strike="noStrike">
              <a:solidFill>
                <a:srgbClr val="1a2b76"/>
              </a:solidFill>
              <a:latin typeface="Calibri"/>
            </a:endParaRPr>
          </a:p>
        </p:txBody>
      </p:sp>
      <p:sp>
        <p:nvSpPr>
          <p:cNvPr id="52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1a2b76"/>
                </a:solidFill>
                <a:latin typeface="Calibri"/>
              </a:rPr>
              <a:t>Het proces van EBP begint allemaal met het stellen van een </a:t>
            </a:r>
            <a:r>
              <a:rPr b="1" i="1" lang="nl-NL" sz="2800" spc="-1" strike="noStrike">
                <a:solidFill>
                  <a:srgbClr val="1a2b76"/>
                </a:solidFill>
                <a:latin typeface="Calibri"/>
              </a:rPr>
              <a:t>beantwoordbare</a:t>
            </a:r>
            <a:r>
              <a:rPr b="1" lang="nl-NL" sz="2800" spc="-1" strike="noStrike">
                <a:solidFill>
                  <a:srgbClr val="1a2b76"/>
                </a:solidFill>
                <a:latin typeface="Calibri"/>
              </a:rPr>
              <a:t> vraag. Dat klinkt natuurlijk heel makkelijk, maar dat is het niet altijd. In de praktijk zijn we geneigd om te vragen of iets wel ‘nodig’ of ‘zinvol’ is, maar wat is de definitie van ‘nodig’ of ‘zinvol’?</a:t>
            </a:r>
            <a:endParaRPr b="0" lang="en-US" sz="2800" spc="-1" strike="noStrike">
              <a:solidFill>
                <a:srgbClr val="1a2b76"/>
              </a:solidFill>
              <a:latin typeface="Calibri"/>
            </a:endParaRPr>
          </a:p>
        </p:txBody>
      </p:sp>
      <p:sp>
        <p:nvSpPr>
          <p:cNvPr id="52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4E69E-CA93-468F-8E37-9B89B213679A}"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5" name=""/>
          <p:cNvGraphicFramePr/>
          <p:nvPr/>
        </p:nvGraphicFramePr>
        <p:xfrm>
          <a:off x="871560" y="2060640"/>
          <a:ext cx="7408800" cy="4383000"/>
        </p:xfrm>
        <a:graphic>
          <a:graphicData uri="http://schemas.openxmlformats.org/drawingml/2006/table">
            <a:tbl>
              <a:tblPr/>
              <a:tblGrid>
                <a:gridCol w="2405160"/>
                <a:gridCol w="5003640"/>
              </a:tblGrid>
              <a:tr h="1377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popula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populatie, zoals leeftijd, geslacht of diagnos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onderzochte interven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 die vergeleken wordt met de interventi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3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hoopt te bereiken  of welk effect de interventie voor de patiënt zou moeten hebb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26" name="Picture 27" descr="Beantwoordbare vraag =     P                   I                        C                       O                DomeinMan..."/>
          <p:cNvPicPr/>
          <p:nvPr/>
        </p:nvPicPr>
        <p:blipFill>
          <a:blip r:embed="rId1"/>
          <a:srcRect l="4964" t="7377" r="21552" b="59468"/>
          <a:stretch/>
        </p:blipFill>
        <p:spPr>
          <a:xfrm>
            <a:off x="2340000" y="404640"/>
            <a:ext cx="4465440" cy="1513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den naar vraagstelling (1)</a:t>
            </a:r>
            <a:endParaRPr b="1" lang="en-US" sz="4400" spc="-1" strike="noStrike">
              <a:solidFill>
                <a:srgbClr val="1a2b76"/>
              </a:solidFill>
              <a:latin typeface="Calibri"/>
            </a:endParaRPr>
          </a:p>
        </p:txBody>
      </p:sp>
      <p:sp>
        <p:nvSpPr>
          <p:cNvPr id="528"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voorhoofdsthermometer is eenvoudiger in gebruik dan de oorthermometer, en duurzamer. Verpleegkundigen vroegen zich af of beide methodes even nauwkeurig zijn.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29"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C8EB0-7583-4412-AE69-E02D9E541935}"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0"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graphicFrame>
        <p:nvGraphicFramePr>
          <p:cNvPr id="531" name=""/>
          <p:cNvGraphicFramePr/>
          <p:nvPr/>
        </p:nvGraphicFramePr>
        <p:xfrm>
          <a:off x="1187280" y="1197000"/>
          <a:ext cx="7409160" cy="5521320"/>
        </p:xfrm>
        <a:graphic>
          <a:graphicData uri="http://schemas.openxmlformats.org/drawingml/2006/table">
            <a:tbl>
              <a:tblPr/>
              <a:tblGrid>
                <a:gridCol w="2405160"/>
                <a:gridCol w="5004000"/>
              </a:tblGrid>
              <a:tr h="12218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patiënt/ problee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patiënt en/of problee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Meten lichaamstemperatuur</a:t>
                      </a:r>
                      <a:r>
                        <a:rPr b="0" lang="nl-NL" sz="2000" spc="-1" strike="noStrike">
                          <a:solidFill>
                            <a:srgbClr val="44546a"/>
                          </a:solidFill>
                          <a:latin typeface="Candara"/>
                        </a:rPr>
                        <a:t>                      </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toegepaste/ huidig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Oorthermome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92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co-interventie)</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de (evt.) andere/alternatieve interventi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Voorhoofdthermometer</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9640">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outcome/resulta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44546a"/>
                          </a:solidFill>
                          <a:latin typeface="Candara"/>
                        </a:rPr>
                        <a:t>Beschrijving van wat de paramedicus probeert te bereiken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Accuraathei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c000"/>
                          </a:solidFill>
                          <a:latin typeface="Candara"/>
                        </a:rPr>
                        <a:t>(betrouwbaarhei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an klinische onzekerheden naar vraagstelling (1)</a:t>
            </a:r>
            <a:endParaRPr b="1" lang="en-US" sz="4400" spc="-1" strike="noStrike">
              <a:solidFill>
                <a:srgbClr val="1a2b76"/>
              </a:solidFill>
              <a:latin typeface="Calibri"/>
            </a:endParaRPr>
          </a:p>
        </p:txBody>
      </p:sp>
      <p:sp>
        <p:nvSpPr>
          <p:cNvPr id="533"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e voorhoofdsthermometer is eenvoudiger in gebruik dan de oorthermometer, en duurzamer. Verpleegkundigen vroegen zich af of beide methodes even nauwkeurig zijn. </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s de voorhoofdthermometer accurater dan de oorthermometer?</a:t>
            </a:r>
            <a:endParaRPr b="0" lang="en-US" sz="2800" spc="-1" strike="noStrike">
              <a:solidFill>
                <a:srgbClr val="1a2b76"/>
              </a:solidFill>
              <a:latin typeface="Calibri"/>
            </a:endParaRPr>
          </a:p>
        </p:txBody>
      </p:sp>
      <p:sp>
        <p:nvSpPr>
          <p:cNvPr id="534"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F0820-B578-4CA5-983F-0CE834BBFAAB}"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Picture 19" descr="Beantwoordbare vraag =     P                   I                        C                       O                DomeinMan..."/>
          <p:cNvPicPr/>
          <p:nvPr/>
        </p:nvPicPr>
        <p:blipFill>
          <a:blip r:embed="rId1"/>
          <a:srcRect l="4964" t="7377" r="21552" b="59468"/>
          <a:stretch/>
        </p:blipFill>
        <p:spPr>
          <a:xfrm>
            <a:off x="2987640" y="0"/>
            <a:ext cx="3527640" cy="1195560"/>
          </a:xfrm>
          <a:prstGeom prst="rect">
            <a:avLst/>
          </a:prstGeom>
          <a:ln w="0">
            <a:noFill/>
          </a:ln>
        </p:spPr>
      </p:pic>
      <p:sp>
        <p:nvSpPr>
          <p:cNvPr id="536" name="PlaceHolder 1"/>
          <p:cNvSpPr>
            <a:spLocks noGrp="1"/>
          </p:cNvSpPr>
          <p:nvPr>
            <p:ph type="title"/>
          </p:nvPr>
        </p:nvSpPr>
        <p:spPr>
          <a:xfrm>
            <a:off x="179280" y="34920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nl-NL" sz="4400" spc="-1" strike="noStrike">
                <a:solidFill>
                  <a:srgbClr val="ff9900"/>
                </a:solidFill>
                <a:latin typeface="Calibri"/>
              </a:rPr>
              <a:t>Opdracht</a:t>
            </a:r>
            <a:r>
              <a:rPr b="1" lang="nl-NL" sz="4400" spc="-1" strike="noStrike">
                <a:solidFill>
                  <a:srgbClr val="003183"/>
                </a:solidFill>
                <a:latin typeface="Calibri"/>
              </a:rPr>
              <a:t> PICO formuleren </a:t>
            </a:r>
            <a:endParaRPr b="1" lang="en-US" sz="4400" spc="-1" strike="noStrike">
              <a:solidFill>
                <a:srgbClr val="1a2b76"/>
              </a:solidFill>
              <a:latin typeface="Calibri"/>
            </a:endParaRPr>
          </a:p>
        </p:txBody>
      </p:sp>
      <p:sp>
        <p:nvSpPr>
          <p:cNvPr id="537"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Vanuit klinische onzekerheden een PICO formuler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In 2- tallen een klinische vraag op het werkdocument omzetten in PICO’ s</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PICO methode leren gebruik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Tijd: 15 minuten</a:t>
            </a:r>
            <a:endParaRPr b="0" lang="en-US" sz="2800" spc="-1" strike="noStrike">
              <a:solidFill>
                <a:srgbClr val="1a2b76"/>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7:32:14Z</dcterms:created>
  <dc:creator>GroothM</dc:creator>
  <dc:description/>
  <dc:language>en-US</dc:language>
  <cp:lastModifiedBy>Steendam, W.</cp:lastModifiedBy>
  <dcterms:modified xsi:type="dcterms:W3CDTF">2021-01-31T16:26:41Z</dcterms:modified>
  <cp:revision>185</cp:revision>
  <dc:subject/>
  <dc:title>Dia 1</dc:title>
</cp:coreProperties>
</file>