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png" ContentType="image/png"/>
  <Override PartName="/ppt/media/image37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A01F-2788-4BD7-BEC6-68EA82D9D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AC09-1583-40D7-9580-1898DF100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820AF6-CA2C-4E56-8A8E-37F53F789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0C6F3C-FCB6-40D0-8647-2BD83468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EA5C16-9876-427D-A741-E4EDCD6D9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534B3A-B77C-4B16-B598-67A562B9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353BC28-FB8E-45F4-8DE3-41F5FA5FD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CBF93A0-78B5-476A-968D-3AC79740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B749B66-D00C-480A-B336-B5B03A25E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D4F641-2A9F-40CE-AA12-9A36CF663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B5C2F5-19D4-408D-AB37-7E07C8A3C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931C-596A-496F-8EED-EB91A2D12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C61-3B75-48AD-AEA5-D45CC3226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DEC2B2-1F4B-4D60-B57E-127BEDDE3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E7769-0F9B-4D76-9CE9-25324F17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8968ED-D3F5-42CA-AFEC-5472821D8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7396A-F9D7-42CC-ABB8-2E1841A5A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F78C38-4116-416B-BD75-C9B79163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42EACF-81C9-4FAF-B3EF-A2B16182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2497B9-C937-4E3B-AED6-2BD88D4F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B482-1631-46AB-A96D-68ACAD237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0140FD-55AE-4E9C-886A-6BE0C299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5028F1-BCBA-4256-992E-74215F4A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028EAE-04B6-40DB-AB83-19DDF9A5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C2F45-0180-4E45-AB0C-68B7B56F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13F1E7-E0B7-4489-853A-A32B1B02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5D635-03D5-4EFB-A20F-B6D7D2386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A950E-8567-4393-A0F8-5CE73EDC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BBADE5-D477-4F4B-B839-1A37D1B75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DCD42C-3666-4002-9D4F-E0DBFA122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B6F8D1-B837-4989-8461-A06AAB647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ACB2F-AB65-4D88-AB4B-5C7543105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76E59E-081B-4641-AC2F-F0202C4BC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E6314-D67B-44D2-8652-C36E745C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FC913D-7E20-4174-80B7-ED281232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15D44-22F5-4E16-9BAF-389A1FAF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FEEF5-3A79-4610-B6C9-55D74A137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9E48FF-80BC-40FC-A612-9B011CBFD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CA440-8DC0-405A-9090-D2725F6F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C672FA-5F2F-4567-A0CA-6417C97C1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53478D5-8184-496D-994A-B2A079AC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49B3C7-749C-4486-BF1C-7ACA7A2B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7288-6DD8-4E1F-A619-E18EA2FE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FB076B-22D0-4E17-A51C-B3CBAC24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11F295-4279-4B78-B91C-BE80907D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F338FFB-24D6-454F-B716-70031DBD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2DE840-B70A-4118-883E-7B197A47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BA401C-EFE9-4E00-AA12-924BC5670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7598B3-2596-4100-8A24-3D6B26AA9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726656-75C6-4BC5-AD3F-662CB51C0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6EE7E3-EEE2-41D7-8E94-45BB240FC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6EA3FF-9C95-4E05-8A5C-966AE456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685142-E7AB-4850-A72B-6EACD94ED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627-D22E-4FD0-8B79-108265336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FB83FE-CCBD-4F85-8A97-320C6265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4E8FDA-8C2E-42A3-B3FF-2C01E26BE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C9082-89FB-438F-974B-9B92EC922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28416-DFDB-4D7C-B9D7-751D7E07B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FB3E02-BC2D-4E34-B6F8-6CE94EED9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025CA-20A0-45EF-BF3C-84E41C90B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7ACB8-0336-46C9-8340-698D090D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013FAA-5B4E-412E-BA05-3A16BA1BE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5140A6-00AD-4B68-B52A-9D4133BF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6C208-D603-4DC1-9FF1-B304DF51E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ED33-9AC4-4036-8D8D-2BC253CFA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2B0AD-F319-410D-B34E-B735ADBFA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788E78-1CB1-4B4D-A219-5150402D5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24F60-40E9-403C-A141-BE73C902B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DCB27-E9A1-41BF-BFF2-FEB43FAD2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9ADB0D-F583-4A18-9768-20359187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7565A-F5CD-4A44-9F3A-B5CAD496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745804-E309-4BFE-A96C-3F5E497F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08D8E-82A7-4F46-9949-EA36FEB6A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F0CB4B-5634-4A4E-B52C-849619F5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AD825E-5141-4A1B-93E8-8565808FB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0D66-36F7-467D-9FFE-546D73BF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4D0D7-7B76-467F-AB14-2B05A747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8636EF-4676-4B57-8D54-4821A34B1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53625-C721-4308-8683-425CF385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1B86A-5B57-40AD-AD94-E24411975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D34E4D-0D47-4636-863A-1F4B9943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4489BE-73E8-4B7E-B1B7-3FBEEF7DB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4FACE-5C31-4335-A7EA-ACD65DD4E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ADD1B3-0831-4AE5-9CA2-3073E03F6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16AA02-C745-417A-8F49-4B49A7A6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210CC7-5739-47FA-B1EE-91DF32CE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9FCA-1F14-4ED5-A79E-DBD98EE1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08A9D-34E2-4EBB-B2EC-12B1A377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446FC-BF80-4BFB-8A75-A06068D2D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5D160-9042-49BD-9433-964E6206F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5F1E1-F7E8-46C0-BB2F-29FB79FB2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533A8A-D531-47DA-AA4D-89B5EE24C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86DC56C-D6E4-4B36-87B6-16006A11D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2A011E-0052-40C8-8BD4-969AD1C13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97EF52-B135-4ED4-A5F1-1A69E0969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DBA39E7-2E77-4132-B3D8-1BCB6ED6B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0339828-1473-47BB-AF3B-EFF7B8BB9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2CFA-2B43-498B-A80D-8DC8D206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98217B2-FBE6-4A6F-B60C-27AC5B76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DA8A3C3-B55C-4B44-9753-B611E8A3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D218D22-8394-4C28-AF0D-9A827D204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A36685C-3703-4B8B-97AA-30A9914E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149C033-D290-499D-B80F-0FE0077CA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EF5701-F060-4CA8-BB4C-446764C7A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93F7B0C-E9AF-4E4E-B94A-C51ABF837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982F78-8EE7-4D79-9B20-4C0001439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FEB2FFF-E253-49E1-AA5D-83A79AD84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D127EA5-1C11-4B71-9AFE-6151780F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80A3-D3D2-496E-8A64-AE9236788A3B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63807-DD37-4017-B809-FCD93ECEFB65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25AB9-B290-4E7E-B667-B50002E0D42A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06DF6-893D-4806-8E47-7F0C9BC54938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2E83-D017-42D1-A942-C48C08BDBEBB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4F68C-283D-4156-AAE0-8DBC6397E82C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7894-128B-4EF7-83CD-EC60609B21E8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AD3DE-0624-4DAF-A566-6018C50E8166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9A7A8-48FD-4B93-A7BF-33F7B6C35ECD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http://www.eediete.nl/keuken/pics/groenten.jpg"/>
          <p:cNvPicPr/>
          <p:nvPr/>
        </p:nvPicPr>
        <p:blipFill>
          <a:blip r:embed="rId3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  <p:pic>
        <p:nvPicPr>
          <p:cNvPr id="397" name="Afbeelding 2" descr=""/>
          <p:cNvPicPr/>
          <p:nvPr/>
        </p:nvPicPr>
        <p:blipFill>
          <a:blip r:embed="rId4"/>
          <a:stretch/>
        </p:blipFill>
        <p:spPr>
          <a:xfrm>
            <a:off x="2989440" y="4508640"/>
            <a:ext cx="2838240" cy="180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enetische manipulati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Afbeelding 2" descr=""/>
          <p:cNvPicPr/>
          <p:nvPr/>
        </p:nvPicPr>
        <p:blipFill>
          <a:blip r:embed="rId4"/>
          <a:stretch/>
        </p:blipFill>
        <p:spPr>
          <a:xfrm>
            <a:off x="571680" y="5084640"/>
            <a:ext cx="14032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7-01-26T12:59:40Z</dcterms:modified>
  <cp:revision>32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19;#Mecheline Lips-Maas</vt:lpwstr>
  </property>
  <property fmtid="{D5CDD505-2E9C-101B-9397-08002B2CF9AE}" pid="3" name="display_urn:schemas-microsoft-com:office:office#SharedWithUsers">
    <vt:lpwstr>Mecheline Lips-Maas</vt:lpwstr>
  </property>
</Properties>
</file>