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D00D6-00D5-42D1-97D2-2EBC5F926811}"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5AB9-9632-414E-A2C1-14B1E018D3D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31901-FA19-4056-AE26-2917581818D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6C21-4D44-4776-91C0-681D787BF9A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57ABF-422A-4051-9DA9-55A7B12A309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91D9-4A73-46E2-BF0E-D3BC4A764AA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9F6D8-1570-422B-834C-DBCAE0F15A2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F164-00BF-45B8-88BD-90928E03F71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A480-A858-443E-9A13-61DF8015C1B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95FD-DFD8-4513-A172-24699B62DBB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247C-1A6C-4EBC-932C-38674D87A5A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1450-7955-453E-9330-FD54C882CCA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2159-F283-41EE-BECE-EDAC71A7EA6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7F0B-85F1-40EC-BD1A-8D1AF778561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3FAF-CF60-42BB-9849-45B1EBE3F23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2DAC6-7127-4431-8CF5-40B0923F4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FB4B3-1E71-49B7-A536-0D10DEB86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FEBA8C-E005-43FB-BA8C-3968007BD8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FACA91-D78A-496B-9395-F7E2BF2D53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9E92E9-4D1A-4475-A6D7-0C37F783DD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12A5CD-2937-4984-AE40-98EC24EA16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82260A-1B22-4EEA-8E8F-D2F8319818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D22E33-BCC7-4C50-89B2-D405816271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C73ABF-9CDA-43C1-AA02-5DD4BA8C90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384211-59EC-4622-9B2E-D0DD8C258A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D4FFC2-3595-4433-8F7C-BE67EAB555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9D66E83-C3DD-4ECA-A0FD-5CFFDC612CB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F9CC4-CACE-47E0-BD10-55F43AF7F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27288B-7D0D-4287-95DD-DCA0670FDA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8D8A26-1FA5-4A99-8F5A-9ADC456B79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240E67-EF70-4419-8DE6-769FDFB9DF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AEDB88-FCCE-423B-AFDA-815229D403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4A39E3-8EE3-4564-B965-1ACAD91961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54FAF4-CDD8-44F0-8904-445DF567F1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22C790-6135-47A6-9457-A320F5FA3C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7A2DFC-A398-4C1A-BF0B-1B3F99D812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25DD37-6543-4E8F-B353-358AF1D345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848E506-6586-44DF-B03C-887359AA67B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F0625-4EE6-44B7-A60D-0D5FD1129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31D2A90-C96C-4D55-AA03-DD49ABD7746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D4B3E52-B0C3-41D1-98C0-0EB4894A108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27ED77-C0D8-42D5-8722-5047D042DC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9CC2BE-B782-4CBD-9391-D2056F3CFC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F0FAC5-FC1F-45BE-9FEB-D1E27CEB68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034658-3DB9-4254-B164-5A770838CD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BA7723-2E36-46F6-BEB5-F34C118C2D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E9CB02-90B1-4CF9-93EA-4E3551FE8F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8C369F-3636-4B03-9FBD-44111AD97C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DCE85C-70A1-4471-AB7E-B37375F4E2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FDE545-C841-4A83-8038-E54F5DB024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9BF74E-0560-4C73-A42F-A6ECFA3CAE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FC2502-FB2F-46D7-BC80-91C7ABCE510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F54A97C-F854-426E-8004-0419942C59C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A8750D1-2FD3-4024-9818-772F411086D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EF9FC6-3ED7-4F67-890B-62D69496E84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DE618F9-A17E-4C2C-87A3-0B25D22643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0170D1-57FE-4D52-81CA-A7C7975B2E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AC2201-8FB4-4615-AA2C-10106497D99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DA822BA-39C5-40CB-86E7-9E98CD4FFD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82F821-EB3F-4800-94C4-98C8F1CDCC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174BD-C6B5-4FF1-B1F0-E7BE36A56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6C45EF-9372-498E-8C87-E3795893CE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133C18-DC20-4E0E-8280-EED02D549F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D63E18-354E-400E-87E9-D4E576F7A5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EDBCC31-BFC1-461E-A0D2-6C41438E82E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582181E-EAC7-4D86-935A-2DC0DE9F2E8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8C852-9AD6-439E-8557-F1658F960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73496-1253-4D91-90EF-D47760A4F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03E1E-2615-4F68-81E8-4E20CD817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40CB4-99E5-49AF-808C-04A7F7D36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ABD95-7317-4F41-A320-EDE40BFE0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D0413-FD22-452F-93C0-9AD6A7DF5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8275A-B12D-4F47-9A4B-A227B0DA8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FED00-7BDA-49BA-9E61-6B7F99427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B2133-F466-49CF-AC71-E9C06A704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D6949D-0F9C-4285-B4C9-2CA3F73BA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97BF12-B97C-49F5-A7E3-663DB76F4C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398D7B-F341-45E5-9043-6B3025D648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EF517C-4100-4876-9356-23FF33B8CE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051EE9-86B1-452B-9260-C87C4C5CF5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07061D-425C-4614-9E89-B2D6AAAF2F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A20AA1-306A-4055-8AAE-5CC0337CDD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358FB-B65F-42B4-96F0-4EB497CC4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DE5322-D032-4C66-B945-671BA52BF3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2A65EF-B52D-4572-A1CD-B33C4CA023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E0DD2C-1E2E-4A82-9B10-D3AA4431E9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713B1E-2D95-4DFD-9E7E-458C9EC5EF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C4310E-9424-4A51-B2A9-8EBBD49680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5CB129-604A-4041-A8E9-78C509FF48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72489D-63C0-4343-86FC-41ED9A617A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1B1FAE-D5BA-40DA-B1E3-4CBA0473E4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71EB14-2D43-4BD1-9C50-27EB176772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AD61ED-B3B3-4C77-A9F6-68E5A1A899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B12BE-97C4-4408-A69B-7B9EC80D4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9FDF62-319A-4A6E-A8BB-5049B696B1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2542D4-6E64-441F-B822-8EA69C5C0F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3A38BC-F8F9-4E8B-9E9A-F84D206278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E70A67-4A5F-4AFC-9DC6-E1F8C02031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3AF8E3-4964-4A7E-A5E0-EBFB7B5270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889CDE-0778-452E-A4AE-49E5DDAF1D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770287-65C4-4881-B066-7870A422AA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DE6974-7D41-4686-9964-3322B4DFD5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E0194D-8029-4409-9F25-9553B65C51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DD3F64-B873-40B8-96B2-6301C09910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A869D-C0E0-44A7-BC29-E49C1D3C7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705038-512E-4EF4-8F03-801EE4FF88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F04A97-602B-487C-BB71-6FF72DA026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DB09F3-DA56-4490-A383-1D222B50BE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155A61-BE96-48F1-AE62-F75F623428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46687C-2CA1-4FD6-9891-F6F8E3E485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55D790-39D8-4582-90E1-8D4E2799E1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0F5AC8-D99F-433D-A3F2-12E8F5115C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F9CF8B-97CB-41E4-9B2E-3B7152864A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39DB18-ADD9-48A4-86B3-0F07B28EDE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E26C69-4EFF-4217-A861-6E7C5BC1FC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F61A2-1C45-4E06-9844-4A2215C67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24E9EE-E7C8-4BE3-BBD3-DDBC93A689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794D1E-B4F9-438D-A30B-00B49E0F15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CF8B30-9DF4-4AE7-A67C-348197211F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32C330-633E-4234-A4F1-BE7E2054D8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77BAC8-02AF-4E25-A24A-4E6910373D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4D5CA4-61D5-4299-A046-C6A0D2590C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D2BB4F-1C52-4E20-8940-DFCD734F35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A45363-46FC-4CD5-958E-CC565E6E5D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472C18-F0FE-4891-BF9F-BCC9B20924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C09FC1-AEC5-4872-A8F4-24CC506D4F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257BC-B053-459F-BD1D-B9FC0CA08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311D0E-5BE2-401B-91C5-82D0114558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AE5A24-D140-4429-ABC4-3DC888EB72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515286-3EEA-4DE6-8957-376FB4ADAE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08C057-BA32-4A23-99DA-F4670EEABA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01DE34-721F-4292-9F9F-74FFB6E7E8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67B63D-2837-4CAF-A0DD-A2CF2D2F53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86298B-FA4A-4382-971E-845A544D50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F2522B-97F7-4421-8EFE-B3F83F15B6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6E174B-93D7-4D92-BB7A-79490A4CA1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8E76B9-6B15-4D88-A615-EC98A0C0AA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D3224-54D0-4606-BE79-8236F6862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6F0906-A604-4C9E-8EE3-2DE5B2194B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F7CB6C-C816-4871-8868-766BBCF701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5E440A-43EF-4EC5-BE37-4D7749E233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CECE57-318A-4E19-94DC-DB1680BD27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4861FB-B3A6-4684-9B7E-1A336A1D65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75ED24-6A18-49A2-8D56-6954746696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33D97A-1F85-479B-92A7-13D2311E6F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6E4CCC-A74F-4D35-B766-6EDDBA6832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E862E6-3D03-4BF6-9361-2498F6443C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07EC99-4414-4D80-9FB1-017C81D21B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E1B64-A3F3-4E4A-A664-8E0048CCD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253480-C1C4-4DBA-A23F-9B50475267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AFDCE6-B967-4038-ACD4-D3BACE6984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B38CF2-CD43-44A6-8AAD-4BE8E1E371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8ED45C-EB38-4F8A-9A7D-2104710DF9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D9000F-B7F1-4807-8402-E724802352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EF4E8D-5538-4865-A300-EE60716914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756B24-5D44-4046-9CA9-87096FEEEC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0B88FA-671C-4106-853E-AB91306C86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E68D3D-F772-4C6D-9AE4-E165448EF6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E2E4A9-2769-414E-9ACA-9DC1A45240C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DE393-0F3B-4C6F-8CBF-104ACCB74EB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E7DED-07B8-4EA5-9369-EB1278D818D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F82D-BE20-4F77-895C-BB86107B12A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83BFE-EA72-4875-9FD8-C2BE126D522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1F68-3B97-4695-9DE0-1B64780BEB7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94DD-4535-419C-9876-4AE5EA532CF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90C3-9668-44C1-AED8-180F3E3F9D8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AB8E7-968F-4922-B622-B1E7252A8AE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8FB9-2BA0-4F4F-B007-542B3159CFF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4AEA5-723D-4C3F-82DE-14778BE43A2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4710E-DF06-47B2-83B2-0EFD9E053EC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BF784-575E-4F0E-8603-99EF5615B02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echeline Lips-Maas</cp:lastModifiedBy>
  <cp:lastPrinted>2012-02-03T12:52:21Z</cp:lastPrinted>
  <dcterms:modified xsi:type="dcterms:W3CDTF">2017-02-15T10:32:06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