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3.png" ContentType="image/png"/>
  <Override PartName="/ppt/media/image37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FB21-F9AD-4941-8511-1E2A1A64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3D52-EBFA-4E40-B526-4760CA90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A1748E-89EF-4A5E-8D11-FFF38BE0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48A1D5-2D26-4CB2-A859-C437BC19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BC9478-FCD9-4F94-A0DF-DA7D34EE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01D055-2B77-4228-9E39-4A8C334A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8B97E6-2109-4ACE-B81E-4B9C6F41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75D18E-A56E-4A3D-B54D-2A850F27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0D6267-BC71-4C1E-8634-4798E528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2510F2-E311-4BCB-BB15-FD528BC2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D903FC-549C-40A5-A651-6EF6C340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D7DC-CC6A-42A7-8AEA-539E4702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060F-C24F-48A6-A2D2-79480E92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280D2-E089-436B-B53F-A563918E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6015C-E83A-4044-9382-534E581B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D08DE-A2C1-441B-B257-D8D8814D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3E056-6106-46A6-B003-FD872F43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F88A8-F669-4267-B720-CEE435BA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02A05-0869-4373-B8F0-ADD96CFF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D6492-5767-4B41-B030-03A54787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AB1A-DDCA-4A50-9255-22CA8157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B33AA-FF94-4CE5-B053-F979DEC1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F3AB8-4AF9-4A13-A707-58B310C2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DDA32-AF4E-4220-BCC6-C9B7D7A8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DE0E4-C8E8-42C7-85EC-80C88EC6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B9AD1-B01B-409C-9A4D-243A3993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5DBB4-1EF0-4553-9F45-2CF5D8D8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50A41-9E98-4FB5-9ED5-B67C2EE1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ACCFC-71F0-43FE-A3DE-4613450B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9DF64-F9F2-43A9-9A09-BD3DAE81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AEE38-AC2C-48C8-9413-4CF982AB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DEBA-D28E-4DB7-B3D4-34405516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85D50-71AF-4931-AD4C-FFA1B7F8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E8DDD-57B7-4C19-9C6A-88DC2A2C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41557-920A-4085-9C63-46B2668B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90AB1-3928-4E07-911C-78D6C77B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E61FD-EAE3-4D26-9C36-D74BD90B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D078F-E95C-4ED3-A900-B14B3F98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CDAF5-861A-4D4B-B0CB-1521143D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B721E8-C3B0-451F-8567-1C136AC1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A70D81-754E-428B-9234-EB4C0A65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1493F7-383D-4FFB-8607-2134EBB6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49F9-ECAE-4654-B2F3-29614190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F6F578-894F-4C59-8E5C-65B8BB99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E1B2D6-480C-494D-8803-15144478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4A831F-B022-4D74-A5A9-91E69DD1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EAECDF-A306-4D21-B0EB-8A71C5F1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022FD9-7161-4BFB-A7FA-890775BF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069EF2-C7A8-4DDE-BB23-AC0A3D75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7FFAD1-F726-433A-8B1B-0B244875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066393-C5BA-49D7-B296-651245BB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EB5624-A505-4DD7-A506-2A4047CE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18AC5-45B7-4E43-A130-F471CEE7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96AD-696F-43E6-9C91-BC65EB24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9BFD1-D6CD-42F0-83AB-D1B84D55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5233F-42DF-4007-9326-A5D2B4CC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9E672-10BD-4162-8DB4-2CDF23F6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4015F-4387-4C94-BE4F-6CC2097A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F5FC3-EFA6-490D-AC93-85A7C246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610A5-CE63-4B8C-9350-417FFF92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2E42C-A073-4F5C-8E21-DABEEA40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2EEE1-59E4-4A98-873F-6BD49FE6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FA81F-C71E-434E-A47E-04992D28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76437-0171-4566-A96C-303EB6BC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0BE7-C567-4FEB-81B7-AB1EB6A4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CCFEF-7071-41DF-AFAD-6944A8C0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97B9B-538B-4848-B300-57D10F94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3929B-FDE0-4214-953C-A90BC128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F3B57-4C5F-4A05-BC3E-7199E01E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B14AF-CAF7-4E2E-B911-DF7448BA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A1CFA-AA1F-4978-9B99-4E95A1F5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19105-5A8E-4518-9257-66170B74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A1899-37CD-4797-9B83-A34C8696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2D5D7-8AB4-45B3-A413-E72F20B7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A5588-FF3C-48D5-8C17-9D60D0AC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19C4-480A-4562-95F2-3685FF89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5CE10-5FD0-415C-832C-7E6EADDB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9C4E6-9DD4-4EE4-A6C5-EFC6F828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0AE2F-FF42-4F1E-98F8-16114AEC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1F340-9585-499E-8EBE-EDB20C32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7AA2C-F2CB-476B-ABC0-8EBB1C28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759A8-895F-4DF0-8052-4AA93418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C356E-403B-4B93-A5C4-D58A32F9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397B9-0D67-4013-983C-612D0F97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AB25E-B151-4185-B2DE-479AC88B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5F252-384F-40DF-90EA-CD57264A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3A61-CAA1-4FF6-BDAC-35C814C4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D723A-AF05-4D98-B74C-EA899905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4375F-F7F8-4C33-AD59-39B96009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1E688-A17B-4C9B-A626-90B3785C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2C7FA-3DBA-4BAC-97B9-F2BF5071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61B51-BDCB-41C8-B553-C9F8DEA5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EE1C7B-1A62-4B55-9ED7-70E834E6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3E050A-AFBB-41BC-9D70-B5D74F0B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955C47-F30A-4E40-9981-04970E0A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5BBCF0-ADEE-4291-9A51-4770A765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4FC920-602A-4A25-B9B3-3A32AC63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86DC-E4A5-4C23-A17F-70E5C382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6EA9D1-6D20-4336-B506-759107EB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ED6FF5-57C2-4801-8269-A2E1AC3D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C91A57-B088-4A90-A4E0-A4310001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FFC67C-6DD3-4E37-8272-6AE8E9DF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3C6480-67A5-441B-9118-578AC277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2DAB86-59EF-4678-B15E-89E27BC4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F564C1-968D-49D8-9B75-30A6D29E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B6CDE5-F21C-4962-89F3-F3D6C633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6BCFAE-11B1-4256-9D16-EA657BE6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1A1C80-1D95-406C-9681-82A343BD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D2C6-A492-4E35-AE98-8F165B608283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nd diagonale hoek rechthoek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nd diagonale hoek rechthoek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18F8-89C4-4C48-9E8F-A6888E74E9D6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89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3B11-D266-47DB-A42F-15664473063D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6883-4123-45DF-85B0-E804D01888A6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76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F6D8-5EE7-41E8-B9A6-B1FCF7D94C4B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2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hthoek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hthoek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01D3-B446-4964-8B92-46F872E75E6C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67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A8A8-1DA4-4866-A0E1-7F8D7A0C5295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hthoek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7087-49FC-48A7-8DEB-6A45FD009B20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C556-7C0F-48F6-9484-1356448424F2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el 1" descr=""/>
          <p:cNvPicPr/>
          <p:nvPr/>
        </p:nvPicPr>
        <p:blipFill>
          <a:blip r:embed="rId1"/>
          <a:stretch/>
        </p:blipFill>
        <p:spPr>
          <a:xfrm>
            <a:off x="360360" y="573120"/>
            <a:ext cx="8229600" cy="1000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http://www.schoolbieb.nl/uploadedImages/images/Kenmerk/1911.jpg"/>
          <p:cNvPicPr/>
          <p:nvPr/>
        </p:nvPicPr>
        <p:blipFill>
          <a:blip r:embed="rId2"/>
          <a:stretch/>
        </p:blipFill>
        <p:spPr>
          <a:xfrm rot="20206800">
            <a:off x="5862600" y="2378160"/>
            <a:ext cx="2252880" cy="33894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http://www.eediete.nl/keuken/pics/groenten.jpg"/>
          <p:cNvPicPr/>
          <p:nvPr/>
        </p:nvPicPr>
        <p:blipFill>
          <a:blip r:embed="rId3"/>
          <a:stretch/>
        </p:blipFill>
        <p:spPr>
          <a:xfrm rot="677400">
            <a:off x="426600" y="3129120"/>
            <a:ext cx="2352600" cy="3136680"/>
          </a:xfrm>
          <a:prstGeom prst="rect">
            <a:avLst/>
          </a:prstGeom>
          <a:ln w="0">
            <a:noFill/>
          </a:ln>
        </p:spPr>
      </p:pic>
      <p:pic>
        <p:nvPicPr>
          <p:cNvPr id="397" name="Afbeelding 2" descr=""/>
          <p:cNvPicPr/>
          <p:nvPr/>
        </p:nvPicPr>
        <p:blipFill>
          <a:blip r:embed="rId4"/>
          <a:stretch/>
        </p:blipFill>
        <p:spPr>
          <a:xfrm>
            <a:off x="2989440" y="4508640"/>
            <a:ext cx="2838240" cy="180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el 1" descr=""/>
          <p:cNvPicPr/>
          <p:nvPr/>
        </p:nvPicPr>
        <p:blipFill>
          <a:blip r:embed="rId1"/>
          <a:stretch/>
        </p:blipFill>
        <p:spPr>
          <a:xfrm>
            <a:off x="285840" y="360360"/>
            <a:ext cx="8229600" cy="762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4288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kunstmest, alleen natuurlijke mes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0" name="Picture 2" descr="http://www.agripress.be/_STUDIOEMMA_UPLOADS/foto/artikel/1-gele_mosterd_agripress.jpg"/>
          <p:cNvPicPr/>
          <p:nvPr/>
        </p:nvPicPr>
        <p:blipFill>
          <a:blip r:embed="rId2"/>
          <a:stretch/>
        </p:blipFill>
        <p:spPr>
          <a:xfrm>
            <a:off x="6357960" y="4286160"/>
            <a:ext cx="1517760" cy="1876680"/>
          </a:xfrm>
          <a:prstGeom prst="rect">
            <a:avLst/>
          </a:prstGeom>
          <a:ln w="0">
            <a:noFill/>
          </a:ln>
        </p:spPr>
      </p:pic>
      <p:sp>
        <p:nvSpPr>
          <p:cNvPr id="401" name="Tekstvak 4"/>
          <p:cNvSpPr/>
          <p:nvPr/>
        </p:nvSpPr>
        <p:spPr>
          <a:xfrm>
            <a:off x="5786280" y="614376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f een groenbeme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4" descr="http://www.nlnatuur.nl/Album/2-Flora/Bloemen%20en%20Planten/slides/Rode%20klaver.jpg"/>
          <p:cNvPicPr/>
          <p:nvPr/>
        </p:nvPicPr>
        <p:blipFill>
          <a:blip r:embed="rId3"/>
          <a:stretch/>
        </p:blipFill>
        <p:spPr>
          <a:xfrm>
            <a:off x="357120" y="4429080"/>
            <a:ext cx="2633760" cy="1714680"/>
          </a:xfrm>
          <a:prstGeom prst="rect">
            <a:avLst/>
          </a:prstGeom>
          <a:ln w="0">
            <a:noFill/>
          </a:ln>
        </p:spPr>
      </p:pic>
      <p:sp>
        <p:nvSpPr>
          <p:cNvPr id="403" name="Tekstvak 6"/>
          <p:cNvSpPr/>
          <p:nvPr/>
        </p:nvSpPr>
        <p:spPr>
          <a:xfrm>
            <a:off x="285840" y="614376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linderbloemigen gebruiken voor stikst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6" descr="http://www.waterlandendijken.nl/images/content/foto%207%20ruige%20mest%20%5B1024x768%5D.JPG"/>
          <p:cNvPicPr/>
          <p:nvPr/>
        </p:nvPicPr>
        <p:blipFill>
          <a:blip r:embed="rId4"/>
          <a:stretch/>
        </p:blipFill>
        <p:spPr>
          <a:xfrm>
            <a:off x="357120" y="2071800"/>
            <a:ext cx="2428920" cy="1820880"/>
          </a:xfrm>
          <a:prstGeom prst="rect">
            <a:avLst/>
          </a:prstGeom>
          <a:ln w="0">
            <a:noFill/>
          </a:ln>
        </p:spPr>
      </p:pic>
      <p:sp>
        <p:nvSpPr>
          <p:cNvPr id="405" name="Tekstvak 8"/>
          <p:cNvSpPr/>
          <p:nvPr/>
        </p:nvSpPr>
        <p:spPr>
          <a:xfrm>
            <a:off x="357120" y="39290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uige strorijke m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8" descr="http://www.kraanbedrijfvanassem.nl/images/p002_1_00.png"/>
          <p:cNvPicPr/>
          <p:nvPr/>
        </p:nvPicPr>
        <p:blipFill>
          <a:blip r:embed="rId5"/>
          <a:stretch/>
        </p:blipFill>
        <p:spPr>
          <a:xfrm>
            <a:off x="3786120" y="2071800"/>
            <a:ext cx="2660760" cy="2000160"/>
          </a:xfrm>
          <a:prstGeom prst="rect">
            <a:avLst/>
          </a:prstGeom>
          <a:ln w="0">
            <a:noFill/>
          </a:ln>
        </p:spPr>
      </p:pic>
      <p:sp>
        <p:nvSpPr>
          <p:cNvPr id="407" name="Tekstvak 10"/>
          <p:cNvSpPr/>
          <p:nvPr/>
        </p:nvSpPr>
        <p:spPr>
          <a:xfrm>
            <a:off x="6643800" y="2643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comp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el 1" descr=""/>
          <p:cNvPicPr/>
          <p:nvPr/>
        </p:nvPicPr>
        <p:blipFill>
          <a:blip r:embed="rId1"/>
          <a:stretch/>
        </p:blipFill>
        <p:spPr>
          <a:xfrm>
            <a:off x="0" y="554040"/>
            <a:ext cx="8717040" cy="11224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0" name="Picture 2" descr="het schoffelen"/>
          <p:cNvPicPr/>
          <p:nvPr/>
        </p:nvPicPr>
        <p:blipFill>
          <a:blip r:embed="rId2"/>
          <a:stretch/>
        </p:blipFill>
        <p:spPr>
          <a:xfrm>
            <a:off x="714240" y="1714680"/>
            <a:ext cx="2190960" cy="1645920"/>
          </a:xfrm>
          <a:prstGeom prst="rect">
            <a:avLst/>
          </a:prstGeom>
          <a:ln w="0">
            <a:noFill/>
          </a:ln>
        </p:spPr>
      </p:pic>
      <p:sp>
        <p:nvSpPr>
          <p:cNvPr id="411" name="Tekstvak 4"/>
          <p:cNvSpPr/>
          <p:nvPr/>
        </p:nvSpPr>
        <p:spPr>
          <a:xfrm>
            <a:off x="642960" y="3500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schoff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4" descr="onkruidbrander"/>
          <p:cNvPicPr/>
          <p:nvPr/>
        </p:nvPicPr>
        <p:blipFill>
          <a:blip r:embed="rId3"/>
          <a:stretch/>
        </p:blipFill>
        <p:spPr>
          <a:xfrm>
            <a:off x="3571920" y="1714680"/>
            <a:ext cx="2262240" cy="1698480"/>
          </a:xfrm>
          <a:prstGeom prst="rect">
            <a:avLst/>
          </a:prstGeom>
          <a:ln w="0">
            <a:noFill/>
          </a:ln>
        </p:spPr>
      </p:pic>
      <p:sp>
        <p:nvSpPr>
          <p:cNvPr id="413" name="Tekstvak 6"/>
          <p:cNvSpPr/>
          <p:nvPr/>
        </p:nvSpPr>
        <p:spPr>
          <a:xfrm>
            <a:off x="3643200" y="3571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bran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6" descr="aanaarden"/>
          <p:cNvPicPr/>
          <p:nvPr/>
        </p:nvPicPr>
        <p:blipFill>
          <a:blip r:embed="rId4"/>
          <a:stretch/>
        </p:blipFill>
        <p:spPr>
          <a:xfrm>
            <a:off x="6357960" y="1714680"/>
            <a:ext cx="2282760" cy="1714320"/>
          </a:xfrm>
          <a:prstGeom prst="rect">
            <a:avLst/>
          </a:prstGeom>
          <a:ln w="0">
            <a:noFill/>
          </a:ln>
        </p:spPr>
      </p:pic>
      <p:sp>
        <p:nvSpPr>
          <p:cNvPr id="415" name="Tekstvak 8"/>
          <p:cNvSpPr/>
          <p:nvPr/>
        </p:nvSpPr>
        <p:spPr>
          <a:xfrm>
            <a:off x="6500880" y="35719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Aanaar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8" descr="http://www.koppert.nl/uploads/RTEmagicC_c22b2a56a4.jpg.jpg"/>
          <p:cNvPicPr/>
          <p:nvPr/>
        </p:nvPicPr>
        <p:blipFill>
          <a:blip r:embed="rId5"/>
          <a:stretch/>
        </p:blipFill>
        <p:spPr>
          <a:xfrm>
            <a:off x="1000080" y="4357800"/>
            <a:ext cx="1214640" cy="1228680"/>
          </a:xfrm>
          <a:prstGeom prst="rect">
            <a:avLst/>
          </a:prstGeom>
          <a:ln w="0">
            <a:noFill/>
          </a:ln>
        </p:spPr>
      </p:pic>
      <p:sp>
        <p:nvSpPr>
          <p:cNvPr id="417" name="Tekstvak 10"/>
          <p:cNvSpPr/>
          <p:nvPr/>
        </p:nvSpPr>
        <p:spPr>
          <a:xfrm>
            <a:off x="714240" y="59292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Lieveheersbeestje tegen bladlu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10" descr="http://www.koppert.nl/uploads/RTEmagicC_c360a1d610.jpg.jpg"/>
          <p:cNvPicPr/>
          <p:nvPr/>
        </p:nvPicPr>
        <p:blipFill>
          <a:blip r:embed="rId6"/>
          <a:stretch/>
        </p:blipFill>
        <p:spPr>
          <a:xfrm>
            <a:off x="5143680" y="4357800"/>
            <a:ext cx="1442880" cy="1143000"/>
          </a:xfrm>
          <a:prstGeom prst="rect">
            <a:avLst/>
          </a:prstGeom>
          <a:ln w="0">
            <a:noFill/>
          </a:ln>
        </p:spPr>
      </p:pic>
      <p:sp>
        <p:nvSpPr>
          <p:cNvPr id="419" name="Tekstvak 12"/>
          <p:cNvSpPr/>
          <p:nvPr/>
        </p:nvSpPr>
        <p:spPr>
          <a:xfrm>
            <a:off x="5286240" y="58579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oof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12" descr="http://www.koppert.nl/uploads/RTEmagicC_6609ea817a.jpg.jpg"/>
          <p:cNvPicPr/>
          <p:nvPr/>
        </p:nvPicPr>
        <p:blipFill>
          <a:blip r:embed="rId7"/>
          <a:stretch/>
        </p:blipFill>
        <p:spPr>
          <a:xfrm>
            <a:off x="6858000" y="4357800"/>
            <a:ext cx="1882800" cy="1162080"/>
          </a:xfrm>
          <a:prstGeom prst="rect">
            <a:avLst/>
          </a:prstGeom>
          <a:ln w="0">
            <a:noFill/>
          </a:ln>
        </p:spPr>
      </p:pic>
      <p:sp>
        <p:nvSpPr>
          <p:cNvPr id="421" name="Tekstvak 14"/>
          <p:cNvSpPr/>
          <p:nvPr/>
        </p:nvSpPr>
        <p:spPr>
          <a:xfrm>
            <a:off x="7000920" y="58579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luip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el 1" descr=""/>
          <p:cNvPicPr/>
          <p:nvPr/>
        </p:nvPicPr>
        <p:blipFill>
          <a:blip r:embed="rId1"/>
          <a:stretch/>
        </p:blipFill>
        <p:spPr>
          <a:xfrm>
            <a:off x="1646280" y="500040"/>
            <a:ext cx="5754600" cy="755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ingrepen aan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4" name="Picture 2" descr="http://www.demeter-bd.nl/Images/KoeMetHorens.jpg"/>
          <p:cNvPicPr/>
          <p:nvPr/>
        </p:nvPicPr>
        <p:blipFill>
          <a:blip r:embed="rId2"/>
          <a:stretch/>
        </p:blipFill>
        <p:spPr>
          <a:xfrm>
            <a:off x="1000080" y="3000240"/>
            <a:ext cx="1500120" cy="1500480"/>
          </a:xfrm>
          <a:prstGeom prst="rect">
            <a:avLst/>
          </a:prstGeom>
          <a:ln w="0">
            <a:noFill/>
          </a:ln>
        </p:spPr>
      </p:pic>
      <p:sp>
        <p:nvSpPr>
          <p:cNvPr id="425" name="Tekstvak 4"/>
          <p:cNvSpPr/>
          <p:nvPr/>
        </p:nvSpPr>
        <p:spPr>
          <a:xfrm>
            <a:off x="500040" y="48578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niet onthoor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4" descr="http://www.willemwever.nl/gxnc/ZyxhvtpHoB.jpeg"/>
          <p:cNvPicPr/>
          <p:nvPr/>
        </p:nvPicPr>
        <p:blipFill>
          <a:blip r:embed="rId3"/>
          <a:stretch/>
        </p:blipFill>
        <p:spPr>
          <a:xfrm>
            <a:off x="3357720" y="314316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427" name="Tekstvak 6"/>
          <p:cNvSpPr/>
          <p:nvPr/>
        </p:nvSpPr>
        <p:spPr>
          <a:xfrm>
            <a:off x="3214800" y="48578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taarten coup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8" descr="CSC_1825.jpg image by bretonniaholland"/>
          <p:cNvPicPr/>
          <p:nvPr/>
        </p:nvPicPr>
        <p:blipFill>
          <a:blip r:embed="rId4"/>
          <a:stretch/>
        </p:blipFill>
        <p:spPr>
          <a:xfrm>
            <a:off x="6357960" y="321480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9"/>
          <p:cNvSpPr/>
          <p:nvPr/>
        </p:nvSpPr>
        <p:spPr>
          <a:xfrm>
            <a:off x="6286680" y="4857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navels kap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el 1" descr=""/>
          <p:cNvPicPr/>
          <p:nvPr/>
        </p:nvPicPr>
        <p:blipFill>
          <a:blip r:embed="rId1"/>
          <a:stretch/>
        </p:blipFill>
        <p:spPr>
          <a:xfrm>
            <a:off x="1427040" y="360360"/>
            <a:ext cx="6070680" cy="8287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Zo hoog mogelijk welzijn voor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2" name="Picture 2" descr="http://web.methodus.nl/~vangin/uploads/varken.jpg_50.jpg"/>
          <p:cNvPicPr/>
          <p:nvPr/>
        </p:nvPicPr>
        <p:blipFill>
          <a:blip r:embed="rId2"/>
          <a:stretch/>
        </p:blipFill>
        <p:spPr>
          <a:xfrm>
            <a:off x="642960" y="2857680"/>
            <a:ext cx="2214720" cy="1444320"/>
          </a:xfrm>
          <a:prstGeom prst="rect">
            <a:avLst/>
          </a:prstGeom>
          <a:ln w="0">
            <a:noFill/>
          </a:ln>
        </p:spPr>
      </p:pic>
      <p:sp>
        <p:nvSpPr>
          <p:cNvPr id="433" name="Tekstvak 4"/>
          <p:cNvSpPr/>
          <p:nvPr/>
        </p:nvSpPr>
        <p:spPr>
          <a:xfrm>
            <a:off x="571680" y="4429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Buiten scharr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http://www.ziezo.biz/media/default.aspx/emma/org/10339433/kippen.jpg"/>
          <p:cNvPicPr/>
          <p:nvPr/>
        </p:nvPicPr>
        <p:blipFill>
          <a:blip r:embed="rId3"/>
          <a:stretch/>
        </p:blipFill>
        <p:spPr>
          <a:xfrm>
            <a:off x="3571920" y="2786040"/>
            <a:ext cx="2100240" cy="1500120"/>
          </a:xfrm>
          <a:prstGeom prst="rect">
            <a:avLst/>
          </a:prstGeom>
          <a:ln w="0">
            <a:noFill/>
          </a:ln>
        </p:spPr>
      </p:pic>
      <p:sp>
        <p:nvSpPr>
          <p:cNvPr id="435" name="Tekstvak 6"/>
          <p:cNvSpPr/>
          <p:nvPr/>
        </p:nvSpPr>
        <p:spPr>
          <a:xfrm>
            <a:off x="5715000" y="300024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ok in de stal meer ruimte, daglicht, verse lucht en stroois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6" descr="http://www.obio.nl/obiofotos/albums/2009-09-19Septemberneisimmer/CRW_3916.jpg"/>
          <p:cNvPicPr/>
          <p:nvPr/>
        </p:nvPicPr>
        <p:blipFill>
          <a:blip r:embed="rId4"/>
          <a:stretch/>
        </p:blipFill>
        <p:spPr>
          <a:xfrm>
            <a:off x="5929200" y="4857840"/>
            <a:ext cx="2475000" cy="1643040"/>
          </a:xfrm>
          <a:prstGeom prst="rect">
            <a:avLst/>
          </a:prstGeom>
          <a:ln w="0">
            <a:noFill/>
          </a:ln>
        </p:spPr>
      </p:pic>
      <p:sp>
        <p:nvSpPr>
          <p:cNvPr id="437" name="Tekstvak 8"/>
          <p:cNvSpPr/>
          <p:nvPr/>
        </p:nvSpPr>
        <p:spPr>
          <a:xfrm>
            <a:off x="3786120" y="50720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verplich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‘</a:t>
            </a: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 zomers in de we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el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mijn hooilandje - my hay meadow by AnneTanne."/>
          <p:cNvPicPr/>
          <p:nvPr/>
        </p:nvPicPr>
        <p:blipFill>
          <a:blip r:embed="rId2"/>
          <a:stretch/>
        </p:blipFill>
        <p:spPr>
          <a:xfrm>
            <a:off x="785880" y="1714680"/>
            <a:ext cx="2044800" cy="1357200"/>
          </a:xfrm>
          <a:prstGeom prst="rect">
            <a:avLst/>
          </a:prstGeom>
          <a:ln w="0">
            <a:noFill/>
          </a:ln>
        </p:spPr>
      </p:pic>
      <p:sp>
        <p:nvSpPr>
          <p:cNvPr id="440" name="Tekstvak 4"/>
          <p:cNvSpPr/>
          <p:nvPr/>
        </p:nvSpPr>
        <p:spPr>
          <a:xfrm>
            <a:off x="642960" y="32860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eel kruiden in gras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" descr="http://www.borsele.nl/upload/bd2dc07a-d787-4c0b-ac17-95c039e6d452_vlinders.jpg"/>
          <p:cNvPicPr/>
          <p:nvPr/>
        </p:nvPicPr>
        <p:blipFill>
          <a:blip r:embed="rId3"/>
          <a:stretch/>
        </p:blipFill>
        <p:spPr>
          <a:xfrm>
            <a:off x="4357800" y="1643040"/>
            <a:ext cx="1838160" cy="13748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Jufferresize.jpg image by demona000"/>
          <p:cNvPicPr/>
          <p:nvPr/>
        </p:nvPicPr>
        <p:blipFill>
          <a:blip r:embed="rId4"/>
          <a:stretch/>
        </p:blipFill>
        <p:spPr>
          <a:xfrm>
            <a:off x="6643800" y="1571760"/>
            <a:ext cx="1199880" cy="1546200"/>
          </a:xfrm>
          <a:prstGeom prst="rect">
            <a:avLst/>
          </a:prstGeom>
          <a:ln w="0">
            <a:noFill/>
          </a:ln>
        </p:spPr>
      </p:pic>
      <p:sp>
        <p:nvSpPr>
          <p:cNvPr id="443" name="Tekstvak 8"/>
          <p:cNvSpPr/>
          <p:nvPr/>
        </p:nvSpPr>
        <p:spPr>
          <a:xfrm>
            <a:off x="4286160" y="32860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Daardoor meer vlinders en insec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10" descr="http://www.tgsoftware.nl/software/tijger32/catalog/bio_bod.jpg"/>
          <p:cNvPicPr/>
          <p:nvPr/>
        </p:nvPicPr>
        <p:blipFill>
          <a:blip r:embed="rId5"/>
          <a:stretch/>
        </p:blipFill>
        <p:spPr>
          <a:xfrm>
            <a:off x="714240" y="3929040"/>
            <a:ext cx="2810160" cy="1930320"/>
          </a:xfrm>
          <a:prstGeom prst="rect">
            <a:avLst/>
          </a:prstGeom>
          <a:ln w="0">
            <a:noFill/>
          </a:ln>
        </p:spPr>
      </p:pic>
      <p:sp>
        <p:nvSpPr>
          <p:cNvPr id="445" name="Tekstvak 10"/>
          <p:cNvSpPr/>
          <p:nvPr/>
        </p:nvSpPr>
        <p:spPr>
          <a:xfrm>
            <a:off x="642960" y="614376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zonde bodem met veel diertj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2" descr="http://provincie.overijssel.nl/contents/pages/2376/hotspot_weidevogels.jpg"/>
          <p:cNvPicPr/>
          <p:nvPr/>
        </p:nvPicPr>
        <p:blipFill>
          <a:blip r:embed="rId6"/>
          <a:stretch/>
        </p:blipFill>
        <p:spPr>
          <a:xfrm>
            <a:off x="5715000" y="3929040"/>
            <a:ext cx="2313000" cy="2028960"/>
          </a:xfrm>
          <a:prstGeom prst="rect">
            <a:avLst/>
          </a:prstGeom>
          <a:ln w="0">
            <a:noFill/>
          </a:ln>
        </p:spPr>
      </p:pic>
      <p:sp>
        <p:nvSpPr>
          <p:cNvPr id="447" name="Tekstvak 12"/>
          <p:cNvSpPr/>
          <p:nvPr/>
        </p:nvSpPr>
        <p:spPr>
          <a:xfrm>
            <a:off x="5572080" y="60721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oed voor weidevog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el 1" descr=""/>
          <p:cNvPicPr/>
          <p:nvPr/>
        </p:nvPicPr>
        <p:blipFill>
          <a:blip r:embed="rId1"/>
          <a:stretch/>
        </p:blipFill>
        <p:spPr>
          <a:xfrm>
            <a:off x="2646360" y="360360"/>
            <a:ext cx="3894120" cy="779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Beperkte anti-biotica bij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erke rassen gebruik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genenetische manipulati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Ruime vruchtwissel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renge controle door Ska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el 1" descr=""/>
          <p:cNvPicPr/>
          <p:nvPr/>
        </p:nvPicPr>
        <p:blipFill>
          <a:blip r:embed="rId1"/>
          <a:stretch/>
        </p:blipFill>
        <p:spPr>
          <a:xfrm>
            <a:off x="1073160" y="328680"/>
            <a:ext cx="7473960" cy="1171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http://www.admb.be/evap/evap.lees_blob?p_file=F31372/BIOCIDE.JPG"/>
          <p:cNvPicPr/>
          <p:nvPr/>
        </p:nvPicPr>
        <p:blipFill>
          <a:blip r:embed="rId2"/>
          <a:stretch/>
        </p:blipFill>
        <p:spPr>
          <a:xfrm>
            <a:off x="571680" y="1643040"/>
            <a:ext cx="1703160" cy="1428840"/>
          </a:xfrm>
          <a:prstGeom prst="rect">
            <a:avLst/>
          </a:prstGeom>
          <a:ln w="0">
            <a:noFill/>
          </a:ln>
        </p:spPr>
      </p:pic>
      <p:sp>
        <p:nvSpPr>
          <p:cNvPr id="452" name="Tekstvak 4"/>
          <p:cNvSpPr/>
          <p:nvPr/>
        </p:nvSpPr>
        <p:spPr>
          <a:xfrm>
            <a:off x="2786040" y="21430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resten van gif in je vo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4" descr="http://images.volkskrant.com/hartziel/uploads/users/legacy/wortelen1211378848.jpg"/>
          <p:cNvPicPr/>
          <p:nvPr/>
        </p:nvPicPr>
        <p:blipFill>
          <a:blip r:embed="rId3"/>
          <a:stretch/>
        </p:blipFill>
        <p:spPr>
          <a:xfrm>
            <a:off x="571680" y="3286080"/>
            <a:ext cx="1231560" cy="1643040"/>
          </a:xfrm>
          <a:prstGeom prst="rect">
            <a:avLst/>
          </a:prstGeom>
          <a:ln w="0">
            <a:noFill/>
          </a:ln>
        </p:spPr>
      </p:pic>
      <p:sp>
        <p:nvSpPr>
          <p:cNvPr id="454" name="Tekstvak 6"/>
          <p:cNvSpPr/>
          <p:nvPr/>
        </p:nvSpPr>
        <p:spPr>
          <a:xfrm>
            <a:off x="2214720" y="35719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Producten zijn vaak smaakvoller omdat ze langzaam gegroeid en gerijpt zij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kstvak 8"/>
          <p:cNvSpPr/>
          <p:nvPr/>
        </p:nvSpPr>
        <p:spPr>
          <a:xfrm>
            <a:off x="2357280" y="528624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Meer bijzondere voedingsstoffen zoals Omega-3 vetzuren, anti-oxidanten en vitamine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Afbeelding 2" descr=""/>
          <p:cNvPicPr/>
          <p:nvPr/>
        </p:nvPicPr>
        <p:blipFill>
          <a:blip r:embed="rId4"/>
          <a:stretch/>
        </p:blipFill>
        <p:spPr>
          <a:xfrm>
            <a:off x="571680" y="5084640"/>
            <a:ext cx="14032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21:26:55Z</dcterms:created>
  <dc:creator>wouter keppel</dc:creator>
  <dc:description/>
  <dc:language>en-US</dc:language>
  <cp:lastModifiedBy>Mecheline Lips-Maas</cp:lastModifiedBy>
  <dcterms:modified xsi:type="dcterms:W3CDTF">2017-01-26T12:59:40Z</dcterms:modified>
  <cp:revision>32</cp:revision>
  <dc:subject/>
  <dc:title>BIOLOGISCHE VOE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>19;#Mecheline Lips-Maas</vt:lpwstr>
  </property>
  <property fmtid="{D5CDD505-2E9C-101B-9397-08002B2CF9AE}" pid="3" name="display_urn:schemas-microsoft-com:office:office#SharedWithUsers">
    <vt:lpwstr>Mecheline Lips-Maas</vt:lpwstr>
  </property>
</Properties>
</file>