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5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7FB1-4FEA-4704-BA7B-181C2C1DC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D4D9-7237-4AAD-8CC9-CE4C107E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3850-606A-47C8-B29A-78253E8D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5E21-6088-43EC-9F1E-30222941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38B2-175E-4FF4-BF33-1700C3B7A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A2BC-3C9F-4C6B-9183-D55FD8B4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76D3-AA9B-48F3-8876-0D18A6DB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4858-3E36-46B9-A910-D26638A4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CB34-3FEF-4269-B415-34A65E5C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BF92-2FFA-40B0-A8A5-1E160B72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2BE8-0415-4AF0-8073-469341E1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A7E3-9628-47DC-9F68-49D6AAB1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17B2-3713-4DD3-8803-42989DBB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D4AF-3B9B-4212-AF48-86617603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38A6-412B-49BC-B3D3-18B21456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51C7-69C9-4E68-BF51-6356FBED7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9D0C-B74C-4BCA-BE05-B535AF4ED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0BA7B-8660-4ABA-A2EF-6743D89EB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B09B3-4B5A-46A9-A105-1659A1E8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47C94-A0E0-4D10-B6A1-75CCBD89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22219-B45B-4043-93C5-4E718BE5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9A1DD-89BD-4939-A290-6D63939E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1E8C-DFD6-443A-B782-9668C2F0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767FC-B834-49E4-AFAD-43259F00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90347-4A5A-49ED-8789-32BA9CAC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E78F9-FE45-4322-8F54-737D3458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4833A-FEB8-4D00-9B86-ADC79392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1EB5E-A7B6-4F2C-AF44-90167BA3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B139F-9641-416F-AF19-015950821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CFA68-6FE7-4F5A-901C-D53B5894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41918-164F-493E-835D-15812180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C03C7-5D38-47B1-A4A1-D738B4EE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599EA-E3FA-407B-ACB8-31265375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93B1-5DA1-4354-B6CC-BBE81E41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89406-DA29-430C-A68E-5EA6ECE2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736FD-84F4-41CD-BD1D-CC4F72EF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A044A-722E-495A-A362-88D265C7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5B5EA-D407-4030-BE68-0D12F257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18837-87F7-480C-8FE6-ED5E8B36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4CBF6-6271-4E39-A6EF-72369BB2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169A2-EA73-4414-8337-BDF5A24F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04357-1CE6-45CC-B6AF-B9DB07664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E60BA-D679-4A20-81C6-0ED2D131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89602-0C67-44B6-9848-E15E387A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37DE-AA04-4317-A462-98A39D8D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96354-E544-49F0-8204-5DE1E6D9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30055-E3EC-4B9A-B01D-CAB6FB19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7D25F-4FC4-4348-9FF0-E288393C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D3061-D35D-4048-8901-AEDA0561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EEA04-C930-4285-9E74-52C032DA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E124E-BB4F-40A4-8F0C-F5892E91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C9401-24AA-4449-896A-B103893C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1514F-A669-4B44-BD8A-DB5A2FDF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FDB9F-BFC9-4D91-9F5D-975EF247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EE2DB-FFFE-4B72-BD0F-36806E89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F291-E311-4C9B-9591-079AA512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E092D-1621-47AD-AD74-D26E4B14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1AEBD-FF33-4D95-8900-5702F461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CE7B1-291B-4210-89B4-03D3D2D6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89C01-4A89-4BBD-86B9-F4911EA8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315EB-45B8-416F-A296-6E2B70F2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78E4C-F000-4F60-A652-E587A2D8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68E30-F0F0-4DEF-9A94-8D195EFD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26BB2-6020-4789-9283-E57B2339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DC07E-4CA2-41E3-87F7-8B46C0C3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67507-F060-48D3-AE64-88CA5E47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B6A9-D8C0-4352-A85D-5E9EBCCC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F6A2F-EF93-4164-9FE9-C6B4C75C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E9313-2BAC-4EF6-A291-79B65F5E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1A9DE-71D3-40BB-8937-E16C1D554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A3667-A722-4866-A696-8A3821CFA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7D88B-180B-4DB8-8738-26429B60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9E35C-7A53-436E-A3E7-D88CA809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40192-4059-436B-BE0E-CB31C40E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24611-A461-4D62-8751-E3DB4DAD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4F210-530A-49AF-89C9-BDC4F9DA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94E6B-D9C4-48AD-A232-BFC57D9E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712C-C73F-4A44-ACA1-7E47DC0A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67BDD-509D-4315-9781-C3653AC4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256EE-02C9-45D3-BB79-0BC55F2F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BDA58-5E04-4396-8EBA-085D6B55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B5D10-9B1A-4166-BB57-82BE2E7D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AC97E-7DF4-4BD4-B66E-BA1E05D8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7D2BA-116F-4450-86F7-DCB86323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6D87E-DC94-4D10-B8BD-25C7C2D3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A709A-47F2-4ECE-9A6E-ADCEC81D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E1BBA-8742-4F40-8239-3645816F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CE11B-0987-4F54-B2F8-ECCEA3B8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E521-2034-4FBC-8992-4EE7C9BC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726B8-4B64-4DD2-B4AB-941B116C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833BC-8A07-4B02-83DE-76A60B1B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61F4D-F62C-4BBC-AC7A-0E9682A9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0B5F9-D023-471D-9631-DC0D6A3A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A9A68-95C9-4D07-9777-D2E74253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ACA4C-1C4F-421E-B8DB-518409F2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AEFA6-D05E-4BDD-8D8B-47F25948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BB7B-59BA-4301-8F64-A548D5F5C5F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55E5-08E0-4D70-BE18-27874BDB76E9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1839-849D-4020-B2AB-DEA3439EE54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C5FA-FA24-4EF1-9537-CD8ACB79C81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1C4E-14A5-4844-B431-1AB87D50A96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9E81-F550-46B5-992C-79255D534CD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1A56-5398-4C94-919B-105E634DC8B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9E9F-1914-4DF0-BED6-5B5DC926260E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BzqwjF4RIQU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Verzekeren, hoe dan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0" descr="Afbeeldingsresultaat voor verzekeren"/>
          <p:cNvPicPr/>
          <p:nvPr/>
        </p:nvPicPr>
        <p:blipFill>
          <a:blip r:embed="rId2"/>
          <a:stretch/>
        </p:blipFill>
        <p:spPr>
          <a:xfrm>
            <a:off x="0" y="-27000"/>
            <a:ext cx="2719440" cy="28321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Afbeeldingsresultaat voor verzekeren"/>
          <p:cNvPicPr/>
          <p:nvPr/>
        </p:nvPicPr>
        <p:blipFill>
          <a:blip r:embed="rId3"/>
          <a:stretch/>
        </p:blipFill>
        <p:spPr>
          <a:xfrm>
            <a:off x="6081840" y="15840"/>
            <a:ext cx="306216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s://www.youtube.com/watch?v=BzqwjF4RIQU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3"/>
          <a:stretch/>
        </p:blipFill>
        <p:spPr>
          <a:xfrm>
            <a:off x="1638360" y="2637000"/>
            <a:ext cx="5924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6836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Je kunt je verzeker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teriël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chade (= schade die in geld is uit te drukk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schade di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onzeker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s (dus alleen als je niet van tevoren kan weten dat er schade ontstaa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schade die j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niet opzettelijk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oorzaak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3" name="AutoShape 2"/>
          <p:cNvSpPr/>
          <p:nvPr/>
        </p:nvSpPr>
        <p:spPr>
          <a:xfrm>
            <a:off x="155520" y="-83016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4606920" y="41400"/>
            <a:ext cx="45370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zekeringsovereenkomst tussen verzekerde en verzekeraar (= verzekeringsmaatschappij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olis + polisvoorwaar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itsluitingen (de zaken die niet worden vergoe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igen risico (bedrag wat je niet vergoed krijg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Afbeeldingsresultaat voor verzekeringspremie"/>
          <p:cNvPicPr/>
          <p:nvPr/>
        </p:nvPicPr>
        <p:blipFill>
          <a:blip r:embed="rId2"/>
          <a:stretch/>
        </p:blipFill>
        <p:spPr>
          <a:xfrm>
            <a:off x="6300720" y="2349360"/>
            <a:ext cx="284328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fhankelijk van kans op schad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eigen risic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emie uitreken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romillage (1 duizendste deel) van verzekerde waard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Voorbeeld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erzekerde waarde is € 45.000 en promillage is 2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€ 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45.000 : 1000 x 2 = € 90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60112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Afbeeldingsresultaat voor promillage"/>
          <p:cNvPicPr/>
          <p:nvPr/>
        </p:nvPicPr>
        <p:blipFill>
          <a:blip r:embed="rId2"/>
          <a:stretch/>
        </p:blipFill>
        <p:spPr>
          <a:xfrm>
            <a:off x="7164360" y="5284800"/>
            <a:ext cx="189864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92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3"/>
          <a:stretch/>
        </p:blipFill>
        <p:spPr>
          <a:xfrm>
            <a:off x="611280" y="1557360"/>
            <a:ext cx="766584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Voor het afsluiten van een verzekering kun je terecht bij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verzekeraar zelf via internet bijv. =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irect wri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verzekeringsadviseur die voor 1 verzekeraar werkt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verzekeringsadviseur die voor meerdere verzekeraars werkt. Deze geeft het meest onafhankelijk adv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20T09:28:13Z</dcterms:modified>
  <cp:revision>76</cp:revision>
  <dc:subject/>
  <dc:title> </dc:title>
</cp:coreProperties>
</file>