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3938-8349-4389-96F1-FE74F7C4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448-E003-4792-8784-2AC17DDD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6863-B6D5-451A-80D2-357CD014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623-AF7F-4A41-B8C9-7E50A819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3CCD-AB00-4C02-9CC8-FA5CE9C7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F0F1-2C23-48E5-8BB1-4A1F66F2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6009-4F52-4718-9E8B-10655727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44E8-21EF-481E-BF1C-B159880C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147A-C4C2-465A-B1DB-107FE5AF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19EB-102B-407F-BB3D-E519F5DE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A6BD-FE3D-417E-A149-DD5EFDC9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B3E7-06EE-4366-BCB4-4F45BE71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B27C-BA31-44F5-9CA5-E2655F4A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1114-549B-4B58-9547-22B5A9A9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9F8D-A37F-4AFA-BFF8-D3974DD9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0287-1BB5-434F-8DF7-D5AE8E70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0CCC-B6AA-46E2-86FE-2E3C6AAF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0E69A-4681-480B-88D9-EE0D607A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60C1A-B8D0-40F4-8EB4-A1452A38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CFFC0-F4DE-49D0-979F-EB5E2CE1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C1B94-7117-4DF9-B24A-1B95D420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DBEE5-3D76-451E-B62C-2981540C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CFF-243B-4ACB-9BBE-3538EA10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EBAB4-E3A9-4D44-BDE4-9700A050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3C956-6B03-4861-8BCB-B39E52BB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BC5EE-78D7-434A-A5FC-3E59EC67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D7FB-C258-44E5-84DF-02AFF001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949A9-3292-4738-B2B4-F0E76A1F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DEAA9-B892-44EB-B434-2566E015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8CE9F-F2C8-4EFF-AD1E-CAD818FC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0D903-312B-4A34-95C6-7008DF61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797C0-CB72-402A-9086-2EAED8A4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EC87E-4231-4197-936E-B3E3F854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99D-409E-49CD-B73B-96617787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8E423-6D84-41F8-A342-9ED361D2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F4E7B-347C-494B-A2C0-EDDDF527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58387-E050-4B6C-A431-E435461D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007E7-787F-4FCB-800F-E6AB69FD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895CC-2F19-4873-8D42-E5B973F5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C3508-CFB3-4282-B206-FAB3620F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B5A66-E9A3-412D-A8F2-69A4D87D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FA8AE-037E-4D34-AE97-3C183368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583EA-2D3E-4260-893D-1F385091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310DA-02D7-4980-81EC-38C3ECD4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C50-17ED-42A9-9C34-761C32E5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2B576-5072-4B10-A31A-22C168CF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3035F-E56C-4142-B6EE-4E8EB47D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64DAC-00E8-46A7-BCC0-C77274D1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B39C3-2CE0-4123-84ED-E37DAC1A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4D614-6AF2-48C0-96CD-7FD68295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FE7AB-E9C0-4C56-B20E-3C6BFD05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594DD-7358-4025-B631-A95BF502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A3B72-56F4-43F0-ACE6-F90629E1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68B03-E49D-4FD4-8A44-14F088A3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E47BE-5D96-45D0-8A10-E9DD7736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058-40A0-46DB-A08A-F81A4390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3AECE-84B2-4148-B1D5-23EFC080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917BE-3BC3-41E6-BEE9-F95DFA0F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83F0A-A3CD-4817-B4FF-18469DB3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EC997-B6B9-42FF-8BB4-B95B2215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F172C-8086-43D8-86B9-8CCE50BE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9A8E5-3647-4051-A61C-F0C54762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21E62-71C7-4763-9CDA-280DAEF8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5AE3E-9A85-433F-9DAF-40C4024D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DF50F-90A1-4F3E-8A33-B87DF6DB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65EE8-5CEE-43C2-AEEF-9E0D90EB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309-A6D0-47D6-875B-64E974EA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22B0C-7920-4476-88E2-FFD39CC0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4B917-3CA7-4639-86C5-A402D387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9047B-A220-42F4-A70E-EF9C75EE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B0E28-0366-4872-9DAB-0DCA425A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65CFA-C7BA-4EC2-8ACA-41593BCA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656F7-790A-4F5D-AF07-3314D0E5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FCD1D-65C9-413A-8EE9-BB6EAB30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23C1B-9215-41FD-95B8-9AF998FF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29DBD-79BE-41E1-B456-720A3D37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CF1BB-955A-427E-BDF4-C5730EEB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38C-0775-4D34-A47E-B0CC3D8C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77367-5874-4A8E-8BE6-847DD33C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9FDD7-9FBB-490B-A74E-EEE089F1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7CCE9-4DE4-4CCE-82D1-DF5DFB22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C6318-1078-4907-A91E-9B0EE93F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26EAD-4EEF-4F51-8B4C-3677C38B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4D018-81A9-4A69-BC25-70D29020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00A5C-D6CA-4C8E-85AE-DC04AD83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D7920-CFA4-44C1-BAA5-554CD26F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FC192-8043-4233-83B0-4DF2F089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D76FA-271E-4F3E-ADFC-3E9A4F32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BA4-071D-417D-89BE-AEABF6EA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9165E-79B3-4CA2-A49B-9ECC611E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7410D-1955-4C40-A73A-9242CB1D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2030F-2E26-46CF-8AC9-33A03AA2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39307-1ED6-4E38-AED1-E4D76E72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85375-DB1F-4BEF-A403-0742C12C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FE477-BDC6-42DE-A377-5D009539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715D8-6FBB-4CD4-9FF9-9C2BB6E6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1DCE-2A9E-4A5E-825E-85FAA6EE99F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9C0A-38D9-44D9-8BCE-4CBD781A69D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850E-FAFF-4B2A-BF02-7208097DF9D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D055-E38B-43C5-8AFD-6EC180CA385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8432-2CA9-4863-85AC-44111CCAC14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8EA0-CE59-49EB-A229-9BB0D8B84C7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C19F-BCEB-4A4B-A4CB-E22386DC3A3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9720-7702-4E51-9846-5E93A76F2B3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826920" y="103320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De woningfinancier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://www.eggebeenverzekeringen.nl/img/hypotheek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http://www.detijdnotariaat.nl/images/diensten-hypotheek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http://www.at5.nl/artikelen/163193/blindkopers_sophie_zag_haar_nieuwe_huis_pas_bij_de_sleuteloverdrach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ing voor de aankoop van een hu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eklasten: maandelijks aflossing en rent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huis geldt al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pa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e woning. Dit betekent dat wanneer de koper de hypotheeklasten niet kan betalen, dat de bank de woning verkoopt en met de opbrengst de hypotheek aflo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5"/>
          <p:cNvSpPr/>
          <p:nvPr/>
        </p:nvSpPr>
        <p:spPr>
          <a:xfrm>
            <a:off x="155520" y="-1600200"/>
            <a:ext cx="68104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6340320" y="5516640"/>
            <a:ext cx="27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8900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at de bank een lening verstrekt, laat de bank een deskundige de woning taxeren (= werkelijke waarde vaststell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ank wil namelijk niet meer dan de werkelijke waarde van de woning le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bank meer leent dan de woning waard is, loopt de bank het risico het geleende bedrag niet geheel terug te krijg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Gerelateerde afbeelding"/>
          <p:cNvPicPr/>
          <p:nvPr/>
        </p:nvPicPr>
        <p:blipFill>
          <a:blip r:embed="rId1"/>
          <a:stretch/>
        </p:blipFill>
        <p:spPr>
          <a:xfrm>
            <a:off x="3348000" y="4581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et begin hebben veel mensen moeite om hun hypotheek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termijn is in het begin hoog in verhouding tot hun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ijg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makkelijker om de lasten d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l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oeilijker om de 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loos of arbeid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geschikt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ing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248440" y="4149720"/>
            <a:ext cx="38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fbeeldingsresultaat voor lineaire hypotheek"/>
          <p:cNvPicPr/>
          <p:nvPr/>
        </p:nvPicPr>
        <p:blipFill>
          <a:blip r:embed="rId3"/>
          <a:stretch/>
        </p:blipFill>
        <p:spPr>
          <a:xfrm>
            <a:off x="1403280" y="1484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el; percentage kan op elk moment omhoog- of omlaaggaa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jaar va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 jaar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www.mondtadviesgroep.nl/wp-content/uploads/2013/11/belastingrente.jpg"/>
          <p:cNvPicPr/>
          <p:nvPr/>
        </p:nvPicPr>
        <p:blipFill>
          <a:blip r:embed="rId2"/>
          <a:stretch/>
        </p:blipFill>
        <p:spPr>
          <a:xfrm>
            <a:off x="4078440" y="4149720"/>
            <a:ext cx="5065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al betaalde afloss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hogere marktwaarde van de wo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ning is meer waard dan ervoor betaald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Afbeeldingsresultaat voor aflossingen"/>
          <p:cNvPicPr/>
          <p:nvPr/>
        </p:nvPicPr>
        <p:blipFill>
          <a:blip r:embed="rId2"/>
          <a:stretch/>
        </p:blipFill>
        <p:spPr>
          <a:xfrm>
            <a:off x="1979640" y="3500280"/>
            <a:ext cx="599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4T10:14:05Z</dcterms:modified>
  <cp:revision>75</cp:revision>
  <dc:subject/>
  <dc:title> </dc:title>
</cp:coreProperties>
</file>