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1B5E-8953-47B7-B647-97F397AD2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2A4A-40CE-4827-A058-7C54FDBE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5E24-D23E-4738-8AE8-343113B43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D97C-DEA1-4E77-B0B8-19791D3E9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B969-2540-4E52-AFE0-11D2FE10C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ECA9-2661-4EA9-BB9C-1C6C46B9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42E5-8A72-435C-BB31-BEFA89B7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7F07-62AB-4868-B13D-06460E11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64F2-3654-4AF3-98FC-96D0F58F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0BC0-3ECF-441B-AFAC-26ED368A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94B6-6AD1-4D32-8A6D-D63FA880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7DE1-80D1-44BB-A858-C05527C2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12E9-F59F-412F-8BC9-5EEBB224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BF41-60A2-47D3-87B8-E61F7634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9025-54EC-4D12-9472-F90EC5A8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38F4-5360-4D2A-992D-0D680AC21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5A58-D20A-402E-82F3-A79B1B634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A1651-EDF6-4EBD-845B-26EED5800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2B015-DD17-4DC7-88A1-850C6388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3CF2A-F035-4285-8542-1CFC56AA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B33D2-413C-4FCD-98DB-0621CB5E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3D21E-79EF-4D1F-B8F5-BC37C19C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67E1-51C0-400C-B2F8-E0FD040F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FD5F2-034B-4668-92FF-8E6CC01F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75FBE-3873-4523-8A58-5F393E6C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C31D2-C6C2-4FE3-B371-AF1DA9CB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1E323-1EC8-4B8A-8D69-D78EDA88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330A7-58E8-4B7F-9965-95C41902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1E722-E851-418A-91E0-8F14E254B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0C554-468C-45DA-B7F8-961ADE879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7492C-CCA8-41E0-99AF-001E9FF49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E7641-801B-4C13-BE6A-022BAB41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88188-1378-47FC-825C-84C244A4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DFA4-5994-436E-897C-5FDAF19B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C0699-D082-4634-AF70-C9E6A6AE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744E1-B310-4727-B045-5CD6BE7A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8EEA5-DAEC-43D3-A792-D02E42DF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D23F6-E1D8-4450-8DAB-6A87DB73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D4F39-EF81-4F50-A388-106611F9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B507B-B7B3-42ED-B272-C958AD37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45CE4-A3F7-4593-86F6-F2659A6C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080EC-39CA-49FE-A869-430E23532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9E416-9D6B-4146-8821-81C80A553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53265-5044-46AB-B221-AC2D3512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5931-041B-471C-B65D-A3A5CB88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1466C-DC4A-4D36-A45A-CDB10FBC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BFB35-3FA6-4FFD-BBD2-806EFE46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1071A-2C6E-4EF2-8313-CB90F0E9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E8603-E887-45F1-8001-B8822E55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A16FB-8C6E-4B10-88AA-34D3B6C6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22F88-4CA2-488B-B182-9E1BEEC6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905CF-5E10-4638-A5F2-4BB14477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42D17-FAB8-49DC-8104-18B447CB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71B46-7A4B-48EA-9C06-4B5FEE7A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9F5B2-0306-48C3-94FF-5128C113A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E727-FED9-40EA-BDD9-227761D7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5DEC3-34F6-4285-BF41-359395FBB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87800-C92D-411D-96D4-75A49C6B4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73709-2879-46C0-88C0-64924DD0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A01A2-EAA8-43A6-A636-21C6E9EE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104A1-C4DF-40F5-9183-21518A76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E2396-D695-4FAC-9E8A-E95B64B3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6C841-60F7-46DA-9CC7-4063FCF6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C5674-7CAE-43FA-9266-01AA62F3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A3AC3-5331-43D7-9AB7-683FD84D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B81DA-C997-4418-8C72-0BE629F7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5D91-6D3E-462C-9DA9-35747091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650EC-8FAC-4B43-8B2C-5CF090F7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652BD-5DBA-4F6C-AB89-80DC7B352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F8F5D-65ED-4556-A163-93B9303AC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0FD14-B8B2-41F8-A997-7A169751B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E8965-1B5F-491D-9595-F473AB53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B77A6-D3C6-4B7B-A42A-4D89C159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351C0-8AA0-41E4-B2D1-43FFF153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D44EF-E798-49A8-AA89-A6C4571B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FB414-D9D3-4F70-8EC3-F9D4E383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1685C-96E3-4D64-909D-51B71DC9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1CDA-B8A7-42EA-8279-9AFBD366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BB9AC-E1D7-4564-A924-1D4BE010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4F006-CF06-4CBB-AE5D-9A903B53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A98E0-7657-40C3-9591-3CEE31F7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1F0EA-B431-40A0-8C2F-5DB129FEC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43FAD-F148-49A7-A7F3-80C2B500D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A9C83-A152-4E07-8B4F-D2097ACAB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1DD06-C9C8-4762-B8D7-C55FD9E5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9D4B6-AB29-42EA-A346-3972323D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503E9-36C8-47C0-98AC-D1E46D13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94923-C7BE-43B6-9349-BF11F556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B54E-1FD0-48E7-8FAB-702F5B8B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19C49-712C-468F-9845-C3D5BCE5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DCC16-D8FF-4A8F-AC17-3609CA97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CA411-E0F4-45F9-86B7-7C97A51B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FAE37-FF95-4F2B-88FF-BE48853E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72E04-3D45-4D71-9609-3EAA48B0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73FF0-D1B3-4CF4-8F34-A5FF0A95A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E4CD6-5D0A-4436-8219-B3C3CD35C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7FEE-9F96-4F5F-981F-1B8014D1A91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EF8A-A001-4F9D-A8A0-AEBC31B5CC9F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3865-729E-48B4-B8E0-CF0301B7928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A8E0-E904-4A6B-B763-D9FD5F738DA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C1E9-D8CC-4F21-BD0F-2276E428AFB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B1BD-E858-48E6-8E98-67002FC5618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CFDA-B93C-4461-B797-7D52A0EFC62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9DEF-F0AD-4DBC-AD20-5E1E9B57B6FB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6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Goed verzekerd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Afbeeldingsresultaat voor goed verzekerd"/>
          <p:cNvPicPr/>
          <p:nvPr/>
        </p:nvPicPr>
        <p:blipFill>
          <a:blip r:embed="rId2"/>
          <a:stretch/>
        </p:blipFill>
        <p:spPr>
          <a:xfrm>
            <a:off x="0" y="17640"/>
            <a:ext cx="3132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836640"/>
            <a:ext cx="86868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pstalverzekering; schade aan huis/kanto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boedelverzekering; schade aan spullen in huis/kanto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ansprakelijkheidsverzekering particulieren (AVP); schade aan de and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ettelijke aansprakelijkheidsverzekering (WA); voor bestuurders motorvoertuigen (verplicht!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-cascoverzekering (all riskverzekering); schade van tegenpartij en eigen voertui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rgverzekering; voor ziektekosten (verplicht!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705880" cy="12430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Afbeeldingsresultaat voor WA verzekering"/>
          <p:cNvPicPr/>
          <p:nvPr/>
        </p:nvPicPr>
        <p:blipFill>
          <a:blip r:embed="rId2"/>
          <a:stretch/>
        </p:blipFill>
        <p:spPr>
          <a:xfrm>
            <a:off x="6858000" y="5367240"/>
            <a:ext cx="2286000" cy="1486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Afbeeldingsresultaat voor opstalverzekering"/>
          <p:cNvPicPr/>
          <p:nvPr/>
        </p:nvPicPr>
        <p:blipFill>
          <a:blip r:embed="rId3"/>
          <a:stretch/>
        </p:blipFill>
        <p:spPr>
          <a:xfrm>
            <a:off x="4586400" y="5392800"/>
            <a:ext cx="2271600" cy="14922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Afbeeldingsresultaat voor inboedelverzekering"/>
          <p:cNvPicPr/>
          <p:nvPr/>
        </p:nvPicPr>
        <p:blipFill>
          <a:blip r:embed="rId4"/>
          <a:stretch/>
        </p:blipFill>
        <p:spPr>
          <a:xfrm>
            <a:off x="2706840" y="5456160"/>
            <a:ext cx="1879560" cy="14097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" descr="Afbeeldingsresultaat voor aansprakelijkheidsverzekering particulieren"/>
          <p:cNvPicPr/>
          <p:nvPr/>
        </p:nvPicPr>
        <p:blipFill>
          <a:blip r:embed="rId5"/>
          <a:stretch/>
        </p:blipFill>
        <p:spPr>
          <a:xfrm>
            <a:off x="306360" y="5486400"/>
            <a:ext cx="239400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9806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ververze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ogere verzekerde waarde dan juiste of getaxeerde waard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onde van de hogere premie die betaalt, want bij schade krijg je niet meer vergoed dan de werkelijke schad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nderverze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lagere verzekerde waarde dan juiste of getaxeerde waard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ij schade krijg je minder vergoed dan de werkelijke schade, omdat je maar voor een deel bent verzekerd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Hierbij geldt de onderverzekeringsbreuk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el 2" descr=""/>
          <p:cNvPicPr/>
          <p:nvPr/>
        </p:nvPicPr>
        <p:blipFill>
          <a:blip r:embed="rId1"/>
          <a:stretch/>
        </p:blipFill>
        <p:spPr>
          <a:xfrm>
            <a:off x="268200" y="0"/>
            <a:ext cx="8454960" cy="1189080"/>
          </a:xfrm>
          <a:prstGeom prst="rect">
            <a:avLst/>
          </a:prstGeom>
          <a:ln w="0">
            <a:noFill/>
          </a:ln>
        </p:spPr>
      </p:pic>
      <p:sp>
        <p:nvSpPr>
          <p:cNvPr id="385" name="PIJL-RECHTS 3"/>
          <p:cNvSpPr/>
          <p:nvPr/>
        </p:nvSpPr>
        <p:spPr>
          <a:xfrm>
            <a:off x="6516720" y="6165720"/>
            <a:ext cx="2232000" cy="432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2" descr="Afbeeldingsresultaat voor oververzekering"/>
          <p:cNvPicPr/>
          <p:nvPr/>
        </p:nvPicPr>
        <p:blipFill>
          <a:blip r:embed="rId2"/>
          <a:stretch/>
        </p:blipFill>
        <p:spPr>
          <a:xfrm>
            <a:off x="6684840" y="2565360"/>
            <a:ext cx="2482920" cy="12175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Afbeeldingsresultaat voor onderverzekering"/>
          <p:cNvPicPr/>
          <p:nvPr/>
        </p:nvPicPr>
        <p:blipFill>
          <a:blip r:embed="rId3"/>
          <a:stretch/>
        </p:blipFill>
        <p:spPr>
          <a:xfrm>
            <a:off x="2336760" y="2565360"/>
            <a:ext cx="173376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Lucida Sans Unicode"/>
              </a:rPr>
              <a:t>(Verzekerd bedrag : getaxeerde waarde) x schade = schade uitkerin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7-01-11T09:15:51Z</dcterms:modified>
  <cp:revision>80</cp:revision>
  <dc:subject/>
  <dc:title> </dc:title>
</cp:coreProperties>
</file>