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png" ContentType="image/pn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5FF7-1472-4CE8-B6A4-902538FC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026-673B-4C37-A872-07CB3F8C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FD9-9296-4D33-86E3-544A841F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9B8-88F4-4E42-92AC-7C6C9A2E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D350-A3FC-473F-A891-C3C21052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0EEB-2739-4FB3-88F5-926D8B16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A924-C7A7-45E9-A266-C1D1CDEB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193D-DCD8-4354-AFF6-100629EA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46B7-BB68-4E72-8157-D496E45C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D265-802E-4DF7-B7A9-BD8AFA18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E1D4-82F5-4BEB-8845-1A8265A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904-C399-4447-8CC5-5F30DF11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6003-0AC1-443E-BADD-5DBFE2DE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F321-AB34-43C3-8712-0719DA31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6F55-7137-4E3D-8041-8BC602D5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EFB4-8AB6-4556-9A77-71D2963A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9FAD-A29C-4D78-9913-54F1FFA9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5B26-1358-4A23-A628-B656901E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87FE-1B67-4785-98CF-A985FB11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CD23-E0EF-43A6-AD2D-1EC0CA92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F60D-BA34-4ADF-86A4-1F9BA740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2677-7E37-42F7-B1A3-2AEA363F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10E-57F2-4BD8-A355-85B3EAEE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50A9-CE60-499D-8DC0-6BDB2549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3A94D-7CDC-4E48-ABDA-50FEC294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8D04C-EC08-4514-9489-DE7D9E54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86D6-1213-4B3E-9A2F-C1D0CCAC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0633-9BA1-491E-AACB-3CB46A5E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31144-4BCA-4352-8018-581FE0FE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C9B4-E2F4-4383-992A-588BD508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EDD3E-3A47-4024-9CEA-91247B7B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FAC13-0DE6-46C6-8D3A-D0C7454F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9E2A-C0E9-44AB-AA6B-2B42E8C3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85B-ADA4-416A-B353-19C90EA2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4A31B-F189-4A31-94EE-6AFCA5FA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EEE4A-8C17-4ACA-9974-AEBFE0EB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B5E4-7994-40EB-8604-EA64376C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22F6-D419-4459-8175-2F257234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96B0-BF6E-4771-93FC-1B923EB1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623E2-E10C-44C0-B068-2C387C97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41343-391E-452B-BA5F-47936139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FA48-87BE-47BB-AAB8-500C7E17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9144-8B56-4D20-ADD9-5CDA902D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7DE3C-D835-478E-8A2F-55C7A6D6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C98-CF61-4FEF-BAC6-3E4D1A06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FB4FC-05F8-4441-81AD-101EF651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F4B31-7A9E-479E-825C-ACA9D8E6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D0815-DFA5-4EDB-AA34-089FF4A7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FC13-1F9E-4A64-AB69-A150BEE0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AE21-4796-40FE-BD51-122046C9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9BE5C-8690-4411-8066-C09F1CF1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9E5FC-70B4-4508-90A7-3BEC3EBC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6C959-7B43-4644-A9EC-3132A86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E601-29F1-467E-BE20-620E328A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10E6-81FA-41C8-BC89-1B9B230A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AD5-58F9-449E-912B-B4D44970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025C-AD78-4895-AB70-08AFF895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37FC2-FD5A-4C75-AE5F-D4A164EF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1276E-63B3-4FB1-867E-25A00914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49A85-CC42-4D1E-8086-7D7BFE95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A5EC7-4AA5-49CF-A2D3-29426CF2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52FC5-D32F-4007-910A-D2F02F58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167E-1A9E-4669-8D34-1C086204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E6A23-F118-42D9-A234-D32D8392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833D-91A9-4530-95FA-E2664642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3706-9746-45D0-9DCA-D957921B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0AA-4BB5-4A63-87FF-97234C54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60F55-ADD1-4B53-AD56-77D4A82A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2EAF6-CDB4-40BE-8B71-54D4AAC7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6F9BE-BB4A-40FF-9B55-A47EC8F3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76F53-AB0A-484F-BEA6-25BC4696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832B4-A2E0-4A29-B9AC-87C1B242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8F6CE-33DC-4512-8006-0723A1B0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325CD-AF21-47FF-B984-4B86F756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7F070-CDD8-40A7-B6BB-9EC885D6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3062A-BEF2-42A3-9FFA-CDFAF27D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DE422-B454-435A-B1A0-04229BF6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2A9-38D1-40AF-9F72-16C18DB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272D1-AE50-4EE5-AC45-B0589814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FF26D-E74C-4489-BF3B-F7ED4AC6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A8789-0166-4178-BA8C-DF411515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E29B6-3E44-4DC7-8021-684C2029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503AE-3C77-42ED-A17C-58B4F476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AF5A1-CE0A-467B-9EE7-D7CA90CE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AFBDE-27F8-4588-BBDF-BDEB5A98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B816A-B6D7-4866-A2CC-6D6F3FA6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A6944-9CD1-4ECC-9710-70C3D7DA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59E4C-5C8D-4126-9063-571B9A6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56A-29E5-4791-B7D7-1DA85F03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3F734-B42D-42FD-9612-E7265F55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58BDA-73E5-42A7-B603-1C9269E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5A778-5FE0-4194-A7CC-5622C4B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03B9-913C-404C-B350-2AF0F7A5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F5F9A-E408-4002-BE98-7F8E90CF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74193-6AF3-4428-AC6C-CE60DBCA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D1C73-1135-4527-BA35-91E7DAF1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5640-705A-4308-BE92-F89A6986B8E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2878-C321-40BE-BFF3-6E18E7DF7AF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3616-B755-40E9-BF80-A8E0EB12D0C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6345-37CB-4DBD-B693-8F1993DA027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054F-82E2-424C-8B0D-FD2140DF096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5E03-663C-4618-B04B-C090ECE81E3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E738-9DB7-4587-A56E-693AC022161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7CBD-092F-48DD-B771-D1EB4A01282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ningnet.nl/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4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Huur en verhuu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6"/>
          <p:cNvSpPr/>
          <p:nvPr/>
        </p:nvSpPr>
        <p:spPr>
          <a:xfrm>
            <a:off x="155520" y="-209556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8"/>
          <p:cNvSpPr/>
          <p:nvPr/>
        </p:nvSpPr>
        <p:spPr>
          <a:xfrm>
            <a:off x="307800" y="-1943280"/>
            <a:ext cx="699156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4" descr="http://www.cie.nl/media/W1siZiIsIjIwMTMvMDkvMDMvMDgvNDYvNTgvOTcyLzA1MDE2X1dhdGVybGFuZHBsZWluXzAxLmpwZyJdXQ/05016_Waterlandplein_01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laatste jar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root tekort aan huurkamers en betaalbare huurwoningen, omdat de vraag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groter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s dan het aanb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vol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oge prijzen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ociale huur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een laag inkom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Vrije sector won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bedoeld voor mensen met hogere inkome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79" name="PIJL-OMLAAG 4"/>
          <p:cNvSpPr/>
          <p:nvPr/>
        </p:nvSpPr>
        <p:spPr>
          <a:xfrm>
            <a:off x="3924360" y="2455920"/>
            <a:ext cx="503280" cy="86364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"/>
          <p:cNvSpPr/>
          <p:nvPr/>
        </p:nvSpPr>
        <p:spPr>
          <a:xfrm>
            <a:off x="63360" y="-136440"/>
            <a:ext cx="32101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Gerelateerde afbeelding"/>
          <p:cNvPicPr/>
          <p:nvPr/>
        </p:nvPicPr>
        <p:blipFill>
          <a:blip r:embed="rId2"/>
          <a:stretch/>
        </p:blipFill>
        <p:spPr>
          <a:xfrm>
            <a:off x="7040520" y="0"/>
            <a:ext cx="2131920" cy="12682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http://www.woonnieuws.nl/files/image/61"/>
          <p:cNvPicPr/>
          <p:nvPr/>
        </p:nvPicPr>
        <p:blipFill>
          <a:blip r:embed="rId3"/>
          <a:stretch/>
        </p:blipFill>
        <p:spPr>
          <a:xfrm>
            <a:off x="6156360" y="2637000"/>
            <a:ext cx="2482920" cy="171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http://www.wv.nl/typo3temp/pics/Label_vrije_sector_10_cm_RGB_1f993fb23a.jpg"/>
          <p:cNvPicPr/>
          <p:nvPr/>
        </p:nvPicPr>
        <p:blipFill>
          <a:blip r:embed="rId4"/>
          <a:stretch/>
        </p:blipFill>
        <p:spPr>
          <a:xfrm>
            <a:off x="7496280" y="5210280"/>
            <a:ext cx="16477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nder woord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huurovereenkomst. Hieruit vloeien rechten en plich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op tijd krij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en ver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goede staat opleveren en onderhou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Re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vacy en ongestoord woongeno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</a:rPr>
              <a:t>Plicht huurder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huur op tijd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2"/>
          <p:cNvSpPr/>
          <p:nvPr/>
        </p:nvSpPr>
        <p:spPr>
          <a:xfrm>
            <a:off x="155520" y="-2468520"/>
            <a:ext cx="60958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Gerelateerde afbeelding"/>
          <p:cNvPicPr/>
          <p:nvPr/>
        </p:nvPicPr>
        <p:blipFill>
          <a:blip r:embed="rId2"/>
          <a:stretch/>
        </p:blipFill>
        <p:spPr>
          <a:xfrm>
            <a:off x="7308720" y="-54000"/>
            <a:ext cx="1835280" cy="1549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http://www.psychologiepraktijkberingen.nl/images/praktijkregels.jpg"/>
          <p:cNvPicPr/>
          <p:nvPr/>
        </p:nvPicPr>
        <p:blipFill>
          <a:blip r:embed="rId3"/>
          <a:stretch/>
        </p:blipFill>
        <p:spPr>
          <a:xfrm>
            <a:off x="7385040" y="5229360"/>
            <a:ext cx="1735200" cy="1628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watzijnkinderrechten.be/oorsprong/_img/oorsprongwat.gif"/>
          <p:cNvPicPr/>
          <p:nvPr/>
        </p:nvPicPr>
        <p:blipFill>
          <a:blip r:embed="rId4"/>
          <a:stretch/>
        </p:blipFill>
        <p:spPr>
          <a:xfrm>
            <a:off x="7554960" y="3662280"/>
            <a:ext cx="1539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bedrag moet in verhouding zijn met de kwaliteit van de wo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e meer luxe en hoe mooier de omgeving, hoe hoger de huur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g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ij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ijzen vaststell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bruik maken van landelijk puntensyste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"/>
          <p:cNvSpPr/>
          <p:nvPr/>
        </p:nvSpPr>
        <p:spPr>
          <a:xfrm>
            <a:off x="63360" y="-136440"/>
            <a:ext cx="36957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Gerelateerde afbeelding"/>
          <p:cNvPicPr/>
          <p:nvPr/>
        </p:nvPicPr>
        <p:blipFill>
          <a:blip r:embed="rId2"/>
          <a:stretch/>
        </p:blipFill>
        <p:spPr>
          <a:xfrm>
            <a:off x="5435640" y="4564080"/>
            <a:ext cx="3681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uden aan opzegtermij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der houdt zich niet aan huurcon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oning in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oorspronkelijke staat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rugbre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koop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d breekt geen 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386320" y="4221000"/>
            <a:ext cx="37101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8 jaar geworden?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irect schrijven op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woningnet.n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eenmalig 50 euro betalen en daarna jaarlijks 10 euro verlengingskost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chttijd voor betaalbare huurwoningen is lang, omdat de vraag naar deze huurwoningen groter is dan het aanbod hiervan. De prijzen liggen hierdoor ook hoo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5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55520" y="-677880"/>
            <a:ext cx="1847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erelateerde afbeelding"/>
          <p:cNvPicPr/>
          <p:nvPr/>
        </p:nvPicPr>
        <p:blipFill>
          <a:blip r:embed="rId3"/>
          <a:stretch/>
        </p:blipFill>
        <p:spPr>
          <a:xfrm>
            <a:off x="5867280" y="2421000"/>
            <a:ext cx="2160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aag inkom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die in een huurwoning wonen met ee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bedrag dat ligt tussen de minimale en de maxima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uurgrens, krijgen huurtoeslag van de overheid, als hulp in de huurla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n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asisbehoef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stuworld.nl/uploads/content/Wie%20krijgt%20huurtoeslag_600x266.jpg"/>
          <p:cNvPicPr/>
          <p:nvPr/>
        </p:nvPicPr>
        <p:blipFill>
          <a:blip r:embed="rId2"/>
          <a:stretch/>
        </p:blipFill>
        <p:spPr>
          <a:xfrm>
            <a:off x="1403280" y="4508640"/>
            <a:ext cx="3203640" cy="14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5000760" y="3860640"/>
            <a:ext cx="41432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lein onderhoud (wordt door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nderhou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oot onderhoud (wordt door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verhuurd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aa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cxnSp>
        <p:nvCxnSpPr>
          <p:cNvPr id="408" name="Rechte verbindingslijn met pijl 4"/>
          <p:cNvCxnSpPr/>
          <p:nvPr/>
        </p:nvCxnSpPr>
        <p:spPr>
          <a:xfrm flipV="1">
            <a:off x="2987640" y="2275920"/>
            <a:ext cx="721440" cy="1081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9" name="Rechte verbindingslijn met pijl 7"/>
          <p:cNvCxnSpPr/>
          <p:nvPr/>
        </p:nvCxnSpPr>
        <p:spPr>
          <a:xfrm>
            <a:off x="2987280" y="3357720"/>
            <a:ext cx="577080" cy="1080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pic>
        <p:nvPicPr>
          <p:cNvPr id="410" name="Picture 9" descr="http://www.derietdekker.nl/images/user/nieuw-rieten-dak/inspectie-rieten-dak.jpg"/>
          <p:cNvPicPr/>
          <p:nvPr/>
        </p:nvPicPr>
        <p:blipFill>
          <a:blip r:embed="rId2"/>
          <a:stretch/>
        </p:blipFill>
        <p:spPr>
          <a:xfrm>
            <a:off x="1042920" y="3716280"/>
            <a:ext cx="1513080" cy="1693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3" descr="http://ohsosteffi.files.wordpress.com/2014/04/dsc_0421.jpg"/>
          <p:cNvPicPr/>
          <p:nvPr/>
        </p:nvPicPr>
        <p:blipFill>
          <a:blip r:embed="rId3"/>
          <a:stretch/>
        </p:blipFill>
        <p:spPr>
          <a:xfrm>
            <a:off x="6593040" y="0"/>
            <a:ext cx="2550960" cy="1700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http://www.vanloonschilderwerken.nl/wp-content/uploads/2013/03/Buitenschilderwerk-Halsteren.jpg"/>
          <p:cNvPicPr/>
          <p:nvPr/>
        </p:nvPicPr>
        <p:blipFill>
          <a:blip r:embed="rId4"/>
          <a:stretch/>
        </p:blipFill>
        <p:spPr>
          <a:xfrm>
            <a:off x="6873840" y="5157720"/>
            <a:ext cx="2270160" cy="1700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9" descr="http://www.klusidee.nl/Forum/userpix/91339_2vv2u7q_2.jpg"/>
          <p:cNvPicPr/>
          <p:nvPr/>
        </p:nvPicPr>
        <p:blipFill>
          <a:blip r:embed="rId5"/>
          <a:stretch/>
        </p:blipFill>
        <p:spPr>
          <a:xfrm>
            <a:off x="4716360" y="5183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1" descr="https://static.karwei.nl/medias/sys_master/h39/h17/8796287827998.jpg"/>
          <p:cNvPicPr/>
          <p:nvPr/>
        </p:nvPicPr>
        <p:blipFill>
          <a:blip r:embed="rId6"/>
          <a:stretch/>
        </p:blipFill>
        <p:spPr>
          <a:xfrm>
            <a:off x="5126040" y="0"/>
            <a:ext cx="1444680" cy="1700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http://www.fantv.nl/images/stories/klus/behangen.jpg"/>
          <p:cNvPicPr/>
          <p:nvPr/>
        </p:nvPicPr>
        <p:blipFill>
          <a:blip r:embed="rId7"/>
          <a:stretch/>
        </p:blipFill>
        <p:spPr>
          <a:xfrm>
            <a:off x="3492360" y="0"/>
            <a:ext cx="1659240" cy="1700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5" descr="http://www.zkkf.nl/foto/zelf-kozijnen-monteren/plaatsen_kunststof_kozijnen.jpg"/>
          <p:cNvPicPr/>
          <p:nvPr/>
        </p:nvPicPr>
        <p:blipFill>
          <a:blip r:embed="rId8"/>
          <a:stretch/>
        </p:blipFill>
        <p:spPr>
          <a:xfrm>
            <a:off x="2484360" y="5165640"/>
            <a:ext cx="224964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2-07T10:55:26Z</dcterms:modified>
  <cp:revision>61</cp:revision>
  <dc:subject/>
  <dc:title> </dc:title>
</cp:coreProperties>
</file>