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570-BE32-4D9A-8328-866F6E21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8D2-FD31-42AA-808B-74CF04F5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A77-41B2-4E9B-8D12-D05CF2B8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DC1-BA0A-40E1-AAF6-A3AD0EE3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F628-0309-4E61-92E4-0080F71F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FDEF-0515-44C9-9BF9-E82C0776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339-4E5C-4ECD-B971-48290176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1698-D973-4C4B-BE49-5B799CC6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93BF-9412-4271-BFA0-2A44C877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1696-C6EC-4747-8565-70B94BBA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D64-7757-4519-8976-86145D0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347-6DE1-4DE9-AFA7-64E2B42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3E5D-BA64-4A3C-A9AD-7FD0FA4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450-CF0F-4BC2-A11F-BCE5A1E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617-DC2F-409C-B2E3-92B06E0E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61EE-AB3F-4C46-9E23-EDC65812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9267-25CF-4F50-B187-C89484E6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417D-C738-4B4F-92B5-FEF63597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9596-C8B5-445F-B2C8-95A52FED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AA4B-DF71-4978-A7B4-2C2126C2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17C6-E402-4130-9EC0-7629F58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C09C-F0F7-4349-8620-0DC84593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240-E39E-45AE-9684-32882A53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2F30-9340-41A8-A2EF-E32C8C28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E700-942C-4A2B-9EFD-828DB453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E7DE-A2AD-4C93-AD71-9400BA0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F565-846B-419D-82FE-949382A8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E31E-62A5-467F-A86E-D43AEFE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9DB3-937F-4823-921A-2589172E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675A-1EF8-49AA-8770-03A37F1A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9594-F24F-4912-A01F-691E0D3D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F195-9A5B-43A2-B0DB-766F3AB1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66C0-78AD-405A-929D-14393D3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B41-B509-486B-8FEF-CDD4CADE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5288-DA10-4D60-A229-672BAAC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2A4EA-2A0E-442A-B5F0-BC023CBB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B404-6E02-45E8-B0C4-3C5BC591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6CBE-EE94-4954-AD60-7935C34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05CE-4AA9-459E-AA90-62679D37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8820-B62D-4355-A829-2213DCA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76222-CCFC-441A-B5A7-FF540BB1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56354-8003-41AC-9009-B99A634F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12F3-9BBA-48F8-BD92-6A6DEAD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7DE8A-6AD1-4217-8CC5-E1E0149E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218C-AFD8-4F96-B51A-A33680AF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CFD2-1CA3-4789-87EB-F5F8D51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765AC-4E80-4B01-A9CA-71EC22A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9DEAF-88F5-4425-AE5F-2D0DF10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2CA1-9941-4B79-A356-6293AB7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52F9A-AA92-49E5-A9CE-FE3AA8A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C430-3FCC-483F-A519-8B3E842E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8748-9CE2-4203-BC6C-C946D58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EE3C-0447-4215-88D5-2BB5214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0160E-3BA5-4CA4-BBEF-FFD0932B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7CAF-3258-49AA-A3D9-F20E59B9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040-0F19-4533-9AEB-D9439F92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7D1D7-D2B6-47D4-80B5-EAD6D3FB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1C06-FC26-4D0D-B462-E8873EBF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8FC0-4000-4994-A2DB-99BDB02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E714B-6018-4692-936F-35077506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F0AA-E292-488E-AF6B-5457C6E1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5C52-BFC3-40B1-A0EB-B78230B8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77368-8D5D-47C6-9C10-29B71F8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51DB0-59EC-48AF-9031-F24B906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8AF5-8360-428A-AEC4-EF682BF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8961-BDB9-480A-BFB2-EEEA1AE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C0D-AAC3-475A-8A63-CEF5423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A070B-BC61-4EB0-9A11-AFB85B7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E5DB-0317-47CF-9F32-98389BCA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E8D86-937A-4338-985D-C085F6AE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3FEA-9A98-4F8D-85DB-EE0ACE99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C419-1448-4553-AC6C-2E0D3E83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7AF4-D5DA-4858-9319-1506D702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11E8-125E-4987-83B9-AC411B7C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E36A-7E36-4B2F-B927-94660EEF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75A6C-D322-4FA0-8869-0B53494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8405-4DA8-4FCB-A4CD-BD5EC0B3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81B-D553-4AA0-9DCB-F555649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AD726-EA83-47BD-98B0-CAA53634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C0CD1-8107-49C4-BC68-2E6553F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2D56-4988-4CCD-88F6-00D1A001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0DC0-D1AE-4E09-8B7D-9DDBC938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259B-9EBD-46B8-A1C8-7AA0F7B4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170FB-707D-4FB8-813E-B40AC680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A5DB-CC49-4810-960F-B616C419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B4CC-2493-4F59-8B48-5388973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027E-4E46-4909-8535-29C42F14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7026-2916-49E5-BCED-6FF875B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D8E-CAFC-4358-B0EC-31D42E2A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3519-ED4F-4DB4-9C60-85A57D3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5FE7-BABD-485C-8981-B649666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652B8-06AC-4169-B696-3515E1BC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BA1B7-E3E9-4611-9A4B-4B3D4F76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9F0C4-9296-4602-9B82-29433355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70D1-2B26-4D7A-947B-5B8DC30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9704-8997-4673-B0EB-74A8EACF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CBC2-CA2D-437D-B28D-8A59F5D36C5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54A5-05EB-4FF9-96D0-B302E92FA6E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5CD4-EAA9-4818-B0CD-ADA9B10082A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A006-364A-4217-AFF6-820E662B91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B406-CBD2-40A8-AA6F-B7DAB2431BA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1C3D-F910-4821-B579-5A6DCBDC1DA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F6DB-70B5-4C8A-B4B6-88F5E1649D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D868-F2A0-4791-8A17-D2131E7F227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ren of kopen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Afbeeldingsresultaat voor huren of kopen"/>
          <p:cNvPicPr/>
          <p:nvPr/>
        </p:nvPicPr>
        <p:blipFill>
          <a:blip r:embed="rId2"/>
          <a:stretch/>
        </p:blipFill>
        <p:spPr>
          <a:xfrm>
            <a:off x="-11160" y="-22320"/>
            <a:ext cx="3167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539640" y="1341360"/>
          <a:ext cx="7442280" cy="4343400"/>
        </p:xfrm>
        <a:graphic>
          <a:graphicData uri="http://schemas.openxmlformats.org/drawingml/2006/table">
            <a:tbl>
              <a:tblPr/>
              <a:tblGrid>
                <a:gridCol w="4057920"/>
                <a:gridCol w="3384360"/>
              </a:tblGrid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ttelijke huurbescherming (verhuurder kan je niet zomaar op straat zet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het huis niet verbeteren zoals jij w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a2bf"/>
                      </a:solidFill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e kan in aanmerking komen voor huurtoesl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aarlijkse huurverhoging (op 1 jul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urcontract kan binnen korte tijd opgezegd worden (gemakkelijker verhuiz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een opbouw eigen verm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a2bf">
                        <a:alpha val="20000"/>
                      </a:srgbClr>
                    </a:solidFill>
                  </a:tcPr>
                </a:tc>
              </a:tr>
              <a:tr h="14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et verantwoordelijk voor groot onderhoud (verhuurder betaalt dit); voorbeelden zijn: rotte kozijnen, lekkende dakgoten, tochtende ramen en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da2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611280" y="1268280"/>
          <a:ext cx="7705800" cy="4845240"/>
        </p:xfrm>
        <a:graphic>
          <a:graphicData uri="http://schemas.openxmlformats.org/drawingml/2006/table">
            <a:tbl>
              <a:tblPr/>
              <a:tblGrid>
                <a:gridCol w="4200480"/>
                <a:gridCol w="3505320"/>
              </a:tblGrid>
              <a:tr h="47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oordel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adelen 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1224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oning aanpassen aan eigen woonwen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erhuizen is lastiger (eerst huis verkopen tegen een goede prijs en dan een geschikte woning vinden voor een redelijke prij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1224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s de rente niet omhoog gaat, zijn de hypotheeklasten stabiel (= gelij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t is niet van tevoren bekend of de rente omhoog gaat (en dus ook de hypotheeklas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or af te lossen bouw je eigen vermogen 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Zelf aansprakelijk voor groot onderho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uis kan in waarde da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ra belastingen en heffingen. Bijvoorbeeld onroerende zaakbelasting en opstalverzekering (= verzekering van het huis tegen storm- en brandscha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eb641b"/>
                      </a:solidFill>
                    </a:lnL>
                    <a:lnR w="5760">
                      <a:solidFill>
                        <a:srgbClr val="eb641b"/>
                      </a:solidFill>
                    </a:lnR>
                    <a:lnT w="5760">
                      <a:solidFill>
                        <a:srgbClr val="eb641b"/>
                      </a:solidFill>
                    </a:lnT>
                    <a:lnB w="5760">
                      <a:solidFill>
                        <a:srgbClr val="eb641b"/>
                      </a:solidFill>
                    </a:lnB>
                    <a:solidFill>
                      <a:srgbClr val="eb641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zelf het klein onderhou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owel eigenaren van een koopwoning als huurders betalen inboedelverzekering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fbeeldingsresultaat voor inboedelverzekering"/>
          <p:cNvPicPr/>
          <p:nvPr/>
        </p:nvPicPr>
        <p:blipFill>
          <a:blip r:embed="rId2"/>
          <a:stretch/>
        </p:blipFill>
        <p:spPr>
          <a:xfrm>
            <a:off x="3851280" y="4822920"/>
            <a:ext cx="5291280" cy="2035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Afbeeldingsresultaat voor klein onderhoud woning"/>
          <p:cNvPicPr/>
          <p:nvPr/>
        </p:nvPicPr>
        <p:blipFill>
          <a:blip r:embed="rId3"/>
          <a:stretch/>
        </p:blipFill>
        <p:spPr>
          <a:xfrm>
            <a:off x="6450120" y="2276640"/>
            <a:ext cx="2663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5T16:16:24Z</dcterms:modified>
  <cp:revision>69</cp:revision>
  <dc:subject/>
  <dc:title> </dc:title>
</cp:coreProperties>
</file>