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611-EDB0-4700-AD59-3455BCC1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CAC-05AA-43C7-B155-8C436484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E03-84E7-48EE-A856-565B76B4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6AB-BF09-40E0-86F8-B4E23BBC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E95C-7902-4F65-AE41-D7662A35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CF74-11EA-4A7C-8EA2-D7B4EC23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A12E-EA0F-48F6-8BED-85CA007D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74E1-818E-4952-AF4D-BFB09B41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988F-C7CF-41F1-AF3E-5236B68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399C-ED74-4BA8-A0C0-FF41DB2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35C9-0E47-4161-A601-B032E29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ACF-995A-481C-9603-75B8B7FC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5C4B-0BA3-4947-9C5B-6B4C8AAF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E7F3-AB2D-4309-98C6-DB3354B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7BF3-AFBA-4442-9CAE-3D85EE9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2F18-325F-4B40-BB78-6112A2B2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8908-C763-4382-8249-6A9DE6A8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395F-3876-4339-A32C-CCDAB1E5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1949-EC9D-401C-9BDF-C0756F80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C98E-8CE4-48FD-A560-46A54607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8479-8B7D-4B4B-82AA-216F660D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AE56-1C0F-43AD-B55E-E5035898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3A0-A271-4A0F-A7BA-E24EF4A8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5F0F-4D51-4C3A-B1F2-657E5381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A587-7E01-4D00-821E-F4762D9D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00F8-785C-4E27-88A8-79B22F60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FF6B-45B4-451D-A009-6B68246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FD7A-C666-49D7-8CF6-A07347AC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EA4B-0555-4138-9E3F-63AC8956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B5DF-3839-4820-A2B9-56282208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8DD0-A5D4-4A9D-B792-79877AF9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0C94-4244-46EF-85BD-DDBFDA80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B31F9-D504-46C2-93C1-C81FF98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C55-0C3C-4376-AC95-C702C15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EDC9-9C94-46C5-B463-AEC0903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2302-2122-48E8-B982-FAACA48C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D0A0-FDF8-4492-8C39-CC81C31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A18C6-8475-4732-A769-132CE5D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9BD1-C1DC-4838-A652-D2AB2113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444E-0BCD-44F2-B4E0-74DB48D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A13B-D6E9-4F8B-B3D1-1D8852E4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D46B-4A4B-4160-B3EC-1461D194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8DC8-12B1-4925-B4FD-8FB30141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B8DCE-081E-45C9-938E-7CDFDA4F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EE3-4B72-4AC2-9718-1DB16948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A0D6F-DA31-4A86-A2DD-0534F25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49F6C-382F-4D75-9909-088DBD37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AB500-191F-42C2-B0DB-193F7901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6C06-02E7-438F-8162-78D0DC64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1075-2404-43CD-B803-E877DBE3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58F6-FB71-4FC3-9ABE-D391769D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95E4-76EC-46E7-B578-C36510B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9953-E483-40CA-AB0C-D319C8D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C2A4-7238-46E2-9C55-4BF3BED8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FD4B6-9C4C-417A-9356-94881C53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69A-2EC5-4441-9012-4CFD531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701E3-8918-4D51-AB14-F68B35A3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85A9A-357E-4576-8059-574FA708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60860-EF7B-4ABB-824A-C50414DF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C99E-97A1-4961-87FB-52D63B62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E1DA1-4CEB-4B89-BC54-7E88C5B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45927-41D2-4E6F-ACC5-2B849547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5485C-D916-4D85-A181-4E0603D9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F550D-071E-4D3E-9EDC-2FA93C1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FAC5-B941-409D-A650-FBC87E5F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BA139-5815-454E-8963-5D342B5F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DF8-C1E5-4F42-BB31-208797E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F0CDE-166A-4510-9815-C3BC240A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D196B-50E7-42EE-B52F-55C67714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73FDA-6302-4D73-B7D9-AD831712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A0E0-C547-4647-BB81-94D0D802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5071-DDAD-42E4-ACAA-01B3534E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BD5F-3FA2-4205-BC1F-8881B1C3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247E8-C030-4A30-A657-52DEC50E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B25B-2CFE-4723-A2BA-31A7755F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086A-D5C4-4B4B-B016-7DBDFFF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AD6C2-EE46-4711-B473-36E35B81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A4C-00A6-45E1-9057-D06DE7F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4E1D-4446-48D6-83D1-9E19009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7B092-5F12-45C2-9E9C-27DC1D6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964CE-2B38-4EFE-B114-11AA2104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B6498-D1A7-4F79-B6FA-8A1796AC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B1AA8-0574-4DB4-8774-B5022623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3888D-361C-4615-BF56-0B87DBD6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71C26-830F-481B-B193-50B5AD34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D76EE-3089-46AA-85F6-4D651008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FE9D9-2481-4435-A8C4-351DE8F7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566FE-5420-464C-AAC3-E256D13D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594-101B-4DDA-9F79-2A826E03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DE02-D954-40BE-8572-291AA9B3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0DCD4-ECFF-4E75-88FD-88393239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342E9-3747-4841-915D-A9ACED5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9213-D5C3-4138-B591-AB5B7E3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9C12B-7A97-4EB5-AE95-EF77F97C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B423D-A72C-4A4B-A240-B8552062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1CA93-5570-4FCA-A235-DF94B3EF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275-6CDE-43CE-9997-7EC1FEB87A7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0714-2D46-4590-8B6A-CBB5E6E5515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E97-18FA-4212-A686-03087F6506F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2C23-8191-4D28-A9AE-BDDE2AC76F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24E-F40D-4326-9E37-9694B40BA6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DB44-4DB2-43A1-8144-3AD962B03F6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A0A-AC5B-4BD7-BC0F-94DDC9BC9C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3B63-6B95-4678-A46A-BAFC43F9F78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Een eigen hui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1" descr="https://www.onderhandelmakelaar.com/blog/wp-content/uploads/sites/2/2014/12/Huis-kopen.jpg"/>
          <p:cNvPicPr/>
          <p:nvPr/>
        </p:nvPicPr>
        <p:blipFill>
          <a:blip r:embed="rId2"/>
          <a:stretch/>
        </p:blipFill>
        <p:spPr>
          <a:xfrm>
            <a:off x="0" y="0"/>
            <a:ext cx="2916360" cy="291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ttp://www.duinstramakelaars.nl/wp-content/uploads/2015/05/Nu-een-huis-kopen-wel-of-niet-verstandig.jpg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lf via het internet zoe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makelaar inschake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elke woningen er te koop zijn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ook wat een redelijke prijs is voor de woning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over de prijs onderhandel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kan zorgen voor een rapport over de kwaliteit van de wo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ij weet wat er in de omgeving van de woning wel en niet gebouwd mag wor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https://www.makelaarsland.nl/Content/images/makelaarplaats-landingpage.jpg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2760" indent="-2120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s je een bestaande woning koopt, staat er achter de aankoopsom k.k. (kosten koper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 nieuwe eigenaar moet rekenen op ongeveer 6%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extra kosten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e hij zelf moet betal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Overdrachtsbelasting (2%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Kosten makela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Notariskost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Afsluiten hypotheek       enz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ieuwe woning kopen?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.o.n (vrij op naa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inder extra kosten betalen! Rest wordt d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koper betaal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2760" indent="-212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12760" y="0"/>
            <a:ext cx="848664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s://encrypted-tbn1.gstatic.com/images?q=tbn:ANd9GcSX3ginltl9DQXNYxJBgB419BT25sVNZ2Nknwu6YUdxAmwJanIv-A"/>
          <p:cNvPicPr/>
          <p:nvPr/>
        </p:nvPicPr>
        <p:blipFill>
          <a:blip r:embed="rId2"/>
          <a:stretch/>
        </p:blipFill>
        <p:spPr>
          <a:xfrm>
            <a:off x="7524720" y="5249880"/>
            <a:ext cx="1619280" cy="160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http://i204.photobucket.com/albums/bb128/Binnetie/Knipsel_zps344d83ce.jpg"/>
          <p:cNvPicPr/>
          <p:nvPr/>
        </p:nvPicPr>
        <p:blipFill>
          <a:blip r:embed="rId3"/>
          <a:stretch/>
        </p:blipFill>
        <p:spPr>
          <a:xfrm>
            <a:off x="5602320" y="2637000"/>
            <a:ext cx="35416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Koper en verkoper eens over de verkoop??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voorlopig koopcontract afsluiten (meestal opgesteld door verkoper)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et klinkt een beetje gek, maar ‘voorlopig’ betekent dat je maar 3 dagen bedenktijd hebt om het contract te annuleren.  Houd dit in de gaten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Na deze 3 dagen kun je niet meer zonder boete (10% van de aankoopsom) het contract opzegg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2"/>
          <p:cNvSpPr/>
          <p:nvPr/>
        </p:nvSpPr>
        <p:spPr>
          <a:xfrm>
            <a:off x="155520" y="-1881360"/>
            <a:ext cx="58863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Gerelateerde afbeelding"/>
          <p:cNvPicPr/>
          <p:nvPr/>
        </p:nvPicPr>
        <p:blipFill>
          <a:blip r:embed="rId2"/>
          <a:stretch/>
        </p:blipFill>
        <p:spPr>
          <a:xfrm>
            <a:off x="6948360" y="5397480"/>
            <a:ext cx="21956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kan ook van de koop af als je vantevore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Sans Unicode"/>
              </a:rPr>
              <a:t>ontbindende voorwaarden 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(meestal over financiering en bouwtechnische keuring) in het contract hebt opgenomen. Bijv. als je geen geld kan lenen, dat de koop niet doorgaat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definitieve koopovereenkomst wordt opgesteld door de notaris en door de koper en verkoper ondertekend. Deze overeenkomst heet de transportakt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84852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http://www.beilen-notaris.nl/files/2012/07/testament.jpg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3795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http://www.groningennotaris.nl/files/2011/04/notaris.jpg"/>
          <p:cNvPicPr/>
          <p:nvPr/>
        </p:nvPicPr>
        <p:blipFill>
          <a:blip r:embed="rId3"/>
          <a:stretch/>
        </p:blipFill>
        <p:spPr>
          <a:xfrm>
            <a:off x="3203640" y="3284640"/>
            <a:ext cx="2663640" cy="995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http://www.notarisrotterdam.com/images/transportakte.gif"/>
          <p:cNvPicPr/>
          <p:nvPr/>
        </p:nvPicPr>
        <p:blipFill>
          <a:blip r:embed="rId4"/>
          <a:stretch/>
        </p:blipFill>
        <p:spPr>
          <a:xfrm>
            <a:off x="7956720" y="5275440"/>
            <a:ext cx="11872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6" name="Picture 2" descr="http://www.wegwijs.nl/media/53832356/unnamed_558x558.jpg"/>
          <p:cNvPicPr/>
          <p:nvPr/>
        </p:nvPicPr>
        <p:blipFill>
          <a:blip r:embed="rId2"/>
          <a:stretch/>
        </p:blipFill>
        <p:spPr>
          <a:xfrm>
            <a:off x="1692360" y="0"/>
            <a:ext cx="61434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3336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eigendomsoverdracht van alle onroerende zaken vindt plaats bij de notar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notaris zorgt er vervolgens voor dat de transportakte in het kadaster wordt ingeschr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roerende zaken = grond en alles wat daaraan vastzit (gebouwen, huizen, kantor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daster = instelling waar alle onroerende zaken in Nederland staan geregistreerd. (Hier is dus bekend van wie wat i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3:08Z</dcterms:modified>
  <cp:revision>68</cp:revision>
  <dc:subject/>
  <dc:title> </dc:title>
</cp:coreProperties>
</file>