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C1F-8D2A-44E8-8785-3FFB7CC3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250-797A-4C5B-A1A4-43BAC319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0AB-F618-4558-99E1-76E88916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7B6-FD97-4C9B-8D8A-2171BF7F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FF35-32F1-4A66-9B76-3AAF14BE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F62B-048F-4308-AACC-76D1D3C3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5513-CB8E-43F7-AC72-626363F3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82B9-F0BD-422E-B327-15A8334A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16B5-0F58-4440-BEEC-A5B9EAFD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5EBE-B29A-46CE-9D7B-01CEB1F1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1E1E-A40D-42CF-BAE5-BC2F8073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F06-9EB3-40D5-800F-EBF9EAD7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E633-8702-45D7-99CA-25F75AB1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F0EB-32E4-430E-9DBF-AEE186C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20EF-A056-484B-A269-ACC29B3B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75C9-170F-477E-B24D-813E4ED2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FC3B-8E3B-4E21-AD93-75A8FDFD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6A79-4A67-4297-B10F-122C15E7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C0BC-4994-4B98-8337-E589DDA5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6D9B-85C5-422D-ABA6-EF6FF72B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B8E0-75F5-44C7-A90F-12443CAC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BF51-A11E-4BDF-BB93-6DFCDD4E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C3C-BCBA-49CC-B310-6D9D0E62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0EAE-0838-4145-8A5A-3A68570C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4EDE-B5E8-4243-A66A-8A1ACC7B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DF59E-8879-44ED-8EBD-4FCD8B9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D0F9-B875-4279-BB14-853FDE19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2E90F-45D6-4A95-BFE5-F6D08280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3B252-DC59-4A83-B1D3-A507FECF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A5B2-30F1-4385-9D88-FAA7E1F0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4713-3954-4638-846D-0187821D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2E64-44A3-4F21-86B7-573B4A37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F619-359C-485F-B5AB-735648A5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C31-B0FB-4525-9836-A3EEE73E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9EF5-4006-4CEE-B5B7-C5E19287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D127F-D669-43EF-ADBC-81D3AAB8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C5A92-A409-4946-9900-C0DC21EE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94BF-3EC0-4A45-A8EE-1F5710AC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DF95C-833B-4FC5-9300-9B4507AE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1838A-0A66-465C-8A17-37A047C0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525F-B9C8-44D5-8C72-607086D8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FB613-D6B2-437D-92F4-43B449AA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CD51A-7151-4A72-8C88-DFB56708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F4AB2-2ED7-4765-AD91-BC45174B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DC7-D6BA-4E0E-811A-F9C7E6AA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94B2-6682-465F-B257-047207E9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2A884-DB32-4FE5-9955-4CD3E54C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989CD-6668-47F7-A661-657F8548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10E10-3F7C-4A3F-8EC9-7B7929D1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AD2E8-367A-4441-8F12-7B81879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37DD2-CA4B-465B-A3C2-DCE100A7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10398-5E83-482F-BA8C-FB594B63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6D8E3-EE20-438D-894C-BEACC98A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334C0-20CC-4BCE-A233-8479591A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F7ECF-732C-4BE7-B125-78E1B093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3BE-AE44-4C72-BE0F-17C10CDA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0508E-15E6-469D-A266-3A44BFB8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BCFC9-85E9-4FF8-B67D-09C91D2C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49EE6-D23E-43CA-B434-E041F93B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E7E30-C064-4FB9-9802-2EC785DC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B68A9-A158-4D07-8CB5-A895D8D2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B2F4E-596D-4348-9B4F-3B2D1CEB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76FD0-0FEB-4900-9ECD-2A50B2ED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0A929-BA41-4BB5-9B67-9D0BE414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64555-1574-42DB-84D9-A08A795F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6479E-07DE-4D2B-BF0C-A40750E4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CF6-A83C-44BB-9626-F825F99F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62F02-CEAC-4CCA-A212-0D5511FD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7965-1E71-4AA4-BBB6-FDE41B4A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2A32D-35B5-43DD-9C3F-AB5428B9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948AB-BCCA-43D4-A824-4A84FFBE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BB751-4DC1-4BD3-AEFC-38B2C4F8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78C16-6102-4E0A-8BF7-51581F79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2BF42-A3B5-4511-925C-62B6E7D2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1D503-97F7-4C9E-9694-9294E5AA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734D4-4AD4-4855-8000-431292D3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5DBD9-7EA4-4843-9348-AC0A1E1F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C3E-79FB-479D-AB45-E30BD3C2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04D73-D962-45DF-BCB0-26613BDC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FEA46-F6BC-4BCD-8A09-AFFFFF75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7AF20-E657-42A2-9DCF-CF8AAA8F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68F13-5854-48A0-B910-D0834FC0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7F374-0BEB-4536-8C1A-A7259EB8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8A42E-56A3-4CB6-B065-48E73D79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CF393-113E-4B4A-BFFE-1E0530BE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42878-A3A5-454F-BBAE-1ADEB51D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C86BD-D7AC-4D41-9EBA-9122642C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638E2-9596-4728-8D03-20461DE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0E5-D06C-4959-9F62-F2BEB2F4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F7F5F-AAE3-42CD-A0B8-FB8560B8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449BB-EE4F-4F94-B0EF-8EE8C10D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53481-6DC1-490D-B285-8B1FDEDD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628F4-3DA7-4098-88E0-9D642202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E2780-AC9D-450B-82EE-D0F41956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9BBA4-8789-428F-BCF8-7AA1D22B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924A2-B5AA-4DC6-AA9E-0BA37201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4220-A038-4009-A2DC-F4A41CFA76B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874E-6CA5-40F0-9527-EF06E6B729E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8D2B-39A2-4BDC-9D5C-8979C0CDFDB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AB06-5F9C-452C-9480-F39907C6339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3263-E1BC-4C64-A21C-702F7E90EF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98EF-6F98-4392-ABEB-592CAB32502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3A73-461F-4F45-BE18-1847EBE4E79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4E1F-EF22-4F57-8CBD-13F246A5ACD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zqwjF4RIQU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zekeren, hoe da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Afbeeldingsresultaat voor verzekeren"/>
          <p:cNvPicPr/>
          <p:nvPr/>
        </p:nvPicPr>
        <p:blipFill>
          <a:blip r:embed="rId2"/>
          <a:stretch/>
        </p:blipFill>
        <p:spPr>
          <a:xfrm>
            <a:off x="0" y="-27000"/>
            <a:ext cx="2719440" cy="2832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Afbeeldingsresultaat voor verzekeren"/>
          <p:cNvPicPr/>
          <p:nvPr/>
        </p:nvPicPr>
        <p:blipFill>
          <a:blip r:embed="rId3"/>
          <a:stretch/>
        </p:blipFill>
        <p:spPr>
          <a:xfrm>
            <a:off x="6081840" y="15840"/>
            <a:ext cx="30621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BzqwjF4RIQU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3"/>
          <a:stretch/>
        </p:blipFill>
        <p:spPr>
          <a:xfrm>
            <a:off x="1638360" y="2637000"/>
            <a:ext cx="5924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kunt je verzeker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teriël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chade (= schade die in geld is uit te dru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onzek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(dus alleen als je niet van tevoren kan weten dat er schade ontstaa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gen schade die j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niet opzettelijk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oorzaak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2"/>
          <p:cNvSpPr/>
          <p:nvPr/>
        </p:nvSpPr>
        <p:spPr>
          <a:xfrm>
            <a:off x="15552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606920" y="41400"/>
            <a:ext cx="453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ekeringsovereenkomst tussen verzekerde en verzekeraar (= verzekeringsmaatschappij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olis + polisvoorwaa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luitingen (de zaken die niet worden vergoe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igen risico (bedrag wat je niet vergoed krijg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Afbeeldingsresultaat voor verzekeringspremie"/>
          <p:cNvPicPr/>
          <p:nvPr/>
        </p:nvPicPr>
        <p:blipFill>
          <a:blip r:embed="rId2"/>
          <a:stretch/>
        </p:blipFill>
        <p:spPr>
          <a:xfrm>
            <a:off x="6300720" y="2349360"/>
            <a:ext cx="28432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hankelijk van kans op scha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igen risic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mie uitrek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romillage (1 duizendste deel) van verzekerde waard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oorbeeld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erzekerde waarde is € 45.000 en promillage is 2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€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45.000 : 1000 x 2 = € 9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0112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Afbeeldingsresultaat voor promillage"/>
          <p:cNvPicPr/>
          <p:nvPr/>
        </p:nvPicPr>
        <p:blipFill>
          <a:blip r:embed="rId2"/>
          <a:stretch/>
        </p:blipFill>
        <p:spPr>
          <a:xfrm>
            <a:off x="7164360" y="5284800"/>
            <a:ext cx="18986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3"/>
          <a:stretch/>
        </p:blipFill>
        <p:spPr>
          <a:xfrm>
            <a:off x="611280" y="1557360"/>
            <a:ext cx="7665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oor het afsluiten van een verzekering kun je terecht bij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zekeraar zelf via internet bijv. =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 wri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1 verzekeraar werk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verzekeringsadviseur die voor meerdere verzekeraars werkt. Deze geeft het meest onafhankelijk adv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20T09:28:13Z</dcterms:modified>
  <cp:revision>76</cp:revision>
  <dc:subject/>
  <dc:title> </dc:title>
</cp:coreProperties>
</file>