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2BA-5D6A-4667-8720-4E8A4EB2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2C6-DCE9-4216-B149-9EA94A3A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7E8-1E74-4BD6-9666-E6AD1EAF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33B-97BF-4C47-911B-288AF421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C07-22FB-4A79-993F-080F567E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A017-D7D9-4F82-AB5F-33B68BFA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F56E-BED4-4A5A-A629-9E75772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C159-416C-49EA-85F8-DF07AB4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4716-8A9A-41C4-B677-292BA825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E929-91BB-400F-907D-1D5920E5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FC8A-1CD3-40FA-8773-0AB1F100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BF7-F6A0-466C-9E40-DDF5E58E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B34-2074-4289-9366-707318B3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397F-3214-4DAA-B61A-402CD69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ABAA-42ED-41C8-A90F-B1E9B427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F8A5-A427-4AE6-9DBE-8586B323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BA9A-0C4C-435E-AA32-44B79886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F523-9D48-4823-A323-D4C7AC8F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7B7E-B43B-4ADF-B869-E9BC1C0B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A0D0-0573-4999-98FB-F7060E53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A588-D13D-4942-A338-F1753B98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D88B-809B-4A87-8833-2D271C95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E17-4953-4078-ADE8-517F4C73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75BD-9C8B-4255-8BDE-D92DA1DC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478AC-EFDB-4820-92A2-B5EF539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2CAD-A79F-458B-8BED-B3FC7462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CE2B-7CE5-457C-82A7-6903274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3FB3-608E-4388-BDD6-BEB2EE4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7E0F-8EAC-4155-8BB0-2D7F1CA2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4667C-98D0-4245-9473-58482AA3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1572-3506-47B2-9CB2-E91BA8DE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EEC83-AE68-48DF-BE28-4713313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CF74-CE26-4FCD-8111-49491EBC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BDF-85E2-4B90-A07C-69E8ADC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F662F-AF48-4D74-94F7-27E7B1DD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9AD8B-14C6-4B82-BA9F-95B03346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1FCA-E8B9-43DC-9C01-3A5DCD55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CB51-8CC9-462A-8817-C65B92E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9312-AFDD-4564-819F-B52E9E1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8751C-0202-497D-8818-FA37A05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5E8C-5C72-48A5-82AC-16C06D4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6CB2A-67D7-40F5-8BD9-B1294149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3AD5-0AB4-4805-8372-F3BD4F02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1384-BC4D-4DE2-A860-7BD9A15C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729-D105-452F-962A-2BFA3DB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0A364-4C65-4B6D-97A2-12DEDBC4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2B68-04CB-4FF0-9489-F1C2D6FC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2EF3-4241-488A-AF34-D4D9F72D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75FE-B993-4269-AD94-35FBB1AC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6626-E0FF-4D35-9D01-AFCB1EF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A16A-5347-44FC-AAFF-7C4EBC5D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0ED46-5103-475C-9225-AD6E093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29F79-A286-4AB3-9053-8A63BA7C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7F60-9A87-4FBB-912C-DCE1A510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35FD-B50D-40E4-8B95-93848D7A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DC0-CE5E-4890-97C8-5A93FCD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63BCD-2EA2-40D8-AD4B-E7D7354A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CA0C-637A-4A22-A74A-697B7690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0132-C0E1-497A-9E77-30A7A021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EAD27-63BB-4BB8-86E3-0F3D3809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3147-6461-4B37-AB78-76CE6697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457E-9F11-4727-B697-6BC9158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A5EE-9B86-4941-9AF6-BED76605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0CBDC-7A1A-4AB5-95BA-293F3A0B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A102-36B4-4559-9C17-4E12A57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8A86E-C054-4622-9DB0-16A84AB2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D02-BA44-4F91-803C-8B9090F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DC1E3-FEAD-4FCA-B5DC-7B9A56A9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60384-2672-417B-935C-A7C48C05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80CB9-2945-4465-AEE0-BF485047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2E30-0812-4E46-9317-E1DA9A85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5D40-6F5D-426F-9659-EA81CF9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120A5-5022-49C8-80EE-F4063630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28C65-2D30-44BF-831F-C415D30B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21F2-F5FB-42A8-A31F-6C621B7E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137C0-30DD-40E2-861E-2FB3BD6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9526D-FF9F-48E2-8D35-46BEBAB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7BD-C3EF-4FE3-A000-545211AD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ADF5D-E0F5-4E7F-A37B-EBA9034C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BFD6-F6EE-4850-B518-62FEF21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8D1D-6828-462D-9C73-D02A164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9806A-0197-4F1D-BF2D-28624D69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17B6-BAA7-49CE-A119-7F920D9B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008A7-FF0C-4B17-82C0-42377C25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548BA-F67D-4BD1-86BB-42CF00A3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BC00B-F906-4406-ACE7-3340C836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8190-25BB-447B-93AE-D9610661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B7F15-E81B-43EB-85FD-977C360D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4B1-5CBC-45B1-97F2-4B9F709B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7B2F-B6DE-492C-9769-4AB5D08F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0E50-3986-471D-9B8E-BD39ED6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2FB06-4BC3-487D-866F-EA1770C0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D4FA0-1769-466F-847D-7B69C77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600B3-00E3-44FB-84D5-B74DF58B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32429-5449-4F90-B9D1-745A103C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B948E-F133-42CA-84C5-20222604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2AB-141F-4176-BCE9-C6E5320862B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B050-D963-4979-AA48-9D6A810D403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6037-8B3B-4042-88BF-E29FAA9B75C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1F35-F5EE-4888-A47C-84FA843B14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DF18-AE7E-4F9A-B9FF-F285819D69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039-D290-4CB5-8915-806453967A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7B1-D03D-4D91-999A-2424D020E8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4A78-357E-47BA-81D9-B566D4E5AE7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826920" y="103320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De woningfinancier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://www.eggebeenverzekeringen.nl/img/hypotheek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http://www.detijdnotariaat.nl/images/diensten-hypotheek.jpg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http://www.at5.nl/artikelen/163193/blindkopers_sophie_zag_haar_nieuwe_huis_pas_bij_de_sleuteloverdracht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ing voor de aankoop van een hu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eklasten: maandelijks aflossing en rent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huis geldt al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pa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e woning. Dit betekent dat wanneer de koper de hypotheeklasten niet kan betalen, dat de bank de woning verkoopt en met de opbrengst de hypotheek aflo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5"/>
          <p:cNvSpPr/>
          <p:nvPr/>
        </p:nvSpPr>
        <p:spPr>
          <a:xfrm>
            <a:off x="155520" y="-1600200"/>
            <a:ext cx="681048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6340320" y="5516640"/>
            <a:ext cx="27734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18900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at de bank een lening verstrekt, laat de bank een deskundige de woning taxeren (= werkelijke waarde vaststell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ank wil namelijk niet meer dan de werkelijke waarde van de woning le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bank meer leent dan de woning waard is, loopt de bank het risico het geleende bedrag niet geheel terug te krijg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6" descr="Gerelateerde afbeelding"/>
          <p:cNvPicPr/>
          <p:nvPr/>
        </p:nvPicPr>
        <p:blipFill>
          <a:blip r:embed="rId1"/>
          <a:stretch/>
        </p:blipFill>
        <p:spPr>
          <a:xfrm>
            <a:off x="3348000" y="458136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het begin hebben veel mensen moeite om hun hypotheek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termijn is in het begin hoog in verhouding tot hun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ijg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emakkelijker om de lasten de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aling inkomst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oeilijker om de lasten te betal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rkloos of arbeid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geschikt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ings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bl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5248440" y="4149720"/>
            <a:ext cx="38955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Afbeeldingsresultaat voor lineaire hypotheek"/>
          <p:cNvPicPr/>
          <p:nvPr/>
        </p:nvPicPr>
        <p:blipFill>
          <a:blip r:embed="rId3"/>
          <a:stretch/>
        </p:blipFill>
        <p:spPr>
          <a:xfrm>
            <a:off x="1403280" y="148428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iabel; percentage kan op elk moment omhoog- of omlaaggaa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 jaar vas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 jaar v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www.mondtadviesgroep.nl/wp-content/uploads/2013/11/belastingrente.jpg"/>
          <p:cNvPicPr/>
          <p:nvPr/>
        </p:nvPicPr>
        <p:blipFill>
          <a:blip r:embed="rId2"/>
          <a:stretch/>
        </p:blipFill>
        <p:spPr>
          <a:xfrm>
            <a:off x="4078440" y="4149720"/>
            <a:ext cx="50655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al betaalde aflossi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 de hogere marktwaarde van de won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oning is meer waard dan ervoor betaald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Afbeeldingsresultaat voor aflossingen"/>
          <p:cNvPicPr/>
          <p:nvPr/>
        </p:nvPicPr>
        <p:blipFill>
          <a:blip r:embed="rId2"/>
          <a:stretch/>
        </p:blipFill>
        <p:spPr>
          <a:xfrm>
            <a:off x="1979640" y="3500280"/>
            <a:ext cx="599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14T10:14:05Z</dcterms:modified>
  <cp:revision>75</cp:revision>
  <dc:subject/>
  <dc:title> </dc:title>
</cp:coreProperties>
</file>