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1584-D3C2-4AF6-A30B-47E4F469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FE13-2129-4F7F-AD24-0D88C73B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249C-63B0-4FB5-B0AD-7F25AD75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72F9-6057-48D6-B950-FA4C2E29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2EDA-40D2-4D40-8822-E7B8D508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A6CB-9688-45FF-BCEE-66C5D41D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3839-23D8-4289-816A-DE2F2536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21AE-2824-43AF-93CB-054DC31F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4153-8179-41F3-8583-9F214B97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8EA4-BC3C-4B75-8F71-EB75F5DF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9F96-DEAB-4A00-9F90-5BA58B81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088-688C-43DB-B8E3-6F2361D6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6CBF-6D1B-42A3-99AB-19302F9F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4CED-8C6F-4B7A-8DEC-14743CE0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1DBE-F5E8-4864-9B3B-E1FFA268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C7F4-55E1-446C-B020-5203522D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901F-7087-4167-9133-71F962E2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00EDB-C65A-426C-B20A-D44D8F76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B9FBB-4CC5-43F7-B403-D9530CC4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A66FB-D8EC-499C-9034-1E9841EB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FCCA8-1BE4-4E76-B21C-304583E1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AA070-52F9-488A-A0E8-0249011A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CBAE-B54B-4C6A-BED4-420942B3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83E56-45BF-4FFA-8FDF-5579A22F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E95D6-C1B3-478A-B3EB-08ACF41B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34230-AEE9-4CA1-9D9F-A4F524C8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F6B73-4D58-42AC-B333-F7E7B407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9AF69-F0B3-42E7-BBC4-0BF5881A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36739-25ED-4AD0-BE8C-85BFB445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B3D2A-D07B-446E-A705-50712D0A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D862B-4D37-4877-9D80-3370FD7A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95E3D-6B6A-4041-879E-20A35080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87037-9D71-49FD-AA48-6BE63262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86A8-4C2C-4708-A0F6-6F8FFBE9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C322A-1D79-44A0-A530-C2B842F4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E3FD4-9669-4B93-BD86-A7F67A53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4E3CA-9EDF-404B-9429-50343C5D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5EAA6-0588-4E34-BFBA-227C9A16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E58DF-965A-4270-9DC1-F63408D7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8BD98-CD9E-45E5-9366-CA9E0E62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13E0D-6FBD-4C42-A427-40D1457E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68D50-073B-4B1F-A5C7-83A2E477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8D553-1748-4DAF-9129-7957044B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5C03A-303E-4BC6-A475-C8803584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6DD9-DF2F-46A2-9538-3A358AB9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4EE77-498F-4608-8983-FCE878C6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82996-86FC-489F-8300-EB72B513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BA902-6628-448C-B491-DFE53B57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84784-604B-49DF-950D-E4D4FF5B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83B02-A97F-4D8F-B32B-02F4A433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26E50-FF35-442D-9E6C-15AE216E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B24D4-7CE5-4F9E-9E7A-1E23C9D9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C369B-EF7F-4125-B916-F4696F81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2D1FF-09CF-4919-9A68-B139F942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BF844-AB5E-4091-8EBD-6EAC0232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36FC-9AE1-47F5-B09A-F311F355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8520C-B190-4500-A870-6B9A9325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ED855-9C0B-430A-8CA2-CB0E2E61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46B58-7F8D-4415-A1BD-DAD8C4D7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A8140-23BE-4B20-AB57-D2136922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936FA-7C25-4D81-ABBA-E11804D9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FCBE0-F405-4F3E-9124-CFBCFB29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B20A1-009B-4BD6-A809-C3925854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98108-1AA2-4E9A-902A-22538718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62C02-57E8-450E-9871-4EA9530A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6A9F2-F0E3-4EA5-8A7A-CED6AF44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EEA1-7F8C-4256-8965-8EEED373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7EB14-C3BB-4D81-A18B-23DF9C06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6C758-6C43-4602-85B5-29D2B314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E400B-087E-4D01-87C0-84AC841B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8B5C0-ACEF-49F3-93A2-946E58E5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F9676-3B38-434C-96CC-51864270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9ECA5-4415-426B-8803-8FC1484F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832DD-D350-4D65-A53F-ED2C419C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1F4C9-5028-447D-980A-25A401D1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B06E6-85E5-4141-AB51-7C719BE6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261A9-85CB-471C-AF40-F719DF4B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99D2-861D-4EE5-8452-54B50BF6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53E93-8728-4BDF-AA59-02C93DF2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1F18F-FA64-4BB0-993E-D03C670B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A2AB1-2194-4DE8-AF11-5814A101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5EEE0-9664-4723-99EA-9D53CB83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FB732-BF19-44ED-93C0-636801AD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50ADF-9BC7-4015-AA35-447F556E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D04DF-EC50-4EC8-B609-7EECE945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04A34-B291-4D08-B526-1A3FB5F0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DDF61-331A-420B-AC1C-D14CAADA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11D78-BCD8-4B3E-9AB0-E12F82E8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E94-846D-46B2-9B20-C848DAA5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E4B63-99FF-4FA9-8850-965D93C0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D0564-6F1B-43BF-8D97-27D04435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F2010-3907-4E60-8A76-3C752B7B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E0196-1207-4FFF-B82A-26BBE92F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3C816-F037-459A-8485-9FA5C42D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18B1E-BC68-42A9-A5EB-8ED39189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E83BE-FF88-4BA5-BF22-D52B112D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DE09-C7DA-4E3F-B0F2-C4BC75E94D0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C615-3162-487E-B5EA-6170B0AAE7E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2C9B-EA50-4B69-A2E5-D2101CE2B2A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43E5-BA4C-4BDE-A4D7-7591D58B5FD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FA5C-27DF-4933-8006-208B780B25F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395A-0694-4B99-A8F1-4B1976DC73D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51E0-A037-4765-BBE3-A09535999EC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E2BC-FAEF-470B-AC97-8E71F96837C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oed verzeker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goed verzekerd"/>
          <p:cNvPicPr/>
          <p:nvPr/>
        </p:nvPicPr>
        <p:blipFill>
          <a:blip r:embed="rId2"/>
          <a:stretch/>
        </p:blipFill>
        <p:spPr>
          <a:xfrm>
            <a:off x="0" y="17640"/>
            <a:ext cx="313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836640"/>
            <a:ext cx="86868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stalverzekering; schade aa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boedelverzekering; schade aan spullen i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sprakelijkheidsverzekering particulieren (AVP); schade aan de an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ttelijke aansprakelijkheidsverzekering (WA); voor bestuurders motorvoertuig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-cascoverzekering (all riskverzekering); schade van tegenpartij en eigen voertui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rgverzekering; voor ziektekost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70588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Afbeeldingsresultaat voor WA verzekering"/>
          <p:cNvPicPr/>
          <p:nvPr/>
        </p:nvPicPr>
        <p:blipFill>
          <a:blip r:embed="rId2"/>
          <a:stretch/>
        </p:blipFill>
        <p:spPr>
          <a:xfrm>
            <a:off x="6858000" y="5367240"/>
            <a:ext cx="2286000" cy="1486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Afbeeldingsresultaat voor opstalverzekering"/>
          <p:cNvPicPr/>
          <p:nvPr/>
        </p:nvPicPr>
        <p:blipFill>
          <a:blip r:embed="rId3"/>
          <a:stretch/>
        </p:blipFill>
        <p:spPr>
          <a:xfrm>
            <a:off x="4586400" y="5392800"/>
            <a:ext cx="2271600" cy="1492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Afbeeldingsresultaat voor inboedelverzekering"/>
          <p:cNvPicPr/>
          <p:nvPr/>
        </p:nvPicPr>
        <p:blipFill>
          <a:blip r:embed="rId4"/>
          <a:stretch/>
        </p:blipFill>
        <p:spPr>
          <a:xfrm>
            <a:off x="2706840" y="545616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Afbeeldingsresultaat voor aansprakelijkheidsverzekering particulieren"/>
          <p:cNvPicPr/>
          <p:nvPr/>
        </p:nvPicPr>
        <p:blipFill>
          <a:blip r:embed="rId5"/>
          <a:stretch/>
        </p:blipFill>
        <p:spPr>
          <a:xfrm>
            <a:off x="306360" y="5486400"/>
            <a:ext cx="2394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v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re verzekerde waarde dan juiste of getaxeerde waard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nde van de hogere premie die betaalt, want bij schade krijg je niet meer vergoed dan de werkelijke scha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nd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agere verzekerde waarde dan juiste of getaxeerde 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ij schade krijg je minder vergoed dan de werkelijke schade, omdat je maar voor een deel bent verzekerd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ierbij geldt de onderverzekeringsbreuk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268200" y="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385" name="PIJL-RECHTS 3"/>
          <p:cNvSpPr/>
          <p:nvPr/>
        </p:nvSpPr>
        <p:spPr>
          <a:xfrm>
            <a:off x="6516720" y="6165720"/>
            <a:ext cx="2232000" cy="432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Afbeeldingsresultaat voor oververzekering"/>
          <p:cNvPicPr/>
          <p:nvPr/>
        </p:nvPicPr>
        <p:blipFill>
          <a:blip r:embed="rId2"/>
          <a:stretch/>
        </p:blipFill>
        <p:spPr>
          <a:xfrm>
            <a:off x="6684840" y="2565360"/>
            <a:ext cx="2482920" cy="1217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onderverzekering"/>
          <p:cNvPicPr/>
          <p:nvPr/>
        </p:nvPicPr>
        <p:blipFill>
          <a:blip r:embed="rId3"/>
          <a:stretch/>
        </p:blipFill>
        <p:spPr>
          <a:xfrm>
            <a:off x="2336760" y="2565360"/>
            <a:ext cx="17337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(Verzekerd bedrag : getaxeerde waarde) x schade = schade uit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1-11T09:15:51Z</dcterms:modified>
  <cp:revision>80</cp:revision>
  <dc:subject/>
  <dc:title> </dc:title>
</cp:coreProperties>
</file>