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12.png" ContentType="image/png"/>
  <Override PartName="/ppt/media/image9.png" ContentType="image/png"/>
  <Override PartName="/ppt/media/image10.png" ContentType="image/png"/>
  <Override PartName="/ppt/media/image11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7F7D9-0629-4A1D-AC29-7FD2E6D0A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718B7-4B25-4B48-AA41-4846760D1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0CABD-A9B1-48E8-A1E4-58DE71385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54ED5-283C-4BC1-9F34-595F0A66C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48145-447F-4EB0-99BB-CA66CD93A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D298D-B602-4A89-9940-55E641C9E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C4AE0-E7A3-4FC2-ACB3-CC2936571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C63D6-6205-4EBE-893A-B963BD3C6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124D5-B3F4-4B2F-B28E-42707F8EF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ED11C-5D6D-465A-9884-46C3E1DCE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0A108-7D9A-4768-A232-D889864DF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A1F8E-7C50-428A-B2BB-852CC5420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867DD-B57A-4720-BC58-C905CB330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CF445-5BF4-4D53-8E00-9AB6EF0C5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66A56-3EAE-42D5-9A15-34944BCB6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0CDD7-A073-4A61-892C-1E4F1725E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31115-5AD5-4F78-8154-785F23E50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735586-3D9B-4328-AFBA-041838F7E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42E73D-8B06-4719-8BDC-3FFBE848C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7D9CD3-3B48-4F8F-8059-4E035C49F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24292D-AA39-49E4-A2E5-0BCF17AE0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57CF78-3E58-4773-9306-2A380E266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5CF9F-BACC-46C1-B2BF-ADAD8F992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7CCB88-9DBB-4A39-AA3E-1BCCFF6F2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B2C68A-A377-483C-A44D-70F138468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7A5D6B-9B98-43CF-B691-B4EA6E26C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0A65D7-1D77-440F-9C59-AA8F8A8E5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17D604-1F90-4CB6-A8D5-FC69A0B40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0A4CE3-6041-45DA-93C2-6DB36BDB0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1C71B4-4786-41CB-9A38-15882A1DB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8DD6E9-6B2A-410B-B819-B854FCEFE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298668-183E-4146-9E09-3B2D0B954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28D9E6-506D-4076-8985-3DED4E747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54D9A-9A9B-46A5-A1BE-71EBCA8B4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7E0C2B-6184-4C8F-8AFB-9BAF16F85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17C568-4491-457E-BD3D-593524AB6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9FA20A-126A-4C5A-84E6-3431C2839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4BF405-09F6-4B5B-A481-5E9A28150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5F5412-23FC-4B7E-9170-F7E22ACD0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9C377F-E0EE-4FBB-8354-6D081693C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CA51B2-40E7-4453-975C-A8DB265DE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E25482-FC3D-40D9-A0F9-F9370A217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3AD3E7-27AA-47DA-B5DE-6932DB762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1458FB-A8C7-4802-B29E-7A9444014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D7D32-AA3C-4FFD-9961-301C1F472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3D201B-69EB-4934-B1DD-9BEF97530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A77063-C8F9-479E-A3AA-D1FE4A418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46D47A-EC4B-4D12-98A8-5EC43D313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DF1E00-BAFB-464D-8676-7519F84D5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E8BDFD-4E83-44FF-9C78-5CCEFE52B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BC83DB-F5C9-4314-8F2A-77016B3B4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4F6C79-874F-41C7-A3EA-6F1EE24E6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2B52CB-E373-45AC-923C-73F3F3928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02FD9C-7AC0-4D40-93BB-58DB7AF3F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0F26A7-B57A-4385-95BC-08ED902A6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C57B8-53C2-47BF-8AFE-C3B917E6E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B501AE-1026-4498-A424-46E2169BC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0522E4-90E2-4914-88BA-616FE7BC0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4BA74F-9C93-4486-A051-5D8FB5D72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821A2E-BC1D-4AD7-81B9-A9E70BD9F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EF8C77-29A2-4EC3-841B-3E5908D21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3A75B6-A6C1-4605-A011-1E0F1D3C5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B1F797-2034-462D-83EA-C53D84A4F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698C22-B796-4FF3-B592-DCFDF2DC0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BE1F03-E0CC-4B46-A0D4-14143AB80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75E2B0-BA09-4D72-9C2D-DF9FDC2D4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DFDC1-ACFE-428A-ADEE-A01D5C1DF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2ED67F-7208-401B-9B12-3992E6826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06663D-5925-4BD0-9392-A054CFDA5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44400F-7B74-43B5-A80E-D0951EE5E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BC1F41-63DC-46A8-BA7C-47DF79685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093865-B188-4DE3-9051-EC6A3061A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EA28AB-F448-45F7-A499-1251CEA30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38CFA7-3764-44DB-9BDF-69B06DDE8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064751-8370-4120-BCC6-F17D5B439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3604E8-3F9C-4768-916D-7AD5BDE03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1DFA84-3E98-4D5D-AE5C-15D5E099F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E5525-1BDA-4E3E-A6C6-7B42045E7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5384BA-A1CA-430C-9703-EFB2D3201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A167DC-E08E-41F7-BBC2-28D3994C8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E87EDB-429B-4311-81B6-4B9CBB799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B11C5D-0FD8-401A-B1C3-7DE9DF110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30B92A-6F19-4D69-A964-48E6F44D0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12B947-45FC-4B73-AFEC-6DED971F6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059A66-A295-4ECC-8CAD-72A927E16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F13028-C703-45CB-B40F-5C0B1015A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8C4C1F-51D2-437E-83A6-194F412B6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297201-8A82-44AA-BF18-D82390339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67707-59DF-4FAA-9B95-0D90BA15E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5C7707-0BD5-4DA5-891A-80878DE22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8120D5-06E9-496A-BCB1-38EF17598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084087-3A58-4A8C-B134-85E6CD4E8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AEE42E-1D53-4136-ADD6-98BB1E00C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81E284-3E08-44C2-9ECB-6E8CE40E6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CF70DF-A013-47F8-BDF0-CF7777884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CE11D6-7D98-484F-B7A7-E4CCBD24C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echthoekige driehoek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Rechte verbindingslijn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CFF32-E3D1-4EE9-98A8-FEFB5229B190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hthoekige driehoek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e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Vrije vorm 15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Vrije vorm 18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Vrije vorm 18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Vrije vorm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Rechte verbindingslijn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F73A6-ED30-4B92-940C-65D830A9E5D6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Punthaak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unthaak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6BAE1-AECB-4028-90D0-34BC2CD04C55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7AED3-52B0-441A-8A2B-F24128F75523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73286-86FD-4717-914F-2319D573817A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0A3C9-5BDD-4257-AF92-59DEB4234545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2F645-040D-45BC-B065-92B00F3D0B10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Vrije v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Vrije v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echthoekige driehoek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Rechthoekige driehoek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Rechte verbindingslijn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Punthaak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unthaak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0E3BB-5CDD-4251-A40F-43AB327A8C5D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el 1" descr=""/>
          <p:cNvPicPr/>
          <p:nvPr/>
        </p:nvPicPr>
        <p:blipFill>
          <a:blip r:embed="rId1"/>
          <a:stretch/>
        </p:blipFill>
        <p:spPr>
          <a:xfrm>
            <a:off x="689040" y="1755720"/>
            <a:ext cx="7772400" cy="18288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755640" y="1125360"/>
            <a:ext cx="7772400" cy="3686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Lucida Sans Unicode"/>
              </a:rPr>
              <a:t>ECONOMIE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Paragraaf 4.4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Huren of kopen?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2" name="AutoShape 6"/>
          <p:cNvSpPr/>
          <p:nvPr/>
        </p:nvSpPr>
        <p:spPr>
          <a:xfrm>
            <a:off x="155520" y="-2095560"/>
            <a:ext cx="6991560" cy="43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AutoShape 8"/>
          <p:cNvSpPr/>
          <p:nvPr/>
        </p:nvSpPr>
        <p:spPr>
          <a:xfrm>
            <a:off x="307800" y="-1943280"/>
            <a:ext cx="6991560" cy="43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AutoShape 10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AutoShape 12"/>
          <p:cNvSpPr/>
          <p:nvPr/>
        </p:nvSpPr>
        <p:spPr>
          <a:xfrm>
            <a:off x="216000" y="1584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Picture 11" descr="Afbeeldingsresultaat voor huren of kopen"/>
          <p:cNvPicPr/>
          <p:nvPr/>
        </p:nvPicPr>
        <p:blipFill>
          <a:blip r:embed="rId2"/>
          <a:stretch/>
        </p:blipFill>
        <p:spPr>
          <a:xfrm>
            <a:off x="-11160" y="-22320"/>
            <a:ext cx="3167280" cy="201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7" name=""/>
          <p:cNvGraphicFramePr/>
          <p:nvPr/>
        </p:nvGraphicFramePr>
        <p:xfrm>
          <a:off x="539640" y="1341360"/>
          <a:ext cx="7442280" cy="4343400"/>
        </p:xfrm>
        <a:graphic>
          <a:graphicData uri="http://schemas.openxmlformats.org/drawingml/2006/table">
            <a:tbl>
              <a:tblPr/>
              <a:tblGrid>
                <a:gridCol w="4057920"/>
                <a:gridCol w="3384360"/>
              </a:tblGrid>
              <a:tr h="574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Voordel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2da2bf"/>
                      </a:solidFill>
                    </a:lnT>
                    <a:lnB w="5760">
                      <a:solidFill>
                        <a:srgbClr val="2da2b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Nadelen 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2da2bf"/>
                      </a:solidFill>
                    </a:lnT>
                    <a:lnB w="5760">
                      <a:solidFill>
                        <a:srgbClr val="2da2bf"/>
                      </a:solidFill>
                    </a:lnB>
                    <a:noFill/>
                  </a:tcPr>
                </a:tc>
              </a:tr>
              <a:tr h="869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Wettelijke huurbescherming (verhuurder kan je niet zomaar op straat zetten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2da2bf"/>
                      </a:solidFill>
                    </a:lnT>
                    <a:lnB>
                      <a:noFill/>
                    </a:lnB>
                    <a:solidFill>
                      <a:srgbClr val="2da2bf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Je kan het huis niet verbeteren zoals jij wi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2da2bf"/>
                      </a:solidFill>
                    </a:lnT>
                    <a:lnB>
                      <a:noFill/>
                    </a:lnB>
                    <a:solidFill>
                      <a:srgbClr val="2da2bf">
                        <a:alpha val="20000"/>
                      </a:srgbClr>
                    </a:solidFill>
                  </a:tcPr>
                </a:tc>
              </a:tr>
              <a:tr h="576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Je kan in aanmerking komen voor huurtoesla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Jaarlijkse huurverhoging (op 1 juli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68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Huurcontract kan binnen korte tijd opgezegd worden (gemakkelijker verhuizen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2da2bf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 </a:t>
                      </a: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Geen opbouw eigen vermog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2da2bf">
                        <a:alpha val="20000"/>
                      </a:srgbClr>
                    </a:solidFill>
                  </a:tcPr>
                </a:tc>
              </a:tr>
              <a:tr h="1454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Niet verantwoordelijk voor groot onderhoud (verhuurder betaalt dit); voorbeelden zijn: rotte kozijnen, lekkende dakgoten, tochtende ramen enz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2da2b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2da2b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78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9" name=""/>
          <p:cNvGraphicFramePr/>
          <p:nvPr/>
        </p:nvGraphicFramePr>
        <p:xfrm>
          <a:off x="611280" y="1268280"/>
          <a:ext cx="7705800" cy="4845240"/>
        </p:xfrm>
        <a:graphic>
          <a:graphicData uri="http://schemas.openxmlformats.org/drawingml/2006/table">
            <a:tbl>
              <a:tblPr/>
              <a:tblGrid>
                <a:gridCol w="4200480"/>
                <a:gridCol w="3505320"/>
              </a:tblGrid>
              <a:tr h="478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Voordel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eb641b"/>
                      </a:solidFill>
                    </a:lnL>
                    <a:lnR w="5760">
                      <a:solidFill>
                        <a:srgbClr val="eb641b"/>
                      </a:solidFill>
                    </a:lnR>
                    <a:lnT w="5760">
                      <a:solidFill>
                        <a:srgbClr val="eb641b"/>
                      </a:solidFill>
                    </a:lnT>
                    <a:lnB w="12240">
                      <a:solidFill>
                        <a:srgbClr val="eb641b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Nadelen 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eb641b"/>
                      </a:solidFill>
                    </a:lnL>
                    <a:lnR w="5760">
                      <a:solidFill>
                        <a:srgbClr val="eb641b"/>
                      </a:solidFill>
                    </a:lnR>
                    <a:lnT w="5760">
                      <a:solidFill>
                        <a:srgbClr val="eb641b"/>
                      </a:solidFill>
                    </a:lnT>
                    <a:lnB w="12240">
                      <a:solidFill>
                        <a:srgbClr val="eb641b"/>
                      </a:solidFill>
                    </a:lnB>
                    <a:noFill/>
                  </a:tcPr>
                </a:tc>
              </a:tr>
              <a:tr h="12031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Woning aanpassen aan eigen woonwens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eb641b"/>
                      </a:solidFill>
                    </a:lnL>
                    <a:lnR w="5760">
                      <a:solidFill>
                        <a:srgbClr val="eb641b"/>
                      </a:solidFill>
                    </a:lnR>
                    <a:lnT w="12240">
                      <a:solidFill>
                        <a:srgbClr val="eb641b"/>
                      </a:solidFill>
                    </a:lnT>
                    <a:lnB w="5760">
                      <a:solidFill>
                        <a:srgbClr val="eb641b"/>
                      </a:solidFill>
                    </a:lnB>
                    <a:solidFill>
                      <a:srgbClr val="eb641b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Verhuizen is lastiger (eerst huis verkopen tegen een goede prijs en dan een geschikte woning vinden voor een redelijke prij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eb641b"/>
                      </a:solidFill>
                    </a:lnL>
                    <a:lnR w="5760">
                      <a:solidFill>
                        <a:srgbClr val="eb641b"/>
                      </a:solidFill>
                    </a:lnR>
                    <a:lnT w="12240">
                      <a:solidFill>
                        <a:srgbClr val="eb641b"/>
                      </a:solidFill>
                    </a:lnT>
                    <a:lnB w="5760">
                      <a:solidFill>
                        <a:srgbClr val="eb641b"/>
                      </a:solidFill>
                    </a:lnB>
                    <a:solidFill>
                      <a:srgbClr val="eb641b">
                        <a:alpha val="20000"/>
                      </a:srgbClr>
                    </a:solidFill>
                  </a:tcPr>
                </a:tc>
              </a:tr>
              <a:tr h="736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Als de rente niet omhoog gaat, zijn de hypotheeklasten stabiel (= gelijk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eb641b"/>
                      </a:solidFill>
                    </a:lnL>
                    <a:lnR w="5760">
                      <a:solidFill>
                        <a:srgbClr val="eb641b"/>
                      </a:solidFill>
                    </a:lnR>
                    <a:lnT w="5760">
                      <a:solidFill>
                        <a:srgbClr val="eb641b"/>
                      </a:solidFill>
                    </a:lnT>
                    <a:lnB w="5760">
                      <a:solidFill>
                        <a:srgbClr val="eb641b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Het is niet van tevoren bekend of de rente omhoog gaat (en dus ook de hypotheeklasten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eb641b"/>
                      </a:solidFill>
                    </a:lnL>
                    <a:lnR w="5760">
                      <a:solidFill>
                        <a:srgbClr val="eb641b"/>
                      </a:solidFill>
                    </a:lnR>
                    <a:lnT w="5760">
                      <a:solidFill>
                        <a:srgbClr val="eb641b"/>
                      </a:solidFill>
                    </a:lnT>
                    <a:lnB w="5760">
                      <a:solidFill>
                        <a:srgbClr val="eb641b"/>
                      </a:solidFill>
                    </a:lnB>
                    <a:noFill/>
                  </a:tcPr>
                </a:tc>
              </a:tr>
              <a:tr h="490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Door af te lossen bouw je eigen vermogen o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eb641b"/>
                      </a:solidFill>
                    </a:lnL>
                    <a:lnR w="5760">
                      <a:solidFill>
                        <a:srgbClr val="eb641b"/>
                      </a:solidFill>
                    </a:lnR>
                    <a:lnT w="5760">
                      <a:solidFill>
                        <a:srgbClr val="eb641b"/>
                      </a:solidFill>
                    </a:lnT>
                    <a:lnB w="5760">
                      <a:solidFill>
                        <a:srgbClr val="eb641b"/>
                      </a:solidFill>
                    </a:lnB>
                    <a:solidFill>
                      <a:srgbClr val="eb641b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Zelf aansprakelijk voor groot onderhou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eb641b"/>
                      </a:solidFill>
                    </a:lnL>
                    <a:lnR w="5760">
                      <a:solidFill>
                        <a:srgbClr val="eb641b"/>
                      </a:solidFill>
                    </a:lnR>
                    <a:lnT w="5760">
                      <a:solidFill>
                        <a:srgbClr val="eb641b"/>
                      </a:solidFill>
                    </a:lnT>
                    <a:lnB w="5760">
                      <a:solidFill>
                        <a:srgbClr val="eb641b"/>
                      </a:solidFill>
                    </a:lnB>
                    <a:solidFill>
                      <a:srgbClr val="eb641b">
                        <a:alpha val="20000"/>
                      </a:srgbClr>
                    </a:solidFill>
                  </a:tcPr>
                </a:tc>
              </a:tr>
              <a:tr h="490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eb641b"/>
                      </a:solidFill>
                    </a:lnL>
                    <a:lnR w="5760">
                      <a:solidFill>
                        <a:srgbClr val="eb641b"/>
                      </a:solidFill>
                    </a:lnR>
                    <a:lnT w="5760">
                      <a:solidFill>
                        <a:srgbClr val="eb641b"/>
                      </a:solidFill>
                    </a:lnT>
                    <a:lnB w="5760">
                      <a:solidFill>
                        <a:srgbClr val="eb641b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Huis kan in waarde dal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eb641b"/>
                      </a:solidFill>
                    </a:lnL>
                    <a:lnR w="5760">
                      <a:solidFill>
                        <a:srgbClr val="eb641b"/>
                      </a:solidFill>
                    </a:lnR>
                    <a:lnT w="5760">
                      <a:solidFill>
                        <a:srgbClr val="eb641b"/>
                      </a:solidFill>
                    </a:lnT>
                    <a:lnB w="5760">
                      <a:solidFill>
                        <a:srgbClr val="eb641b"/>
                      </a:solidFill>
                    </a:lnB>
                    <a:noFill/>
                  </a:tcPr>
                </a:tc>
              </a:tr>
              <a:tr h="14461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eb641b"/>
                      </a:solidFill>
                    </a:lnL>
                    <a:lnR w="5760">
                      <a:solidFill>
                        <a:srgbClr val="eb641b"/>
                      </a:solidFill>
                    </a:lnR>
                    <a:lnT w="5760">
                      <a:solidFill>
                        <a:srgbClr val="eb641b"/>
                      </a:solidFill>
                    </a:lnT>
                    <a:lnB w="5760">
                      <a:solidFill>
                        <a:srgbClr val="eb641b"/>
                      </a:solidFill>
                    </a:lnB>
                    <a:solidFill>
                      <a:srgbClr val="eb641b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Extra belastingen en heffingen. Bijvoorbeeld onroerende zaakbelasting en opstalverzekering (= verzekering van het huis tegen storm- en brandschad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eb641b"/>
                      </a:solidFill>
                    </a:lnL>
                    <a:lnR w="5760">
                      <a:solidFill>
                        <a:srgbClr val="eb641b"/>
                      </a:solidFill>
                    </a:lnR>
                    <a:lnT w="5760">
                      <a:solidFill>
                        <a:srgbClr val="eb641b"/>
                      </a:solidFill>
                    </a:lnT>
                    <a:lnB w="5760">
                      <a:solidFill>
                        <a:srgbClr val="eb641b"/>
                      </a:solidFill>
                    </a:lnB>
                    <a:solidFill>
                      <a:srgbClr val="eb641b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  <p:pic>
        <p:nvPicPr>
          <p:cNvPr id="380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Zowel eigenaren van een koopwoning als huurders betalen zelf het klein onderhoud!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Zowel eigenaren van een koopwoning als huurders betalen inboedelverzekering!!!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2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2" descr="Afbeeldingsresultaat voor inboedelverzekering"/>
          <p:cNvPicPr/>
          <p:nvPr/>
        </p:nvPicPr>
        <p:blipFill>
          <a:blip r:embed="rId2"/>
          <a:stretch/>
        </p:blipFill>
        <p:spPr>
          <a:xfrm>
            <a:off x="3851280" y="4822920"/>
            <a:ext cx="5291280" cy="203508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4" descr="Afbeeldingsresultaat voor klein onderhoud woning"/>
          <p:cNvPicPr/>
          <p:nvPr/>
        </p:nvPicPr>
        <p:blipFill>
          <a:blip r:embed="rId3"/>
          <a:stretch/>
        </p:blipFill>
        <p:spPr>
          <a:xfrm>
            <a:off x="6450120" y="2276640"/>
            <a:ext cx="2663640" cy="138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1T14:51:49Z</dcterms:created>
  <dc:creator>rachid</dc:creator>
  <dc:description/>
  <dc:language>en-US</dc:language>
  <cp:lastModifiedBy>Rachid Hamdi</cp:lastModifiedBy>
  <dcterms:modified xsi:type="dcterms:W3CDTF">2016-12-15T16:16:24Z</dcterms:modified>
  <cp:revision>69</cp:revision>
  <dc:subject/>
  <dc:title> </dc:title>
</cp:coreProperties>
</file>