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5.jpeg" ContentType="image/jpeg"/>
  <Override PartName="/ppt/media/image8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111A-D25D-4DBB-81DD-BF5D9F7FD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09D1-AA45-48D9-84BF-26318294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0028-1AFF-43AE-80D3-20DDA8F3C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B73B-765C-4E25-B98B-416DAD20B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DC40-EF5D-43DB-9048-0C30F2DE9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8BADE-3EAC-47FC-BED7-4B88BE36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112E-61F3-4E89-BDD1-A235AE93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CEB3-1355-4CE0-8159-43E714FD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DC08-459C-49A1-9CFA-D272BB89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039D-019C-4C8E-AE52-AFDDB272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9EC87-F12F-436E-B439-E222DA69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ED49-FD64-47F3-B11B-265097FE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0A882-0549-4485-ACD2-FBF35E8C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7CE9-2C5E-454E-8925-E72D0873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B4D6-CE5C-40E5-975A-97B4B5B8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6828-D43C-47DC-961F-E3CBD91DE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93DC6-5F04-4A76-BD4C-AB1CE4F61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C6D84-E0C5-4C58-B79F-D0A403AB3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35EEE-5D10-477A-BE97-B7006F60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26B62-8DA4-4313-9664-E03C805C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9A1EB-0593-4420-B5C9-908833E6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BCF1F-98EC-4F77-B81A-F21CAFEC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1449-17E2-4F51-984C-49E7CCF4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D0EA9-30F1-4B8E-980B-B6D795E8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EDA92-B90C-4B09-B7FE-177C0A96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F123A-06C8-487E-AA73-704824ED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23286-D330-4D9C-861B-945F49D5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D46B6-92DF-4089-82D3-4A7D2E34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033E6-5815-43F3-963E-10E59BBB6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52F27-FCCF-4D69-A03D-3935B3842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3DC45-52C1-4CB3-B2C9-914171D6C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58DCA-B5AA-4A35-A7CF-2248B135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EF62E-30A1-4310-8E74-DD01F9C7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31CE-9A70-400B-A197-80582E52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20338-5586-4EC5-A9FA-93E7DEE8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AA57A-03B7-4EDE-9114-A3F140BD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3F49D-495E-47C1-B53D-AD0D0C2F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B883D-42B2-4B9D-A77B-2140C899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D037C-D10B-4766-876E-83F6E53F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791E7-7619-447C-9BB4-89B57E9C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C60E2-38C4-4404-B1BE-79C7BA00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1E91F-88CD-463F-9A6C-80F9F6D84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954BC-2503-46DE-84DF-B4BA992B3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67E10-E9BD-4106-8B08-7614993FB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C4F0-498A-4C42-8D87-8BBBFE78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A22E0-CBE8-4496-A6DD-24F678DF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97B56-FC0F-4665-B5B6-AE5AC89E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F37D6-38F1-426C-BF47-3798D5DF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55592-3E00-45AE-A4A2-F7FA398E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83ACC-11BC-419C-9B3F-5421E20A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CB4F5-0F88-4411-B23C-BF31BB89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1F71A-FF42-4AD1-A99A-5F6B8965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6DD0C-0679-4F10-813A-D1935EA4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5ACB6-F84D-4CB6-B5E6-195E6460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A9D13-8F63-4ACF-9668-3CA2289FC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A2E2-75DF-4E75-B7C0-50B48676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14A1D-BBD5-46D0-96FA-43720CBD9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1B655-8CE1-4586-A1DD-5AF90DC2E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4F049-FEA8-45A0-9A5B-D66BF55E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DB172-E4EA-494B-8326-B73DD743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CEB72-7D48-4C86-AD18-51642AFD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69A57-31FE-478D-AE41-E29276A5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D9630-E1A5-4018-B79D-37A97659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B698E-6934-440F-A2D4-64D0DE3E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4C1EC-98F1-4E94-8B2F-19DFF616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52464-8323-47C4-8DC5-DE5215D9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3261-AE05-4243-828F-58A3529E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0D599-3B52-4453-B233-15D4AD2C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E952B-F1D5-4B19-A2EC-74A2EB649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248A2-1045-42A6-93EB-B1855C8EA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CE3AA-F4FC-44FF-9DCA-D4C28B28A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6AD21-08C0-4D0B-BB86-E4732B23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67DD2-7110-4BDE-AD5A-8DB67E01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91222-E8CE-46C5-9C16-1A28D641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7C125-A7E0-4A87-9539-F06828A1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E4D36-BBB7-47BC-9F82-E68C636A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D1D61-9C85-4C9F-9AD7-070754F4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2331-497B-4179-95AF-2AF7AD56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79AC3-164A-4B39-903B-C097E13B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2FAA4-1B44-4F23-AF49-B9E4F947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96031-F01C-41C1-95F1-6B02DF58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85890-1D32-48C4-A1E7-7914AEF49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1B818-FEAA-4DEC-8169-3C7114B95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9A8CB-CAD1-415E-9D06-0E619896E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CFB0B-5EB3-42B1-9DAB-1F39DC3E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53E78-175A-4CC4-A077-50779161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4C665-B95C-4C04-AC68-D3BC55C7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EDC7C-E2A1-4EE3-B68A-239B76C4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4426-F6BE-4C79-B7F1-521CBE4B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9D98C-0181-4DE1-8554-2198A65F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6C008-ACD0-43EC-A4AA-2AA41D6C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1EEB9-668F-40CE-AD31-4C0EBBBE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0DF3B-A931-4F0D-9820-E09165D6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29F3D-BD1A-40C1-97E6-C7EF55DC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65DED-3622-4E99-B265-AAC934186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26BB1-4267-4B47-8993-03CAF3C72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EFE6-02A5-49D2-963B-4C891C2C2E2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1824-F34F-4D1B-9C25-AEF35DEB25EC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F463-DA4F-45E7-931D-D802EE70EB0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5804-8F70-4630-94AC-ECD141AB7BD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C536-2C39-4AD5-901E-26E6AEDD20C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D92A-E8A5-4671-AE1D-77FBC04293D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D271-5281-4B52-A1ED-3FED1EA3235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DCDC-7CD3-413B-86A9-B74AD4B9C5F6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2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Een eigen hui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https://www.onderhandelmakelaar.com/blog/wp-content/uploads/sites/2/2014/12/Huis-kopen.jpg"/>
          <p:cNvPicPr/>
          <p:nvPr/>
        </p:nvPicPr>
        <p:blipFill>
          <a:blip r:embed="rId2"/>
          <a:stretch/>
        </p:blipFill>
        <p:spPr>
          <a:xfrm>
            <a:off x="0" y="0"/>
            <a:ext cx="2916360" cy="2916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3" descr="http://www.duinstramakelaars.nl/wp-content/uploads/2015/05/Nu-een-huis-kopen-wel-of-niet-verstandig.jpg"/>
          <p:cNvPicPr/>
          <p:nvPr/>
        </p:nvPicPr>
        <p:blipFill>
          <a:blip r:embed="rId3"/>
          <a:stretch/>
        </p:blipFill>
        <p:spPr>
          <a:xfrm>
            <a:off x="6372360" y="0"/>
            <a:ext cx="277164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Zelf via het internet zoek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makelaar inschakel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weet welke woningen er te koop zijn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weet ook wat een redelijke prijs is voor de woning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kan over de prijs onderhandel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kan zorgen voor een rapport over de kwaliteit van de won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weet wat er in de omgeving van de woning wel en niet gebouwd mag word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https://www.makelaarsland.nl/Content/images/makelaarplaats-landingpage.jpg"/>
          <p:cNvPicPr/>
          <p:nvPr/>
        </p:nvPicPr>
        <p:blipFill>
          <a:blip r:embed="rId2"/>
          <a:stretch/>
        </p:blipFill>
        <p:spPr>
          <a:xfrm>
            <a:off x="5076720" y="0"/>
            <a:ext cx="406728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02760" indent="-2120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ls je een bestaande woning koopt, staat er achter de aankoopsom k.k. (kosten koper)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 nieuwe eigenaar moet rekenen op ongeveer 6%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extra kosten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ie hij zelf moet betalen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Overdrachtsbelasting (2%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Kosten makela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Notariskoste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Afsluiten hypotheek       enz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ieuwe woning kopen?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v.o.n (vrij op naam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inder extra kosten betalen! Rest wordt doo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erkoper betaald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12760" y="0"/>
            <a:ext cx="8486640" cy="1243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https://encrypted-tbn1.gstatic.com/images?q=tbn:ANd9GcSX3ginltl9DQXNYxJBgB419BT25sVNZ2Nknwu6YUdxAmwJanIv-A"/>
          <p:cNvPicPr/>
          <p:nvPr/>
        </p:nvPicPr>
        <p:blipFill>
          <a:blip r:embed="rId2"/>
          <a:stretch/>
        </p:blipFill>
        <p:spPr>
          <a:xfrm>
            <a:off x="7524720" y="5249880"/>
            <a:ext cx="1619280" cy="16081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http://i204.photobucket.com/albums/bb128/Binnetie/Knipsel_zps344d83ce.jpg"/>
          <p:cNvPicPr/>
          <p:nvPr/>
        </p:nvPicPr>
        <p:blipFill>
          <a:blip r:embed="rId3"/>
          <a:stretch/>
        </p:blipFill>
        <p:spPr>
          <a:xfrm>
            <a:off x="5602320" y="2637000"/>
            <a:ext cx="35416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Koper en verkoper eens over de verkoop??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voorlopig koopcontract afsluiten (meestal opgesteld door verkoper)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Het klinkt een beetje gek, maar ‘voorlopig’ betekent dat je maar 3 dagen bedenktijd hebt om het contract te annuleren.  Houd dit in de gaten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Na deze 3 dagen kun je niet meer zonder boete (10% van de aankoopsom) het contract opzeggen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7" name="AutoShape 2"/>
          <p:cNvSpPr/>
          <p:nvPr/>
        </p:nvSpPr>
        <p:spPr>
          <a:xfrm>
            <a:off x="155520" y="-1881360"/>
            <a:ext cx="588636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4" descr="Gerelateerde afbeelding"/>
          <p:cNvPicPr/>
          <p:nvPr/>
        </p:nvPicPr>
        <p:blipFill>
          <a:blip r:embed="rId2"/>
          <a:stretch/>
        </p:blipFill>
        <p:spPr>
          <a:xfrm>
            <a:off x="6948360" y="5397480"/>
            <a:ext cx="219564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2679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Je kan ook van de koop af als je vantevore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Lucida Sans Unicode"/>
              </a:rPr>
              <a:t>ontbindende voorwaarden 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(meestal over financiering en bouwtechnische keuring) in het contract hebt opgenomen. Bijv. als je geen geld kan lenen, dat de koop niet doorgaat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e definitieve koopovereenkomst wordt opgesteld door de notaris en door de koper en verkoper ondertekend. Deze overeenkomst heet de transportakte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el 2" descr=""/>
          <p:cNvPicPr/>
          <p:nvPr/>
        </p:nvPicPr>
        <p:blipFill>
          <a:blip r:embed="rId1"/>
          <a:stretch/>
        </p:blipFill>
        <p:spPr>
          <a:xfrm>
            <a:off x="201600" y="249120"/>
            <a:ext cx="8485200" cy="11588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http://www.beilen-notaris.nl/files/2012/07/testament.jpg"/>
          <p:cNvPicPr/>
          <p:nvPr/>
        </p:nvPicPr>
        <p:blipFill>
          <a:blip r:embed="rId2"/>
          <a:stretch/>
        </p:blipFill>
        <p:spPr>
          <a:xfrm>
            <a:off x="6516720" y="0"/>
            <a:ext cx="2627280" cy="13795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http://www.groningennotaris.nl/files/2011/04/notaris.jpg"/>
          <p:cNvPicPr/>
          <p:nvPr/>
        </p:nvPicPr>
        <p:blipFill>
          <a:blip r:embed="rId3"/>
          <a:stretch/>
        </p:blipFill>
        <p:spPr>
          <a:xfrm>
            <a:off x="3203640" y="3284640"/>
            <a:ext cx="2663640" cy="9954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http://www.notarisrotterdam.com/images/transportakte.gif"/>
          <p:cNvPicPr/>
          <p:nvPr/>
        </p:nvPicPr>
        <p:blipFill>
          <a:blip r:embed="rId4"/>
          <a:stretch/>
        </p:blipFill>
        <p:spPr>
          <a:xfrm>
            <a:off x="7956720" y="5275440"/>
            <a:ext cx="118728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6" name="Picture 2" descr="http://www.wegwijs.nl/media/53832356/unnamed_558x558.jpg"/>
          <p:cNvPicPr/>
          <p:nvPr/>
        </p:nvPicPr>
        <p:blipFill>
          <a:blip r:embed="rId2"/>
          <a:stretch/>
        </p:blipFill>
        <p:spPr>
          <a:xfrm>
            <a:off x="1692360" y="0"/>
            <a:ext cx="614340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33336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eigendomsoverdracht van alle onroerende zaken vindt plaats bij de notar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notaris zorgt er vervolgens voor dat de transportakte in het kadaster wordt ingeschrev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roerende zaken = grond en alles wat daaraan vastzit (gebouwen, huizen, kantor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adaster = instelling waar alle onroerende zaken in Nederland staan geregistreerd. (Hier is dus bekend van wie wat is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07T10:53:08Z</dcterms:modified>
  <cp:revision>68</cp:revision>
  <dc:subject/>
  <dc:title> </dc:title>
</cp:coreProperties>
</file>