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8780-DB72-426C-81B6-BD9C4E96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5BAF-5A4F-4CA4-A87C-F11C96B6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0D3-F3FE-4EF6-9105-9A448E7A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8EA-6511-467D-9D47-6F7AD80B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DC80-2F30-4DFC-B897-A3398B3D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DDDE-F316-45B9-B078-019D5CEA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2F3E-D075-49C6-A572-C47B788B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1D4F-447C-410D-ABD7-1E70C9CA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5749-FE1B-448A-930F-E2DFE0C9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C0B4-B092-40B9-8A42-1B26503F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0898-846B-46D3-90BE-97D8C19D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5D42-6314-4828-A05A-ED41F94A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6E0B-65A9-4DE0-9D24-ABE6003C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7CE3-C40C-40F4-A43A-00D73331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83EE-A55E-4BDA-940D-021493D1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6228-C531-4845-B2CA-F34BB759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4936-15A1-4AEB-908E-3BA0FCBE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17F24-B6BE-4100-96FE-62C35E5B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14C5A-C1D9-4559-8F34-DC6A29F7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C9472-38A6-4F14-81E4-7909C4E7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246DE-1ADD-47F8-BB06-9610DF8D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DC704-3F2E-47CC-83DC-9AC8F891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A18C-0793-4B2D-B462-2ECAC47C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B8266-C010-420B-B394-2E1048C4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EDFDD-382E-4B41-B100-F0ACD620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EF553-8CFE-4FA9-8BE5-A0271B32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42AA3-FA85-4691-BACF-486F632A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1ED24-5B27-4E80-BA2F-60671E72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1B353-1A04-44FC-92DE-7821046C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92E83-FF3F-429C-8FA1-C301ED64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73AF0-D1D8-4DCC-A878-1421CA54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44E2E-F4B5-4287-A75D-24B822E8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8D93E-9A79-4423-8EEF-63F3366F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BF7-12CC-4C88-A8E5-20D75310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AF8A7-4162-49AD-A97A-CA0A9051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34A6E-C4D0-4B1D-B88E-8BE34BE3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5F1B4-4AAD-4B75-B308-19E6D944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457B9-FC73-44A0-9367-497F658A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52D40-DE2A-4AFB-97AF-98F6D6F7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AF7DE-B0C4-4754-BD5F-018CF6C9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371FA-4ADF-477C-8B29-C1294879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5C947-5E94-4557-BADD-EFA37863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1A129-A446-42A3-9467-E1D8B9C4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8453B-B1C8-496E-8188-24726126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315-12A1-41B6-8DFB-597B3518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99B31-CD20-4CB5-89AA-C76BA53C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A9ADD-D5C5-4550-BB72-F846F369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B8085-F31C-403C-9FDB-C80878CB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8B06B-CF8F-4DA2-A00B-564695E5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F7542-620A-457A-82AC-4F5DFAAD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F4C30-48E4-4916-92CE-2A6FEC64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64979-4301-455E-A25F-BC8D5BAA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4DBBB-83BE-46D8-8999-2862135C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89CE6-9680-48BD-B4E3-5CDFDCA1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92CAA-F2F2-43A2-813B-83DD184B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FB8A-EEB9-4725-B5C9-C79D2696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C0E6B-1E81-41B2-B88D-C8B4D42B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3C93D-0BD4-4833-9E27-E2A81A9D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2935E-2AC4-40D0-9C65-88F3A509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191A2-B5D7-4B9E-B310-CCB5CB2A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7ED68-86D0-43CA-87B2-9F1117AC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FFEC7-48B5-4DC1-ADC8-BC7F6377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DC893-5718-44B6-8BE4-7B303F60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89677-7E30-4440-B59E-6B9DED12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3E2FA-0519-4A5C-B13B-385023BE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456CF-C162-4DFD-80AF-98176F9A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0E7-80BB-46A4-BF61-6AE582CF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7EFD0-D830-48E9-A407-B5B6DA78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7860B-1A07-450B-97CC-AA33E458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48889-A402-45F4-8836-3A7E9892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14448-28D5-47D9-BBD3-F5EFA0B6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3CE2F-FE71-4F2F-BD65-E6ECAC35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9C007-D561-4021-9D6F-6A28E213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359B2-0A65-48C5-9352-9DCBA429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8ADC0-D27C-4185-90EB-DC4AE20F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EB96F-E37F-46C3-85CA-8E714F97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E4351-D59C-41DA-B1F5-60DCDD1B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D7B-A2B3-489A-B6F0-02EB512B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DA9F1-7081-4695-AE8C-81158565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A9212-49E8-4450-8D5E-F08A757C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82CC5-3885-4963-B763-4DB42BE3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C3F3A-28E5-4C0A-BB30-440E025D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89B04-E452-45A9-8959-98B46FBB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D2866-E2F3-4301-9F16-3D029751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D5E6D-1DC0-4120-AC0E-7970E06B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3A08A-4B85-40CB-BCB5-40936D06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86DC5-2E81-45EE-B567-934A3EAC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00424-BA3B-45D5-852F-344E6D6B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175-F5DD-4322-B4B8-7CD184F9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F3356-729B-48B0-979E-2E7CFF4D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D4659-2665-45B5-8993-0CCB0C5C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424BF-CF08-42B3-B125-F801CF5F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5AE79-F238-4BE5-ABC0-FC4D0C9C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3081C-B66B-4203-A202-42FCF5ED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E8424-2411-4FCB-97E2-FC5F1216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897D1-DABB-42C7-A4D8-BA843D89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B26E-E4C7-4F74-AD59-293E44F7DC9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8595-7E7B-4F6D-9D81-289F3E4EC61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704B-5CC2-4B0C-BA65-91271D53907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F451-556E-48BC-9462-1CF7691A584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394A-362E-4AB0-A8A3-D19BE4CF8B4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A1D5-8B50-4FBC-98DA-509105273D1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BEFF-7FEF-4780-A4CE-B731D295512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59B6-F849-471C-80DF-98A2FBADA9B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oed verzeker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goed verzekerd"/>
          <p:cNvPicPr/>
          <p:nvPr/>
        </p:nvPicPr>
        <p:blipFill>
          <a:blip r:embed="rId2"/>
          <a:stretch/>
        </p:blipFill>
        <p:spPr>
          <a:xfrm>
            <a:off x="0" y="17640"/>
            <a:ext cx="313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83664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stalverzekering; schade aa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boedelverzekering; schade aan spullen i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sprakelijkheidsverzekering particulieren (AVP); schade aan de an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ttelijke aansprakelijkheidsverzekering (WA); voor bestuurders motorvoertuig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-cascoverzekering (all riskverzekering); schade van tegenpartij en eigen voertu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rgverzekering; voor ziektekost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70588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Afbeeldingsresultaat voor WA verzekering"/>
          <p:cNvPicPr/>
          <p:nvPr/>
        </p:nvPicPr>
        <p:blipFill>
          <a:blip r:embed="rId2"/>
          <a:stretch/>
        </p:blipFill>
        <p:spPr>
          <a:xfrm>
            <a:off x="6858000" y="536724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Afbeeldingsresultaat voor opstalverzekering"/>
          <p:cNvPicPr/>
          <p:nvPr/>
        </p:nvPicPr>
        <p:blipFill>
          <a:blip r:embed="rId3"/>
          <a:stretch/>
        </p:blipFill>
        <p:spPr>
          <a:xfrm>
            <a:off x="4586400" y="5392800"/>
            <a:ext cx="2271600" cy="1492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Afbeeldingsresultaat voor inboedelverzekering"/>
          <p:cNvPicPr/>
          <p:nvPr/>
        </p:nvPicPr>
        <p:blipFill>
          <a:blip r:embed="rId4"/>
          <a:stretch/>
        </p:blipFill>
        <p:spPr>
          <a:xfrm>
            <a:off x="2706840" y="545616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Afbeeldingsresultaat voor aansprakelijkheidsverzekering particulieren"/>
          <p:cNvPicPr/>
          <p:nvPr/>
        </p:nvPicPr>
        <p:blipFill>
          <a:blip r:embed="rId5"/>
          <a:stretch/>
        </p:blipFill>
        <p:spPr>
          <a:xfrm>
            <a:off x="306360" y="5486400"/>
            <a:ext cx="2394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v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re verzekerde waarde dan juiste of getaxeerde waard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nde van de hogere premie die betaalt, want bij schade krijg je niet meer vergoed dan de werkelijke scha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nd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agere verzekerde waarde dan juiste of getaxeerde 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 schade krijg je minder vergoed dan de werkelijke schade, omdat je maar voor een deel bent verzeker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ierbij geldt de onderverzekeringsbreu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68200" y="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385" name="PIJL-RECHTS 3"/>
          <p:cNvSpPr/>
          <p:nvPr/>
        </p:nvSpPr>
        <p:spPr>
          <a:xfrm>
            <a:off x="6516720" y="6165720"/>
            <a:ext cx="2232000" cy="432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Afbeeldingsresultaat voor oververzekering"/>
          <p:cNvPicPr/>
          <p:nvPr/>
        </p:nvPicPr>
        <p:blipFill>
          <a:blip r:embed="rId2"/>
          <a:stretch/>
        </p:blipFill>
        <p:spPr>
          <a:xfrm>
            <a:off x="6684840" y="2565360"/>
            <a:ext cx="2482920" cy="1217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onderverzekering"/>
          <p:cNvPicPr/>
          <p:nvPr/>
        </p:nvPicPr>
        <p:blipFill>
          <a:blip r:embed="rId3"/>
          <a:stretch/>
        </p:blipFill>
        <p:spPr>
          <a:xfrm>
            <a:off x="2336760" y="2565360"/>
            <a:ext cx="17337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(Verzekerd bedrag : getaxeerde waarde) x schade = schade uit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1-11T09:15:51Z</dcterms:modified>
  <cp:revision>80</cp:revision>
  <dc:subject/>
  <dc:title> </dc:title>
</cp:coreProperties>
</file>