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EAD-96EB-4DFA-BC55-FC41A5EF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572-6AEE-45E4-A0DB-18B7A4FB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4B5D-70F1-4924-973B-FA76DE04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973-37E0-4242-82EF-6F2D4285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3069-A9F8-4F92-B55F-F07B10F4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314C-E5D4-45C0-9BBD-779A7915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AC9C-F68E-40D8-81FB-1E291629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CCCB-EB9C-48B9-ADBD-BEC88165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BB12-02A8-4EF1-AE66-55390D2D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B9D9-63ED-43CD-8D6C-FB2D016B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8F66-6D1C-4CA1-8CD5-BADEB4EF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BABD-E78B-48E2-A997-F84F0B23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1393-83D4-4E0C-919C-7D67E550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F186-1669-4A34-8324-E1929340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9B7C-D9FA-468F-BA91-D2586E52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C722-FD34-452E-8134-9643E47E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448D-61BF-462A-9CCA-04B76D44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77520-BA28-4AE1-BBFF-28096557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73B4D-F245-4BD5-B0B9-1060B406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5B5A0-AE62-4A11-AE85-03C1205A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1BB42-70C7-4F00-9395-EAF4C166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B75B9-9DCC-40F2-B411-B065534B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7F5-479B-4F6A-8F27-298BED6E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F208C-44A7-4BF0-BD52-F106D24A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490A5-8040-4EA9-AEBF-AFF2441C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8288A-757A-4CA2-AC60-3BC48A3B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17F33-4EB1-4503-9185-347CA90B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7F2ED-6DB1-48DD-ACF9-55818745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3F652-C52C-464B-B1E9-973FAA25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E5613-DF49-49B5-BD5F-ECCEEE5B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8C54B-F420-4AF9-BF5E-B12551AD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E9069-2701-454F-BEC1-90446563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033C8-58F0-4E35-AC9B-47354DA5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664-8B61-485A-8C82-1C3E82F9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4619B-7F16-4169-AFEA-3267757E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5F357-F0D1-4855-84DE-A97E8FE3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C3923-FD39-47AB-9C56-DC5C1DD6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C011B-CE65-4B0D-88A8-7E3E14CC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C0396-366F-4B27-952D-2CD05D88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0B87A-A50D-41CB-A418-175A4A2E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E1902-1662-44D5-B9C9-FB5EFD53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2EAA0-9AA5-4DA2-9BE2-688CA5A6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6CC89-3A37-4B55-9B6C-1554C1CC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72068-7FC5-4E4F-8BF4-B7140CD9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A32-8E00-4E78-80D5-6ABA5CBB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D6ABC-3BED-4049-AA89-42C3F32D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61BC3-14F5-4272-A7AC-6A450582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6A081-E6CC-4EB6-9C5D-A2BE6723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CA6E8-52D4-4DD5-A23F-AAB3B0AE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388F1-CCFE-4382-95AB-A8FE4831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B8B21-A3B7-4B99-B25E-E7C2C368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B5B16-0885-44C4-9281-2F74BBD1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FD2C0-ED45-4616-AD8E-900B239C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DFB5F-2A73-4261-B711-753A2794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91BE6-0E92-4C8B-A62C-4E2E5AB2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92B-D593-4FFD-B9B7-2DA5996E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79A91-1F39-451C-90CB-740FFC23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108F0-48AA-4EC6-8577-E4118F74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9DB16-AEAD-42D2-942E-6C77A6D9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EADC1-C9CE-4939-B6A6-08CE617B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F877F-4D60-4783-8598-28CCCF9B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A98DA-2B40-4496-AF95-507D1C3E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A5FEC-5A81-4396-B686-EE0EA432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F1478-DD5D-4508-A269-FDA72060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C3104-7038-4479-8941-A2343FD3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3D6B4-C4AC-4234-B840-C29A3593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AFD-DE6E-4996-A9C7-483ED2AD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87BA3-6DB3-4BEB-AE92-A028D7D0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BD277-363C-40AA-ACEB-642C1385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9CDA7-2DD1-4652-888B-EB7E2C9C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CD5CA-3A3C-4D0D-A840-BA93ADF5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C939C-12A0-40AD-B077-1B9DE13A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EEC1A-375C-4AD3-A43A-0ED0D5EE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231B9-11E4-4A8E-B1A2-DD7760ED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5290C-DE57-4483-9C84-A38B8A40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A9DD3-8659-460B-AC2B-63DE7584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F976F-4B8F-48AE-A1DF-84DD4C4E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5BE2-606F-4E96-A3C3-98569B3F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1CE8D-1B64-4FA4-99C5-9240DB6B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BBA98-5C5D-451B-A7E4-6DF0CEA8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E8990-122D-4D1C-AD9D-9DBFFB6C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54705-B802-4432-AE19-9A10C6DF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85959-AD73-4C21-9E85-27685D1F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C3111-BF41-4D13-907B-F0AA944D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8CBD8-5B09-47C2-A112-45950A75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EB80B-F718-406D-896D-BD79A161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6BABC-D53E-44E6-B69F-7B89F5B1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62796-B8C3-4E28-9D5F-13EDE9FC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BF13-346E-43F7-A776-6403B4C5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8D258-7F99-4AB4-B6E5-61CE4656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6B69B-9376-40D9-8F09-1D2B212E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58641-E7B9-41AE-A18B-F860A027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41D4A-F6F6-4F15-AB70-682A4851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20E42-4F17-476D-91E2-CFC61CE1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94009-60D1-4707-B4CD-EA61F860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21084-93AA-4CE6-9503-D3EC7CF6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E380-9E79-46AF-88E4-0CEB5504DAD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978F-A249-47A6-8B28-3B8A94B2C90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6FDF-CAFE-4510-A9CC-4C315414D47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8F92-2D36-46EB-9681-ACDB4D7AFA1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4CBA-87AB-4675-9FB0-603E09532B2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04C1-3A24-4C44-84DF-4DBF6A22E66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E523-1B2C-4C05-978B-56A1EF25686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ECA5-B666-4193-97A6-16A15F93185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zqwjF4RIQU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zekeren, hoe da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Afbeeldingsresultaat voor verzekeren"/>
          <p:cNvPicPr/>
          <p:nvPr/>
        </p:nvPicPr>
        <p:blipFill>
          <a:blip r:embed="rId2"/>
          <a:stretch/>
        </p:blipFill>
        <p:spPr>
          <a:xfrm>
            <a:off x="0" y="-27000"/>
            <a:ext cx="2719440" cy="2832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Afbeeldingsresultaat voor verzekeren"/>
          <p:cNvPicPr/>
          <p:nvPr/>
        </p:nvPicPr>
        <p:blipFill>
          <a:blip r:embed="rId3"/>
          <a:stretch/>
        </p:blipFill>
        <p:spPr>
          <a:xfrm>
            <a:off x="6081840" y="15840"/>
            <a:ext cx="30621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BzqwjF4RIQU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3"/>
          <a:stretch/>
        </p:blipFill>
        <p:spPr>
          <a:xfrm>
            <a:off x="1638360" y="2637000"/>
            <a:ext cx="59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kunt je verzeker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teriël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chade (= schade die in geld is uit te dru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onzek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(dus alleen als je niet van tevoren kan weten dat er schade ontstaa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j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niet opzettelijk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oorzaak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2"/>
          <p:cNvSpPr/>
          <p:nvPr/>
        </p:nvSpPr>
        <p:spPr>
          <a:xfrm>
            <a:off x="15552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606920" y="41400"/>
            <a:ext cx="4537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ekeringsovereenkomst tussen verzekerde en verzekeraar (= verzekeringsmaatschappi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lis + polisvoorwaa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luitingen (de zaken die niet worden vergo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igen risico (bedrag wat je niet vergoed krijg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verzekeringspremie"/>
          <p:cNvPicPr/>
          <p:nvPr/>
        </p:nvPicPr>
        <p:blipFill>
          <a:blip r:embed="rId2"/>
          <a:stretch/>
        </p:blipFill>
        <p:spPr>
          <a:xfrm>
            <a:off x="6300720" y="2349360"/>
            <a:ext cx="284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hankelijk van kans op scha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igen ris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mie uitrek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romillage (1 duizendste deel) van verzekerde waar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oorbeeld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zekerde waarde is € 45.000 en promillage is 2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€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45.000 : 1000 x 2 = € 90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0112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Afbeeldingsresultaat voor promillage"/>
          <p:cNvPicPr/>
          <p:nvPr/>
        </p:nvPicPr>
        <p:blipFill>
          <a:blip r:embed="rId2"/>
          <a:stretch/>
        </p:blipFill>
        <p:spPr>
          <a:xfrm>
            <a:off x="7164360" y="5284800"/>
            <a:ext cx="1898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76658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oor het afsluiten van een verzekering kun je terecht bij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zekeraar zelf via internet bijv. =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 wri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1 verzekeraar werkt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meerdere verzekeraars werkt. Deze geeft het meest onafhankelijk adv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20T09:28:13Z</dcterms:modified>
  <cp:revision>76</cp:revision>
  <dc:subject/>
  <dc:title> </dc:title>
</cp:coreProperties>
</file>