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png" ContentType="image/png"/>
  <Override PartName="/ppt/media/image2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7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9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5990-56D0-4167-ABFA-BA5FB7342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607F-5F52-459C-B102-462E3DE6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A07C-1FF5-4CF6-8B78-699FFF0F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9382-2778-4010-94FE-3D8F1A0D6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D7E4-8820-408C-ACB5-43364B90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E5C1-05C6-4103-9965-B1859C1F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6FD3-A6B9-4C47-8F8B-43B45515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12A2-6E23-4D8A-9000-4AB83E0C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D00D-1815-40E0-8AB0-E5380DFD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BA42-0BC3-4A89-993A-135CB480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4D39-82B9-41A2-A413-48E487DB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D847-C263-4BA9-808B-AFCD45A1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0D64-26DC-46B9-B8B2-0FEA6532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82D0-1792-4D20-AF09-8FE41C99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725A-7F41-4284-8848-045BCF0C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9460-D428-4074-ADAE-903196535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4B3E-4DA9-4829-9D68-4D393886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531F7-11D6-408D-817F-F2553873B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A08FF-E5C1-46CB-9048-1475F788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B9C9C-B309-49EC-8764-E6A09EEA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440DB-D9DF-41A0-9496-0ABA7B8B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BDFEA-C3E3-4CA1-89F6-CD65B38D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ED25-5B0F-4747-9A14-A4C1C9C8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0E53B-493E-447B-8E55-E53B2A5E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3628C-97E6-4D94-998D-543D085D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B63F9-C034-4CE9-B8FA-9F6BBBBF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A6D8A-8794-42C8-A9FB-063882F0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629C4-9BF3-4CDF-A45D-8B37B579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03DE7-BD54-43D8-B21E-323D6289D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91A91-671E-4066-B1C7-3DBB6448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32DB1-2E97-44D9-9FEE-02CDB3FB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FC600-7ECE-4AF8-BE95-01BC5B9B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D1532-C66C-41EC-9B91-1E94ABB4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6B31-1614-49BA-95DD-E330B436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B8635-8217-4932-ACCF-0DD445DB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79FA0-BD4B-49D6-965B-2CB0D478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18DC5-96AD-4046-BC70-E6E07F3A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C597A-1719-41B1-9725-EA8355AB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B4050-C526-471A-8D1C-7EB204B4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C2FBC-556F-478F-863E-886FADAF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3D5D8-99BA-4FCD-825D-A2127D6E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766E2-4FF4-4E71-A152-072CED02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99BB3-84ED-4404-B728-FC608D357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3C2CC-9574-41A4-B713-62EA5D6E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CF2D-6610-4E06-B5E8-0F115028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A4B06-8D82-4579-85CC-DCC6F7AE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F41FC-0171-487E-BD89-B616F24D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A82E8-51EE-4C91-9120-C0251F73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FDD20-E748-4534-9AF3-2C684EE9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79D9A-BA32-4D9D-9876-69992E39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E6AA7-6336-4D3D-B371-3E64D68E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8C5F3-8083-476A-B6CE-09FAE200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6863A-DC0D-4E57-9095-083F6978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6C378-1E7F-4946-B9C3-3A4FEF09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D7206-9FA2-4B50-B43D-037A1BD6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1B5D-3A83-4CD2-BB94-20EF806B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A41C8-BE02-45A8-8C4F-5FF7A390B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CBC4A-5A22-4FC3-BC8F-73F96A1BC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FDBE4-9D1E-4C82-909B-C71ED948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97EF9-1D58-477A-8F22-5B4F36BE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28E68-D857-413E-B4A5-EE4E83E1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B4765-C216-4470-B736-CD75A07D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03EF4-84AF-42CB-B4C6-A47CA710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F02D3-82AD-4A9B-A158-37395DBE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1C32E-6917-433F-8A88-CAB26752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6C2AA-E978-4B4B-98DF-64F90B6E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3FE8-BEF6-401E-8990-0C1F299A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C1C7E-F52E-476D-B11B-92732DFD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0CD20-1910-4A2C-B6D3-3EBC4B71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DC2B3-65E3-4FAC-895F-D043CD48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AD8DE-83E0-4BCD-AF8D-F7A45BBA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DE1AD-406D-497A-927A-B3DE3DA0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78E72-624A-4105-88C1-1B0A8DB5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D58F8-6791-4467-BC30-F4AC37FB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AD6CA-D424-470A-BDAC-EE92DEEB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A34DA-B9BC-4823-B983-DFC3CC00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46F71-A881-4793-BE3A-5E0522D8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D7C5-7B7D-4352-8069-6F181B7E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BE833-1BED-4A56-9D68-F2263F17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F98A9-8855-45DB-8CB1-BDF0F6A6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64CA2-7001-43E4-8571-E473E86A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EE225-AE2E-4207-B43B-2CF13B7A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05B8E-3BB1-4ECE-ADBF-DB90FBBE3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B4D75-CDD7-44FC-AF36-8E6A2F46B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BFBEB-1615-4759-99AE-AA2EF9C7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53101-04E5-4E11-BE7A-0776270D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212A4-E8FF-4549-B14B-36F10CFE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6F1DF-C82C-478E-AEFC-F9BA7FDF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EC36-6474-4298-9362-8AC9CF4A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6D852-A315-4855-9A5A-E03B3DA8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97931-B641-4F60-B232-D17C9CAE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1CF3A-F21F-4EE1-935D-89846B57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37486-2237-46C1-B977-3D8642BF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B0E7B-F3F9-4897-832E-38CF8878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E0CDD-EDCE-40FF-B0A1-AFA2F5FE7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D53B1-AC2D-43B0-B793-330F3BCC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4B50-2524-4E7A-A70D-040087FE908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7FB3-ADD7-4753-A696-D443F583567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9BCD-3C54-457D-AE9B-E06AD59D9E0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FBC4-7CB2-4F72-9299-5CE97CA470C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840E-71BA-4FC5-A061-304B5B137A6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B006-B212-424F-B822-E985C6E2752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10A9-AEC2-4D95-B74F-BD9C80075AC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5EA9-0821-42A4-9DFB-D12FEFAE928B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oningnet.nl/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Huur en verhuu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4" descr="http://www.cie.nl/media/W1siZiIsIjIwMTMvMDkvMDMvMDgvNDYvNTgvOTcyLzA1MDE2X1dhdGVybGFuZHBsZWluXzAxLmpwZyJdXQ/05016_Waterlandplein_01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 de laatste jar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root tekort aan huurkamers en betaalbare huurwoningen, omdat de vraag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groter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s dan het aanbo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volg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oge prijzen!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Sociale huurwon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bedoeld voor mensen met een laag inkom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Vrije sector won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bedoeld voor mensen met hogere inkome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79" name="PIJL-OMLAAG 4"/>
          <p:cNvSpPr/>
          <p:nvPr/>
        </p:nvSpPr>
        <p:spPr>
          <a:xfrm>
            <a:off x="3924360" y="2455920"/>
            <a:ext cx="503280" cy="8636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2"/>
          <p:cNvSpPr/>
          <p:nvPr/>
        </p:nvSpPr>
        <p:spPr>
          <a:xfrm>
            <a:off x="63360" y="-136440"/>
            <a:ext cx="32101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Gerelateerde afbeelding"/>
          <p:cNvPicPr/>
          <p:nvPr/>
        </p:nvPicPr>
        <p:blipFill>
          <a:blip r:embed="rId2"/>
          <a:stretch/>
        </p:blipFill>
        <p:spPr>
          <a:xfrm>
            <a:off x="7040520" y="0"/>
            <a:ext cx="2131920" cy="12682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http://www.woonnieuws.nl/files/image/61"/>
          <p:cNvPicPr/>
          <p:nvPr/>
        </p:nvPicPr>
        <p:blipFill>
          <a:blip r:embed="rId3"/>
          <a:stretch/>
        </p:blipFill>
        <p:spPr>
          <a:xfrm>
            <a:off x="6156360" y="2637000"/>
            <a:ext cx="2482920" cy="1711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http://www.wv.nl/typo3temp/pics/Label_vrije_sector_10_cm_RGB_1f993fb23a.jpg"/>
          <p:cNvPicPr/>
          <p:nvPr/>
        </p:nvPicPr>
        <p:blipFill>
          <a:blip r:embed="rId4"/>
          <a:stretch/>
        </p:blipFill>
        <p:spPr>
          <a:xfrm>
            <a:off x="7496280" y="5210280"/>
            <a:ext cx="164772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nder woord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uurovereenkomst. Hieruit vloeien rechten en plich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Recht ver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bedrag op tijd krij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Plichten ver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oning in goede staat opleveren en onderhou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Recht 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ivacy en ongestoord woongeno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Plicht 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huur op tijd beta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2"/>
          <p:cNvSpPr/>
          <p:nvPr/>
        </p:nvSpPr>
        <p:spPr>
          <a:xfrm>
            <a:off x="155520" y="-2468520"/>
            <a:ext cx="60958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Gerelateerde afbeelding"/>
          <p:cNvPicPr/>
          <p:nvPr/>
        </p:nvPicPr>
        <p:blipFill>
          <a:blip r:embed="rId2"/>
          <a:stretch/>
        </p:blipFill>
        <p:spPr>
          <a:xfrm>
            <a:off x="7308720" y="-54000"/>
            <a:ext cx="1835280" cy="1549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http://www.psychologiepraktijkberingen.nl/images/praktijkregels.jpg"/>
          <p:cNvPicPr/>
          <p:nvPr/>
        </p:nvPicPr>
        <p:blipFill>
          <a:blip r:embed="rId3"/>
          <a:stretch/>
        </p:blipFill>
        <p:spPr>
          <a:xfrm>
            <a:off x="7385040" y="5229360"/>
            <a:ext cx="1735200" cy="1628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http://www.watzijnkinderrechten.be/oorsprong/_img/oorsprongwat.gif"/>
          <p:cNvPicPr/>
          <p:nvPr/>
        </p:nvPicPr>
        <p:blipFill>
          <a:blip r:embed="rId4"/>
          <a:stretch/>
        </p:blipFill>
        <p:spPr>
          <a:xfrm>
            <a:off x="7554960" y="3662280"/>
            <a:ext cx="1539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bedrag moet in verhouding zijn met de kwaliteit van de wo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e meer luxe en hoe mooier de omgeving, hoe hoger de huur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zij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ijzen vaststell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ebruik maken van landelijk puntensystee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2" name="AutoShape 2"/>
          <p:cNvSpPr/>
          <p:nvPr/>
        </p:nvSpPr>
        <p:spPr>
          <a:xfrm>
            <a:off x="63360" y="-136440"/>
            <a:ext cx="36957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Gerelateerde afbeelding"/>
          <p:cNvPicPr/>
          <p:nvPr/>
        </p:nvPicPr>
        <p:blipFill>
          <a:blip r:embed="rId2"/>
          <a:stretch/>
        </p:blipFill>
        <p:spPr>
          <a:xfrm>
            <a:off x="5435640" y="4564080"/>
            <a:ext cx="368136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uden aan opzegtermij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der houdt zich niet aan huurcontrac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oning in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orspronkelijke staat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rugbre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koop breekt geen 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ood breekt geen 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5386320" y="4221000"/>
            <a:ext cx="371016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8 jaar geworden?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irect schrijven op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www.woningnet.n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eenmalig 50 euro betalen en daarna jaarlijks 10 euro verlengingskost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chttijd voor betaalbare huurwoningen is lang, omdat de vraag naar deze huurwoningen groter is dan het aanbod hiervan. De prijzen liggen hierdoor ook hoog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9" name="AutoShape 5"/>
          <p:cNvSpPr/>
          <p:nvPr/>
        </p:nvSpPr>
        <p:spPr>
          <a:xfrm>
            <a:off x="155520" y="-677880"/>
            <a:ext cx="1847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155520" y="-677880"/>
            <a:ext cx="1847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9" descr="Gerelateerde afbeelding"/>
          <p:cNvPicPr/>
          <p:nvPr/>
        </p:nvPicPr>
        <p:blipFill>
          <a:blip r:embed="rId3"/>
          <a:stretch/>
        </p:blipFill>
        <p:spPr>
          <a:xfrm>
            <a:off x="5867280" y="2421000"/>
            <a:ext cx="2160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sen met ee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laag inkomen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 die in een huurwoning wonen met ee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uurbedrag dat ligt tussen de minimale en de maximal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huurgrens, krijgen huurtoeslag van de overheid, als hulp in de huurlas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on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asisbehoef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http://stuworld.nl/uploads/content/Wie%20krijgt%20huurtoeslag_600x266.jpg"/>
          <p:cNvPicPr/>
          <p:nvPr/>
        </p:nvPicPr>
        <p:blipFill>
          <a:blip r:embed="rId2"/>
          <a:stretch/>
        </p:blipFill>
        <p:spPr>
          <a:xfrm>
            <a:off x="1403280" y="4508640"/>
            <a:ext cx="3203640" cy="14205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3"/>
          <a:stretch/>
        </p:blipFill>
        <p:spPr>
          <a:xfrm>
            <a:off x="5000760" y="3860640"/>
            <a:ext cx="41432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lein onderhoud (wordt door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huurd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aal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nderhou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root onderhoud (wordt door            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verhuurd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aal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cxnSp>
        <p:nvCxnSpPr>
          <p:cNvPr id="408" name="Rechte verbindingslijn met pijl 4"/>
          <p:cNvCxnSpPr/>
          <p:nvPr/>
        </p:nvCxnSpPr>
        <p:spPr>
          <a:xfrm flipV="1">
            <a:off x="2987640" y="2275920"/>
            <a:ext cx="721440" cy="1081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9" name="Rechte verbindingslijn met pijl 7"/>
          <p:cNvCxnSpPr/>
          <p:nvPr/>
        </p:nvCxnSpPr>
        <p:spPr>
          <a:xfrm>
            <a:off x="2987280" y="3357720"/>
            <a:ext cx="577080" cy="10800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pic>
        <p:nvPicPr>
          <p:cNvPr id="410" name="Picture 9" descr="http://www.derietdekker.nl/images/user/nieuw-rieten-dak/inspectie-rieten-dak.jpg"/>
          <p:cNvPicPr/>
          <p:nvPr/>
        </p:nvPicPr>
        <p:blipFill>
          <a:blip r:embed="rId2"/>
          <a:stretch/>
        </p:blipFill>
        <p:spPr>
          <a:xfrm>
            <a:off x="1042920" y="3716280"/>
            <a:ext cx="1513080" cy="16938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3" descr="http://ohsosteffi.files.wordpress.com/2014/04/dsc_0421.jpg"/>
          <p:cNvPicPr/>
          <p:nvPr/>
        </p:nvPicPr>
        <p:blipFill>
          <a:blip r:embed="rId3"/>
          <a:stretch/>
        </p:blipFill>
        <p:spPr>
          <a:xfrm>
            <a:off x="6593040" y="0"/>
            <a:ext cx="2550960" cy="17002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7" descr="http://www.vanloonschilderwerken.nl/wp-content/uploads/2013/03/Buitenschilderwerk-Halsteren.jpg"/>
          <p:cNvPicPr/>
          <p:nvPr/>
        </p:nvPicPr>
        <p:blipFill>
          <a:blip r:embed="rId4"/>
          <a:stretch/>
        </p:blipFill>
        <p:spPr>
          <a:xfrm>
            <a:off x="6873840" y="5157720"/>
            <a:ext cx="2270160" cy="1700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9" descr="http://www.klusidee.nl/Forum/userpix/91339_2vv2u7q_2.jpg"/>
          <p:cNvPicPr/>
          <p:nvPr/>
        </p:nvPicPr>
        <p:blipFill>
          <a:blip r:embed="rId5"/>
          <a:stretch/>
        </p:blipFill>
        <p:spPr>
          <a:xfrm>
            <a:off x="4716360" y="5183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1" descr="https://static.karwei.nl/medias/sys_master/h39/h17/8796287827998.jpg"/>
          <p:cNvPicPr/>
          <p:nvPr/>
        </p:nvPicPr>
        <p:blipFill>
          <a:blip r:embed="rId6"/>
          <a:stretch/>
        </p:blipFill>
        <p:spPr>
          <a:xfrm>
            <a:off x="5126040" y="0"/>
            <a:ext cx="1444680" cy="17002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3" descr="http://www.fantv.nl/images/stories/klus/behangen.jpg"/>
          <p:cNvPicPr/>
          <p:nvPr/>
        </p:nvPicPr>
        <p:blipFill>
          <a:blip r:embed="rId7"/>
          <a:stretch/>
        </p:blipFill>
        <p:spPr>
          <a:xfrm>
            <a:off x="3492360" y="0"/>
            <a:ext cx="1659240" cy="17002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5" descr="http://www.zkkf.nl/foto/zelf-kozijnen-monteren/plaatsen_kunststof_kozijnen.jpg"/>
          <p:cNvPicPr/>
          <p:nvPr/>
        </p:nvPicPr>
        <p:blipFill>
          <a:blip r:embed="rId8"/>
          <a:stretch/>
        </p:blipFill>
        <p:spPr>
          <a:xfrm>
            <a:off x="2484360" y="5165640"/>
            <a:ext cx="224964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07T10:55:26Z</dcterms:modified>
  <cp:revision>61</cp:revision>
  <dc:subject/>
  <dc:title> </dc:title>
</cp:coreProperties>
</file>