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0.png" ContentType="image/png"/>
  <Override PartName="/ppt/media/image6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5.jpeg" ContentType="image/jpeg"/>
  <Override PartName="/ppt/media/image13.jpeg" ContentType="image/jpeg"/>
  <Override PartName="/ppt/media/image4.png" ContentType="image/png"/>
  <Override PartName="/ppt/media/image8.jpeg" ContentType="image/jpeg"/>
  <Override PartName="/ppt/media/image21.png" ContentType="image/png"/>
  <Override PartName="/ppt/media/image19.png" ContentType="image/png"/>
  <Override PartName="/ppt/media/image1.png" ContentType="image/png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9.jpeg" ContentType="image/jpeg"/>
  <Override PartName="/ppt/media/image3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54E6C-AFB8-4969-B06F-FF229DC7B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3F34C-D200-415E-985C-8C73077BD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96F3A-3384-4C6F-838A-4A833B033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0744C-5A7D-4A73-BEBA-1B9ADEEAB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93B0D-379B-436D-A5FE-D2DA96EA1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AD39D-277A-4782-A525-6DFCDDF80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D3C5B-7DDC-4829-8714-AE23D1E5F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158FE-B15D-40EC-B426-C1D631BF1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3F36C-BEAC-4F48-BC67-F187C7A53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EF4AD-8BEB-457B-97E3-30B29C21C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76F93-7F1E-4D52-A439-B0EBDE012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D78A2-7538-4E5B-BE5E-47729BCEC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B4CDC-669E-42BA-85B9-3D00A299C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241E9-C092-4BE4-8663-D965FB293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790D6-D55B-4F3D-BA62-994159018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5646F-36E7-4DC7-B874-EDABC8E15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54428-F967-47AB-86BE-41DE7870D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A60D7F-D569-4D16-8F5B-77D08DDB8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8694FE-A74C-4967-9F4C-2B4AF9F35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AF9456-38AA-4438-98FF-404D026C6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7D5C11-73AD-4722-9D36-600BD0A33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95021B-6C5E-4A1D-A0A5-CACFD65C7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47A20-F29A-420F-85C7-5819B4C8D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52B4A7-FF2C-4683-9007-EAFCC2B62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BDA89C-77D1-4A22-ACE3-9C4C20F60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B027CE-B97B-4F6D-AE67-D31B5B4F6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D80CA9-6C5E-43C4-9BE4-D62B0896C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A108BE-FFFD-4555-A4F7-5C719101D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F8E517-7DC6-41D0-A625-45DBBC3F0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1DC408-8872-4725-9836-5EBBC3C85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86A273-A0E1-4ADC-913C-07B112F58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65B88A-C0B0-4310-8914-D8CA59426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293275-8B02-4545-873D-4E379BCCD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29822-FB27-4558-BB9C-887EFB5A6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762EFC-D193-4A4F-B9FD-B2D32BC35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BC04AF-F7D3-4BF8-9506-2344B6670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DC750F-9F87-4AC2-87CD-71577087A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85DDAA-6968-42D9-AD26-70ED9B888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868D25-A010-4DF7-8CCE-F74DE7875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142D10-5727-4B1B-9F9C-4B528DE1E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23E263-A86A-4074-A499-507C735BA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F93592-A83D-4AA1-8C0E-3710F93C2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14265A-C66B-4576-8E8F-1711DE90B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72CEEE-5600-4D59-BE58-228919BD5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A39DC-0D06-43F8-8415-EAC5BF29A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9D3C70-8BC1-4511-A1E9-04A50EC6F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79458F-CB21-4321-9035-EA5CCCC66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DF1A57-55C5-4E72-9FD9-AB868BA08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00EFE8-07B4-4E90-9168-26E256B49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6680EA-20DD-4FF8-A130-EAC33DFEE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AFBBF6-A6A9-4D8E-8DC1-94C346E46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75E001-2DA7-4677-AE2E-F2E182269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69FFF7-13D4-430F-B98B-4F490002C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1337F9-BEFF-49EF-9E3D-97AE9887C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F8C5FB-8178-43F3-A443-D6A261844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E48F3-0FB9-4724-BF82-D2C317A8D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EC872C-396D-4906-9E55-9E650A7DF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884A9A-DF6D-4F4B-BBBE-7FBBBFC56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1BAADD-CD18-40E6-8484-31BA131C8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2DE16C-BD80-46B2-9E1D-D66931B78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167811-4FBF-49FA-A83C-0F7CA4A2A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87D869-ACE2-485D-A9A2-7442DB37E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F7672F-C541-46AF-846E-693592764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F1CB4A-C297-4DD2-AD8C-E127FDFCD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8B544A-31F4-4861-B8AF-493CE277F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133713-348B-42E1-B287-B6702CFC3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49BBD-C72E-4067-B76E-435975C51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E73F1F-83B8-443D-99D1-00BE90224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FC307A-AE96-49CA-9AFC-C7B34A83F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D3A7D6-FBB6-452B-BECF-E75660F8F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2E30CB-D2BE-44AA-9214-71E1F1A6A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DA9642-4E3A-4485-81B6-91B8E05B7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C135D2-F15E-46BD-9F3E-D9F9BFE0F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3746D5-D810-4C86-A88F-587F65325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F21479-C3DD-45B9-A217-8FDFDA538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D62587-DF49-49A9-9B24-FBCDB0FA2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9D170E-B4FD-47CF-9A6B-82032E1F3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C8A12-72AC-4988-889B-53DC5E73E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1C14B7-0678-4586-ACE3-70F2E7ECF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E7AC52-FBDD-4C9E-9ADA-A4E6E13EC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AC4338-35BD-4504-84CC-9EB241947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BFFD67-DA42-4978-92D1-BED5C2742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9253BB-A975-49D6-91E5-80E5B6483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FCDF4E-2D4F-4752-A966-A3A6C2A97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410A70-2C2A-4931-AE22-C07073FC2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9B028C-814E-4EAB-BE89-4CA92B839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043442-1E97-48DF-90F0-DB6BD6E9F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C8D79D-1FC9-42D5-8FF8-07059A6E6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8021C-408B-42DB-BD05-9C6553BE8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4AA82D-BA8F-41B3-8BCE-2446CDF90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E8823A-98A7-4577-B99C-0D4CB243A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1975E6-B6B6-4C1E-A920-96700002E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4FCED3-4534-4ED8-AEF9-DB9FFF6AE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86B5E5-731A-40FF-9438-58DD8B414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F0D432-C3BC-4F54-ADEB-13BB3402C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FB10BF-97D3-427C-BF8C-6C2B30E7C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echthoekige driehoek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Rechte verbindingslijn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DF0F1-048E-458F-A1B3-45757C3CE48F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hthoekige driehoek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e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Vrije vorm 15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Vrije vorm 18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Vrije vorm 18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Vrije vorm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Rechte verbindingslijn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B9950-E026-4F0E-B643-F1509B133905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Punthaak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unthaak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8CCC6-1A7E-408D-B62C-2F068DD914E2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F2496-EF70-4303-BB0C-75AE3F975948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3FF68-D9C3-409B-A59C-81DE05BBE2D4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23819-5FED-4D30-BD06-E57995B196EA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7304C-FF2C-44FB-A5E5-194EBAF696C8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Vrije v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Vrije v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echthoekige driehoek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Rechthoekige driehoek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Rechte verbindingslijn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Punthaak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unthaak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B7141-926F-4B5A-8B29-4E3746588392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el 1" descr=""/>
          <p:cNvPicPr/>
          <p:nvPr/>
        </p:nvPicPr>
        <p:blipFill>
          <a:blip r:embed="rId1"/>
          <a:stretch/>
        </p:blipFill>
        <p:spPr>
          <a:xfrm>
            <a:off x="689040" y="1755720"/>
            <a:ext cx="7772400" cy="18288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826920" y="1033200"/>
            <a:ext cx="7772400" cy="3686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Lucida Sans Unicode"/>
              </a:rPr>
              <a:t>ECONOMIE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Paragraaf 4.3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De woningfinanciering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2" name="AutoShape 6"/>
          <p:cNvSpPr/>
          <p:nvPr/>
        </p:nvSpPr>
        <p:spPr>
          <a:xfrm>
            <a:off x="155520" y="-2095560"/>
            <a:ext cx="6991560" cy="43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AutoShape 8"/>
          <p:cNvSpPr/>
          <p:nvPr/>
        </p:nvSpPr>
        <p:spPr>
          <a:xfrm>
            <a:off x="307800" y="-1943280"/>
            <a:ext cx="6991560" cy="43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AutoShape 10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AutoShape 12"/>
          <p:cNvSpPr/>
          <p:nvPr/>
        </p:nvSpPr>
        <p:spPr>
          <a:xfrm>
            <a:off x="216000" y="1584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Picture 11" descr="http://www.eggebeenverzekeringen.nl/img/hypotheek1.jpg"/>
          <p:cNvPicPr/>
          <p:nvPr/>
        </p:nvPicPr>
        <p:blipFill>
          <a:blip r:embed="rId2"/>
          <a:stretch/>
        </p:blipFill>
        <p:spPr>
          <a:xfrm>
            <a:off x="0" y="0"/>
            <a:ext cx="3203640" cy="240336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15" descr="http://www.detijdnotariaat.nl/images/diensten-hypotheek.jpg"/>
          <p:cNvPicPr/>
          <p:nvPr/>
        </p:nvPicPr>
        <p:blipFill>
          <a:blip r:embed="rId3"/>
          <a:stretch/>
        </p:blipFill>
        <p:spPr>
          <a:xfrm>
            <a:off x="6227640" y="0"/>
            <a:ext cx="291636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Lucida Sans Unicode"/>
              </a:rPr>
              <a:t>http://www.at5.nl/artikelen/163193/blindkopers_sophie_zag_haar_nieuwe_huis_pas_bij_de_sleuteloverdracht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9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Lening voor de aankoop van een huis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Hypotheeklasten: maandelijks aflossing en rente betale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Het huis geldt als 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onderpand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van de woning. Dit betekent dat wanneer de koper de hypotheeklasten niet kan betalen, dat de bank de woning verkoopt en met de opbrengst de hypotheek aflost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1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382" name="AutoShape 5"/>
          <p:cNvSpPr/>
          <p:nvPr/>
        </p:nvSpPr>
        <p:spPr>
          <a:xfrm>
            <a:off x="155520" y="-1600200"/>
            <a:ext cx="6810480" cy="33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3" name="Picture 6" descr=""/>
          <p:cNvPicPr/>
          <p:nvPr/>
        </p:nvPicPr>
        <p:blipFill>
          <a:blip r:embed="rId2"/>
          <a:stretch/>
        </p:blipFill>
        <p:spPr>
          <a:xfrm>
            <a:off x="6340320" y="5516640"/>
            <a:ext cx="277344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395280" y="189000"/>
            <a:ext cx="8229600" cy="54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Voordat de bank een lening verstrekt, laat de bank een deskundige de woning taxeren (= werkelijke waarde vaststellen)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e bank wil namelijk niet meer dan de werkelijke waarde van de woning lene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ls de bank meer leent dan de woning waard is, loopt de bank het risico het geleende bedrag niet geheel terug te krijgen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5" name="Picture 6" descr="Gerelateerde afbeelding"/>
          <p:cNvPicPr/>
          <p:nvPr/>
        </p:nvPicPr>
        <p:blipFill>
          <a:blip r:embed="rId1"/>
          <a:stretch/>
        </p:blipFill>
        <p:spPr>
          <a:xfrm>
            <a:off x="3348000" y="4581360"/>
            <a:ext cx="285768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457200" y="907920"/>
            <a:ext cx="8229600" cy="509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n het begin hebben veel mensen moeite om hun hypotheeklasten te betalen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aandelijkse termijn is in het begin hoog in verhouding tot hun inkome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tijging inkomsten </a:t>
            </a:r>
            <a:r>
              <a:rPr b="0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gemakkelijker om de lasten de betale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aling inkomsten </a:t>
            </a:r>
            <a:r>
              <a:rPr b="0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moeilijker om de lasten te betalen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erkloos of arbeids-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9204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ongeschikt? </a:t>
            </a:r>
            <a:r>
              <a:rPr b="0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betalings-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9204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robleme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7" name="Titel 2" descr=""/>
          <p:cNvPicPr/>
          <p:nvPr/>
        </p:nvPicPr>
        <p:blipFill>
          <a:blip r:embed="rId1"/>
          <a:stretch/>
        </p:blipFill>
        <p:spPr>
          <a:xfrm>
            <a:off x="212760" y="0"/>
            <a:ext cx="8486640" cy="124308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2" descr=""/>
          <p:cNvPicPr/>
          <p:nvPr/>
        </p:nvPicPr>
        <p:blipFill>
          <a:blip r:embed="rId2"/>
          <a:stretch/>
        </p:blipFill>
        <p:spPr>
          <a:xfrm>
            <a:off x="5248440" y="4149720"/>
            <a:ext cx="3895560" cy="27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390" name="" descr=""/>
          <p:cNvPicPr/>
          <p:nvPr/>
        </p:nvPicPr>
        <p:blipFill>
          <a:blip r:embed="rId2"/>
          <a:stretch/>
        </p:blipFill>
        <p:spPr>
          <a:xfrm>
            <a:off x="457200" y="148104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391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AutoShape 6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3" name="Picture 8" descr="Afbeeldingsresultaat voor lineaire hypotheek"/>
          <p:cNvPicPr/>
          <p:nvPr/>
        </p:nvPicPr>
        <p:blipFill>
          <a:blip r:embed="rId3"/>
          <a:stretch/>
        </p:blipFill>
        <p:spPr>
          <a:xfrm>
            <a:off x="1403280" y="1484280"/>
            <a:ext cx="6624720" cy="441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Variabel; percentage kan op elk moment omhoog- of omlaaggaan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5 jaar vast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10 jaar vas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5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2" descr="http://www.mondtadviesgroep.nl/wp-content/uploads/2013/11/belastingrente.jpg"/>
          <p:cNvPicPr/>
          <p:nvPr/>
        </p:nvPicPr>
        <p:blipFill>
          <a:blip r:embed="rId2"/>
          <a:stretch/>
        </p:blipFill>
        <p:spPr>
          <a:xfrm>
            <a:off x="4078440" y="4149720"/>
            <a:ext cx="5065560" cy="26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oor de al betaalde aflossinge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oor de hogere marktwaarde van de woning </a:t>
            </a:r>
            <a:r>
              <a:rPr b="0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woning is meer waard dan ervoor betaald is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8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5" descr="Afbeeldingsresultaat voor aflossingen"/>
          <p:cNvPicPr/>
          <p:nvPr/>
        </p:nvPicPr>
        <p:blipFill>
          <a:blip r:embed="rId2"/>
          <a:stretch/>
        </p:blipFill>
        <p:spPr>
          <a:xfrm>
            <a:off x="1979640" y="3500280"/>
            <a:ext cx="599112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1T14:51:49Z</dcterms:created>
  <dc:creator>rachid</dc:creator>
  <dc:description/>
  <dc:language>en-US</dc:language>
  <cp:lastModifiedBy>Rachid Hamdi</cp:lastModifiedBy>
  <dcterms:modified xsi:type="dcterms:W3CDTF">2016-12-14T10:14:05Z</dcterms:modified>
  <cp:revision>75</cp:revision>
  <dc:subject/>
  <dc:title> </dc:title>
</cp:coreProperties>
</file>