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png" ContentType="image/png"/>
  <Override PartName="/ppt/media/image28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7.png" ContentType="image/png"/>
  <Override PartName="/ppt/media/image11.jpeg" ContentType="image/jpeg"/>
  <Override PartName="/ppt/media/image13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9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0E54-F76B-45F3-BD39-C026F4C0E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1E94-C8D4-46E4-8C26-E82E5D6A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4C5E-71A2-4F76-80C4-3D788D4D6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89EE-763C-496C-9262-2C1EEBF44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9A5F-095B-4DBB-B0D5-B65AF3344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247E-560A-48A9-A4A9-81918E29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881B-E4B1-4CA2-9B02-4B82188E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927F-7B0E-4A5D-A563-0CF26965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AEDD-E0DC-456D-BC23-FE6E1F15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6A26-F283-4016-AD85-13A7BCA2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C2E4-1826-42BE-8920-4EF5893F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D52A-F383-4CA5-9102-473CD78C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71E6-D330-49E6-B20F-08F2EB8C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F5AF-41C5-45DC-8EA3-24C8DB79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3E0C-7BA9-4C19-B7F3-6D61FF6C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F71A-09CE-4ED2-B176-B5E7A476B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8D54-790D-4416-AD36-CE2D17B53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ED7BF-0FA8-4372-828A-B1B4BE83D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9B0BA-96C9-4504-BB15-838007D1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3E84C-1A34-4298-B86F-5FE5A464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96AC9-5D17-46AC-AEF7-DAB0C648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D3107-BADA-472B-8BA5-73C56A70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6ED9-ED03-45E4-8CE9-D349DE20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D96D7-B33C-41E2-BFA3-758F2E6C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6CF5E-FB01-444C-8E32-0B55A81A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BC7CE-777D-41F0-BEC7-A253CE14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9EE38-3746-47F9-891F-582F8E77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2F086-51C0-4F49-B478-C6CF2E10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ED07C-312E-4992-A098-9C5DD8285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58A04-1D0B-46AD-B03A-8F4F8127D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2D1E3-5CEF-4462-94FA-7C07696EF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2C355-514E-45FD-8811-24183A68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D0559-5B85-466D-A3FC-FAF6BF50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158C-BA90-4AB7-8F39-C374FA4A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90589-DA1A-4484-BEE3-DBFA9597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3D083-3788-4848-89F4-DF6050F3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A560F-31F4-4810-9B4D-80947242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F79AB-DA19-42B0-A804-3388DBB7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A42EE-86AD-436D-B0C3-F959C123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E851A-B6F2-4989-BD6E-FFADFFB0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A4669-ABD8-4227-99A4-CE88109F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6B529-BA1B-49AC-A93B-FBCCB6A24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5F2D0-D709-41DC-85C9-E9A3E369C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380DF-BCE3-476E-9C01-9E79481FB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45EB-334D-4410-BB4E-98A6C15D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8A4E2-D80A-45FC-9209-E6D20025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6C336-E048-4B1A-AFD8-C58583A0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33728-9CCF-46A9-9162-BF97246D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2014F-1788-4808-B046-B72AE185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DDEE2-0EB4-436D-8353-0E14C820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0B98B-AC98-436D-9EDF-FC972D8F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81166-65F4-4BA3-8078-373FB5CD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69CAD-943B-4B51-83AC-86D54BF2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88B97-9F0D-4551-BCD5-7C783D99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2CBD8-E41A-4B5F-ADA8-3C1210146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86AE-F73D-429E-A311-F5DFCC1D5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D00B0-9B01-4068-B1EE-9A7426784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E6555-68B3-4790-AD10-8C1D09F59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A0F8D-521F-48A8-BFCA-D61CB1BF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2126C-23D4-486A-9B1D-8C37B1FB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D786F-5585-4F6B-808D-9FE76EFF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5D079-0AF2-4279-BB8A-7801C2A8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30378-EE46-47EE-A670-93EE038A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5387E-3827-4965-8261-202AECF1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B801C-5ACD-4601-997F-D09A34AF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5518B-F416-4612-8B9A-03D5A532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43D5-3CF9-4904-8610-853C7116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A054A-85DC-4675-B456-91D1C12E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CA1BB-C38E-49A2-BFB0-2A8E08BC7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54BE6-DCE4-4D29-8F15-D2D285F1D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0B4D8-12EA-4C1A-BAEB-B500555B7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75624-0630-4A9D-BAF9-CE01FE16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202FF-02B4-47BD-92FE-F09031A6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E9CE8-501A-46AB-A01E-02C5804A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EC1B5-9945-45E3-BDF8-78BDC333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C61FB-94D7-412D-BD1C-56001987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4ACEC-A7E9-453D-9930-6CC87079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E49E-2462-49B2-977B-30C9CE93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43570-DE55-4EB0-A554-5A06868A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63744-7BD6-41A2-9E51-B2053D1D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3FAB5-BE7D-4594-9EE4-B6698C39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941B6-DD3B-49FC-9A0A-E38F11300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DD2A9-0B33-4412-9A32-A7082B6E9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3CC89-162C-4494-9DFC-B48A06E93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E5E45-77FB-4A10-AEA3-6F90C702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9DF8D-10F8-4EEA-AEF6-A7CD4FFF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8B9C9-8145-4FF2-B92E-B26C0321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ECCFC-A3EE-4A8A-9304-EB5F694B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0DCD-EFBB-49CF-AF9C-66DBC1D9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D1438-3888-463B-857D-F38A73BC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0BEF5-4CB6-4E19-B2EB-AB8AA0EB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EF4F7-916E-4AFE-90AB-E942D6A6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08089-B71A-41ED-AFB4-ED45AADF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52C8E-EAD0-457F-BEF0-31549611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E899D-EEA6-47A5-8814-35E4C6E6F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0CDF3-E234-42AC-B1C6-0E850328C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2847-C5D9-4C38-888C-39C4CD98446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446C-D6EC-49D3-AA98-BD6A4EC05C78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123A-7ADF-4E9F-96C7-8F9CF5E2C8A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591C-4288-4D9A-9064-127E7021AE2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1EDC-8102-4DFE-B45B-E1F307CA5AA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E827-313E-4929-BB50-0DDC3E21DB7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1761-8084-46DD-ACFE-F940D400449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FC04-C68E-4665-ADDA-A6EB60149467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oningnet.nl/" TargetMode="External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1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Huur en verhuur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4" descr="http://www.cie.nl/media/W1siZiIsIjIwMTMvMDkvMDMvMDgvNDYvNTgvOTcyLzA1MDE2X1dhdGVybGFuZHBsZWluXzAxLmpwZyJdXQ/05016_Waterlandplein_01.jpg"/>
          <p:cNvPicPr/>
          <p:nvPr/>
        </p:nvPicPr>
        <p:blipFill>
          <a:blip r:embed="rId2"/>
          <a:stretch/>
        </p:blipFill>
        <p:spPr>
          <a:xfrm>
            <a:off x="0" y="0"/>
            <a:ext cx="320364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 de laatste jar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groot tekort aan huurkamers en betaalbare huurwoningen, omdat de vraag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groter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is dan het aanbo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volg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hoge prijzen!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Sociale huurwoning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bedoeld voor mensen met een laag inkome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Vrije sector woning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bedoeld voor mensen met hogere inkome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79" name="PIJL-OMLAAG 4"/>
          <p:cNvSpPr/>
          <p:nvPr/>
        </p:nvSpPr>
        <p:spPr>
          <a:xfrm>
            <a:off x="3924360" y="2455920"/>
            <a:ext cx="503280" cy="86364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2"/>
          <p:cNvSpPr/>
          <p:nvPr/>
        </p:nvSpPr>
        <p:spPr>
          <a:xfrm>
            <a:off x="63360" y="-136440"/>
            <a:ext cx="32101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4" descr="Gerelateerde afbeelding"/>
          <p:cNvPicPr/>
          <p:nvPr/>
        </p:nvPicPr>
        <p:blipFill>
          <a:blip r:embed="rId2"/>
          <a:stretch/>
        </p:blipFill>
        <p:spPr>
          <a:xfrm>
            <a:off x="7040520" y="0"/>
            <a:ext cx="2131920" cy="12682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6" descr="http://www.woonnieuws.nl/files/image/61"/>
          <p:cNvPicPr/>
          <p:nvPr/>
        </p:nvPicPr>
        <p:blipFill>
          <a:blip r:embed="rId3"/>
          <a:stretch/>
        </p:blipFill>
        <p:spPr>
          <a:xfrm>
            <a:off x="6156360" y="2637000"/>
            <a:ext cx="2482920" cy="1711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8" descr="http://www.wv.nl/typo3temp/pics/Label_vrije_sector_10_cm_RGB_1f993fb23a.jpg"/>
          <p:cNvPicPr/>
          <p:nvPr/>
        </p:nvPicPr>
        <p:blipFill>
          <a:blip r:embed="rId4"/>
          <a:stretch/>
        </p:blipFill>
        <p:spPr>
          <a:xfrm>
            <a:off x="7496280" y="5210280"/>
            <a:ext cx="164772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nder woord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huurovereenkomst. Hieruit vloeien rechten en plich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Recht ver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urbedrag op tijd krij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Plichten ver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oning in goede staat opleveren en onderhoud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Recht 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ivacy en ongestoord woongeno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Plicht 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huur op tijd betal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6" name="AutoShape 2"/>
          <p:cNvSpPr/>
          <p:nvPr/>
        </p:nvSpPr>
        <p:spPr>
          <a:xfrm>
            <a:off x="155520" y="-2468520"/>
            <a:ext cx="609588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Gerelateerde afbeelding"/>
          <p:cNvPicPr/>
          <p:nvPr/>
        </p:nvPicPr>
        <p:blipFill>
          <a:blip r:embed="rId2"/>
          <a:stretch/>
        </p:blipFill>
        <p:spPr>
          <a:xfrm>
            <a:off x="7308720" y="-54000"/>
            <a:ext cx="1835280" cy="15494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6" descr="http://www.psychologiepraktijkberingen.nl/images/praktijkregels.jpg"/>
          <p:cNvPicPr/>
          <p:nvPr/>
        </p:nvPicPr>
        <p:blipFill>
          <a:blip r:embed="rId3"/>
          <a:stretch/>
        </p:blipFill>
        <p:spPr>
          <a:xfrm>
            <a:off x="7385040" y="5229360"/>
            <a:ext cx="1735200" cy="16286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8" descr="http://www.watzijnkinderrechten.be/oorsprong/_img/oorsprongwat.gif"/>
          <p:cNvPicPr/>
          <p:nvPr/>
        </p:nvPicPr>
        <p:blipFill>
          <a:blip r:embed="rId4"/>
          <a:stretch/>
        </p:blipFill>
        <p:spPr>
          <a:xfrm>
            <a:off x="7554960" y="3662280"/>
            <a:ext cx="1539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urbedrag moet in verhouding zijn met de kwaliteit van de won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oe meer luxe en hoe mooier de omgeving, hoe hoger de huur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ma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zij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ijzen vaststell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gebruik maken van landelijk puntensystee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92" name="AutoShape 2"/>
          <p:cNvSpPr/>
          <p:nvPr/>
        </p:nvSpPr>
        <p:spPr>
          <a:xfrm>
            <a:off x="63360" y="-136440"/>
            <a:ext cx="369576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Gerelateerde afbeelding"/>
          <p:cNvPicPr/>
          <p:nvPr/>
        </p:nvPicPr>
        <p:blipFill>
          <a:blip r:embed="rId2"/>
          <a:stretch/>
        </p:blipFill>
        <p:spPr>
          <a:xfrm>
            <a:off x="5435640" y="4564080"/>
            <a:ext cx="368136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ouden aan opzegtermij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urder houdt zich niet aan huurcontrac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oning in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oorspronkelijke staat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rugbren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koop breekt geen huu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ood breekt geen huu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"/>
          <p:cNvPicPr/>
          <p:nvPr/>
        </p:nvPicPr>
        <p:blipFill>
          <a:blip r:embed="rId2"/>
          <a:stretch/>
        </p:blipFill>
        <p:spPr>
          <a:xfrm>
            <a:off x="5386320" y="4221000"/>
            <a:ext cx="3710160" cy="26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8 jaar geworden?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direct schrijven op 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www.woningnet.n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(eenmalig 50 euro betalen en daarna jaarlijks 10 euro verlengingskost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chttijd voor betaalbare huurwoningen is lang, omdat de vraag naar deze huurwoningen groter is dan het aanbod hiervan. De prijzen liggen hierdoor ook hoog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99" name="AutoShape 5"/>
          <p:cNvSpPr/>
          <p:nvPr/>
        </p:nvSpPr>
        <p:spPr>
          <a:xfrm>
            <a:off x="155520" y="-677880"/>
            <a:ext cx="18478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7"/>
          <p:cNvSpPr/>
          <p:nvPr/>
        </p:nvSpPr>
        <p:spPr>
          <a:xfrm>
            <a:off x="155520" y="-677880"/>
            <a:ext cx="18478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9" descr="Gerelateerde afbeelding"/>
          <p:cNvPicPr/>
          <p:nvPr/>
        </p:nvPicPr>
        <p:blipFill>
          <a:blip r:embed="rId3"/>
          <a:stretch/>
        </p:blipFill>
        <p:spPr>
          <a:xfrm>
            <a:off x="5867280" y="2421000"/>
            <a:ext cx="21607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nsen met een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laag inkomen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 die in een huurwoning wonen met een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uurbedrag dat ligt tussen de minimale en de maximal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huurgrens, krijgen huurtoeslag van de overheid, als hulp in de huurlas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one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basisbehoef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http://stuworld.nl/uploads/content/Wie%20krijgt%20huurtoeslag_600x266.jpg"/>
          <p:cNvPicPr/>
          <p:nvPr/>
        </p:nvPicPr>
        <p:blipFill>
          <a:blip r:embed="rId2"/>
          <a:stretch/>
        </p:blipFill>
        <p:spPr>
          <a:xfrm>
            <a:off x="1403280" y="4508640"/>
            <a:ext cx="3203640" cy="14205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"/>
          <p:cNvPicPr/>
          <p:nvPr/>
        </p:nvPicPr>
        <p:blipFill>
          <a:blip r:embed="rId3"/>
          <a:stretch/>
        </p:blipFill>
        <p:spPr>
          <a:xfrm>
            <a:off x="5000760" y="3860640"/>
            <a:ext cx="41432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Klein onderhoud (wordt door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huurde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betaald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Onderhou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root onderhoud (wordt door             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verhuurde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betaald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cxnSp>
        <p:nvCxnSpPr>
          <p:cNvPr id="408" name="Rechte verbindingslijn met pijl 4"/>
          <p:cNvCxnSpPr/>
          <p:nvPr/>
        </p:nvCxnSpPr>
        <p:spPr>
          <a:xfrm flipV="1">
            <a:off x="2987640" y="2275920"/>
            <a:ext cx="721440" cy="10818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09" name="Rechte verbindingslijn met pijl 7"/>
          <p:cNvCxnSpPr/>
          <p:nvPr/>
        </p:nvCxnSpPr>
        <p:spPr>
          <a:xfrm>
            <a:off x="2987280" y="3357720"/>
            <a:ext cx="577080" cy="10800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pic>
        <p:nvPicPr>
          <p:cNvPr id="410" name="Picture 9" descr="http://www.derietdekker.nl/images/user/nieuw-rieten-dak/inspectie-rieten-dak.jpg"/>
          <p:cNvPicPr/>
          <p:nvPr/>
        </p:nvPicPr>
        <p:blipFill>
          <a:blip r:embed="rId2"/>
          <a:stretch/>
        </p:blipFill>
        <p:spPr>
          <a:xfrm>
            <a:off x="1042920" y="3716280"/>
            <a:ext cx="1513080" cy="16938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3" descr="http://ohsosteffi.files.wordpress.com/2014/04/dsc_0421.jpg"/>
          <p:cNvPicPr/>
          <p:nvPr/>
        </p:nvPicPr>
        <p:blipFill>
          <a:blip r:embed="rId3"/>
          <a:stretch/>
        </p:blipFill>
        <p:spPr>
          <a:xfrm>
            <a:off x="6593040" y="0"/>
            <a:ext cx="2550960" cy="17002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7" descr="http://www.vanloonschilderwerken.nl/wp-content/uploads/2013/03/Buitenschilderwerk-Halsteren.jpg"/>
          <p:cNvPicPr/>
          <p:nvPr/>
        </p:nvPicPr>
        <p:blipFill>
          <a:blip r:embed="rId4"/>
          <a:stretch/>
        </p:blipFill>
        <p:spPr>
          <a:xfrm>
            <a:off x="6873840" y="5157720"/>
            <a:ext cx="2270160" cy="1700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9" descr="http://www.klusidee.nl/Forum/userpix/91339_2vv2u7q_2.jpg"/>
          <p:cNvPicPr/>
          <p:nvPr/>
        </p:nvPicPr>
        <p:blipFill>
          <a:blip r:embed="rId5"/>
          <a:stretch/>
        </p:blipFill>
        <p:spPr>
          <a:xfrm>
            <a:off x="4716360" y="5183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1" descr="https://static.karwei.nl/medias/sys_master/h39/h17/8796287827998.jpg"/>
          <p:cNvPicPr/>
          <p:nvPr/>
        </p:nvPicPr>
        <p:blipFill>
          <a:blip r:embed="rId6"/>
          <a:stretch/>
        </p:blipFill>
        <p:spPr>
          <a:xfrm>
            <a:off x="5126040" y="0"/>
            <a:ext cx="1444680" cy="17002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3" descr="http://www.fantv.nl/images/stories/klus/behangen.jpg"/>
          <p:cNvPicPr/>
          <p:nvPr/>
        </p:nvPicPr>
        <p:blipFill>
          <a:blip r:embed="rId7"/>
          <a:stretch/>
        </p:blipFill>
        <p:spPr>
          <a:xfrm>
            <a:off x="3492360" y="0"/>
            <a:ext cx="1659240" cy="17002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5" descr="http://www.zkkf.nl/foto/zelf-kozijnen-monteren/plaatsen_kunststof_kozijnen.jpg"/>
          <p:cNvPicPr/>
          <p:nvPr/>
        </p:nvPicPr>
        <p:blipFill>
          <a:blip r:embed="rId8"/>
          <a:stretch/>
        </p:blipFill>
        <p:spPr>
          <a:xfrm>
            <a:off x="2484360" y="5165640"/>
            <a:ext cx="224964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07T10:55:26Z</dcterms:modified>
  <cp:revision>61</cp:revision>
  <dc:subject/>
  <dc:title> </dc:title>
</cp:coreProperties>
</file>