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F086-8CF7-4550-9F85-BFF4DF76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2042-026C-4273-80FC-E7DF0350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A2BE-9FB6-450D-83DD-FEFBD932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10DA-4010-4F37-A286-964B0F60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C723-63CD-457B-AE40-7DC5ADBB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C1A2-C5FC-41A6-A653-F2FE2536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9B29-A050-4C18-AC3B-6FE709BB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B4C4-AA5E-4617-AB83-5792C5DA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8C6F-7AEC-456C-9FAC-0C68C1EE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9B6C-5D28-4570-9CEA-E56746BF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ABD8-72EB-4208-8E50-A43A1E8E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2729-44E1-4A08-896C-BF2347DF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0273-ED70-4E3C-90FC-736B4F10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1B5F-A363-4E48-B686-231A4485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249A-F226-4D16-8093-5CB484D7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3B46-D8B1-49D0-A813-EFECC666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4829-0AD7-4C3A-9957-3AACE0FE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D7F88-EF32-4369-ADA8-7F104089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FE67D-652C-47FF-A3BB-375095C3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3E814-C458-4CC9-8F80-80EFD716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1E437-CA05-4E47-801E-91942003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A8179-CBE3-4BF0-B640-B3855126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829E-D350-4137-9B01-28088CE0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520B1-D06D-4F09-84AB-D136C35F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8CE6D-B6D4-43C7-B49E-9AFD1352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B5E6D-AE4B-4D3B-B031-0537250D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BF0FD-8214-4421-B5AF-1E23863A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CDE28-04C2-4FBE-AF13-12B1F393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F974D-4446-49F8-8E00-E08006DC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ABC88-D4B9-4514-871D-4A3CF711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81420-BBB3-4625-B047-89B81FA9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7F5C8-F871-4E8F-9472-5A1C477B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C9252-381F-4202-A2C5-475448D1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9EEE-53F7-4DEE-97A7-DDC25A01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D276E-19FD-49B5-A9F3-F915C9C6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A5A17-75ED-47D2-99B7-BE509B14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6FE81-B46F-4B18-BBEC-7CAAC810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02B37-4EA4-44BE-A955-83CCC7A0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C6F44-509C-4E0B-A0F7-AD4AB21A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A6CF5-8500-436C-947A-076C1070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43B85-9A82-4400-8B26-A1C37152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9E070-5BAD-4F85-BFA0-180C1740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7E6A1-F84A-42EF-904D-7E3DD097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BA8B1-496C-43AE-B3E6-7DBB78137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4F34-5C65-4A05-92BA-57E92E83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9384E-1D05-4645-A617-4DCB21A4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A8CC3-41B9-4742-938C-CCEE4773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C66B7-028A-4F26-93ED-00F6ADF2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28B9A-7EA4-4977-B892-36AC6D2F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E9931-F383-4961-A2B9-96A12A67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1BBBB-A9F2-4589-B47F-EE90DD17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02D38-2736-45E3-B33C-5546561A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9B372-AB0D-45BD-A11C-43985F40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DCD1B-8801-44D6-9CAE-4C1C5A8B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EEB03-890B-4B31-97F9-D74253CF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09CC-5C53-4182-92AC-78B7AB8C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F75CA-22B7-4132-888A-C0B0D6C3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B4E7D-CB4E-4369-A265-F6271112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C721F-AC9C-4F18-B977-665E4171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E8A0A-F972-4292-9DE2-9C95ECB4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B4589-FED7-465A-8AFE-3042AC64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D4562-39F7-45F9-9CD3-CAF1F657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9047D-DB07-4533-A6CB-FA8469F7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91CBF-A139-4C8C-9387-FB40232A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1E4A3-7B43-4C5F-9932-1CB1513A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1EF8D-E197-45D9-BEF8-84B3F09C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C518-41C9-4600-81B1-A4EC213B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40B3C-A012-4EE6-8FC8-441D9D5F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C8A7F-4C86-438C-A4D1-695854B9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B66C0-9BC0-4BD4-96D5-493317B1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CA2D7-DE5C-44A8-9374-703B28DC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42D86-8627-42F2-BBB6-FF5A5F55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3E097-FB28-499D-869F-E9CDE923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A0F97-8EE0-4943-8D45-1B4CA994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BD5F1-6CA2-41A5-8100-3E5F07BF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0A3EB-83E4-4AE5-A6D5-CC8F55DB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C1C32-2616-425C-8DB0-840B5891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4396-222F-47BC-A697-88CA24C5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62C85-97B5-453B-93B7-B0DF2D2A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57680-66FB-4B91-A6CD-C3B1FB3F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CC765-C504-4701-9A3B-516F4300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5050F-B183-4FDA-92AA-9FB0AD2D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0116B-7583-45B9-94D3-5ACB8E65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D353A-E031-4C33-BA33-E6E7CF9B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D03ED-7D09-4A90-B97A-E396DC07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F0379-C535-4420-986C-751ACD5F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498DC-94B1-43D5-898B-A10E59CD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B72A0-723A-4B28-9500-5970A07D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9EF-F439-4ACC-99BC-2DCFE807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DE5B9-00FC-4DA5-B60A-C10B6432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9680E-F6C3-4BD9-9C4F-5DC1DD6B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31856-D5E5-4545-99CB-A38179A3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35674-5DFD-4B78-A6ED-D4CA576C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23363-A834-4D58-AC49-6D0D7B5D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C6405-8BA3-45C8-B640-484E5838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67DC0-DDBC-469D-9129-1C7A1306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E002-0690-4F1C-B9F1-35EA61906E3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412B-BD36-437E-AA88-FE0DC9F7FC3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5481-35BD-46B4-B77D-33481C5B437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7EA2-71A9-4A57-9678-9D7966713AB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B696-7B54-425B-A952-2E04C043B1B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5AF8-EC7D-43C2-83BB-333DEFDAEE9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B75D-ABDA-4E6D-B83F-0EDE25C1FE2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8F9A-B06B-4BBD-A0AD-6AC1C8619C1A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oed verzeker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goed verzekerd"/>
          <p:cNvPicPr/>
          <p:nvPr/>
        </p:nvPicPr>
        <p:blipFill>
          <a:blip r:embed="rId2"/>
          <a:stretch/>
        </p:blipFill>
        <p:spPr>
          <a:xfrm>
            <a:off x="0" y="17640"/>
            <a:ext cx="3132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836640"/>
            <a:ext cx="86868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stalverzekering; schade aa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boedelverzekering; schade aan spullen i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sprakelijkheidsverzekering particulieren (AVP); schade aan de and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ttelijke aansprakelijkheidsverzekering (WA); voor bestuurders motorvoertuig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-cascoverzekering (all riskverzekering); schade van tegenpartij en eigen voertui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rgverzekering; voor ziektekost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705880" cy="12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Afbeeldingsresultaat voor WA verzekering"/>
          <p:cNvPicPr/>
          <p:nvPr/>
        </p:nvPicPr>
        <p:blipFill>
          <a:blip r:embed="rId2"/>
          <a:stretch/>
        </p:blipFill>
        <p:spPr>
          <a:xfrm>
            <a:off x="6858000" y="5367240"/>
            <a:ext cx="2286000" cy="1486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Afbeeldingsresultaat voor opstalverzekering"/>
          <p:cNvPicPr/>
          <p:nvPr/>
        </p:nvPicPr>
        <p:blipFill>
          <a:blip r:embed="rId3"/>
          <a:stretch/>
        </p:blipFill>
        <p:spPr>
          <a:xfrm>
            <a:off x="4586400" y="5392800"/>
            <a:ext cx="2271600" cy="1492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Afbeeldingsresultaat voor inboedelverzekering"/>
          <p:cNvPicPr/>
          <p:nvPr/>
        </p:nvPicPr>
        <p:blipFill>
          <a:blip r:embed="rId4"/>
          <a:stretch/>
        </p:blipFill>
        <p:spPr>
          <a:xfrm>
            <a:off x="2706840" y="545616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Afbeeldingsresultaat voor aansprakelijkheidsverzekering particulieren"/>
          <p:cNvPicPr/>
          <p:nvPr/>
        </p:nvPicPr>
        <p:blipFill>
          <a:blip r:embed="rId5"/>
          <a:stretch/>
        </p:blipFill>
        <p:spPr>
          <a:xfrm>
            <a:off x="306360" y="5486400"/>
            <a:ext cx="23940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v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re verzekerde waarde dan juiste of getaxeerde waard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nde van de hogere premie die betaalt, want bij schade krijg je niet meer vergoed dan de werkelijke scha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nd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lagere verzekerde waarde dan juiste of getaxeerde waar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ij schade krijg je minder vergoed dan de werkelijke schade, omdat je maar voor een deel bent verzekerd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ierbij geldt de onderverzekeringsbreuk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2" descr=""/>
          <p:cNvPicPr/>
          <p:nvPr/>
        </p:nvPicPr>
        <p:blipFill>
          <a:blip r:embed="rId1"/>
          <a:stretch/>
        </p:blipFill>
        <p:spPr>
          <a:xfrm>
            <a:off x="268200" y="0"/>
            <a:ext cx="8454960" cy="1189080"/>
          </a:xfrm>
          <a:prstGeom prst="rect">
            <a:avLst/>
          </a:prstGeom>
          <a:ln w="0">
            <a:noFill/>
          </a:ln>
        </p:spPr>
      </p:pic>
      <p:sp>
        <p:nvSpPr>
          <p:cNvPr id="385" name="PIJL-RECHTS 3"/>
          <p:cNvSpPr/>
          <p:nvPr/>
        </p:nvSpPr>
        <p:spPr>
          <a:xfrm>
            <a:off x="6516720" y="6165720"/>
            <a:ext cx="2232000" cy="432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Afbeeldingsresultaat voor oververzekering"/>
          <p:cNvPicPr/>
          <p:nvPr/>
        </p:nvPicPr>
        <p:blipFill>
          <a:blip r:embed="rId2"/>
          <a:stretch/>
        </p:blipFill>
        <p:spPr>
          <a:xfrm>
            <a:off x="6684840" y="2565360"/>
            <a:ext cx="2482920" cy="12175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onderverzekering"/>
          <p:cNvPicPr/>
          <p:nvPr/>
        </p:nvPicPr>
        <p:blipFill>
          <a:blip r:embed="rId3"/>
          <a:stretch/>
        </p:blipFill>
        <p:spPr>
          <a:xfrm>
            <a:off x="2336760" y="2565360"/>
            <a:ext cx="17337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(Verzekerd bedrag : getaxeerde waarde) x schade = schade uit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7-01-11T09:15:51Z</dcterms:modified>
  <cp:revision>80</cp:revision>
  <dc:subject/>
  <dc:title> </dc:title>
</cp:coreProperties>
</file>