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4298-18CD-45E1-8F4C-D0D119C8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EDD7-D72B-4223-9157-D80DE44F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F640-055F-42D4-82E9-DF8B16B7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71F8-7BF9-4303-A031-53DC202C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F586-F63F-430A-8836-D895AAFF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26ED-129F-4658-BAC4-2E0B1E95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2B48-4FD8-48FA-B705-7B7CCDD0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8936-DEEF-43D0-A3FD-69C844D5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C907-9D7D-41CF-9D5E-F4DC43DE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780B-C015-48C2-8CF5-4C7EDA3B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BA6A-BC91-43BB-9268-51EFA55D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1649-BA72-46DD-9B01-691A6DE4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BE2D-F9F5-4147-B2B0-74618229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23D7-0350-47D8-A1EC-5EA573FC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1DEA-3C65-4D91-8480-99C72D95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4776-F731-4A25-8F6A-0C10BA13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D3E7-A2AB-4715-85E0-0E38139C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C2B74-BF9E-4E68-9D8A-65F47EC02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3BCB6-4701-4CD5-BD56-A434EADC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BF391-58A2-45C8-83C6-AF79A4C5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CF32C-E070-4A83-8616-97CA7395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961C6-B9A9-4E5F-A154-4AA55E14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5986-B70C-4414-A7C5-35BAEC24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0F203-88F1-4428-91ED-DD4B003A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EC593-7B59-4AEE-B417-F35D945F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119C9-797B-4CF9-B528-60A8C529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618AE-14EF-47F2-B141-989BC652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8F118-0497-4022-8E03-7F3154FF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3AC5F-0E21-47F3-AE7B-25382BA0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799EA-A739-48CD-BD8B-94CFA9E1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FA901-CFF0-4746-BD06-DE8D73F9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D383F-DEDA-4393-AD53-B8C60429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C10F0-A8BB-44C7-A578-D0F14981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9CBE-D9CC-4ABC-A17B-EC7EF7EF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C02D2-05DB-4136-8A7B-36844051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74B3C-21A1-4A35-B16A-683C953B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44644-59A0-48E0-A1A0-566BDA7A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86881-D5AC-45D7-9E43-703343CC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D6C8C-235F-4CC1-A58B-5A773B99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1625A-FAF0-4BEC-81DE-1E254320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54DA3-93F4-4935-B54F-94732B7B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9DED5-35EB-4775-BA1C-30D9564A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7F9E9-AEF1-49EF-9260-FE49D67A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4F3FB-C391-4C30-957B-B9AC91E4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1A18-0B3E-47F9-9A33-1F3D6C54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C4CAE-FC65-4BA4-A590-73BD833C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E0E26-2E1A-4E34-8E76-322ADF82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ADF26-5FBC-47D0-95A3-2BE6A0A5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6F78C-B018-481F-84C9-BC9A0A12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F99FE-4A9A-4DE7-B092-F0A41AE4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003BE-2C3F-448B-BDE9-14F1A8D4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4BE6F-FFC8-45B1-80E7-582BF193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ED7F4-B655-4EF1-9867-05946409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28B48-45E8-4FCB-B3AE-A326A14D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E0A4D-3D13-4502-A3A0-7C27BBE9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7552-3385-4691-899C-35A98CFC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1E792-D9CA-4DE1-A6ED-F9BAD0C7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B8505-74D8-462C-91AF-CD103079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ECF07-9DEE-4288-9C14-642A9720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CEC71-B6B0-4298-8BE2-121BF1AA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C35A5-3BDB-432C-830A-49FD395E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02643-EF5E-49BF-91C5-2627F070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9EAEF-AC13-488A-B193-08C1EE0E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9AA75-F07E-4BC2-A10D-C24FF1CD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11FB7-6AC3-4BEC-A554-6F7AB7A1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41E8C-F0A3-4E9B-A415-0C81C099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216E-6F1C-4B98-BC9E-D1BC0AA1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06996-1167-45B2-9229-CBFB1574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78578-9194-4453-AEED-681D9622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280AF-9190-4AC8-8A8A-45D94189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90E28-00FD-4B9C-AB57-46433C99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CB6C2-E3E2-4548-8BB7-F5CB38EF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C5F08-8EAA-4200-AEA0-E4A70C63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9D678-575A-4CF2-A920-F606B715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E8A29-7F7D-436A-A7B0-7AA6C935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BF095-51EF-4BBD-B2D4-3BEF3966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9E943-038E-431C-96D1-D5F6591C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C80-8597-438D-878B-3DB08E77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135AC-70D3-4DE5-A9E2-EF9CF27E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2829D-99E7-495A-B1DF-664AD87D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2FE87-A00A-46D0-A844-C4AC3C92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4D4EB-4B50-4046-9A0D-21959597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1A3DB-BB2E-47FD-B432-E9C790A4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A77DC-694B-4514-A503-C7CD4386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BB186-CED6-47C9-800A-AF55959F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832D9-D3FA-4964-B8A2-F0212388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24A10-F0C7-4CF1-A30C-4357C23A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2FA50-F9A6-4A1F-A998-5D634606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214C-9BAE-40BC-BE0D-AA4CF070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16585-5C5B-43B8-B4CA-20F9091F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0F619-CD90-4B4A-A38F-718DDAE4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FCA42-1C16-40F7-A8B0-3E5D6C8D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27452-EB5B-492D-AB52-EECC4BEA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D13F1-5871-4D03-8860-518EB406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279A1-E9EB-46CE-9175-8B0043A2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3800C-0C3D-43CD-BF16-6F13BB00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8A26-2614-41C4-9607-BC66F9F507A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7B53-5AC8-4957-9F63-AA1B375D7A8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9866-AA2C-4C9E-8A47-746E0BDA25F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00C7-D99A-4E87-B8BA-3E6C8CFA4B1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F30C-1875-4C99-82C3-304AAC543B1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6A92-A749-4295-ADBD-9A438CB4326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608E-B9EC-420A-8F9F-76CCC5C7F9D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D21B-C20D-439A-81B8-4BE8CC2C68C3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BzqwjF4RIQU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zekeren, hoe da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" descr="Afbeeldingsresultaat voor verzekeren"/>
          <p:cNvPicPr/>
          <p:nvPr/>
        </p:nvPicPr>
        <p:blipFill>
          <a:blip r:embed="rId2"/>
          <a:stretch/>
        </p:blipFill>
        <p:spPr>
          <a:xfrm>
            <a:off x="0" y="-27000"/>
            <a:ext cx="2719440" cy="2832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Afbeeldingsresultaat voor verzekeren"/>
          <p:cNvPicPr/>
          <p:nvPr/>
        </p:nvPicPr>
        <p:blipFill>
          <a:blip r:embed="rId3"/>
          <a:stretch/>
        </p:blipFill>
        <p:spPr>
          <a:xfrm>
            <a:off x="6081840" y="15840"/>
            <a:ext cx="30621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BzqwjF4RIQU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3"/>
          <a:stretch/>
        </p:blipFill>
        <p:spPr>
          <a:xfrm>
            <a:off x="1638360" y="2637000"/>
            <a:ext cx="5924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kunt je verzeker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teriël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chade (= schade die in geld is uit te dru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onzek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(dus alleen als je niet van tevoren kan weten dat er schade ontstaa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j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niet opzettelijk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oorzaak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2"/>
          <p:cNvSpPr/>
          <p:nvPr/>
        </p:nvSpPr>
        <p:spPr>
          <a:xfrm>
            <a:off x="15552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606920" y="41400"/>
            <a:ext cx="45370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zekeringsovereenkomst tussen verzekerde en verzekeraar (= verzekeringsmaatschappij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olis + polisvoorwaar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itsluitingen (de zaken die niet worden vergoe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igen risico (bedrag wat je niet vergoed krijg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verzekeringspremie"/>
          <p:cNvPicPr/>
          <p:nvPr/>
        </p:nvPicPr>
        <p:blipFill>
          <a:blip r:embed="rId2"/>
          <a:stretch/>
        </p:blipFill>
        <p:spPr>
          <a:xfrm>
            <a:off x="6300720" y="2349360"/>
            <a:ext cx="28432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hankelijk van kans op schad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eigen risic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emie uitrek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romillage (1 duizendste deel) van verzekerde waar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oorbeeld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zekerde waarde is € 45.000 en promillage is 2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€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45.000 : 1000 x 2 = € 90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0112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Afbeeldingsresultaat voor promillage"/>
          <p:cNvPicPr/>
          <p:nvPr/>
        </p:nvPicPr>
        <p:blipFill>
          <a:blip r:embed="rId2"/>
          <a:stretch/>
        </p:blipFill>
        <p:spPr>
          <a:xfrm>
            <a:off x="7164360" y="5284800"/>
            <a:ext cx="18986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76658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oor het afsluiten van een verzekering kun je terecht bij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verzekeraar zelf via internet bijv. =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 wri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1 verzekeraar werkt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meerdere verzekeraars werkt. Deze geeft het meest onafhankelijk adv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20T09:28:13Z</dcterms:modified>
  <cp:revision>76</cp:revision>
  <dc:subject/>
  <dc:title> </dc:title>
</cp:coreProperties>
</file>