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5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F733-6713-46E9-AB80-21BBAF483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9D5C-D623-4C78-91EE-86E7181A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0B5D-5A1E-4A45-A4EB-853E38847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56AD-09EA-485D-B674-FF90775C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D73C-CF29-42CB-90D0-5695B624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78E0-A143-416B-A63C-91E1B284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A64D-01C5-4D7F-AD68-4A37EB8D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D230-0A53-44BC-AB82-AC818DA4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CAEA-A426-4DFD-8E6F-07A9045C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B438-14F4-4497-8C34-1FBB2C4A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2565-45F5-47CA-B3F8-133C1B01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5228-27C7-4DC6-B002-C9D60ADC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26E2-053A-459E-85E9-EAAD0510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1B49-D2CF-4965-8193-33CA875C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310D-38B1-459B-98EC-2F677C79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6188-82AD-4C99-9FBF-5B009ECB1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C1B6-D7FB-4E71-98AD-BF7A50CA6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16B90-C309-4AD4-8D69-A71D007CC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1A3A5-FE38-4AFD-BCA9-F1029FF3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754D3-A070-4876-A3D9-6BB36A5A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A5613-89B3-440B-8167-533042B9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1E442-709C-41FA-9F3B-A74D4F14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0A34-2795-48F7-8387-F3094BDB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D57F2-BD63-4CE5-9390-F3D92BA8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B45F0-07D7-4C1E-A292-3EFFAAF7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61A88-6F94-4AE8-9521-A5C55F35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0D6D3-D6F3-47DE-8BFB-C1EF7A51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E1867-DDE7-4816-80E6-FF5A05E8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CA6CA-9123-4D06-8E9B-F9A641B5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5EC36-3F85-40ED-8A50-3C1AA9867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8B216-3016-49CD-81A4-E20BAB425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437F3-E257-4502-B553-07C2FEB4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AD864-F4AB-44F5-B3D0-38A95511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049F-4175-4160-8F34-1FFF97D0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7CCB1-3E04-48C3-8189-C1F7EF6C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9EF58-C129-4115-ADDA-360509C6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9BD61-B42E-4A28-8383-807B4722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DA7F1-9BBE-49BB-B8D5-250016D4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0D56D-6337-429A-9F28-03A986B8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EBEB7-C1B5-45B5-9CF1-8934A09C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91069-843B-4A29-A5E0-EE2E9988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2B753-D808-4BD2-A72D-62DFEFDEE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32887-11C3-481A-B4F7-AEAEA1D46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E1A16-06A6-4BC0-9553-E5F0901D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8DA7-B390-4583-A9DE-18B56B7B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774B9-9385-4A55-9509-4BB1DDBE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CEF19-0CD6-4207-B5E3-008055C1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AA4C6-CBAF-4281-B906-740CB573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901C5-F005-4AF9-9EA7-9FC06ECB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5CA7A-4DD7-46DA-8D7A-422AD7F7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1A186-8A2E-4B99-B866-69453726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1CF4C-997F-4054-A3E4-A3E8B920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F41B4-1D9F-4D0D-A4A4-5808FCC5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1AA3A-FBC8-4C67-9041-E2CB002F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F091C-E70A-4534-8AC9-62FF95981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FE1E-396C-4D2B-A241-A29982A3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1355C-4A75-4DFE-8C14-26DB2B73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87C13-AD9E-41A2-9D49-046ABDA5D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9496A-B71B-4154-8233-84554706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193C0-7FA0-4467-9A6F-0D5A5C1B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169FE-2337-410F-9F65-937A80B2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336AA-0DD7-4668-B0D5-42437479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8B038-45B2-4CF2-8A08-DD77C7EB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A39FA-979C-470D-86E3-A298C5CA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4E93D-E0E0-4E96-BF76-4A20ADAB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4CA55-57AD-48B3-ADBD-64FCC51E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EBF3-2299-4C7B-B416-0416BD3D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88510-5D81-469C-A98B-C6EE09C8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FE8DF-F786-4F69-9218-A05843D1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1E570-D00C-433C-8F25-1CAC467F5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DD942-9AE4-4BB4-B9CA-D063DE9E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323D0-A430-4FFC-BF5A-A253EE4A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7E383-7C94-4216-9FD1-FB65E50B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E962D-AAB1-46B2-9B5A-1D019162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6A513-F720-4BE5-B375-F0DA9303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C6CB4-D8A6-4CA6-9F9D-E056FA79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881B2-9389-4620-AEB1-6676C9EB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AEF5-CFA3-4887-A128-67FE18D9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4459F-B240-42FD-9895-4CD25D05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4B3D7-46DD-4F9F-8F24-AF403B7D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5BEDF-555A-41D5-A61E-411B9529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431B2-5C4D-4107-B8C2-B229BF9C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AC081-C13E-485C-99EF-C5840192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14D5C-45B3-4962-86F8-8564FA5E1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A7663-AD77-4D14-8359-56D1E43D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0BF39-72EA-4893-A3C8-80458DBB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659EE-764D-4974-9E3D-847AA583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86AF9-5F1D-405F-ADE9-501C05DA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16DD-AF58-4557-8777-1C1C7F7F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F3CF6-4723-4D85-9BC1-40EAD84F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12EEA-856F-464F-AB12-5FB89B46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D7C5E-3380-4C66-A1E9-30E0DE8E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464C6-5721-48F0-BEEA-FCCF031A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2ECD2-1931-4B52-9764-E8CE014A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052BC-B930-473A-A08A-BB6F52CCD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CD88C-3299-41D5-8ABC-F2268F27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8897-9AEE-477E-B450-C3F528B090A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D176-C73A-46D9-9CAB-2D1E9F74AA74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CA83-6BD7-4162-8F7C-FB29064FD13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313C-2BD7-49AB-AEE4-C591BD63E00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D7D2-E95A-463E-8CBA-CAC30FD25D3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15EE-2F70-4524-9EEB-B50BA5F5216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B175-5EB3-424B-A074-11F80AF3A06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9C49-34D7-4DAA-8B56-0AC26DF477F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BzqwjF4RIQU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Verzekeren, hoe dan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0" descr="Afbeeldingsresultaat voor verzekeren"/>
          <p:cNvPicPr/>
          <p:nvPr/>
        </p:nvPicPr>
        <p:blipFill>
          <a:blip r:embed="rId2"/>
          <a:stretch/>
        </p:blipFill>
        <p:spPr>
          <a:xfrm>
            <a:off x="0" y="-27000"/>
            <a:ext cx="2719440" cy="28321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Afbeeldingsresultaat voor verzekeren"/>
          <p:cNvPicPr/>
          <p:nvPr/>
        </p:nvPicPr>
        <p:blipFill>
          <a:blip r:embed="rId3"/>
          <a:stretch/>
        </p:blipFill>
        <p:spPr>
          <a:xfrm>
            <a:off x="6081840" y="15840"/>
            <a:ext cx="306216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s://www.youtube.com/watch?v=BzqwjF4RIQU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3"/>
          <a:stretch/>
        </p:blipFill>
        <p:spPr>
          <a:xfrm>
            <a:off x="1638360" y="2637000"/>
            <a:ext cx="5924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6836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Je kunt je verzeker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teriël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chade (= schade die in geld is uit te drukk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schade di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onzeker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s (dus alleen als je niet van tevoren kan weten dat er schade ontstaa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schade die j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niet opzettelijk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oorzaak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3" name="AutoShape 2"/>
          <p:cNvSpPr/>
          <p:nvPr/>
        </p:nvSpPr>
        <p:spPr>
          <a:xfrm>
            <a:off x="155520" y="-83016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4606920" y="41400"/>
            <a:ext cx="45370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zekeringsovereenkomst tussen verzekerde en verzekeraar (= verzekeringsmaatschappij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olis + polisvoorwaar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itsluitingen (de zaken die niet worden vergoe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igen risico (bedrag wat je niet vergoed krijg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Afbeeldingsresultaat voor verzekeringspremie"/>
          <p:cNvPicPr/>
          <p:nvPr/>
        </p:nvPicPr>
        <p:blipFill>
          <a:blip r:embed="rId2"/>
          <a:stretch/>
        </p:blipFill>
        <p:spPr>
          <a:xfrm>
            <a:off x="6300720" y="2349360"/>
            <a:ext cx="284328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fhankelijk van kans op schad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eigen risic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emie uitreken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romillage (1 duizendste deel) van verzekerde waard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Voorbeeld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erzekerde waarde is € 45.000 en promillage is 2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€ 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45.000 : 1000 x 2 = € 90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60112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Afbeeldingsresultaat voor promillage"/>
          <p:cNvPicPr/>
          <p:nvPr/>
        </p:nvPicPr>
        <p:blipFill>
          <a:blip r:embed="rId2"/>
          <a:stretch/>
        </p:blipFill>
        <p:spPr>
          <a:xfrm>
            <a:off x="7164360" y="5284800"/>
            <a:ext cx="189864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92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3"/>
          <a:stretch/>
        </p:blipFill>
        <p:spPr>
          <a:xfrm>
            <a:off x="611280" y="1557360"/>
            <a:ext cx="766584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Voor het afsluiten van een verzekering kun je terecht bij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verzekeraar zelf via internet bijv. =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irect wri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verzekeringsadviseur die voor 1 verzekeraar werkt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verzekeringsadviseur die voor meerdere verzekeraars werkt. Deze geeft het meest onafhankelijk adv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20T09:28:13Z</dcterms:modified>
  <cp:revision>76</cp:revision>
  <dc:subject/>
  <dc:title> </dc:title>
</cp:coreProperties>
</file>