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9.png" ContentType="image/png"/>
  <Override PartName="/ppt/media/image7.png" ContentType="image/png"/>
  <Override PartName="/ppt/media/image11.jpeg" ContentType="image/jpeg"/>
  <Override PartName="/ppt/media/image17.png" ContentType="image/png"/>
  <Override PartName="/ppt/media/image16.jpeg" ContentType="image/jpeg"/>
  <Override PartName="/ppt/media/image15.png" ContentType="image/png"/>
  <Override PartName="/ppt/media/image5.jpeg" ContentType="image/jpeg"/>
  <Override PartName="/ppt/media/image10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8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07BD-20FA-469F-95D1-2F189572B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860C-93A2-4D66-B547-4C10C8889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E741-FE93-4AE8-8DF4-A71524E1A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FAA6-E7D2-4E95-8630-E9A8BEC1B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E2032-D42D-4440-A4B2-A2CFF89DB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A3304-6131-4F17-93EA-C820F1A7D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AA379-C0A3-45BB-83D6-82407CAB9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27A50-E3DA-412B-8C89-E4A1100BE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79C07-903B-4FF2-8BD2-6B8C69D9E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2557F-23F9-47AE-885B-F56588FB4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B51EF-B737-4237-B3DC-16FCDDF47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D4A9-540F-4E6D-9BF1-2F4B1FBB7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0B12F-C1D1-4114-B957-877894BF6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876C2-3419-4608-B406-3B45025F7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CC3E4-9D14-437C-B82C-FE1151CB9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FC2DB-94AF-470A-B904-231902160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52363-5FA3-45B4-A52A-3688D0890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37DB3A-84FC-4D89-B7C1-21492EB62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AED1D3-BF09-43F7-B532-2BEE31079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44EC1C-4A6F-4026-BBA6-A81508699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0C5FF8-03A8-4EF9-8E77-8E11ADC1B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D3B3B1-E474-497C-9BEF-74B947800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AC03-FF4C-4F4C-A9D4-89D89851A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67F7A8-1D2F-4DF7-AB58-ACB2D458A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DFB42B-23ED-44D8-B825-F548A22D4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218AA2-EC1E-4689-8AF8-6D8FCBB48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BB4A93-E51C-4AD3-B625-5E06FABBF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C7E96C-A9D1-4070-9DCE-3D7BCA729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577DFD-9749-4995-A2FC-7D81940D9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7AE236-C8D2-4A11-9606-29367FFAF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28952D-E6AC-48BD-B296-AAD5FCFC3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271672-F81C-4571-BEAE-BE59B9780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31C91E-119C-40CE-9204-579C9461F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9FA9-7115-4E02-89A5-8B804545F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2B283A-1762-425E-8BCA-EC5EAD5BD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132063-3470-4B84-9205-7637E04DD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B17EB2-6D39-49E7-AFD6-1BBE91E81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9BE267-2E8F-4E25-A175-8CFC13F2F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1462EF-BE3D-4794-B841-8A28CCC2F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68825D-B3CD-4E8A-B2A3-C206CA9F6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A55398-8DDE-4DD1-9564-74583B512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460411-AB49-4250-A156-0E401C52F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2374D2-0CA6-4729-942F-BD24CA87B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3A3737-50DE-4818-B50D-ECD5B00C5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A4A9-CDCB-4DE3-A0CF-DEEB1505A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C87257-B985-4339-9C4D-C75B942CA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26485D-FF3E-4444-B209-1F39BCD98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858C5C-0CE9-4A96-B35E-D808DB18B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E6ABAE-1064-4F1C-8B75-720470653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C38DA7-5F94-4542-8321-841EB7D79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AE4956-8151-4E8B-AC07-56D3F9815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359C6E-E1D2-42DD-828A-E9FF108CE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8D96B1-D9B9-4398-90CB-32F8769C3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10DFAF-F32E-49F6-AE9A-302666E17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D54DD2-0247-429B-B370-49B854F88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9E2A-8A18-46BC-81C0-558E2F411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101DBC-F3E6-41DD-9F25-F9742D56F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759F3B-1485-4DD3-BD77-97C667C84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3256F1-204F-4F7B-95B6-D5512C490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512601-30F3-449D-87B5-F9D7E2785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81B9B5-AF0E-40B7-9EE8-2A4CEDD19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32D03B-D6A5-4D81-A0AC-102CE605D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F142A9-C370-48DB-99BD-388B0430C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AF2CBF-99DC-4B76-B2CF-E2BB0201A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EB1605-864B-4771-8946-D444B2E13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9323FF-00D8-4734-B153-F032282C5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60EF-B2E4-41DD-BB59-553B410F8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CFD7DB-01D1-409A-81DC-5F54A4277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8F55DB-5B9C-45E5-9A87-214083261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0825A7-9415-476B-970E-BE36C75FA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CDBEBA-6BF8-48D4-B29E-64DB49D34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AF61EA-DC4C-4626-B46A-25EA79A66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C9D490-0147-43CC-A99E-D9EB76353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0FDDFE-5353-45DD-B787-4FBB104F4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AD533B-8031-4352-A6F7-B5B2D87DA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F473DE-818A-4BA2-B6CA-ABE7FD389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867A8F-013B-47F6-AA91-35EDC1FBE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F92E-C217-49EA-9F9B-B50028D31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A75311-4734-426B-BD4B-7CEC33600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BFA69F-6451-4921-8A5D-6364481D8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6931A9-CA07-4092-AB69-55696C218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FF2980-6332-4CB0-A554-39990B25F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6F9257-2C91-43BA-9498-26DB5AAC1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C9397F-73D9-4BCA-8919-D3293F73C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7340C3-B5B1-4ACE-B965-82C13082F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C4D7F3-4472-4A6E-946A-E4DFB3D84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AC3842-C2AA-4A14-8E0E-4A30C8820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78025F-5839-4D3E-86F1-EFBBFFB0C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0B7E-C83A-44B3-BE84-1C72EC078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F94608-D3D2-4DAF-BD36-826E6090A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A10CE4-1294-48AA-8EC8-23F2E70D7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223BB1-A3AB-43C4-9457-8B4CAD91A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FD0FB5-3796-42AB-A719-8425D4B5D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665421-6424-4D99-8E8D-87F9BEC3D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EE2DA7-11E0-4FAF-BCAD-6FFFED456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27CBCF-DAA5-41A7-A2A8-649056C44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40DAE-6A51-41CA-995E-BC959E7FC8E6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Vrije v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12A2C-61C2-4812-8D43-C75E3DC4926D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0ABEA-7FC3-41DB-A0FB-541316F88006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3834F-28F3-4001-AB26-420B412BC063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8C5A0-14FA-484E-9F5C-A04804C0DA08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A52FA-7890-4F21-9BD1-35A1E5C065D7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45CF0-B4AA-47B0-94D8-DEF2E12058E8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7F109-7751-492E-9821-7DF12B48FF97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el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755640" y="1125360"/>
            <a:ext cx="7772400" cy="3686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Lucida Sans Unicode"/>
              </a:rPr>
              <a:t>ECONOMI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Paragraaf 4.6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Goed verzekerd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AutoShape 6"/>
          <p:cNvSpPr/>
          <p:nvPr/>
        </p:nvSpPr>
        <p:spPr>
          <a:xfrm>
            <a:off x="155520" y="-2095560"/>
            <a:ext cx="6991560" cy="43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8"/>
          <p:cNvSpPr/>
          <p:nvPr/>
        </p:nvSpPr>
        <p:spPr>
          <a:xfrm>
            <a:off x="307800" y="-1943280"/>
            <a:ext cx="6991560" cy="43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10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12"/>
          <p:cNvSpPr/>
          <p:nvPr/>
        </p:nvSpPr>
        <p:spPr>
          <a:xfrm>
            <a:off x="216000" y="158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11" descr="Afbeeldingsresultaat voor goed verzekerd"/>
          <p:cNvPicPr/>
          <p:nvPr/>
        </p:nvPicPr>
        <p:blipFill>
          <a:blip r:embed="rId2"/>
          <a:stretch/>
        </p:blipFill>
        <p:spPr>
          <a:xfrm>
            <a:off x="0" y="17640"/>
            <a:ext cx="3132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457200" y="836640"/>
            <a:ext cx="8686800" cy="51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Opstalverzekering; schade aan huis/kantoo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Inboedelverzekering; schade aan spullen in huis/kantoo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Aansprakelijkheidsverzekering particulieren (AVP); schade aan de and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Wettelijke aansprakelijkheidsverzekering (WA); voor bestuurders motorvoertuigen (verplicht!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WA-cascoverzekering (all riskverzekering); schade van tegenpartij en eigen voertui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Zorgverzekering; voor ziektekosten (verplicht!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8" name="Titel 2" descr=""/>
          <p:cNvPicPr/>
          <p:nvPr/>
        </p:nvPicPr>
        <p:blipFill>
          <a:blip r:embed="rId1"/>
          <a:stretch/>
        </p:blipFill>
        <p:spPr>
          <a:xfrm>
            <a:off x="212760" y="0"/>
            <a:ext cx="8705880" cy="124308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2" descr="Afbeeldingsresultaat voor WA verzekering"/>
          <p:cNvPicPr/>
          <p:nvPr/>
        </p:nvPicPr>
        <p:blipFill>
          <a:blip r:embed="rId2"/>
          <a:stretch/>
        </p:blipFill>
        <p:spPr>
          <a:xfrm>
            <a:off x="6858000" y="5367240"/>
            <a:ext cx="2286000" cy="14860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4" descr="Afbeeldingsresultaat voor opstalverzekering"/>
          <p:cNvPicPr/>
          <p:nvPr/>
        </p:nvPicPr>
        <p:blipFill>
          <a:blip r:embed="rId3"/>
          <a:stretch/>
        </p:blipFill>
        <p:spPr>
          <a:xfrm>
            <a:off x="4586400" y="5392800"/>
            <a:ext cx="2271600" cy="149220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6" descr="Afbeeldingsresultaat voor inboedelverzekering"/>
          <p:cNvPicPr/>
          <p:nvPr/>
        </p:nvPicPr>
        <p:blipFill>
          <a:blip r:embed="rId4"/>
          <a:stretch/>
        </p:blipFill>
        <p:spPr>
          <a:xfrm>
            <a:off x="2706840" y="5456160"/>
            <a:ext cx="1879560" cy="140976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8" descr="Afbeeldingsresultaat voor aansprakelijkheidsverzekering particulieren"/>
          <p:cNvPicPr/>
          <p:nvPr/>
        </p:nvPicPr>
        <p:blipFill>
          <a:blip r:embed="rId5"/>
          <a:stretch/>
        </p:blipFill>
        <p:spPr>
          <a:xfrm>
            <a:off x="306360" y="5486400"/>
            <a:ext cx="2394000" cy="13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457200" y="980640"/>
            <a:ext cx="8229600" cy="50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37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Oververzekering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nl-NL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hogere verzekerde waarde dan juiste of getaxeerde waarde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6432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Zonde van de hogere premie die betaalt, want bij schade krijg je niet meer vergoed dan de werkelijke schade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Onderverzekering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nl-NL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lagere verzekerde waarde dan juiste of getaxeerde waard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6432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Bij schade krijg je minder vergoed dan de werkelijke schade, omdat je maar voor een deel bent verzekerd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6432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Hierbij geldt de onderverzekeringsbreuk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6432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6432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4" name="Titel 2" descr=""/>
          <p:cNvPicPr/>
          <p:nvPr/>
        </p:nvPicPr>
        <p:blipFill>
          <a:blip r:embed="rId1"/>
          <a:stretch/>
        </p:blipFill>
        <p:spPr>
          <a:xfrm>
            <a:off x="268200" y="0"/>
            <a:ext cx="8454960" cy="1189080"/>
          </a:xfrm>
          <a:prstGeom prst="rect">
            <a:avLst/>
          </a:prstGeom>
          <a:ln w="0">
            <a:noFill/>
          </a:ln>
        </p:spPr>
      </p:pic>
      <p:sp>
        <p:nvSpPr>
          <p:cNvPr id="385" name="PIJL-RECHTS 3"/>
          <p:cNvSpPr/>
          <p:nvPr/>
        </p:nvSpPr>
        <p:spPr>
          <a:xfrm>
            <a:off x="6516720" y="6165720"/>
            <a:ext cx="2232000" cy="432000"/>
          </a:xfrm>
          <a:prstGeom prst="rightArrow">
            <a:avLst>
              <a:gd name="adj1" fmla="val 50000"/>
              <a:gd name="adj2" fmla="val 49992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Picture 2" descr="Afbeeldingsresultaat voor oververzekering"/>
          <p:cNvPicPr/>
          <p:nvPr/>
        </p:nvPicPr>
        <p:blipFill>
          <a:blip r:embed="rId2"/>
          <a:stretch/>
        </p:blipFill>
        <p:spPr>
          <a:xfrm>
            <a:off x="6684840" y="2565360"/>
            <a:ext cx="2482920" cy="121752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4" descr="Afbeeldingsresultaat voor onderverzekering"/>
          <p:cNvPicPr/>
          <p:nvPr/>
        </p:nvPicPr>
        <p:blipFill>
          <a:blip r:embed="rId3"/>
          <a:stretch/>
        </p:blipFill>
        <p:spPr>
          <a:xfrm>
            <a:off x="2336760" y="2565360"/>
            <a:ext cx="1733760" cy="12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Lucida Sans Unicode"/>
              </a:rPr>
              <a:t>(Verzekerd bedrag : getaxeerde waarde) x schade = schade uitkering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14:51:49Z</dcterms:created>
  <dc:creator>rachid</dc:creator>
  <dc:description/>
  <dc:language>en-US</dc:language>
  <cp:lastModifiedBy>Rachid Hamdi</cp:lastModifiedBy>
  <dcterms:modified xsi:type="dcterms:W3CDTF">2017-01-11T09:15:51Z</dcterms:modified>
  <cp:revision>80</cp:revision>
  <dc:subject/>
  <dc:title> </dc:title>
</cp:coreProperties>
</file>