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996E-CF84-43D3-A3F9-557960942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A1D6-F1ED-409A-A257-D71FD79A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0B94-DDC2-4017-99DD-7AB38C963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47EC-C1B5-4B6E-9A9A-6FD2F952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0B6A-7F6E-44E7-BD33-B4763046B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9AB2-6A42-488B-A747-198EB0B1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2885-CC47-4F3C-B009-204C6707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9C9D-A2E7-4B7C-BF55-35061B6F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9FF6-A18E-41C1-B6C1-D9C77782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F6C4-74D4-4034-AB32-31E07DBC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1F90-1634-4AF6-8D7E-6ECEABD8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A22F-D14D-4418-89FF-CA25B1EA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A2A1-C0E3-4241-B70E-1C738650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2B42-4B7D-4D3E-B0EB-1B59542D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2A6A-EDEF-49E9-86B2-4017A10D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1E0B-2D56-4FE5-B760-7187208BB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18B6-8EAA-43CC-849B-0D4810593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98944-809F-4DBE-B245-3F6F1C133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3A3DE-90F7-46EF-80A8-A533F152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6C192-980E-407C-AD48-FA3B01E6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34A07-CFE8-43C3-A3A7-1B0A2562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4B3D8-950E-4783-A36C-F4716BD2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6081-F8B6-4BF4-977C-9C0A02A4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03F43-BCEE-4353-851B-F1298C62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FB67D-A796-4521-84D5-56F779E9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BD16B-7144-471B-884F-ECF1B88F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B619D-0C90-4A6E-B65B-1AD17539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2EDC2-0729-4AB3-9F19-6DE42EEC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932A4-C6BB-4624-9E24-076296A4E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B32BC-89B3-4F9D-97CB-5FAFD477C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37530-B8E7-4799-B6A4-D6B00C2B9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FE0D8-BC97-4608-931A-8414729B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B2D69-564B-4607-9FB2-8B2A6AF4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427C-BE19-47D9-9067-2983CFB3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61994-C741-4CCA-BEB6-3A5C961D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BF772-F58A-47A9-93F9-5AA4C3C3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DFCB4-34BE-4D62-8FB5-9DF9C677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14730-4020-4730-892A-24A590C6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09F33-F98A-46AF-AFCC-3D2F657A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E864E-BA9B-4F87-8F8A-F430B4C1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59FF1-82AB-48C9-BB0D-54832861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148C2-FA06-46CF-A8E7-9A27B7026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8535B-4871-4D04-89D9-127314AFF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DEE0-40C3-449B-BFDF-26BEDF2E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EB63-D8FC-427E-A614-9CF9D001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9046-AFCA-483B-90C6-460EEADC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2039-C7C2-420F-88F0-B2AF3416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BE82-EE77-4205-8C0C-A5643571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Text Box 16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Text Box 19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8200" y="6072120"/>
            <a:ext cx="7925400" cy="536400"/>
            <a:chOff x="628200" y="6072120"/>
            <a:chExt cx="7925400" cy="53640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8560" y="6075000"/>
              <a:ext cx="79250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72120"/>
              <a:ext cx="7921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271E-37EE-47A7-AA94-984202FCFA0A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6F8C-C7F3-40E9-B8DE-0E85097ADF4B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16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Text Box 19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856C-B15D-458C-B986-A0146A79FED8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6EDB-1D3E-4316-8F12-B604D9DCBB87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1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8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4" name="Rectangle 9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11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Text Box 21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17" name="Freeform 1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18" name="Freeform 1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1354-2CD6-4CB6-AF70-1A33485034C2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DBEF-4C9B-47D3-9045-DE8BAF09E0EA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69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Text Box 18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1" name="Rectangle 9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172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Text Box 21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4" name="Freeform 3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75" name="Freeform 3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C8E1-FBE2-4632-8BE1-E7459BFB13A0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7F91-CE03-44DF-BBF6-79CD20185462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66600" y="1162080"/>
            <a:ext cx="6949800" cy="18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900" spc="-1" strike="noStrike">
                <a:solidFill>
                  <a:srgbClr val="ff0000"/>
                </a:solidFill>
                <a:latin typeface="Constantia"/>
              </a:rPr>
              <a:t>Introductie</a:t>
            </a:r>
            <a:r>
              <a:rPr b="0" lang="nl-NL" sz="3900" spc="-1" strike="noStrike">
                <a:solidFill>
                  <a:srgbClr val="ff0000"/>
                </a:solidFill>
                <a:latin typeface="Constantia"/>
              </a:rPr>
              <a:t> </a:t>
            </a:r>
            <a:br>
              <a:rPr sz="3900"/>
            </a:br>
            <a:r>
              <a:rPr b="0" lang="nl-NL" sz="3900" spc="-1" strike="noStrike">
                <a:solidFill>
                  <a:srgbClr val="000000"/>
                </a:solidFill>
                <a:latin typeface="Constantia"/>
              </a:rPr>
              <a:t>Kunst Beeldende Vorming</a:t>
            </a:r>
            <a:br>
              <a:rPr sz="3900"/>
            </a:br>
            <a:r>
              <a:rPr b="0" lang="nl-NL" sz="3900" spc="-1" strike="noStrike">
                <a:solidFill>
                  <a:srgbClr val="000000"/>
                </a:solidFill>
                <a:latin typeface="Constantia"/>
              </a:rPr>
              <a:t>(KBV)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8" descr="Essay – KuBv"/>
          <p:cNvPicPr/>
          <p:nvPr/>
        </p:nvPicPr>
        <p:blipFill>
          <a:blip r:embed="rId1"/>
          <a:srcRect l="0" t="6544" r="2319" b="0"/>
          <a:stretch/>
        </p:blipFill>
        <p:spPr>
          <a:xfrm>
            <a:off x="966960" y="3240000"/>
            <a:ext cx="2952720" cy="2268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Did it myself :: Milouroelands"/>
          <p:cNvPicPr/>
          <p:nvPr/>
        </p:nvPicPr>
        <p:blipFill>
          <a:blip r:embed="rId2"/>
          <a:stretch/>
        </p:blipFill>
        <p:spPr>
          <a:xfrm>
            <a:off x="5580000" y="2325600"/>
            <a:ext cx="2468520" cy="3183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Pop-Art – Gaudi Tekenen"/>
          <p:cNvPicPr/>
          <p:nvPr/>
        </p:nvPicPr>
        <p:blipFill>
          <a:blip r:embed="rId3"/>
          <a:stretch/>
        </p:blipFill>
        <p:spPr>
          <a:xfrm>
            <a:off x="3276720" y="4373640"/>
            <a:ext cx="37065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Examenrichtlijne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463400" y="2118960"/>
            <a:ext cx="6421320" cy="38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Examenblad.n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d/vg41h1h4i9qd ALGEMEEN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Accenten ‘Gouden Eeuw’ en ‘Cultuur vd kerk’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d/vj0ojfd7umn3/f=/bestand.pdf HAVO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e/vhi1nc4phqz3?topparent=vg41h1h4i9qe VWO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Invalshoeken (zie syllabus examenblad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erschillende kunst discipline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Verwachtinge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472760" y="243684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(Actief aanwezig in de lessen/Blox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Opdrachten uitvoeren en huiswerk maken. Passief leren werkt niet bij kunst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ragen stellen, nieuwsgierig zij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reativiteit(verder) ontwikkel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ormgev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Diploma halen!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kstvak 1"/>
          <p:cNvSpPr/>
          <p:nvPr/>
        </p:nvSpPr>
        <p:spPr>
          <a:xfrm>
            <a:off x="1979640" y="2421000"/>
            <a:ext cx="49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Calibri"/>
                <a:ea typeface="Arial"/>
              </a:rPr>
              <a:t>VEEL SUCCES!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HAVO/VW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Waarom kunstvakken?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Uitleg en opbouw kunstvak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Schoolexamens en Centraal Schriftelijk Exam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Examenrichtlijn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erwachting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WAAROM KUNSTVAKKEN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1828800" y="2819520"/>
            <a:ext cx="5334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" Het gaat niet om die lagen verf. 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Het gaat om wat het doet vermoeden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  <a:ea typeface="Arial"/>
              </a:rPr>
              <a:t>uit: Cloac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pagina1_waaromkunstvak.pn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pagina2_waaromkunstvak.png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Uitleg en opbouw kunstvak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00000" y="1267920"/>
            <a:ext cx="757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* Kunst Beeldende Vorming (KBV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Praktijk, beschouwen, deels uitvoeren/ oefenen theori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2 lesuren per week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schoolexamen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Kunst Algemeen (KUA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Theorie en opdrachten algemene kunstgeschiedeni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1 lesuur per week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HAVO proefexamens en CS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WO schoolexamen(s) en CS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Dus…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460520" y="2108160"/>
            <a:ext cx="62103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KUNST ALGEMEEN HAV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3 Examen onderwerpen VOORBEEL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BurgerCultuur in de 17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 (Gouden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an het Moderne (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assacultuur (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KUNST ALGEMEEN VW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4 Examen onderwerpen VOORBEEL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an de kerk (1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t/m 17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Hofcultuur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/h moderne (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assa cultuur (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9T18:57:57Z</dcterms:created>
  <dc:creator>Westrop, Marjet van</dc:creator>
  <dc:description/>
  <dc:language>en-US</dc:language>
  <cp:lastModifiedBy>Annemarie van Leeuwen</cp:lastModifiedBy>
  <dcterms:modified xsi:type="dcterms:W3CDTF">2022-03-28T08:55:56Z</dcterms:modified>
  <cp:revision>17</cp:revision>
  <dc:subject/>
  <dc:title>Introductie  kunst drama/kunst bkv</dc:title>
</cp:coreProperties>
</file>