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7826-C7C5-47A9-A552-9C330F16D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8160-28A8-47EF-96ED-3F76DE0E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A93F-F7C9-4E88-B8C3-6595AC30E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B3B9-8CFF-421E-A42F-D624735B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AE40-03EC-4087-AEA2-D545F4393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0362-E136-4703-A6D1-6716C3CC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6580-1E14-4500-A972-8BCD29C5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CC63-D5F3-41D9-88DE-B1F94BA2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9A3B-5BCD-446F-8108-2A5AF978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37D0-4670-4971-891A-30A6656E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F832-2D8C-499A-8734-79E8DDE1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77B9-4E77-4717-A3CE-6146A52D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6E0F-C995-4677-82FE-389CFAA0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3BEF-0EF9-4FD7-AEF1-05C9EC0E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D530-1263-40BA-B95D-4AC7DC4F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C297-8653-43FA-A920-277CD8208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0E93-DF35-411C-8811-3BCFB097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6E953-1857-46C5-A24B-CFDE63A92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03924-1E19-4B7B-9501-2F7F967F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8C512-2752-41CB-8DD3-65DC1FFD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7FB9D-59FE-4516-9772-83D26194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38D4B-045A-449D-AAFF-65242D70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6819-08FA-43D8-B058-C84FD13E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C7114-0390-4EA8-B3A8-02AA9E0E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FB657-2A71-4636-8FA8-54C492A8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76229-8EDD-443F-BAE7-24B67532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C775F-3B90-45E1-A793-CB3A6FB7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F7C04-4BDC-4A22-99C7-65329424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CF4C5-C778-4317-96A9-4D72EEF0D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72F53-AF27-4312-B509-4F4578132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58894-DDB3-4EF5-B253-6F27A7FF3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CD07D-114D-495B-AC74-BE9965B1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51B3D-5F75-4BD5-8917-156D6CA8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A8E4-B298-458E-836B-BED024BC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6072B-2E68-465C-A4FC-604A1B4D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A3BFB-31C6-400E-A9BA-76C61F68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1DDE7-C7C0-4A44-B91F-618E46FE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7A979-139B-4CFC-AD05-D9F94603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60544-D8BE-46F2-9FB4-C9D51308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0820F-AEDB-43B5-AF65-FAB34A6C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98215-8F9B-41EF-8DDA-D46C5534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9D073-81E0-47B0-89CB-965CA91A1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11403-5A36-4F73-9AEE-61E6E2C7E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638F-33D0-4987-BF49-FFA26613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9C52-5FD8-4CD0-B4B2-97CF2B58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78ED-5EFC-4922-981E-3DBD1952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CFC4-8DA9-42A0-8F19-639C6292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873A-264F-41ED-B838-35F576A2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Text Box 16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Text Box 19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72120"/>
            <a:ext cx="7925400" cy="536400"/>
            <a:chOff x="628200" y="6072120"/>
            <a:chExt cx="7925400" cy="53640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75000"/>
              <a:ext cx="7925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72120"/>
              <a:ext cx="792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A497-6A5F-4E05-A9A2-0DC9C79D7BA0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BCC4-ACDC-497B-B3BD-334A9DB27A3A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16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Text Box 19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FE73-C63D-48E2-ADE5-441F9FDD5213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D1DC-17A9-401E-8908-00E722817B6D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8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4" name="Rectangle 9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11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Text Box 21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7" name="Freeform 1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18" name="Freeform 1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E4B1-31F3-4E6B-9709-C6FA64D6989E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70E0-69EA-4C83-8E8F-0EB772DA0DE6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Text Box 18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1" name="Rectangle 9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17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Text Box 21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4" name="Freeform 3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75" name="Freeform 3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C499-46C7-4719-A71E-2048ED9AEBD5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4D89-1BD8-4002-BC78-127C1C83A0CA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66600" y="1162080"/>
            <a:ext cx="6949800" cy="18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900" spc="-1" strike="noStrike">
                <a:solidFill>
                  <a:srgbClr val="ff0000"/>
                </a:solidFill>
                <a:latin typeface="Constantia"/>
              </a:rPr>
              <a:t>Introductie</a:t>
            </a:r>
            <a:r>
              <a:rPr b="0" lang="nl-NL" sz="3900" spc="-1" strike="noStrike">
                <a:solidFill>
                  <a:srgbClr val="ff0000"/>
                </a:solidFill>
                <a:latin typeface="Constantia"/>
              </a:rPr>
              <a:t> </a:t>
            </a:r>
            <a:br>
              <a:rPr sz="3900"/>
            </a:br>
            <a:r>
              <a:rPr b="0" lang="nl-NL" sz="3900" spc="-1" strike="noStrike">
                <a:solidFill>
                  <a:srgbClr val="000000"/>
                </a:solidFill>
                <a:latin typeface="Constantia"/>
              </a:rPr>
              <a:t>Kunst Beeldende Vorming</a:t>
            </a:r>
            <a:br>
              <a:rPr sz="3900"/>
            </a:br>
            <a:r>
              <a:rPr b="0" lang="nl-NL" sz="3900" spc="-1" strike="noStrike">
                <a:solidFill>
                  <a:srgbClr val="000000"/>
                </a:solidFill>
                <a:latin typeface="Constantia"/>
              </a:rPr>
              <a:t>(KBV)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8" descr="Essay – KuBv"/>
          <p:cNvPicPr/>
          <p:nvPr/>
        </p:nvPicPr>
        <p:blipFill>
          <a:blip r:embed="rId1"/>
          <a:srcRect l="0" t="6544" r="2319" b="0"/>
          <a:stretch/>
        </p:blipFill>
        <p:spPr>
          <a:xfrm>
            <a:off x="966960" y="3240000"/>
            <a:ext cx="2952720" cy="2268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Did it myself :: Milouroelands"/>
          <p:cNvPicPr/>
          <p:nvPr/>
        </p:nvPicPr>
        <p:blipFill>
          <a:blip r:embed="rId2"/>
          <a:stretch/>
        </p:blipFill>
        <p:spPr>
          <a:xfrm>
            <a:off x="5580000" y="2325600"/>
            <a:ext cx="2468520" cy="3183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Pop-Art – Gaudi Tekenen"/>
          <p:cNvPicPr/>
          <p:nvPr/>
        </p:nvPicPr>
        <p:blipFill>
          <a:blip r:embed="rId3"/>
          <a:stretch/>
        </p:blipFill>
        <p:spPr>
          <a:xfrm>
            <a:off x="3276720" y="4373640"/>
            <a:ext cx="37065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Examenrichtlijne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463400" y="2118960"/>
            <a:ext cx="6421320" cy="38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Examenblad.n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d/vg41h1h4i9qd ALGEMEEN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Accenten ‘Gouden Eeuw’ en ‘Cultuur vd kerk’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d/vj0ojfd7umn3/f=/bestand.pdf HAVO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e/vhi1nc4phqz3?topparent=vg41h1h4i9qe VWO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Invalshoeken (zie syllabus examenblad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erschillende kunst discipline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Verwachtinge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472760" y="243684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(Actief aanwezig in de lessen/Blox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Opdrachten uitvoeren en huiswerk maken. Passief leren werkt niet bij kunst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ragen stellen, nieuwsgierig zij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reativiteit(verder) ontwikkel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ormgev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Diploma halen!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kstvak 1"/>
          <p:cNvSpPr/>
          <p:nvPr/>
        </p:nvSpPr>
        <p:spPr>
          <a:xfrm>
            <a:off x="1979640" y="2421000"/>
            <a:ext cx="49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Calibri"/>
                <a:ea typeface="Arial"/>
              </a:rPr>
              <a:t>VEEL SUCCES!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HAVO/VW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Waarom kunstvakken?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Uitleg en opbouw kunstvak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Schoolexamens en Centraal Schriftelijk Exam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Examenrichtlijn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erwachting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WAAROM KUNSTVAKKEN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828800" y="2819520"/>
            <a:ext cx="5334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" Het gaat niet om die lagen verf. 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Het gaat om wat het doet vermoeden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  <a:ea typeface="Arial"/>
              </a:rPr>
              <a:t>uit: Cloac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pagina1_waaromkunstvak.pn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pagina2_waaromkunstvak.png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Uitleg en opbouw kunstvak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00000" y="1267920"/>
            <a:ext cx="757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* Kunst Beeldende Vorming (KBV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Praktijk, beschouwen, deels uitvoeren/ oefenen theori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2 lesuren per week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schoolexamen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Kunst Algemeen (KUA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Theorie en opdrachten algemene kunstgeschiedeni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1 lesuur per week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HAVO proefexamens en CS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WO schoolexamen(s) en CS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Dus…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460520" y="2108160"/>
            <a:ext cx="62103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KUNST ALGEMEEN HAV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3 Examen onderwerpen VOORBEEL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BurgerCultuur in de 17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 (Gouden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an het Moderne (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assacultuur (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KUNST ALGEMEEN VW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4 Examen onderwerpen VOORBEEL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an de kerk (1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t/m 17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Hofcultuur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/h moderne (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assa cultuur (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9T18:57:57Z</dcterms:created>
  <dc:creator>Westrop, Marjet van</dc:creator>
  <dc:description/>
  <dc:language>en-US</dc:language>
  <cp:lastModifiedBy>Annemarie van Leeuwen</cp:lastModifiedBy>
  <dcterms:modified xsi:type="dcterms:W3CDTF">2022-03-28T08:55:56Z</dcterms:modified>
  <cp:revision>17</cp:revision>
  <dc:subject/>
  <dc:title>Introductie  kunst drama/kunst bkv</dc:title>
</cp:coreProperties>
</file>