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E29B-F81A-4516-8B10-2BABB662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FACC-72C5-4631-A711-26A1CC84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FC70-86DA-49A1-8BAB-2BE8EA02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F189-C2C1-4C36-B99B-10A26AA8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F2F0-3650-48A7-97D9-36EF04E0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AFCD-DDED-4922-A78F-D627D0AA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FD58-7260-4E12-A1F1-AB24AF9E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FF4B-626E-4BD7-9768-F72F05F4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E1BD-4595-4821-A7A5-DAC4A160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D55E-E552-46D9-A818-71F85501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189E-27B2-47BB-978C-0CB88986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8B19-652E-4A20-9F1E-FEE36952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820E-710A-45A4-AF17-80AB0971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B5BA-2EC2-4D88-BFBE-03F949CB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1B88-AA99-4FE5-8D1C-421CDDE8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83AA-9319-4EE5-B857-F9BA1C09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AF8E-5EE3-42E7-BAE2-A78D8685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9485D-498A-4828-AB4A-E972B528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5FED1-04BD-4EDF-BF41-2BA8CD76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2DCC4-F5EF-4464-9264-465F49FD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23082-D982-489B-953C-BDDC20CD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07B95-578C-44D1-B529-A04F87CC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2807-CF39-4AAE-B969-D4FE13CC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AC97F-ACBD-4917-9170-66E21E8A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93E30-D4C5-43A6-9786-2418AF6B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82D5B-16C3-4866-9050-E5CDC244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2B051-35FD-4C9B-BFA5-441E2B9A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198C5-3D18-4D85-9250-9206CAD4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C0EC5-54B1-4066-B97F-270F0EEC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8697C-BC7C-4F2F-B233-DC3BA67E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A0026-65D3-40C1-AB8E-A392B7659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393E5-ABFF-49D1-9885-DB97024A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3F3B6-E9A3-47BF-9DE1-D31CE9FC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3B14-001E-43E3-A302-E014E1C2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039D2-34D6-4FB2-9849-B14AAA8E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788A2-431B-4260-95A5-FF687D62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C6548-A86F-4633-9C98-08C34E9E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6AF4B-3FDF-41D8-A5D9-CC666EEC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94DA1-C695-431A-83D9-E49A5515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EDF26-BD8C-4401-9CD4-7BC568A1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FE0FE-090C-4622-8C34-499AFEBD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94B04-4CB9-4C38-9A19-5EDD36C9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90E59-F6FA-4C7C-A2D8-ED5710FD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CC4B-35B4-4D29-A7BA-59EC7974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4213-84BB-4068-9E47-31110E67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B888-C2E1-4B8D-907B-5C7528C8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E4A6-E6DF-460C-A358-F192E2F9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BB26-9FBE-47E9-8FF0-068FC0E4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94F9-BE6E-401E-9C59-A7BA29F24710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8261-E528-4A48-965F-932E3140C490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2B13-1C89-47F4-9481-60115E1E53CA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3BE0-84DC-438D-97A0-0F19948B43F7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43D7-A8AB-4EA9-9C25-F38650753751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6521-0CBA-4BE0-A649-3D936AB1DCB4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A5E9-8967-4F2B-B065-468023F011F8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0EC3-E478-4ECC-871A-AD0B21AAED2D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66600" y="1162080"/>
            <a:ext cx="694980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ff0000"/>
                </a:solidFill>
                <a:latin typeface="Constantia"/>
              </a:rPr>
              <a:t>Introductie</a:t>
            </a:r>
            <a:r>
              <a:rPr b="0" lang="nl-NL" sz="39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Kunst Beeldende Vorming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(KBV)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8" descr="Essay – KuBv"/>
          <p:cNvPicPr/>
          <p:nvPr/>
        </p:nvPicPr>
        <p:blipFill>
          <a:blip r:embed="rId1"/>
          <a:srcRect l="0" t="6544" r="2319" b="0"/>
          <a:stretch/>
        </p:blipFill>
        <p:spPr>
          <a:xfrm>
            <a:off x="966960" y="3240000"/>
            <a:ext cx="2952720" cy="226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Did it myself :: Milouroelands"/>
          <p:cNvPicPr/>
          <p:nvPr/>
        </p:nvPicPr>
        <p:blipFill>
          <a:blip r:embed="rId2"/>
          <a:stretch/>
        </p:blipFill>
        <p:spPr>
          <a:xfrm>
            <a:off x="5580000" y="2325600"/>
            <a:ext cx="2468520" cy="3183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Pop-Art – Gaudi Tekenen"/>
          <p:cNvPicPr/>
          <p:nvPr/>
        </p:nvPicPr>
        <p:blipFill>
          <a:blip r:embed="rId3"/>
          <a:stretch/>
        </p:blipFill>
        <p:spPr>
          <a:xfrm>
            <a:off x="3276720" y="4373640"/>
            <a:ext cx="37065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Examenrichtlijn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63400" y="2118960"/>
            <a:ext cx="642132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blad.n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g41h1h4i9qd ALGEMEEN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ccenten ‘Gouden Eeuw’ en ‘Cultuur vd kerk’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j0ojfd7umn3/f=/bestand.pdf HAV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e/vhi1nc4phqz3?topparent=vg41h1h4i9qe VW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Invalshoeken (zie syllabus examenblad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schillende kunst discipline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Verwachting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72760" y="243684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(Actief aanwezig in de lessen/Blox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pdrachten uitvoeren en huiswerk maken. Passief leren werkt niet bij kunst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ragen stellen, nieuwsgierig zij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reativiteit(verder) ontwikk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ormgev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Diploma halen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kstvak 1"/>
          <p:cNvSpPr/>
          <p:nvPr/>
        </p:nvSpPr>
        <p:spPr>
          <a:xfrm>
            <a:off x="1979640" y="2421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Calibri"/>
                <a:ea typeface="Arial"/>
              </a:rPr>
              <a:t>VEEL SUCCES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HAVO/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Waarom kunstvakken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Uitleg en opbouw kunstvak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choolexamens en Centraal Schriftelijk Exam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richtlijn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wachtin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WAAROM KUNSTVAKKEN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828800" y="2819520"/>
            <a:ext cx="5334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" Het gaat niet om die lagen verf. 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gaat om wat het doet vermoeden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  <a:ea typeface="Arial"/>
              </a:rPr>
              <a:t>uit: Cloa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pagina1_waaromkunstvak.pn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pagina2_waaromkunstvak.pn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Uitleg en opbouw kunstvak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00000" y="1267920"/>
            <a:ext cx="757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* Kunst Beeldende Vorming (KBV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Praktijk, beschouwen, deels uitvoeren/ oefenen theor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2 lesuren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schoolexamen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Kunst Algemeen (KUA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heorie en opdrachten algemene kunstgeschiedeni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1 lesuur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AVO proefexamens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WO schoolexamen(s)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Dus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460520" y="2108160"/>
            <a:ext cx="62103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HAV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3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urgerCultuur in de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 (Gouden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het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4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de kerk (1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t/m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ofcultuur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/h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 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18:57:57Z</dcterms:created>
  <dc:creator>Westrop, Marjet van</dc:creator>
  <dc:description/>
  <dc:language>en-US</dc:language>
  <cp:lastModifiedBy>Annemarie van Leeuwen</cp:lastModifiedBy>
  <dcterms:modified xsi:type="dcterms:W3CDTF">2022-03-28T08:55:56Z</dcterms:modified>
  <cp:revision>17</cp:revision>
  <dc:subject/>
  <dc:title>Introductie  kunst drama/kunst bkv</dc:title>
</cp:coreProperties>
</file>