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2762-7E7A-46CD-AD3D-AC031534F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ADB-2A8A-4492-9FD9-118E8C54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4D39-D4EB-4E09-9B09-FB0C54B6E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65D61-ABB2-4AAA-9A48-D9A3FD7B2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4378-2736-4582-86E3-A95AAD0F8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EAA67-72EB-4AB5-983C-A75FAEC4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095B3-5717-45DA-A12A-EBF811BA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4F43C-CA53-41FC-8C7C-1E10704B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D125C-2FED-402B-9FCA-2D9EAF956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083F7-60B5-4735-B48D-A4814AEFE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B0275-7ACE-4F12-B548-CFCE9A6F8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A5E47-433D-4695-907C-66B7EBE4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CBF83-BF6D-4B5B-AC8B-C65BA5961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1594C-2DC7-4371-84D4-801FD2E1E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7CEFA-363D-402F-9EA7-460B03457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093453-D0B3-4C4A-9695-50A8B370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952C8-D18F-413C-90A6-356F28E26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4FB56D-C6DB-475C-A84E-5BDF13395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CA3BAB-F4E8-4882-A15B-68781D583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14CC89-8463-46CC-969F-DF058A50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503380-7284-4ED1-AEE2-126CC83FB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103FA-CFBE-4808-8839-E3192DEF0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7DAF-3732-4763-BBF3-7E3B5EAA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2F6C78-0C27-4A49-9720-2009E4A06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77FA13-530A-41CD-8422-84D4A2337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33791-3FC0-4705-A6BE-7FAD510EA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2FBF37-59B9-4A00-84B3-039C5AE6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0B352-B3DE-4477-B4F7-93B6F1B14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A1A1C-906D-4E91-84C3-9FFC30080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C8DA4B-8377-4ED4-97D1-4BF8E950E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05E62-C83F-44EF-AE2F-842F63AAD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BB9376-9C6F-470E-BC6B-58F7220F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D6B196-0A5C-4A77-A739-2BCA26AFB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27BC-5896-4215-8FDF-8FE652C92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1A49C3-A921-4480-8A42-1815DE027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27FCF7-45A9-4892-844D-BB97BF944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60CD91-9B43-41E7-A7E1-53EEAC27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4B7C5-2EB9-4A28-9F24-230B4D0E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A599E7-E4B7-47F5-9DD0-3D8771536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4DCAA9-9535-42CC-B2B6-25C028C31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8083A3-C134-4846-A2BB-1E09AFB3E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0FA734-3EAE-4589-823C-17AD4E3E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55824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653080" y="211932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46340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55824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653080" y="4001760"/>
            <a:ext cx="19947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50EDCB-5690-48F1-9CB8-9587FCF1D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3C7A-D866-44E0-A336-F03FDFA9B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95120" y="817560"/>
            <a:ext cx="6964200" cy="557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7247-D9DD-4D0D-BF55-D1FD772108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0DC7-B098-4378-A9F2-793F4517D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638240" y="400176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0F1F-9FCB-4316-A08B-2E06025B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6340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38240" y="2119320"/>
            <a:ext cx="302328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63400" y="4001760"/>
            <a:ext cx="6195960" cy="171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1D484-FBFC-42DB-B23A-4FDB41DD4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7.png"/><Relationship Id="rId6" Type="http://schemas.openxmlformats.org/officeDocument/2006/relationships/image" Target="../media/image5.jpe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25.xml"/><Relationship Id="rId11" Type="http://schemas.openxmlformats.org/officeDocument/2006/relationships/slideLayout" Target="../slideLayouts/slideLayout26.xml"/><Relationship Id="rId12" Type="http://schemas.openxmlformats.org/officeDocument/2006/relationships/slideLayout" Target="../slideLayouts/slideLayout27.xml"/><Relationship Id="rId13" Type="http://schemas.openxmlformats.org/officeDocument/2006/relationships/slideLayout" Target="../slideLayouts/slideLayout28.xml"/><Relationship Id="rId14" Type="http://schemas.openxmlformats.org/officeDocument/2006/relationships/slideLayout" Target="../slideLayouts/slideLayout29.xml"/><Relationship Id="rId15" Type="http://schemas.openxmlformats.org/officeDocument/2006/relationships/slideLayout" Target="../slideLayouts/slideLayout30.xml"/><Relationship Id="rId16" Type="http://schemas.openxmlformats.org/officeDocument/2006/relationships/slideLayout" Target="../slideLayouts/slideLayout31.xml"/><Relationship Id="rId17" Type="http://schemas.openxmlformats.org/officeDocument/2006/relationships/slideLayout" Target="../slideLayouts/slideLayout32.xml"/><Relationship Id="rId18" Type="http://schemas.openxmlformats.org/officeDocument/2006/relationships/slideLayout" Target="../slideLayouts/slideLayout33.xml"/><Relationship Id="rId19" Type="http://schemas.openxmlformats.org/officeDocument/2006/relationships/slideLayout" Target="../slideLayouts/slideLayout34.xml"/><Relationship Id="rId20" Type="http://schemas.openxmlformats.org/officeDocument/2006/relationships/slideLayout" Target="../slideLayouts/slideLayout35.xml"/><Relationship Id="rId21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7.xml"/><Relationship Id="rId11" Type="http://schemas.openxmlformats.org/officeDocument/2006/relationships/slideLayout" Target="../slideLayouts/slideLayout38.xml"/><Relationship Id="rId12" Type="http://schemas.openxmlformats.org/officeDocument/2006/relationships/slideLayout" Target="../slideLayouts/slideLayout39.xml"/><Relationship Id="rId13" Type="http://schemas.openxmlformats.org/officeDocument/2006/relationships/slideLayout" Target="../slideLayouts/slideLayout40.xml"/><Relationship Id="rId14" Type="http://schemas.openxmlformats.org/officeDocument/2006/relationships/slideLayout" Target="../slideLayouts/slideLayout41.xml"/><Relationship Id="rId15" Type="http://schemas.openxmlformats.org/officeDocument/2006/relationships/slideLayout" Target="../slideLayouts/slideLayout42.xml"/><Relationship Id="rId16" Type="http://schemas.openxmlformats.org/officeDocument/2006/relationships/slideLayout" Target="../slideLayouts/slideLayout43.xml"/><Relationship Id="rId17" Type="http://schemas.openxmlformats.org/officeDocument/2006/relationships/slideLayout" Target="../slideLayouts/slideLayout44.xml"/><Relationship Id="rId18" Type="http://schemas.openxmlformats.org/officeDocument/2006/relationships/slideLayout" Target="../slideLayouts/slideLayout45.xml"/><Relationship Id="rId19" Type="http://schemas.openxmlformats.org/officeDocument/2006/relationships/slideLayout" Target="../slideLayouts/slideLayout46.xml"/><Relationship Id="rId20" Type="http://schemas.openxmlformats.org/officeDocument/2006/relationships/slideLayout" Target="../slideLayouts/slideLayout47.xml"/><Relationship Id="rId21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2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4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5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" name="Freeform 9"/>
          <p:cNvGrpSpPr/>
          <p:nvPr/>
        </p:nvGrpSpPr>
        <p:grpSpPr>
          <a:xfrm>
            <a:off x="628200" y="6072120"/>
            <a:ext cx="7925400" cy="536400"/>
            <a:chOff x="628200" y="6072120"/>
            <a:chExt cx="7925400" cy="536400"/>
          </a:xfrm>
        </p:grpSpPr>
        <p:pic>
          <p:nvPicPr>
            <p:cNvPr id="8" name="Freeform 9" descr=""/>
            <p:cNvPicPr/>
            <p:nvPr/>
          </p:nvPicPr>
          <p:blipFill>
            <a:blip r:embed="rId5"/>
            <a:stretch/>
          </p:blipFill>
          <p:spPr>
            <a:xfrm>
              <a:off x="628560" y="6075000"/>
              <a:ext cx="7925040" cy="5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 rot="10800000">
              <a:off x="628200" y="6072120"/>
              <a:ext cx="792180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" name="Rectangle 10"/>
          <p:cNvSpPr/>
          <p:nvPr/>
        </p:nvSpPr>
        <p:spPr>
          <a:xfrm>
            <a:off x="731880" y="574560"/>
            <a:ext cx="7696080" cy="5715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Rectangle 11"/>
          <p:cNvSpPr/>
          <p:nvPr/>
        </p:nvSpPr>
        <p:spPr>
          <a:xfrm>
            <a:off x="731880" y="576360"/>
            <a:ext cx="7696080" cy="571500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544680" y="27288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13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8115480" y="29808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6454440" y="580860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5B61F-7567-4D75-88EF-FE659A7AED3E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914400" y="5808600"/>
            <a:ext cx="554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670520" y="580860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FE964-5522-4B7A-8830-748432CDDB2E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56" name="Rectangle 7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57" name="Rectangle 7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Text Box 16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59" name="Rectangle 8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60" name="Rectangle 8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1" name="Text Box 19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2" name="Freeform 9"/>
          <p:cNvGrpSpPr/>
          <p:nvPr/>
        </p:nvGrpSpPr>
        <p:grpSpPr>
          <a:xfrm>
            <a:off x="890640" y="5619600"/>
            <a:ext cx="7381080" cy="536400"/>
            <a:chOff x="890640" y="5619600"/>
            <a:chExt cx="7381080" cy="536400"/>
          </a:xfrm>
        </p:grpSpPr>
        <p:pic>
          <p:nvPicPr>
            <p:cNvPr id="63" name="Freeform 9" descr=""/>
            <p:cNvPicPr/>
            <p:nvPr/>
          </p:nvPicPr>
          <p:blipFill>
            <a:blip r:embed="rId5"/>
            <a:stretch/>
          </p:blipFill>
          <p:spPr>
            <a:xfrm>
              <a:off x="890640" y="5620680"/>
              <a:ext cx="7380360" cy="53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10800000">
              <a:off x="891360" y="5619240"/>
              <a:ext cx="73803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5" name="Rectangle 10"/>
          <p:cNvSpPr/>
          <p:nvPr/>
        </p:nvSpPr>
        <p:spPr>
          <a:xfrm>
            <a:off x="990720" y="1017720"/>
            <a:ext cx="7178400" cy="48304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ectangle 11"/>
          <p:cNvSpPr/>
          <p:nvPr/>
        </p:nvSpPr>
        <p:spPr>
          <a:xfrm>
            <a:off x="990720" y="1009800"/>
            <a:ext cx="7180200" cy="483228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2" descr="C:\Users\Administrator\Desktop\Pushpin Dev\Assets\pushpinLeft.png"/>
          <p:cNvPicPr/>
          <p:nvPr/>
        </p:nvPicPr>
        <p:blipFill>
          <a:blip r:embed="rId7"/>
          <a:stretch/>
        </p:blipFill>
        <p:spPr>
          <a:xfrm rot="1435200">
            <a:off x="770040" y="701640"/>
            <a:ext cx="566640" cy="56844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4095600">
            <a:off x="7854480" y="748800"/>
            <a:ext cx="567000" cy="567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6770520" y="5357880"/>
            <a:ext cx="1214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CF551-AE51-477F-AE3D-3816D66937F6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1174320" y="5357880"/>
            <a:ext cx="503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213240" y="535788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7D281-97D5-48D7-B74E-EF4126315733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11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12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15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6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17" name="Freeform 1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18" name="Freeform 1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Rectangle 15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Rectangle 16"/>
          <p:cNvSpPr/>
          <p:nvPr/>
        </p:nvSpPr>
        <p:spPr>
          <a:xfrm rot="60000">
            <a:off x="4471920" y="603000"/>
            <a:ext cx="3787920" cy="57229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tangle 12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Rectangle 13"/>
          <p:cNvSpPr/>
          <p:nvPr/>
        </p:nvSpPr>
        <p:spPr>
          <a:xfrm rot="21540000">
            <a:off x="748800" y="576000"/>
            <a:ext cx="3789360" cy="57211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 rot="60000">
            <a:off x="6341400" y="5886360"/>
            <a:ext cx="1212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B4B0A-F371-4313-8BE0-C07E1D1E2236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 rot="21540000">
            <a:off x="914040" y="5829120"/>
            <a:ext cx="3522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 rot="60000">
            <a:off x="7557840" y="589752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D2B7A-4B56-4EF9-A61C-F6DCA36D7F12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0"/>
    <p:sldLayoutId id="2147483676" r:id="rId11"/>
    <p:sldLayoutId id="2147483677" r:id="rId12"/>
    <p:sldLayoutId id="2147483678" r:id="rId13"/>
    <p:sldLayoutId id="2147483679" r:id="rId14"/>
    <p:sldLayoutId id="2147483680" r:id="rId15"/>
    <p:sldLayoutId id="2147483681" r:id="rId16"/>
    <p:sldLayoutId id="2147483682" r:id="rId17"/>
    <p:sldLayoutId id="2147483683" r:id="rId18"/>
    <p:sldLayoutId id="2147483684" r:id="rId19"/>
    <p:sldLayoutId id="2147483685" r:id="rId20"/>
    <p:sldLayoutId id="2147483686" r:id="rId21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15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68" name="Rectangle 8"/>
            <p:cNvGrpSpPr/>
            <p:nvPr/>
          </p:nvGrpSpPr>
          <p:grpSpPr>
            <a:xfrm>
              <a:off x="0" y="0"/>
              <a:ext cx="7162920" cy="6858000"/>
              <a:chOff x="0" y="0"/>
              <a:chExt cx="7162920" cy="6858000"/>
            </a:xfrm>
          </p:grpSpPr>
          <p:pic>
            <p:nvPicPr>
              <p:cNvPr id="169" name="Rectangle 8" descr=""/>
              <p:cNvPicPr/>
              <p:nvPr/>
            </p:nvPicPr>
            <p:blipFill>
              <a:blip r:embed="rId3"/>
              <a:stretch/>
            </p:blipFill>
            <p:spPr>
              <a:xfrm>
                <a:off x="0" y="0"/>
                <a:ext cx="716292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0" name="Text Box 18"/>
              <p:cNvSpPr/>
              <p:nvPr/>
            </p:nvSpPr>
            <p:spPr>
              <a:xfrm>
                <a:off x="0" y="0"/>
                <a:ext cx="716292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1" name="Rectangle 9"/>
            <p:cNvGrpSpPr/>
            <p:nvPr/>
          </p:nvGrpSpPr>
          <p:grpSpPr>
            <a:xfrm>
              <a:off x="1143000" y="0"/>
              <a:ext cx="8001000" cy="6858000"/>
              <a:chOff x="1143000" y="0"/>
              <a:chExt cx="8001000" cy="6858000"/>
            </a:xfrm>
          </p:grpSpPr>
          <p:pic>
            <p:nvPicPr>
              <p:cNvPr id="172" name="Rectangle 9" descr=""/>
              <p:cNvPicPr/>
              <p:nvPr/>
            </p:nvPicPr>
            <p:blipFill>
              <a:blip r:embed="rId4"/>
              <a:stretch/>
            </p:blipFill>
            <p:spPr>
              <a:xfrm>
                <a:off x="1143000" y="0"/>
                <a:ext cx="8001000" cy="685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3" name="Text Box 21"/>
              <p:cNvSpPr/>
              <p:nvPr/>
            </p:nvSpPr>
            <p:spPr>
              <a:xfrm>
                <a:off x="1143000" y="0"/>
                <a:ext cx="8001000" cy="685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74" name="Freeform 30"/>
          <p:cNvGrpSpPr/>
          <p:nvPr/>
        </p:nvGrpSpPr>
        <p:grpSpPr>
          <a:xfrm>
            <a:off x="632880" y="6059520"/>
            <a:ext cx="7718760" cy="536040"/>
            <a:chOff x="632880" y="6059520"/>
            <a:chExt cx="7718760" cy="536040"/>
          </a:xfrm>
        </p:grpSpPr>
        <p:pic>
          <p:nvPicPr>
            <p:cNvPr id="175" name="Freeform 30" descr=""/>
            <p:cNvPicPr/>
            <p:nvPr/>
          </p:nvPicPr>
          <p:blipFill>
            <a:blip r:embed="rId5"/>
            <a:stretch/>
          </p:blipFill>
          <p:spPr>
            <a:xfrm>
              <a:off x="634320" y="6060600"/>
              <a:ext cx="7715880" cy="534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 rot="10800000">
              <a:off x="632880" y="6059520"/>
              <a:ext cx="7718760" cy="53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7" name="Rectangle 11"/>
          <p:cNvSpPr/>
          <p:nvPr/>
        </p:nvSpPr>
        <p:spPr>
          <a:xfrm rot="21540000">
            <a:off x="748800" y="57600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Rectangle 12"/>
          <p:cNvSpPr/>
          <p:nvPr/>
        </p:nvSpPr>
        <p:spPr>
          <a:xfrm rot="21540000">
            <a:off x="744120" y="576000"/>
            <a:ext cx="3789360" cy="5721120"/>
          </a:xfrm>
          <a:prstGeom prst="rect">
            <a:avLst/>
          </a:prstGeom>
          <a:blipFill rotWithShape="0">
            <a:blip r:embed="rId6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28"/>
          <p:cNvSpPr/>
          <p:nvPr/>
        </p:nvSpPr>
        <p:spPr>
          <a:xfrm rot="60000">
            <a:off x="4468680" y="604440"/>
            <a:ext cx="3789360" cy="57229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Rectangle 29"/>
          <p:cNvSpPr/>
          <p:nvPr/>
        </p:nvSpPr>
        <p:spPr>
          <a:xfrm rot="60000">
            <a:off x="4464000" y="603000"/>
            <a:ext cx="3789360" cy="5722920"/>
          </a:xfrm>
          <a:prstGeom prst="rect">
            <a:avLst/>
          </a:prstGeom>
          <a:blipFill rotWithShape="0">
            <a:blip r:embed="rId7">
              <a:alphaModFix amt="20000"/>
            </a:blip>
            <a:srcRect/>
            <a:tile tx="0" ty="0" sx="100000" sy="100000" algn="ctr"/>
          </a:blipFill>
          <a:ln w="0">
            <a:noFill/>
          </a:ln>
          <a:effectLst>
            <a:outerShdw dist="50760" dir="5400000" blurRad="0" rotWithShape="0">
              <a:srgbClr val="808080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2" descr="C:\Users\Administrator\Desktop\Pushpin Dev\Assets\pushpinLeft.png"/>
          <p:cNvPicPr/>
          <p:nvPr/>
        </p:nvPicPr>
        <p:blipFill>
          <a:blip r:embed="rId8"/>
          <a:stretch/>
        </p:blipFill>
        <p:spPr>
          <a:xfrm rot="1435200">
            <a:off x="2371680" y="293760"/>
            <a:ext cx="566640" cy="5680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2" descr="C:\Users\Administrator\Desktop\Pushpin Dev\Assets\pushpinLeft.png"/>
          <p:cNvPicPr/>
          <p:nvPr/>
        </p:nvPicPr>
        <p:blipFill>
          <a:blip r:embed="rId9"/>
          <a:stretch/>
        </p:blipFill>
        <p:spPr>
          <a:xfrm rot="4095600">
            <a:off x="6280200" y="333000"/>
            <a:ext cx="566640" cy="56664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nstanti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1" marL="63972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2" marL="91440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3" marL="127944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4" marL="1644480" indent="-22860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5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lvl="6" marL="1644480" indent="-228600">
              <a:spcBef>
                <a:spcPts val="601"/>
              </a:spcBef>
              <a:buClr>
                <a:srgbClr val="000000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0"/>
          </p:nvPr>
        </p:nvSpPr>
        <p:spPr>
          <a:xfrm rot="60000">
            <a:off x="6344640" y="5888160"/>
            <a:ext cx="1214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6F205-46D7-4908-9653-D3A7DF6665FC}" type="datetime">
              <a:rPr b="0" lang="nl-NL" sz="1200" spc="-1" strike="noStrike">
                <a:solidFill>
                  <a:srgbClr val="465e9c"/>
                </a:solidFill>
                <a:latin typeface="Rage Italic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1"/>
          </p:nvPr>
        </p:nvSpPr>
        <p:spPr>
          <a:xfrm rot="21540000">
            <a:off x="914040" y="5830920"/>
            <a:ext cx="33195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2"/>
          </p:nvPr>
        </p:nvSpPr>
        <p:spPr>
          <a:xfrm rot="60000">
            <a:off x="7562520" y="5900760"/>
            <a:ext cx="554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465e9c"/>
                </a:solidFill>
                <a:latin typeface="Rage Ital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2FE45-F707-4A68-BEA8-3B7F54FA995B}" type="slidenum">
              <a:rPr b="0" lang="nl-NL" sz="1400" spc="-1" strike="noStrike">
                <a:solidFill>
                  <a:srgbClr val="465e9c"/>
                </a:solidFill>
                <a:latin typeface="Rage Ital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0"/>
    <p:sldLayoutId id="2147483689" r:id="rId11"/>
    <p:sldLayoutId id="2147483690" r:id="rId12"/>
    <p:sldLayoutId id="2147483691" r:id="rId13"/>
    <p:sldLayoutId id="2147483692" r:id="rId14"/>
    <p:sldLayoutId id="2147483693" r:id="rId15"/>
    <p:sldLayoutId id="2147483694" r:id="rId16"/>
    <p:sldLayoutId id="2147483695" r:id="rId17"/>
    <p:sldLayoutId id="2147483696" r:id="rId18"/>
    <p:sldLayoutId id="2147483697" r:id="rId19"/>
    <p:sldLayoutId id="2147483698" r:id="rId20"/>
    <p:sldLayoutId id="2147483699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66600" y="1162080"/>
            <a:ext cx="6949800" cy="182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900" spc="-1" strike="noStrike">
                <a:solidFill>
                  <a:srgbClr val="ff0000"/>
                </a:solidFill>
                <a:latin typeface="Constantia"/>
              </a:rPr>
              <a:t>Introductie</a:t>
            </a:r>
            <a:r>
              <a:rPr b="0" lang="nl-NL" sz="3900" spc="-1" strike="noStrike">
                <a:solidFill>
                  <a:srgbClr val="ff0000"/>
                </a:solidFill>
                <a:latin typeface="Constantia"/>
              </a:rPr>
              <a:t> 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Kunst Beeldende Vorming</a:t>
            </a:r>
            <a:br>
              <a:rPr sz="3900"/>
            </a:br>
            <a:r>
              <a:rPr b="0" lang="nl-NL" sz="3900" spc="-1" strike="noStrike">
                <a:solidFill>
                  <a:srgbClr val="000000"/>
                </a:solidFill>
                <a:latin typeface="Constantia"/>
              </a:rPr>
              <a:t>(KBV)</a:t>
            </a:r>
            <a:endParaRPr b="0" lang="en-US" sz="39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25" name="Picture 8" descr="Essay – KuBv"/>
          <p:cNvPicPr/>
          <p:nvPr/>
        </p:nvPicPr>
        <p:blipFill>
          <a:blip r:embed="rId1"/>
          <a:srcRect l="0" t="6544" r="2319" b="0"/>
          <a:stretch/>
        </p:blipFill>
        <p:spPr>
          <a:xfrm>
            <a:off x="966960" y="3240000"/>
            <a:ext cx="2952720" cy="226872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10" descr="Did it myself :: Milouroelands"/>
          <p:cNvPicPr/>
          <p:nvPr/>
        </p:nvPicPr>
        <p:blipFill>
          <a:blip r:embed="rId2"/>
          <a:stretch/>
        </p:blipFill>
        <p:spPr>
          <a:xfrm>
            <a:off x="5580000" y="2325600"/>
            <a:ext cx="2468520" cy="318312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12" descr="Pop-Art – Gaudi Tekenen"/>
          <p:cNvPicPr/>
          <p:nvPr/>
        </p:nvPicPr>
        <p:blipFill>
          <a:blip r:embed="rId3"/>
          <a:stretch/>
        </p:blipFill>
        <p:spPr>
          <a:xfrm>
            <a:off x="3276720" y="4373640"/>
            <a:ext cx="3706560" cy="15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Examenrichtlijn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1463400" y="2118960"/>
            <a:ext cx="6421320" cy="383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blad.nl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g41h1h4i9qd ALGEMEEN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Accenten ‘Gouden Eeuw’ en ‘Cultuur vd kerk’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d/vj0ojfd7umn3/f=/bestand.pdf HAV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300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Franklin Gothic Book"/>
              </a:rPr>
              <a:t>http://www.examenblad.nl/9336000/1/j9vvhinitagymgn_m7mvi7dmy3fq6u9_n11vg41h1h4i9qe/vhi1nc4phqz3?topparent=vg41h1h4i9qe VWO</a:t>
            </a:r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Invalshoeken (zie syllabus examenblad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schillende kunst discipline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Verwachtingen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1472760" y="243684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(Actief aanwezig in de lessen/Blox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Opdrachten uitvoeren en huiswerk maken. Passief leren werkt niet bij kunst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ragen stellen, nieuwsgierig zij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reativiteit(verder) ontwikkel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ormgev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Diploma halen!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kstvak 1"/>
          <p:cNvSpPr/>
          <p:nvPr/>
        </p:nvSpPr>
        <p:spPr>
          <a:xfrm>
            <a:off x="1979640" y="2421000"/>
            <a:ext cx="496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000000"/>
                </a:solidFill>
                <a:latin typeface="Calibri"/>
                <a:ea typeface="Arial"/>
              </a:rPr>
              <a:t>VEEL SUCCES!!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HAVO/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Waarom kunstvakken?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Uitleg en opbouw kunstvak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Schoolexamens en Centraal Schriftelijk Exam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Examenrichtlijn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erwachtingen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WAAROM KUNSTVAKKEN?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1" name="TextBox 5"/>
          <p:cNvSpPr/>
          <p:nvPr/>
        </p:nvSpPr>
        <p:spPr>
          <a:xfrm>
            <a:off x="1828800" y="2819520"/>
            <a:ext cx="533412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" Het gaat niet om die lagen verf. </a:t>
            </a:r>
            <a:br>
              <a:rPr sz="2400"/>
            </a:br>
            <a:r>
              <a:rPr b="0" lang="nl-NL" sz="2400" spc="-1" strike="noStrike">
                <a:solidFill>
                  <a:srgbClr val="000000"/>
                </a:solidFill>
                <a:latin typeface="Calibri"/>
                <a:ea typeface="Arial"/>
              </a:rPr>
              <a:t>Het gaat om wat het doet vermoeden.”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Calibri"/>
                <a:ea typeface="Arial"/>
              </a:rPr>
              <a:t>uit: Cloaca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5" descr="pagina1_waaromkunstvak.png"/>
          <p:cNvPicPr/>
          <p:nvPr/>
        </p:nvPicPr>
        <p:blipFill>
          <a:blip r:embed="rId1"/>
          <a:stretch/>
        </p:blipFill>
        <p:spPr>
          <a:xfrm>
            <a:off x="0" y="685800"/>
            <a:ext cx="91440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Picture 2" descr="pagina2_waaromkunstvak.png"/>
          <p:cNvPicPr/>
          <p:nvPr/>
        </p:nvPicPr>
        <p:blipFill>
          <a:blip r:embed="rId1"/>
          <a:stretch/>
        </p:blipFill>
        <p:spPr>
          <a:xfrm>
            <a:off x="0" y="762120"/>
            <a:ext cx="9144000" cy="58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Uitleg en opbouw kunstvak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900000" y="1267920"/>
            <a:ext cx="7578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* Kunst Beeldende Vorming (KBV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Praktijk, beschouwen, deels uitvoeren/ oefenen theori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2 lesuren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- schoolexamens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Kunst Algemeen (KUA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Theorie en opdrachten algemene kunstgeschiedenis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1 lesuur per week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AVO proefexamens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59200" indent="-25920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VWO schoolexamen(s) en CSE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nstantia"/>
              </a:rPr>
              <a:t>Dus…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37" name="Tijdelijke aanduiding voor inhoud 3" descr=""/>
          <p:cNvPicPr/>
          <p:nvPr/>
        </p:nvPicPr>
        <p:blipFill>
          <a:blip r:embed="rId1"/>
          <a:stretch/>
        </p:blipFill>
        <p:spPr>
          <a:xfrm>
            <a:off x="1460520" y="2108160"/>
            <a:ext cx="6210360" cy="36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HAV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3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BurgerCultuur in de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 (Gouden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het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95120" y="817560"/>
            <a:ext cx="6964200" cy="120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nstantia"/>
              </a:rPr>
              <a:t>KUNST ALGEMEEN VWO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1463400" y="2119320"/>
            <a:ext cx="619596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000000"/>
                </a:solidFill>
                <a:uFillTx/>
                <a:latin typeface="Franklin Gothic Book"/>
              </a:rPr>
              <a:t>4 Examen onderwerpen VOORBEELD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Brush Script MT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an de kerk (1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t/m 17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Hofcultuur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Cultuur v/h moderne (1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marL="272880" indent="-272880">
              <a:spcBef>
                <a:spcPts val="601"/>
              </a:spcBef>
              <a:buClr>
                <a:srgbClr val="aa2b1e"/>
              </a:buClr>
              <a:buSzPct val="85000"/>
              <a:buFont typeface="Franklin Gothic Book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Massa cultuur (2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helft 20</a:t>
            </a:r>
            <a:r>
              <a:rPr b="0" lang="nl-NL" sz="2400" spc="-1" strike="noStrike" baseline="30000">
                <a:solidFill>
                  <a:srgbClr val="000000"/>
                </a:solidFill>
                <a:latin typeface="Franklin Gothic Book"/>
              </a:rPr>
              <a:t>e</a:t>
            </a:r>
            <a:r>
              <a:rPr b="0" lang="nl-NL" sz="2400" spc="-1" strike="noStrike">
                <a:solidFill>
                  <a:srgbClr val="000000"/>
                </a:solidFill>
                <a:latin typeface="Franklin Gothic Book"/>
              </a:rPr>
              <a:t> eeuw)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9T18:57:57Z</dcterms:created>
  <dc:creator>Westrop, Marjet van</dc:creator>
  <dc:description/>
  <dc:language>en-US</dc:language>
  <cp:lastModifiedBy>Annemarie van Leeuwen</cp:lastModifiedBy>
  <dcterms:modified xsi:type="dcterms:W3CDTF">2022-03-28T08:55:56Z</dcterms:modified>
  <cp:revision>17</cp:revision>
  <dc:subject/>
  <dc:title>Introductie  kunst drama/kunst bkv</dc:title>
</cp:coreProperties>
</file>