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AEDC-C5AB-40A1-BA2B-6AE42CFCF3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91AE-CC9F-441E-B1C0-554E6C0E06F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855-A713-4623-9293-494B8E6E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648-B39B-4292-AC7A-72CC857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43D-5FDE-4B36-AC45-269D5692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AAD-24CB-4D64-B798-16DA19B7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4CC-0BA8-4576-B6C1-712E0F63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1B72-EE75-4F68-A771-5F83FE6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4014-35EF-47A1-BEAD-38AB45DB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8C08-EBEC-489D-AD3E-EE10CC01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06C9-EB28-4273-B088-89B54700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767-8986-4EFD-A9F6-17DCC51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431A-C1D0-4CC2-921E-7A13B07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90E-B54F-438C-9008-64F847AE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04BB-9498-4D39-866F-0723914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7EC6-497E-4F64-8544-D203572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43C-6298-425D-ADB9-A97CD34D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8717-CE1C-4444-8D22-89F581BE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1218-AEB3-43B3-8453-E70223B7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A6465-9701-43D5-B7D4-0E83486D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C08F7-D4D4-4C95-92B2-EC2A9843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63758-417D-4F84-9EC9-02D0996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A859D-145F-44FF-8F15-2AE9EBE6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C83F7-5027-41DC-BF6E-C63928C4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F99-798A-4343-9B6A-DE493885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47636-14F6-4B9A-A38E-39DDED27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A1CA1-5AAD-4314-B197-3BA1558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37C41-ED36-426D-A3B5-EAEA341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9142E-64F1-4B7B-A891-6F955E5B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5D3F1-0C69-4FA5-8428-1EB842DE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CB841-600D-4181-8774-66C147D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66282-1A17-409A-85E2-F92F98C4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FEB3-5869-4897-97D5-736E13F1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31A8B-BF32-4BA9-80A8-93FDBB1B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2684-6215-42C9-A167-5754BE59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8B4-4A61-46EB-9A88-6AF50133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1C47-77A2-4B17-B99B-AD2490F8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8E09-3B5B-4292-A352-F5FC1F9E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9938-191B-44AE-A499-5C55343D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E299-F7E6-4F8B-B2EC-147FC16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3915-64A0-477E-81D5-C03F872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6421-9569-499E-862F-E657FD2A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58EF-09E7-4CFC-9CE5-451F885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ED80-E377-428C-A29D-2CD6B6EC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DE3E5-FBE5-4F24-A1EF-CF421E71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B9C-34FB-4E77-AD14-AA708956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363-7C15-46D7-A765-0143C64E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504-63DC-488E-9A9E-85D23C3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637-2DF4-4BA3-9DC0-2844FB6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A92-1F40-440A-9063-59B7E26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40EB-9FD2-4109-B2FD-56F0045763A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hthoe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hthoe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hthoe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hthoe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Rechthoe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Afgeronde rechthoe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Afgeronde rechthoe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Rechthoe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Rechthoe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Rechthoe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Rechthoe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52D-E749-4C4E-85CE-C7ED546C3CB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07E2-72E1-459F-A833-DFF42FA2D00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D3CC-81E9-41DC-B9C1-BEB62182011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1YJgudGEjw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80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rebuchet MS"/>
              </a:rPr>
              <a:t>Scheikund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24456"/>
                </a:solidFill>
                <a:latin typeface="Georgia"/>
              </a:rPr>
              <a:t>MBO Tuin en landschap niv.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00200" y="476280"/>
            <a:ext cx="7772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Lage pH (zuu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te grote oplosbaarheid van bepaalde elementen, zoals Fe, Al en Mn (vergiftig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te geringe oplosbaarheid van bepaalde elementen, zoals Mg en M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ierdoor kunnen gebreksverschijnselen ontstaa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n een te geringe bodemleven activit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gebrek aan fosfaat wat de groei rem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eer uitspoeling van K en M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Hoge pH (basisch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te geringe oplosbaarheid van sommige elementen, zoals Mn, Fe, Zn en C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grotere bodemleven activit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nellere afbraak van organische sto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8520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59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rganische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8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68000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unst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osfor (P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Kalium (K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agnesium (M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Calcium (C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36669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Stikstof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is een belangrijk bestanddeel van eiwitten die in de plant voorkomen (16%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groene kleur wordt door N bevorderd, waardo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ssimilatie (opbouw van weefsel) beter verloop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verlengt de groeiperio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is noodzakelijk bij de aanleg van bloemknoppen 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oor het uitgroeien van vruch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Stikstofopnam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N-br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norganisch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rganis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itraat (direct)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•ureum (indirec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mmonium (indirec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N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ammonsalpeter, kalisalpeter, zwavelzure ammonia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salpeter, chilisalp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Afbeelding 1" descr=""/>
          <p:cNvPicPr/>
          <p:nvPr/>
        </p:nvPicPr>
        <p:blipFill>
          <a:blip r:embed="rId1"/>
          <a:stretch/>
        </p:blipFill>
        <p:spPr>
          <a:xfrm>
            <a:off x="4572000" y="836640"/>
            <a:ext cx="43210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2198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osfor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langrijk bestanddeel van eiwitten die in de plant voorkom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werkt gunstig op de wortel-groei van plan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bloei en de rijping van zad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zorgt voor de energiehuishouding in de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Afbeelding 1" descr=""/>
          <p:cNvPicPr/>
          <p:nvPr/>
        </p:nvPicPr>
        <p:blipFill>
          <a:blip r:embed="rId1"/>
          <a:stretch/>
        </p:blipFill>
        <p:spPr>
          <a:xfrm>
            <a:off x="2124000" y="4508640"/>
            <a:ext cx="3468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nderwerp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oleculen, atomen, elektron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Periodieksyste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Zuren en B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eorgia"/>
              </a:rPr>
              <a:t>Bemes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Waterkwalit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osfor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P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uperfosfaat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20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ertifos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40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ripelsuper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45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ag niet wanneer men mee doet met Derogati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81160" y="222516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productie van koolhydra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koolhydratenhuishoud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ransport van water + opgeloste 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ermindert de gevoeligheid van de plant voor droogte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u en schimm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planten worden stevi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kwaliteit van de vruchten wordt b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al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alium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hloorhoudend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izout, Nakama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hloorarm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isalpeter, patentka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Afbeelding 1" descr=""/>
          <p:cNvPicPr/>
          <p:nvPr/>
        </p:nvPicPr>
        <p:blipFill>
          <a:blip r:embed="rId1"/>
          <a:stretch/>
        </p:blipFill>
        <p:spPr>
          <a:xfrm>
            <a:off x="6156360" y="836640"/>
            <a:ext cx="244476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gnes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Opbouw bij bladgro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Bladgroenkorrels zijn nodig voor de fotosynthe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5" descr="Bestel Buxus sempervirens voordelig bij Plantenweelde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gnesium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Magnesiumovermaat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pname van Mn – K – N wordt geremd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Mg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ieseriet MgSO4, magnesamon (MAS) , bitterzout 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rg. 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Calc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tevigheid voor de plant, celw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wortelgroe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regelt de wateropna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nschadelijk maken van giftige stoffen 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eutraliseren van zu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heeft invloed op de opname van andere voedings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pname Calciu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alkopname: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b kalk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zonder nevenbestanddelen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mergel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olzure landbouwkal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et magnesia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olzure magnesiakalk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olomiet, dolok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et nevenbestanddelen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chuimaarde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osma kenci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Gebrek aan macro element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 veel aan Ca leidt tot kali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fosfaat leidt tot Zn 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kali leidt tot Mg gebrek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opziek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Fe en Al leidt tot fosfaat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grond heeft een slechte structuur, storende lagen in de gro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grond is te nat of te droo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ken van kunstmest (fertilize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s://www.youtube.com/watch?v=n1YJgudGEj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Wat gaan we doen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edingselementen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Invloed p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Kunstmeststoffen (macro-elemente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poorelemen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4456"/>
                </a:solidFill>
                <a:latin typeface="Trebuchet MS"/>
              </a:rPr>
              <a:t>Functie van spoorelement bij plantengroei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talysator bij fysiologische processen in de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ormen een bestanddeel van enzym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hormonen en vitamin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4456"/>
                </a:solidFill>
                <a:latin typeface="Trebuchet MS"/>
              </a:rPr>
              <a:t>Voorbeelden spoorelement -meststoffen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u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perslakkenbloem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n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angaansulfaat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o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orax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porumi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2249640"/>
            <a:ext cx="821844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Is een product dat 2 of meer van de hoofdvoedingselementen N, P en K bev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Voorbeeld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N-P-K –meststoffen: 12-10-18, 17-17-1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osfaatammonsalpeter,Thomasmeel-ka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Garamond"/>
              </a:rPr>
              <a:t>Voordel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arbeids- &amp; tijdsbespare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verkrijgbaar in vele samenstelling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oed strooibaa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bevatten minder ballaststoff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ijn geschikt voor basis- en overbemest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Garamond"/>
              </a:rPr>
              <a:t>Nadel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ijn duurder dan enkelvoudige meststoff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e verhouding in samenstelling voor de gro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e werken verzure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bevatten geen spoorelement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ken van opdracht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aak de vragen bij dit hoofdstuk Bemestingsle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(Werk ze uit op papi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Voedingselementen voor een plant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Hoofdvoedingselement (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Macro-el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zijn voedingsstoffen die in grote hoeveelheden nodig zijn voor de groe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O – C – H – N – P – K – S – Mg – C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Spoorelement (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Micro-el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zijn voedingsstoffen die in kleine hoeveelheden nodig zijn voor de groe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Fe – As – B – Zn – Cu – Mn – F – Co – Mo – S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Niet-noodzakelijke elementen </a:t>
            </a: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(Neven-elementen of ballast-elemen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l – Na – Al – Br – I – Se</a:t>
            </a:r>
            <a:r>
              <a:rPr b="0" lang="nl-NL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856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pname van voeding door de pla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914480" y="2119320"/>
            <a:ext cx="56818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De invloed van de pH op de bodemvruchtbaarheid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pH is een maat voor de concentratie aan vrij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waterstofionen (H</a:t>
            </a:r>
            <a:r>
              <a:rPr b="0" lang="nl-NL" sz="44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 (aq)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oe meer van deze ionen, hoe zuurder iets is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oe lager de p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H-schaal : 0 – 7 – 14     ;   7 is neutra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oplosbaarheid van de voedingsstoffen in de bodem is afhankelijk van de pH-waard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21:54:55Z</dcterms:created>
  <dc:creator>gmeekers</dc:creator>
  <dc:description/>
  <dc:language>en-US</dc:language>
  <cp:lastModifiedBy>Hannie Kwant - van der Hulst</cp:lastModifiedBy>
  <dcterms:modified xsi:type="dcterms:W3CDTF">2021-03-09T15:13:21Z</dcterms:modified>
  <cp:revision>34</cp:revision>
  <dc:subject/>
  <dc:title>Dia 1</dc:title>
</cp:coreProperties>
</file>