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63EE-B762-4E9D-A2CC-1C3B8D6952B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8834-37E6-40F6-90CE-B7BD0348FCC8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0F4-08A2-4480-84DA-150A0C76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185-16F0-48BD-BFFD-AE38963A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8B8-021F-467C-AEBE-B4173F12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06A-1CF0-4C2F-87A5-2D6B0AD0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3B34-D6E4-42BC-B39E-A088EE32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47D2-71E2-4A25-BAB5-393B2A1C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206C-74BD-40B4-BB31-71670902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EA73-E487-4716-B787-73544239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E870-FFCD-42D9-BCFA-C56B1788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F9E2-374A-49D3-9E99-E4D3BD3E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2943-0C44-41F0-A249-9C1349C4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886-2ACF-4F47-BC37-552D403D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9E58-7B46-45DC-ADB0-D2BD4495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96EC-9246-442C-B24C-4A3CFCB7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A7A8-1516-447E-89F6-3E83A121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BA07-E09F-4DE9-98B1-58529ADB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892B-7214-4799-86DC-0F45EBAE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538B0-FFDA-44F8-A18D-0B257DCC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EC9B7-B446-4B18-B38A-56BAC68F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67E48-6965-4004-885F-AA2359F4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024A9-9CA1-47C1-B3F7-1728CE67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BEF6A-FD45-4F4B-A921-541F0052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65F-FB84-43F9-9994-7410FF09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F49B5-A5E7-4BD4-AFAC-D3A0529B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0622B-5438-45D2-89A4-2162FC38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9D790-21C5-41A7-A577-505CD6E0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49BF9-074E-4F28-8B34-537C50A2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ACA99-5275-40D2-9463-C117CC89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B579BF-0056-4BBD-9067-FF2622EE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ABFE0-58C3-4268-AAA0-47AF6E83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69449-46B6-44E1-8336-7219CF5D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ADFB6-63BC-4AD1-AE34-268FB781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77141-7389-40ED-B33E-34A72CD2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BE8-8B46-4509-A8FF-CA2E1B25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B4AD0-BBC6-42B5-B836-28A5699C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9CAB0-CB76-424B-9427-3ABBE27F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69A05-F10A-4411-8AD1-1EADF74C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E7796-07AC-420D-9996-B9FC148C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FAE44-2280-45A2-B383-EC51FD4D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0242E-6E02-43D5-B014-3A6FD7C1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B0DC4-520E-47E6-858E-10046A4D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AA8C1-2F02-49A6-B609-C73DCF2F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18AB9-76E0-4576-86B5-8F8A7AFB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0B3-DA8C-4204-AF12-1F4AB234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987-E180-49CB-9726-98E7BAE1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28BC-5EFF-42A8-831F-5DF2A5C0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4CC-2A04-4E22-BF62-6CAFE884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0F76-E74D-4189-8F8D-9CAC638A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Rechthoe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hthoe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Rechthoe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hthoe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Afgeronde rechthoe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Afgeronde rechthoe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Rechthoe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Rechthoe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Rechthoe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hthoe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Rechthoe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Rechthoe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49FD-499A-4B57-82D6-D12198A13217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hthoek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hthoek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Rechthoek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Rechthoek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Rechthoek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Afgeronde rechthoek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Afgeronde rechthoek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Rechthoek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Rechthoek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Rechthoek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Rechthoek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BECB-C876-477D-8362-2DC872EE37DA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hthoe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hthoe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hthoe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hthoe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hthoe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Afgeronde rechthoe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Afgeronde rechthoe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hthoe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hthoe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hthoe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hthoe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hthoe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hthoe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E0A1-1BA1-40B9-8E57-7BC641B81C71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hthoek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Rechthoek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Rechthoek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Rechthoek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Rechthoek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Afgeronde rechthoek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Afgeronde rechthoek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Rechthoek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Rechthoek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Rechthoek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Rechthoek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Rechthoek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Rechthoek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C59D-7372-4171-AFED-32F4009C807E}" type="slidenum">
              <a:rPr b="0" lang="nl-NL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n1YJgudGEjw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80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rebuchet MS"/>
              </a:rPr>
              <a:t>Scheikunde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24456"/>
                </a:solidFill>
                <a:latin typeface="Georgia"/>
              </a:rPr>
              <a:t>MBO Tuin en landschap niv.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700200" y="476280"/>
            <a:ext cx="77724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Lage pH (zuur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een te grote oplosbaarheid van bepaalde elementen, zoals Fe, Al en Mn (vergiftig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een te geringe oplosbaarheid van bepaalde elementen, zoals Mg en M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hierdoor kunnen gebreksverschijnselen ontstaa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en een te geringe bodemleven activite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gebrek aan fosfaat wat de groei rem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11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meer uitspoeling van K en M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Hoge pH (basisch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een te geringe oplosbaarheid van sommige elementen, zoals Mn, Fe, Zn en C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een grotere bodemleven activite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Snellere afbraak van organische sto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8520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59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Organische 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8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468000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1095480" y="1255680"/>
            <a:ext cx="59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258920" y="76500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Kunst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Stikstof (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Fosfor (P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Kalium (K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Magnesium (M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Calcium (C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4932360" y="4005360"/>
            <a:ext cx="366696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Stikstof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 is een belangrijk bestanddeel van eiwitten die in de plant voorkomen (16%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de groene kleur wordt door N bevorderd, waardo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assimilatie (opbouw van weefsel) beter verloop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 verlengt de groeiperiod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 is noodzakelijk bij de aanleg van bloemknoppen 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voor het uitgroeien van vruch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Stikstofopnam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N-br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anorganisch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rganis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itraat (direct)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•ureum (indirec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ammonium (indirect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Voorbeelden N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kammonsalpeter, kalisalpeter, zwavelzure ammonia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ksalpeter, chilisalpe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8" name="Afbeelding 1" descr=""/>
          <p:cNvPicPr/>
          <p:nvPr/>
        </p:nvPicPr>
        <p:blipFill>
          <a:blip r:embed="rId1"/>
          <a:stretch/>
        </p:blipFill>
        <p:spPr>
          <a:xfrm>
            <a:off x="4572000" y="836640"/>
            <a:ext cx="43210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2198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Fosfor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langrijk bestanddeel van eiwitten die in de plant voorkom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werkt gunstig op de wortel-groei van plan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vordert de bloei en de rijping van zad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zorgt voor de energiehuishouding in de p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2" name="Afbeelding 1" descr=""/>
          <p:cNvPicPr/>
          <p:nvPr/>
        </p:nvPicPr>
        <p:blipFill>
          <a:blip r:embed="rId1"/>
          <a:stretch/>
        </p:blipFill>
        <p:spPr>
          <a:xfrm>
            <a:off x="2124000" y="4508640"/>
            <a:ext cx="3468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Onderwerp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Moleculen, atomen, elektron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Periodieksyste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Zuren en B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eorgia"/>
              </a:rPr>
              <a:t>Bemes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Waterkwalite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Fosfor 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Voorbeelden P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superfosfaat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(20 % P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5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fertifos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(40 % P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5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ripelsuper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(45 % P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nl-NL" sz="4400" spc="-1" strike="noStrike" baseline="-25000">
                <a:solidFill>
                  <a:srgbClr val="000000"/>
                </a:solidFill>
                <a:latin typeface="Garamond"/>
              </a:rPr>
              <a:t>5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ag niet wanneer men mee doet met Derogatie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81160" y="2225160"/>
            <a:ext cx="822960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vordert de productie van koolhydra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(koolhydratenhuishoud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ransport van water + opgeloste 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vermindert de gevoeligheid van de plant voor droogte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ou en schimme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de planten worden stevig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de kwaliteit van de vruchten wordt be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Kalium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Kalium 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K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chloorhoudend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izout, Nakama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chloorarm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isalpeter, patentkal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9" name="Afbeelding 1" descr=""/>
          <p:cNvPicPr/>
          <p:nvPr/>
        </p:nvPicPr>
        <p:blipFill>
          <a:blip r:embed="rId1"/>
          <a:stretch/>
        </p:blipFill>
        <p:spPr>
          <a:xfrm>
            <a:off x="6156360" y="836640"/>
            <a:ext cx="244476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agnesium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Opbouw bij bladgro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Bladgroenkorrels zijn nodig voor de fotosynthe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5" descr="Bestel Buxus sempervirens voordelig bij Plantenweelde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agnesium meststoff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Magnesiumovermaat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pname van Mn – K – N wordt geremd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Voorbeelden Mg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ieseriet MgSO4, magnesamon (MAS) , bitterzout 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rg. 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Calcium functi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stevigheid voor de plant, celwa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evordert de wortelgroe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regelt de wateropna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onschadelijk maken van giftige stoffen 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neutraliseren van zur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heeft invloed op de opname van andere voedings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Opname Calciu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Kalkopname: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vb kalk-meststoff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zonder nevenbestanddelen: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lkmergel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oolzure landbouwkal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et magnesia: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oolzure magnesiakalk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dolomiet, dolok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et nevenbestanddelen: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schuimaarde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fosma kencic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1920" indent="-23256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Gebrek aan macro element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e veel aan Ca leidt tot kaligebr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eveel aan fosfaat leidt tot Zn gebr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eveel aan kali leidt tot Mg gebrek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Garamond"/>
              </a:rPr>
              <a:t>kopziek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teveel aan Fe en Al leidt tot fosfaatgebr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grond heeft een slechte structuur, storende lagen in de gro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grond is te nat of te droo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aken van kunstmest (fertilizer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s://www.youtube.com/watch?v=n1YJgudGEj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Wat gaan we doen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Voedingselementen p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Invloed p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Kunstmeststoffen (macro-elemente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Spoorelement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4456"/>
                </a:solidFill>
                <a:latin typeface="Trebuchet MS"/>
              </a:rPr>
              <a:t>Functie van spoorelement bij plantengroei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atalysator bij fysiologische processen in de pl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vormen een bestanddeel van enzymen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hormonen en vitamin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1095480" y="1255680"/>
            <a:ext cx="59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258920" y="76500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424456"/>
                </a:solidFill>
                <a:latin typeface="Trebuchet MS"/>
              </a:rPr>
              <a:t>Voorbeelden spoorelement -meststoffen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Cu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koperslakkenbloem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n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mangaansulfaat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o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 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borax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Sporumi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1095480" y="1255680"/>
            <a:ext cx="59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258920" y="76500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engmeststoffen NP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2249640"/>
            <a:ext cx="821844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Is een product dat 2 of meer van de hoofdvoedingselementen N, P en K bev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Voorbeeld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N-P-K –meststoffen: 12-10-18, 17-17-17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fosfaatammonsalpeter,Thomasmeel-kal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1095480" y="1255680"/>
            <a:ext cx="5997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258920" y="765000"/>
            <a:ext cx="691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engmeststoffen NP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Garamond"/>
              </a:rPr>
              <a:t>Voordel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arbeids- &amp; tijdsbesparen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verkrijgbaar in vele samenstelling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goed strooibaa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bevatten minder ballaststoff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zijn geschikt voor basis- en overbemest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engmeststoffen NP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Garamond"/>
              </a:rPr>
              <a:t>Nadel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zijn duurder dan enkelvoudige meststoff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de verhouding in samenstelling voor de gron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ze werken verzuren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aramond"/>
              </a:rPr>
              <a:t>bevatten geen spoorelemente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Maken van opdrachte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Maak de vragen bij dit hoofdstuk Bemestingsle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(Werk ze uit op papie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Voedingselementen voor een plant</a:t>
            </a:r>
            <a:br>
              <a:rPr sz="36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692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eorgia"/>
              </a:rPr>
              <a:t>Hoofdvoedingselement (</a:t>
            </a:r>
            <a:r>
              <a:rPr b="1" lang="en-GB" sz="2600" spc="-1" strike="noStrike">
                <a:solidFill>
                  <a:srgbClr val="000000"/>
                </a:solidFill>
                <a:latin typeface="Georgia"/>
              </a:rPr>
              <a:t>Macro-element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zijn voedingsstoffen die in grote hoeveelheden nodig zijn voor de groe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O – C – H – N – P – K – S – Mg – Ca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eorgia"/>
              </a:rPr>
              <a:t>Spoorelement (</a:t>
            </a:r>
            <a:r>
              <a:rPr b="1" lang="en-GB" sz="2600" spc="-1" strike="noStrike">
                <a:solidFill>
                  <a:srgbClr val="000000"/>
                </a:solidFill>
                <a:latin typeface="Georgia"/>
              </a:rPr>
              <a:t>Micro-element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zijn voedingsstoffen die in kleine hoeveelheden nodig zijn voor de groe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eorgia"/>
              </a:rPr>
              <a:t>Fe – As – B – Zn – Cu – Mn – F – Co – Mo – Si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eorgia"/>
              </a:rPr>
              <a:t>Niet-noodzakelijke elementen </a:t>
            </a: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(Neven-elementen of ballast-elemen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6920">
              <a:lnSpc>
                <a:spcPct val="7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eorgia"/>
              </a:rPr>
              <a:t>Cl – Na – Al – Br – I – Se</a:t>
            </a:r>
            <a:r>
              <a:rPr b="0" lang="nl-NL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8567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Opname van voeding door de plan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1914480" y="2119320"/>
            <a:ext cx="568188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el 3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424456"/>
                </a:solidFill>
                <a:latin typeface="Trebuchet MS"/>
              </a:rPr>
              <a:t>De invloed van de pH op de bodemvruchtbaarheid</a:t>
            </a:r>
            <a:br>
              <a:rPr sz="36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pH is een maat voor de concentratie aan vrij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waterstofionen (H</a:t>
            </a:r>
            <a:r>
              <a:rPr b="0" lang="nl-NL" sz="4400" spc="-1" strike="noStrike" baseline="30000">
                <a:solidFill>
                  <a:srgbClr val="000000"/>
                </a:solidFill>
                <a:latin typeface="Georgia"/>
              </a:rPr>
              <a:t>+</a:t>
            </a: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 (aq)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Hoe meer van deze ionen, hoe zuurder iets is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hoe lager de p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De pH-schaal : 0 – 7 – 14     ;   7 is neutra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De oplosbaarheid van de voedingsstoffen in de bodem is afhankelijk van de pH-waard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21:54:55Z</dcterms:created>
  <dc:creator>gmeekers</dc:creator>
  <dc:description/>
  <dc:language>en-US</dc:language>
  <cp:lastModifiedBy>Hannie Kwant - van der Hulst</cp:lastModifiedBy>
  <dcterms:modified xsi:type="dcterms:W3CDTF">2021-03-09T15:13:21Z</dcterms:modified>
  <cp:revision>34</cp:revision>
  <dc:subject/>
  <dc:title>Dia 1</dc:title>
</cp:coreProperties>
</file>