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8CBB-AD7F-4325-8F99-2B1BAA99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ED88-F365-4EE2-82DB-9189FB05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30ED-2515-4505-8EFE-E790FB3D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985-9281-471A-A82B-9394A6C2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7E0F-257E-4ADF-905B-4858A4EE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18E1-91F0-401D-BD23-3330056D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8D02-1203-4871-96AD-A8E643DC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8A64-6222-44D5-8B88-84A345EB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BFDD-7F2F-4C85-B9FD-E9C0A342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7150-C96E-442C-A5C9-A869EF73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824F-5A8D-4A67-AA65-E768AE50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961-48A4-44B9-9DB9-E5997470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2110-5079-4BD7-B3EE-7C035EAC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B0CB-A0C8-460C-8FAB-BAC34047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B471-0127-4273-B5CD-2B6A8C52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AF08-E9FE-497F-9027-B3E6CC57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B00F-F4CE-401D-877E-43680507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EFC-0557-401C-B124-BD26880A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2C4-D583-4D1C-9F2A-7A99D6B8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EC62-9DCB-4D7C-9BF1-00EF6690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753-6DA2-4CEE-AE45-F6DD81F2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44F-F609-409E-A0DB-B1D571A4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6287-09A9-41FF-8ED7-14AE990A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08D-2677-4AAE-BB5D-7CCE77A9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5641-A359-4504-9832-4B1801EF6EF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CC6E-D2CB-4C5F-8B21-FC38BB0ED57D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stelse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t stelsel speelt een rol in het afweer-systeem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Milt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en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unctie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ilteren van blo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Opvangen ziekteverwekk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vangen verouderde en dode bloedcell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loedreservoi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73000" y="1413000"/>
            <a:ext cx="3810240" cy="47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mfatisch systeem net als bloedvaten in alle organ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mfevaten starten’blind’. Weefselvocht gaat vanuit de cellen daarnaartoe en wordt lymf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t wordt langs de lymfeknopen gevoer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1498680"/>
            <a:ext cx="345600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(2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ia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orstbu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n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chter lymfestam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komt het lymfe weer in de bloedbaa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 de lymfevaten zitten kleppen en stroming wordt opgewekt door: adem-, hart-, spier- en atriële pomp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3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788000" y="1843200"/>
            <a:ext cx="434664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e heeft bijna dezelfde samenstelling als weefselvoch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v. witte bloedcel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ijdelijke 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nti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angetaste en dode lichaamscel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48280" y="1947960"/>
            <a:ext cx="3771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knoop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 groot als een pinktopj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s een filt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uimen dode cellen, bacteriën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orden actief bij mogelijke ziekteverwekk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wellen dan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827600" y="2276640"/>
            <a:ext cx="4230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oïde orga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eknop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ing van Waldeyer-Hartz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laques van Pey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wezerik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il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796000" y="1924200"/>
            <a:ext cx="216540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ing van Waldeyer-Hartz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atisch weefsel dat ligt rond de keel- en neusholt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Keelamand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eusamand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ongamandel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219640" y="1793880"/>
            <a:ext cx="36943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laques van Pey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ebiedjes van lymfatisch weefsel die in de Dunne Darm lig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rgen ervoor dat vanuit de darmholte (milieu exterieur) geen schadelijke bacteriën de bloedbaan binnendrin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03640" y="2565360"/>
            <a:ext cx="400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Zwezerik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ymu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en lymfatisch orgaan dat tot de puberteit een rol speel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schrompeld tot een klein vetkwabj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gt op het hart, achter het borstbe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evat thymocyt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978520" y="1905120"/>
            <a:ext cx="1911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Joyce Vonk</cp:lastModifiedBy>
  <dcterms:modified xsi:type="dcterms:W3CDTF">2021-02-28T20:29:42Z</dcterms:modified>
  <cp:revision>25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