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F41-2F66-4902-9044-641D8D12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B62-31E9-4864-A6A2-634539C8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8DC-7671-45B5-B4D0-60FF1233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E4D-2321-49A7-8485-33C42040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E005-5DE5-407F-8019-D6607590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172D-E947-43C6-A5AD-5DC3E420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252B-71E7-4467-8BD3-06BE3E6D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5F16-DBBD-4977-A167-69293995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6E17-344F-4361-B291-61205025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F53C-FD63-4AC9-86D0-88647375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985F-12C2-44FD-8685-7D880A4C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93E-89D8-4380-84B2-86CC06F4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A45-F75F-453F-8336-B901496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3092-C750-4373-A671-D7843F6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34DD-2515-4CAC-ABAD-4CCF2B7A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4B1-E6F5-46C6-8B4F-41CE4D95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E8C9-23CC-4CFA-A0FF-4B6AC9C6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706-F8F4-468B-BB77-48D9A084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A52-3B6B-450D-88C2-DFC6B417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99B-5E4C-45AE-93DA-E9A1F349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BE9-6A9A-4E4E-9EE1-77F3A354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EDF-F600-4CD9-ADB1-43C19DB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E55-A79B-4F91-97C2-C97F3E6D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527-362F-4E59-8064-932F8928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BFD9-F306-4DD6-AA64-ADBA06AE2A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8A5F-8FB1-4028-BD10-809B6B02C04B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Joyce Vonk</cp:lastModifiedBy>
  <dcterms:modified xsi:type="dcterms:W3CDTF">2021-02-28T20:29:42Z</dcterms:modified>
  <cp:revision>25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