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2A0-7196-42CD-9D3C-DACDE346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0BD-9B19-4E09-8E06-D0CE28DB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26F-E53D-4514-AF2E-8F887114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D59-8E01-408B-82E0-7AB016AA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262E-20EE-4506-94C4-AAE67A0A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549B-3069-47BB-A5CD-88810894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F794-E4E5-4A29-BBE8-AE809270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5A9C-63F5-44A3-A6DE-11695CAC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F702-449A-4C65-94B2-C50152B8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30BF-4B45-450E-BE6C-DB63557B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0082-9501-4E32-9302-F2B835BC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7F3-1030-4F3C-9EA8-5F36DCC4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E100-C8D9-4946-9A10-DE820A5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AA90-E1E7-4162-9DAD-197FBBA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188A-8A5F-4B13-8419-9992059F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24F1-62DB-43E1-B92D-6EDEF94B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3ED9-256B-4466-A81B-7FA20016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8BAD-9C35-427B-B279-EF996B67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662B-1C2B-4DEC-B8EE-4A3D9A79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AB24-F193-4392-87BE-71A76BA9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55F0-1A93-4896-B248-FA864E03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A65B2-4F44-4430-90DC-0FCBE592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8D5-98CE-49CE-9100-07D4C1D6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8268-546E-467E-85B7-683A9FA4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9BCAF-C7A4-498D-8304-47BE2435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E76A-8ACD-435A-B983-73D1A20E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9276-4630-44AF-89E4-E5FD95AD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E9265-6A62-4B29-83FD-EEC36D77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F9FA-3BE2-45D5-B100-4D21657E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4E71-2B4A-47BD-8811-D2005B0F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19190-8D31-44B2-BCE1-5A284127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0559-6F4F-4366-99CC-5A914167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20FD-B0EE-42C4-A3BB-2E262A38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33C-D783-4D6B-A576-CA2D4A3D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13CB-61AD-4847-80C0-BEA88BD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409A8-54A2-42D3-A67A-346FB9D0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F7257-0137-4DD9-BF9E-4A36FC57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66CE-74C4-4A36-95D1-D1715E72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1B733-7E93-4C2E-9EAF-ABBAA8C7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573F8-CC59-4953-9725-8BE9DAA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9515-A3F7-4127-AA5D-11C2569E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1EB53-DAF9-4DD1-AAB3-94A0A84E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5C5D-4FAC-44B6-932B-6641A1E5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36B1F-A82A-4CF1-9B30-D4E4BDB8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445-E45F-476E-BAAA-5BAEE2AC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16E8E-91EA-4CCC-946B-B371414B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D5FFD-E314-4E98-9480-5A543E57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67F94-53F5-4254-9AC0-931DB103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89944-3ADF-4FE6-8915-38D4E571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8068E-C352-4423-B8C7-E6141DAF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4234-35AA-4285-85D3-880CA50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9E50F-B237-4F7D-B9E6-D85A2827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EFBE4-2170-4B63-8463-771E6670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3E366-C5B1-4C84-9F73-80EC0931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3D3E2-8BA3-41FB-9E3C-69547280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F12-1B76-4ADB-AC95-AD585FAF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FAA2D-C6F5-42D1-9AD2-18E3BE65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562-82FB-4899-A74C-90ABA24F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976-D269-4592-97FD-7EDF076C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A86-7F8B-47D8-A9F1-B53FEF23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9498-1C18-4E72-8DA3-1267D7C6DD01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9EE9-4B12-43B4-884B-1071CC23D8B1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86B6-2E9E-4E93-993E-A70DCEC850CF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ACDA-F45A-43EB-BB06-B8821E8C9A29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86F3-341C-4A60-9FDD-76F7AADB3D03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en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bestaat voor het grootste gedeelte uit wa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at water kun je allerlei stoffen oplossen en vervoer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j hebben ongeveer 6 liter bloed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al onze bloedvaten achter elkaar legt, kom je uit op ongeveer 1500 k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Picture 4" descr="water"/>
          <p:cNvPicPr/>
          <p:nvPr/>
        </p:nvPicPr>
        <p:blipFill>
          <a:blip r:embed="rId1"/>
          <a:stretch/>
        </p:blipFill>
        <p:spPr>
          <a:xfrm>
            <a:off x="7308720" y="1557360"/>
            <a:ext cx="924120" cy="93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thee"/>
          <p:cNvPicPr/>
          <p:nvPr/>
        </p:nvPicPr>
        <p:blipFill>
          <a:blip r:embed="rId2"/>
          <a:stretch/>
        </p:blipFill>
        <p:spPr>
          <a:xfrm>
            <a:off x="6659640" y="2492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wegenkaart"/>
          <p:cNvPicPr/>
          <p:nvPr/>
        </p:nvPicPr>
        <p:blipFill>
          <a:blip r:embed="rId3"/>
          <a:stretch/>
        </p:blipFill>
        <p:spPr>
          <a:xfrm>
            <a:off x="6877080" y="429264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251" name="Afbeelding 6" descr="1 liter.jpg"/>
          <p:cNvPicPr/>
          <p:nvPr/>
        </p:nvPicPr>
        <p:blipFill>
          <a:blip r:embed="rId4"/>
          <a:stretch/>
        </p:blipFill>
        <p:spPr>
          <a:xfrm>
            <a:off x="7667640" y="3141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voor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moet blijven werken en heeft daarvoor veel energie nodi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heeft zijn eigen bloedvaten voor aanvoer en af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anvoerende bloedvaten heten kransslag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fvoerende bloedvaten heten krans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9" name="Afbeelding 5" descr="kransslagader kransader.png"/>
          <p:cNvPicPr/>
          <p:nvPr/>
        </p:nvPicPr>
        <p:blipFill>
          <a:blip r:embed="rId1"/>
          <a:stretch/>
        </p:blipFill>
        <p:spPr>
          <a:xfrm>
            <a:off x="7020000" y="1916280"/>
            <a:ext cx="19666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bouw van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6105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bestaat eigenlijk uit 4 d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opvangen van het bloed = 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rondpompen van het bloed = kam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Tussen boezem en kamer zitten kleppen, dit zorgt ervoor dat het bloed maar in 1 richting kan str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ok vlak na de kamer heb je kleppen. Ook dit is weer om ervoor te zorgen dat het bloed de goede richting op ga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2" name="Afbeelding 5" descr="hartkleppen aorta.png"/>
          <p:cNvPicPr/>
          <p:nvPr/>
        </p:nvPicPr>
        <p:blipFill>
          <a:blip r:embed="rId1"/>
          <a:stretch/>
        </p:blipFill>
        <p:spPr>
          <a:xfrm>
            <a:off x="6948360" y="4152960"/>
            <a:ext cx="2016360" cy="2705040"/>
          </a:xfrm>
          <a:prstGeom prst="rect">
            <a:avLst/>
          </a:prstGeom>
          <a:ln w="0">
            <a:noFill/>
          </a:ln>
        </p:spPr>
      </p:pic>
      <p:pic>
        <p:nvPicPr>
          <p:cNvPr id="303" name="Afbeelding 6" descr="hartkleppen boezem kamer.png"/>
          <p:cNvPicPr/>
          <p:nvPr/>
        </p:nvPicPr>
        <p:blipFill>
          <a:blip r:embed="rId2"/>
          <a:stretch/>
        </p:blipFill>
        <p:spPr>
          <a:xfrm>
            <a:off x="6948360" y="1700280"/>
            <a:ext cx="197028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bloed komt va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trekt samen en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aat het bloed door de longen en daarna via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meteen terug naar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mpt het bloed daarna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 of lichaams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gaat het bloed door het hele lichaam en komt uiteindelijk weer terecht bij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3 fasen van hartwerking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oezems lopen vol met bloed uit de holle ade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rtslag begint als het samentrekken van de boezems plaatsvindt (fase 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zijn volgestroomd en trekken samen (fase 2) Het bloed gaat naar de aorta en de longslagad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ontspannen zich, de boezems waren al ontspannen (fase 3). We spreken van een hartpauz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rttonen zijn de slagen die je hoort als de hartkleppen dichtslaan en als de halvemaanvormige kleppen dichtslaa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vaten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drie typen bloedvat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ders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druk = de druk waarmee het bloed tegen de wand van de bloedvaten druk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Afbeelding 6" descr="haarvaten.jpg"/>
          <p:cNvPicPr/>
          <p:nvPr/>
        </p:nvPicPr>
        <p:blipFill>
          <a:blip r:embed="rId1"/>
          <a:stretch/>
        </p:blipFill>
        <p:spPr>
          <a:xfrm>
            <a:off x="7380360" y="447840"/>
            <a:ext cx="1085760" cy="1392120"/>
          </a:xfrm>
          <a:prstGeom prst="rect">
            <a:avLst/>
          </a:prstGeom>
          <a:ln w="0">
            <a:noFill/>
          </a:ln>
        </p:spPr>
      </p:pic>
      <p:pic>
        <p:nvPicPr>
          <p:cNvPr id="311" name="Afbeelding 7" descr="slagader.jpg"/>
          <p:cNvPicPr/>
          <p:nvPr/>
        </p:nvPicPr>
        <p:blipFill>
          <a:blip r:embed="rId2"/>
          <a:stretch/>
        </p:blipFill>
        <p:spPr>
          <a:xfrm>
            <a:off x="7023240" y="190656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312" name="Afbeelding 8" descr="bloeddruk.jpg"/>
          <p:cNvPicPr/>
          <p:nvPr/>
        </p:nvPicPr>
        <p:blipFill>
          <a:blip r:embed="rId3"/>
          <a:stretch/>
        </p:blipFill>
        <p:spPr>
          <a:xfrm>
            <a:off x="6165720" y="3243240"/>
            <a:ext cx="26575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weg van het har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kke, elastische (verende) wa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kunt jouw hartslag erin vo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itten meestal diep in je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zitten er geen kleppen 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rgen voor aanvoer van bloed in de organ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evat meestal zuurstof en voedse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Afbeelding 5" descr="slagader.jpg"/>
          <p:cNvPicPr/>
          <p:nvPr/>
        </p:nvPicPr>
        <p:blipFill>
          <a:blip r:embed="rId1"/>
          <a:stretch/>
        </p:blipFill>
        <p:spPr>
          <a:xfrm>
            <a:off x="6827760" y="177840"/>
            <a:ext cx="226692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128320"/>
            <a:ext cx="6610320" cy="46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bloed stroomt naar het hart to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Grote bloedvaten maar met een dunnere wan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Je kunt hierin geen hartslag voel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itten vaak aan het oppervlak van jouw lichaam. Je kunt ze dus zi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Er zitten kleppen in die ervoor zorgen dat het bloed in 1 richting 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orgen ervoor dat het bloed van de organen weer naar het hart terug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evatten meestal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Corbel"/>
              </a:rPr>
              <a:t>geen</a:t>
            </a: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 zuurstof en voedsel, maar wel afvalstoffen zoals koolstofdioxid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Afbeelding 5" descr="aders hand.jpg"/>
          <p:cNvPicPr/>
          <p:nvPr/>
        </p:nvPicPr>
        <p:blipFill>
          <a:blip r:embed="rId1"/>
          <a:stretch/>
        </p:blipFill>
        <p:spPr>
          <a:xfrm>
            <a:off x="6659640" y="884160"/>
            <a:ext cx="2232000" cy="11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aarvaten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040" y="1599840"/>
            <a:ext cx="6681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eer dunne en kleine bloedvat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enen voor het geven van voedsel en zuurstof aan de omgev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emen afvalstoffen van de omgeving op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Afbeelding 5" descr="haarvaten.jpg"/>
          <p:cNvPicPr/>
          <p:nvPr/>
        </p:nvPicPr>
        <p:blipFill>
          <a:blip r:embed="rId1"/>
          <a:stretch/>
        </p:blipFill>
        <p:spPr>
          <a:xfrm>
            <a:off x="7667640" y="1773360"/>
            <a:ext cx="10857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, haarvaten en ader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Tijdelijke aanduiding voor inhoud 3" descr="bloedvaten.jpg"/>
          <p:cNvPicPr/>
          <p:nvPr/>
        </p:nvPicPr>
        <p:blipFill>
          <a:blip r:embed="rId1"/>
          <a:stretch/>
        </p:blipFill>
        <p:spPr>
          <a:xfrm>
            <a:off x="1042920" y="2852640"/>
            <a:ext cx="2952720" cy="1943280"/>
          </a:xfrm>
          <a:prstGeom prst="rect">
            <a:avLst/>
          </a:prstGeom>
          <a:ln w="0">
            <a:noFill/>
          </a:ln>
        </p:spPr>
      </p:pic>
      <p:pic>
        <p:nvPicPr>
          <p:cNvPr id="324" name="Afbeelding 24" descr="slagader naar ader.jpg"/>
          <p:cNvPicPr/>
          <p:nvPr/>
        </p:nvPicPr>
        <p:blipFill>
          <a:blip r:embed="rId2"/>
          <a:stretch/>
        </p:blipFill>
        <p:spPr>
          <a:xfrm>
            <a:off x="4788000" y="1916280"/>
            <a:ext cx="34909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bloedvatenstelsel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vatenstelsel kun je vergelijken met het wegenne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hebt de snelwegen (=slagaders), zijweggetjes (haarvaten) en B-wegen (ader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les is bedoeld voor het ver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wel aanvoer als afvoer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Afbeelding 3" descr="snelweg.png"/>
          <p:cNvPicPr/>
          <p:nvPr/>
        </p:nvPicPr>
        <p:blipFill>
          <a:blip r:embed="rId1"/>
          <a:stretch/>
        </p:blipFill>
        <p:spPr>
          <a:xfrm>
            <a:off x="6524640" y="1700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28" name="Afbeelding 4" descr="transport.jpg"/>
          <p:cNvPicPr/>
          <p:nvPr/>
        </p:nvPicPr>
        <p:blipFill>
          <a:blip r:embed="rId2"/>
          <a:stretch/>
        </p:blipFill>
        <p:spPr>
          <a:xfrm>
            <a:off x="7020000" y="3860640"/>
            <a:ext cx="172872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aaruit bestaat bloed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sma: water met opgeloste stoffe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Zorgt voor het vervoer van allerlei stoffen: Denk aan voedingsstoffen, maar ook koolstofdioxid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cell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ode bloedcellen: vervoer va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Witte bloedcellen: verdediging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Bloedplaatjes : stollen van bloe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heten de bloedvaten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estal krijgt een bloedvat de naam van het orgaan waar het naartoe gaat of waar het vandaan kom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oorbeeld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slagader naar de longen toe heet: longslagad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arvaten in de longen heten 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ader die de long verlaat heet: de 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Afbeelding 3" descr="straatnaambord.jpg"/>
          <p:cNvPicPr/>
          <p:nvPr/>
        </p:nvPicPr>
        <p:blipFill>
          <a:blip r:embed="rId1"/>
          <a:stretch/>
        </p:blipFill>
        <p:spPr>
          <a:xfrm>
            <a:off x="5940360" y="1933560"/>
            <a:ext cx="23256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ier zijn enkele uitzonderingen op deze rege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Aorta = lichaamsslag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Kransslagader, krans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Poortader. (= ader van darmen naar de lever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alsslagader en halsader (de slagader en ader naar de hersenen toe en er vanaf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ovenste holle ader = de bloedvaten vanaf de boven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Onderste holle ader = de bloedvaten vanaf de onder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Afbeelding 3" descr="uitzondering fietsbord eenrichtingsweg.jpg"/>
          <p:cNvPicPr/>
          <p:nvPr/>
        </p:nvPicPr>
        <p:blipFill>
          <a:blip r:embed="rId1"/>
          <a:stretch/>
        </p:blipFill>
        <p:spPr>
          <a:xfrm>
            <a:off x="7350120" y="62064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poortader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, heb je niet net geleerd dat dit een uitzondering was? Jawel, hoo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De poortader is speciaal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is een bloedvat tussen de darmen en de lev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Waarom speciaal? Het is de enige ader met veel voedingsstoffen eri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Maar voordat je de voedingstoffen gaat uitdelen moet je wel even controleren of er ook giftige stoffen tussen zitten. Dat doet de leve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Vanaf de lever wordt het bloed inclusief voedingsstoffen verder getransporteer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Afbeelding 3" descr="poortader.jpg"/>
          <p:cNvPicPr/>
          <p:nvPr/>
        </p:nvPicPr>
        <p:blipFill>
          <a:blip r:embed="rId1"/>
          <a:stretch/>
        </p:blipFill>
        <p:spPr>
          <a:xfrm>
            <a:off x="7020000" y="1773360"/>
            <a:ext cx="1944720" cy="2082600"/>
          </a:xfrm>
          <a:prstGeom prst="rect">
            <a:avLst/>
          </a:prstGeom>
          <a:ln w="0">
            <a:noFill/>
          </a:ln>
        </p:spPr>
      </p:pic>
      <p:pic>
        <p:nvPicPr>
          <p:cNvPr id="338" name="Afbeelding 4" descr="lever.jpg"/>
          <p:cNvPicPr/>
          <p:nvPr/>
        </p:nvPicPr>
        <p:blipFill>
          <a:blip r:embed="rId2"/>
          <a:stretch/>
        </p:blipFill>
        <p:spPr>
          <a:xfrm>
            <a:off x="7093080" y="4508640"/>
            <a:ext cx="18349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echterkam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inkerboez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Heeft 2 functi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er zuurstof in het bloed kom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koolstofdioxide uit het lichaam verdwijn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Afbeelding 4" descr="zuurstof.jpg"/>
          <p:cNvPicPr/>
          <p:nvPr/>
        </p:nvPicPr>
        <p:blipFill>
          <a:blip r:embed="rId1"/>
          <a:stretch/>
        </p:blipFill>
        <p:spPr>
          <a:xfrm>
            <a:off x="6300720" y="1700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342" name="Afbeelding 5" descr="koolstofdioxide.jpg"/>
          <p:cNvPicPr/>
          <p:nvPr/>
        </p:nvPicPr>
        <p:blipFill>
          <a:blip r:embed="rId2"/>
          <a:stretch/>
        </p:blipFill>
        <p:spPr>
          <a:xfrm>
            <a:off x="6948360" y="2781360"/>
            <a:ext cx="1621080" cy="1245960"/>
          </a:xfrm>
          <a:prstGeom prst="rect">
            <a:avLst/>
          </a:prstGeom>
          <a:ln w="0">
            <a:noFill/>
          </a:ln>
        </p:spPr>
      </p:pic>
      <p:pic>
        <p:nvPicPr>
          <p:cNvPr id="343" name="Afbeelding 6" descr="kleine bloedsomloop1.jpg"/>
          <p:cNvPicPr/>
          <p:nvPr/>
        </p:nvPicPr>
        <p:blipFill>
          <a:blip r:embed="rId3"/>
          <a:stretch/>
        </p:blipFill>
        <p:spPr>
          <a:xfrm>
            <a:off x="4572000" y="1773360"/>
            <a:ext cx="9144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040" y="1599840"/>
            <a:ext cx="718668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nkerkam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sslagader of Aort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ovenste- en onderste holle ad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Rechter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functie van de grote bloedsomloop 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fgeven van zuurstof en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pnemen van afval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Afbeelding 4" descr="zuurstof.jpg"/>
          <p:cNvPicPr/>
          <p:nvPr/>
        </p:nvPicPr>
        <p:blipFill>
          <a:blip r:embed="rId1"/>
          <a:stretch/>
        </p:blipFill>
        <p:spPr>
          <a:xfrm>
            <a:off x="5815080" y="17971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347" name="Afbeelding 5" descr="voedsel.jpg"/>
          <p:cNvPicPr/>
          <p:nvPr/>
        </p:nvPicPr>
        <p:blipFill>
          <a:blip r:embed="rId2"/>
          <a:stretch/>
        </p:blipFill>
        <p:spPr>
          <a:xfrm>
            <a:off x="6948360" y="4869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348" name="Afbeelding 6" descr="afval.jpg"/>
          <p:cNvPicPr/>
          <p:nvPr/>
        </p:nvPicPr>
        <p:blipFill>
          <a:blip r:embed="rId3"/>
          <a:stretch/>
        </p:blipFill>
        <p:spPr>
          <a:xfrm>
            <a:off x="7956720" y="5516640"/>
            <a:ext cx="971280" cy="1128600"/>
          </a:xfrm>
          <a:prstGeom prst="rect">
            <a:avLst/>
          </a:prstGeom>
          <a:ln w="0">
            <a:noFill/>
          </a:ln>
        </p:spPr>
      </p:pic>
      <p:pic>
        <p:nvPicPr>
          <p:cNvPr id="349" name="Afbeelding 7" descr="grote bloedsomloop1.jpg"/>
          <p:cNvPicPr/>
          <p:nvPr/>
        </p:nvPicPr>
        <p:blipFill>
          <a:blip r:embed="rId4"/>
          <a:stretch/>
        </p:blipFill>
        <p:spPr>
          <a:xfrm>
            <a:off x="7451640" y="1844640"/>
            <a:ext cx="8859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Nog meer 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599840"/>
            <a:ext cx="682632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gesproken kun je zeggen dat elke slagader voedselrijk is en veel zuurstof bevat. Elke ader bevat weinig zuurstof en weinig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echter uitzonderingen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 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gee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Poort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voedingsstoff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logisch nadenkt snap je wel waarom dit zo is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Afbeelding 3" descr="t shirt met uitzondering opschrift.jpg"/>
          <p:cNvPicPr/>
          <p:nvPr/>
        </p:nvPicPr>
        <p:blipFill>
          <a:blip r:embed="rId1"/>
          <a:stretch/>
        </p:blipFill>
        <p:spPr>
          <a:xfrm>
            <a:off x="7291440" y="2708280"/>
            <a:ext cx="18000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Een hartinfarc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heeft voortdurend voeding en zuurstof nodig om te kunnen pomp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ransslagaders zorgen hiervo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zo’n kransslagader verstopt raakt dan spreek je van een hartinfarc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en gedeelte van het hart sterft dan a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Afbeelding 3" descr="hartinfarct.jpg"/>
          <p:cNvPicPr/>
          <p:nvPr/>
        </p:nvPicPr>
        <p:blipFill>
          <a:blip r:embed="rId1"/>
          <a:stretch/>
        </p:blipFill>
        <p:spPr>
          <a:xfrm>
            <a:off x="6372360" y="5013360"/>
            <a:ext cx="216036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1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040" y="1599840"/>
            <a:ext cx="6537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het bloed kunnen kleine bloedpropjes voork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oor zo’n bloedpropje een bloedvat verstopt r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noemen wij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het bloedpropje in een kransslagader komt kan het een hartinfarct veroorz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Gebeurt dit in de hersenen dan heet dat een beroer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Afbeelding 3" descr="beroerte herkennen.jpg"/>
          <p:cNvPicPr/>
          <p:nvPr/>
        </p:nvPicPr>
        <p:blipFill>
          <a:blip r:embed="rId1"/>
          <a:stretch/>
        </p:blipFill>
        <p:spPr>
          <a:xfrm>
            <a:off x="7059600" y="2349360"/>
            <a:ext cx="18288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2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binnenkant van een bloedvat is normaal gl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a verloop van jaren kan het bloedvat langzaam gaan dichtsl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komt onder andere doordat de stof cholesterol tegen de wand van een bloedvat  aan gaat plak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Cholesterol is een vettige stof die veel in dierlijke voedingsmiddelen zi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dichtslibben kan ook ontstaan door een combinatie van cholesterol en kalk. Dan noem je het aderverkalk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eefselvloeistof en lymf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haarvaten zit weefselvloeistof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zorgt voor aan en afvoer van voedingsstoffen en afvalstoffe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met afvalstoffen wordt opgenomen in fijne lymfevaten. Hierna heet het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ervoeren de lymfe af van de cellen in de organe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ormen samen een stelse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grote lymfevaten zijn rechterlymfestam en de borstbu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ymfeknopen zorgen voor zuivering van de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itte bloedcellen maken antistoffen aan in de lymfeknop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Rod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ervoeren zuursto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1" name="Picture 4" descr="bloedplasma"/>
          <p:cNvPicPr/>
          <p:nvPr/>
        </p:nvPicPr>
        <p:blipFill>
          <a:blip r:embed="rId1"/>
          <a:stretch/>
        </p:blipFill>
        <p:spPr>
          <a:xfrm>
            <a:off x="6799320" y="207000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rode bloedcel"/>
          <p:cNvPicPr/>
          <p:nvPr/>
        </p:nvPicPr>
        <p:blipFill>
          <a:blip r:embed="rId2"/>
          <a:stretch/>
        </p:blipFill>
        <p:spPr>
          <a:xfrm>
            <a:off x="4376880" y="22305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witte bloedcel"/>
          <p:cNvPicPr/>
          <p:nvPr/>
        </p:nvPicPr>
        <p:blipFill>
          <a:blip r:embed="rId3"/>
          <a:stretch/>
        </p:blipFill>
        <p:spPr>
          <a:xfrm>
            <a:off x="4826160" y="4253040"/>
            <a:ext cx="931680" cy="912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itt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tte bloedcellen maken bacteriën onschadelijke en andere ziekteverwek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tter bestaat uit dode witte bloedcellen en dode bacterië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8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plaatje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atjes spelen een rol bij de bloedstolling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t behulp van deze plaatjes wordt de wond gedicht, dit noemen we dan een bloedstols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s er een bloedprop ontstaat en het bloedvat wordt afgesloten noemen we dit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5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somloop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door buizen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pompt het bloed ro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igenlijk 2 pompen tegelijk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ene helft pompt het bloed in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ndere helft pompt het bloed in de rest van het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Afbeelding 5" descr="buizen.jpg"/>
          <p:cNvPicPr/>
          <p:nvPr/>
        </p:nvPicPr>
        <p:blipFill>
          <a:blip r:embed="rId1"/>
          <a:stretch/>
        </p:blipFill>
        <p:spPr>
          <a:xfrm>
            <a:off x="6470640" y="95400"/>
            <a:ext cx="1819440" cy="1223640"/>
          </a:xfrm>
          <a:prstGeom prst="rect">
            <a:avLst/>
          </a:prstGeom>
          <a:ln w="0">
            <a:noFill/>
          </a:ln>
        </p:spPr>
      </p:pic>
      <p:pic>
        <p:nvPicPr>
          <p:cNvPr id="283" name="Afbeelding 7" descr="pomp2.jpg"/>
          <p:cNvPicPr/>
          <p:nvPr/>
        </p:nvPicPr>
        <p:blipFill>
          <a:blip r:embed="rId2"/>
          <a:stretch/>
        </p:blipFill>
        <p:spPr>
          <a:xfrm>
            <a:off x="468360" y="2286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55280" y="1628640"/>
            <a:ext cx="6537240" cy="45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leine bloedsomloop gaat van het hart naar de longen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is vooral belangrijk voor het vervoeren van 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twee belangrijkste stoffen zijn: voedingsstoffen (glucose) en zuursto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voedsel komt in het bloed via de dar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ia de longen krijgen we zuurstof i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longen gooien wij het koolstofdioxide als afvalstof we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6" name="Afbeelding 6" descr="voedsel.jpg"/>
          <p:cNvPicPr/>
          <p:nvPr/>
        </p:nvPicPr>
        <p:blipFill>
          <a:blip r:embed="rId1"/>
          <a:stretch/>
        </p:blipFill>
        <p:spPr>
          <a:xfrm>
            <a:off x="7308720" y="3645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287" name="Afbeelding 7" descr="zuurstof.jpg"/>
          <p:cNvPicPr/>
          <p:nvPr/>
        </p:nvPicPr>
        <p:blipFill>
          <a:blip r:embed="rId2"/>
          <a:stretch/>
        </p:blipFill>
        <p:spPr>
          <a:xfrm>
            <a:off x="7380360" y="450864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288" name="Afbeelding 8" descr="koolstofdioxide.jpg"/>
          <p:cNvPicPr/>
          <p:nvPr/>
        </p:nvPicPr>
        <p:blipFill>
          <a:blip r:embed="rId3"/>
          <a:stretch/>
        </p:blipFill>
        <p:spPr>
          <a:xfrm>
            <a:off x="7236000" y="5732640"/>
            <a:ext cx="1404720" cy="958680"/>
          </a:xfrm>
          <a:prstGeom prst="rect">
            <a:avLst/>
          </a:prstGeom>
          <a:ln w="0">
            <a:noFill/>
          </a:ln>
        </p:spPr>
      </p:pic>
      <p:pic>
        <p:nvPicPr>
          <p:cNvPr id="289" name="Afbeelding 7" descr="kleine bloedsomloop1.jpg"/>
          <p:cNvPicPr/>
          <p:nvPr/>
        </p:nvPicPr>
        <p:blipFill>
          <a:blip r:embed="rId4"/>
          <a:stretch/>
        </p:blipFill>
        <p:spPr>
          <a:xfrm>
            <a:off x="7451640" y="1628640"/>
            <a:ext cx="91440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599840"/>
            <a:ext cx="5673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grote bloedsomloop gaat van het hart naar de rest van je lichaam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geeft onderweg voedingsstoffen en zuurstof aan de cel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cellen geven hun afvalstoffen (vooral koolstofdioxide) af aa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animatie staat de route die een rode bloedcel afleg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2" name="Afbeelding 5" descr="grote bloedsomloop.jpg"/>
          <p:cNvPicPr/>
          <p:nvPr/>
        </p:nvPicPr>
        <p:blipFill>
          <a:blip r:embed="rId1"/>
          <a:stretch/>
        </p:blipFill>
        <p:spPr>
          <a:xfrm>
            <a:off x="6443640" y="2060640"/>
            <a:ext cx="25210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82800" y="4377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hart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en holle spier en bestaat uit twee gedeelten: een linkerhelft en een rechterhelf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goed beschermd en ligt achter onze r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linkergedeelte pompt het bloed door het lichaam en is sterk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rechtergedeelte pompt het bloed naar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5" name="Afbeelding 5" descr="Hart.jpg"/>
          <p:cNvPicPr/>
          <p:nvPr/>
        </p:nvPicPr>
        <p:blipFill>
          <a:blip r:embed="rId1"/>
          <a:stretch/>
        </p:blipFill>
        <p:spPr>
          <a:xfrm>
            <a:off x="7380360" y="1700280"/>
            <a:ext cx="1584360" cy="1411200"/>
          </a:xfrm>
          <a:prstGeom prst="rect">
            <a:avLst/>
          </a:prstGeom>
          <a:ln w="0">
            <a:noFill/>
          </a:ln>
        </p:spPr>
      </p:pic>
      <p:pic>
        <p:nvPicPr>
          <p:cNvPr id="296" name="Afbeelding 4" descr="hart en ribben.png"/>
          <p:cNvPicPr/>
          <p:nvPr/>
        </p:nvPicPr>
        <p:blipFill>
          <a:blip r:embed="rId2"/>
          <a:stretch/>
        </p:blipFill>
        <p:spPr>
          <a:xfrm>
            <a:off x="7380360" y="314172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9:14:36Z</dcterms:created>
  <dc:creator>DGS</dc:creator>
  <dc:description/>
  <dc:language>en-US</dc:language>
  <cp:lastModifiedBy>Joyce Vonk</cp:lastModifiedBy>
  <dcterms:modified xsi:type="dcterms:W3CDTF">2021-02-08T08:36:57Z</dcterms:modified>
  <cp:revision>35</cp:revision>
  <dc:subject/>
  <dc:title>Biologie voor Jou. VMBO-BK. Deel 2.</dc:title>
</cp:coreProperties>
</file>