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69AE-185C-44F6-B556-FA853E2E1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0323-5CFF-4727-9A3D-2B8E4B36A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CE0B-6981-42C4-AFAF-3459B5705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7BBD-BDA0-4F06-86F4-621DFC649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34231-B4AE-4585-AE99-D4A48F414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5D312-6AB8-4ED6-8FF6-A416CFAC3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47850-2485-4CD9-BF76-E182BC560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A680B-FE0D-4251-A5A5-6BF1A85E5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E3DB5-3489-451A-93F7-EE2DCEA9F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0CB42-A1B8-4808-82E4-D0129DD91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E3C0B-50FE-4289-B353-7827DB6E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2E1D-CBF2-4A61-90C7-76E768866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F8D20-6734-434F-862E-E36CA156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65796-D1ED-4570-BC3D-9CE136FC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9C574-A445-4727-8408-0E48E19EA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43AFD-D866-431F-966D-7DD2F04AD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8742C-F769-4A04-8B59-1DACA7B08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143F-822F-450A-B010-E2FC4E970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3F38-AADB-45F5-A8E1-85F97F26C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0AA9-F6DD-4D8D-B01F-25CC332C9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155E-DA73-4B67-AD86-C21A17C6C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B935-A218-4F52-AFDB-E57570C8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8257-A2A6-4063-8637-9BBE47AD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3DD5-4407-41B9-AC12-B3FFF453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03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3"/>
            <p:cNvSpPr/>
            <p:nvPr/>
          </p:nvSpPr>
          <p:spPr>
            <a:xfrm>
              <a:off x="914400" y="1828800"/>
              <a:ext cx="8001000" cy="4343400"/>
            </a:xfrm>
            <a:prstGeom prst="rect">
              <a:avLst/>
            </a:prstGeom>
            <a:solidFill>
              <a:srgbClr val="00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54A5F-BC18-4F02-940F-86D9153D690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80324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828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962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E542B-737A-4D9E-9484-B71DBCCD4A17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28440" y="1523880"/>
            <a:ext cx="71629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Lymfevatenstelsel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Dit stelsel speelt een rol in het afweer-systeem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Milt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Lien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Functie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Filteren van bloed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Opvangen ziekteverwekker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Vervangen verouderde en dode bloedcelle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bloedreservoir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4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4500720" y="1844640"/>
            <a:ext cx="4319280" cy="2592360"/>
          </a:xfrm>
          <a:prstGeom prst="rect">
            <a:avLst/>
          </a:prstGeom>
          <a:ln w="0">
            <a:noFill/>
          </a:ln>
        </p:spPr>
      </p:pic>
      <p:pic>
        <p:nvPicPr>
          <p:cNvPr id="115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Lymfevate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873000" y="1413000"/>
            <a:ext cx="3810240" cy="47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Lymfatisch systeem net als bloedvaten in alle organ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Lymfevaten starten’blind’. Weefselvocht gaat vanuit de cellen daarnaartoe en wordt lymf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et wordt langs de lymfeknopen gevoer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0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148360" y="1498680"/>
            <a:ext cx="3456000" cy="53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Lymfevaten(2)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Via de 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borstbuis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en de 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rechter lymfestam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komt het lymfe weer in de bloedbaan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In de lymfevaten zitten kleppen en stroming wordt opgewekt door: adem-, hart-, spier- en atriële pomp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3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4788000" y="1843200"/>
            <a:ext cx="434664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Lymfe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Lymfe heeft bijna dezelfde samenstelling als weefselvocht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Water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Div. witte bloedcell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Tijdelijke stoff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ntistoff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angetaste en dode lichaamscell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6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048280" y="1947960"/>
            <a:ext cx="377172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Lymfeknoop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Zo groot als een pinktopj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Is een filter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Ruimen dode cellen, bacteriën op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Worden actief bij mogelijke ziekteverwekker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Zwellen dan op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9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4827600" y="2276640"/>
            <a:ext cx="42307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Lymfoïde organe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Lymfeknope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Ring van Waldeyer-Hartz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Plaques van Peyer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Zwezerik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Milt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2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796000" y="1924200"/>
            <a:ext cx="2165400" cy="46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Ring van Waldeyer-Hartz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Lymfatisch weefsel dat ligt rond de keel- en neusholte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Keelamandel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eusamandel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Tongamandel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5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219640" y="1793880"/>
            <a:ext cx="369432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Plaques van Peyer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Gebiedjes van lymfatisch weefsel die in de Dunne Darm liggen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Zorgen ervoor dat vanuit de darmholte (milieu exterieur) geen schadelijke bacteriën de bloedbaan binnendringen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8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003640" y="2565360"/>
            <a:ext cx="40071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Zwezerik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Thymus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Een lymfatisch orgaan dat tot de puberteit een rol speelt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Verschrompeld tot een klein vetkwabje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Ligt op het hart, achter het borstbeen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Bevat thymocyten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1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978520" y="1905120"/>
            <a:ext cx="1911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08:50:37Z</dcterms:created>
  <dc:creator>Onderwijs</dc:creator>
  <dc:description/>
  <dc:language>en-US</dc:language>
  <cp:lastModifiedBy>Joyce Vonk</cp:lastModifiedBy>
  <dcterms:modified xsi:type="dcterms:W3CDTF">2021-02-28T20:29:42Z</dcterms:modified>
  <cp:revision>25</cp:revision>
  <dc:subject/>
  <dc:title>Di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531043</vt:lpwstr>
  </property>
</Properties>
</file>