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3D1-C1CB-47E8-976E-5410A074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343-DA15-4DB1-8018-6BB3BE84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F8D-E66B-4919-BE60-3E1BEAB8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38C-267D-4C33-926C-8024DFB3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6AD2-6EA3-4467-8E31-D06197CF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BB1F-0037-46BA-9CED-5D76C464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1450-89B2-4EE7-BFE9-ACB27FC1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6E02-BBA8-4E8F-8199-F614C9B6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8190-110E-40E4-BE1B-D7CD956F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00B0-5DC4-487A-984B-F7EA2807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A0A9-681D-40BF-AD6E-7B29FD68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89D-B3A9-4ADF-BE3C-EC428900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134D-E5C2-47AF-AE80-23F4A1C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BF28-BC5E-4029-8B12-486427B5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4C89-EC21-4A75-8EB5-39234DCE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964A-6122-4DE1-A95C-911F29A2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12E6-3444-4ED3-8C63-547B2B77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FC5-99C4-4B44-890D-5B812A1F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E70-123D-41E0-913D-4831F587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E13-7110-43F1-97F3-67688912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097-A352-4D3F-AACA-677B4F17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624-6FB5-42B5-8337-28E210D3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0BE-1C86-496F-ABA3-B48F7894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277-4EDE-4288-97F9-F29F015B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F231-FAF1-4FA4-8879-71046A252C2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6451-96A0-40DD-B62E-763394E3FF4B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t stelsel speelt een rol in het afweer-syste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il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e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uncti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ilteren van blo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pvangen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vangen verouderde en dode bloed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reservoi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3000" y="141300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atisch systeem net als bloedvaten in alle orga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evaten starten’blind’. Weefselvocht gaat vanuit de cellen daarnaartoe en wordt lym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t wordt langs de lymfeknopen gevoe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498680"/>
            <a:ext cx="3456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(2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a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orstbu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chter lymfestam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komt het lymfe weer in de bloedb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de lymfevaten zitten kleppen en stroming wordt opgewekt door: adem-, hart-, spier- en atriële po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843200"/>
            <a:ext cx="43466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 heeft bijna dezelfde samenstelling als weefselvo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v. witte bloed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jdelijke 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getaste en dode lichaams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48280" y="1947960"/>
            <a:ext cx="3771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knoop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 groot als een pinktop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s een fil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uimen dode cellen, bacterië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en actief bij mogelijke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llen da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27600" y="2276640"/>
            <a:ext cx="423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oïde orga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knop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ing van Waldeyer-Hartz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aques van Pe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zeri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il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96000" y="1924200"/>
            <a:ext cx="21654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ing van Waldeyer-Hartz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atisch weefsel dat ligt rond de keel- en neusholt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el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eus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ngamandel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19640" y="1793880"/>
            <a:ext cx="36943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ques van Pey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ebiedjes van lymfatisch weefsel die in de Dunne Darm lig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en ervoor dat vanuit de darmholte (milieu exterieur) geen schadelijke bacteriën de bloedbaan binnend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400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Zwezerik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ymu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en lymfatisch orgaan dat tot de puberteit een rol speel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chrompeld tot een klein vetkwabj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gt op het hart, achter het borstbe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vat thymocy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978520" y="1905120"/>
            <a:ext cx="191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Joyce Vonk</cp:lastModifiedBy>
  <dcterms:modified xsi:type="dcterms:W3CDTF">2021-02-28T20:29:42Z</dcterms:modified>
  <cp:revision>25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