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04CE-F389-4654-9E92-3C79588A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D101-F1D4-4538-8D9C-8DFACF90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44F-F27F-4C6D-A5EC-694E5967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1BBB-809E-4A2F-B426-C61AFABA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C890-6246-48E9-B1F8-D4315CFE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6B09-B324-4A11-B73A-C5DAB9EF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637D-A091-4818-B05A-80751BD1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BF9F-AE2B-4C6A-95F9-273CD3A7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6CBE-088E-463C-93BD-15294C3F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8D38-BA41-4511-B989-3BFF528A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50F6-8438-4E2F-B55B-6FBC228F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1E9D-D57F-42B1-899A-BC42E28E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309C-640E-4EBA-98BA-3DD42EF4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6B45-F450-4891-AAA6-6E308DB4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42C3-45CA-422A-9ACD-95A0B5FD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C8E8-95A8-4F7D-9E8B-155B7564F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8A00-35A2-44D5-BE3B-AEA7990B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5AAB-21E8-40E8-AE9A-6E3A8F5B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3A2D-E7F9-45F4-AA8B-87999B9B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83FE-CFAB-4E3B-8474-3E0E1AAB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2C53-A52A-4265-9A52-C9DB18CD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E96E-7A6F-477A-9267-4A90C954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177D-3896-4B5F-BC0B-B8E4E169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323F-7196-44D3-8E47-925D8778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3BF8-3D00-4357-9902-8EC5B4A0755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16BB-0605-4052-B0F2-49C5D44432F0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vatenstelse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it stelsel speelt een rol in het afweer-systeem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Milt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ien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unctie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ilteren van bloe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Opvangen ziekteverwekke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ervangen verouderde en dode bloedcell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loedreservoi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319280" cy="2592360"/>
          </a:xfrm>
          <a:prstGeom prst="rect">
            <a:avLst/>
          </a:prstGeom>
          <a:ln w="0">
            <a:noFill/>
          </a:ln>
        </p:spPr>
      </p:pic>
      <p:pic>
        <p:nvPicPr>
          <p:cNvPr id="115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vat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73000" y="1413000"/>
            <a:ext cx="3810240" cy="47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ymfatisch systeem net als bloedvaten in alle organ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ymfevaten starten’blind’. Weefselvocht gaat vanuit de cellen daarnaartoe en wordt lymf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et wordt langs de lymfeknopen gevoer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0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148360" y="1498680"/>
            <a:ext cx="345600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vaten(2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ia de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borstbu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en de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chter lymfestam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komt het lymfe weer in de bloedbaa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 de lymfevaten zitten kleppen en stroming wordt opgewekt door: adem-, hart-, spier- en atriële pomp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3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788000" y="1843200"/>
            <a:ext cx="434664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ymfe heeft bijna dezelfde samenstelling als weefselvoch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v. witte bloedcell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ijdelijke stoff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ntistoff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angetaste en dode lichaamscell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48280" y="1947960"/>
            <a:ext cx="3771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knoop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o groot als een pinktopj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s een filt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uimen dode cellen, bacteriën 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orden actief bij mogelijke ziekteverwekke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wellen dan 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9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827600" y="2276640"/>
            <a:ext cx="4230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oïde organ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ymfeknop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ing van Waldeyer-Hartz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laques van Pey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wezerik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ilt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2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796000" y="1924200"/>
            <a:ext cx="216540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ing van Waldeyer-Hartz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ymfatisch weefsel dat ligt rond de keel- en neusholte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Keelamand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eusamand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ongamandel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219640" y="1793880"/>
            <a:ext cx="369432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laques van Pey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Gebiedjes van lymfatisch weefsel die in de Dunne Darm ligg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orgen ervoor dat vanuit de darmholte (milieu exterieur) geen schadelijke bacteriën de bloedbaan binnendring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8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03640" y="2565360"/>
            <a:ext cx="4007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Zwezerik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hymu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Een lymfatisch orgaan dat tot de puberteit een rol speel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erschrompeld tot een klein vetkwabje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igt op het hart, achter het borstbe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evat thymocyt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1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978520" y="1905120"/>
            <a:ext cx="1911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8:50:37Z</dcterms:created>
  <dc:creator>Onderwijs</dc:creator>
  <dc:description/>
  <dc:language>en-US</dc:language>
  <cp:lastModifiedBy>Joyce Vonk</cp:lastModifiedBy>
  <dcterms:modified xsi:type="dcterms:W3CDTF">2021-02-28T20:29:42Z</dcterms:modified>
  <cp:revision>25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31043</vt:lpwstr>
  </property>
</Properties>
</file>