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1446-B29F-4A87-BFD8-504B8AF1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6F9B-BF4F-45FB-8289-6773581A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F87-3C3A-4C47-8B10-FB34E83C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34F-C793-46CF-9E71-9C5506B7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A8EC-E6DC-496F-977E-46263514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A3CE-5E25-4232-9789-B90C5CD7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CA74-3E0A-40DB-91EE-650CE5E3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A567-9A98-4ADB-9154-044BA704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E35F-4DE2-4273-9E3B-4A199447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6A48-0273-4574-B137-F78541A6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D1C7-333D-4D6A-BBE9-E78E9F41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0874-CF3C-47BC-A511-92CC6C5F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AF11-98F7-433F-B48F-AFE92F5C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E340-E919-40A9-8911-74190B68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4E5E-BC32-47D8-9248-93F2BB8B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7CFC-373B-480C-B6A4-351337DB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2B47-D0DA-4BAF-8281-8822883D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2A684-C16B-40C6-A7D0-CEDA515D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2042D-B79B-402D-B0F5-F5A077B4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52CBB-8E79-430C-8C37-0082D771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3989B-1028-459F-9D50-AEBC41D8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3A3AB-A468-4B19-9312-8F12A315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0F3-4F89-4267-8B60-8AB9EF09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2DAF6-E815-46B3-9F9F-8EED0B03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C6C76-4861-46E2-8B53-D69F9C88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E6FFB-FFC4-42B0-B893-0FCEAFC7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62F6A-6BA3-4D51-B8DF-68D295D9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2BAB2-9AD0-4FBD-BE29-FF822A40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2EE01-3F03-487E-A01F-9C37A26E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2F92B-819D-4424-9A6B-BB4FE050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F2797-C0B4-4F43-B35F-038B7B6B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E05FA-4991-4572-8C5A-6FD03A7F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E7521-AF54-4475-AD11-BB4CB59D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D57-3565-4D84-B265-1BA8B51B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EB9FA-6B75-4B63-BD23-2CD62A3F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509C5-5FC1-43BA-A2C6-1FB5CFF8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BEDB1-B4FE-4EC2-BC45-3A71669E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05C97-122E-4CD4-8CAC-85FF99ED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62DAE-2EF2-42CB-8BD5-75A37A37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02334-6A29-4A81-B817-2CC872FB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D9C70-5732-4775-8C2E-0E3F9715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8FE32-56DF-4A67-B015-236216AB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AAC8D-3C28-43C9-9A76-221E4780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87DEE-8341-4CE3-B072-7509E427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EE9-1A1C-4C57-9824-15380D67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D399E-0704-4B9A-AC86-F7FF5019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BBDB5-8471-4695-95BD-422D9AE4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4DD87-6657-4A6E-B1A6-B36B781C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67888-5813-47F5-9CBC-3342F982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FFC6C-FC98-4840-B445-AFDCC942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F7468-2799-4D4E-9B02-927D59C5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0502C-EC42-4E70-8925-4D508038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94B52-A42D-4025-BF96-20AA6DA4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D36BB-BB6A-4EAD-B081-D1ABEA81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5F1D1-2B7B-4572-BDB9-CFDD1D7D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C151-8DB7-4E27-A97D-4AF0FDFC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E9411-E5E6-49A0-93AF-BA7BA5DE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348-0375-4AA5-8156-190182C6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407-1ED0-4B8D-BD43-32F3DCE5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D932-BE76-41FC-9148-FA7E2921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BEB5-B71F-4676-961C-507474AB4D9A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1DBD-5082-4FD1-A633-70C814BB6D39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C028-E3D7-4F42-99AB-A82D75F4EAB5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E830-BD6A-4BE1-9CE5-A8980414E3C7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4E54-6FCC-4FE8-945F-F32FA1C07F00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loed en bloedsomloo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040" y="1599840"/>
            <a:ext cx="6033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bloed bestaat voor het grootste gedeelte uit wat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dat water kun je allerlei stoffen oplossen en vervoer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ij hebben ongeveer 6 liter bloed in ons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je al onze bloedvaten achter elkaar legt, kom je uit op ongeveer 1500 k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8" name="Picture 4" descr="water"/>
          <p:cNvPicPr/>
          <p:nvPr/>
        </p:nvPicPr>
        <p:blipFill>
          <a:blip r:embed="rId1"/>
          <a:stretch/>
        </p:blipFill>
        <p:spPr>
          <a:xfrm>
            <a:off x="7308720" y="1557360"/>
            <a:ext cx="924120" cy="934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thee"/>
          <p:cNvPicPr/>
          <p:nvPr/>
        </p:nvPicPr>
        <p:blipFill>
          <a:blip r:embed="rId2"/>
          <a:stretch/>
        </p:blipFill>
        <p:spPr>
          <a:xfrm>
            <a:off x="6659640" y="24922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wegenkaart"/>
          <p:cNvPicPr/>
          <p:nvPr/>
        </p:nvPicPr>
        <p:blipFill>
          <a:blip r:embed="rId3"/>
          <a:stretch/>
        </p:blipFill>
        <p:spPr>
          <a:xfrm>
            <a:off x="6877080" y="4292640"/>
            <a:ext cx="1727280" cy="1512720"/>
          </a:xfrm>
          <a:prstGeom prst="rect">
            <a:avLst/>
          </a:prstGeom>
          <a:ln w="0">
            <a:noFill/>
          </a:ln>
        </p:spPr>
      </p:pic>
      <p:pic>
        <p:nvPicPr>
          <p:cNvPr id="251" name="Afbeelding 6" descr="1 liter.jpg"/>
          <p:cNvPicPr/>
          <p:nvPr/>
        </p:nvPicPr>
        <p:blipFill>
          <a:blip r:embed="rId4"/>
          <a:stretch/>
        </p:blipFill>
        <p:spPr>
          <a:xfrm>
            <a:off x="7667640" y="31417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loed voor het har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moet blijven werken en heeft daarvoor veel energie nodi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heeft zijn eigen bloedvaten voor aanvoer en afvo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aanvoerende bloedvaten heten kransslagad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afvoerende bloedvaten heten kransad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9" name="Afbeelding 5" descr="kransslagader kransader.png"/>
          <p:cNvPicPr/>
          <p:nvPr/>
        </p:nvPicPr>
        <p:blipFill>
          <a:blip r:embed="rId1"/>
          <a:stretch/>
        </p:blipFill>
        <p:spPr>
          <a:xfrm>
            <a:off x="7020000" y="1916280"/>
            <a:ext cx="196668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bouw van het har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599840"/>
            <a:ext cx="6105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bestaat eigenlijk uit 4 del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2 delen voor het opvangen van het bloed = boeze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2 delen voor het rondpompen van het bloed = kam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Tussen boezem en kamer zitten kleppen, dit zorgt ervoor dat het bloed maar in 1 richting kan strom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ok vlak na de kamer heb je kleppen. Ook dit is weer om ervoor te zorgen dat het bloed de goede richting op gaa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2" name="Afbeelding 5" descr="hartkleppen aorta.png"/>
          <p:cNvPicPr/>
          <p:nvPr/>
        </p:nvPicPr>
        <p:blipFill>
          <a:blip r:embed="rId1"/>
          <a:stretch/>
        </p:blipFill>
        <p:spPr>
          <a:xfrm>
            <a:off x="6948360" y="4152960"/>
            <a:ext cx="2016360" cy="2705040"/>
          </a:xfrm>
          <a:prstGeom prst="rect">
            <a:avLst/>
          </a:prstGeom>
          <a:ln w="0">
            <a:noFill/>
          </a:ln>
        </p:spPr>
      </p:pic>
      <p:pic>
        <p:nvPicPr>
          <p:cNvPr id="303" name="Afbeelding 6" descr="hartkleppen boezem kamer.png"/>
          <p:cNvPicPr/>
          <p:nvPr/>
        </p:nvPicPr>
        <p:blipFill>
          <a:blip r:embed="rId2"/>
          <a:stretch/>
        </p:blipFill>
        <p:spPr>
          <a:xfrm>
            <a:off x="6948360" y="1700280"/>
            <a:ext cx="197028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oe werkt het nou allemaal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82800" y="184428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bloed komt va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derste- en bovenste holle 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trekt samen en pompt het bloed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kam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kam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pompt het bloed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slag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naf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slagade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aat het bloed door de longen en daarna via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meteen terug naar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pompt het bloed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kam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kame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ompt het bloed daarna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orta of lichaamsslag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naf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orta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gaat het bloed door het hele lichaam en komt uiteindelijk weer terecht bij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derste- en bovenste holle 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oe werkt het nou allemaal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82800" y="184428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3 fasen van hartwerking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oezems lopen vol met bloed uit de holle ade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hartslag begint als het samentrekken van de boezems plaatsvindt (fase 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mers zijn volgestroomd en trekken samen (fase 2) Het bloed gaat naar de aorta en de longslagade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mers ontspannen zich, de boezems waren al ontspannen (fase 3). We spreken van een hartpauz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arttonen zijn de slagen die je hoort als de hartkleppen dichtslaan en als de halvemaanvormige kleppen dichtslaa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De bloedvaten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r zijn drie typen bloedvat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lagade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aarvat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ders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druk = de druk waarmee het bloed tegen de wand van de bloedvaten druk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Afbeelding 6" descr="haarvaten.jpg"/>
          <p:cNvPicPr/>
          <p:nvPr/>
        </p:nvPicPr>
        <p:blipFill>
          <a:blip r:embed="rId1"/>
          <a:stretch/>
        </p:blipFill>
        <p:spPr>
          <a:xfrm>
            <a:off x="7380360" y="447840"/>
            <a:ext cx="1085760" cy="1392120"/>
          </a:xfrm>
          <a:prstGeom prst="rect">
            <a:avLst/>
          </a:prstGeom>
          <a:ln w="0">
            <a:noFill/>
          </a:ln>
        </p:spPr>
      </p:pic>
      <p:pic>
        <p:nvPicPr>
          <p:cNvPr id="311" name="Afbeelding 7" descr="slagader.jpg"/>
          <p:cNvPicPr/>
          <p:nvPr/>
        </p:nvPicPr>
        <p:blipFill>
          <a:blip r:embed="rId2"/>
          <a:stretch/>
        </p:blipFill>
        <p:spPr>
          <a:xfrm>
            <a:off x="7023240" y="1906560"/>
            <a:ext cx="1800000" cy="1368360"/>
          </a:xfrm>
          <a:prstGeom prst="rect">
            <a:avLst/>
          </a:prstGeom>
          <a:ln w="0">
            <a:noFill/>
          </a:ln>
        </p:spPr>
      </p:pic>
      <p:pic>
        <p:nvPicPr>
          <p:cNvPr id="312" name="Afbeelding 8" descr="bloeddruk.jpg"/>
          <p:cNvPicPr/>
          <p:nvPr/>
        </p:nvPicPr>
        <p:blipFill>
          <a:blip r:embed="rId3"/>
          <a:stretch/>
        </p:blipFill>
        <p:spPr>
          <a:xfrm>
            <a:off x="6165720" y="3243240"/>
            <a:ext cx="265752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Slagaders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 stroomt weg van het har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kke, elastische (verende) wan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Je kunt jouw hartslag erin voel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itten meestal diep in je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ormaal zitten er geen kleppen i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orgen voor aanvoer van bloed in de organ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evat meestal zuurstof en voedse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Afbeelding 5" descr="slagader.jpg"/>
          <p:cNvPicPr/>
          <p:nvPr/>
        </p:nvPicPr>
        <p:blipFill>
          <a:blip r:embed="rId1"/>
          <a:stretch/>
        </p:blipFill>
        <p:spPr>
          <a:xfrm>
            <a:off x="6827760" y="177840"/>
            <a:ext cx="226692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Aders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914400" y="2128320"/>
            <a:ext cx="6610320" cy="46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et bloed stroomt naar het hart to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Grote bloedvaten maar met een dunnere wan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Je kunt hierin geen hartslag voele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Zitten vaak aan het oppervlak van jouw lichaam. Je kunt ze dus zie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Er zitten kleppen in die ervoor zorgen dat het bloed in 1 richting stroomt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Zorgen ervoor dat het bloed van de organen weer naar het hart terugstroomt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Bevatten meestal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Corbel"/>
              </a:rPr>
              <a:t>geen</a:t>
            </a: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 zuurstof en voedsel, maar wel afvalstoffen zoals koolstofdioxid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8" name="Afbeelding 5" descr="aders hand.jpg"/>
          <p:cNvPicPr/>
          <p:nvPr/>
        </p:nvPicPr>
        <p:blipFill>
          <a:blip r:embed="rId1"/>
          <a:stretch/>
        </p:blipFill>
        <p:spPr>
          <a:xfrm>
            <a:off x="6659640" y="884160"/>
            <a:ext cx="2232000" cy="11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aarvaten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040" y="1599840"/>
            <a:ext cx="6681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eer dunne en kleine bloedvat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enen voor het geven van voedsel en zuurstof aan de omgev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emen afvalstoffen van de omgeving op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Afbeelding 5" descr="haarvaten.jpg"/>
          <p:cNvPicPr/>
          <p:nvPr/>
        </p:nvPicPr>
        <p:blipFill>
          <a:blip r:embed="rId1"/>
          <a:stretch/>
        </p:blipFill>
        <p:spPr>
          <a:xfrm>
            <a:off x="7667640" y="1773360"/>
            <a:ext cx="108576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Slagaders, haarvaten en ader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Tijdelijke aanduiding voor inhoud 3" descr="bloedvaten.jpg"/>
          <p:cNvPicPr/>
          <p:nvPr/>
        </p:nvPicPr>
        <p:blipFill>
          <a:blip r:embed="rId1"/>
          <a:stretch/>
        </p:blipFill>
        <p:spPr>
          <a:xfrm>
            <a:off x="1042920" y="2852640"/>
            <a:ext cx="2952720" cy="1943280"/>
          </a:xfrm>
          <a:prstGeom prst="rect">
            <a:avLst/>
          </a:prstGeom>
          <a:ln w="0">
            <a:noFill/>
          </a:ln>
        </p:spPr>
      </p:pic>
      <p:pic>
        <p:nvPicPr>
          <p:cNvPr id="324" name="Afbeelding 24" descr="slagader naar ader.jpg"/>
          <p:cNvPicPr/>
          <p:nvPr/>
        </p:nvPicPr>
        <p:blipFill>
          <a:blip r:embed="rId2"/>
          <a:stretch/>
        </p:blipFill>
        <p:spPr>
          <a:xfrm>
            <a:off x="4788000" y="1916280"/>
            <a:ext cx="349092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Het bloedvatenstelsel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040" y="1599840"/>
            <a:ext cx="6033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vatenstelsel kun je vergelijken met het wegenne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Je hebt de snelwegen (=slagaders), zijweggetjes (haarvaten) en B-wegen (aders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Alles is bedoeld voor het vervo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owel aanvoer als afvoer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Afbeelding 3" descr="snelweg.png"/>
          <p:cNvPicPr/>
          <p:nvPr/>
        </p:nvPicPr>
        <p:blipFill>
          <a:blip r:embed="rId1"/>
          <a:stretch/>
        </p:blipFill>
        <p:spPr>
          <a:xfrm>
            <a:off x="6524640" y="1700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328" name="Afbeelding 4" descr="transport.jpg"/>
          <p:cNvPicPr/>
          <p:nvPr/>
        </p:nvPicPr>
        <p:blipFill>
          <a:blip r:embed="rId2"/>
          <a:stretch/>
        </p:blipFill>
        <p:spPr>
          <a:xfrm>
            <a:off x="7020000" y="3860640"/>
            <a:ext cx="1728720" cy="13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Waaruit bestaat bloed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plasma: water met opgeloste stoffen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Zorgt voor het vervoer van allerlei stoffen: Denk aan voedingsstoffen, maar ook koolstofdioxide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cell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Rode bloedcellen: vervoer van zuurstof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Witte bloedcellen: verdediging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Bloedplaatjes : stollen van bloe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4" name="Picture 4" descr="bloedplasma"/>
          <p:cNvPicPr/>
          <p:nvPr/>
        </p:nvPicPr>
        <p:blipFill>
          <a:blip r:embed="rId1"/>
          <a:stretch/>
        </p:blipFill>
        <p:spPr>
          <a:xfrm>
            <a:off x="7812000" y="170028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rode bloedcel"/>
          <p:cNvPicPr/>
          <p:nvPr/>
        </p:nvPicPr>
        <p:blipFill>
          <a:blip r:embed="rId2"/>
          <a:stretch/>
        </p:blipFill>
        <p:spPr>
          <a:xfrm>
            <a:off x="781200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witte bloedcel"/>
          <p:cNvPicPr/>
          <p:nvPr/>
        </p:nvPicPr>
        <p:blipFill>
          <a:blip r:embed="rId3"/>
          <a:stretch/>
        </p:blipFill>
        <p:spPr>
          <a:xfrm>
            <a:off x="7812000" y="386064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oe heten de bloedvaten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Meestal krijgt een bloedvat de naam van het orgaan waar het naartoe gaat of waar het vandaan kom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Voorbeeld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slagader naar de longen toe heet: longslagade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haarvaten in de longen heten longhaarvat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ader die de long verlaat heet: de longader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Afbeelding 3" descr="straatnaambord.jpg"/>
          <p:cNvPicPr/>
          <p:nvPr/>
        </p:nvPicPr>
        <p:blipFill>
          <a:blip r:embed="rId1"/>
          <a:stretch/>
        </p:blipFill>
        <p:spPr>
          <a:xfrm>
            <a:off x="5940360" y="1933560"/>
            <a:ext cx="232560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Uitzonderingen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14040" y="1599840"/>
            <a:ext cx="6465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485280" indent="-4852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ier zijn enkele uitzonderingen op deze regel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Aorta = lichaamsslagade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Kransslagader, kransade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Poortader. (= ader van darmen naar de lever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alsslagader en halsader (de slagader en ader naar de hersenen toe en er vanaf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Bovenste holle ader = de bloedvaten vanaf de bovenkant van het lichaam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Onderste holle ader = de bloedvaten vanaf de onderkant van het lichaam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Afbeelding 3" descr="uitzondering fietsbord eenrichtingsweg.jpg"/>
          <p:cNvPicPr/>
          <p:nvPr/>
        </p:nvPicPr>
        <p:blipFill>
          <a:blip r:embed="rId1"/>
          <a:stretch/>
        </p:blipFill>
        <p:spPr>
          <a:xfrm>
            <a:off x="7350120" y="62064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De poortader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e, heb je niet net geleerd dat dit een uitzondering was? Jawel, hoor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De poortader is speciaal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et is een bloedvat tussen de darmen en de leve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Waarom speciaal? Het is de enige ader met veel voedingsstoffen eri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Maar voordat je de voedingstoffen gaat uitdelen moet je wel even controleren of er ook giftige stoffen tussen zitten. Dat doet de lever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Vanaf de lever wordt het bloed inclusief voedingsstoffen verder getransporteer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Afbeelding 3" descr="poortader.jpg"/>
          <p:cNvPicPr/>
          <p:nvPr/>
        </p:nvPicPr>
        <p:blipFill>
          <a:blip r:embed="rId1"/>
          <a:stretch/>
        </p:blipFill>
        <p:spPr>
          <a:xfrm>
            <a:off x="7020000" y="1773360"/>
            <a:ext cx="1944720" cy="2082600"/>
          </a:xfrm>
          <a:prstGeom prst="rect">
            <a:avLst/>
          </a:prstGeom>
          <a:ln w="0">
            <a:noFill/>
          </a:ln>
        </p:spPr>
      </p:pic>
      <p:pic>
        <p:nvPicPr>
          <p:cNvPr id="338" name="Afbeelding 4" descr="lever.jpg"/>
          <p:cNvPicPr/>
          <p:nvPr/>
        </p:nvPicPr>
        <p:blipFill>
          <a:blip r:embed="rId2"/>
          <a:stretch/>
        </p:blipFill>
        <p:spPr>
          <a:xfrm>
            <a:off x="7093080" y="4508640"/>
            <a:ext cx="183492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kleine bloedsomloop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Rechterkame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slagade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haarvat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ade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inkerboezem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Heeft 2 functie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Corbel"/>
              </a:rPr>
              <a:t>Zorgt ervoor dat er zuurstof in het bloed komt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Corbel"/>
              </a:rPr>
              <a:t>Zorgt ervoor dat koolstofdioxide uit het lichaam verdwijnt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Afbeelding 4" descr="zuurstof.jpg"/>
          <p:cNvPicPr/>
          <p:nvPr/>
        </p:nvPicPr>
        <p:blipFill>
          <a:blip r:embed="rId1"/>
          <a:stretch/>
        </p:blipFill>
        <p:spPr>
          <a:xfrm>
            <a:off x="6300720" y="170028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342" name="Afbeelding 5" descr="koolstofdioxide.jpg"/>
          <p:cNvPicPr/>
          <p:nvPr/>
        </p:nvPicPr>
        <p:blipFill>
          <a:blip r:embed="rId2"/>
          <a:stretch/>
        </p:blipFill>
        <p:spPr>
          <a:xfrm>
            <a:off x="6948360" y="2781360"/>
            <a:ext cx="1621080" cy="1245960"/>
          </a:xfrm>
          <a:prstGeom prst="rect">
            <a:avLst/>
          </a:prstGeom>
          <a:ln w="0">
            <a:noFill/>
          </a:ln>
        </p:spPr>
      </p:pic>
      <p:pic>
        <p:nvPicPr>
          <p:cNvPr id="343" name="Afbeelding 6" descr="kleine bloedsomloop1.jpg"/>
          <p:cNvPicPr/>
          <p:nvPr/>
        </p:nvPicPr>
        <p:blipFill>
          <a:blip r:embed="rId3"/>
          <a:stretch/>
        </p:blipFill>
        <p:spPr>
          <a:xfrm>
            <a:off x="4572000" y="1773360"/>
            <a:ext cx="9144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grote bloedsomloop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14040" y="1599840"/>
            <a:ext cx="718668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Linkerkam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Lichaamsslagader of Aorta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ovenste- en onderste holle ad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Rechterboeze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functie van de grote bloedsomloop i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Afgeven van zuurstof en voedings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pnemen van afval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Afbeelding 4" descr="zuurstof.jpg"/>
          <p:cNvPicPr/>
          <p:nvPr/>
        </p:nvPicPr>
        <p:blipFill>
          <a:blip r:embed="rId1"/>
          <a:stretch/>
        </p:blipFill>
        <p:spPr>
          <a:xfrm>
            <a:off x="5815080" y="179712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347" name="Afbeelding 5" descr="voedsel.jpg"/>
          <p:cNvPicPr/>
          <p:nvPr/>
        </p:nvPicPr>
        <p:blipFill>
          <a:blip r:embed="rId2"/>
          <a:stretch/>
        </p:blipFill>
        <p:spPr>
          <a:xfrm>
            <a:off x="6948360" y="4869000"/>
            <a:ext cx="1238400" cy="799920"/>
          </a:xfrm>
          <a:prstGeom prst="rect">
            <a:avLst/>
          </a:prstGeom>
          <a:ln w="0">
            <a:noFill/>
          </a:ln>
        </p:spPr>
      </p:pic>
      <p:pic>
        <p:nvPicPr>
          <p:cNvPr id="348" name="Afbeelding 6" descr="afval.jpg"/>
          <p:cNvPicPr/>
          <p:nvPr/>
        </p:nvPicPr>
        <p:blipFill>
          <a:blip r:embed="rId3"/>
          <a:stretch/>
        </p:blipFill>
        <p:spPr>
          <a:xfrm>
            <a:off x="7956720" y="5516640"/>
            <a:ext cx="971280" cy="1128600"/>
          </a:xfrm>
          <a:prstGeom prst="rect">
            <a:avLst/>
          </a:prstGeom>
          <a:ln w="0">
            <a:noFill/>
          </a:ln>
        </p:spPr>
      </p:pic>
      <p:pic>
        <p:nvPicPr>
          <p:cNvPr id="349" name="Afbeelding 7" descr="grote bloedsomloop1.jpg"/>
          <p:cNvPicPr/>
          <p:nvPr/>
        </p:nvPicPr>
        <p:blipFill>
          <a:blip r:embed="rId4"/>
          <a:stretch/>
        </p:blipFill>
        <p:spPr>
          <a:xfrm>
            <a:off x="7451640" y="1844640"/>
            <a:ext cx="88596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Nog meer uitzonderingen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400" y="1599840"/>
            <a:ext cx="682632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ormaal gesproken kun je zeggen dat elke slagader voedselrijk is en veel zuurstof bevat. Elke ader bevat weinig zuurstof en weinig voedings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r zijn echter uitzonderingen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slagader 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- geen zuurstof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ader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- veel zuurstof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Poortader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- veel voedingsstoff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je logisch nadenkt snap je wel waarom dit zo is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Afbeelding 3" descr="t shirt met uitzondering opschrift.jpg"/>
          <p:cNvPicPr/>
          <p:nvPr/>
        </p:nvPicPr>
        <p:blipFill>
          <a:blip r:embed="rId1"/>
          <a:stretch/>
        </p:blipFill>
        <p:spPr>
          <a:xfrm>
            <a:off x="7291440" y="2708280"/>
            <a:ext cx="180000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Een hartinfarc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heeft voortdurend voeding en zuurstof nodig om te kunnen pomp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kransslagaders zorgen hiervoo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zo’n kransslagader verstopt raakt dan spreek je van een hartinfarc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en gedeelte van het hart sterft dan af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Afbeelding 3" descr="hartinfarct.jpg"/>
          <p:cNvPicPr/>
          <p:nvPr/>
        </p:nvPicPr>
        <p:blipFill>
          <a:blip r:embed="rId1"/>
          <a:stretch/>
        </p:blipFill>
        <p:spPr>
          <a:xfrm>
            <a:off x="6372360" y="5013360"/>
            <a:ext cx="216036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Waardoor kan een kransslagader verstopt raken? Mogelijkheid 1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14040" y="1599840"/>
            <a:ext cx="6537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het bloed kunnen kleine bloedpropjes voorkom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oor zo’n bloedpropje een bloedvat verstopt rak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t noemen wij trombos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het bloedpropje in een kransslagader komt kan het een hartinfarct veroorzak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Gebeurt dit in de hersenen dan heet dat een beroer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Afbeelding 3" descr="beroerte herkennen.jpg"/>
          <p:cNvPicPr/>
          <p:nvPr/>
        </p:nvPicPr>
        <p:blipFill>
          <a:blip r:embed="rId1"/>
          <a:stretch/>
        </p:blipFill>
        <p:spPr>
          <a:xfrm>
            <a:off x="7059600" y="2349360"/>
            <a:ext cx="182880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Waardoor kan een kransslagader verstopt raken? Mogelijkheid 2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binnenkant van een bloedvat is normaal gl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a verloop van jaren kan het bloedvat langzaam gaan dichtslibb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t komt onder andere doordat de stof cholesterol tegen de wand van een bloedvat  aan gaat plakk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Cholesterol is een vettige stof die veel in dierlijke voedingsmiddelen zi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dichtslibben kan ook ontstaan door een combinatie van cholesterol en kalk. Dan noem je het aderverkalk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eefselvloeistof en lymf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68560" indent="-2685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haarvaten zit weefselvloeistof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weefselvloeistof zorgt voor aan en afvoer van voedingsstoffen en afvalstoffe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weefselvloeistof met afvalstoffen wordt opgenomen in fijne lymfevaten. Hierna heet het lymf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lymfevaten vervoeren de lymfe af van de cellen in de organe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lymfevaten vormen samen een stelse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grote lymfevaten zijn rechterlymfestam en de borstbui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ymfeknopen zorgen voor zuivering van de lymf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witte bloedcellen maken antistoffen aan in de lymfeknop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Rode bloedcelle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Vervoeren zuurstof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1" name="Picture 4" descr="bloedplasma"/>
          <p:cNvPicPr/>
          <p:nvPr/>
        </p:nvPicPr>
        <p:blipFill>
          <a:blip r:embed="rId1"/>
          <a:stretch/>
        </p:blipFill>
        <p:spPr>
          <a:xfrm>
            <a:off x="6799320" y="207000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rode bloedcel"/>
          <p:cNvPicPr/>
          <p:nvPr/>
        </p:nvPicPr>
        <p:blipFill>
          <a:blip r:embed="rId2"/>
          <a:stretch/>
        </p:blipFill>
        <p:spPr>
          <a:xfrm>
            <a:off x="4376880" y="22305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witte bloedcel"/>
          <p:cNvPicPr/>
          <p:nvPr/>
        </p:nvPicPr>
        <p:blipFill>
          <a:blip r:embed="rId3"/>
          <a:stretch/>
        </p:blipFill>
        <p:spPr>
          <a:xfrm>
            <a:off x="4826160" y="4253040"/>
            <a:ext cx="931680" cy="912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Witte bloedcelle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itte bloedcellen maken bacteriën onschadelijke en andere ziekteverwekk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tter bestaat uit dode witte bloedcellen en dode bacterië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8" name="Picture 4" descr="bloedplasma"/>
          <p:cNvPicPr/>
          <p:nvPr/>
        </p:nvPicPr>
        <p:blipFill>
          <a:blip r:embed="rId1"/>
          <a:stretch/>
        </p:blipFill>
        <p:spPr>
          <a:xfrm>
            <a:off x="7812000" y="170028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rode bloedcel"/>
          <p:cNvPicPr/>
          <p:nvPr/>
        </p:nvPicPr>
        <p:blipFill>
          <a:blip r:embed="rId2"/>
          <a:stretch/>
        </p:blipFill>
        <p:spPr>
          <a:xfrm>
            <a:off x="781200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witte bloedcel"/>
          <p:cNvPicPr/>
          <p:nvPr/>
        </p:nvPicPr>
        <p:blipFill>
          <a:blip r:embed="rId3"/>
          <a:stretch/>
        </p:blipFill>
        <p:spPr>
          <a:xfrm>
            <a:off x="7812000" y="386064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loedplaatje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plaatjes spelen een rol bij de bloedstolling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Met behulp van deze plaatjes wordt de wond gedicht, dit noemen we dan een bloedstols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Als er een bloedprop ontstaat en het bloedvat wordt afgesloten noemen we dit trombos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5" name="Picture 4" descr="bloedplasma"/>
          <p:cNvPicPr/>
          <p:nvPr/>
        </p:nvPicPr>
        <p:blipFill>
          <a:blip r:embed="rId1"/>
          <a:stretch/>
        </p:blipFill>
        <p:spPr>
          <a:xfrm>
            <a:off x="7812000" y="170028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rode bloedcel"/>
          <p:cNvPicPr/>
          <p:nvPr/>
        </p:nvPicPr>
        <p:blipFill>
          <a:blip r:embed="rId2"/>
          <a:stretch/>
        </p:blipFill>
        <p:spPr>
          <a:xfrm>
            <a:off x="781200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witte bloedcel"/>
          <p:cNvPicPr/>
          <p:nvPr/>
        </p:nvPicPr>
        <p:blipFill>
          <a:blip r:embed="rId3"/>
          <a:stretch/>
        </p:blipFill>
        <p:spPr>
          <a:xfrm>
            <a:off x="7812000" y="386064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De bloedsomloop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 stroomt door buizen in ons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pompt het bloed ron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is eigenlijk 2 pompen tegelijk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ene helft pompt het bloed in de long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andere helft pompt het bloed in de rest van het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Afbeelding 5" descr="buizen.jpg"/>
          <p:cNvPicPr/>
          <p:nvPr/>
        </p:nvPicPr>
        <p:blipFill>
          <a:blip r:embed="rId1"/>
          <a:stretch/>
        </p:blipFill>
        <p:spPr>
          <a:xfrm>
            <a:off x="6470640" y="95400"/>
            <a:ext cx="1819440" cy="1223640"/>
          </a:xfrm>
          <a:prstGeom prst="rect">
            <a:avLst/>
          </a:prstGeom>
          <a:ln w="0">
            <a:noFill/>
          </a:ln>
        </p:spPr>
      </p:pic>
      <p:pic>
        <p:nvPicPr>
          <p:cNvPr id="283" name="Afbeelding 7" descr="pomp2.jpg"/>
          <p:cNvPicPr/>
          <p:nvPr/>
        </p:nvPicPr>
        <p:blipFill>
          <a:blip r:embed="rId2"/>
          <a:stretch/>
        </p:blipFill>
        <p:spPr>
          <a:xfrm>
            <a:off x="468360" y="228600"/>
            <a:ext cx="247644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kleine bloedsomloo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55280" y="1628640"/>
            <a:ext cx="6537240" cy="453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kleine bloedsomloop gaat van het hart naar de longen en weer teru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bloed is vooral belangrijk voor het vervoeren van 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twee belangrijkste stoffen zijn: voedingsstoffen (glucose) en zuurstof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voedsel komt in het bloed via de darm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Via de longen krijgen we zuurstof in het bloe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de longen gooien wij het koolstofdioxide als afvalstof we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6" name="Afbeelding 6" descr="voedsel.jpg"/>
          <p:cNvPicPr/>
          <p:nvPr/>
        </p:nvPicPr>
        <p:blipFill>
          <a:blip r:embed="rId1"/>
          <a:stretch/>
        </p:blipFill>
        <p:spPr>
          <a:xfrm>
            <a:off x="7308720" y="3645000"/>
            <a:ext cx="1238400" cy="799920"/>
          </a:xfrm>
          <a:prstGeom prst="rect">
            <a:avLst/>
          </a:prstGeom>
          <a:ln w="0">
            <a:noFill/>
          </a:ln>
        </p:spPr>
      </p:pic>
      <p:pic>
        <p:nvPicPr>
          <p:cNvPr id="287" name="Afbeelding 7" descr="zuurstof.jpg"/>
          <p:cNvPicPr/>
          <p:nvPr/>
        </p:nvPicPr>
        <p:blipFill>
          <a:blip r:embed="rId2"/>
          <a:stretch/>
        </p:blipFill>
        <p:spPr>
          <a:xfrm>
            <a:off x="7380360" y="450864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288" name="Afbeelding 8" descr="koolstofdioxide.jpg"/>
          <p:cNvPicPr/>
          <p:nvPr/>
        </p:nvPicPr>
        <p:blipFill>
          <a:blip r:embed="rId3"/>
          <a:stretch/>
        </p:blipFill>
        <p:spPr>
          <a:xfrm>
            <a:off x="7236000" y="5732640"/>
            <a:ext cx="1404720" cy="958680"/>
          </a:xfrm>
          <a:prstGeom prst="rect">
            <a:avLst/>
          </a:prstGeom>
          <a:ln w="0">
            <a:noFill/>
          </a:ln>
        </p:spPr>
      </p:pic>
      <p:pic>
        <p:nvPicPr>
          <p:cNvPr id="289" name="Afbeelding 7" descr="kleine bloedsomloop1.jpg"/>
          <p:cNvPicPr/>
          <p:nvPr/>
        </p:nvPicPr>
        <p:blipFill>
          <a:blip r:embed="rId4"/>
          <a:stretch/>
        </p:blipFill>
        <p:spPr>
          <a:xfrm>
            <a:off x="7451640" y="1628640"/>
            <a:ext cx="91440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grote bloedsomloo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599840"/>
            <a:ext cx="5673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grote bloedsomloop gaat van het hart naar de rest van je lichaam en weer teru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 geeft onderweg voedingsstoffen en zuurstof aan de cell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cellen geven hun afvalstoffen (vooral koolstofdioxide) af aan het bloe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de animatie staat de route die een rode bloedcel afleg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2" name="Afbeelding 5" descr="grote bloedsomloop.jpg"/>
          <p:cNvPicPr/>
          <p:nvPr/>
        </p:nvPicPr>
        <p:blipFill>
          <a:blip r:embed="rId1"/>
          <a:stretch/>
        </p:blipFill>
        <p:spPr>
          <a:xfrm>
            <a:off x="6443640" y="2060640"/>
            <a:ext cx="252108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82800" y="43776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Het hart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14040" y="1599840"/>
            <a:ext cx="6465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is een holle spier en bestaat uit twee gedeelten: een linkerhelft en een rechterhelf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is goed beschermd en ligt achter onze ribb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linkergedeelte pompt het bloed door het lichaam en is sterk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rechtergedeelte pompt het bloed naar de long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5" name="Afbeelding 5" descr="Hart.jpg"/>
          <p:cNvPicPr/>
          <p:nvPr/>
        </p:nvPicPr>
        <p:blipFill>
          <a:blip r:embed="rId1"/>
          <a:stretch/>
        </p:blipFill>
        <p:spPr>
          <a:xfrm>
            <a:off x="7380360" y="1700280"/>
            <a:ext cx="1584360" cy="1411200"/>
          </a:xfrm>
          <a:prstGeom prst="rect">
            <a:avLst/>
          </a:prstGeom>
          <a:ln w="0">
            <a:noFill/>
          </a:ln>
        </p:spPr>
      </p:pic>
      <p:pic>
        <p:nvPicPr>
          <p:cNvPr id="296" name="Afbeelding 4" descr="hart en ribben.png"/>
          <p:cNvPicPr/>
          <p:nvPr/>
        </p:nvPicPr>
        <p:blipFill>
          <a:blip r:embed="rId2"/>
          <a:stretch/>
        </p:blipFill>
        <p:spPr>
          <a:xfrm>
            <a:off x="7380360" y="3141720"/>
            <a:ext cx="15843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9:14:36Z</dcterms:created>
  <dc:creator>DGS</dc:creator>
  <dc:description/>
  <dc:language>en-US</dc:language>
  <cp:lastModifiedBy>Joyce Vonk</cp:lastModifiedBy>
  <dcterms:modified xsi:type="dcterms:W3CDTF">2021-02-08T08:36:57Z</dcterms:modified>
  <cp:revision>35</cp:revision>
  <dc:subject/>
  <dc:title>Biologie voor Jou. VMBO-BK. Deel 2.</dc:title>
</cp:coreProperties>
</file>