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416-1DD9-4D74-9B3D-3564FAD6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566-D565-4653-B3E3-EB907055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138-2372-4FF7-94AB-7480E14E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9D8-79D8-4E42-89CC-84CE21B5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6FE2-66AF-43AE-B963-110C8684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1532-1063-4896-B82C-3F9383DC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965B-7BAD-464F-9745-A24277DC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7BD5-6740-4088-8E48-F0B8E540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D7E0-DAE3-4D45-84EE-4D893036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A9DA-80E1-47C0-9BD0-A8297AC6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FB71-4642-4539-AEB3-5D90F112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41E-8DB3-4080-A040-C33F23C6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6DA7-7131-473A-8F41-B396B6D8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47CD-A992-4FF8-836F-677FADD3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9FD6-6EA8-4EB3-AA34-6E47E960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A9AE-DB08-44B9-A02F-E23D93AC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6387-832F-49CB-859F-BBD5D907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4EA2-F634-44F8-8A6F-4B836A35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CD1D-5ACF-4677-8DCB-C3265791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1F73-285C-4F98-A8DB-4CFD7180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3A8C-6EBA-44B8-9CEC-31A7EDAE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A31C-9DF5-4F4B-8A91-BCE90209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334-A921-4EBA-9497-178D97A1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6374-2730-4AC9-BA92-5E85856C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A9FD4-D8B3-4D3D-AC51-268D98F5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49B9B-A7AD-4B84-AE4F-3E9EF022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E271-D685-4208-B21A-4A53E1DA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BAFD-2C19-4AE9-A19D-667981EA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7822-6DAA-40A7-A216-871E20B4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52FD-5B65-4754-925F-B46F120F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8C19-B313-4BC1-97FB-33237BEE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D90E-1290-4D98-9884-920D157F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7077-60D1-44E6-B9B9-3E007C94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FF9-881E-4B76-B1FA-44723E1A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80993-25C4-42F4-8D7F-1773E8C6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6109-57E1-40FE-AB3B-C5088AD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AE13D-475A-4F5E-B5EB-508D1243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EDD0A-CB4C-401B-809F-66F28402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CD0A-54C5-4DCD-B483-BD85FC3E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5FC4-2862-4BF9-B951-ABEB70C8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3BBA0-8315-4091-8F64-6C23CCCB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57C81-24F5-4DCE-90EA-5E92C896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7DE0B-5847-4E83-AA0C-9DAC92C1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5B521-9AD1-4A5A-B0AD-026402D5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D05-1C43-4BE5-997F-464587F2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DFB2E-F920-4CC9-898B-1ADBC0D5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AE43E-3E3C-49B0-80EE-C465C269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0D10-31FF-402A-979B-7274E19B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1F7B5-8BBD-4C38-92B1-3F559E97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EF022-0AA1-45C7-87C0-A987EFDA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75483-ED27-49CE-ADB8-7D44A2C3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D4FD0-13BF-493D-87B0-93E1D974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D39C4-AE33-419E-85CE-1FBD03AB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841D5-9FD4-4742-AA0D-19EDE57F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C339D-0513-4A6A-95B1-8332804D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943-1D58-4910-A161-2338CC9F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8A60D-156E-436E-B2C5-CA53B9D6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F39-D6CF-4AA6-8C28-B631C3D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89A-9F7E-4A2D-8B95-259D13E4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44A-838E-4A55-AFD6-B0B0620E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E5A7-94CA-4115-8496-9C0D603E5B70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B6F2-091E-4A62-B376-D98AB467AB30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187D-F596-42F5-92E4-6522818A81F4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DE7D-9890-4CCF-B576-1DC130CC96A6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3187-A27A-4148-870B-386D9C1246D9}" type="slidenum">
              <a:rPr b="0" lang="nl-NL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en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bestaat voor het grootste gedeelte uit wat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at water kun je allerlei stoffen oplossen en vervoer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j hebben ongeveer 6 liter bloed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al onze bloedvaten achter elkaar legt, kom je uit op ongeveer 1500 k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Picture 4" descr="water"/>
          <p:cNvPicPr/>
          <p:nvPr/>
        </p:nvPicPr>
        <p:blipFill>
          <a:blip r:embed="rId1"/>
          <a:stretch/>
        </p:blipFill>
        <p:spPr>
          <a:xfrm>
            <a:off x="7308720" y="1557360"/>
            <a:ext cx="924120" cy="934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thee"/>
          <p:cNvPicPr/>
          <p:nvPr/>
        </p:nvPicPr>
        <p:blipFill>
          <a:blip r:embed="rId2"/>
          <a:stretch/>
        </p:blipFill>
        <p:spPr>
          <a:xfrm>
            <a:off x="6659640" y="2492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wegenkaart"/>
          <p:cNvPicPr/>
          <p:nvPr/>
        </p:nvPicPr>
        <p:blipFill>
          <a:blip r:embed="rId3"/>
          <a:stretch/>
        </p:blipFill>
        <p:spPr>
          <a:xfrm>
            <a:off x="6877080" y="429264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251" name="Afbeelding 6" descr="1 liter.jpg"/>
          <p:cNvPicPr/>
          <p:nvPr/>
        </p:nvPicPr>
        <p:blipFill>
          <a:blip r:embed="rId4"/>
          <a:stretch/>
        </p:blipFill>
        <p:spPr>
          <a:xfrm>
            <a:off x="7667640" y="3141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 voor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moet blijven werken en heeft daarvoor veel energie nodi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heeft zijn eigen bloedvaten voor aanvoer en af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anvoerende bloedvaten heten kransslag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fvoerende bloedvaten heten kransad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9" name="Afbeelding 5" descr="kransslagader kransader.png"/>
          <p:cNvPicPr/>
          <p:nvPr/>
        </p:nvPicPr>
        <p:blipFill>
          <a:blip r:embed="rId1"/>
          <a:stretch/>
        </p:blipFill>
        <p:spPr>
          <a:xfrm>
            <a:off x="7020000" y="1916280"/>
            <a:ext cx="19666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bouw van het har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6105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bestaat eigenlijk uit 4 d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opvangen van het bloed = 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2 delen voor het rondpompen van het bloed = kamer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Tussen boezem en kamer zitten kleppen, dit zorgt ervoor dat het bloed maar in 1 richting kan str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ok vlak na de kamer heb je kleppen. Ook dit is weer om ervoor te zorgen dat het bloed de goede richting op gaa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2" name="Afbeelding 5" descr="hartkleppen aorta.png"/>
          <p:cNvPicPr/>
          <p:nvPr/>
        </p:nvPicPr>
        <p:blipFill>
          <a:blip r:embed="rId1"/>
          <a:stretch/>
        </p:blipFill>
        <p:spPr>
          <a:xfrm>
            <a:off x="6948360" y="4152960"/>
            <a:ext cx="2016360" cy="2705040"/>
          </a:xfrm>
          <a:prstGeom prst="rect">
            <a:avLst/>
          </a:prstGeom>
          <a:ln w="0">
            <a:noFill/>
          </a:ln>
        </p:spPr>
      </p:pic>
      <p:pic>
        <p:nvPicPr>
          <p:cNvPr id="303" name="Afbeelding 6" descr="hartkleppen boezem kamer.png"/>
          <p:cNvPicPr/>
          <p:nvPr/>
        </p:nvPicPr>
        <p:blipFill>
          <a:blip r:embed="rId2"/>
          <a:stretch/>
        </p:blipFill>
        <p:spPr>
          <a:xfrm>
            <a:off x="6948360" y="1700280"/>
            <a:ext cx="197028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bloed komt va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trekt samen en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ht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slagad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aat het bloed door de longen en daarna via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meteen terug naar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boezem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ompt het bloed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kerkame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mpt het bloed daarna in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 of lichaamsslag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naf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orta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gaat het bloed door het hele lichaam en komt uiteindelijk weer terecht bij d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derste- en bovenste holle ad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werkt het nou allemaal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82800" y="184428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3 fasen van hartwerking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oezems lopen vol met bloed uit de holle ade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rtslag begint als het samentrekken van de boezems plaatsvindt (fase 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zijn volgestroomd en trekken samen (fase 2) Het bloed gaat naar de aorta en de longslagad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mers ontspannen zich, de boezems waren al ontspannen (fase 3). We spreken van een hartpauz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rttonen zijn de slagen die je hoort als de hartkleppen dichtslaan en als de halvemaanvormige kleppen dichtslaa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vaten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drie typen bloedvat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ders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druk = de druk waarmee het bloed tegen de wand van de bloedvaten druk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Afbeelding 6" descr="haarvaten.jpg"/>
          <p:cNvPicPr/>
          <p:nvPr/>
        </p:nvPicPr>
        <p:blipFill>
          <a:blip r:embed="rId1"/>
          <a:stretch/>
        </p:blipFill>
        <p:spPr>
          <a:xfrm>
            <a:off x="7380360" y="447840"/>
            <a:ext cx="1085760" cy="1392120"/>
          </a:xfrm>
          <a:prstGeom prst="rect">
            <a:avLst/>
          </a:prstGeom>
          <a:ln w="0">
            <a:noFill/>
          </a:ln>
        </p:spPr>
      </p:pic>
      <p:pic>
        <p:nvPicPr>
          <p:cNvPr id="311" name="Afbeelding 7" descr="slagader.jpg"/>
          <p:cNvPicPr/>
          <p:nvPr/>
        </p:nvPicPr>
        <p:blipFill>
          <a:blip r:embed="rId2"/>
          <a:stretch/>
        </p:blipFill>
        <p:spPr>
          <a:xfrm>
            <a:off x="7023240" y="190656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312" name="Afbeelding 8" descr="bloeddruk.jpg"/>
          <p:cNvPicPr/>
          <p:nvPr/>
        </p:nvPicPr>
        <p:blipFill>
          <a:blip r:embed="rId3"/>
          <a:stretch/>
        </p:blipFill>
        <p:spPr>
          <a:xfrm>
            <a:off x="6165720" y="3243240"/>
            <a:ext cx="26575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weg van het har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kke, elastische (verende) wa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kunt jouw hartslag erin voe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itten meestal diep in je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zitten er geen kleppen 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rgen voor aanvoer van bloed in de organ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evat meestal zuurstof en voedse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Afbeelding 5" descr="slagader.jpg"/>
          <p:cNvPicPr/>
          <p:nvPr/>
        </p:nvPicPr>
        <p:blipFill>
          <a:blip r:embed="rId1"/>
          <a:stretch/>
        </p:blipFill>
        <p:spPr>
          <a:xfrm>
            <a:off x="6827760" y="177840"/>
            <a:ext cx="226692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Aders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128320"/>
            <a:ext cx="6610320" cy="46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bloed stroomt naar het hart to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Grote bloedvaten maar met een dunnere wan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Je kunt hierin geen hartslag voel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itten vaak aan het oppervlak van jouw lichaam. Je kunt ze dus zie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Er zitten kleppen in die ervoor zorgen dat het bloed in 1 richting 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Zorgen ervoor dat het bloed van de organen weer naar het hart terugstroom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evatten meestal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Corbel"/>
              </a:rPr>
              <a:t>geen</a:t>
            </a: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 zuurstof en voedsel, maar wel afvalstoffen zoals koolstofdioxid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Afbeelding 5" descr="aders hand.jpg"/>
          <p:cNvPicPr/>
          <p:nvPr/>
        </p:nvPicPr>
        <p:blipFill>
          <a:blip r:embed="rId1"/>
          <a:stretch/>
        </p:blipFill>
        <p:spPr>
          <a:xfrm>
            <a:off x="6659640" y="884160"/>
            <a:ext cx="2232000" cy="11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aarvaten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040" y="1599840"/>
            <a:ext cx="6681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eer dunne en kleine bloedvat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enen voor het geven van voedsel en zuurstof aan de omgev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emen afvalstoffen van de omgeving op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Afbeelding 5" descr="haarvaten.jpg"/>
          <p:cNvPicPr/>
          <p:nvPr/>
        </p:nvPicPr>
        <p:blipFill>
          <a:blip r:embed="rId1"/>
          <a:stretch/>
        </p:blipFill>
        <p:spPr>
          <a:xfrm>
            <a:off x="7667640" y="1773360"/>
            <a:ext cx="10857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Slagaders, haarvaten en ader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Tijdelijke aanduiding voor inhoud 3" descr="bloedvaten.jpg"/>
          <p:cNvPicPr/>
          <p:nvPr/>
        </p:nvPicPr>
        <p:blipFill>
          <a:blip r:embed="rId1"/>
          <a:stretch/>
        </p:blipFill>
        <p:spPr>
          <a:xfrm>
            <a:off x="1042920" y="2852640"/>
            <a:ext cx="2952720" cy="1943280"/>
          </a:xfrm>
          <a:prstGeom prst="rect">
            <a:avLst/>
          </a:prstGeom>
          <a:ln w="0">
            <a:noFill/>
          </a:ln>
        </p:spPr>
      </p:pic>
      <p:pic>
        <p:nvPicPr>
          <p:cNvPr id="324" name="Afbeelding 24" descr="slagader naar ader.jpg"/>
          <p:cNvPicPr/>
          <p:nvPr/>
        </p:nvPicPr>
        <p:blipFill>
          <a:blip r:embed="rId2"/>
          <a:stretch/>
        </p:blipFill>
        <p:spPr>
          <a:xfrm>
            <a:off x="4788000" y="1916280"/>
            <a:ext cx="34909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bloedvatenstelsel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040" y="1599840"/>
            <a:ext cx="6033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vatenstelsel kun je vergelijken met het wegenne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Je hebt de snelwegen (=slagaders), zijweggetjes (haarvaten) en B-wegen (aders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les is bedoeld voor het vervo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Zowel aanvoer als afvoer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Afbeelding 3" descr="snelweg.png"/>
          <p:cNvPicPr/>
          <p:nvPr/>
        </p:nvPicPr>
        <p:blipFill>
          <a:blip r:embed="rId1"/>
          <a:stretch/>
        </p:blipFill>
        <p:spPr>
          <a:xfrm>
            <a:off x="6524640" y="1700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28" name="Afbeelding 4" descr="transport.jpg"/>
          <p:cNvPicPr/>
          <p:nvPr/>
        </p:nvPicPr>
        <p:blipFill>
          <a:blip r:embed="rId2"/>
          <a:stretch/>
        </p:blipFill>
        <p:spPr>
          <a:xfrm>
            <a:off x="7020000" y="3860640"/>
            <a:ext cx="172872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aaruit bestaat bloed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sma: water met opgeloste stoffe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Zorgt voor het vervoer van allerlei stoffen: Denk aan voedingsstoffen, maar ook koolstofdioxid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celle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ode bloedcellen: vervoer va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Witte bloedcellen: verdediging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Bloedplaatjes : stollen van bloe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Hoe heten de bloedvaten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estal krijgt een bloedvat de naam van het orgaan waar het naartoe gaat of waar het vandaan kom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oorbeeld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slagader naar de longen toe heet: longslagad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haarvaten in de longen heten 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ader die de long verlaat heet: de 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Afbeelding 3" descr="straatnaambord.jpg"/>
          <p:cNvPicPr/>
          <p:nvPr/>
        </p:nvPicPr>
        <p:blipFill>
          <a:blip r:embed="rId1"/>
          <a:stretch/>
        </p:blipFill>
        <p:spPr>
          <a:xfrm>
            <a:off x="5940360" y="1933560"/>
            <a:ext cx="23256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ier zijn enkele uitzonderingen op deze rege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Aorta = lichaamsslag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Kransslagader, kransad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Poortader. (= ader van darmen naar de lever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alsslagader en halsader (de slagader en ader naar de hersenen toe en er vanaf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Bovenste holle ader = de bloedvaten vanaf de boven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66520" indent="-45072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Onderste holle ader = de bloedvaten vanaf de onderkant van het lichaam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Afbeelding 3" descr="uitzondering fietsbord eenrichtingsweg.jpg"/>
          <p:cNvPicPr/>
          <p:nvPr/>
        </p:nvPicPr>
        <p:blipFill>
          <a:blip r:embed="rId1"/>
          <a:stretch/>
        </p:blipFill>
        <p:spPr>
          <a:xfrm>
            <a:off x="7350120" y="62064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poortader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, heb je niet net geleerd dat dit een uitzondering was? Jawel, hoo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De poortader is speciaal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Het is een bloedvat tussen de darmen en de leve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Waarom speciaal? Het is de enige ader met veel voedingsstoffen eri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Maar voordat je de voedingstoffen gaat uitdelen moet je wel even controleren of er ook giftige stoffen tussen zitten. Dat doet de lever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rbel"/>
              </a:rPr>
              <a:t>Vanaf de lever wordt het bloed inclusief voedingsstoffen verder getransporteer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Afbeelding 3" descr="poortader.jpg"/>
          <p:cNvPicPr/>
          <p:nvPr/>
        </p:nvPicPr>
        <p:blipFill>
          <a:blip r:embed="rId1"/>
          <a:stretch/>
        </p:blipFill>
        <p:spPr>
          <a:xfrm>
            <a:off x="7020000" y="1773360"/>
            <a:ext cx="1944720" cy="2082600"/>
          </a:xfrm>
          <a:prstGeom prst="rect">
            <a:avLst/>
          </a:prstGeom>
          <a:ln w="0">
            <a:noFill/>
          </a:ln>
        </p:spPr>
      </p:pic>
      <p:pic>
        <p:nvPicPr>
          <p:cNvPr id="338" name="Afbeelding 4" descr="lever.jpg"/>
          <p:cNvPicPr/>
          <p:nvPr/>
        </p:nvPicPr>
        <p:blipFill>
          <a:blip r:embed="rId2"/>
          <a:stretch/>
        </p:blipFill>
        <p:spPr>
          <a:xfrm>
            <a:off x="7093080" y="4508640"/>
            <a:ext cx="18349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Rechterkam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haarvat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inkerboez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Heeft 2 functi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er zuurstof in het bloed kom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Corbel"/>
              </a:rPr>
              <a:t>Zorgt ervoor dat koolstofdioxide uit het lichaam verdwijnt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Afbeelding 4" descr="zuurstof.jpg"/>
          <p:cNvPicPr/>
          <p:nvPr/>
        </p:nvPicPr>
        <p:blipFill>
          <a:blip r:embed="rId1"/>
          <a:stretch/>
        </p:blipFill>
        <p:spPr>
          <a:xfrm>
            <a:off x="6300720" y="1700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342" name="Afbeelding 5" descr="koolstofdioxide.jpg"/>
          <p:cNvPicPr/>
          <p:nvPr/>
        </p:nvPicPr>
        <p:blipFill>
          <a:blip r:embed="rId2"/>
          <a:stretch/>
        </p:blipFill>
        <p:spPr>
          <a:xfrm>
            <a:off x="6948360" y="2781360"/>
            <a:ext cx="1621080" cy="1245960"/>
          </a:xfrm>
          <a:prstGeom prst="rect">
            <a:avLst/>
          </a:prstGeom>
          <a:ln w="0">
            <a:noFill/>
          </a:ln>
        </p:spPr>
      </p:pic>
      <p:pic>
        <p:nvPicPr>
          <p:cNvPr id="343" name="Afbeelding 6" descr="kleine bloedsomloop1.jpg"/>
          <p:cNvPicPr/>
          <p:nvPr/>
        </p:nvPicPr>
        <p:blipFill>
          <a:blip r:embed="rId3"/>
          <a:stretch/>
        </p:blipFill>
        <p:spPr>
          <a:xfrm>
            <a:off x="4572000" y="1773360"/>
            <a:ext cx="9144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040" y="1599840"/>
            <a:ext cx="718668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nkerkam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sslagader of Aort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ovenste- en onderste holle ad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Rechterboeze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functie van de grote bloedsomloop 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fgeven van zuurstof en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pnemen van afval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Afbeelding 4" descr="zuurstof.jpg"/>
          <p:cNvPicPr/>
          <p:nvPr/>
        </p:nvPicPr>
        <p:blipFill>
          <a:blip r:embed="rId1"/>
          <a:stretch/>
        </p:blipFill>
        <p:spPr>
          <a:xfrm>
            <a:off x="5815080" y="17971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347" name="Afbeelding 5" descr="voedsel.jpg"/>
          <p:cNvPicPr/>
          <p:nvPr/>
        </p:nvPicPr>
        <p:blipFill>
          <a:blip r:embed="rId2"/>
          <a:stretch/>
        </p:blipFill>
        <p:spPr>
          <a:xfrm>
            <a:off x="6948360" y="4869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348" name="Afbeelding 6" descr="afval.jpg"/>
          <p:cNvPicPr/>
          <p:nvPr/>
        </p:nvPicPr>
        <p:blipFill>
          <a:blip r:embed="rId3"/>
          <a:stretch/>
        </p:blipFill>
        <p:spPr>
          <a:xfrm>
            <a:off x="7956720" y="5516640"/>
            <a:ext cx="971280" cy="1128600"/>
          </a:xfrm>
          <a:prstGeom prst="rect">
            <a:avLst/>
          </a:prstGeom>
          <a:ln w="0">
            <a:noFill/>
          </a:ln>
        </p:spPr>
      </p:pic>
      <p:pic>
        <p:nvPicPr>
          <p:cNvPr id="349" name="Afbeelding 7" descr="grote bloedsomloop1.jpg"/>
          <p:cNvPicPr/>
          <p:nvPr/>
        </p:nvPicPr>
        <p:blipFill>
          <a:blip r:embed="rId4"/>
          <a:stretch/>
        </p:blipFill>
        <p:spPr>
          <a:xfrm>
            <a:off x="7451640" y="1844640"/>
            <a:ext cx="8859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Nog meer uitzonderingen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599840"/>
            <a:ext cx="682632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ormaal gesproken kun je zeggen dat elke slagader voedselrijk is en veel zuurstof bevat. Elke ader bevat weinig zuurstof en weinig voedings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r zijn echter uitzonderingen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slagader 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geen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Long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zuurstof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Corbe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Poortader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orbel"/>
              </a:rPr>
              <a:t>- veel voedingsstoff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je logisch nadenkt snap je wel waarom dit zo is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Afbeelding 3" descr="t shirt met uitzondering opschrift.jpg"/>
          <p:cNvPicPr/>
          <p:nvPr/>
        </p:nvPicPr>
        <p:blipFill>
          <a:blip r:embed="rId1"/>
          <a:stretch/>
        </p:blipFill>
        <p:spPr>
          <a:xfrm>
            <a:off x="7291440" y="2708280"/>
            <a:ext cx="18000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Een hartinfarc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heeft voortdurend voeding en zuurstof nodig om te kunnen pomp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ransslagaders zorgen hiervo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zo’n kransslagader verstopt raakt dan spreek je van een hartinfarc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en gedeelte van het hart sterft dan a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Afbeelding 3" descr="hartinfarct.jpg"/>
          <p:cNvPicPr/>
          <p:nvPr/>
        </p:nvPicPr>
        <p:blipFill>
          <a:blip r:embed="rId1"/>
          <a:stretch/>
        </p:blipFill>
        <p:spPr>
          <a:xfrm>
            <a:off x="6372360" y="5013360"/>
            <a:ext cx="216036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1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040" y="1599840"/>
            <a:ext cx="6537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het bloed kunnen kleine bloedpropjes voorko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oor zo’n bloedpropje een bloedvat verstopt r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noemen wij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anneer het bloedpropje in een kransslagader komt kan het een hartinfarct veroorza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Gebeurt dit in de hersenen dan heet dat een beroer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Afbeelding 3" descr="beroerte herkennen.jpg"/>
          <p:cNvPicPr/>
          <p:nvPr/>
        </p:nvPicPr>
        <p:blipFill>
          <a:blip r:embed="rId1"/>
          <a:stretch/>
        </p:blipFill>
        <p:spPr>
          <a:xfrm>
            <a:off x="7059600" y="2349360"/>
            <a:ext cx="18288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Waardoor kan een kransslagader verstopt raken? Mogelijkheid 2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binnenkant van een bloedvat is normaal gl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Na verloop van jaren kan het bloedvat langzaam gaan dichtsl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it komt onder andere doordat de stof cholesterol tegen de wand van een bloedvat  aan gaat plakk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Cholesterol is een vettige stof die veel in dierlijke voedingsmiddelen zi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dichtslibben kan ook ontstaan door een combinatie van cholesterol en kalk. Dan noem je het aderverkalk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eefselvloeistof en lymf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haarvaten zit weefselvloeistof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zorgt voor aan en afvoer van voedingsstoffen en afvalstoffe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eefselvloeistof met afvalstoffen wordt opgenomen in fijne lymfevaten. Hierna heet het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ervoeren de lymfe af van de cellen in de organe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lymfevaten vormen samen een stelse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grote lymfevaten zijn rechterlymfestam en de borstbui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ymfeknopen zorgen voor zuivering van de lymf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witte bloedcellen maken antistoffen aan in de lymfeknop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Rod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ervoeren zuursto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1" name="Picture 4" descr="bloedplasma"/>
          <p:cNvPicPr/>
          <p:nvPr/>
        </p:nvPicPr>
        <p:blipFill>
          <a:blip r:embed="rId1"/>
          <a:stretch/>
        </p:blipFill>
        <p:spPr>
          <a:xfrm>
            <a:off x="6799320" y="207000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rode bloedcel"/>
          <p:cNvPicPr/>
          <p:nvPr/>
        </p:nvPicPr>
        <p:blipFill>
          <a:blip r:embed="rId2"/>
          <a:stretch/>
        </p:blipFill>
        <p:spPr>
          <a:xfrm>
            <a:off x="4376880" y="22305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witte bloedcel"/>
          <p:cNvPicPr/>
          <p:nvPr/>
        </p:nvPicPr>
        <p:blipFill>
          <a:blip r:embed="rId3"/>
          <a:stretch/>
        </p:blipFill>
        <p:spPr>
          <a:xfrm>
            <a:off x="4826160" y="4253040"/>
            <a:ext cx="931680" cy="912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Witte bloedcelle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Witte bloedcellen maken bacteriën onschadelijke en andere ziekteverwek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Etter bestaat uit dode witte bloedcellen en dode bacterië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8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Bloedplaatje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040" y="1599840"/>
            <a:ext cx="675324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Bloedplaatjes spelen een rol bij de bloedstolling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Met behulp van deze plaatjes wordt de wond gedicht, dit noemen we dan een bloedstols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Als er een bloedprop ontstaat en het bloedvat wordt afgesloten noemen we dit trombo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5" name="Picture 4" descr="bloedplasma"/>
          <p:cNvPicPr/>
          <p:nvPr/>
        </p:nvPicPr>
        <p:blipFill>
          <a:blip r:embed="rId1"/>
          <a:stretch/>
        </p:blipFill>
        <p:spPr>
          <a:xfrm>
            <a:off x="7812000" y="170028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rode bloedcel"/>
          <p:cNvPicPr/>
          <p:nvPr/>
        </p:nvPicPr>
        <p:blipFill>
          <a:blip r:embed="rId2"/>
          <a:stretch/>
        </p:blipFill>
        <p:spPr>
          <a:xfrm>
            <a:off x="781200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witte bloedcel"/>
          <p:cNvPicPr/>
          <p:nvPr/>
        </p:nvPicPr>
        <p:blipFill>
          <a:blip r:embed="rId3"/>
          <a:stretch/>
        </p:blipFill>
        <p:spPr>
          <a:xfrm>
            <a:off x="7812000" y="3860640"/>
            <a:ext cx="932040" cy="912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bloedplaatje"/>
          <p:cNvPicPr/>
          <p:nvPr/>
        </p:nvPicPr>
        <p:blipFill>
          <a:blip r:embed="rId4"/>
          <a:stretch/>
        </p:blipFill>
        <p:spPr>
          <a:xfrm>
            <a:off x="7812000" y="4797360"/>
            <a:ext cx="863640" cy="99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-rode, -witte en bloedplaatje"/>
          <p:cNvPicPr/>
          <p:nvPr/>
        </p:nvPicPr>
        <p:blipFill>
          <a:blip r:embed="rId5"/>
          <a:stretch/>
        </p:blipFill>
        <p:spPr>
          <a:xfrm>
            <a:off x="7020000" y="0"/>
            <a:ext cx="15112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De bloedsomloop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stroomt door buizen in ons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hart pompt het bloed ro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igenlijk 2 pompen tegelijk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ene helft pompt het bloed in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andere helft pompt het bloed in de rest van het lichaa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Afbeelding 5" descr="buizen.jpg"/>
          <p:cNvPicPr/>
          <p:nvPr/>
        </p:nvPicPr>
        <p:blipFill>
          <a:blip r:embed="rId1"/>
          <a:stretch/>
        </p:blipFill>
        <p:spPr>
          <a:xfrm>
            <a:off x="6470640" y="95400"/>
            <a:ext cx="1819440" cy="1223640"/>
          </a:xfrm>
          <a:prstGeom prst="rect">
            <a:avLst/>
          </a:prstGeom>
          <a:ln w="0">
            <a:noFill/>
          </a:ln>
        </p:spPr>
      </p:pic>
      <p:pic>
        <p:nvPicPr>
          <p:cNvPr id="283" name="Afbeelding 7" descr="pomp2.jpg"/>
          <p:cNvPicPr/>
          <p:nvPr/>
        </p:nvPicPr>
        <p:blipFill>
          <a:blip r:embed="rId2"/>
          <a:stretch/>
        </p:blipFill>
        <p:spPr>
          <a:xfrm>
            <a:off x="468360" y="2286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klein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55280" y="1628640"/>
            <a:ext cx="6537240" cy="45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kleine bloedsomloop gaat van het hart naar de longen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bloed is vooral belangrijk voor het vervoeren van stoff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twee belangrijkste stoffen zijn: voedingsstoffen (glucose) en zuurstof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voedsel komt in het bloed via de darm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Via de longen krijgen we zuurstof i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longen gooien wij het koolstofdioxide als afvalstof we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6" name="Afbeelding 6" descr="voedsel.jpg"/>
          <p:cNvPicPr/>
          <p:nvPr/>
        </p:nvPicPr>
        <p:blipFill>
          <a:blip r:embed="rId1"/>
          <a:stretch/>
        </p:blipFill>
        <p:spPr>
          <a:xfrm>
            <a:off x="7308720" y="3645000"/>
            <a:ext cx="1238400" cy="799920"/>
          </a:xfrm>
          <a:prstGeom prst="rect">
            <a:avLst/>
          </a:prstGeom>
          <a:ln w="0">
            <a:noFill/>
          </a:ln>
        </p:spPr>
      </p:pic>
      <p:pic>
        <p:nvPicPr>
          <p:cNvPr id="287" name="Afbeelding 7" descr="zuurstof.jpg"/>
          <p:cNvPicPr/>
          <p:nvPr/>
        </p:nvPicPr>
        <p:blipFill>
          <a:blip r:embed="rId2"/>
          <a:stretch/>
        </p:blipFill>
        <p:spPr>
          <a:xfrm>
            <a:off x="7380360" y="450864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288" name="Afbeelding 8" descr="koolstofdioxide.jpg"/>
          <p:cNvPicPr/>
          <p:nvPr/>
        </p:nvPicPr>
        <p:blipFill>
          <a:blip r:embed="rId3"/>
          <a:stretch/>
        </p:blipFill>
        <p:spPr>
          <a:xfrm>
            <a:off x="7236000" y="5732640"/>
            <a:ext cx="1404720" cy="958680"/>
          </a:xfrm>
          <a:prstGeom prst="rect">
            <a:avLst/>
          </a:prstGeom>
          <a:ln w="0">
            <a:noFill/>
          </a:ln>
        </p:spPr>
      </p:pic>
      <p:pic>
        <p:nvPicPr>
          <p:cNvPr id="289" name="Afbeelding 7" descr="kleine bloedsomloop1.jpg"/>
          <p:cNvPicPr/>
          <p:nvPr/>
        </p:nvPicPr>
        <p:blipFill>
          <a:blip r:embed="rId4"/>
          <a:stretch/>
        </p:blipFill>
        <p:spPr>
          <a:xfrm>
            <a:off x="7451640" y="1628640"/>
            <a:ext cx="91440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rbel"/>
              </a:rPr>
              <a:t>De grote bloedsomloop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599840"/>
            <a:ext cx="5673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grote bloedsomloop gaat van het hart naar de rest van je lichaam en weer teru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bloed geeft onderweg voedingsstoffen en zuurstof aan de cell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De cellen geven hun afvalstoffen (vooral koolstofdioxide) af aan het blo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In de animatie staat de route die een rode bloedcel afleg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2" name="Afbeelding 5" descr="grote bloedsomloop.jpg"/>
          <p:cNvPicPr/>
          <p:nvPr/>
        </p:nvPicPr>
        <p:blipFill>
          <a:blip r:embed="rId1"/>
          <a:stretch/>
        </p:blipFill>
        <p:spPr>
          <a:xfrm>
            <a:off x="6443640" y="2060640"/>
            <a:ext cx="25210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82800" y="4377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nl-NL" sz="3800" spc="-1" strike="noStrike">
                <a:solidFill>
                  <a:srgbClr val="000000"/>
                </a:solidFill>
                <a:latin typeface="Corbel"/>
              </a:rPr>
              <a:t>Het hart.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040" y="159984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een holle spier en bestaat uit twee gedeelten: een linkerhelft en een rechterhelf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Ons hart is goed beschermd en ligt achter onze ribb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linkergedeelte pompt het bloed door het lichaam en is sterk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rbel"/>
              </a:rPr>
              <a:t>Het rechtergedeelte pompt het bloed naar de long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5" name="Afbeelding 5" descr="Hart.jpg"/>
          <p:cNvPicPr/>
          <p:nvPr/>
        </p:nvPicPr>
        <p:blipFill>
          <a:blip r:embed="rId1"/>
          <a:stretch/>
        </p:blipFill>
        <p:spPr>
          <a:xfrm>
            <a:off x="7380360" y="1700280"/>
            <a:ext cx="1584360" cy="1411200"/>
          </a:xfrm>
          <a:prstGeom prst="rect">
            <a:avLst/>
          </a:prstGeom>
          <a:ln w="0">
            <a:noFill/>
          </a:ln>
        </p:spPr>
      </p:pic>
      <p:pic>
        <p:nvPicPr>
          <p:cNvPr id="296" name="Afbeelding 4" descr="hart en ribben.png"/>
          <p:cNvPicPr/>
          <p:nvPr/>
        </p:nvPicPr>
        <p:blipFill>
          <a:blip r:embed="rId2"/>
          <a:stretch/>
        </p:blipFill>
        <p:spPr>
          <a:xfrm>
            <a:off x="7380360" y="314172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9:14:36Z</dcterms:created>
  <dc:creator>DGS</dc:creator>
  <dc:description/>
  <dc:language>en-US</dc:language>
  <cp:lastModifiedBy>Joyce Vonk</cp:lastModifiedBy>
  <dcterms:modified xsi:type="dcterms:W3CDTF">2021-02-08T08:36:57Z</dcterms:modified>
  <cp:revision>35</cp:revision>
  <dc:subject/>
  <dc:title>Biologie voor Jou. VMBO-BK. Deel 2.</dc:title>
</cp:coreProperties>
</file>