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4F34B-BD70-4DE6-9539-C8444B3FC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83D61-CA4D-4008-B69D-DD90CFCBB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6392A-12C2-4636-980D-AEAF84073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913E1-A38A-4FFD-8A0E-13925C417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AD09D-793D-4027-85D0-11CE0F2FF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058BD-AC22-4F3A-9740-9874D63ED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FBCCF-76A0-4160-8418-6025D2ED5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4D43C-DBEF-4443-888A-8F0F3DDDB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FD9EE-2427-4146-8A1F-1451AD211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358D8-6510-4FF7-AD1C-9C6242053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9AC03-3630-43BA-917C-CA758CFCB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4A900-01EC-4731-ACFC-6D597384A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FAD59-4711-405A-85AC-11D1CE209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D6C6A-D9ED-46B5-88D7-345656AD7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09A42-6E79-4BB3-95B6-4188066D8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9E830-EEE4-4AE9-A02A-4EC8246C7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84E02-D560-4C92-A7C3-AB6DB4B4E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0DDF6F-16CF-4D0A-A725-6C39E6BDFA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19DD21-7B59-448C-854C-83B6E4950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1BEA77-2485-4D42-AA73-326D6D10B6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972A69-91AF-479D-BA26-A6441709A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7313E-2AE5-4AE3-A864-58BE82D02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8993D-C75D-4827-869E-8E3847C99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2C8A69-909F-428A-AD62-9EF839018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6C60F-AAE4-46DA-B3ED-2852B51B0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BB21E-597C-4609-8A28-608B8C390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BEA85-64CB-437D-A614-CC8F12EAB4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F342D-4BAB-4DC3-BCB5-2DAE8547A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FE748D-83CE-4181-B1E2-B38F7C3035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B9F3B8-4B8F-4183-9880-413CDE5ACF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19E82B-8AEE-45E4-A5FA-36ABB63116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9BA2BF-0CFF-4B02-92DD-EAAD5FC1D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91660-726B-4CD5-9607-D8FD9CB9E5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82AA5-422A-4DFD-A548-FCE1E95F3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F908B3-8C2A-470D-B124-B43CBDCD43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6E7CF-B326-4A6E-A865-DB08825F01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C5E5FF-98CF-4714-82E8-6F807CF25F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4D4E75-1895-40CB-A0E9-E86C263EAA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7B1CC3-7940-4980-A9E5-424C4263D1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3646CA-E165-4C52-B675-CA0759F2DB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3FBC86-4122-4B90-931F-4DCB7550FA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EC3BB0-4FF7-4FC6-87FE-80D541BBA2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368702-BCD6-442D-9D8A-0536847D0B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34D5A6-B06B-4631-910D-6CFE37978D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74D7B-1FEC-4B05-98FC-F37AF27F6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A94906-8543-4202-94FD-ADAB91BB69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EDFCE7-EB6E-46EA-BD4D-CC78EAEC26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D9FCF-9169-4ED2-89E1-00B5D97252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1986C-369C-4D7F-978A-9B63D153C0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CB135-F894-445B-8F99-F95C269C2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3CAE0-B73E-4DE2-900A-41B6BC3D6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6AB8F-F20A-4D2B-9306-326CE8CC8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5C0FB-02B9-4438-B4E3-838A006CDF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26BD5B-2550-431E-AF25-39002D922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16A194-2B20-4314-9A12-E9047F8573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8217E-F093-42D1-960B-E2B6A5B96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803FD5-B271-4F52-BEEE-61DB0C99C3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22AB2-0BD6-441D-8F80-2FEC6548A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AAA72-3059-4D67-BA74-E9ABA237B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F4CD1-CEFB-4748-A210-B6BF0AF0E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6FE88-CEAD-449C-A06F-6099940870F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ECB18-F711-495E-BF2A-A48EFB643D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99bdd"/>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3BA10-7559-46BB-9E45-A8BC930EA010}" type="slidenum">
              <a:rPr b="0" lang="nl-NL"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9BB27-2AC8-4B2B-8DDB-66F7007C7D6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3017C-C374-4B08-A895-F763E20D7566}"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4680" y="2166480"/>
            <a:ext cx="8602560" cy="173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99bdd"/>
                </a:solidFill>
                <a:latin typeface="Corbel"/>
              </a:rPr>
              <a:t>INTERVISIE</a:t>
            </a:r>
            <a:endParaRPr b="0" lang="en-US" sz="6000" spc="-1" strike="noStrike">
              <a:solidFill>
                <a:srgbClr val="099bdd"/>
              </a:solidFill>
              <a:latin typeface="Corbel"/>
            </a:endParaRPr>
          </a:p>
        </p:txBody>
      </p:sp>
      <p:sp>
        <p:nvSpPr>
          <p:cNvPr id="210" name="PlaceHolder 2"/>
          <p:cNvSpPr>
            <a:spLocks noGrp="1"/>
          </p:cNvSpPr>
          <p:nvPr>
            <p:ph type="subTitle"/>
          </p:nvPr>
        </p:nvSpPr>
        <p:spPr>
          <a:xfrm>
            <a:off x="1143000" y="3970440"/>
            <a:ext cx="6858000" cy="130968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Arial Bold"/>
              </a:rPr>
              <a:t>TOT SLOT</a:t>
            </a:r>
            <a:endParaRPr b="0" lang="en-US" sz="4000" spc="-1" strike="noStrike">
              <a:solidFill>
                <a:srgbClr val="099bdd"/>
              </a:solidFill>
              <a:latin typeface="Corbel"/>
            </a:endParaRPr>
          </a:p>
        </p:txBody>
      </p:sp>
      <p:sp>
        <p:nvSpPr>
          <p:cNvPr id="229" name=""/>
          <p:cNvSpPr txBox="1"/>
          <p:nvPr/>
        </p:nvSpPr>
        <p:spPr>
          <a:xfrm>
            <a:off x="539280" y="1989000"/>
            <a:ext cx="8015400" cy="3973680"/>
          </a:xfrm>
          <a:prstGeom prst="rect">
            <a:avLst/>
          </a:prstGeom>
          <a:noFill/>
          <a:ln w="0">
            <a:noFill/>
          </a:ln>
        </p:spPr>
        <p:txBody>
          <a:bodyPr anchor="t">
            <a:normAutofit/>
          </a:bodyPr>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Intervisie doe je voor jezelf</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Je eigen kwaliteit en professionalisering is er mee gediend</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Toon je enthousiasme en inzet voor een goed verloop van de intervisie en je groei als professional</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BRUIKBARE METHODEN</a:t>
            </a:r>
            <a:endParaRPr b="0" lang="en-US" sz="4000" spc="-1" strike="noStrike">
              <a:solidFill>
                <a:srgbClr val="099bdd"/>
              </a:solidFill>
              <a:latin typeface="Corbel"/>
            </a:endParaRPr>
          </a:p>
        </p:txBody>
      </p:sp>
      <p:sp>
        <p:nvSpPr>
          <p:cNvPr id="23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ncide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Bali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r ook bijvoorbeel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5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10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Roddelmethode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z.</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CIDENTMETHODE</a:t>
            </a:r>
            <a:endParaRPr b="0" lang="en-US" sz="4000" spc="-1" strike="noStrike">
              <a:solidFill>
                <a:srgbClr val="099bdd"/>
              </a:solidFill>
              <a:latin typeface="Corbel"/>
            </a:endParaRPr>
          </a:p>
        </p:txBody>
      </p:sp>
      <p:sp>
        <p:nvSpPr>
          <p:cNvPr id="233" name=""/>
          <p:cNvSpPr txBox="1"/>
          <p:nvPr/>
        </p:nvSpPr>
        <p:spPr>
          <a:xfrm>
            <a:off x="685800" y="2011320"/>
            <a:ext cx="7772400" cy="4206960"/>
          </a:xfrm>
          <a:prstGeom prst="rect">
            <a:avLst/>
          </a:prstGeom>
          <a:noFill/>
          <a:ln w="0">
            <a:noFill/>
          </a:ln>
        </p:spPr>
        <p:txBody>
          <a:bodyPr anchor="t">
            <a:normAutofit fontScale="91000"/>
          </a:bodyPr>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 Introductie en keuze van een praatpapier (1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2. - Schetsen van de situatie door de inbrenger (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3. - Noteren van vragen om informatie door de deelnemers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4. - Informatieronde: stellen van de vragen aan de inbreng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5. - Analyse van de situatie: deelnemers doen dit op papi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6. - Standpuntbepalingen uitwisselen in de groep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7. - Wat deed de inbrenger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8. - Afsluitende discussie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9. - Evaluatie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TRODUCTIE </a:t>
            </a:r>
            <a:endParaRPr b="0" lang="en-US" sz="4000" spc="-1" strike="noStrike">
              <a:solidFill>
                <a:srgbClr val="099bdd"/>
              </a:solidFill>
              <a:latin typeface="Corbel"/>
            </a:endParaRPr>
          </a:p>
        </p:txBody>
      </p:sp>
      <p:sp>
        <p:nvSpPr>
          <p:cNvPr id="23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an te voren afspraken maken over inbreng, wie wanneer een praatpapier enz.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Hoe gaan jullie om met iemand die een acuut probleem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CHETSEN VAN DE SITUATIE</a:t>
            </a:r>
            <a:endParaRPr b="0" lang="en-US" sz="4000" spc="-1" strike="noStrike">
              <a:solidFill>
                <a:srgbClr val="099bdd"/>
              </a:solidFill>
              <a:latin typeface="Corbel"/>
            </a:endParaRPr>
          </a:p>
        </p:txBody>
      </p:sp>
      <p:sp>
        <p:nvSpPr>
          <p:cNvPr id="23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schets van degene die het probleem inbrengt, zonder dat zij bespreekt hoe zij de situatie “opgelost”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NOTEREN VRAGEN</a:t>
            </a:r>
            <a:endParaRPr b="0" lang="en-US" sz="4000" spc="-1" strike="noStrike">
              <a:solidFill>
                <a:srgbClr val="099bdd"/>
              </a:solidFill>
              <a:latin typeface="Corbel"/>
            </a:endParaRPr>
          </a:p>
        </p:txBody>
      </p:sp>
      <p:sp>
        <p:nvSpPr>
          <p:cNvPr id="23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teer vragen schriftelijk door een ieder individueel. Dit maakt dat je niet “afgeleid” wordt door de vragen van een ander. </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FORMATIERONDE</a:t>
            </a:r>
            <a:endParaRPr b="0" lang="en-US" sz="4000" spc="-1" strike="noStrike">
              <a:solidFill>
                <a:srgbClr val="099bdd"/>
              </a:solidFill>
              <a:latin typeface="Corbel"/>
            </a:endParaRPr>
          </a:p>
        </p:txBody>
      </p:sp>
      <p:sp>
        <p:nvSpPr>
          <p:cNvPr id="24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tel de vragen aan de inbrenger. Stel feitelijke vragen, niet suggestief of oplossen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en vraag per persoo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en discussi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ALYSE</a:t>
            </a:r>
            <a:endParaRPr b="0" lang="en-US" sz="4000" spc="-1" strike="noStrike">
              <a:solidFill>
                <a:srgbClr val="099bdd"/>
              </a:solidFill>
              <a:latin typeface="Corbel"/>
            </a:endParaRPr>
          </a:p>
        </p:txBody>
      </p:sp>
      <p:sp>
        <p:nvSpPr>
          <p:cNvPr id="243"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Ontrafelen wat er aan de hand is en de kern van het probleem helder wordt.</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g geen oplossingen en geen feitelijke vragen meer stellen aan inbrenger</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an het einde kan inbrenger kort reageren, aanvullen of corrigeren</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TANDPUNTBEPALING</a:t>
            </a:r>
            <a:endParaRPr b="0" lang="en-US" sz="4000" spc="-1" strike="noStrike">
              <a:solidFill>
                <a:srgbClr val="099bdd"/>
              </a:solidFill>
              <a:latin typeface="Corbel"/>
            </a:endParaRPr>
          </a:p>
        </p:txBody>
      </p:sp>
      <p:sp>
        <p:nvSpPr>
          <p:cNvPr id="24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 omschrijven individueel wat jouw analyse is en hoe jij het zou oplosse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AT DEED DE INBRENGER?</a:t>
            </a:r>
            <a:endParaRPr b="0" lang="en-US" sz="4000" spc="-1" strike="noStrike">
              <a:solidFill>
                <a:srgbClr val="099bdd"/>
              </a:solidFill>
              <a:latin typeface="Corbel"/>
            </a:endParaRPr>
          </a:p>
        </p:txBody>
      </p:sp>
      <p:sp>
        <p:nvSpPr>
          <p:cNvPr id="24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 inbrenger vertelt kort wat zij in de situatie heeft gedaa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PROGRAMMA VANDAAG</a:t>
            </a:r>
            <a:endParaRPr b="0" lang="en-US" sz="4000" spc="-1" strike="noStrike">
              <a:solidFill>
                <a:srgbClr val="099bdd"/>
              </a:solidFill>
              <a:latin typeface="Corbel"/>
            </a:endParaRPr>
          </a:p>
        </p:txBody>
      </p:sp>
      <p:sp>
        <p:nvSpPr>
          <p:cNvPr id="212"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uitleg intervisie</a:t>
            </a:r>
            <a:endParaRPr b="0" lang="en-US" sz="22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Uitleg incidentmethod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ISCUSSIE EN EVALUATIE</a:t>
            </a:r>
            <a:endParaRPr b="0" lang="en-US" sz="4000" spc="-1" strike="noStrike">
              <a:solidFill>
                <a:srgbClr val="099bdd"/>
              </a:solidFill>
              <a:latin typeface="Corbel"/>
            </a:endParaRPr>
          </a:p>
        </p:txBody>
      </p:sp>
      <p:sp>
        <p:nvSpPr>
          <p:cNvPr id="24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edereen geeft zijn analyse en oplossing</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ze worden met elkaar besproken en bediscussieer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Tot slot evalueren jullie de bijeenkoms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bijvoorbeeld met:</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t bedoel je me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deed d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nne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un je een concreet voorbeeld geven va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3"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op generalisaties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ldt dat voor het hele projecttea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l je zeggen dat je altij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 later: wie dan wel of wanneer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5"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om toelichting en concretisering bij vervorming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Ik heb met ze afgesproken dat….” Kan een vervorming zijn van: Ik heb ze opgedragen dat…. Of, ze hebben mij de taak/opdracht gegeven om….. Vraag: Hoe heb je dat afgesprok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7"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naar weggelaten woorden of zinsdel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Kritiek incasseren is moeilijk voor me.” Vraag: van wie en over w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Het is verkeerd om…….” Vraag: wie vindt het voor wie verkeerd o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5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de keuze met welk probleem of deelaspect hij/zij het eerste wil doorgaa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het werk zoveel mogelijk zelf do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bruik bij voorkeur voornaamwoorden als: wat, wie, wiens, welk, waar, wanneer, waartoe. Wees zuinig met hoe-vragen en vermijd waarom-vrag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6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k je eigen gedachten of waarnemingen expliciet. Bijvoorbeeld: “Ik heb de indruk dat onderwerp X een zijspoor is. Wat is voor jou het belang van onderwerp X voor je probleem Y?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chenk aandacht aan je waarnemingen van non-verbale signalen (stemvolume, toon, gebaren, steeds naar de grond kijken). Als zulke signalen meer de aandacht vragen dan de inhoud van het gesprek, dan is het goed om die signalen aandacht te gev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l-NL" sz="3600" spc="-1" strike="noStrike">
                <a:solidFill>
                  <a:srgbClr val="099bdd"/>
                </a:solidFill>
                <a:latin typeface="Corbel"/>
              </a:rPr>
              <a:t>WAAROM INTERVISIE?</a:t>
            </a:r>
            <a:br>
              <a:rPr sz="3600"/>
            </a:br>
            <a:endParaRPr b="0" lang="en-US" sz="3600" spc="-1" strike="noStrike">
              <a:solidFill>
                <a:srgbClr val="099bdd"/>
              </a:solidFill>
              <a:latin typeface="Corbel"/>
            </a:endParaRPr>
          </a:p>
        </p:txBody>
      </p:sp>
      <p:sp>
        <p:nvSpPr>
          <p:cNvPr id="214" name=""/>
          <p:cNvSpPr txBox="1"/>
          <p:nvPr/>
        </p:nvSpPr>
        <p:spPr>
          <a:xfrm>
            <a:off x="179280" y="1557000"/>
            <a:ext cx="8964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Als Professional wordt van je verwacht dat je inzicht hebt in </a:t>
            </a:r>
            <a:r>
              <a:rPr b="0" lang="nl-NL" sz="2000" spc="-1" strike="noStrike">
                <a:solidFill>
                  <a:srgbClr val="ffffff"/>
                </a:solidFill>
                <a:latin typeface="Corbel"/>
              </a:rPr>
              <a:t>	</a:t>
            </a:r>
            <a:r>
              <a:rPr b="0" lang="nl-NL" sz="2000" spc="-1" strike="noStrike">
                <a:solidFill>
                  <a:srgbClr val="ffffff"/>
                </a:solidFill>
                <a:latin typeface="Corbel"/>
              </a:rPr>
              <a:t>de relatie tuss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rofessionele opvattingen over het beroep van leraar</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ersoonlijke opvattingen over het beroep van leraar       </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en eigen handel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waarden en norm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emoties</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215" name="Rechteraccolade 3"/>
          <p:cNvSpPr/>
          <p:nvPr/>
        </p:nvSpPr>
        <p:spPr>
          <a:xfrm>
            <a:off x="6732720" y="2637000"/>
            <a:ext cx="215640" cy="2087280"/>
          </a:xfrm>
          <a:custGeom>
            <a:avLst/>
            <a:gdLst>
              <a:gd name="textAreaLeft" fmla="*/ 0 w 215640"/>
              <a:gd name="textAreaRight" fmla="*/ 77760 w 215640"/>
              <a:gd name="textAreaTop" fmla="*/ 5400 h 2087280"/>
              <a:gd name="textAreaBottom" fmla="*/ 2081880 h 2087280"/>
            </a:gdLst>
            <a:ahLst/>
            <a:rect l="textAreaLeft" t="textAreaTop" r="textAreaRight" b="textAreaBottom"/>
            <a:pathLst>
              <a:path w="21600" h="21600">
                <a:moveTo>
                  <a:pt x="0" y="0"/>
                </a:moveTo>
                <a:cubicBezTo>
                  <a:pt x="5400" y="0"/>
                  <a:pt x="10800" y="93"/>
                  <a:pt x="10800" y="186"/>
                </a:cubicBezTo>
                <a:lnTo>
                  <a:pt x="10800" y="10614"/>
                </a:lnTo>
                <a:cubicBezTo>
                  <a:pt x="10800" y="10707"/>
                  <a:pt x="16200" y="10800"/>
                  <a:pt x="21600" y="10800"/>
                </a:cubicBezTo>
                <a:cubicBezTo>
                  <a:pt x="16200" y="10800"/>
                  <a:pt x="10800" y="10893"/>
                  <a:pt x="10800" y="10986"/>
                </a:cubicBezTo>
                <a:lnTo>
                  <a:pt x="10800" y="21414"/>
                </a:lnTo>
                <a:cubicBezTo>
                  <a:pt x="10800" y="21507"/>
                  <a:pt x="5400" y="21600"/>
                  <a:pt x="0" y="21600"/>
                </a:cubicBezTo>
              </a:path>
            </a:pathLst>
          </a:custGeom>
          <a:solidFill>
            <a:srgbClr val="ffc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99bdd"/>
                </a:solidFill>
                <a:latin typeface="Corbel"/>
              </a:rPr>
              <a:t>UITGANGSPUNTEN</a:t>
            </a:r>
            <a:endParaRPr b="0" lang="en-US" sz="4000" spc="-1" strike="noStrike">
              <a:solidFill>
                <a:srgbClr val="099bdd"/>
              </a:solidFill>
              <a:latin typeface="Corbel"/>
            </a:endParaRPr>
          </a:p>
        </p:txBody>
      </p:sp>
      <p:sp>
        <p:nvSpPr>
          <p:cNvPr id="217" name=""/>
          <p:cNvSpPr txBox="1"/>
          <p:nvPr/>
        </p:nvSpPr>
        <p:spPr>
          <a:xfrm>
            <a:off x="179280" y="1557000"/>
            <a:ext cx="8856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Centraal staat: jij als professional en jouw handelen. </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Corbel"/>
              </a:rPr>
              <a:t>Het probleem dat wordt ingebracht is een aanleiding.</a:t>
            </a:r>
            <a:endParaRPr b="0" lang="en-US" sz="18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2. In principe worden geen kant en klare oplossingen of oordelen gegev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3. Gespreksleider bewaakt de fasering van de intervisie.</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OELSTELLINGEN INTERVISIE</a:t>
            </a:r>
            <a:endParaRPr b="0" lang="en-US" sz="4000" spc="-1" strike="noStrike">
              <a:solidFill>
                <a:srgbClr val="099bdd"/>
              </a:solidFill>
              <a:latin typeface="Corbel"/>
            </a:endParaRPr>
          </a:p>
        </p:txBody>
      </p:sp>
      <p:sp>
        <p:nvSpPr>
          <p:cNvPr id="219" name=""/>
          <p:cNvSpPr txBox="1"/>
          <p:nvPr/>
        </p:nvSpPr>
        <p:spPr>
          <a:xfrm>
            <a:off x="685800" y="2011320"/>
            <a:ext cx="7772400" cy="4206960"/>
          </a:xfrm>
          <a:prstGeom prst="rect">
            <a:avLst/>
          </a:prstGeom>
          <a:noFill/>
          <a:ln w="0">
            <a:noFill/>
          </a:ln>
        </p:spPr>
        <p:txBody>
          <a:bodyPr anchor="t">
            <a:normAutofit fontScale="99000"/>
          </a:bodyPr>
          <a:p>
            <a:pPr marL="180360" indent="-18036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Vergroten van inzicht in je eigen mogelijkheden en onmogelijkheden als Leraar G&amp;W. (</a:t>
            </a:r>
            <a:r>
              <a:rPr b="0" lang="nl-NL" sz="1800" spc="-1" strike="noStrike">
                <a:solidFill>
                  <a:srgbClr val="ffffff"/>
                </a:solidFill>
                <a:latin typeface="Corbel"/>
                <a:ea typeface="Arial"/>
              </a:rPr>
              <a:t>Dit doe je door middel van het bespreken van probleemsituaties die je ervaart in onderwijssituaties en begeleidingssituaties van leerlingen en groepen.</a:t>
            </a:r>
            <a:endParaRPr b="0" lang="en-US" sz="18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Bieden van een nieuw perspectief op / inzicht in een situatie</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Probleem kan verder of op een andere wijze worden aangepakt of benaderd</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Leren en professionaliseren met, door en van elkaar</a:t>
            </a:r>
            <a:endParaRPr b="0" lang="en-US" sz="20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99bdd"/>
                </a:solidFill>
                <a:latin typeface="Corbel"/>
              </a:rPr>
              <a:t>KERNPROBLEMEN STAAN CENTRAAL</a:t>
            </a:r>
            <a:endParaRPr b="0" lang="en-US" sz="3200" spc="-1" strike="noStrike">
              <a:solidFill>
                <a:srgbClr val="099bdd"/>
              </a:solidFill>
              <a:latin typeface="Corbel"/>
            </a:endParaRPr>
          </a:p>
        </p:txBody>
      </p:sp>
      <p:sp>
        <p:nvSpPr>
          <p:cNvPr id="221" name=""/>
          <p:cNvSpPr txBox="1"/>
          <p:nvPr/>
        </p:nvSpPr>
        <p:spPr>
          <a:xfrm>
            <a:off x="324000" y="1341360"/>
            <a:ext cx="8496000" cy="496728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rnproblemen zij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nmerkende en centrale beroepssituaties waarin een reactie gevraagd wordt op die situatie</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in principe niet oplosbaar (ze blijven altijd voorkom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Een continue spanningsveld waarin je je als beroepsbeoefenaar bevindt en waarin je steeds opnieuw keuzes moeten mak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72216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INTERACTIEVOORWAARDEN</a:t>
            </a:r>
            <a:endParaRPr b="0" lang="en-US" sz="4000" spc="-1" strike="noStrike">
              <a:solidFill>
                <a:srgbClr val="099bdd"/>
              </a:solidFill>
              <a:latin typeface="Corbel"/>
            </a:endParaRPr>
          </a:p>
        </p:txBody>
      </p:sp>
      <p:sp>
        <p:nvSpPr>
          <p:cNvPr id="223" name=""/>
          <p:cNvSpPr txBox="1"/>
          <p:nvPr/>
        </p:nvSpPr>
        <p:spPr>
          <a:xfrm>
            <a:off x="324000" y="1557360"/>
            <a:ext cx="8496000" cy="439272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chtheid</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pen staan voor elkaar</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goed luister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vragen om verduidelijk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k-taal</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stil kunnen zijn (nadenken / bezinn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lkaar uit laten prat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ok non-verbale signalen opvang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nhoud van de intervisie bespreking blijft binnen de intervisiegroep</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20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000" spc="-1" strike="noStrike">
                <a:solidFill>
                  <a:srgbClr val="099bdd"/>
                </a:solidFill>
                <a:latin typeface="Corbel"/>
              </a:rPr>
              <a:t>AANDACHT VOOR</a:t>
            </a:r>
            <a:endParaRPr b="0" lang="en-US" sz="4000" spc="-1" strike="noStrike">
              <a:solidFill>
                <a:srgbClr val="099bdd"/>
              </a:solidFill>
              <a:latin typeface="Corbel"/>
            </a:endParaRPr>
          </a:p>
        </p:txBody>
      </p:sp>
      <p:sp>
        <p:nvSpPr>
          <p:cNvPr id="225" name=""/>
          <p:cNvSpPr txBox="1"/>
          <p:nvPr/>
        </p:nvSpPr>
        <p:spPr>
          <a:xfrm>
            <a:off x="539280" y="1471320"/>
            <a:ext cx="8015400" cy="4405320"/>
          </a:xfrm>
          <a:prstGeom prst="rect">
            <a:avLst/>
          </a:prstGeom>
          <a:noFill/>
          <a:ln w="0">
            <a:noFill/>
          </a:ln>
        </p:spPr>
        <p:txBody>
          <a:bodyPr anchor="t">
            <a:normAutofit/>
          </a:bodyPr>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contrac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asisstructuur, doelgericht, systematisch</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motivatie</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iligheid, onderling vertrouw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oof in eigen kunn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herkenning</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etrouwbaarheid, integritei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ijkwaardig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rantwoordelijk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tijd, ruimte, aantal deelnemers</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AFSPRAKEN INTERVISIEGROEP</a:t>
            </a:r>
            <a:endParaRPr b="0" lang="en-US" sz="4000" spc="-1" strike="noStrike">
              <a:solidFill>
                <a:srgbClr val="099bdd"/>
              </a:solidFill>
              <a:latin typeface="Corbel"/>
            </a:endParaRPr>
          </a:p>
        </p:txBody>
      </p:sp>
      <p:sp>
        <p:nvSpPr>
          <p:cNvPr id="227" name=""/>
          <p:cNvSpPr txBox="1"/>
          <p:nvPr/>
        </p:nvSpPr>
        <p:spPr>
          <a:xfrm>
            <a:off x="539280" y="1471320"/>
            <a:ext cx="8015400" cy="5126040"/>
          </a:xfrm>
          <a:prstGeom prst="rect">
            <a:avLst/>
          </a:prstGeom>
          <a:noFill/>
          <a:ln w="0">
            <a:noFill/>
          </a:ln>
        </p:spPr>
        <p:txBody>
          <a:bodyPr anchor="t">
            <a:normAutofit/>
          </a:bodyPr>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tal deelnemers </a:t>
            </a:r>
            <a:r>
              <a:rPr b="0" lang="nl-NL" sz="1900" spc="-1" strike="noStrike">
                <a:solidFill>
                  <a:srgbClr val="ffffff"/>
                </a:solidFill>
                <a:latin typeface="Corbel"/>
                <a:ea typeface="Arial"/>
              </a:rPr>
              <a:t>per intervisiegroep: minimaal 5, maximaal 8</a:t>
            </a: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Werkwijze: </a:t>
            </a:r>
            <a:endParaRPr b="0" lang="en-US" sz="22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  </a:t>
            </a:r>
            <a:r>
              <a:rPr b="0" lang="nl-NL" sz="1900" spc="-1" strike="noStrike">
                <a:solidFill>
                  <a:srgbClr val="ffffff"/>
                </a:solidFill>
                <a:latin typeface="Corbel"/>
                <a:ea typeface="Arial"/>
              </a:rPr>
              <a:t>Incidentmethode </a:t>
            </a:r>
            <a:endParaRPr b="0" lang="en-US" sz="19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Balintmethode</a:t>
            </a:r>
            <a:endParaRPr b="0" lang="en-US" sz="1900" spc="-1" strike="noStrike">
              <a:solidFill>
                <a:srgbClr val="ffffff"/>
              </a:solidFill>
              <a:latin typeface="Corbel"/>
            </a:endParaRPr>
          </a:p>
          <a:p>
            <a:pPr lvl="1" marL="411120" indent="-182520">
              <a:lnSpc>
                <a:spcPct val="7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Werkafspraken in groep</a:t>
            </a:r>
            <a:endParaRPr b="0" lang="en-US" sz="20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wezigheid</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inbre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verslaglegg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plann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evaluatie</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contactpersoon</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08:26:44Z</dcterms:created>
  <dc:creator>Saskia Lavooij</dc:creator>
  <dc:description/>
  <dc:language>en-US</dc:language>
  <cp:lastModifiedBy>Charlene Santos</cp:lastModifiedBy>
  <dcterms:modified xsi:type="dcterms:W3CDTF">2020-11-18T22:05:07Z</dcterms:modified>
  <cp:revision>10</cp:revision>
  <dc:subject/>
  <dc:title>Intervisie</dc:title>
</cp:coreProperties>
</file>